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8.gif" ContentType="image/gif"/>
  <Override PartName="/ppt/media/image23.wmf" ContentType="image/x-wmf"/>
  <Override PartName="/ppt/media/image6.png" ContentType="image/png"/>
  <Override PartName="/ppt/media/image29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16.wmf" ContentType="image/x-wmf"/>
  <Override PartName="/ppt/media/image8.png" ContentType="image/png"/>
  <Override PartName="/ppt/media/image32.jpeg" ContentType="image/jpeg"/>
  <Override PartName="/ppt/media/image13.png" ContentType="image/png"/>
  <Override PartName="/ppt/media/image33.gif" ContentType="image/gif"/>
  <Override PartName="/ppt/media/image19.wmf" ContentType="image/x-wmf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drumroll.wav" ContentType="audio/x-wav"/>
  <Override PartName="/ppt/media/image15.png" ContentType="image/png"/>
  <Override PartName="/ppt/media/image1.png" ContentType="image/png"/>
  <Override PartName="/ppt/media/image14.gif" ContentType="image/gif"/>
  <Override PartName="/ppt/media/image21.wmf" ContentType="image/x-wmf"/>
  <Override PartName="/ppt/media/image18.png" ContentType="image/png"/>
  <Override PartName="/ppt/media/image20.jpeg" ContentType="image/jpeg"/>
  <Override PartName="/ppt/media/image22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dt" idx="14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 type="ftr" idx="14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6"/>
          <p:cNvSpPr>
            <a:spLocks noGrp="1"/>
          </p:cNvSpPr>
          <p:nvPr>
            <p:ph type="sldNum" idx="15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4553-A0A8-4578-AFB3-0286D96F3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B644-E06A-4119-BF14-79D1BFE10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9BD-0302-41F0-8C06-B0E01102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7CC-C2FD-4B5B-B16B-D548DE93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524CE-7E41-44A9-B79F-F5E8C6C3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4E6FB-5CD4-4401-82E4-25EAA0A1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2D4D9-7354-4E7D-AD96-FA3CCBD6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FB884-B48C-4DD8-AB17-9180280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2A4FA-5C21-4A3B-AEFF-4B3B69B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BB635-2EEF-4BB4-908F-BD09833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D187C-D4E9-4A95-A0C9-C51C0321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328EA-1AFD-456D-94FA-02D26F08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FA3C8-FBF3-4FE4-8D26-5F9BEA29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68A9D-3EAE-4651-9807-6A04DCA7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B11-81AE-41ED-8A80-9F41D56A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4577B-0383-4DD3-9280-544B51BD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CCDB8-6191-45C3-9F19-E5A29C3D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76DF0-DCD1-4703-97A8-1321E6FA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1BEEA-1CC7-4E9B-9348-730E2C93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D5B5F-AAD5-4FF5-9D15-F80E3258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28FCF-D018-4237-890D-5186677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3711A-AE73-4D1C-86AF-6BBFEA4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1AD5F-CCFC-43E8-A2E9-6DC92127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605B2-0B4B-4761-965D-86D51876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947CB-B198-40E1-9559-BF965D18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3AC-B0FA-4700-9888-B1861A72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BBB12-75B0-4832-B859-133D30D9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0F514-102E-4922-A3B6-1F092B26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66B0D-971B-45D6-8496-3C0BC8D2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B4233-389E-4FB7-A719-DC50816A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97274-A00E-4A6D-B489-DFC0C9BE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F3F54-E7F7-4EFD-9EC0-43908FFE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64F9F-8E77-4B3C-BB21-E2AFB062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9B439-6EAC-4FC9-9BE6-50C57E7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080A9-87C4-47A6-A947-8B0055C4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206A-08A8-4FF0-8C60-1E12469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1BC5-7BCA-4A8F-A966-31EA583A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A2884-DE5C-4A5D-B921-CA86EF37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7FCBD-84FE-40A8-B442-FC888403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59F28-1CDE-42AA-954B-96090955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CB08E-B32E-4E9D-8F2F-7B071415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195A6-0D20-405D-9972-D1467555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670BF-9511-411E-ABAF-5D311DB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366F2-46C5-47AF-9F63-5B9B84FF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11F44-F0C3-4E7C-BC69-4F17A6C5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D40AD-4768-4E54-8FDA-E8031CFE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0C776-978B-4E58-B212-79D370F9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D375-22CA-4A4C-9650-F5F6159D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EECB1-52BB-45DC-9F91-A17861F2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0C10B-7851-45DE-BB6C-AD5EBCBE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2D8A1-E495-4553-AF46-1485BD74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D09AC-F5B6-4EB2-97BC-820F3E16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A3A0B-F90D-4BD8-A0BA-C9758055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816D9-E6B5-431D-A068-33FB225D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4C512-7FF4-416C-84B1-F21AF33C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0C637-FCAB-4740-A98D-FC687B15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161A5-9A70-4919-997D-F59ECA38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A59A7-352C-4F2A-88C9-65438E13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15CD-F65B-41A9-9374-2D891E27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65F73-D3A0-4067-8928-FC467810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FB659-94C1-4508-8D35-45D2A5FD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B33E1-92EF-40F4-AD78-281C8C6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ED7A1-08C3-445B-853D-8FE84716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52A77-7140-4831-A66D-0811069B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D8EF6-3F29-48CE-BBEB-E967F695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C4FE8-549F-4E37-921E-19B8EFF3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D3894-CB14-4854-BB24-31D2428C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26E6F-99B7-4573-8DED-F5831005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CA1B5-47E2-4387-9921-37D2FC7F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2CBB-EC75-4B05-9193-7A0DF43A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8329E-1E8B-4841-8985-004CDCEF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4EB05-4CF8-44A3-AE49-297D6862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219C3-D45E-4C33-A264-141DB8DC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1C63E-C60C-4814-8226-5CF1B35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4AFC0-3D92-448D-B395-AB86E5D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475FC-7013-4725-B446-5528611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586AC-9243-4250-AAB4-6785784B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9D485-1EA0-4B2F-BDA2-43E8C735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8E71F-7F20-46FB-B54E-91DB4D6A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EFFD1-8A33-4CF1-AD36-D81C542F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9D74-035A-4384-8B01-A7F7C10E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69777-51E2-4C8B-ADA6-1185EA4A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FDC48-7DA7-40BB-B340-3CF481B3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05794-F300-47DA-9716-CB9B4C43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5DC6B-8F21-4731-B297-3CEA5C54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A317D-9707-4706-868F-6B7B4F6F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DB8A3-B7C0-4C1F-82E0-8265D407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AE9D0-CD3A-4469-90C1-C0BCC91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08A07-DEA3-4755-BF38-F7F21EB0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91491-B0FF-4CD1-881E-E75A8B4F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30828-FA64-4C20-BBDE-2C2C1BA4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2CFC-EA81-41E9-9D7B-2AD5F86D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D44C4-7D86-463D-A1AB-6E41F721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D7072-1434-4313-BFD4-C89F2750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71D9F-A5BF-4493-8D4A-45DDC5C3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11134-BA78-4426-AF20-3B1360B5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55002-D618-491B-9222-20A14C40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8F4C2-DF50-485D-A94B-BA3B7E39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41D82-171B-4CFC-9A9C-1DD2B495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87992-A066-44E9-9124-BB5ADDFB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F0D6A-5BC5-499D-B427-CF06799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B8927-4F83-40F6-B025-3BFC68E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A260-5118-4C13-AA14-26B6AF22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489B0-2CDA-4E79-AA97-E8B14597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62374-6CDA-4F38-91E4-C800E724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10493-96FD-469F-A798-FAFF7C3F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694AC-3DD4-44B2-A3EF-89FD1874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31A28-810D-434D-B162-4E29646A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DBE7E-D566-41C5-8A4C-CA21282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7838D-5654-4EA6-96CE-47E867BD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92D08-D0F9-4375-9C37-E550612F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5484D-18C2-4D67-986C-85D6807D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EB95F2-4617-4250-9C6C-6A349C7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94F-7CAA-4106-A4EC-A358731A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4C17-04B0-4C93-9066-FE900DE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D7D5E-4929-48C6-A53A-295DCC2A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4660F-97F7-4D5C-8D20-EE86844C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FD67B-BD57-472A-9DFD-249EE35E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5D62F-7844-4000-A171-FC820572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6E249-61DB-473A-BDC3-158DED2A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C46670-8C16-495F-A0C1-C42BDD66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2F9BF9-ED4C-489D-9F91-F51E394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CD4A90-17D3-443C-948B-B4E7EFE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12648B-D320-4B52-9E1D-26408513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44CD80-A73E-490A-A7A4-E0DE1AA8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0721-2670-4F6C-B435-49A63029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A07E6B-DE1C-464A-8C7C-A762D4D6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9AA965-E8FA-4975-804F-D606CDA9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626653-782B-4DDF-8633-E92EFE31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A03C90-4B07-4AD5-8CE9-FA108C65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42930E-9861-407A-AFDA-50443539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08862F-62B9-4ABC-B551-EF62C236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BE9911-8C8B-44C1-BE28-2B6A7B72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96CE06-B4C7-40E4-BA0F-61ECCE77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DFEC9-DA30-4CF5-8E1E-FD627DE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EEB32E-F56A-46B3-AEA8-3D3AA046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C3FE-D342-426B-84D2-16FA3E64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3E0F75-F082-440E-854D-57EA3205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C9196-93DC-4F60-ACDC-002CE50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2A96AA-8552-4FF4-AF95-C3185D41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DD2A92-1190-4520-9FA4-000C7A6C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7B49F-6E47-4193-9659-650A321F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34736-D025-48D6-8FAC-5B8D266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77DF39-C978-4DF4-BCF6-95EE4917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A3DEF-58D7-46C7-A734-E81A9C7F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2DB7D-1C7D-4121-9D97-9EE8ED94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AAC8B2-8E76-49B4-A0EB-6458E5C2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B23F-20E0-4701-8E12-6355BB86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07932-A87B-44A2-B949-8EE4DE54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84870-3798-4FF6-9E14-F2DA6332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AE08B-6107-43C0-A8EE-7D67A102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809887-DF8F-45DA-95A5-D46DC56F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781EC-1A22-4B9C-B54D-1390441B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64434-2326-4EE8-B12E-4855651A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5681A9-F62D-439A-92A0-8D538AEA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715C5-1B43-4FBC-ABE0-7E0F992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E032E-2001-4C5F-A514-B0E85F50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AE051E-8B4D-4E02-80A7-810432ED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2BC9-E907-4E02-9DC9-17EF81FE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125C6-64BA-4C45-BB8C-57E5F355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14D87D-E7E4-479C-8E8A-30162A54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E4C593-264A-4FA6-9195-0CE750D2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2F6C1F-0144-42F8-A126-8C6D623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CA92F4-CEBB-4DAF-91A5-140353FA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9102E0-D6A8-494F-B4B1-5A428F3C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19F4B-79D2-4740-BE54-A07EC0DC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07F382-ECE8-44D7-B8B6-20830316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16771-EC5E-47DE-9A8F-801C1C9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9F5D4-CC10-4BD7-989D-35622DA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5EBF-E66E-44B8-9EA2-DE61B89F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15077-AB2A-4BDB-82DF-37FDF9B2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AF0C9-A203-4D85-AA64-31F4F388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0D604F-0509-4D17-8A9F-1535402C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372B39-C25A-469D-8DA1-C5CEEB6A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E45F7B-242D-47B3-B910-03A87D7C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83C37-60EB-46BC-BC03-048559C0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FB4A3A-69AA-4523-ABA1-BF27F1A0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2CC89E-2609-4796-A5C1-45B71961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C29E2C-DA42-4F76-B12D-B084CC43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7E1419-AA3A-43F0-8054-EB648683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AB46-DE75-4FBB-8B4D-1A2261E1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26A0D6-6B36-4741-A665-AAC591E1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EE3EF4-46AE-4E3D-B6C5-A3D4093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95AD9D-6E56-4DE4-97B4-6E87519F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F7C694-67F7-4FC0-B39F-22E72DAD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35A44D-DA6C-4B0B-B5F9-D5A041B6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6B1FF8-D419-4351-A69B-EFDF9940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C365E6-1E22-48CF-803F-0AEF0FEB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BF0FBB-694A-4B2F-8C93-35F69A0F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DB6A06-BE59-49FB-B968-A0DD9FF4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67FFE7-A7B1-4381-9F3A-E439067C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923D-224A-4581-BCFE-5F68E55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A61F4-514B-42E9-9FA9-95F3F745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B93AE3-6EC5-4FBD-A14A-C9D0884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305B0A-0E71-42D0-9CC1-ED21CF0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EC4194-FDFD-400B-B3A5-6C87D34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FD379E-A6E5-4CFE-9578-C3A1756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F9E9F4-5381-4358-AC68-4A257064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68B8CD-CF67-401F-934A-FE7A8EA5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787E7C-4586-4127-A324-82442CD6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F596AA-7A40-4359-A9CA-6A559DA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3573CB-48D2-4EC6-A7B4-D86A424F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CBE4-6D59-4050-B691-F498C8D8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817F79-738A-49FD-B28F-972A380C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4C05F6-CD23-4D44-B79B-816B1D6B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5093CB-3BC6-4463-AD31-576A8359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8FD4E4-F864-4F9E-9714-0D4E1B1C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2F4FAF-B882-4A7A-AFCD-4D46B2E4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754EC9-67C4-474F-8BD4-8F7AC44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76C80F-04DB-419E-AAD6-DD5951DC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6FF8BE-1F1F-42B9-BBBA-94E8AFA1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DEE3BB-BD3F-4E69-8DB1-A47635ED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905B0C-11DE-4115-A613-38811FC3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50AE-7837-473D-9701-EB612741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3202BD-5E08-4F3C-83AE-03F87452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C81AE1-A0C6-4392-8C55-D2ADC52F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2A98EC-1BFD-4299-B192-1A1E32D3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C8084F-55A1-40B2-90E8-C438159C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F6AC65-8E66-4DF7-864D-B1EFC808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BA0D66-CE9B-4C53-AFA0-5E30CF46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DBCE5-4E3C-48D1-84F9-C072133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7E5C16-72C2-4374-B8B8-EDEE530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282CD8-80E2-46C8-A65F-CEF75B9F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4B0FD4-8396-4B02-8735-B828F210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6A2-FFCA-4713-BB33-30FB44A2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25504-0CE7-4F14-A17C-846D0D12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9B3588-D22E-4988-AF63-E8E45B79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537444-56B2-4DE1-BB16-301C6390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6085DC-AB4C-485B-A077-18A01988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BD7012-1BEE-42C2-8E69-7AD247F6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F6332C-6AAF-4981-86BC-7708316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864453-9876-4424-8058-E29C647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D225C6-2827-4E4D-B1BB-6CE2736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E7D453-FB53-43E7-8C37-B0181061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59B0D7-0E89-4978-A2EE-6B7BA522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A99931-9C4D-48D5-BD36-3F0B1C0B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DB39-8AF3-450C-A5C6-05F17DDB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172424-34CE-4FCE-A795-CAE49163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5A2AFD-C1FB-4933-833F-1DB65306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9A08FF-100F-414C-940D-ED59D89E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35E3BD-CCF2-4FBD-B9DA-89D26EF5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599511-100A-45AF-8389-8B95BFBB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4F2373-C1A2-4D49-B203-837305CF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6A652F-3B9C-4DC1-9271-3930E70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820902-B932-4AAE-8BFD-DCE7FD39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FDC2AC-C0AB-4A01-B4D5-13F71A3A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7174B8-8C05-4C3E-82B7-E411ECB2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C424-F589-4241-B7F9-D9B38A9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DE9455-5F48-4C46-B196-E9FC699A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68FA75-3C71-4C78-B8A3-FF4FF776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BF95F9-AC1A-4FE1-8A5A-E065B53D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4E41E6-82D8-46CB-AE17-E664E39B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B5FA5B-4003-4B15-B9DD-F9374CF4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AC8BE2-8798-486B-9A24-47EED05A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B35D6F-E734-4024-BAA8-6CE759A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382FA4-CF93-4434-89DA-FB0B8E32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803096-C7AE-4141-9470-74A6A0BF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E838F2-E5D1-4920-8254-529AFE94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2BC0-F0DE-4A0C-9B03-08885801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6E9181-E00A-4920-85DE-147354E2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0C39E7-C3B5-43CB-B0F2-858FA25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F02D8F-76BE-4FDF-9AA1-F8C97B0D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3E02A0-751A-484B-B514-D386DE3C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0EA75E-7936-47D6-9F6C-D612C5F3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4CE42B-E193-448D-BA60-B176AA8B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483D5A-421A-4489-86EA-68DEB9C9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708615-8C62-4D8C-8FFB-C1B6ADF9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BF16D7-3D3C-4619-A524-DB53DFAE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720F90-E64E-4538-9E03-4B858C30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7C49-86C5-4B03-A440-1DE50C9E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4D43ED-E2D1-4BF4-BC5E-92156C4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F08BE0-650F-4D25-AAD3-1B73C4D5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8ABC6D-E90C-4543-8935-59E344BF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7651D4-6308-4142-A2C3-ED005A08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77082D-A908-4C6B-86A6-2C5CA4B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D89023-7E15-4561-89CF-AE0CD47E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8412EC-73D6-4B7E-AE1E-14946015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5C150E-5E33-4D0F-9921-4DF8E543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D61651-842C-45DE-8244-6DF9A542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AD6BF6-1BC7-4287-8FD1-9E745BE7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CE45-1B65-4540-954D-D5A0B737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7BA975-CE41-471B-8590-F7025CA4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BED6F7-593C-4794-834F-64DAAA57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8F5205-054C-4F86-9CDA-FE6452D7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4F80A0-F464-4696-BD5C-669F9338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4A2FC7-51F0-44B8-91D6-09A43EB6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BF7340-6517-493C-BC78-084A0AC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2DA88B-68A9-4F0C-BB20-BD22A22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3FB200-29A9-4555-863D-480274C6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D9755D-FC2A-418C-92AC-EF48D058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0A2275-07A7-4ED1-9B57-591F246C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04D3-4E02-492D-AAEE-4E7CBBE9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6B9E00-8BF9-4062-882C-E1E88C5B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31AB1A-CE5B-47ED-B806-287F7A4F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E6AE71-F08F-4EF4-9F27-DD5FE6D6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6175C7-AB88-42F6-A70C-05A03A27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58804A-2716-463D-A41C-2FD57084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C45B51-E0DD-40F3-9BEE-B2D0E6E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1B04E9-9D9C-41E8-A254-F28CD57E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8724E1-19DB-4E2C-BEC9-3CAADEB1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795E05-61E4-408D-A36A-227440F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6E9C90-C06C-400B-8D6C-E798374F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0201-F7BC-494D-808F-FF16A67A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99FDA5-66B5-4552-A5E2-9DEBD42A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2B57D5-9236-462E-9C7E-1A6104E4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CCBAED-6EC1-4B39-A5AE-1F95F78A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396637-93FC-4E83-AF6F-5D5F149D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0C2E74-2390-4EEF-A2B5-06D5FD53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7C819D-7539-4982-B0D0-BADD0FBB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C9B9DC-9030-474E-BF03-787D0220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805D80-5AE7-4576-A964-BCE9B294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EE815B-3BBF-4B3E-B20B-23630AC4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2D423E-AAC4-4D99-B744-CB1D7BA0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B258-6DFD-4856-A4B4-625D841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257757-B22B-42DB-ACBF-52AF8B7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0A27C8-7BC1-444F-9390-DB21189C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0C6A79-1C5E-4CCE-A165-C47DA081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A3BDFE-C9D1-470B-ADAB-99006085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960440-0A2B-4AA7-AB05-5A9743DF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F0A8A4-B771-44B4-B348-BEA668AD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347624-C867-49EB-B407-8F72B56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1CB736-A86C-4957-8F31-B417DBEA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18F536-AD88-4D48-8A0C-A68CE8E7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E27AEA-4D41-419B-B342-2AAFDD06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4A91-EE2D-4B84-8D2F-7B5563CD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74EECC-817B-4E4F-8B07-4695932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8BAD0F-A18C-428B-A155-DA9F3B27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2003A0-4336-4A6B-AF97-A9D46D07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D55282-323C-4B07-AEEA-8DC2168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D23002-5DAC-44EC-B7EC-97517B62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F31830-169D-458E-92A2-D3B30556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9351D0-DB02-4215-96F3-DBB1C9EC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B71CD5-085B-486A-B75E-462EB9C5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B191AE-CCDF-456D-BB47-87B49699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F4C07C-7EF7-4830-95BB-A25ABF55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CBB-82C6-4403-A3CA-E7C0E1D3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40EBF-78B1-4489-82E4-D5623EA4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89DF2B-A5A5-42CA-AD09-BADD1FE7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169883-17F6-40E8-9D41-16E4AB78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AC875E-59B1-4E9B-ACB7-2F8EAA3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D2D56B-B76B-4593-883B-6969B749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C90ABB-6746-40B0-90A7-E0C11555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839B28-F366-4604-BA7C-F1A561B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608241-D305-4EEA-9CCA-E6F50F68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B7E4C5-129C-43E5-9482-1C2A9087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039BAF-BC6D-4643-B997-38160633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E5B4AD-62EF-4285-9219-22E391BD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3DD6-4EDE-4A7E-8587-7760D00A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89872E-8BA5-4387-B9BF-B6714B2A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E56ED3-595A-4D08-A98D-F2CC5282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99E7B7-6F0C-471C-985D-5343D69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DA679F-AED1-475B-8ABD-77B7B6B1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2961DA-F0B4-4D98-B19A-F1C7EA63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38318D-380B-4721-AFFF-14ADBC45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1DD3A9-F20E-4D9D-8C74-2700647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45B23D-921B-48FC-9EC3-D4749DF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35D2A3-B49A-48F7-A34B-67F3390D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643FDE-7317-4CE3-8EDE-C2B21B30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ECD0-84A6-4D44-9F81-BB619139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6073DC-D3DD-4B94-BDD0-06B098C0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49A8D2-ADA6-4710-A2EA-95E17583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BD497F-258D-419E-9F34-C6AD503D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8A70CE-AF17-4F0E-B415-E6625C22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9D2BF3-A010-4D1E-881D-FAF147EB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8E5588-BC82-4391-A0DC-160BD0EE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77D079-9A16-4FB2-B020-469BE989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ABA5F0-3852-442C-83F0-DCD2CF70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080684-9E14-486D-A0D2-4D424DF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52493D-1E35-4795-88C8-9FFD5211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00F4-C9C1-4901-94C3-33A7B64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6A5631-144F-4258-8BA5-7D34DD04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F9B3F8-A612-4CD7-AE75-6B7A69BC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5AC11F-CBCF-447A-9EA9-588CD69E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27548A-6997-4BBD-9153-EEB703DB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FFE88E-A8A1-40C6-9B3A-A6E71673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793456-E81A-4834-9926-2E25C648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73CF20-48A8-432A-BFC3-179CEED3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78D74D-0091-4006-A919-92A4E30D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9D130F-F277-4EBF-AE5B-DC13DE85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B693C8-EF71-48F5-88D1-C68F7A9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E5FC-5AE5-4510-993B-9FED23B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E0995D-E990-4DFB-8A46-FB22C9A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50B0B23-19CC-4FFC-9D07-2897C10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EB7B68-569B-4A6F-8C8E-C1135F4B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5F8CB8-AD02-4E02-A7E3-7BA873F8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DB3D11-5F46-4FAC-9689-6472D346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368905-D0BE-47BE-91DD-61380FC6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399889-0430-4595-8623-CF15779D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70F3FA-393E-4AF3-AD8C-CD5E3628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3D74C7-59A0-4862-A7D9-AED1C00A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1F418E-0C54-4CAE-8E32-070C4975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5C1BC-C747-4206-A9F4-C12DC025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579705-6A35-40AB-9663-ED0142D3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626D7A-59D3-493B-A1F1-1D39EDD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A2FE6A-8C27-43C3-8CDB-45C604A9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9CD4FA-A852-4F30-83C3-F037824A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74BC527-63DB-41D3-927A-1C09BB74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985CE7-EF48-4B05-96FE-1A8159DB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A876D1-0D10-4D78-88B4-B5D8A42D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C413FE-5045-49F5-81F8-04744C54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A06EFD-6F04-48EF-AF02-0F802DCD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99C590-DF50-4081-82B6-0E332D4B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A4BD-879B-4667-84A4-D4B317F5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55A00B-3A6A-4E4C-B9BC-C2D5B3B6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968A22-0379-41A2-852C-69ADFBC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6CA121-20A3-440B-9C32-919A958E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11A929-03EC-4902-8D92-6893C90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3F622B-46FD-4D95-8022-12F8C64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528E6A-4B01-40CB-B158-16F49574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25D0A37-8EF3-4EBB-A135-5F65DFB9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42638C-8865-4ABB-A1CA-39FEB162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483B74-7910-4D4B-8291-D15862AE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9EE24E-305F-453F-AADF-136A5020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1663-32EE-40A1-A6CC-D36D32AC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D01D2E-88EB-452D-BD34-76E7ACD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51510F-4D7C-4240-8E2F-2C7018D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610270-FE8C-412F-B497-2BF4FF93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CD102A-CE8F-4085-96EA-A5313E33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2D090C-CFCB-4994-A0CC-CAA1FCEA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0BEF27-7113-4CF7-A7C3-86940476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6B889D-A30F-4E6D-A218-C2DCC03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C9B8BA-4710-47B6-B501-0EF566D1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095023-F195-493D-89FD-11FD38B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09E07A-709C-4A3F-A451-38CA156E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0FC2-BAD2-45D5-B8A3-74312B29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E87926-E06B-493D-9FD0-A022022C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B6BE61-3E9F-49FD-B13A-737B219C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CE4CEB-8687-4010-9EB3-2FCC671C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D8093D-ECE9-4A25-A439-D5C1A5ED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F0DDAF-86E0-44B1-B6FF-25D40C61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D99F68-2D18-4896-BE75-EE9909CB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69D4291-EF8F-44C5-BDA1-AE91E1B6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502EFB-C4D1-4034-90A2-F65A3667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3119A8-3891-4763-B40F-41E573D9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8C8B36-B062-4B57-B13E-4A28095F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1414-9506-4A19-A90D-D5DB58A5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D5DC3C-8B78-478F-A186-AC572373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21D395-6607-461D-A3ED-A43D5D51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4A6F92-0794-4FC0-AEB9-678D4AD6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E3A638-F8C6-46C2-9179-B7FB0BD7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2A9C27A-442E-47AD-99A8-227C41B3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60B0E67-A399-44B2-82D3-E5631243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9BE156-E33C-4977-A796-51B0ADE5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EF753B-C8E2-469E-835A-8AE4E4F4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F2BB97-0847-45DD-97B4-B3131AF5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79DC23C-D242-451F-9732-49256AA0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873-1E07-4F5E-A01B-07464954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5767-2742-42BC-8CC5-D90C4E44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E84D61-F648-4865-900E-19F26E39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10EBC6-48BB-4DE1-9273-934E26D5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317A30-13E6-4D94-8165-9FAC7276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A9A5ED-0A92-4533-8B08-7EAFED84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7CDD31-93A7-4EEE-BB2E-4E6E8DDD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1357FE8-E857-4DDE-9049-59D65E18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DED8363-54CE-449E-8E0C-C88D0F04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88DD0C-E9BC-401B-A3A6-CDC6A26D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BD17739-07EF-4312-9155-26796CB6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EE38C6-C53F-4A86-AB16-4CC7BA16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5506D-8D4C-4EEB-A2BA-5CAED6EA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67098B-F25D-4080-9EF7-87ACB31C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DAB2C7-B444-4966-BF93-3E9639E7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F4E8E58-41BA-40AA-AACC-524EFD7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749558-0CF6-4DF3-A59C-9A52DA66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06F8AF-B8E7-49DD-B927-0A3A4408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F5A9B46-45B8-47DD-BD20-358EC96A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981A443-EF2D-41EA-9B2A-A98E4BCD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10D8AC-BA31-417A-B4F0-49B3317A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D9FBD4-904A-4A5A-891B-56F241D2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6D40D8D-86FB-4DCC-9920-BDAA1074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F1DC2-8430-49C9-9219-406F96FB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EC4C0FF-70F8-4538-9D12-75BB5E7D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47DDDA-57FC-4E23-B6C9-48BD3E18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A3A410-9638-4628-9FCF-CD8BBD00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0B83C5-4135-45E5-A5A9-A4E84272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5369B6-897C-46E8-A987-52567B2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2C41BD-5685-4B16-B587-C60EE31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754D77-8B74-4C10-AABA-266CDA3C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2E0150E-A53A-4D18-912C-269B9B67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010E36-8B5F-4C26-A6AC-446003EE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8EFD6B-E896-4EFD-A0FB-173C8624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56D1A-A8A1-41DA-9BC9-1CAF70B5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BEF7B0-E63D-4362-AD9B-3063F39F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C90DDF-D292-40A1-9F29-10B339F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CA102A-75D6-412B-A216-994895A3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D06219-1ADA-4301-AAB5-9990E6A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AA484A4-345E-43B7-A150-A95F9A4F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86C8D37-D5A4-4C09-8ACE-BA4F87B0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68657A1-F32C-4CB0-8780-95CFFF66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9E4AF2D-8F80-46B8-98B8-40CE047B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72CC0AF-C425-40D6-B8D6-AE5BC668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FEDC98-5775-4460-849A-09A7F0E7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1F79E-1C50-4E3E-B31F-7607E60A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D53CEC8-398F-4B57-876F-12B98B52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A2BAAC4-05A3-49B9-961C-64946D10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ADDE292-7825-4C45-B07A-AA2568EA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DF6E2E6-F615-4D31-BD56-2250B302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0FD63BB-A98F-4E92-928C-6DE2460B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1F3C00-C48A-46E1-9F75-09EA7480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74005D-B110-40E6-8623-74F15228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6B80D69-25B6-4086-8FA8-2E73B82C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2F2EC1-7D11-4011-8CD7-028CDC73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43A73C-7257-4EE0-85F8-A9EE5D63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12EA4-294E-4CCA-99C4-02D8B858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A3CD82-E771-4474-92EB-31CB278F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DBFF9F7-E8C5-4808-A91F-095B3189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C59B82F-9DE7-46B1-8923-685FA7D9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7217B2-D5EC-4312-A61D-81559A4D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D52D87-C779-4BC1-B23D-0D5022EC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2E28912-49E2-4C39-AB4F-FBDFEA50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3DFB9DD-91B7-45EE-B59F-B00B8E52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3962AF-3061-4F39-8892-CE5380AB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B5FDA0-30E9-4FC1-8CA4-BB20B49C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C1F4C4D-A7E5-451F-B86F-500CDA1D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71E78-15A6-4BAC-9432-18C1F669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2AD292E-4344-4751-B5E7-FD404D2C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361005-52AA-4FE2-9185-0E6121D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B509A3-80C9-48DF-9579-0CEC24DF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842A62F-E184-4845-A649-0F289B0F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78DEAFD-454A-46A6-AB42-B39A6C63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A95FDE5-30B2-48A5-A19D-C740A911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6EC1279-1F9B-4EC3-BE38-3ECC2B19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66E0A61-F15F-4055-9A25-6842744A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06FBC8-EBE4-4A66-9663-3DD03B9E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F526501-10B3-416C-B23C-1FBEE5BD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D235E-829B-4240-9EB9-89EF54BE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90CECF-0BBF-4D2B-B065-1772F4F8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C4133D-D73B-43EB-BD5F-8859492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1C6E9BF-4A75-461E-A17C-F44B87E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3B9DE4-951C-480B-BE20-A7CAAD5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03F07C-46AD-404A-918D-1EFAE7AA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6C76C27-3A90-4682-AF43-4B940737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04847C-818F-40F2-8715-6E5D5680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4475AEF-FCE8-4119-AF6B-531E3FF6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1CA2DF6-92E9-4886-995D-25E355D9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D981841-76B3-4C49-884B-F346D6E1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60C6-CC0C-4797-84FD-0D38FB72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B0E0A3-1CB4-4C3B-BF0B-CC23B750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6ED62A8-891E-402F-9E78-A67E440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26E0FBC-0EBD-45C1-8773-014D1AC1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FB85791-234B-4434-9750-9F5EA49C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381EDE-3FCB-4240-A656-63450BB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9702F3-AFC7-4AA9-8C43-276CA693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CD2F7D-6324-47B7-AA98-EC8D975A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680E49-3DB2-413E-8C7C-3B2FA166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FC482E0-34BA-4C46-8BD1-14103D22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D978A-064A-413A-B29B-F8B88E7A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6FF-A255-4FB1-9513-645B2CB3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C448-7F99-4A5D-9BD8-489BA9CA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2E0CA-C4E1-49B3-A9C4-17D86003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51B1B-FD5D-435F-8B00-092CA7B2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05A8D-B563-4B32-973E-B4A94265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31F76-DEFE-4B10-9206-CB134E54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E9CD-680E-4623-8637-4E8FF44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5C292-5EB9-4A62-9801-7AB172F0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A694-E649-4221-8942-E37C88BE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67CD-2E59-4212-A550-C18349D2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4F88C-1D36-4D33-B244-7E18D02C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684-9BF1-4BEA-AF64-8EB571F8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FA463-57C5-4644-A048-DEABFF3F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5A5D4-C1A6-47DD-8E68-3267C845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B8AE7-79EE-4AC1-B2AE-66DC6D3B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70AFA-6944-44EE-A607-91731D3C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6437-2FA4-4B05-96D3-08BCE624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1AFD8-CE3A-48ED-9BED-C3628C70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373A-7723-4642-98E2-F5FF2C9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CE591-ACE9-4802-B70A-CE6A7A55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6EB39-FE7F-42A1-B16E-FAFA89D5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82768-A337-4917-A685-04F0980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9D5-423B-4E9C-9C70-3EC2182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6E7F9-CD7E-42A7-9CC7-E89B57C5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E6376-DD72-4AD0-8C8D-A8BAB33D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80DB-644D-4AA0-BE90-26A67B91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90A3E-CA7F-44D5-81DA-34AC4AE0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DB0B5-85E5-450A-8F03-E2AADBD4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B5D50-EE24-4A13-A21A-B4DAA24E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61A9B-C1A0-4782-885F-228FAC75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8F34-7538-4C88-B32A-BC2C119C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8B184-E852-42BF-B249-76C76B24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7B38C-F0DF-40C9-B02C-2630B660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4B5-C2EA-4522-ABE7-E02F470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D3B7B-B898-48C3-A88E-3D3D2E3C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A083F-C09A-4813-975A-6FCBC79A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2F30-66CC-4F03-A405-4D5F4EB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6C69C-0654-4132-B8F8-F02CAED2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B49CC-0441-4A4C-94AF-63DD46E4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39DCA-8B3F-4354-9107-6534F862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8D2C6-5DC7-4824-B7CC-F9FD475B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630C3-FC1D-4969-8FC0-98F564FF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D2F2-34EF-4247-8C89-4AD5A2AB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E545C-16D7-463A-8FDE-B342ECD3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17.xml"/><Relationship Id="rId7" Type="http://schemas.openxmlformats.org/officeDocument/2006/relationships/slideLayout" Target="../slideLayouts/slideLayout518.xml"/><Relationship Id="rId8" Type="http://schemas.openxmlformats.org/officeDocument/2006/relationships/slideLayout" Target="../slideLayouts/slideLayout519.xml"/><Relationship Id="rId9" Type="http://schemas.openxmlformats.org/officeDocument/2006/relationships/slideLayout" Target="../slideLayouts/slideLayout520.xml"/><Relationship Id="rId10" Type="http://schemas.openxmlformats.org/officeDocument/2006/relationships/slideLayout" Target="../slideLayouts/slideLayout521.xml"/><Relationship Id="rId11" Type="http://schemas.openxmlformats.org/officeDocument/2006/relationships/slideLayout" Target="../slideLayouts/slideLayout522.xml"/><Relationship Id="rId12" Type="http://schemas.openxmlformats.org/officeDocument/2006/relationships/slideLayout" Target="../slideLayouts/slideLayout523.xml"/><Relationship Id="rId13" Type="http://schemas.openxmlformats.org/officeDocument/2006/relationships/slideLayout" Target="../slideLayouts/slideLayout524.xml"/><Relationship Id="rId14" Type="http://schemas.openxmlformats.org/officeDocument/2006/relationships/slideLayout" Target="../slideLayouts/slideLayout525.xml"/><Relationship Id="rId15" Type="http://schemas.openxmlformats.org/officeDocument/2006/relationships/slideLayout" Target="../slideLayouts/slideLayout526.xml"/><Relationship Id="rId16" Type="http://schemas.openxmlformats.org/officeDocument/2006/relationships/slideLayout" Target="../slideLayouts/slideLayout527.xml"/><Relationship Id="rId17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29.xml"/><Relationship Id="rId10" Type="http://schemas.openxmlformats.org/officeDocument/2006/relationships/slideLayout" Target="../slideLayouts/slideLayout530.xml"/><Relationship Id="rId11" Type="http://schemas.openxmlformats.org/officeDocument/2006/relationships/slideLayout" Target="../slideLayouts/slideLayout531.xml"/><Relationship Id="rId12" Type="http://schemas.openxmlformats.org/officeDocument/2006/relationships/slideLayout" Target="../slideLayouts/slideLayout532.xml"/><Relationship Id="rId13" Type="http://schemas.openxmlformats.org/officeDocument/2006/relationships/slideLayout" Target="../slideLayouts/slideLayout533.xml"/><Relationship Id="rId14" Type="http://schemas.openxmlformats.org/officeDocument/2006/relationships/slideLayout" Target="../slideLayouts/slideLayout534.xml"/><Relationship Id="rId15" Type="http://schemas.openxmlformats.org/officeDocument/2006/relationships/slideLayout" Target="../slideLayouts/slideLayout535.xml"/><Relationship Id="rId16" Type="http://schemas.openxmlformats.org/officeDocument/2006/relationships/slideLayout" Target="../slideLayouts/slideLayout536.xml"/><Relationship Id="rId17" Type="http://schemas.openxmlformats.org/officeDocument/2006/relationships/slideLayout" Target="../slideLayouts/slideLayout537.xml"/><Relationship Id="rId18" Type="http://schemas.openxmlformats.org/officeDocument/2006/relationships/slideLayout" Target="../slideLayouts/slideLayout538.xml"/><Relationship Id="rId19" Type="http://schemas.openxmlformats.org/officeDocument/2006/relationships/slideLayout" Target="../slideLayouts/slideLayout539.xml"/><Relationship Id="rId20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41.xml"/><Relationship Id="rId7" Type="http://schemas.openxmlformats.org/officeDocument/2006/relationships/slideLayout" Target="../slideLayouts/slideLayout542.xml"/><Relationship Id="rId8" Type="http://schemas.openxmlformats.org/officeDocument/2006/relationships/slideLayout" Target="../slideLayouts/slideLayout543.xml"/><Relationship Id="rId9" Type="http://schemas.openxmlformats.org/officeDocument/2006/relationships/slideLayout" Target="../slideLayouts/slideLayout544.xml"/><Relationship Id="rId10" Type="http://schemas.openxmlformats.org/officeDocument/2006/relationships/slideLayout" Target="../slideLayouts/slideLayout545.xml"/><Relationship Id="rId11" Type="http://schemas.openxmlformats.org/officeDocument/2006/relationships/slideLayout" Target="../slideLayouts/slideLayout546.xml"/><Relationship Id="rId12" Type="http://schemas.openxmlformats.org/officeDocument/2006/relationships/slideLayout" Target="../slideLayouts/slideLayout547.xml"/><Relationship Id="rId13" Type="http://schemas.openxmlformats.org/officeDocument/2006/relationships/slideLayout" Target="../slideLayouts/slideLayout548.xml"/><Relationship Id="rId14" Type="http://schemas.openxmlformats.org/officeDocument/2006/relationships/slideLayout" Target="../slideLayouts/slideLayout549.xml"/><Relationship Id="rId15" Type="http://schemas.openxmlformats.org/officeDocument/2006/relationships/slideLayout" Target="../slideLayouts/slideLayout550.xml"/><Relationship Id="rId16" Type="http://schemas.openxmlformats.org/officeDocument/2006/relationships/slideLayout" Target="../slideLayouts/slideLayout551.xml"/><Relationship Id="rId17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53.xml"/><Relationship Id="rId7" Type="http://schemas.openxmlformats.org/officeDocument/2006/relationships/slideLayout" Target="../slideLayouts/slideLayout554.xml"/><Relationship Id="rId8" Type="http://schemas.openxmlformats.org/officeDocument/2006/relationships/slideLayout" Target="../slideLayouts/slideLayout555.xml"/><Relationship Id="rId9" Type="http://schemas.openxmlformats.org/officeDocument/2006/relationships/slideLayout" Target="../slideLayouts/slideLayout556.xml"/><Relationship Id="rId10" Type="http://schemas.openxmlformats.org/officeDocument/2006/relationships/slideLayout" Target="../slideLayouts/slideLayout557.xml"/><Relationship Id="rId11" Type="http://schemas.openxmlformats.org/officeDocument/2006/relationships/slideLayout" Target="../slideLayouts/slideLayout558.xml"/><Relationship Id="rId12" Type="http://schemas.openxmlformats.org/officeDocument/2006/relationships/slideLayout" Target="../slideLayouts/slideLayout559.xml"/><Relationship Id="rId13" Type="http://schemas.openxmlformats.org/officeDocument/2006/relationships/slideLayout" Target="../slideLayouts/slideLayout560.xml"/><Relationship Id="rId14" Type="http://schemas.openxmlformats.org/officeDocument/2006/relationships/slideLayout" Target="../slideLayouts/slideLayout561.xml"/><Relationship Id="rId15" Type="http://schemas.openxmlformats.org/officeDocument/2006/relationships/slideLayout" Target="../slideLayouts/slideLayout562.xml"/><Relationship Id="rId16" Type="http://schemas.openxmlformats.org/officeDocument/2006/relationships/slideLayout" Target="../slideLayouts/slideLayout563.xml"/><Relationship Id="rId17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65.xml"/><Relationship Id="rId10" Type="http://schemas.openxmlformats.org/officeDocument/2006/relationships/slideLayout" Target="../slideLayouts/slideLayout566.xml"/><Relationship Id="rId11" Type="http://schemas.openxmlformats.org/officeDocument/2006/relationships/slideLayout" Target="../slideLayouts/slideLayout567.xml"/><Relationship Id="rId12" Type="http://schemas.openxmlformats.org/officeDocument/2006/relationships/slideLayout" Target="../slideLayouts/slideLayout568.xml"/><Relationship Id="rId13" Type="http://schemas.openxmlformats.org/officeDocument/2006/relationships/slideLayout" Target="../slideLayouts/slideLayout569.xml"/><Relationship Id="rId14" Type="http://schemas.openxmlformats.org/officeDocument/2006/relationships/slideLayout" Target="../slideLayouts/slideLayout570.xml"/><Relationship Id="rId15" Type="http://schemas.openxmlformats.org/officeDocument/2006/relationships/slideLayout" Target="../slideLayouts/slideLayout571.xml"/><Relationship Id="rId16" Type="http://schemas.openxmlformats.org/officeDocument/2006/relationships/slideLayout" Target="../slideLayouts/slideLayout572.xml"/><Relationship Id="rId17" Type="http://schemas.openxmlformats.org/officeDocument/2006/relationships/slideLayout" Target="../slideLayouts/slideLayout573.xml"/><Relationship Id="rId18" Type="http://schemas.openxmlformats.org/officeDocument/2006/relationships/slideLayout" Target="../slideLayouts/slideLayout574.xml"/><Relationship Id="rId19" Type="http://schemas.openxmlformats.org/officeDocument/2006/relationships/slideLayout" Target="../slideLayouts/slideLayout575.xml"/><Relationship Id="rId20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8210-1FD8-40BE-A630-8A6A7464A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5F2F-84FD-45E3-839A-6BF026CA5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81CF-748C-44C1-99DD-54D960720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17C6-5F84-4F28-9FEF-181BAD5B6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D69B-BC30-4F3A-9057-7EEEE01A9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3E5F-AF47-48CD-B4E4-8E158D51D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1BAA-B846-416C-9292-DA085A7E9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E4BD-CBB7-41E9-B5C6-5D1B3C872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16DD-A2C9-49DB-9424-8D1896B8D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D058-58AF-460B-BE32-414514DEA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dt" idx="5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5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7DD4-2050-49FC-95C9-5C5C6593B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ABA9-5F7E-47CC-B73E-FAE927B7F4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5EE-D077-4F41-8B4B-D5F9873DC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4B4-E2D0-434A-B83A-D7B854443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8B82-574D-4078-BDED-ADAE5FA7D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55C2-1738-4372-AAB0-DD7FD866D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1584-71ED-4486-AA64-A2E1B3182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D7C4-BCEA-4549-B443-A5959DD3C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19AC-4A7E-4A82-A246-E4403D51A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170D-1345-452D-8838-D18A93E31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931B-0F97-4BD4-B709-494240715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B197-87BD-4E79-A898-E26EE07A3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4FE2-7060-4C76-8C2B-ADAEA814C2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0DB4-875C-4691-9511-6C43206B2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CE36-F1D2-4203-AE3D-0AA4424B8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99EA-34AA-4FBA-9955-DA3C93809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C4BA-6A29-4B18-856D-1A2911A4C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55D0-DFEA-4269-BAC1-CE8FF3F5C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0471-3B54-4511-861A-3CFC68679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58D7-DE05-4A2B-A747-C181024B8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0FE5-0707-4879-8C13-ABA802879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7B7B-96CE-4072-BA56-7980F8BCC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BEC0-F660-4D0F-B797-DA4162781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1AB8-AC53-4DCF-9CED-4E85434CC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BCF1-D982-42AE-A74C-C318844AB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8176-1315-4E39-BEC7-FB902B8E4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2EB6-12AA-424E-80EE-46BF52602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8BB4-F8F8-47FC-9CE0-E9915A0B5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78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78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9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3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3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3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32FF-7744-4489-96F2-EDFF2F8F1F4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6"/>
    <p:sldLayoutId id="2147484209" r:id="rId7"/>
    <p:sldLayoutId id="2147484210" r:id="rId8"/>
    <p:sldLayoutId id="2147484211" r:id="rId9"/>
    <p:sldLayoutId id="2147484212" r:id="rId10"/>
    <p:sldLayoutId id="2147484213" r:id="rId11"/>
    <p:sldLayoutId id="2147484214" r:id="rId12"/>
    <p:sldLayoutId id="2147484215" r:id="rId13"/>
    <p:sldLayoutId id="2147484216" r:id="rId14"/>
    <p:sldLayoutId id="2147484217" r:id="rId15"/>
    <p:sldLayoutId id="2147484218" r:id="rId16"/>
    <p:sldLayoutId id="2147484219" r:id="rId17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83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83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4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4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5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13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13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 type="sldNum" idx="13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27C9-1E3E-4B9F-8F4F-94020143EFC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9"/>
    <p:sldLayoutId id="2147484222" r:id="rId10"/>
    <p:sldLayoutId id="2147484223" r:id="rId11"/>
    <p:sldLayoutId id="2147484224" r:id="rId12"/>
    <p:sldLayoutId id="2147484225" r:id="rId13"/>
    <p:sldLayoutId id="2147484226" r:id="rId14"/>
    <p:sldLayoutId id="2147484227" r:id="rId15"/>
    <p:sldLayoutId id="2147484228" r:id="rId16"/>
    <p:sldLayoutId id="2147484229" r:id="rId17"/>
    <p:sldLayoutId id="2147484230" r:id="rId18"/>
    <p:sldLayoutId id="2147484231" r:id="rId19"/>
    <p:sldLayoutId id="2147484232" r:id="rId20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9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0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dt" idx="13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ftr" idx="13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 type="sldNum" idx="13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1FB0-10CE-459E-923F-AF988AB7B97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6"/>
    <p:sldLayoutId id="2147484235" r:id="rId7"/>
    <p:sldLayoutId id="2147484236" r:id="rId8"/>
    <p:sldLayoutId id="2147484237" r:id="rId9"/>
    <p:sldLayoutId id="2147484238" r:id="rId10"/>
    <p:sldLayoutId id="2147484239" r:id="rId11"/>
    <p:sldLayoutId id="2147484240" r:id="rId12"/>
    <p:sldLayoutId id="2147484241" r:id="rId13"/>
    <p:sldLayoutId id="2147484242" r:id="rId14"/>
    <p:sldLayoutId id="2147484243" r:id="rId15"/>
    <p:sldLayoutId id="2147484244" r:id="rId16"/>
    <p:sldLayoutId id="2147484245" r:id="rId17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94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95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5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 type="dt" idx="13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 type="ftr" idx="14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 type="sldNum" idx="14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D3C2-DB3C-40AE-B038-97A93C894BB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6"/>
    <p:sldLayoutId id="2147484248" r:id="rId7"/>
    <p:sldLayoutId id="2147484249" r:id="rId8"/>
    <p:sldLayoutId id="2147484250" r:id="rId9"/>
    <p:sldLayoutId id="2147484251" r:id="rId10"/>
    <p:sldLayoutId id="2147484252" r:id="rId11"/>
    <p:sldLayoutId id="2147484253" r:id="rId12"/>
    <p:sldLayoutId id="2147484254" r:id="rId13"/>
    <p:sldLayoutId id="2147484255" r:id="rId14"/>
    <p:sldLayoutId id="2147484256" r:id="rId15"/>
    <p:sldLayoutId id="2147484257" r:id="rId16"/>
    <p:sldLayoutId id="2147484258" r:id="rId17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99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00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0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0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1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1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dt" idx="14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 type="ftr" idx="14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 type="sldNum" idx="14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57B5-D45D-44FA-842E-414E142274D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9"/>
    <p:sldLayoutId id="2147484261" r:id="rId10"/>
    <p:sldLayoutId id="2147484262" r:id="rId11"/>
    <p:sldLayoutId id="2147484263" r:id="rId12"/>
    <p:sldLayoutId id="2147484264" r:id="rId13"/>
    <p:sldLayoutId id="2147484265" r:id="rId14"/>
    <p:sldLayoutId id="2147484266" r:id="rId15"/>
    <p:sldLayoutId id="2147484267" r:id="rId16"/>
    <p:sldLayoutId id="2147484268" r:id="rId17"/>
    <p:sldLayoutId id="2147484269" r:id="rId18"/>
    <p:sldLayoutId id="2147484270" r:id="rId19"/>
    <p:sldLayoutId id="2147484271" r:id="rId20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5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6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6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 type="dt" idx="14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 type="ftr" idx="14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 type="sldNum" idx="14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71C7-AAF1-4CB5-899C-7DD301515CC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6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6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3435-0E96-4403-98B3-73ACC43D023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1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1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2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18A-194D-4E77-B8C1-CBC33E2C897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6AA-CF96-444E-935E-4A6BF5672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ED4B-BB3C-4046-B598-CAC77E600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EBA9-E20B-41EB-9706-89FB98412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gif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8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28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28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4.gi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4.gi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Горизонтальный свиток 3" descr=""/>
          <p:cNvPicPr/>
          <p:nvPr/>
        </p:nvPicPr>
        <p:blipFill>
          <a:blip r:embed="rId2"/>
          <a:stretch/>
        </p:blipFill>
        <p:spPr>
          <a:xfrm>
            <a:off x="341280" y="1054080"/>
            <a:ext cx="8461440" cy="3822840"/>
          </a:xfrm>
          <a:prstGeom prst="rect">
            <a:avLst/>
          </a:prstGeom>
          <a:ln w="0">
            <a:noFill/>
          </a:ln>
        </p:spPr>
      </p:pic>
      <p:pic>
        <p:nvPicPr>
          <p:cNvPr id="2117" name="Прямоугольник 5" descr=""/>
          <p:cNvPicPr/>
          <p:nvPr/>
        </p:nvPicPr>
        <p:blipFill>
          <a:blip r:embed="rId3"/>
          <a:stretch/>
        </p:blipFill>
        <p:spPr>
          <a:xfrm>
            <a:off x="1749600" y="139680"/>
            <a:ext cx="58514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07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cc"/>
                </a:solidFill>
                <a:latin typeface="Calibri"/>
              </a:rPr>
              <a:t>Робота з формулам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TextBox 4"/>
          <p:cNvSpPr/>
          <p:nvPr/>
        </p:nvSpPr>
        <p:spPr>
          <a:xfrm>
            <a:off x="1042560" y="1125360"/>
            <a:ext cx="59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ехай функція задана формулою у= 2х+5. Знай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TextBox 7"/>
          <p:cNvSpPr/>
          <p:nvPr/>
        </p:nvSpPr>
        <p:spPr>
          <a:xfrm>
            <a:off x="530280" y="2585880"/>
            <a:ext cx="3668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начення функції, якщо значення аргументу дорівнює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TextBox 8"/>
          <p:cNvSpPr/>
          <p:nvPr/>
        </p:nvSpPr>
        <p:spPr>
          <a:xfrm>
            <a:off x="4573440" y="26179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Якщо х=-4, то у=2•(-4)+5=-8+5=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TextBox 11"/>
          <p:cNvSpPr/>
          <p:nvPr/>
        </p:nvSpPr>
        <p:spPr>
          <a:xfrm>
            <a:off x="531720" y="3716280"/>
            <a:ext cx="367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начення аргументу, при якому значення функції дорівнює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Прямоугольник 12"/>
          <p:cNvSpPr/>
          <p:nvPr/>
        </p:nvSpPr>
        <p:spPr>
          <a:xfrm>
            <a:off x="4586400" y="3860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Якщо у=-7, то 2х+5=-7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х=-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х=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=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4" descr="CRCTR496"/>
          <p:cNvPicPr/>
          <p:nvPr/>
        </p:nvPicPr>
        <p:blipFill>
          <a:blip r:embed="rId2"/>
          <a:stretch/>
        </p:blipFill>
        <p:spPr>
          <a:xfrm flipH="1" rot="1525800">
            <a:off x="593280" y="-18720"/>
            <a:ext cx="658800" cy="1641600"/>
          </a:xfrm>
          <a:prstGeom prst="rect">
            <a:avLst/>
          </a:prstGeom>
          <a:ln w="0">
            <a:noFill/>
          </a:ln>
        </p:spPr>
      </p:pic>
      <p:sp>
        <p:nvSpPr>
          <p:cNvPr id="2218" name="Управляющая кнопка: назад 1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3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9" name="Group 9"/>
          <p:cNvGrpSpPr/>
          <p:nvPr/>
        </p:nvGrpSpPr>
        <p:grpSpPr>
          <a:xfrm>
            <a:off x="2084760" y="692280"/>
            <a:ext cx="6707880" cy="556920"/>
            <a:chOff x="2084760" y="692280"/>
            <a:chExt cx="6707880" cy="556920"/>
          </a:xfrm>
        </p:grpSpPr>
        <p:sp>
          <p:nvSpPr>
            <p:cNvPr id="2220" name="Text Box 4"/>
            <p:cNvSpPr/>
            <p:nvPr/>
          </p:nvSpPr>
          <p:spPr>
            <a:xfrm>
              <a:off x="2084760" y="692280"/>
              <a:ext cx="6707880" cy="520560"/>
            </a:xfrm>
            <a:prstGeom prst="rect">
              <a:avLst/>
            </a:prstGeom>
            <a:solidFill>
              <a:srgbClr val="99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</a:rPr>
                <a:t>Функція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задана формулою              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1" name="Object 5" descr=""/>
            <p:cNvPicPr/>
            <p:nvPr/>
          </p:nvPicPr>
          <p:blipFill>
            <a:blip r:embed="rId2"/>
            <a:stretch/>
          </p:blipFill>
          <p:spPr>
            <a:xfrm>
              <a:off x="6588000" y="692280"/>
              <a:ext cx="2089440" cy="55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2" name="Text Box 8"/>
          <p:cNvSpPr/>
          <p:nvPr/>
        </p:nvSpPr>
        <p:spPr>
          <a:xfrm>
            <a:off x="3371760" y="1936800"/>
            <a:ext cx="5658120" cy="5205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овнимо таблиц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3" name=""/>
          <p:cNvGraphicFramePr/>
          <p:nvPr/>
        </p:nvGraphicFramePr>
        <p:xfrm>
          <a:off x="336600" y="3068640"/>
          <a:ext cx="8496360" cy="1584360"/>
        </p:xfrm>
        <a:graphic>
          <a:graphicData uri="http://schemas.openxmlformats.org/drawingml/2006/table">
            <a:tbl>
              <a:tblPr/>
              <a:tblGrid>
                <a:gridCol w="1214280"/>
                <a:gridCol w="1212840"/>
                <a:gridCol w="1214640"/>
                <a:gridCol w="1212840"/>
                <a:gridCol w="1214280"/>
                <a:gridCol w="1212840"/>
                <a:gridCol w="12146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4" name="Rectangle 39"/>
          <p:cNvSpPr/>
          <p:nvPr/>
        </p:nvSpPr>
        <p:spPr>
          <a:xfrm>
            <a:off x="1619280" y="3933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40"/>
          <p:cNvSpPr/>
          <p:nvPr/>
        </p:nvSpPr>
        <p:spPr>
          <a:xfrm>
            <a:off x="2843280" y="3906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41"/>
          <p:cNvSpPr/>
          <p:nvPr/>
        </p:nvSpPr>
        <p:spPr>
          <a:xfrm>
            <a:off x="4030560" y="3906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Rectangle 42"/>
          <p:cNvSpPr/>
          <p:nvPr/>
        </p:nvSpPr>
        <p:spPr>
          <a:xfrm>
            <a:off x="5219640" y="3906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43"/>
          <p:cNvSpPr/>
          <p:nvPr/>
        </p:nvSpPr>
        <p:spPr>
          <a:xfrm>
            <a:off x="6443640" y="390528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Rectangle 44"/>
          <p:cNvSpPr/>
          <p:nvPr/>
        </p:nvSpPr>
        <p:spPr>
          <a:xfrm>
            <a:off x="7662960" y="390528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8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Управляющая кнопка: назад 1"/>
          <p:cNvSpPr/>
          <p:nvPr/>
        </p:nvSpPr>
        <p:spPr>
          <a:xfrm>
            <a:off x="801216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1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1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10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Text Box 5"/>
          <p:cNvSpPr/>
          <p:nvPr/>
        </p:nvSpPr>
        <p:spPr>
          <a:xfrm>
            <a:off x="1264680" y="189000"/>
            <a:ext cx="1557000" cy="459720"/>
          </a:xfrm>
          <a:prstGeom prst="rect">
            <a:avLst/>
          </a:prstGeom>
          <a:solidFill>
            <a:srgbClr val="ffff66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 Box 6"/>
          <p:cNvSpPr/>
          <p:nvPr/>
        </p:nvSpPr>
        <p:spPr>
          <a:xfrm>
            <a:off x="2069640" y="692280"/>
            <a:ext cx="6171480" cy="5205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йти область визначення  функц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Oval 7"/>
          <p:cNvSpPr/>
          <p:nvPr/>
        </p:nvSpPr>
        <p:spPr>
          <a:xfrm>
            <a:off x="250920" y="1989000"/>
            <a:ext cx="43164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5" name="Group 21"/>
          <p:cNvGrpSpPr/>
          <p:nvPr/>
        </p:nvGrpSpPr>
        <p:grpSpPr>
          <a:xfrm>
            <a:off x="826920" y="1628640"/>
            <a:ext cx="3600720" cy="1922760"/>
            <a:chOff x="826920" y="1628640"/>
            <a:chExt cx="3600720" cy="1922760"/>
          </a:xfrm>
        </p:grpSpPr>
        <p:sp>
          <p:nvSpPr>
            <p:cNvPr id="2236" name="Text Box 10"/>
            <p:cNvSpPr/>
            <p:nvPr/>
          </p:nvSpPr>
          <p:spPr>
            <a:xfrm>
              <a:off x="826920" y="1628640"/>
              <a:ext cx="3600720" cy="192276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7" name="Object 11" descr=""/>
            <p:cNvPicPr/>
            <p:nvPr/>
          </p:nvPicPr>
          <p:blipFill>
            <a:blip r:embed="rId2"/>
            <a:stretch/>
          </p:blipFill>
          <p:spPr>
            <a:xfrm>
              <a:off x="1116000" y="1628640"/>
              <a:ext cx="295272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8" name="Group 22"/>
          <p:cNvGrpSpPr/>
          <p:nvPr/>
        </p:nvGrpSpPr>
        <p:grpSpPr>
          <a:xfrm>
            <a:off x="826920" y="3357720"/>
            <a:ext cx="3600720" cy="1922760"/>
            <a:chOff x="826920" y="3357720"/>
            <a:chExt cx="3600720" cy="1922760"/>
          </a:xfrm>
        </p:grpSpPr>
        <p:sp>
          <p:nvSpPr>
            <p:cNvPr id="2239" name="Text Box 12"/>
            <p:cNvSpPr/>
            <p:nvPr/>
          </p:nvSpPr>
          <p:spPr>
            <a:xfrm>
              <a:off x="826920" y="3357720"/>
              <a:ext cx="3600720" cy="192276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0" name="Object 13" descr=""/>
            <p:cNvPicPr/>
            <p:nvPr/>
          </p:nvPicPr>
          <p:blipFill>
            <a:blip r:embed="rId3"/>
            <a:stretch/>
          </p:blipFill>
          <p:spPr>
            <a:xfrm>
              <a:off x="1042920" y="3357720"/>
              <a:ext cx="3168720" cy="11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1" name="Oval 15"/>
          <p:cNvSpPr/>
          <p:nvPr/>
        </p:nvSpPr>
        <p:spPr>
          <a:xfrm>
            <a:off x="250920" y="3716280"/>
            <a:ext cx="43164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Oval 17"/>
          <p:cNvSpPr/>
          <p:nvPr/>
        </p:nvSpPr>
        <p:spPr>
          <a:xfrm>
            <a:off x="250920" y="5589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3" name="Group 23"/>
          <p:cNvGrpSpPr/>
          <p:nvPr/>
        </p:nvGrpSpPr>
        <p:grpSpPr>
          <a:xfrm>
            <a:off x="826920" y="5084640"/>
            <a:ext cx="3600720" cy="1922760"/>
            <a:chOff x="826920" y="5084640"/>
            <a:chExt cx="3600720" cy="1922760"/>
          </a:xfrm>
        </p:grpSpPr>
        <p:sp>
          <p:nvSpPr>
            <p:cNvPr id="2244" name="Text Box 16"/>
            <p:cNvSpPr/>
            <p:nvPr/>
          </p:nvSpPr>
          <p:spPr>
            <a:xfrm>
              <a:off x="826920" y="5084640"/>
              <a:ext cx="3600720" cy="192276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5" name="Object 18" descr=""/>
            <p:cNvPicPr/>
            <p:nvPr/>
          </p:nvPicPr>
          <p:blipFill>
            <a:blip r:embed="rId4"/>
            <a:stretch/>
          </p:blipFill>
          <p:spPr>
            <a:xfrm>
              <a:off x="1042920" y="5157720"/>
              <a:ext cx="3095640" cy="110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6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7" name="Group 27"/>
          <p:cNvGrpSpPr/>
          <p:nvPr/>
        </p:nvGrpSpPr>
        <p:grpSpPr>
          <a:xfrm>
            <a:off x="4572000" y="1916280"/>
            <a:ext cx="2521080" cy="580680"/>
            <a:chOff x="4572000" y="1916280"/>
            <a:chExt cx="2521080" cy="580680"/>
          </a:xfrm>
        </p:grpSpPr>
        <p:sp>
          <p:nvSpPr>
            <p:cNvPr id="2248" name="Text Box 24"/>
            <p:cNvSpPr/>
            <p:nvPr/>
          </p:nvSpPr>
          <p:spPr>
            <a:xfrm>
              <a:off x="4572000" y="1965240"/>
              <a:ext cx="2521080" cy="456840"/>
            </a:xfrm>
            <a:prstGeom prst="rect">
              <a:avLst/>
            </a:prstGeom>
            <a:solidFill>
              <a:srgbClr val="ff99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9" name="Object 25" descr=""/>
            <p:cNvPicPr/>
            <p:nvPr/>
          </p:nvPicPr>
          <p:blipFill>
            <a:blip r:embed="rId5"/>
            <a:stretch/>
          </p:blipFill>
          <p:spPr>
            <a:xfrm>
              <a:off x="4572000" y="1916280"/>
              <a:ext cx="25210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0" name="Group 28"/>
          <p:cNvGrpSpPr/>
          <p:nvPr/>
        </p:nvGrpSpPr>
        <p:grpSpPr>
          <a:xfrm>
            <a:off x="4572000" y="3645000"/>
            <a:ext cx="2521080" cy="581040"/>
            <a:chOff x="4572000" y="3645000"/>
            <a:chExt cx="2521080" cy="581040"/>
          </a:xfrm>
        </p:grpSpPr>
        <p:sp>
          <p:nvSpPr>
            <p:cNvPr id="2251" name="Text Box 29"/>
            <p:cNvSpPr/>
            <p:nvPr/>
          </p:nvSpPr>
          <p:spPr>
            <a:xfrm>
              <a:off x="4572000" y="3694320"/>
              <a:ext cx="2521080" cy="457200"/>
            </a:xfrm>
            <a:prstGeom prst="rect">
              <a:avLst/>
            </a:prstGeom>
            <a:solidFill>
              <a:srgbClr val="ff99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2" name="Object 30" descr=""/>
            <p:cNvPicPr/>
            <p:nvPr/>
          </p:nvPicPr>
          <p:blipFill>
            <a:blip r:embed="rId6"/>
            <a:stretch/>
          </p:blipFill>
          <p:spPr>
            <a:xfrm>
              <a:off x="4589640" y="3645000"/>
              <a:ext cx="2484360" cy="58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3" name="Group 31"/>
          <p:cNvGrpSpPr/>
          <p:nvPr/>
        </p:nvGrpSpPr>
        <p:grpSpPr>
          <a:xfrm>
            <a:off x="4572000" y="5410080"/>
            <a:ext cx="2521080" cy="507960"/>
            <a:chOff x="4572000" y="5410080"/>
            <a:chExt cx="2521080" cy="507960"/>
          </a:xfrm>
        </p:grpSpPr>
        <p:sp>
          <p:nvSpPr>
            <p:cNvPr id="2254" name="Text Box 32"/>
            <p:cNvSpPr/>
            <p:nvPr/>
          </p:nvSpPr>
          <p:spPr>
            <a:xfrm>
              <a:off x="4572000" y="5422680"/>
              <a:ext cx="2521080" cy="457200"/>
            </a:xfrm>
            <a:prstGeom prst="rect">
              <a:avLst/>
            </a:prstGeom>
            <a:solidFill>
              <a:srgbClr val="ff99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5" name="Object 33" descr=""/>
            <p:cNvPicPr/>
            <p:nvPr/>
          </p:nvPicPr>
          <p:blipFill>
            <a:blip r:embed="rId7"/>
            <a:stretch/>
          </p:blipFill>
          <p:spPr>
            <a:xfrm>
              <a:off x="5313240" y="5410080"/>
              <a:ext cx="1038240" cy="50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6" name="Picture 2" descr="C:\Users\Ирина Михайловна\Desktop\2783.gif"/>
          <p:cNvPicPr/>
          <p:nvPr/>
        </p:nvPicPr>
        <p:blipFill>
          <a:blip r:embed="rId8"/>
          <a:stretch/>
        </p:blipFill>
        <p:spPr>
          <a:xfrm>
            <a:off x="7380360" y="5083200"/>
            <a:ext cx="1595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235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235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238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238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243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2243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Text Box 5"/>
          <p:cNvSpPr/>
          <p:nvPr/>
        </p:nvSpPr>
        <p:spPr>
          <a:xfrm>
            <a:off x="1193040" y="189000"/>
            <a:ext cx="1557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іку функції знайді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її область визнач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ь функції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0" name="Object 7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4370400" cy="4408200"/>
          </a:xfrm>
          <a:prstGeom prst="rect">
            <a:avLst/>
          </a:prstGeom>
          <a:ln w="0">
            <a:noFill/>
          </a:ln>
        </p:spPr>
      </p:pic>
      <p:sp>
        <p:nvSpPr>
          <p:cNvPr id="2261" name="Line 10"/>
          <p:cNvSpPr/>
          <p:nvPr/>
        </p:nvSpPr>
        <p:spPr>
          <a:xfrm flipV="1">
            <a:off x="2700360" y="5589720"/>
            <a:ext cx="4168800" cy="936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Oval 11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 Box 12"/>
          <p:cNvSpPr/>
          <p:nvPr/>
        </p:nvSpPr>
        <p:spPr>
          <a:xfrm>
            <a:off x="680040" y="3357720"/>
            <a:ext cx="2870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будь - як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Oval 13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Freeform 14"/>
          <p:cNvSpPr/>
          <p:nvPr/>
        </p:nvSpPr>
        <p:spPr>
          <a:xfrm>
            <a:off x="4280040" y="2278080"/>
            <a:ext cx="6120" cy="3906720"/>
          </a:xfrm>
          <a:custGeom>
            <a:avLst/>
            <a:gdLst>
              <a:gd name="textAreaLeft" fmla="*/ 0 w 6120"/>
              <a:gd name="textAreaRight" fmla="*/ 6480 w 6120"/>
              <a:gd name="textAreaTop" fmla="*/ 0 h 3906720"/>
              <a:gd name="textAreaBottom" fmla="*/ 3907080 h 3906720"/>
            </a:gdLst>
            <a:ahLst/>
            <a:rect l="textAreaLeft" t="textAreaTop" r="textAreaRight" b="textAreaBottom"/>
            <a:pathLst>
              <a:path w="4" h="2461">
                <a:moveTo>
                  <a:pt x="0" y="2461"/>
                </a:moveTo>
                <a:lnTo>
                  <a:pt x="4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Freeform 15"/>
          <p:cNvSpPr/>
          <p:nvPr/>
        </p:nvSpPr>
        <p:spPr>
          <a:xfrm>
            <a:off x="4343400" y="6197760"/>
            <a:ext cx="482760" cy="1440"/>
          </a:xfrm>
          <a:custGeom>
            <a:avLst/>
            <a:gdLst>
              <a:gd name="textAreaLeft" fmla="*/ 0 w 482760"/>
              <a:gd name="textAreaRight" fmla="*/ 483120 w 482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Text Box 16"/>
          <p:cNvSpPr/>
          <p:nvPr/>
        </p:nvSpPr>
        <p:spPr>
          <a:xfrm>
            <a:off x="684360" y="4365720"/>
            <a:ext cx="2374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8" name="Picture 2" descr="C:\Users\Ирина Михайловна\Desktop\2783.gif"/>
          <p:cNvPicPr/>
          <p:nvPr/>
        </p:nvPicPr>
        <p:blipFill>
          <a:blip r:embed="rId3"/>
          <a:stretch/>
        </p:blipFill>
        <p:spPr>
          <a:xfrm>
            <a:off x="7380360" y="4941720"/>
            <a:ext cx="1595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0" dur="1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3"/>
          <p:cNvSpPr/>
          <p:nvPr/>
        </p:nvSpPr>
        <p:spPr>
          <a:xfrm>
            <a:off x="1193040" y="189000"/>
            <a:ext cx="1557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4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іку функції знайді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її область визнач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ь функції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Rectangle 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Oval 9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Oval 11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Rectangle 16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5" name="Object 15" descr=""/>
          <p:cNvPicPr/>
          <p:nvPr/>
        </p:nvPicPr>
        <p:blipFill>
          <a:blip r:embed="rId2"/>
          <a:stretch/>
        </p:blipFill>
        <p:spPr>
          <a:xfrm>
            <a:off x="2484360" y="2190600"/>
            <a:ext cx="4497480" cy="4537080"/>
          </a:xfrm>
          <a:prstGeom prst="rect">
            <a:avLst/>
          </a:prstGeom>
          <a:ln w="0">
            <a:noFill/>
          </a:ln>
        </p:spPr>
      </p:pic>
      <p:grpSp>
        <p:nvGrpSpPr>
          <p:cNvPr id="2276" name="Group 21"/>
          <p:cNvGrpSpPr/>
          <p:nvPr/>
        </p:nvGrpSpPr>
        <p:grpSpPr>
          <a:xfrm>
            <a:off x="3265560" y="2995200"/>
            <a:ext cx="3095640" cy="3313440"/>
            <a:chOff x="3265560" y="2995200"/>
            <a:chExt cx="3095640" cy="3313440"/>
          </a:xfrm>
        </p:grpSpPr>
        <p:sp>
          <p:nvSpPr>
            <p:cNvPr id="2277" name="Freeform 18"/>
            <p:cNvSpPr/>
            <p:nvPr/>
          </p:nvSpPr>
          <p:spPr>
            <a:xfrm>
              <a:off x="3336840" y="3066840"/>
              <a:ext cx="2952720" cy="316872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3168720"/>
                <a:gd name="textAreaBottom" fmla="*/ 3169080 h 3168720"/>
              </a:gdLst>
              <a:ahLst/>
              <a:rect l="textAreaLeft" t="textAreaTop" r="textAreaRight" b="textAreaBottom"/>
              <a:pathLst>
                <a:path w="1860" h="1996">
                  <a:moveTo>
                    <a:pt x="0" y="1996"/>
                  </a:moveTo>
                  <a:cubicBezTo>
                    <a:pt x="30" y="1799"/>
                    <a:pt x="69" y="1597"/>
                    <a:pt x="136" y="1406"/>
                  </a:cubicBezTo>
                  <a:cubicBezTo>
                    <a:pt x="203" y="1215"/>
                    <a:pt x="269" y="1026"/>
                    <a:pt x="403" y="851"/>
                  </a:cubicBezTo>
                  <a:cubicBezTo>
                    <a:pt x="537" y="676"/>
                    <a:pt x="696" y="497"/>
                    <a:pt x="939" y="355"/>
                  </a:cubicBezTo>
                  <a:cubicBezTo>
                    <a:pt x="1182" y="213"/>
                    <a:pt x="1668" y="74"/>
                    <a:pt x="186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Oval 19"/>
            <p:cNvSpPr/>
            <p:nvPr/>
          </p:nvSpPr>
          <p:spPr>
            <a:xfrm flipV="1">
              <a:off x="3265560" y="6163920"/>
              <a:ext cx="144360" cy="1447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Oval 20"/>
            <p:cNvSpPr/>
            <p:nvPr/>
          </p:nvSpPr>
          <p:spPr>
            <a:xfrm flipV="1">
              <a:off x="6216480" y="2994840"/>
              <a:ext cx="144720" cy="144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0" name="Line 22"/>
          <p:cNvSpPr/>
          <p:nvPr/>
        </p:nvSpPr>
        <p:spPr>
          <a:xfrm flipV="1">
            <a:off x="3348000" y="5660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23"/>
          <p:cNvSpPr/>
          <p:nvPr/>
        </p:nvSpPr>
        <p:spPr>
          <a:xfrm flipV="1">
            <a:off x="6300720" y="314136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Freeform 24"/>
          <p:cNvSpPr/>
          <p:nvPr/>
        </p:nvSpPr>
        <p:spPr>
          <a:xfrm>
            <a:off x="3327480" y="5613480"/>
            <a:ext cx="2971800" cy="126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72" h="8">
                <a:moveTo>
                  <a:pt x="0" y="0"/>
                </a:moveTo>
                <a:lnTo>
                  <a:pt x="1872" y="8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Text Box 28"/>
          <p:cNvSpPr/>
          <p:nvPr/>
        </p:nvSpPr>
        <p:spPr>
          <a:xfrm>
            <a:off x="684360" y="3357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Line 29"/>
          <p:cNvSpPr/>
          <p:nvPr/>
        </p:nvSpPr>
        <p:spPr>
          <a:xfrm>
            <a:off x="3419640" y="623736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Freeform 30"/>
          <p:cNvSpPr/>
          <p:nvPr/>
        </p:nvSpPr>
        <p:spPr>
          <a:xfrm>
            <a:off x="4317840" y="3111480"/>
            <a:ext cx="1968840" cy="1440"/>
          </a:xfrm>
          <a:custGeom>
            <a:avLst/>
            <a:gdLst>
              <a:gd name="textAreaLeft" fmla="*/ 0 w 1968840"/>
              <a:gd name="textAreaRight" fmla="*/ 1969200 w 1968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40" h="1">
                <a:moveTo>
                  <a:pt x="0" y="0"/>
                </a:moveTo>
                <a:lnTo>
                  <a:pt x="1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Freeform 31"/>
          <p:cNvSpPr/>
          <p:nvPr/>
        </p:nvSpPr>
        <p:spPr>
          <a:xfrm>
            <a:off x="4213080" y="3141720"/>
            <a:ext cx="3240" cy="3093840"/>
          </a:xfrm>
          <a:custGeom>
            <a:avLst/>
            <a:gdLst>
              <a:gd name="textAreaLeft" fmla="*/ 0 w 3240"/>
              <a:gd name="textAreaRight" fmla="*/ 3600 w 324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2" h="1949">
                <a:moveTo>
                  <a:pt x="2" y="1949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32"/>
          <p:cNvSpPr/>
          <p:nvPr/>
        </p:nvSpPr>
        <p:spPr>
          <a:xfrm>
            <a:off x="684360" y="4365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Picture 2" descr="C:\Users\Ирина Михайловна\Desktop\2783.gif"/>
          <p:cNvPicPr/>
          <p:nvPr/>
        </p:nvPicPr>
        <p:blipFill>
          <a:blip r:embed="rId3"/>
          <a:stretch/>
        </p:blipFill>
        <p:spPr>
          <a:xfrm>
            <a:off x="7186680" y="5013360"/>
            <a:ext cx="1595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9" dur="10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0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Text Box 3"/>
          <p:cNvSpPr/>
          <p:nvPr/>
        </p:nvSpPr>
        <p:spPr>
          <a:xfrm>
            <a:off x="1193040" y="189000"/>
            <a:ext cx="1557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4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іку функції знайді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її область визнач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ь функції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Rectangle 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Oval 6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Oval 7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5" name="Object 9" descr=""/>
          <p:cNvPicPr/>
          <p:nvPr/>
        </p:nvPicPr>
        <p:blipFill>
          <a:blip r:embed="rId2"/>
          <a:stretch/>
        </p:blipFill>
        <p:spPr>
          <a:xfrm>
            <a:off x="2627280" y="2205000"/>
            <a:ext cx="4497480" cy="4537080"/>
          </a:xfrm>
          <a:prstGeom prst="rect">
            <a:avLst/>
          </a:prstGeom>
          <a:ln w="0">
            <a:noFill/>
          </a:ln>
        </p:spPr>
      </p:pic>
      <p:sp>
        <p:nvSpPr>
          <p:cNvPr id="2296" name="Freeform 15"/>
          <p:cNvSpPr/>
          <p:nvPr/>
        </p:nvSpPr>
        <p:spPr>
          <a:xfrm>
            <a:off x="6769080" y="5689440"/>
            <a:ext cx="1440" cy="495360"/>
          </a:xfrm>
          <a:custGeom>
            <a:avLst/>
            <a:gdLst>
              <a:gd name="textAreaLeft" fmla="*/ 0 w 1440"/>
              <a:gd name="textAreaRight" fmla="*/ 1800 w 14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" h="312">
                <a:moveTo>
                  <a:pt x="0" y="3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Line 16"/>
          <p:cNvSpPr/>
          <p:nvPr/>
        </p:nvSpPr>
        <p:spPr>
          <a:xfrm flipV="1">
            <a:off x="3348000" y="2707920"/>
            <a:ext cx="0" cy="302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18"/>
          <p:cNvSpPr/>
          <p:nvPr/>
        </p:nvSpPr>
        <p:spPr>
          <a:xfrm>
            <a:off x="684360" y="3357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Freeform 19"/>
          <p:cNvSpPr/>
          <p:nvPr/>
        </p:nvSpPr>
        <p:spPr>
          <a:xfrm>
            <a:off x="3340080" y="2590920"/>
            <a:ext cx="990720" cy="1440"/>
          </a:xfrm>
          <a:custGeom>
            <a:avLst/>
            <a:gdLst>
              <a:gd name="textAreaLeft" fmla="*/ 0 w 990720"/>
              <a:gd name="textAreaRight" fmla="*/ 991080 w 990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24" h="1">
                <a:moveTo>
                  <a:pt x="0" y="0"/>
                </a:moveTo>
                <a:lnTo>
                  <a:pt x="62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reeform 20"/>
          <p:cNvSpPr/>
          <p:nvPr/>
        </p:nvSpPr>
        <p:spPr>
          <a:xfrm>
            <a:off x="4427640" y="6237360"/>
            <a:ext cx="2376360" cy="730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40" h="1">
                <a:moveTo>
                  <a:pt x="0" y="0"/>
                </a:moveTo>
                <a:lnTo>
                  <a:pt x="1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22"/>
          <p:cNvSpPr/>
          <p:nvPr/>
        </p:nvSpPr>
        <p:spPr>
          <a:xfrm>
            <a:off x="684360" y="4365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2" name="Group 31"/>
          <p:cNvGrpSpPr/>
          <p:nvPr/>
        </p:nvGrpSpPr>
        <p:grpSpPr>
          <a:xfrm>
            <a:off x="3276720" y="2565360"/>
            <a:ext cx="3598920" cy="3676680"/>
            <a:chOff x="3276720" y="2565360"/>
            <a:chExt cx="3598920" cy="3676680"/>
          </a:xfrm>
        </p:grpSpPr>
        <p:sp>
          <p:nvSpPr>
            <p:cNvPr id="2303" name="Freeform 27"/>
            <p:cNvSpPr/>
            <p:nvPr/>
          </p:nvSpPr>
          <p:spPr>
            <a:xfrm>
              <a:off x="3416400" y="2565360"/>
              <a:ext cx="3378240" cy="355608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3556080"/>
                <a:gd name="textAreaBottom" fmla="*/ 3556440 h 3556080"/>
              </a:gdLst>
              <a:ahLst/>
              <a:rect l="textAreaLeft" t="textAreaTop" r="textAreaRight" b="textAreaBottom"/>
              <a:pathLst>
                <a:path w="2128" h="2240">
                  <a:moveTo>
                    <a:pt x="0" y="32"/>
                  </a:moveTo>
                  <a:cubicBezTo>
                    <a:pt x="201" y="88"/>
                    <a:pt x="845" y="0"/>
                    <a:pt x="1200" y="368"/>
                  </a:cubicBezTo>
                  <a:cubicBezTo>
                    <a:pt x="1555" y="736"/>
                    <a:pt x="1935" y="1850"/>
                    <a:pt x="2128" y="224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Oval 29"/>
            <p:cNvSpPr/>
            <p:nvPr/>
          </p:nvSpPr>
          <p:spPr>
            <a:xfrm>
              <a:off x="3276720" y="2565360"/>
              <a:ext cx="142920" cy="149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Oval 30"/>
            <p:cNvSpPr/>
            <p:nvPr/>
          </p:nvSpPr>
          <p:spPr>
            <a:xfrm>
              <a:off x="6732720" y="6093000"/>
              <a:ext cx="142920" cy="149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6" name="Freeform 32"/>
          <p:cNvSpPr/>
          <p:nvPr/>
        </p:nvSpPr>
        <p:spPr>
          <a:xfrm>
            <a:off x="3352680" y="5613480"/>
            <a:ext cx="3451320" cy="12600"/>
          </a:xfrm>
          <a:custGeom>
            <a:avLst/>
            <a:gdLst>
              <a:gd name="textAreaLeft" fmla="*/ 0 w 3451320"/>
              <a:gd name="textAreaRight" fmla="*/ 3451680 w 34513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174" h="8">
                <a:moveTo>
                  <a:pt x="0" y="0"/>
                </a:moveTo>
                <a:lnTo>
                  <a:pt x="2174" y="8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Freeform 33"/>
          <p:cNvSpPr/>
          <p:nvPr/>
        </p:nvSpPr>
        <p:spPr>
          <a:xfrm>
            <a:off x="4216320" y="2603520"/>
            <a:ext cx="12960" cy="3632040"/>
          </a:xfrm>
          <a:custGeom>
            <a:avLst/>
            <a:gdLst>
              <a:gd name="textAreaLeft" fmla="*/ 0 w 12960"/>
              <a:gd name="textAreaRight" fmla="*/ 13320 w 12960"/>
              <a:gd name="textAreaTop" fmla="*/ 0 h 3632040"/>
              <a:gd name="textAreaBottom" fmla="*/ 3632400 h 3632040"/>
            </a:gdLst>
            <a:ahLst/>
            <a:rect l="textAreaLeft" t="textAreaTop" r="textAreaRight" b="textAreaBottom"/>
            <a:pathLst>
              <a:path w="8" h="2288">
                <a:moveTo>
                  <a:pt x="0" y="2288"/>
                </a:moveTo>
                <a:lnTo>
                  <a:pt x="8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8" name="Object 34" descr=""/>
          <p:cNvPicPr/>
          <p:nvPr/>
        </p:nvPicPr>
        <p:blipFill>
          <a:blip r:embed="rId3"/>
          <a:stretch/>
        </p:blipFill>
        <p:spPr>
          <a:xfrm>
            <a:off x="3495600" y="1168560"/>
            <a:ext cx="2151000" cy="4063680"/>
          </a:xfrm>
          <a:prstGeom prst="rect">
            <a:avLst/>
          </a:prstGeom>
          <a:ln w="0">
            <a:noFill/>
          </a:ln>
        </p:spPr>
      </p:pic>
      <p:pic>
        <p:nvPicPr>
          <p:cNvPr id="2309" name="Picture 2" descr="C:\Users\Ирина Михайловна\Desktop\2783.gif"/>
          <p:cNvPicPr/>
          <p:nvPr/>
        </p:nvPicPr>
        <p:blipFill>
          <a:blip r:embed="rId4"/>
          <a:stretch/>
        </p:blipFill>
        <p:spPr>
          <a:xfrm>
            <a:off x="7380360" y="4941720"/>
            <a:ext cx="1595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4" dur="1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262673"/>
                </a:solidFill>
                <a:latin typeface="Monotype Corsiva"/>
              </a:rPr>
              <a:t>Самостійна робо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262673"/>
                </a:solidFill>
                <a:latin typeface="Monotype Corsiva"/>
              </a:rPr>
              <a:t>навчального характе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 варіант - </a:t>
            </a: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870, 874 (в), 876 (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І варіант - </a:t>
            </a: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871, 874 (б), 876 (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51" descr="Рисунок12112"/>
          <p:cNvPicPr/>
          <p:nvPr/>
        </p:nvPicPr>
        <p:blipFill>
          <a:blip r:embed="rId2"/>
          <a:stretch/>
        </p:blipFill>
        <p:spPr>
          <a:xfrm>
            <a:off x="6156360" y="4376880"/>
            <a:ext cx="1868400" cy="2079360"/>
          </a:xfrm>
          <a:prstGeom prst="rect">
            <a:avLst/>
          </a:prstGeom>
          <a:ln w="0">
            <a:noFill/>
          </a:ln>
        </p:spPr>
      </p:pic>
      <p:pic>
        <p:nvPicPr>
          <p:cNvPr id="2312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3"/>
          <a:stretch/>
        </p:blipFill>
        <p:spPr>
          <a:xfrm>
            <a:off x="108000" y="2811600"/>
            <a:ext cx="3247920" cy="4057560"/>
          </a:xfrm>
          <a:prstGeom prst="rect">
            <a:avLst/>
          </a:prstGeom>
          <a:ln w="0">
            <a:noFill/>
          </a:ln>
        </p:spPr>
      </p:pic>
      <p:sp>
        <p:nvSpPr>
          <p:cNvPr id="2313" name="Лента лицом вверх 5"/>
          <p:cNvSpPr/>
          <p:nvPr/>
        </p:nvSpPr>
        <p:spPr>
          <a:xfrm>
            <a:off x="1731960" y="765000"/>
            <a:ext cx="7343640" cy="2303640"/>
          </a:xfrm>
          <a:custGeom>
            <a:avLst/>
            <a:gdLst>
              <a:gd name="textAreaLeft" fmla="*/ 1836000 w 7343640"/>
              <a:gd name="textAreaRight" fmla="*/ 5508000 w 7343640"/>
              <a:gd name="textAreaTop" fmla="*/ 0 h 2303640"/>
              <a:gd name="textAreaBottom" fmla="*/ 1919880 h 230364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66ff33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Домашнє 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Опрацювати п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Виконати впра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868, 885, 888, 889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TextBox 2"/>
          <p:cNvSpPr/>
          <p:nvPr/>
        </p:nvSpPr>
        <p:spPr>
          <a:xfrm>
            <a:off x="3497400" y="3429000"/>
            <a:ext cx="4646520" cy="233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f14124"/>
                </a:solidFill>
                <a:uFillTx/>
                <a:latin typeface="Arial"/>
              </a:rPr>
              <a:t>Мета уро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формувати поняття функціональної залежності, аргументу, області визначення та області значення функції; розг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ути різні способи задання функ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5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250920" y="2637000"/>
            <a:ext cx="3247920" cy="4057560"/>
          </a:xfrm>
          <a:prstGeom prst="rect">
            <a:avLst/>
          </a:prstGeom>
          <a:ln w="0">
            <a:noFill/>
          </a:ln>
        </p:spPr>
      </p:pic>
      <p:sp>
        <p:nvSpPr>
          <p:cNvPr id="2316" name="Горизонтальный свиток 3"/>
          <p:cNvSpPr/>
          <p:nvPr/>
        </p:nvSpPr>
        <p:spPr>
          <a:xfrm>
            <a:off x="785880" y="214200"/>
            <a:ext cx="8215200" cy="2775240"/>
          </a:xfrm>
          <a:prstGeom prst="horizontalScroll">
            <a:avLst>
              <a:gd name="adj" fmla="val 125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66"/>
                </a:solidFill>
                <a:uFillTx/>
                <a:latin typeface="Trebuchet MS"/>
              </a:rPr>
              <a:t>Т</a:t>
            </a:r>
            <a:r>
              <a:rPr b="1" i="1" lang="uk-UA" sz="2800" spc="-1" strike="noStrike" u="sng">
                <a:solidFill>
                  <a:srgbClr val="ffff66"/>
                </a:solidFill>
                <a:uFillTx/>
                <a:latin typeface="Trebuchet MS"/>
              </a:rPr>
              <a:t>ема уроку:</a:t>
            </a:r>
            <a:r>
              <a:rPr b="1" i="1" lang="uk-UA" sz="2800" spc="-1" strike="noStrike">
                <a:solidFill>
                  <a:srgbClr val="ffff66"/>
                </a:solidFill>
                <a:latin typeface="Trebuchet MS"/>
              </a:rPr>
              <a:t> Функція. Область визначення і область значень функції. Способи задання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3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30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TextBox 1"/>
          <p:cNvSpPr/>
          <p:nvPr/>
        </p:nvSpPr>
        <p:spPr>
          <a:xfrm>
            <a:off x="684360" y="396720"/>
            <a:ext cx="617364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і поняття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TextBox 7"/>
          <p:cNvSpPr/>
          <p:nvPr/>
        </p:nvSpPr>
        <p:spPr>
          <a:xfrm>
            <a:off x="685800" y="1844640"/>
            <a:ext cx="698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.Які є способи задання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функції?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Box 8"/>
          <p:cNvSpPr/>
          <p:nvPr/>
        </p:nvSpPr>
        <p:spPr>
          <a:xfrm>
            <a:off x="685800" y="2505240"/>
            <a:ext cx="70340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3.Щ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зиваєть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ргументом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Що називається значенням функції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Box 3"/>
          <p:cNvSpPr/>
          <p:nvPr/>
        </p:nvSpPr>
        <p:spPr>
          <a:xfrm>
            <a:off x="722160" y="3573360"/>
            <a:ext cx="7034400" cy="132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Як знайти значення функції, якщо відомо значення аргументу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Як знайти значення аргументу, коли відомо значення функці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TextBox 6"/>
          <p:cNvSpPr/>
          <p:nvPr/>
        </p:nvSpPr>
        <p:spPr>
          <a:xfrm>
            <a:off x="804960" y="5732640"/>
            <a:ext cx="7034040" cy="50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6</a:t>
            </a:r>
            <a:r>
              <a:rPr b="1" i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.</a:t>
            </a: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 Що називається областю значення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Box 7"/>
          <p:cNvSpPr/>
          <p:nvPr/>
        </p:nvSpPr>
        <p:spPr>
          <a:xfrm>
            <a:off x="785880" y="5143680"/>
            <a:ext cx="7034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5</a:t>
            </a:r>
            <a:r>
              <a:rPr b="1" i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. </a:t>
            </a: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Що називається областю визначення функці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4" name="Picture 10" descr="C:\Users\Ирина Михайловна\Desktop\MOI7.gif"/>
          <p:cNvPicPr/>
          <p:nvPr/>
        </p:nvPicPr>
        <p:blipFill>
          <a:blip r:embed="rId4"/>
          <a:stretch/>
        </p:blipFill>
        <p:spPr>
          <a:xfrm>
            <a:off x="7742160" y="430200"/>
            <a:ext cx="1214640" cy="1517760"/>
          </a:xfrm>
          <a:prstGeom prst="rect">
            <a:avLst/>
          </a:prstGeom>
          <a:ln w="0">
            <a:noFill/>
          </a:ln>
        </p:spPr>
      </p:pic>
      <p:sp>
        <p:nvSpPr>
          <p:cNvPr id="2125" name="TextBox 4"/>
          <p:cNvSpPr/>
          <p:nvPr/>
        </p:nvSpPr>
        <p:spPr>
          <a:xfrm>
            <a:off x="708120" y="1244520"/>
            <a:ext cx="7003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i="1" lang="uk-UA" sz="1800" spc="-1" strike="noStrike">
                <a:solidFill>
                  <a:srgbClr val="663300"/>
                </a:solidFill>
                <a:latin typeface="Arial"/>
              </a:rPr>
              <a:t>Що називається функцією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TextBox 2"/>
          <p:cNvSpPr/>
          <p:nvPr/>
        </p:nvSpPr>
        <p:spPr>
          <a:xfrm>
            <a:off x="3497400" y="3429000"/>
            <a:ext cx="4646520" cy="233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f14124"/>
                </a:solidFill>
                <a:uFillTx/>
                <a:latin typeface="Arial"/>
              </a:rPr>
              <a:t>Мета уро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формувати поняття функціональної залежності, аргументу, області визначення та області значення функції; розг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ути різні способи задання функ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7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250920" y="2637000"/>
            <a:ext cx="3247920" cy="4057560"/>
          </a:xfrm>
          <a:prstGeom prst="rect">
            <a:avLst/>
          </a:prstGeom>
          <a:ln w="0">
            <a:noFill/>
          </a:ln>
        </p:spPr>
      </p:pic>
      <p:sp>
        <p:nvSpPr>
          <p:cNvPr id="2128" name="Горизонтальный свиток 3"/>
          <p:cNvSpPr/>
          <p:nvPr/>
        </p:nvSpPr>
        <p:spPr>
          <a:xfrm>
            <a:off x="785880" y="214200"/>
            <a:ext cx="8215200" cy="2775240"/>
          </a:xfrm>
          <a:prstGeom prst="horizontalScroll">
            <a:avLst>
              <a:gd name="adj" fmla="val 125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66"/>
                </a:solidFill>
                <a:uFillTx/>
                <a:latin typeface="Trebuchet MS"/>
              </a:rPr>
              <a:t>Т</a:t>
            </a:r>
            <a:r>
              <a:rPr b="1" i="1" lang="uk-UA" sz="2800" spc="-1" strike="noStrike" u="sng">
                <a:solidFill>
                  <a:srgbClr val="ffff66"/>
                </a:solidFill>
                <a:uFillTx/>
                <a:latin typeface="Trebuchet MS"/>
              </a:rPr>
              <a:t>ема уроку:</a:t>
            </a:r>
            <a:r>
              <a:rPr b="1" i="1" lang="uk-UA" sz="2800" spc="-1" strike="noStrike">
                <a:solidFill>
                  <a:srgbClr val="ffff66"/>
                </a:solidFill>
                <a:latin typeface="Trebuchet MS"/>
              </a:rPr>
              <a:t> Функція. Область визначення і область значень функції. Способи задання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30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30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WordArt 4"/>
          <p:cNvSpPr txBox="1"/>
          <p:nvPr/>
        </p:nvSpPr>
        <p:spPr>
          <a:xfrm>
            <a:off x="1476360" y="476280"/>
            <a:ext cx="3743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ункція 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0" name="Text Box 5"/>
          <p:cNvSpPr/>
          <p:nvPr/>
        </p:nvSpPr>
        <p:spPr>
          <a:xfrm>
            <a:off x="53964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Це така залежність між змінними при як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6"/>
          <p:cNvSpPr/>
          <p:nvPr/>
        </p:nvSpPr>
        <p:spPr>
          <a:xfrm>
            <a:off x="539640" y="1989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жному    значенню     незалежної     змінної відповідає єдине значення залежної змінно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Прямоугольник 1"/>
          <p:cNvSpPr/>
          <p:nvPr/>
        </p:nvSpPr>
        <p:spPr>
          <a:xfrm>
            <a:off x="928800" y="3143160"/>
            <a:ext cx="52149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Термін “Функція” вперше зустрічається в рукописі Г. Лейбніца (1673 р.), в друкованому вигляді (1692 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Із латинської </a:t>
            </a:r>
            <a:r>
              <a:rPr b="1" i="1" lang="en-US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 function </a:t>
            </a:r>
            <a:r>
              <a:rPr b="1" i="1" lang="uk-UA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переводиться як “здійснення”, “виконання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8675640" y="0"/>
            <a:ext cx="468360" cy="5205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20560"/>
              <a:gd name="textAreaBottom" fmla="*/ 490320 h 520560"/>
            </a:gdLst>
            <a:ahLst/>
            <a:rect l="textAreaLeft" t="textAreaTop" r="textAreaRight" b="textAreaBottom"/>
            <a:pathLst>
              <a:path w="21600" h="24006">
                <a:moveTo>
                  <a:pt x="0" y="0"/>
                </a:moveTo>
                <a:lnTo>
                  <a:pt x="21600" y="0"/>
                </a:lnTo>
                <a:lnTo>
                  <a:pt x="21600" y="24006"/>
                </a:lnTo>
                <a:lnTo>
                  <a:pt x="0" y="24006"/>
                </a:lnTo>
                <a:close/>
              </a:path>
              <a:path fill="lightenLess" w="21600" h="24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6">
                <a:moveTo>
                  <a:pt x="21600" y="0"/>
                </a:moveTo>
                <a:lnTo>
                  <a:pt x="21600" y="24006"/>
                </a:lnTo>
                <a:lnTo>
                  <a:pt x="20200" y="22606"/>
                </a:lnTo>
                <a:lnTo>
                  <a:pt x="20200" y="1400"/>
                </a:lnTo>
                <a:close/>
              </a:path>
              <a:path fill="darkenLess" w="21600" h="24006">
                <a:moveTo>
                  <a:pt x="21600" y="24006"/>
                </a:moveTo>
                <a:lnTo>
                  <a:pt x="0" y="24006"/>
                </a:lnTo>
                <a:lnTo>
                  <a:pt x="1400" y="22606"/>
                </a:lnTo>
                <a:lnTo>
                  <a:pt x="20200" y="22606"/>
                </a:lnTo>
                <a:close/>
              </a:path>
              <a:path fill="lighten" w="21600" h="24006">
                <a:moveTo>
                  <a:pt x="0" y="24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6"/>
                </a:lnTo>
                <a:close/>
              </a:path>
              <a:path fill="darken" w="21600" h="24006">
                <a:moveTo>
                  <a:pt x="3794" y="12003"/>
                </a:moveTo>
                <a:lnTo>
                  <a:pt x="17806" y="4996"/>
                </a:lnTo>
                <a:lnTo>
                  <a:pt x="17806" y="1900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4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6012000" y="2508120"/>
            <a:ext cx="32479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Прямоугольник 3"/>
          <p:cNvSpPr/>
          <p:nvPr/>
        </p:nvSpPr>
        <p:spPr>
          <a:xfrm>
            <a:off x="1488960" y="4968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Незалежну змінну (х) ще назива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Прямоугольник 4"/>
          <p:cNvSpPr/>
          <p:nvPr/>
        </p:nvSpPr>
        <p:spPr>
          <a:xfrm>
            <a:off x="4574880" y="1062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аргу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Прямоугольник 7"/>
          <p:cNvSpPr/>
          <p:nvPr/>
        </p:nvSpPr>
        <p:spPr>
          <a:xfrm>
            <a:off x="1499040" y="1616040"/>
            <a:ext cx="72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Залежну змінну (у) ще називаю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Прямоугольник 8"/>
          <p:cNvSpPr/>
          <p:nvPr/>
        </p:nvSpPr>
        <p:spPr>
          <a:xfrm>
            <a:off x="4660560" y="225900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функціє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Прямоугольник 9"/>
          <p:cNvSpPr/>
          <p:nvPr/>
        </p:nvSpPr>
        <p:spPr>
          <a:xfrm>
            <a:off x="3132000" y="2852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або значенням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Прямоугольник 10"/>
          <p:cNvSpPr/>
          <p:nvPr/>
        </p:nvSpPr>
        <p:spPr>
          <a:xfrm>
            <a:off x="923040" y="4076640"/>
            <a:ext cx="53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У цьому випадку пиш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Прямоугольник 11"/>
          <p:cNvSpPr/>
          <p:nvPr/>
        </p:nvSpPr>
        <p:spPr>
          <a:xfrm>
            <a:off x="5994000" y="4653000"/>
            <a:ext cx="13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Y=f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( 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Управляющая кнопка: назад 1"/>
          <p:cNvSpPr/>
          <p:nvPr/>
        </p:nvSpPr>
        <p:spPr>
          <a:xfrm>
            <a:off x="8415360" y="38160"/>
            <a:ext cx="728640" cy="522360"/>
          </a:xfrm>
          <a:custGeom>
            <a:avLst/>
            <a:gdLst>
              <a:gd name="textAreaLeft" fmla="*/ 33840 w 728640"/>
              <a:gd name="textAreaRight" fmla="*/ 694800 w 72864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30124" h="21600">
                <a:moveTo>
                  <a:pt x="0" y="0"/>
                </a:moveTo>
                <a:lnTo>
                  <a:pt x="30124" y="0"/>
                </a:lnTo>
                <a:lnTo>
                  <a:pt x="30124" y="21600"/>
                </a:lnTo>
                <a:lnTo>
                  <a:pt x="0" y="21600"/>
                </a:lnTo>
                <a:close/>
              </a:path>
              <a:path fill="lightenLess" w="30124" h="21600">
                <a:moveTo>
                  <a:pt x="0" y="0"/>
                </a:moveTo>
                <a:lnTo>
                  <a:pt x="30124" y="0"/>
                </a:lnTo>
                <a:lnTo>
                  <a:pt x="28724" y="1400"/>
                </a:lnTo>
                <a:lnTo>
                  <a:pt x="1400" y="1400"/>
                </a:lnTo>
                <a:close/>
              </a:path>
              <a:path fill="darken" w="30124" h="21600">
                <a:moveTo>
                  <a:pt x="30124" y="0"/>
                </a:moveTo>
                <a:lnTo>
                  <a:pt x="30124" y="21600"/>
                </a:lnTo>
                <a:lnTo>
                  <a:pt x="28724" y="20200"/>
                </a:lnTo>
                <a:lnTo>
                  <a:pt x="28724" y="1400"/>
                </a:lnTo>
                <a:close/>
              </a:path>
              <a:path fill="darkenLess" w="30124" h="21600">
                <a:moveTo>
                  <a:pt x="3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24" y="20200"/>
                </a:lnTo>
                <a:close/>
              </a:path>
              <a:path fill="lighten" w="3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24" h="21600">
                <a:moveTo>
                  <a:pt x="8056" y="10800"/>
                </a:moveTo>
                <a:lnTo>
                  <a:pt x="22068" y="3794"/>
                </a:lnTo>
                <a:lnTo>
                  <a:pt x="220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4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ласть значення і область визначення фун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854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іль рухається по шосе з постійною швидкістю 70 км / год. За час t год автомобіль проходить шлях S = 70 · t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6"/>
          <p:cNvSpPr/>
          <p:nvPr/>
        </p:nvSpPr>
        <p:spPr>
          <a:xfrm>
            <a:off x="179280" y="2421000"/>
            <a:ext cx="633744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і значення може приймати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7"/>
          <p:cNvSpPr/>
          <p:nvPr/>
        </p:nvSpPr>
        <p:spPr>
          <a:xfrm>
            <a:off x="179280" y="2997360"/>
            <a:ext cx="633744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значення може приймати 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8"/>
          <p:cNvSpPr/>
          <p:nvPr/>
        </p:nvSpPr>
        <p:spPr>
          <a:xfrm>
            <a:off x="6659640" y="242100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9"/>
          <p:cNvSpPr/>
          <p:nvPr/>
        </p:nvSpPr>
        <p:spPr>
          <a:xfrm>
            <a:off x="6659640" y="299736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1"/>
          <p:cNvSpPr/>
          <p:nvPr/>
        </p:nvSpPr>
        <p:spPr>
          <a:xfrm>
            <a:off x="250920" y="3645000"/>
            <a:ext cx="597672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і значення, які приймає незалежна змінна утворюють область визначення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2"/>
          <p:cNvSpPr/>
          <p:nvPr/>
        </p:nvSpPr>
        <p:spPr>
          <a:xfrm>
            <a:off x="250920" y="5229360"/>
            <a:ext cx="597672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начення залежної змінної утворюють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 область значень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13"/>
          <p:cNvSpPr/>
          <p:nvPr/>
        </p:nvSpPr>
        <p:spPr>
          <a:xfrm flipV="1">
            <a:off x="5292720" y="2708280"/>
            <a:ext cx="1511280" cy="100800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Freeform 14"/>
          <p:cNvSpPr/>
          <p:nvPr/>
        </p:nvSpPr>
        <p:spPr>
          <a:xfrm>
            <a:off x="5940360" y="3251160"/>
            <a:ext cx="930240" cy="2266920"/>
          </a:xfrm>
          <a:custGeom>
            <a:avLst/>
            <a:gdLst>
              <a:gd name="textAreaLeft" fmla="*/ 0 w 930240"/>
              <a:gd name="textAreaRight" fmla="*/ 930600 w 930240"/>
              <a:gd name="textAreaTop" fmla="*/ 0 h 2266920"/>
              <a:gd name="textAreaBottom" fmla="*/ 2267280 h 2266920"/>
            </a:gdLst>
            <a:ahLst/>
            <a:rect l="textAreaLeft" t="textAreaTop" r="textAreaRight" b="textAreaBottom"/>
            <a:pathLst>
              <a:path w="586" h="1428">
                <a:moveTo>
                  <a:pt x="0" y="1428"/>
                </a:moveTo>
                <a:lnTo>
                  <a:pt x="586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3" name="Picture 13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7045200" y="3716280"/>
            <a:ext cx="257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4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ласть значень і  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ласть визначення функ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5"/>
          <p:cNvSpPr/>
          <p:nvPr/>
        </p:nvSpPr>
        <p:spPr>
          <a:xfrm>
            <a:off x="611280" y="2924280"/>
            <a:ext cx="799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Line 6"/>
          <p:cNvSpPr/>
          <p:nvPr/>
        </p:nvSpPr>
        <p:spPr>
          <a:xfrm flipV="1">
            <a:off x="971640" y="1483920"/>
            <a:ext cx="0" cy="331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Text Box 7"/>
          <p:cNvSpPr/>
          <p:nvPr/>
        </p:nvSpPr>
        <p:spPr>
          <a:xfrm>
            <a:off x="685800" y="2851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ext Box 8"/>
          <p:cNvSpPr/>
          <p:nvPr/>
        </p:nvSpPr>
        <p:spPr>
          <a:xfrm>
            <a:off x="14778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9"/>
          <p:cNvSpPr/>
          <p:nvPr/>
        </p:nvSpPr>
        <p:spPr>
          <a:xfrm>
            <a:off x="29178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0"/>
          <p:cNvSpPr/>
          <p:nvPr/>
        </p:nvSpPr>
        <p:spPr>
          <a:xfrm>
            <a:off x="3636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1"/>
          <p:cNvSpPr/>
          <p:nvPr/>
        </p:nvSpPr>
        <p:spPr>
          <a:xfrm>
            <a:off x="507816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2"/>
          <p:cNvSpPr/>
          <p:nvPr/>
        </p:nvSpPr>
        <p:spPr>
          <a:xfrm>
            <a:off x="579744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13"/>
          <p:cNvSpPr/>
          <p:nvPr/>
        </p:nvSpPr>
        <p:spPr>
          <a:xfrm>
            <a:off x="723744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14"/>
          <p:cNvSpPr/>
          <p:nvPr/>
        </p:nvSpPr>
        <p:spPr>
          <a:xfrm>
            <a:off x="-360" y="1150920"/>
            <a:ext cx="15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м/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15"/>
          <p:cNvSpPr/>
          <p:nvPr/>
        </p:nvSpPr>
        <p:spPr>
          <a:xfrm>
            <a:off x="8104320" y="29242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16"/>
          <p:cNvSpPr/>
          <p:nvPr/>
        </p:nvSpPr>
        <p:spPr>
          <a:xfrm>
            <a:off x="469440" y="155592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Text Box 17"/>
          <p:cNvSpPr/>
          <p:nvPr/>
        </p:nvSpPr>
        <p:spPr>
          <a:xfrm>
            <a:off x="396360" y="429264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Freeform 18"/>
          <p:cNvSpPr/>
          <p:nvPr/>
        </p:nvSpPr>
        <p:spPr>
          <a:xfrm>
            <a:off x="965160" y="4567320"/>
            <a:ext cx="5029200" cy="14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68" h="1">
                <a:moveTo>
                  <a:pt x="0" y="0"/>
                </a:moveTo>
                <a:lnTo>
                  <a:pt x="31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19"/>
          <p:cNvSpPr/>
          <p:nvPr/>
        </p:nvSpPr>
        <p:spPr>
          <a:xfrm>
            <a:off x="971640" y="1771560"/>
            <a:ext cx="711000" cy="1800"/>
          </a:xfrm>
          <a:custGeom>
            <a:avLst/>
            <a:gdLst>
              <a:gd name="textAreaLeft" fmla="*/ 0 w 711000"/>
              <a:gd name="textAreaRight" fmla="*/ 711360 w 711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8" h="1">
                <a:moveTo>
                  <a:pt x="0" y="0"/>
                </a:moveTo>
                <a:lnTo>
                  <a:pt x="44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Line 20"/>
          <p:cNvSpPr/>
          <p:nvPr/>
        </p:nvSpPr>
        <p:spPr>
          <a:xfrm>
            <a:off x="1692360" y="1771560"/>
            <a:ext cx="143964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Freeform 21"/>
          <p:cNvSpPr/>
          <p:nvPr/>
        </p:nvSpPr>
        <p:spPr>
          <a:xfrm>
            <a:off x="965160" y="1760400"/>
            <a:ext cx="711360" cy="1155960"/>
          </a:xfrm>
          <a:custGeom>
            <a:avLst/>
            <a:gdLst>
              <a:gd name="textAreaLeft" fmla="*/ 0 w 711360"/>
              <a:gd name="textAreaRight" fmla="*/ 711720 w 71136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448" h="728">
                <a:moveTo>
                  <a:pt x="0" y="728"/>
                </a:moveTo>
                <a:lnTo>
                  <a:pt x="448" y="0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22"/>
          <p:cNvSpPr/>
          <p:nvPr/>
        </p:nvSpPr>
        <p:spPr>
          <a:xfrm>
            <a:off x="3149640" y="1773360"/>
            <a:ext cx="685800" cy="1155600"/>
          </a:xfrm>
          <a:custGeom>
            <a:avLst/>
            <a:gdLst>
              <a:gd name="textAreaLeft" fmla="*/ 0 w 685800"/>
              <a:gd name="textAreaRight" fmla="*/ 686160 w 6858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432" h="728">
                <a:moveTo>
                  <a:pt x="0" y="0"/>
                </a:moveTo>
                <a:lnTo>
                  <a:pt x="432" y="728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23"/>
          <p:cNvSpPr/>
          <p:nvPr/>
        </p:nvSpPr>
        <p:spPr>
          <a:xfrm>
            <a:off x="3851280" y="2924280"/>
            <a:ext cx="144000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reeform 24"/>
          <p:cNvSpPr/>
          <p:nvPr/>
        </p:nvSpPr>
        <p:spPr>
          <a:xfrm>
            <a:off x="6006960" y="4567320"/>
            <a:ext cx="1473480" cy="144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28" h="1">
                <a:moveTo>
                  <a:pt x="0" y="0"/>
                </a:moveTo>
                <a:lnTo>
                  <a:pt x="928" y="0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Freeform 25"/>
          <p:cNvSpPr/>
          <p:nvPr/>
        </p:nvSpPr>
        <p:spPr>
          <a:xfrm>
            <a:off x="5292720" y="2924280"/>
            <a:ext cx="714240" cy="1668240"/>
          </a:xfrm>
          <a:custGeom>
            <a:avLst/>
            <a:gdLst>
              <a:gd name="textAreaLeft" fmla="*/ 0 w 714240"/>
              <a:gd name="textAreaRight" fmla="*/ 714600 w 714240"/>
              <a:gd name="textAreaTop" fmla="*/ 0 h 1668240"/>
              <a:gd name="textAreaBottom" fmla="*/ 1668600 h 1668240"/>
            </a:gdLst>
            <a:ahLst/>
            <a:rect l="textAreaLeft" t="textAreaTop" r="textAreaRight" b="textAreaBottom"/>
            <a:pathLst>
              <a:path w="450" h="1051">
                <a:moveTo>
                  <a:pt x="0" y="0"/>
                </a:moveTo>
                <a:lnTo>
                  <a:pt x="450" y="1051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Line 26"/>
          <p:cNvSpPr/>
          <p:nvPr/>
        </p:nvSpPr>
        <p:spPr>
          <a:xfrm>
            <a:off x="1692360" y="1771560"/>
            <a:ext cx="0" cy="11527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Line 27"/>
          <p:cNvSpPr/>
          <p:nvPr/>
        </p:nvSpPr>
        <p:spPr>
          <a:xfrm>
            <a:off x="3132000" y="1771560"/>
            <a:ext cx="0" cy="11527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28"/>
          <p:cNvSpPr/>
          <p:nvPr/>
        </p:nvSpPr>
        <p:spPr>
          <a:xfrm>
            <a:off x="6006960" y="2941560"/>
            <a:ext cx="1800" cy="1600200"/>
          </a:xfrm>
          <a:custGeom>
            <a:avLst/>
            <a:gdLst>
              <a:gd name="textAreaLeft" fmla="*/ 0 w 1800"/>
              <a:gd name="textAreaRight" fmla="*/ 2160 w 18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" h="1008">
                <a:moveTo>
                  <a:pt x="0" y="0"/>
                </a:moveTo>
                <a:lnTo>
                  <a:pt x="0" y="1008"/>
                </a:lnTo>
              </a:path>
            </a:pathLst>
          </a:custGeom>
          <a:noFill/>
          <a:ln w="223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Freeform 29"/>
          <p:cNvSpPr/>
          <p:nvPr/>
        </p:nvSpPr>
        <p:spPr>
          <a:xfrm>
            <a:off x="7453440" y="2928960"/>
            <a:ext cx="1440" cy="1650960"/>
          </a:xfrm>
          <a:custGeom>
            <a:avLst/>
            <a:gdLst>
              <a:gd name="textAreaLeft" fmla="*/ 0 w 1440"/>
              <a:gd name="textAreaRight" fmla="*/ 1800 w 14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1" h="1040">
                <a:moveTo>
                  <a:pt x="1" y="0"/>
                </a:moveTo>
                <a:lnTo>
                  <a:pt x="0" y="1040"/>
                </a:lnTo>
              </a:path>
            </a:pathLst>
          </a:custGeom>
          <a:noFill/>
          <a:ln w="223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ext Box 30"/>
          <p:cNvSpPr/>
          <p:nvPr/>
        </p:nvSpPr>
        <p:spPr>
          <a:xfrm>
            <a:off x="1054080" y="1052640"/>
            <a:ext cx="7956720" cy="45972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афік швидкості автомобіля  v в залежності від часу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34"/>
          <p:cNvSpPr/>
          <p:nvPr/>
        </p:nvSpPr>
        <p:spPr>
          <a:xfrm>
            <a:off x="250920" y="4869000"/>
            <a:ext cx="633708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значення (за графіком) приймає 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 Box 35"/>
          <p:cNvSpPr/>
          <p:nvPr/>
        </p:nvSpPr>
        <p:spPr>
          <a:xfrm>
            <a:off x="6948360" y="486900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Text Box 36"/>
          <p:cNvSpPr/>
          <p:nvPr/>
        </p:nvSpPr>
        <p:spPr>
          <a:xfrm>
            <a:off x="250920" y="5516640"/>
            <a:ext cx="633708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значення (за графіком) приймає 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Text Box 37"/>
          <p:cNvSpPr/>
          <p:nvPr/>
        </p:nvSpPr>
        <p:spPr>
          <a:xfrm>
            <a:off x="6948360" y="551664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38"/>
          <p:cNvSpPr/>
          <p:nvPr/>
        </p:nvSpPr>
        <p:spPr>
          <a:xfrm>
            <a:off x="723960" y="6093000"/>
            <a:ext cx="34984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бласть визнач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Text Box 39"/>
          <p:cNvSpPr/>
          <p:nvPr/>
        </p:nvSpPr>
        <p:spPr>
          <a:xfrm>
            <a:off x="4788000" y="6093000"/>
            <a:ext cx="388764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бласть зна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Freeform 40"/>
          <p:cNvSpPr/>
          <p:nvPr/>
        </p:nvSpPr>
        <p:spPr>
          <a:xfrm>
            <a:off x="3124080" y="5308560"/>
            <a:ext cx="4686480" cy="889200"/>
          </a:xfrm>
          <a:custGeom>
            <a:avLst/>
            <a:gdLst>
              <a:gd name="textAreaLeft" fmla="*/ 0 w 4686480"/>
              <a:gd name="textAreaRight" fmla="*/ 4686480 w 46864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952" h="560">
                <a:moveTo>
                  <a:pt x="2952" y="0"/>
                </a:moveTo>
                <a:lnTo>
                  <a:pt x="0" y="56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Freeform 41"/>
          <p:cNvSpPr/>
          <p:nvPr/>
        </p:nvSpPr>
        <p:spPr>
          <a:xfrm>
            <a:off x="7277040" y="5905440"/>
            <a:ext cx="647640" cy="266760"/>
          </a:xfrm>
          <a:custGeom>
            <a:avLst/>
            <a:gdLst>
              <a:gd name="textAreaLeft" fmla="*/ 0 w 647640"/>
              <a:gd name="textAreaRight" fmla="*/ 648000 w 6476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08" h="168">
                <a:moveTo>
                  <a:pt x="408" y="0"/>
                </a:moveTo>
                <a:lnTo>
                  <a:pt x="0" y="16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Text Box 5"/>
          <p:cNvSpPr/>
          <p:nvPr/>
        </p:nvSpPr>
        <p:spPr>
          <a:xfrm>
            <a:off x="1267920" y="189000"/>
            <a:ext cx="149148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0" name="Group 12"/>
          <p:cNvGrpSpPr/>
          <p:nvPr/>
        </p:nvGrpSpPr>
        <p:grpSpPr>
          <a:xfrm>
            <a:off x="1908000" y="692280"/>
            <a:ext cx="7056720" cy="1557000"/>
            <a:chOff x="1908000" y="692280"/>
            <a:chExt cx="7056720" cy="1557000"/>
          </a:xfrm>
        </p:grpSpPr>
        <p:sp>
          <p:nvSpPr>
            <p:cNvPr id="2191" name="Text Box 7"/>
            <p:cNvSpPr/>
            <p:nvPr/>
          </p:nvSpPr>
          <p:spPr>
            <a:xfrm>
              <a:off x="1908000" y="692280"/>
              <a:ext cx="7056720" cy="155700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ункція задана формулою                        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  2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≤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≤ 9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Object 9" descr=""/>
            <p:cNvPicPr/>
            <p:nvPr/>
          </p:nvPicPr>
          <p:blipFill>
            <a:blip r:embed="rId2"/>
            <a:stretch/>
          </p:blipFill>
          <p:spPr>
            <a:xfrm>
              <a:off x="5796000" y="723960"/>
              <a:ext cx="295272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3" name="Oval 11"/>
          <p:cNvSpPr/>
          <p:nvPr/>
        </p:nvSpPr>
        <p:spPr>
          <a:xfrm>
            <a:off x="1403280" y="126828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 Box 13"/>
          <p:cNvSpPr/>
          <p:nvPr/>
        </p:nvSpPr>
        <p:spPr>
          <a:xfrm>
            <a:off x="1493280" y="2360520"/>
            <a:ext cx="7341840" cy="825480"/>
          </a:xfrm>
          <a:prstGeom prst="rect">
            <a:avLst/>
          </a:prstGeom>
          <a:solidFill>
            <a:srgbClr val="99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цьому прикладі область визначення вказана – вс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енн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що задовольняють умову 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5" name="Group 17"/>
          <p:cNvGrpSpPr/>
          <p:nvPr/>
        </p:nvGrpSpPr>
        <p:grpSpPr>
          <a:xfrm>
            <a:off x="1908000" y="3259080"/>
            <a:ext cx="7056720" cy="1193760"/>
            <a:chOff x="1908000" y="3259080"/>
            <a:chExt cx="7056720" cy="1193760"/>
          </a:xfrm>
        </p:grpSpPr>
        <p:sp>
          <p:nvSpPr>
            <p:cNvPr id="2196" name="Text Box 18"/>
            <p:cNvSpPr/>
            <p:nvPr/>
          </p:nvSpPr>
          <p:spPr>
            <a:xfrm>
              <a:off x="1908000" y="3259080"/>
              <a:ext cx="7056720" cy="119124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ункція задана формулою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7" name="Object 19" descr=""/>
            <p:cNvPicPr/>
            <p:nvPr/>
          </p:nvPicPr>
          <p:blipFill>
            <a:blip r:embed="rId3"/>
            <a:stretch/>
          </p:blipFill>
          <p:spPr>
            <a:xfrm>
              <a:off x="5796000" y="3290760"/>
              <a:ext cx="295272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8" name="Oval 20"/>
          <p:cNvSpPr/>
          <p:nvPr/>
        </p:nvSpPr>
        <p:spPr>
          <a:xfrm>
            <a:off x="1403280" y="3683160"/>
            <a:ext cx="43200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21"/>
          <p:cNvSpPr/>
          <p:nvPr/>
        </p:nvSpPr>
        <p:spPr>
          <a:xfrm>
            <a:off x="1436760" y="4581360"/>
            <a:ext cx="7273800" cy="1191240"/>
          </a:xfrm>
          <a:prstGeom prst="rect">
            <a:avLst/>
          </a:prstGeom>
          <a:solidFill>
            <a:srgbClr val="99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цьому випадку область визначення не зад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йдемо значення аргументу, при якому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мула для функції має зміс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0" name="Picture 10" descr="C:\Users\Ирина Михайловна\Desktop\MOI7.gif"/>
          <p:cNvPicPr/>
          <p:nvPr/>
        </p:nvPicPr>
        <p:blipFill>
          <a:blip r:embed="rId4"/>
          <a:stretch/>
        </p:blipFill>
        <p:spPr>
          <a:xfrm>
            <a:off x="7750080" y="5340240"/>
            <a:ext cx="12146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TextBox 4"/>
          <p:cNvSpPr/>
          <p:nvPr/>
        </p:nvSpPr>
        <p:spPr>
          <a:xfrm>
            <a:off x="324000" y="124920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Табличний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за допомогою табли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2" name=""/>
          <p:cNvGraphicFramePr/>
          <p:nvPr/>
        </p:nvGraphicFramePr>
        <p:xfrm>
          <a:off x="324000" y="1944720"/>
          <a:ext cx="3840120" cy="817560"/>
        </p:xfrm>
        <a:graphic>
          <a:graphicData uri="http://schemas.openxmlformats.org/drawingml/2006/table">
            <a:tbl>
              <a:tblPr/>
              <a:tblGrid>
                <a:gridCol w="639720"/>
                <a:gridCol w="639720"/>
                <a:gridCol w="639720"/>
                <a:gridCol w="641160"/>
                <a:gridCol w="640080"/>
                <a:gridCol w="639720"/>
              </a:tblGrid>
              <a:tr h="409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2203" name="TextBox 6"/>
          <p:cNvSpPr/>
          <p:nvPr/>
        </p:nvSpPr>
        <p:spPr>
          <a:xfrm>
            <a:off x="361800" y="2930400"/>
            <a:ext cx="43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Аналітичний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за допомогою математичної форм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Object 2" descr=""/>
          <p:cNvPicPr/>
          <p:nvPr/>
        </p:nvPicPr>
        <p:blipFill>
          <a:blip r:embed="rId2"/>
          <a:stretch/>
        </p:blipFill>
        <p:spPr>
          <a:xfrm>
            <a:off x="1440000" y="3638520"/>
            <a:ext cx="1098360" cy="503280"/>
          </a:xfrm>
          <a:prstGeom prst="rect">
            <a:avLst/>
          </a:prstGeom>
          <a:ln w="0">
            <a:noFill/>
          </a:ln>
        </p:spPr>
      </p:pic>
      <p:sp>
        <p:nvSpPr>
          <p:cNvPr id="2205" name="TextBox 8"/>
          <p:cNvSpPr/>
          <p:nvPr/>
        </p:nvSpPr>
        <p:spPr>
          <a:xfrm>
            <a:off x="5214960" y="12654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Графічний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за допомогою графі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6" name="Picture 4" descr=""/>
          <p:cNvPicPr/>
          <p:nvPr/>
        </p:nvPicPr>
        <p:blipFill>
          <a:blip r:embed="rId3"/>
          <a:srcRect l="0" t="0" r="-103" b="0"/>
          <a:stretch/>
        </p:blipFill>
        <p:spPr>
          <a:xfrm>
            <a:off x="5700600" y="2419200"/>
            <a:ext cx="2745000" cy="38577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207" name="TextBox 6"/>
          <p:cNvSpPr/>
          <p:nvPr/>
        </p:nvSpPr>
        <p:spPr>
          <a:xfrm>
            <a:off x="324000" y="4149720"/>
            <a:ext cx="5038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Описовий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словесним опи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ому цілому числу поставити у відповідність його квадр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Полілінія 11"/>
          <p:cNvSpPr/>
          <p:nvPr/>
        </p:nvSpPr>
        <p:spPr>
          <a:xfrm>
            <a:off x="6084720" y="2592360"/>
            <a:ext cx="2144880" cy="3414600"/>
          </a:xfrm>
          <a:custGeom>
            <a:avLst/>
            <a:gdLst/>
            <a:ahLst/>
            <a:rect l="l" t="t" r="r" b="b"/>
            <a:pathLst>
              <a:path w="2381250" h="3414651">
                <a:moveTo>
                  <a:pt x="0" y="2703391"/>
                </a:moveTo>
                <a:cubicBezTo>
                  <a:pt x="87312" y="1954091"/>
                  <a:pt x="337910" y="3458133"/>
                  <a:pt x="487135" y="3413683"/>
                </a:cubicBezTo>
                <a:cubicBezTo>
                  <a:pt x="636360" y="3369233"/>
                  <a:pt x="749527" y="3002295"/>
                  <a:pt x="895350" y="2436691"/>
                </a:cubicBezTo>
                <a:cubicBezTo>
                  <a:pt x="1041173" y="1871088"/>
                  <a:pt x="1197202" y="213964"/>
                  <a:pt x="1362075" y="20062"/>
                </a:cubicBezTo>
                <a:cubicBezTo>
                  <a:pt x="1526948" y="-173840"/>
                  <a:pt x="1775138" y="1097295"/>
                  <a:pt x="1884589" y="1273281"/>
                </a:cubicBezTo>
                <a:cubicBezTo>
                  <a:pt x="1994041" y="1449267"/>
                  <a:pt x="1996417" y="1310020"/>
                  <a:pt x="2079194" y="1108634"/>
                </a:cubicBezTo>
                <a:cubicBezTo>
                  <a:pt x="2161971" y="907248"/>
                  <a:pt x="2320839" y="233468"/>
                  <a:pt x="2381250" y="64966"/>
                </a:cubicBezTo>
              </a:path>
            </a:pathLst>
          </a:custGeom>
          <a:noFill/>
          <a:ln w="316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TextBox 12"/>
          <p:cNvSpPr/>
          <p:nvPr/>
        </p:nvSpPr>
        <p:spPr>
          <a:xfrm>
            <a:off x="1276920" y="488880"/>
            <a:ext cx="63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cc"/>
                </a:solidFill>
                <a:latin typeface="Constantia"/>
                <a:ea typeface="Arial"/>
              </a:rPr>
              <a:t>Способи задання функ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Управляющая кнопка: назад 1"/>
          <p:cNvSpPr/>
          <p:nvPr/>
        </p:nvSpPr>
        <p:spPr>
          <a:xfrm>
            <a:off x="8317080" y="0"/>
            <a:ext cx="826920" cy="811080"/>
          </a:xfrm>
          <a:custGeom>
            <a:avLst/>
            <a:gdLst>
              <a:gd name="textAreaLeft" fmla="*/ 52560 w 826920"/>
              <a:gd name="textAreaRight" fmla="*/ 774360 w 826920"/>
              <a:gd name="textAreaTop" fmla="*/ 52560 h 811080"/>
              <a:gd name="textAreaBottom" fmla="*/ 758520 h 811080"/>
            </a:gdLst>
            <a:ahLst/>
            <a:rect l="textAreaLeft" t="textAreaTop" r="textAreaRight" b="textAreaBottom"/>
            <a:pathLst>
              <a:path w="22022" h="21600">
                <a:moveTo>
                  <a:pt x="0" y="0"/>
                </a:moveTo>
                <a:lnTo>
                  <a:pt x="22022" y="0"/>
                </a:lnTo>
                <a:lnTo>
                  <a:pt x="22022" y="21600"/>
                </a:lnTo>
                <a:lnTo>
                  <a:pt x="0" y="21600"/>
                </a:lnTo>
                <a:close/>
              </a:path>
              <a:path fill="lightenLess" w="22022" h="21600">
                <a:moveTo>
                  <a:pt x="0" y="0"/>
                </a:moveTo>
                <a:lnTo>
                  <a:pt x="22022" y="0"/>
                </a:lnTo>
                <a:lnTo>
                  <a:pt x="20622" y="1400"/>
                </a:lnTo>
                <a:lnTo>
                  <a:pt x="1400" y="1400"/>
                </a:lnTo>
                <a:close/>
              </a:path>
              <a:path fill="darken" w="22022" h="21600">
                <a:moveTo>
                  <a:pt x="22022" y="0"/>
                </a:moveTo>
                <a:lnTo>
                  <a:pt x="22022" y="21600"/>
                </a:lnTo>
                <a:lnTo>
                  <a:pt x="20622" y="20200"/>
                </a:lnTo>
                <a:lnTo>
                  <a:pt x="20622" y="1400"/>
                </a:lnTo>
                <a:close/>
              </a:path>
              <a:path fill="darkenLess" w="22022" h="21600">
                <a:moveTo>
                  <a:pt x="22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22" y="20200"/>
                </a:lnTo>
                <a:close/>
              </a:path>
              <a:path fill="lighten" w="22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22" h="21600">
                <a:moveTo>
                  <a:pt x="4004" y="10800"/>
                </a:moveTo>
                <a:lnTo>
                  <a:pt x="18017" y="3794"/>
                </a:lnTo>
                <a:lnTo>
                  <a:pt x="180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23:02:43Z</dcterms:created>
  <dc:creator>MAMA</dc:creator>
  <dc:description/>
  <dc:language>en-US</dc:language>
  <cp:lastModifiedBy>Admin</cp:lastModifiedBy>
  <dcterms:modified xsi:type="dcterms:W3CDTF">2013-02-22T08:02:57Z</dcterms:modified>
  <cp:revision>67</cp:revision>
  <dc:subject/>
  <dc:title>Функция. График функц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2a000000000001024140</vt:lpwstr>
  </property>
</Properties>
</file>