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8.gif" ContentType="image/gif"/>
  <Override PartName="/ppt/media/image23.wmf" ContentType="image/x-wmf"/>
  <Override PartName="/ppt/media/image6.png" ContentType="image/png"/>
  <Override PartName="/ppt/media/image29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16.wmf" ContentType="image/x-wmf"/>
  <Override PartName="/ppt/media/image8.png" ContentType="image/png"/>
  <Override PartName="/ppt/media/image32.jpeg" ContentType="image/jpeg"/>
  <Override PartName="/ppt/media/image13.png" ContentType="image/png"/>
  <Override PartName="/ppt/media/image33.gif" ContentType="image/gif"/>
  <Override PartName="/ppt/media/image19.wmf" ContentType="image/x-wmf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drumroll.wav" ContentType="audio/x-wav"/>
  <Override PartName="/ppt/media/image15.png" ContentType="image/png"/>
  <Override PartName="/ppt/media/image1.png" ContentType="image/png"/>
  <Override PartName="/ppt/media/image14.gif" ContentType="image/gif"/>
  <Override PartName="/ppt/media/image21.wmf" ContentType="image/x-wmf"/>
  <Override PartName="/ppt/media/image18.png" ContentType="image/png"/>
  <Override PartName="/ppt/media/image20.jpeg" ContentType="image/jpeg"/>
  <Override PartName="/ppt/media/image22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dt" idx="14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 type="ftr" idx="14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6"/>
          <p:cNvSpPr>
            <a:spLocks noGrp="1"/>
          </p:cNvSpPr>
          <p:nvPr>
            <p:ph type="sldNum" idx="15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5CFD-3704-4E81-8C56-FEBAA7413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3DBD-18D2-4D35-A1B3-BD837B2AD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E98-0B9A-47FD-B915-ACCCB3C9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6E1-7D91-4749-B77D-B46FFB65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CB350-3153-4278-8B32-435FEA4E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C42C2-B6FE-48A6-BA68-AABBF9B8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F5A69-4B3D-41ED-952E-47AD61E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799FC-2067-43CD-AAB4-F8AD7454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2C477-FAFD-4870-9373-AED2D22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3A748-4831-49CE-9DB9-2BCEDC7E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11D63-E990-45E0-AA8A-5D2FFEA3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CFF83-588D-46E5-A7F6-7DB89AA3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C8733-EEAD-4697-85F4-94194DCD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7608B-12EB-4981-A9F8-06E719AA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5E5-23A7-45E6-B072-7BB723D5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640C8-B1BB-47B6-8876-B1C54794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400BD-61E3-4022-99AF-0BDA4498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7A3E5-14A9-49D8-8BD9-5CD4D8BF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C1E58-95F4-4BCA-A21D-BAA3463E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1591E-2F43-44A9-9050-5148C0F2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56B11-16C2-425C-97BB-677E12DA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4267A-773C-4BF9-9343-7B50792B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1EDF4-EF9E-4646-B7D1-B66A5BD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6304F-A82E-45B5-B003-D78C3E9F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94317-FC97-466C-85FD-C6611839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B29-BAAD-4D43-B8B4-E0CD770A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53103-419A-4E20-93E5-FC2B0D6A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EC576-3DD3-417F-92FD-E3368654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F801F-92B7-4C5E-AACE-60555162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2D9B9-6A6C-4460-AF4F-8800A626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C1DAE-2C0D-470B-B0FD-9B3A24AC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ECA09-7FD0-4A45-B05A-60257492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E8707-5045-4DA4-9B84-7DAAE6BD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35580-8336-45CA-967E-29686CE2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B4FAF-B3F9-43A6-A965-7F1394B2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D4C90-A404-4F5B-A258-FC87E71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6D89-82E6-44D4-A3D3-931D0574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252AC-9EE6-4C88-BBAB-777CD584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BF7A6-C016-4A33-BF45-532458B3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8F62C-1C92-4C8A-A8CC-04315EBD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A184F-B5F9-46D8-BA01-DE043EA9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BB6BD-EA76-4E69-825C-FEDD9648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AC253-5FBA-468F-8B93-7CFBDBCF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98522-D00E-4707-AFD6-830538ED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FD7FA-3AAC-4655-B8A6-C9298F79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93C6E-82B6-4C33-AB0D-75D15461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055C4-0E83-4EC5-9979-5D1E234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7FAA-15C5-4256-8B1A-E661CF29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E12E5-0E52-450D-90A1-32E9B109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8F771-9F57-4F79-AE1C-65BE784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38370-F3F3-4213-A01B-1E0F219D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828A5-36D5-46D9-9AC7-08E99CC0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77F75-D0F4-4DDC-A687-B3348A9E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3B409-BF89-4E42-8D8B-2B8EEC13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20C95-4E72-4DE2-BE3E-1B236624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85E3A-61BC-45B0-8F73-DF9B53F4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E568E-90D3-4311-9955-2613BB46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D8DA5-C21C-4CEA-A690-9B072BD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7292-B446-49C3-A55C-428BAD1E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29E56-2B84-409E-B889-FFB50467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F3B6A-AF8C-4E6A-83BF-2C47FE6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F22D0-A686-4394-9B3C-7535E7A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28B1C-AAA0-470E-B956-13574D32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33F25-8722-4D98-B63A-D1658EA7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05140-150B-4D57-B296-2BF1B5E8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95956-40FA-4BC5-95AA-06F453F7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11ABF-4E7F-45E2-9D97-BEAE26A0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7929E-6882-46DE-8410-396E468A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9EECC-B0CD-439B-A776-F773C47F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D427-4AC2-4E0C-8EAB-919B606F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D765E-CB00-43BC-B70E-CBE470CD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2B2D0-DD4B-4A84-BF91-F68A879F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AB8FB-4C4E-4260-BFB1-0A2BDFAA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9F56E-1504-49C4-96B6-1DBB4992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D2A6F-BF06-4BB5-ADCE-DAA3FFA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4C05E-3E82-407C-BD0C-4E24C966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DA910-ADD6-42EB-A2E8-F788703A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D2DCB-5320-424C-A418-CD95B1ED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72483-4256-479C-93F2-8CA24D6B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B41F7-D93E-4371-B170-D51ED41C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3EEA-3C23-4239-8C69-FDDB8476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00CBD-5833-41DD-AADD-31CD61EE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8CCE1-997A-4E4B-BF8C-687D3859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884EF8-BC50-40BE-8143-503675B7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C6068-EE62-4911-9F5C-461409D0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453E2-CC1D-4862-8C88-88A53625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76FF9-B2A8-4D08-8753-6A8275AE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FCE54-398A-44EA-95D7-398AF06F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13380-1BE9-4D43-B769-C58DAB7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1A16F-33B5-4407-96B4-6379C434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BC98F-DA94-4D4C-B293-09D49F82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2C75-79A9-43FD-B457-2C3C0AC5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E8A668-C711-4FAC-8E1A-6C038DEF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E2010-1DDA-4AA2-B0A1-4C92F227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531A4-04A5-4448-BEDF-A9C38805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DFE41-2928-4F3C-A0C3-8E65A889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C59A8-51E7-4CFD-908B-25D9E8B3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8C103-7697-4A78-B7D8-6EA295A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6F210-C4E0-4AFC-A636-CE2806B7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CA546-7ED1-4C19-89E9-8520A72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507AF-EB1B-443C-82F6-FDC509BA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DAC13-4B0E-4C7F-956A-A76D84A9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4776-1890-47E9-B339-3BA94DEC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253FB-D87A-4CE7-9B03-7E9F4ED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38A53-CD05-4027-8E89-BC267DF8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AF7AA-2848-40CB-B9F2-04251AE5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270B3-354D-4D1F-BF23-55989974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F4FD5-A824-4067-A0E0-A4BFA1B8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875E9-7780-4B73-86FB-46A00D71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A274C-1E04-4268-B0FB-EF8DD986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EADF3-FABB-4BC0-97B1-0D09F9C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BC8FC-E277-4B23-9184-369F76FF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9EE22-D533-4233-BDC5-545125E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FC8-EEC7-4227-AF81-69376F6A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814A-FA3F-4A59-88E3-DE3CBB8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51B00-BD1E-4671-850F-A7CA64D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D16D5-5B67-4390-952F-B76F0B9F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C6884-EFC3-4C5A-9000-0CBF20CC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B7AC8-F855-4E81-A54E-FEA49F8C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88439-2843-49F8-BB85-D5356017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38C46E-97A5-4630-95BD-119652C2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2D43BD-E037-44C6-93A4-5568D58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B943A7-498E-49B2-A970-334D275C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AD3423-9856-4E27-85CB-587C182E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D9823F-4449-435B-B7E9-3408695B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D5C5-40D6-49EF-AE96-0936DD1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30081B4-B890-42A1-8394-D8980964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F540D2-38D4-4D8D-B43F-93587F9E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E7D022-57FA-4CD8-A705-0C928D9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23EDE0-9FCA-4519-84A2-B203B2C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7D13FD-E5BA-42BF-89D0-D09C0CC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891B68-F734-41C5-9F51-A4064B14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5EB8E8-2D99-4A71-85E0-08F1E24C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D1FAE-B69D-440A-9572-BB60F780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AE76F-12BE-495A-AC17-46DA0CBD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67C2C-1D94-4ECA-B9E8-CE8345FD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2EA0-95ED-483E-B24A-D7514940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F0A13-D633-4D5D-B19A-72E535D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C5E8B-4599-4326-AC51-72A27817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B455DC-335C-4861-A8B1-7D255623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3256D-8CC6-4F13-8DE8-DA62B12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5ABE8-F2B9-4EB9-A9CD-377A92F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E669F-F330-491B-9284-F66064A5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C57F66-63C2-4921-BE0D-CBFF65B7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3AF8D0-737C-494F-B763-65C436AB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2D934-467D-447A-A2D7-D7DF5FD6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E6E744-F7A1-4197-91F2-84BD32C5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6FDF-681C-4AF1-8C76-3B1F436C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B320C-10D2-4E73-B425-E05803C6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F71E7-4611-432D-904F-FD6D1A6D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49284-B21B-4618-B2D5-77259F77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80E281-AFD1-47A6-9CFD-687E0FB0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EAD05-18EE-49DF-AB92-3695E2D8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ADB1E-5890-4428-BD6D-2C124C7A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37D33-BE90-4836-9499-66D0104A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92E780-E55A-4744-9CDE-DC055F4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59A8B-716A-4646-85C4-566EB2D1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0D300-71C9-4ADE-967E-F1078B11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C3A5-2807-4308-88EB-89ADE2F1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180B97-CB1B-40BD-9913-89A4204D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41E51-9EDC-4B4E-8838-0C8A8658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4337C-44E6-41C8-B34C-102D4A7B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7238A-119C-4EF1-ADB1-C3DE1302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471B4D-A0BC-49D6-AF0C-6F167DC6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EB9E0-884F-4CEE-9CBC-CAC810D1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7C9965-A974-4E92-A890-5F8A13DD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78898-63F0-42A2-B587-6B6C889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E8F60-A134-44FE-A3FB-B85F9C47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777C5-A2A5-418B-8DB1-0BDF6FF5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1955-611C-4905-9DA0-A94AE550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22C01-AABE-49D4-945F-4417AEAF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D24CE3-0E93-4130-9027-2C20A071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0859D-72EE-49B5-8750-C3D0A325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7CC2D1-D1E8-403D-B2FE-069C6F0D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F3F180-A413-42C5-8A14-F0C2C7E9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C5C6C-7EEA-464E-B719-7E77C6B0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B2E50F-922E-4BE5-9C9A-FE139A01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144430-4B8C-4EA6-BAC7-48E78F3C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FC8449-D383-482B-B4F1-786A2349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4451ED-DDF8-4037-AB69-2344872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A7BA-EE07-4133-8AFF-A2223E4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438002-C6AD-46B2-9B14-EB450285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0CAF9E-53D6-4C63-A55F-00E54F21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79D26C-26CF-4B8F-9207-DCFCDC31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9F6F2C-E9E0-4A9F-BC82-756C1252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D91116-A920-4414-95EC-1C24C6DC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24BA36-17D6-4E27-964F-C146557B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A8055-3C4F-4A13-BFA0-6D8891F4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88DB28-8C8D-41C0-B04E-06D8FD0F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B6F2DA-6518-48F2-B4F8-0882A1C5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182F1C-26ED-4ECC-A066-5E19748F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E692-6910-400E-A2C1-2D134C03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E68913-D2F9-44C9-95F3-EB26663B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A835C7-2E80-4F66-8CF8-7F25804E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9C4850-1C2A-4F21-AF2F-E23C8E5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6DA3A7-2D99-4A0E-9946-A8535A60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39CA34-EC8C-4C7B-9A15-0AA17E55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C1DF2-F617-47AC-8CB3-8F455C68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6B815D-86A7-49E7-B08C-02BB876A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036017-74EA-4EEB-9798-5FCC7201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245E69-87B7-4317-B018-4DC9D80A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A789FD-6FF0-498B-A3EC-D0C84A12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939D-C58C-43EE-A76A-E4D4331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4FA8E0-52E7-401C-8A99-93C4B375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20EAB2-E162-41D9-AC94-08694812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969118-80E9-49DE-9515-80046B23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030FE4-CA5A-44A6-9EF9-7BEDDCBF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72D424-A4DC-4350-BB65-CD980F2A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FF6FF7-6E96-4658-9857-03BE56E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B76FEA-8E92-4AC2-9076-51111F1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51BFF8-B8C4-4A6F-A723-4681948B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DC564D-8E8A-4FCF-B44C-826B34E4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A245F2-3A28-43C0-8FF3-3E0B0DA0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3E6A-87CA-46C6-9EA8-42A0FE57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5114A6-4E29-4E9D-9722-1C49EB3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CEF8BF-47E4-4599-B6E0-65CFD4F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C39553-2FD4-4D38-8F83-512161F9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413F18-B96A-4DB3-A4DF-969C4D02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A34BD4-29A4-4D5F-9DA5-F324F0C2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8E88E0-6266-45F7-9C6B-3D84E714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889270-206A-4075-B14E-F3F2E20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911439-24A5-432E-AD1A-17E4E7F2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1C7D5F-6E17-4BD4-8AB7-1ED7E890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9F4320-4D85-4088-9FBB-1D862683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C92-C0CC-42E6-B7F8-4EAF64C1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2588-76C2-41B5-908C-1350D153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62CD06-2BD0-4D17-A803-B92C2D16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AC02B9-7AB4-47AA-B3E9-A038B13C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357043-1D3E-41B9-96A1-52F49258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4E88D0-C2B2-42FA-AC9A-F59E89CD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16F060-0EC0-4895-8181-534A9CCC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EA3851-2AFC-4407-AFF7-416347A6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81E432-64F3-4917-B416-76CB2B3D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201D9F-8A44-4DE8-B119-CD5A0C7C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D9AC89-D59B-418B-9975-568ABAF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F3C716-1D7B-4824-9DE6-51363081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E5B9-DF84-413E-875D-E264958F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AAF339-476B-46C6-8ACD-40008972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B56143-2FAC-47D0-91F7-7B920554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EDBAA2-1243-48DA-B41D-A51F7C2F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E07E4C-B5BB-408D-8E29-9FB6B2B8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17538C-DB35-483A-A80F-D931AA4A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31603F-DADE-4CAD-80E2-0B413968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7065F4-9145-406D-9742-1E5DA77B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4950F5-6218-4886-8197-06543D67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552BC1-7085-4F96-8F8B-AE90FF68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FAF7E7-543E-4067-8C21-7408AF6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CA34-6CEE-4249-8838-33A3A039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321697-4FAB-48FC-9D87-337B8E54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DFB0F0-8E26-4CC5-8EC2-2375C47C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4F69C9-A4EB-49D3-97AB-F2EF5AF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60F93A-1E85-4B8D-8BF3-D9DBBD20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38928B-6FC6-434B-8472-2616F472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6A34DA-0FFD-4A2D-B817-57FBAAD1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99578D-30FF-430A-B469-6353BA9E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6B9374-1D6B-4E2D-826D-55AF1F30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F30A36-E865-4A0C-82EC-8D7B0AD4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BCD790-41CC-42F1-91EE-1F0C62F1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69D1-DB4C-4355-8259-43B15C3A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0043C1-3E90-4CE5-ACBC-562ED01A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9C51A0-E13D-4B77-B6BE-D15A0AC8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0F627B-0B3F-4FAC-8F03-5742353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BCC8D9-1C19-48EE-B073-BE70C524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7145E1-00FF-4006-B256-DD9C11B8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0BAC19-0537-4472-AFCF-5C713772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8D0BCC-B972-4BFD-8C39-83DB4E0A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ACBE2D-E059-4FCA-BBCE-074F4C7B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9CA412-7C7A-43EC-94AD-AEE2893C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8621DD-5118-40FC-AD08-6D4DF4CA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E5D7-11CE-4482-8830-B11183BB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D35A96-2EE0-4B8D-AC9A-CCECD0C6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6F1033-49FE-4FCE-92A4-28E45D1D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857148-F6EB-4C07-B1AF-2D2B4FA0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C5FADE-9F35-4F43-94E3-3962CBA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B8F42B-FFC8-4E18-B19F-E786FD9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53A81E-181A-4F91-AAE5-676EA69D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CD6EE8-C2D3-4184-8F52-2EA10095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638B66-97F1-43AC-8446-8C1D9708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812CFF-DB12-44E1-8005-0F4B761D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3AEB25-0087-4BAF-84B9-309678A5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FBD9-E663-47C6-A139-244F14D5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39BBA9-B8A2-4795-A32D-2523A9F0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85FB05-F1D6-47C0-B093-10EFB0F6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AE11FD-88D0-4FFD-89F3-A4170EC3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A702A8-7E1C-43FB-AD07-DBB8807A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F28B52-59F4-4CDD-A2B2-24AEBDF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755F8A-6B56-40DB-BE2F-DB9B929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969BE3-3126-4173-9AA6-28F65CD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5F39CC-F5DA-4B19-8400-70A74D01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E0F6CB-A24A-46B8-ADD1-F2A03B2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CA4F26-220A-4B88-BA36-69EE9C88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5FCD-F388-4930-BF7D-0E13B53A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105386-82F3-4B45-AE01-E68F88D0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DE00F8-54BF-4BD9-BDBA-FA097F94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E6FCCC-F63E-49FA-846B-FAE532B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7A51B7-2889-468D-B57D-074B86D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09E169-22E4-4B10-8D04-3B168D6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CFF398-03DA-41EB-9CD0-D154E635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3AD459-1FC9-44C5-8249-AF1F96AB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4FCFA3-61D4-4B41-A04F-048A1950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E751F4-D105-4809-B744-F49903D4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1A771A-EF88-4F2E-A9B5-38A79AB4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C3D1-13F2-4BED-8A32-EB513E17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A8B1E6-2DA9-4247-87F1-D3A20E9C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C3171-38BA-40B0-977F-CFCD71B0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E55110-6217-4131-BA44-D0487A48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EA4662-8057-4963-A64D-041A9FA1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1B777F-F5C5-4464-A5AA-EE4B4236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6A5E50-155A-49DD-B5B9-D6E8636B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16300E-F178-451B-9693-4665589A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305E79-FFA1-4F89-A600-0B9A06C7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F32B84-C837-4948-BD64-BCB56ABD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6C8562-CAF6-4621-8F91-F3F057C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D77D-7AEF-4FEC-9913-2B2DA565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149CCE-9683-4B82-BBDB-66EB9CB1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2F208B-64EB-4DD0-9381-AEC079EE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1DC073-BE6D-4BEF-9F47-6162FE35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F9E363-CE3B-47BE-BD55-F5B5CEF2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7A1645-45C3-4083-8827-205830C6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9B3455-6AB4-450C-810D-8D26BB55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F33141-C4B8-410C-8F07-5D5A688F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FCCB73-947E-4D6D-A74F-A470EF2F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74FE64-348B-4761-81AE-79AC81E8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A5F1A6-216E-497E-93CE-A2F13ED3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B771-565F-4417-917D-218AF4DF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CCECB2-10BA-49FD-91EF-0BB6691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363273-E745-42C6-ABA5-513FEB7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C73848-8993-4A3C-BA13-FBDABD85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112383-0558-4CD8-B793-9C84C2DF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BDFE31-4CC7-40D4-AC93-F21E6F14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AE9601-8F0F-4F25-BC63-7BCC5C8A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5F5AA0-E6BB-4EC6-8B58-4DC27740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01A0A5-6E71-4F90-81A1-7635DA26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CF1EAF-7D21-4335-8F07-6CB07C8C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B03355-E006-4DF0-9CC4-7E9267A4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CD7-E055-4606-8DD8-DB0E434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2113D-2FC4-4948-A068-487BE168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9BC655-9BAA-48D0-A564-45FAB08D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8BB155-2BB4-4053-B54D-BD431B54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33CB7F-C3A8-4219-B7D4-448FB8B2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3A7F69-78C8-41A3-AA6E-2CD44E03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254C19-97B8-4DD0-B967-CE7DBB67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E65492-0B6C-43DE-9A19-2DF5F02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8995AA-C074-46DB-A91F-9E9818F3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4EA5A9-D223-4C79-8CEE-25FB2BB2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7FACD7-C89D-43F3-BC0F-BEECE080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A394C6-E886-4B8E-9CB0-317ED68F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22FC-6467-48CF-AA0B-F650F6D0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0EC983-7D12-4BD0-8857-841D2AF9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E52CB7-D528-4674-95A6-B19FC9BB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8153CB-33EC-4885-ACBF-D1B64FF9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673DF9-1FCF-43C3-886C-8781F374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12E0BC-0A4F-4432-BD38-9F482774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0192EE-3706-4C69-AF95-C4D320F6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F3FA87-AA59-4590-8F71-226DDAD0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A8DF68-C3A9-4434-8784-5D5DBE1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6B3D15-4608-43DD-98B2-3FA203A0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EF6A7D-4D57-4626-A4BE-86B96DE6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7BE6-B3C8-4EF1-A308-324BAC6F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66C800-D1C3-4B86-BAC8-FFC25163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FBE7BC-FCB4-4F30-A2FD-BA8F4300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89021C-94C6-4517-A807-2B01FEF7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CB198E-56FE-4817-B528-A3864216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1039EB-4CC6-4EF7-A525-A7481E9D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9C9ACF-A8C6-4F1B-AA04-732D1DED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D4DC91-8FD8-429D-8781-90770ADE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587E39-4077-4913-8888-2C671EC8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90087D-A6D1-4BCD-AABC-CA7A4B6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6424E9-6582-4703-8C04-1C275FF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9BC3-9437-42AF-89DC-E2EBF63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FEF564-68D2-40D1-A790-086281FE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D7FD41-8A56-473B-98CF-46C0FA90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48511E-A5D7-4BC7-9D85-4E07D8D2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AC89DB-33F7-4553-A74A-4F3321C6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139270-2E4F-4428-839C-9366C87A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DE2FED-C3D9-4F44-AAA4-D9115005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2B1B83-F979-45C6-A7B5-8C725A03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C4C707-E9E6-467C-A35C-25411A15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6973BE-D8DC-415E-8838-C32CCC03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3ADBB6-D4B0-4908-900F-BE4BD28D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BEC9-7DBE-4661-8FCB-E6E24BC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066DEE-4992-4A72-97CD-B40EAFD4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5057AD-2BD4-4053-84B6-4960846C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0E404B-C509-4E4E-88F6-5019997C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E55CB2-CFBC-4A0B-B936-8A088549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3426C8-9FC3-4C62-BF1D-776D8589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D78083-A915-4E20-9568-F626102F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D8A5C7-AC7D-4361-9836-65DA07CD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2B4C70-5AEF-41F6-8A3B-00F56391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BDCECC5-C716-4D1F-8A62-0A4AE75C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C49B76-4DF4-454D-96B5-856E78E8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692F-ED13-4927-96DE-9293388B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B458B4-5857-46C3-94B1-F0BBD86D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B3CD2B-FCF8-4423-8E70-DDED692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F5A4A9-C526-49C8-A277-571136D3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2BC4A6-56A0-4C84-8E75-C2DC8379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6296D00-A90E-44ED-8152-F5E6F510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DBC949E-7214-427D-ACA8-89485105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E8B44D-1AF9-48A9-8597-C7DC7C80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C97C8B-A882-47C5-8D9D-15147552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A7BA56-A89C-49F8-8E16-787F93E8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E8A40E-97D7-45B4-9DF3-0E29EF99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67F6-676E-4839-888C-429DE4B3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EB8610-CCD0-48D5-BD8B-9584F930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32D624-C290-49D8-AC4C-47443915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8C39A2-62FE-49B1-B929-A729FEB2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FE6A16-DA84-4237-9489-5473DEC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5363A5-0C9E-4702-A194-3517745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B6969FD-9C2D-4585-8828-191E7D9E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707E6E-8149-44F0-9A43-9475FF3E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E6FB6A-D282-4B99-BC28-00AF0E04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798C9E-6476-416E-AEB9-D68DEDC6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972AAF-D866-4DD6-8201-C0932EAB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4B858-963D-4B34-B2F6-11423CA1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75B345-65C9-48D6-B96F-A0B286AD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4D9171-A6E3-4F58-B70A-01F7C57D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43AE4C-C399-471D-AB04-90869CE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2416466-6DFC-4A50-9EA3-9B92EA24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1794B4-AAB6-40AE-817E-2980812E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3C6168-C3B1-418B-A776-5B05E63D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A80D5C-507A-40A0-BF7C-37DA5E6C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55CE49-F6E3-4276-9C36-DF7D80FE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74877F-0B2E-46F0-918E-2198E4FF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7718B4-EBBD-40FA-ABED-7B385F46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716D2-01D8-42F6-A482-56564BDC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1DC121-A4F6-4D45-B9F1-A23F8B53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F4C230-B969-47B4-A6EC-363D33B1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B5CED0-DF61-4884-BB3F-A56AEDCE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2B7722-C202-4C97-AC27-894C5286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A30244-DE7F-48FB-BFB6-ED1BE17C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3C7A38-4385-4F79-B8AB-6A343449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176671-852B-48C1-9D42-D11EB9F2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4D88AC-DC99-4A3F-9A15-F20033A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76833B-FC51-4202-A330-97E273D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6E607A-2CA7-4361-98C5-B2286E6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0FACC-D166-4AE7-85C6-08C5B36A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3116EE-1055-4C4C-9093-F5A4F5B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F6BF98-C8D5-47F3-A296-3B1B03B7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A554A6-8DA0-4A27-B4C4-061AB225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D5BEE4-35BC-47BB-AC7D-4821C266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AACC82-CA96-4C47-ACCD-A215DDA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0F4ABB-A8A4-48C5-B207-28685410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86F21C-0E5F-4665-89C3-E4985A12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80A22A-9AAC-4BFA-9076-BE2FCA7B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79BDC5-04AD-4B0A-A2E5-01D60D78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24D123-714F-4483-89A3-67767A50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C06-312D-4198-9F27-4D4A5E27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4B82-7EF4-4625-814A-5FC2B4DA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6AF6B65-109C-46F0-AE52-8CE18C42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57DF6E-84BD-443B-8814-43431DE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936119-D8C0-49B9-B024-CC8B7939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24E6C2-C28D-4027-A3E3-1BC724FC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CE1863-ADBF-4E9A-AA71-13B3FB25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AEA27C9-DAB2-4CA6-B74A-37C0BC94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7AB3632-60ED-4F0E-9013-3605CA4D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4AB1C3-54DC-4A84-9BCD-46DEF08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7A95C98-A5A7-4521-9204-BF205D7B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2C54F3-D45F-4792-B80C-705AAE05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50696-E278-48CB-9402-B04D7D8D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9F90E3-DAC4-4EB7-8073-A65FBEA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85B6E7-C75D-41E3-8968-9BDDE38A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904765-381C-4E04-B5D3-E6D53721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4686386-6453-49DC-91C8-6638E674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6D7B645-199D-422B-B4D2-45E6527B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F6AB0A-89A2-46DC-B33C-990F0693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1857B7-9ED5-4C2C-BF4F-1B86A11C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576CB2-A839-4F48-B42A-C77F1859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33BF0CA-F0BD-4BBD-A3EC-6C957327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EB0B26-9E4D-4703-BFC1-A8F03BEE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8EF1-CC28-43BE-A33A-F97C7213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F6E9C4-8938-4E88-9405-755BAD8A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4135A97-380F-48CE-97DA-EA0A666B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6189B7-4C5C-41C0-B659-9A62594E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F48035-EAF9-4FF2-A253-21D16E7E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E86E2F-C3FA-4C00-8AC9-A14CE8D9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EECCB0-DAAA-4C84-8DF0-B703FBBB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12D806-512E-4456-A9F9-18003B1F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201382-BBB3-4478-8F31-373FAAAB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3108C5-88CF-4422-B849-E87A2403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E8C146-2E9C-46A5-A013-B70997B4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2813-6D97-4D00-9BA5-B777988D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48CFB8-ECE9-4CEC-9C28-B212B863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7EA6EB-51FE-4DE4-BB75-7FE8509C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6D90D0A-F3C6-4E00-93B3-AFD3D583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C4C5F6-D0A6-425A-B54A-A1775D72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828334-9B8A-4197-B9D7-2EB5475A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7B1827A-594C-4982-BAF0-D91404E6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E0C00F-E30E-4E0B-8EE1-B02639FB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C62142E-0A13-444A-AF59-EA828C59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A67BC71-E840-49C3-9A48-C1DBA73B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5D339C-0551-48DC-B92F-D2A4E538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7344-CDFC-4B8A-B15A-CE189B9D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61784C-27CB-42FB-837E-E902369F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E0C1139-451E-42E9-82E6-F698DFA8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C4F0AD3-2011-4090-99ED-14D0BED7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7C7F75-F347-44CF-8BFA-DE38FB8A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CCC91B-2699-4C11-A366-13D9F75F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AB7B2C-355F-4649-9A95-0456C129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E15C789-C7A1-48CC-A387-AF55A75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E3782A-D827-4C4A-A2C4-E5A3BBA2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51F132-7572-4860-8464-5A62E3F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FDDC4C-7091-407C-A34C-2B815715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9784-8F17-44FC-B24F-88DBBF86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DD45E7-F6EF-4010-A2EC-D798B79B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75731E9-8660-40B1-AA27-7A93A2B3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DDAA2DB-CDB8-4841-8FE4-15351A47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C33D245-855E-41FA-8919-43D1715E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7408670-EA2F-4D72-9364-FCF605CF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D867D5-950E-4988-83FB-4F9325D6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524908-E256-4F46-ACF1-81B596F5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5ED4E2-B5DF-45AF-9E42-C91F0E48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0FCF65-D8EE-40F6-A8BC-70C0326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B83BB6-750F-4448-A66E-55BA7083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E2A2-6524-4660-BC64-5890EC6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D00379-D070-4C37-ADF8-E1EEDC6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C3E3149-74AA-49EE-8F0B-6D2A782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413F3D0-5A80-49E9-9DF4-CBF9E2F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B2FF81-1640-4625-82A0-229692FF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C3D6E40-3882-44F5-ADA8-C1CC77C6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B15FAC4-419B-486D-BB91-5003A42E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EC6615-F1AF-4B97-8BCE-317942C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F2101B9-5B1E-4221-A777-29C8BC34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405B1D-0BA1-4414-9DDE-B2413A67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EB614A1-40F7-436C-8ACF-5AE800C3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070C-357E-41BF-A28B-9EFC2D97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CA7250-A397-4EF0-932B-650D61F8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4BDCA9-648B-4D16-A1B6-59E562E0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6CC71BA-6CC0-4E6B-9989-C1E3EBAE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C3A1B4A-9335-4C94-A7FC-6F69BAEF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B07E755-DC45-45ED-B8E9-D55A2BC8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EF541D-69DF-4627-8D1E-6085E31B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9C5EB01-22C9-4465-8B44-AB11C927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9898EBF-28E1-43BC-BD00-61082A17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53C8BD9-B231-4E8E-AEC4-CFC8C740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1AAD3D9-1768-42F9-ACC5-993A3D71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5D64-89D4-45F8-B1A0-4429655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260631-2272-4FF9-B585-DE02C889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A8CC161-27DE-4939-B410-5E6DC172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7615C7-00BA-4728-A1E4-DE4BC95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6B64F39-839A-4C73-8F37-0F1EE998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843E93-D72E-471B-AFA0-B6EA90B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CF670E4-1227-4FED-9110-50AF9CC2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A48E676-2B02-42C0-A12C-786BB9BF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337C63-9834-49C2-A56A-B8854E88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9AA707-2482-4BA2-BD29-73EEE78D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0F70-AAD6-4DAA-A7A8-87A70F73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977-1E65-498F-80B7-830E6DE2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6130C-DA0E-4243-899A-4199D7EA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63AE6-1986-4DFC-9127-6C56FD91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9BF0E-4F51-42ED-A962-933C3332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C228-746C-4AE5-B19F-21BE1A4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81A5D-01BD-4398-B9A1-364BE7C9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AF38F-05DD-4323-AFB1-03856809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ECFF4-15C9-4B41-84BF-50282813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8D47-F743-436A-AB78-8F13996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3D5A-173A-47F5-87EC-8B57053A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553CF-5BEA-416B-B529-755CC5C9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61B-1ACB-471E-AC57-D33A67A4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77A5B-4FC5-4D0F-8D5E-7412FD99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11602-0F6E-4701-A499-7DFE9745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2FEF5-5C78-41A2-8904-EE40FD0E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1D06-2FC8-4000-8612-C402D9A4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6283E-A907-4E0E-B18F-779CE822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FEF2E-F723-43C6-BA9A-60F42DE8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59DD6-F4F2-4FF0-9AEF-D7C27AB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40FBF-4DE4-4D9A-AF75-B38BAE42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5BECF-332E-4BB4-B4C4-319F7DA0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D1CC9-789A-45B3-9274-29AD376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59A-0BD5-4994-AD64-309B673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0BF71-4A18-46D5-A83A-BFAD14E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8D77B-47D9-4FC2-A6D1-5192DE46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C6AB3-3E9C-4932-9929-088B4F0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BF93E-A5ED-4E3B-9DBD-9E093492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982E-D009-4A53-BC27-47174746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0C8FD-DFEE-45F5-BF76-13AB0387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39C5D-C9DB-4991-9D64-DB5771E0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5CE22-15AC-4B60-BBD7-521F73EB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B2340-DCF3-40B1-8DA4-5FB28B54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60D40-135D-49E8-9398-6C902DE1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114-9CFE-4627-81BD-B7691DA2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C259-0043-4D46-A81D-7725CE41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5395D-75C7-46E8-BC26-FBB2587A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E37A9-8108-48DD-8281-8252153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56C39-9630-4247-8122-7CAB0FCB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2FA9-4320-4D4F-A447-E2F7B546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E4FA1-9B42-4ABF-9F92-0C33ADE2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25E6C-43D9-4885-945A-1D011B7F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38874-C3C3-4467-82EF-8CC6089E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8033E-31DD-43CE-AEFA-E91359CD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4D33C-49CB-4AC3-A51F-AA36DB65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17.xml"/><Relationship Id="rId7" Type="http://schemas.openxmlformats.org/officeDocument/2006/relationships/slideLayout" Target="../slideLayouts/slideLayout518.xml"/><Relationship Id="rId8" Type="http://schemas.openxmlformats.org/officeDocument/2006/relationships/slideLayout" Target="../slideLayouts/slideLayout519.xml"/><Relationship Id="rId9" Type="http://schemas.openxmlformats.org/officeDocument/2006/relationships/slideLayout" Target="../slideLayouts/slideLayout520.xml"/><Relationship Id="rId10" Type="http://schemas.openxmlformats.org/officeDocument/2006/relationships/slideLayout" Target="../slideLayouts/slideLayout521.xml"/><Relationship Id="rId11" Type="http://schemas.openxmlformats.org/officeDocument/2006/relationships/slideLayout" Target="../slideLayouts/slideLayout522.xml"/><Relationship Id="rId12" Type="http://schemas.openxmlformats.org/officeDocument/2006/relationships/slideLayout" Target="../slideLayouts/slideLayout523.xml"/><Relationship Id="rId13" Type="http://schemas.openxmlformats.org/officeDocument/2006/relationships/slideLayout" Target="../slideLayouts/slideLayout524.xml"/><Relationship Id="rId14" Type="http://schemas.openxmlformats.org/officeDocument/2006/relationships/slideLayout" Target="../slideLayouts/slideLayout525.xml"/><Relationship Id="rId15" Type="http://schemas.openxmlformats.org/officeDocument/2006/relationships/slideLayout" Target="../slideLayouts/slideLayout526.xml"/><Relationship Id="rId16" Type="http://schemas.openxmlformats.org/officeDocument/2006/relationships/slideLayout" Target="../slideLayouts/slideLayout527.xml"/><Relationship Id="rId17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29.xml"/><Relationship Id="rId10" Type="http://schemas.openxmlformats.org/officeDocument/2006/relationships/slideLayout" Target="../slideLayouts/slideLayout530.xml"/><Relationship Id="rId11" Type="http://schemas.openxmlformats.org/officeDocument/2006/relationships/slideLayout" Target="../slideLayouts/slideLayout531.xml"/><Relationship Id="rId12" Type="http://schemas.openxmlformats.org/officeDocument/2006/relationships/slideLayout" Target="../slideLayouts/slideLayout532.xml"/><Relationship Id="rId13" Type="http://schemas.openxmlformats.org/officeDocument/2006/relationships/slideLayout" Target="../slideLayouts/slideLayout533.xml"/><Relationship Id="rId14" Type="http://schemas.openxmlformats.org/officeDocument/2006/relationships/slideLayout" Target="../slideLayouts/slideLayout534.xml"/><Relationship Id="rId15" Type="http://schemas.openxmlformats.org/officeDocument/2006/relationships/slideLayout" Target="../slideLayouts/slideLayout535.xml"/><Relationship Id="rId16" Type="http://schemas.openxmlformats.org/officeDocument/2006/relationships/slideLayout" Target="../slideLayouts/slideLayout536.xml"/><Relationship Id="rId17" Type="http://schemas.openxmlformats.org/officeDocument/2006/relationships/slideLayout" Target="../slideLayouts/slideLayout537.xml"/><Relationship Id="rId18" Type="http://schemas.openxmlformats.org/officeDocument/2006/relationships/slideLayout" Target="../slideLayouts/slideLayout538.xml"/><Relationship Id="rId19" Type="http://schemas.openxmlformats.org/officeDocument/2006/relationships/slideLayout" Target="../slideLayouts/slideLayout539.xml"/><Relationship Id="rId20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41.xml"/><Relationship Id="rId7" Type="http://schemas.openxmlformats.org/officeDocument/2006/relationships/slideLayout" Target="../slideLayouts/slideLayout542.xml"/><Relationship Id="rId8" Type="http://schemas.openxmlformats.org/officeDocument/2006/relationships/slideLayout" Target="../slideLayouts/slideLayout543.xml"/><Relationship Id="rId9" Type="http://schemas.openxmlformats.org/officeDocument/2006/relationships/slideLayout" Target="../slideLayouts/slideLayout544.xml"/><Relationship Id="rId10" Type="http://schemas.openxmlformats.org/officeDocument/2006/relationships/slideLayout" Target="../slideLayouts/slideLayout545.xml"/><Relationship Id="rId11" Type="http://schemas.openxmlformats.org/officeDocument/2006/relationships/slideLayout" Target="../slideLayouts/slideLayout546.xml"/><Relationship Id="rId12" Type="http://schemas.openxmlformats.org/officeDocument/2006/relationships/slideLayout" Target="../slideLayouts/slideLayout547.xml"/><Relationship Id="rId13" Type="http://schemas.openxmlformats.org/officeDocument/2006/relationships/slideLayout" Target="../slideLayouts/slideLayout548.xml"/><Relationship Id="rId14" Type="http://schemas.openxmlformats.org/officeDocument/2006/relationships/slideLayout" Target="../slideLayouts/slideLayout549.xml"/><Relationship Id="rId15" Type="http://schemas.openxmlformats.org/officeDocument/2006/relationships/slideLayout" Target="../slideLayouts/slideLayout550.xml"/><Relationship Id="rId16" Type="http://schemas.openxmlformats.org/officeDocument/2006/relationships/slideLayout" Target="../slideLayouts/slideLayout551.xml"/><Relationship Id="rId17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53.xml"/><Relationship Id="rId7" Type="http://schemas.openxmlformats.org/officeDocument/2006/relationships/slideLayout" Target="../slideLayouts/slideLayout554.xml"/><Relationship Id="rId8" Type="http://schemas.openxmlformats.org/officeDocument/2006/relationships/slideLayout" Target="../slideLayouts/slideLayout555.xml"/><Relationship Id="rId9" Type="http://schemas.openxmlformats.org/officeDocument/2006/relationships/slideLayout" Target="../slideLayouts/slideLayout556.xml"/><Relationship Id="rId10" Type="http://schemas.openxmlformats.org/officeDocument/2006/relationships/slideLayout" Target="../slideLayouts/slideLayout557.xml"/><Relationship Id="rId11" Type="http://schemas.openxmlformats.org/officeDocument/2006/relationships/slideLayout" Target="../slideLayouts/slideLayout558.xml"/><Relationship Id="rId12" Type="http://schemas.openxmlformats.org/officeDocument/2006/relationships/slideLayout" Target="../slideLayouts/slideLayout559.xml"/><Relationship Id="rId13" Type="http://schemas.openxmlformats.org/officeDocument/2006/relationships/slideLayout" Target="../slideLayouts/slideLayout560.xml"/><Relationship Id="rId14" Type="http://schemas.openxmlformats.org/officeDocument/2006/relationships/slideLayout" Target="../slideLayouts/slideLayout561.xml"/><Relationship Id="rId15" Type="http://schemas.openxmlformats.org/officeDocument/2006/relationships/slideLayout" Target="../slideLayouts/slideLayout562.xml"/><Relationship Id="rId16" Type="http://schemas.openxmlformats.org/officeDocument/2006/relationships/slideLayout" Target="../slideLayouts/slideLayout563.xml"/><Relationship Id="rId17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65.xml"/><Relationship Id="rId10" Type="http://schemas.openxmlformats.org/officeDocument/2006/relationships/slideLayout" Target="../slideLayouts/slideLayout566.xml"/><Relationship Id="rId11" Type="http://schemas.openxmlformats.org/officeDocument/2006/relationships/slideLayout" Target="../slideLayouts/slideLayout567.xml"/><Relationship Id="rId12" Type="http://schemas.openxmlformats.org/officeDocument/2006/relationships/slideLayout" Target="../slideLayouts/slideLayout568.xml"/><Relationship Id="rId13" Type="http://schemas.openxmlformats.org/officeDocument/2006/relationships/slideLayout" Target="../slideLayouts/slideLayout569.xml"/><Relationship Id="rId14" Type="http://schemas.openxmlformats.org/officeDocument/2006/relationships/slideLayout" Target="../slideLayouts/slideLayout570.xml"/><Relationship Id="rId15" Type="http://schemas.openxmlformats.org/officeDocument/2006/relationships/slideLayout" Target="../slideLayouts/slideLayout571.xml"/><Relationship Id="rId16" Type="http://schemas.openxmlformats.org/officeDocument/2006/relationships/slideLayout" Target="../slideLayouts/slideLayout572.xml"/><Relationship Id="rId17" Type="http://schemas.openxmlformats.org/officeDocument/2006/relationships/slideLayout" Target="../slideLayouts/slideLayout573.xml"/><Relationship Id="rId18" Type="http://schemas.openxmlformats.org/officeDocument/2006/relationships/slideLayout" Target="../slideLayouts/slideLayout574.xml"/><Relationship Id="rId19" Type="http://schemas.openxmlformats.org/officeDocument/2006/relationships/slideLayout" Target="../slideLayouts/slideLayout575.xml"/><Relationship Id="rId20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FF25-C96E-411D-8C44-F2C1C7D5F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FE2F-F853-46F8-ABF1-D4BF6659E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54DC-2E85-4E73-9026-962A00E25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6D8F-481E-48B0-A531-AB6C57028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473D-7EAA-47C5-A627-2F0F621C8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EED0-C83A-476F-8EAE-E781045AA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68B1-CF29-4E2B-854D-384E16EE8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D251-D661-4710-A3FB-3603E4A4F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30CC-3B98-49ED-B241-7B86B5810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463A-FAFC-4D02-A18A-D14AF648C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dt" idx="5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5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96C2-EA87-42DB-81FE-4F2758F45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797-41AE-4618-B976-E71339B399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0BA0-AAE3-499D-BD0F-1E1326458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9339-35A0-4AEF-A4AF-B5388746C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2315-45C8-4F27-8E10-E29A03305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5244-A0F7-49D8-9BE5-FE5E4EA55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2C1C-AAF3-4816-8BAE-8D1A8E52E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8A05-952A-4AEC-8311-548B575B0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9A7C-3B39-43FF-917C-1AB40A0C9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7669-02EE-4461-9076-4D9C66D97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D0EF-8597-4898-9FF2-AC57D8671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BD3C-6EC2-4AC4-A79E-178D480E8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133E-1344-4FF2-878B-2436F27A125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8FEE-B001-4C73-8471-136B63FB9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4F75-20F9-42A6-9BB0-85DFD8200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E9A-95E9-47A4-9CBB-5033ABB02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F04F-36E0-48C6-AFF0-25B450D41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246D-0D73-4ED0-9DFF-FCB87C1F0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210F-17EA-4029-A61D-E420E988C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CBF-3973-4AC2-B2D4-C8B3677A6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BECD-4B53-4133-8EAD-0FA4B9B4B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1C14-FB59-49B7-9ACD-3F2DEC1BD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D36D-A8C5-4E92-B0A2-C7623403E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3D23-46E3-4D1A-8550-3C48DB0FF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915-0C07-4B04-9F6D-41CDE44E8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E6AC-DE8F-4FE3-997B-B87C8B998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9A1C-4D7D-4F51-92EC-6F7EDD263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C157-FF6D-454F-B263-3F9D62A37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78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78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9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3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3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3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E5B5-A344-4628-B111-0EC5BC2F022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6"/>
    <p:sldLayoutId id="2147484209" r:id="rId7"/>
    <p:sldLayoutId id="2147484210" r:id="rId8"/>
    <p:sldLayoutId id="2147484211" r:id="rId9"/>
    <p:sldLayoutId id="2147484212" r:id="rId10"/>
    <p:sldLayoutId id="2147484213" r:id="rId11"/>
    <p:sldLayoutId id="2147484214" r:id="rId12"/>
    <p:sldLayoutId id="2147484215" r:id="rId13"/>
    <p:sldLayoutId id="2147484216" r:id="rId14"/>
    <p:sldLayoutId id="2147484217" r:id="rId15"/>
    <p:sldLayoutId id="2147484218" r:id="rId16"/>
    <p:sldLayoutId id="2147484219" r:id="rId17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83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83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4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4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5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13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13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 type="sldNum" idx="13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FFD5-33EE-485A-A69E-C49A18D1887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9"/>
    <p:sldLayoutId id="2147484222" r:id="rId10"/>
    <p:sldLayoutId id="2147484223" r:id="rId11"/>
    <p:sldLayoutId id="2147484224" r:id="rId12"/>
    <p:sldLayoutId id="2147484225" r:id="rId13"/>
    <p:sldLayoutId id="2147484226" r:id="rId14"/>
    <p:sldLayoutId id="2147484227" r:id="rId15"/>
    <p:sldLayoutId id="2147484228" r:id="rId16"/>
    <p:sldLayoutId id="2147484229" r:id="rId17"/>
    <p:sldLayoutId id="2147484230" r:id="rId18"/>
    <p:sldLayoutId id="2147484231" r:id="rId19"/>
    <p:sldLayoutId id="2147484232" r:id="rId20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9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0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dt" idx="13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ftr" idx="13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 type="sldNum" idx="13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7651-A27F-40EA-A934-E89B6501E58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6"/>
    <p:sldLayoutId id="2147484235" r:id="rId7"/>
    <p:sldLayoutId id="2147484236" r:id="rId8"/>
    <p:sldLayoutId id="2147484237" r:id="rId9"/>
    <p:sldLayoutId id="2147484238" r:id="rId10"/>
    <p:sldLayoutId id="2147484239" r:id="rId11"/>
    <p:sldLayoutId id="2147484240" r:id="rId12"/>
    <p:sldLayoutId id="2147484241" r:id="rId13"/>
    <p:sldLayoutId id="2147484242" r:id="rId14"/>
    <p:sldLayoutId id="2147484243" r:id="rId15"/>
    <p:sldLayoutId id="2147484244" r:id="rId16"/>
    <p:sldLayoutId id="2147484245" r:id="rId17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94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95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5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 type="dt" idx="13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 type="ftr" idx="14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 type="sldNum" idx="14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5A76-F7E2-44B7-8325-9ED3F6D5757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6"/>
    <p:sldLayoutId id="2147484248" r:id="rId7"/>
    <p:sldLayoutId id="2147484249" r:id="rId8"/>
    <p:sldLayoutId id="2147484250" r:id="rId9"/>
    <p:sldLayoutId id="2147484251" r:id="rId10"/>
    <p:sldLayoutId id="2147484252" r:id="rId11"/>
    <p:sldLayoutId id="2147484253" r:id="rId12"/>
    <p:sldLayoutId id="2147484254" r:id="rId13"/>
    <p:sldLayoutId id="2147484255" r:id="rId14"/>
    <p:sldLayoutId id="2147484256" r:id="rId15"/>
    <p:sldLayoutId id="2147484257" r:id="rId16"/>
    <p:sldLayoutId id="2147484258" r:id="rId17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99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00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0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0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1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1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dt" idx="14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 type="ftr" idx="14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 type="sldNum" idx="14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A8BE-53AD-46DD-9282-2EB18B69631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9"/>
    <p:sldLayoutId id="2147484261" r:id="rId10"/>
    <p:sldLayoutId id="2147484262" r:id="rId11"/>
    <p:sldLayoutId id="2147484263" r:id="rId12"/>
    <p:sldLayoutId id="2147484264" r:id="rId13"/>
    <p:sldLayoutId id="2147484265" r:id="rId14"/>
    <p:sldLayoutId id="2147484266" r:id="rId15"/>
    <p:sldLayoutId id="2147484267" r:id="rId16"/>
    <p:sldLayoutId id="2147484268" r:id="rId17"/>
    <p:sldLayoutId id="2147484269" r:id="rId18"/>
    <p:sldLayoutId id="2147484270" r:id="rId19"/>
    <p:sldLayoutId id="2147484271" r:id="rId20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5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6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6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 type="dt" idx="14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 type="ftr" idx="14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 type="sldNum" idx="14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D5D2-FEE1-4410-B2B2-D9A8350B89C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6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6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774E-1CD4-48B7-A44A-06B5E4B6420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1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1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2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F923-54E6-45BB-8A07-2BB9341C294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AB87-A4B1-4E90-816C-CD415118A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4A6-B0DE-4008-A3B5-447A0D7A8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78AF-3DB4-4AC0-81E4-F8682D5A3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gif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8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28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28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4.gi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4.gi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Горизонтальный свиток 3" descr=""/>
          <p:cNvPicPr/>
          <p:nvPr/>
        </p:nvPicPr>
        <p:blipFill>
          <a:blip r:embed="rId2"/>
          <a:stretch/>
        </p:blipFill>
        <p:spPr>
          <a:xfrm>
            <a:off x="341280" y="1054080"/>
            <a:ext cx="8461440" cy="3822840"/>
          </a:xfrm>
          <a:prstGeom prst="rect">
            <a:avLst/>
          </a:prstGeom>
          <a:ln w="0">
            <a:noFill/>
          </a:ln>
        </p:spPr>
      </p:pic>
      <p:pic>
        <p:nvPicPr>
          <p:cNvPr id="2117" name="Прямоугольник 5" descr=""/>
          <p:cNvPicPr/>
          <p:nvPr/>
        </p:nvPicPr>
        <p:blipFill>
          <a:blip r:embed="rId3"/>
          <a:stretch/>
        </p:blipFill>
        <p:spPr>
          <a:xfrm>
            <a:off x="1749600" y="139680"/>
            <a:ext cx="58514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07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cc"/>
                </a:solidFill>
                <a:latin typeface="Calibri"/>
              </a:rPr>
              <a:t>Робота з формулам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TextBox 4"/>
          <p:cNvSpPr/>
          <p:nvPr/>
        </p:nvSpPr>
        <p:spPr>
          <a:xfrm>
            <a:off x="1042560" y="1125360"/>
            <a:ext cx="59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ехай функція задана формулою у= 2х+5. Знай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TextBox 7"/>
          <p:cNvSpPr/>
          <p:nvPr/>
        </p:nvSpPr>
        <p:spPr>
          <a:xfrm>
            <a:off x="530280" y="2585880"/>
            <a:ext cx="3668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начення функції, якщо значення аргументу дорівнює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TextBox 8"/>
          <p:cNvSpPr/>
          <p:nvPr/>
        </p:nvSpPr>
        <p:spPr>
          <a:xfrm>
            <a:off x="4573440" y="26179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Якщо х=-4, то у=2•(-4)+5=-8+5=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TextBox 11"/>
          <p:cNvSpPr/>
          <p:nvPr/>
        </p:nvSpPr>
        <p:spPr>
          <a:xfrm>
            <a:off x="531720" y="3716280"/>
            <a:ext cx="367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начення аргументу, при якому значення функції дорівнює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Прямоугольник 12"/>
          <p:cNvSpPr/>
          <p:nvPr/>
        </p:nvSpPr>
        <p:spPr>
          <a:xfrm>
            <a:off x="4586400" y="3860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Якщо у=-7, то 2х+5=-7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х=-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х=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=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4" descr="CRCTR496"/>
          <p:cNvPicPr/>
          <p:nvPr/>
        </p:nvPicPr>
        <p:blipFill>
          <a:blip r:embed="rId2"/>
          <a:stretch/>
        </p:blipFill>
        <p:spPr>
          <a:xfrm flipH="1" rot="1525800">
            <a:off x="593280" y="-18720"/>
            <a:ext cx="658800" cy="1641600"/>
          </a:xfrm>
          <a:prstGeom prst="rect">
            <a:avLst/>
          </a:prstGeom>
          <a:ln w="0">
            <a:noFill/>
          </a:ln>
        </p:spPr>
      </p:pic>
      <p:sp>
        <p:nvSpPr>
          <p:cNvPr id="2218" name="Управляющая кнопка: назад 1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3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9" name="Group 9"/>
          <p:cNvGrpSpPr/>
          <p:nvPr/>
        </p:nvGrpSpPr>
        <p:grpSpPr>
          <a:xfrm>
            <a:off x="2084760" y="692280"/>
            <a:ext cx="6707880" cy="556920"/>
            <a:chOff x="2084760" y="692280"/>
            <a:chExt cx="6707880" cy="556920"/>
          </a:xfrm>
        </p:grpSpPr>
        <p:sp>
          <p:nvSpPr>
            <p:cNvPr id="2220" name="Text Box 4"/>
            <p:cNvSpPr/>
            <p:nvPr/>
          </p:nvSpPr>
          <p:spPr>
            <a:xfrm>
              <a:off x="2084760" y="692280"/>
              <a:ext cx="6707880" cy="520560"/>
            </a:xfrm>
            <a:prstGeom prst="rect">
              <a:avLst/>
            </a:prstGeom>
            <a:solidFill>
              <a:srgbClr val="99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</a:rPr>
                <a:t>Функція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задана формулою              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1" name="Object 5" descr=""/>
            <p:cNvPicPr/>
            <p:nvPr/>
          </p:nvPicPr>
          <p:blipFill>
            <a:blip r:embed="rId2"/>
            <a:stretch/>
          </p:blipFill>
          <p:spPr>
            <a:xfrm>
              <a:off x="6588000" y="692280"/>
              <a:ext cx="2089440" cy="55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2" name="Text Box 8"/>
          <p:cNvSpPr/>
          <p:nvPr/>
        </p:nvSpPr>
        <p:spPr>
          <a:xfrm>
            <a:off x="3371760" y="1936800"/>
            <a:ext cx="5658120" cy="5205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овнимо таблиц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3" name=""/>
          <p:cNvGraphicFramePr/>
          <p:nvPr/>
        </p:nvGraphicFramePr>
        <p:xfrm>
          <a:off x="336600" y="3068640"/>
          <a:ext cx="8496360" cy="1584360"/>
        </p:xfrm>
        <a:graphic>
          <a:graphicData uri="http://schemas.openxmlformats.org/drawingml/2006/table">
            <a:tbl>
              <a:tblPr/>
              <a:tblGrid>
                <a:gridCol w="1214280"/>
                <a:gridCol w="1212840"/>
                <a:gridCol w="1214640"/>
                <a:gridCol w="1212840"/>
                <a:gridCol w="1214280"/>
                <a:gridCol w="1212840"/>
                <a:gridCol w="12146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4" name="Rectangle 39"/>
          <p:cNvSpPr/>
          <p:nvPr/>
        </p:nvSpPr>
        <p:spPr>
          <a:xfrm>
            <a:off x="1619280" y="3933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40"/>
          <p:cNvSpPr/>
          <p:nvPr/>
        </p:nvSpPr>
        <p:spPr>
          <a:xfrm>
            <a:off x="2843280" y="3906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41"/>
          <p:cNvSpPr/>
          <p:nvPr/>
        </p:nvSpPr>
        <p:spPr>
          <a:xfrm>
            <a:off x="4030560" y="3906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Rectangle 42"/>
          <p:cNvSpPr/>
          <p:nvPr/>
        </p:nvSpPr>
        <p:spPr>
          <a:xfrm>
            <a:off x="5219640" y="3906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43"/>
          <p:cNvSpPr/>
          <p:nvPr/>
        </p:nvSpPr>
        <p:spPr>
          <a:xfrm>
            <a:off x="6443640" y="390528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Rectangle 44"/>
          <p:cNvSpPr/>
          <p:nvPr/>
        </p:nvSpPr>
        <p:spPr>
          <a:xfrm>
            <a:off x="7662960" y="390528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8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Управляющая кнопка: назад 1"/>
          <p:cNvSpPr/>
          <p:nvPr/>
        </p:nvSpPr>
        <p:spPr>
          <a:xfrm>
            <a:off x="801216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1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1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10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Text Box 5"/>
          <p:cNvSpPr/>
          <p:nvPr/>
        </p:nvSpPr>
        <p:spPr>
          <a:xfrm>
            <a:off x="1264680" y="189000"/>
            <a:ext cx="1557000" cy="459720"/>
          </a:xfrm>
          <a:prstGeom prst="rect">
            <a:avLst/>
          </a:prstGeom>
          <a:solidFill>
            <a:srgbClr val="ffff66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 Box 6"/>
          <p:cNvSpPr/>
          <p:nvPr/>
        </p:nvSpPr>
        <p:spPr>
          <a:xfrm>
            <a:off x="2069640" y="692280"/>
            <a:ext cx="6171480" cy="5205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йти область визначення  функц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Oval 7"/>
          <p:cNvSpPr/>
          <p:nvPr/>
        </p:nvSpPr>
        <p:spPr>
          <a:xfrm>
            <a:off x="250920" y="1989000"/>
            <a:ext cx="43164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5" name="Group 21"/>
          <p:cNvGrpSpPr/>
          <p:nvPr/>
        </p:nvGrpSpPr>
        <p:grpSpPr>
          <a:xfrm>
            <a:off x="826920" y="1628640"/>
            <a:ext cx="3600720" cy="1922760"/>
            <a:chOff x="826920" y="1628640"/>
            <a:chExt cx="3600720" cy="1922760"/>
          </a:xfrm>
        </p:grpSpPr>
        <p:sp>
          <p:nvSpPr>
            <p:cNvPr id="2236" name="Text Box 10"/>
            <p:cNvSpPr/>
            <p:nvPr/>
          </p:nvSpPr>
          <p:spPr>
            <a:xfrm>
              <a:off x="826920" y="1628640"/>
              <a:ext cx="3600720" cy="192276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7" name="Object 11" descr=""/>
            <p:cNvPicPr/>
            <p:nvPr/>
          </p:nvPicPr>
          <p:blipFill>
            <a:blip r:embed="rId2"/>
            <a:stretch/>
          </p:blipFill>
          <p:spPr>
            <a:xfrm>
              <a:off x="1116000" y="1628640"/>
              <a:ext cx="295272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8" name="Group 22"/>
          <p:cNvGrpSpPr/>
          <p:nvPr/>
        </p:nvGrpSpPr>
        <p:grpSpPr>
          <a:xfrm>
            <a:off x="826920" y="3357720"/>
            <a:ext cx="3600720" cy="1922760"/>
            <a:chOff x="826920" y="3357720"/>
            <a:chExt cx="3600720" cy="1922760"/>
          </a:xfrm>
        </p:grpSpPr>
        <p:sp>
          <p:nvSpPr>
            <p:cNvPr id="2239" name="Text Box 12"/>
            <p:cNvSpPr/>
            <p:nvPr/>
          </p:nvSpPr>
          <p:spPr>
            <a:xfrm>
              <a:off x="826920" y="3357720"/>
              <a:ext cx="3600720" cy="192276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0" name="Object 13" descr=""/>
            <p:cNvPicPr/>
            <p:nvPr/>
          </p:nvPicPr>
          <p:blipFill>
            <a:blip r:embed="rId3"/>
            <a:stretch/>
          </p:blipFill>
          <p:spPr>
            <a:xfrm>
              <a:off x="1042920" y="3357720"/>
              <a:ext cx="3168720" cy="11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1" name="Oval 15"/>
          <p:cNvSpPr/>
          <p:nvPr/>
        </p:nvSpPr>
        <p:spPr>
          <a:xfrm>
            <a:off x="250920" y="3716280"/>
            <a:ext cx="43164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Oval 17"/>
          <p:cNvSpPr/>
          <p:nvPr/>
        </p:nvSpPr>
        <p:spPr>
          <a:xfrm>
            <a:off x="250920" y="5589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3" name="Group 23"/>
          <p:cNvGrpSpPr/>
          <p:nvPr/>
        </p:nvGrpSpPr>
        <p:grpSpPr>
          <a:xfrm>
            <a:off x="826920" y="5084640"/>
            <a:ext cx="3600720" cy="1922760"/>
            <a:chOff x="826920" y="5084640"/>
            <a:chExt cx="3600720" cy="1922760"/>
          </a:xfrm>
        </p:grpSpPr>
        <p:sp>
          <p:nvSpPr>
            <p:cNvPr id="2244" name="Text Box 16"/>
            <p:cNvSpPr/>
            <p:nvPr/>
          </p:nvSpPr>
          <p:spPr>
            <a:xfrm>
              <a:off x="826920" y="5084640"/>
              <a:ext cx="3600720" cy="192276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5" name="Object 18" descr=""/>
            <p:cNvPicPr/>
            <p:nvPr/>
          </p:nvPicPr>
          <p:blipFill>
            <a:blip r:embed="rId4"/>
            <a:stretch/>
          </p:blipFill>
          <p:spPr>
            <a:xfrm>
              <a:off x="1042920" y="5157720"/>
              <a:ext cx="3095640" cy="110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6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7" name="Group 27"/>
          <p:cNvGrpSpPr/>
          <p:nvPr/>
        </p:nvGrpSpPr>
        <p:grpSpPr>
          <a:xfrm>
            <a:off x="4572000" y="1916280"/>
            <a:ext cx="2521080" cy="580680"/>
            <a:chOff x="4572000" y="1916280"/>
            <a:chExt cx="2521080" cy="580680"/>
          </a:xfrm>
        </p:grpSpPr>
        <p:sp>
          <p:nvSpPr>
            <p:cNvPr id="2248" name="Text Box 24"/>
            <p:cNvSpPr/>
            <p:nvPr/>
          </p:nvSpPr>
          <p:spPr>
            <a:xfrm>
              <a:off x="4572000" y="1965240"/>
              <a:ext cx="2521080" cy="456840"/>
            </a:xfrm>
            <a:prstGeom prst="rect">
              <a:avLst/>
            </a:prstGeom>
            <a:solidFill>
              <a:srgbClr val="ff99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9" name="Object 25" descr=""/>
            <p:cNvPicPr/>
            <p:nvPr/>
          </p:nvPicPr>
          <p:blipFill>
            <a:blip r:embed="rId5"/>
            <a:stretch/>
          </p:blipFill>
          <p:spPr>
            <a:xfrm>
              <a:off x="4572000" y="1916280"/>
              <a:ext cx="25210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0" name="Group 28"/>
          <p:cNvGrpSpPr/>
          <p:nvPr/>
        </p:nvGrpSpPr>
        <p:grpSpPr>
          <a:xfrm>
            <a:off x="4572000" y="3645000"/>
            <a:ext cx="2521080" cy="581040"/>
            <a:chOff x="4572000" y="3645000"/>
            <a:chExt cx="2521080" cy="581040"/>
          </a:xfrm>
        </p:grpSpPr>
        <p:sp>
          <p:nvSpPr>
            <p:cNvPr id="2251" name="Text Box 29"/>
            <p:cNvSpPr/>
            <p:nvPr/>
          </p:nvSpPr>
          <p:spPr>
            <a:xfrm>
              <a:off x="4572000" y="3694320"/>
              <a:ext cx="2521080" cy="457200"/>
            </a:xfrm>
            <a:prstGeom prst="rect">
              <a:avLst/>
            </a:prstGeom>
            <a:solidFill>
              <a:srgbClr val="ff99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2" name="Object 30" descr=""/>
            <p:cNvPicPr/>
            <p:nvPr/>
          </p:nvPicPr>
          <p:blipFill>
            <a:blip r:embed="rId6"/>
            <a:stretch/>
          </p:blipFill>
          <p:spPr>
            <a:xfrm>
              <a:off x="4589640" y="3645000"/>
              <a:ext cx="2484360" cy="58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3" name="Group 31"/>
          <p:cNvGrpSpPr/>
          <p:nvPr/>
        </p:nvGrpSpPr>
        <p:grpSpPr>
          <a:xfrm>
            <a:off x="4572000" y="5410080"/>
            <a:ext cx="2521080" cy="507960"/>
            <a:chOff x="4572000" y="5410080"/>
            <a:chExt cx="2521080" cy="507960"/>
          </a:xfrm>
        </p:grpSpPr>
        <p:sp>
          <p:nvSpPr>
            <p:cNvPr id="2254" name="Text Box 32"/>
            <p:cNvSpPr/>
            <p:nvPr/>
          </p:nvSpPr>
          <p:spPr>
            <a:xfrm>
              <a:off x="4572000" y="5422680"/>
              <a:ext cx="2521080" cy="457200"/>
            </a:xfrm>
            <a:prstGeom prst="rect">
              <a:avLst/>
            </a:prstGeom>
            <a:solidFill>
              <a:srgbClr val="ff99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5" name="Object 33" descr=""/>
            <p:cNvPicPr/>
            <p:nvPr/>
          </p:nvPicPr>
          <p:blipFill>
            <a:blip r:embed="rId7"/>
            <a:stretch/>
          </p:blipFill>
          <p:spPr>
            <a:xfrm>
              <a:off x="5313240" y="5410080"/>
              <a:ext cx="1038240" cy="50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6" name="Picture 2" descr="C:\Users\Ирина Михайловна\Desktop\2783.gif"/>
          <p:cNvPicPr/>
          <p:nvPr/>
        </p:nvPicPr>
        <p:blipFill>
          <a:blip r:embed="rId8"/>
          <a:stretch/>
        </p:blipFill>
        <p:spPr>
          <a:xfrm>
            <a:off x="7380360" y="5083200"/>
            <a:ext cx="1595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235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235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238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238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243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2243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Text Box 5"/>
          <p:cNvSpPr/>
          <p:nvPr/>
        </p:nvSpPr>
        <p:spPr>
          <a:xfrm>
            <a:off x="1193040" y="189000"/>
            <a:ext cx="1557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іку функції знайді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її область визнач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ь функції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0" name="Object 7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4370400" cy="4408200"/>
          </a:xfrm>
          <a:prstGeom prst="rect">
            <a:avLst/>
          </a:prstGeom>
          <a:ln w="0">
            <a:noFill/>
          </a:ln>
        </p:spPr>
      </p:pic>
      <p:sp>
        <p:nvSpPr>
          <p:cNvPr id="2261" name="Line 10"/>
          <p:cNvSpPr/>
          <p:nvPr/>
        </p:nvSpPr>
        <p:spPr>
          <a:xfrm flipV="1">
            <a:off x="2700360" y="5589720"/>
            <a:ext cx="4168800" cy="936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Oval 11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 Box 12"/>
          <p:cNvSpPr/>
          <p:nvPr/>
        </p:nvSpPr>
        <p:spPr>
          <a:xfrm>
            <a:off x="680040" y="3357720"/>
            <a:ext cx="2870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будь - як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Oval 13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Freeform 14"/>
          <p:cNvSpPr/>
          <p:nvPr/>
        </p:nvSpPr>
        <p:spPr>
          <a:xfrm>
            <a:off x="4280040" y="2278080"/>
            <a:ext cx="6120" cy="3906720"/>
          </a:xfrm>
          <a:custGeom>
            <a:avLst/>
            <a:gdLst>
              <a:gd name="textAreaLeft" fmla="*/ 0 w 6120"/>
              <a:gd name="textAreaRight" fmla="*/ 6480 w 6120"/>
              <a:gd name="textAreaTop" fmla="*/ 0 h 3906720"/>
              <a:gd name="textAreaBottom" fmla="*/ 3907080 h 3906720"/>
            </a:gdLst>
            <a:ahLst/>
            <a:rect l="textAreaLeft" t="textAreaTop" r="textAreaRight" b="textAreaBottom"/>
            <a:pathLst>
              <a:path w="4" h="2461">
                <a:moveTo>
                  <a:pt x="0" y="2461"/>
                </a:moveTo>
                <a:lnTo>
                  <a:pt x="4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Freeform 15"/>
          <p:cNvSpPr/>
          <p:nvPr/>
        </p:nvSpPr>
        <p:spPr>
          <a:xfrm>
            <a:off x="4343400" y="6197760"/>
            <a:ext cx="482760" cy="1440"/>
          </a:xfrm>
          <a:custGeom>
            <a:avLst/>
            <a:gdLst>
              <a:gd name="textAreaLeft" fmla="*/ 0 w 482760"/>
              <a:gd name="textAreaRight" fmla="*/ 483120 w 482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Text Box 16"/>
          <p:cNvSpPr/>
          <p:nvPr/>
        </p:nvSpPr>
        <p:spPr>
          <a:xfrm>
            <a:off x="684360" y="4365720"/>
            <a:ext cx="2374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8" name="Picture 2" descr="C:\Users\Ирина Михайловна\Desktop\2783.gif"/>
          <p:cNvPicPr/>
          <p:nvPr/>
        </p:nvPicPr>
        <p:blipFill>
          <a:blip r:embed="rId3"/>
          <a:stretch/>
        </p:blipFill>
        <p:spPr>
          <a:xfrm>
            <a:off x="7380360" y="4941720"/>
            <a:ext cx="1595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0" dur="1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3"/>
          <p:cNvSpPr/>
          <p:nvPr/>
        </p:nvSpPr>
        <p:spPr>
          <a:xfrm>
            <a:off x="1193040" y="189000"/>
            <a:ext cx="1557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4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іку функції знайді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її область визнач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ь функції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Rectangle 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Oval 9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Oval 11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Rectangle 16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5" name="Object 15" descr=""/>
          <p:cNvPicPr/>
          <p:nvPr/>
        </p:nvPicPr>
        <p:blipFill>
          <a:blip r:embed="rId2"/>
          <a:stretch/>
        </p:blipFill>
        <p:spPr>
          <a:xfrm>
            <a:off x="2484360" y="2190600"/>
            <a:ext cx="4497480" cy="4537080"/>
          </a:xfrm>
          <a:prstGeom prst="rect">
            <a:avLst/>
          </a:prstGeom>
          <a:ln w="0">
            <a:noFill/>
          </a:ln>
        </p:spPr>
      </p:pic>
      <p:grpSp>
        <p:nvGrpSpPr>
          <p:cNvPr id="2276" name="Group 21"/>
          <p:cNvGrpSpPr/>
          <p:nvPr/>
        </p:nvGrpSpPr>
        <p:grpSpPr>
          <a:xfrm>
            <a:off x="3265560" y="2995200"/>
            <a:ext cx="3095640" cy="3313440"/>
            <a:chOff x="3265560" y="2995200"/>
            <a:chExt cx="3095640" cy="3313440"/>
          </a:xfrm>
        </p:grpSpPr>
        <p:sp>
          <p:nvSpPr>
            <p:cNvPr id="2277" name="Freeform 18"/>
            <p:cNvSpPr/>
            <p:nvPr/>
          </p:nvSpPr>
          <p:spPr>
            <a:xfrm>
              <a:off x="3336840" y="3066840"/>
              <a:ext cx="2952720" cy="316872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3168720"/>
                <a:gd name="textAreaBottom" fmla="*/ 3169080 h 3168720"/>
              </a:gdLst>
              <a:ahLst/>
              <a:rect l="textAreaLeft" t="textAreaTop" r="textAreaRight" b="textAreaBottom"/>
              <a:pathLst>
                <a:path w="1860" h="1996">
                  <a:moveTo>
                    <a:pt x="0" y="1996"/>
                  </a:moveTo>
                  <a:cubicBezTo>
                    <a:pt x="30" y="1799"/>
                    <a:pt x="69" y="1597"/>
                    <a:pt x="136" y="1406"/>
                  </a:cubicBezTo>
                  <a:cubicBezTo>
                    <a:pt x="203" y="1215"/>
                    <a:pt x="269" y="1026"/>
                    <a:pt x="403" y="851"/>
                  </a:cubicBezTo>
                  <a:cubicBezTo>
                    <a:pt x="537" y="676"/>
                    <a:pt x="696" y="497"/>
                    <a:pt x="939" y="355"/>
                  </a:cubicBezTo>
                  <a:cubicBezTo>
                    <a:pt x="1182" y="213"/>
                    <a:pt x="1668" y="74"/>
                    <a:pt x="186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Oval 19"/>
            <p:cNvSpPr/>
            <p:nvPr/>
          </p:nvSpPr>
          <p:spPr>
            <a:xfrm flipV="1">
              <a:off x="3265560" y="6163920"/>
              <a:ext cx="144360" cy="1447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Oval 20"/>
            <p:cNvSpPr/>
            <p:nvPr/>
          </p:nvSpPr>
          <p:spPr>
            <a:xfrm flipV="1">
              <a:off x="6216480" y="2994840"/>
              <a:ext cx="144720" cy="144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0" name="Line 22"/>
          <p:cNvSpPr/>
          <p:nvPr/>
        </p:nvSpPr>
        <p:spPr>
          <a:xfrm flipV="1">
            <a:off x="3348000" y="5660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23"/>
          <p:cNvSpPr/>
          <p:nvPr/>
        </p:nvSpPr>
        <p:spPr>
          <a:xfrm flipV="1">
            <a:off x="6300720" y="314136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Freeform 24"/>
          <p:cNvSpPr/>
          <p:nvPr/>
        </p:nvSpPr>
        <p:spPr>
          <a:xfrm>
            <a:off x="3327480" y="5613480"/>
            <a:ext cx="2971800" cy="126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72" h="8">
                <a:moveTo>
                  <a:pt x="0" y="0"/>
                </a:moveTo>
                <a:lnTo>
                  <a:pt x="1872" y="8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Text Box 28"/>
          <p:cNvSpPr/>
          <p:nvPr/>
        </p:nvSpPr>
        <p:spPr>
          <a:xfrm>
            <a:off x="684360" y="3357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Line 29"/>
          <p:cNvSpPr/>
          <p:nvPr/>
        </p:nvSpPr>
        <p:spPr>
          <a:xfrm>
            <a:off x="3419640" y="623736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Freeform 30"/>
          <p:cNvSpPr/>
          <p:nvPr/>
        </p:nvSpPr>
        <p:spPr>
          <a:xfrm>
            <a:off x="4317840" y="3111480"/>
            <a:ext cx="1968840" cy="1440"/>
          </a:xfrm>
          <a:custGeom>
            <a:avLst/>
            <a:gdLst>
              <a:gd name="textAreaLeft" fmla="*/ 0 w 1968840"/>
              <a:gd name="textAreaRight" fmla="*/ 1969200 w 1968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40" h="1">
                <a:moveTo>
                  <a:pt x="0" y="0"/>
                </a:moveTo>
                <a:lnTo>
                  <a:pt x="1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Freeform 31"/>
          <p:cNvSpPr/>
          <p:nvPr/>
        </p:nvSpPr>
        <p:spPr>
          <a:xfrm>
            <a:off x="4213080" y="3141720"/>
            <a:ext cx="3240" cy="3093840"/>
          </a:xfrm>
          <a:custGeom>
            <a:avLst/>
            <a:gdLst>
              <a:gd name="textAreaLeft" fmla="*/ 0 w 3240"/>
              <a:gd name="textAreaRight" fmla="*/ 3600 w 324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2" h="1949">
                <a:moveTo>
                  <a:pt x="2" y="1949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32"/>
          <p:cNvSpPr/>
          <p:nvPr/>
        </p:nvSpPr>
        <p:spPr>
          <a:xfrm>
            <a:off x="684360" y="4365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Picture 2" descr="C:\Users\Ирина Михайловна\Desktop\2783.gif"/>
          <p:cNvPicPr/>
          <p:nvPr/>
        </p:nvPicPr>
        <p:blipFill>
          <a:blip r:embed="rId3"/>
          <a:stretch/>
        </p:blipFill>
        <p:spPr>
          <a:xfrm>
            <a:off x="7186680" y="5013360"/>
            <a:ext cx="1595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9" dur="10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0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Text Box 3"/>
          <p:cNvSpPr/>
          <p:nvPr/>
        </p:nvSpPr>
        <p:spPr>
          <a:xfrm>
            <a:off x="1193040" y="189000"/>
            <a:ext cx="1557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4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іку функції знайді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її область визнач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ь функції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Rectangle 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Oval 6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Oval 7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5" name="Object 9" descr=""/>
          <p:cNvPicPr/>
          <p:nvPr/>
        </p:nvPicPr>
        <p:blipFill>
          <a:blip r:embed="rId2"/>
          <a:stretch/>
        </p:blipFill>
        <p:spPr>
          <a:xfrm>
            <a:off x="2627280" y="2205000"/>
            <a:ext cx="4497480" cy="4537080"/>
          </a:xfrm>
          <a:prstGeom prst="rect">
            <a:avLst/>
          </a:prstGeom>
          <a:ln w="0">
            <a:noFill/>
          </a:ln>
        </p:spPr>
      </p:pic>
      <p:sp>
        <p:nvSpPr>
          <p:cNvPr id="2296" name="Freeform 15"/>
          <p:cNvSpPr/>
          <p:nvPr/>
        </p:nvSpPr>
        <p:spPr>
          <a:xfrm>
            <a:off x="6769080" y="5689440"/>
            <a:ext cx="1440" cy="495360"/>
          </a:xfrm>
          <a:custGeom>
            <a:avLst/>
            <a:gdLst>
              <a:gd name="textAreaLeft" fmla="*/ 0 w 1440"/>
              <a:gd name="textAreaRight" fmla="*/ 1800 w 14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" h="312">
                <a:moveTo>
                  <a:pt x="0" y="3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Line 16"/>
          <p:cNvSpPr/>
          <p:nvPr/>
        </p:nvSpPr>
        <p:spPr>
          <a:xfrm flipV="1">
            <a:off x="3348000" y="2707920"/>
            <a:ext cx="0" cy="302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18"/>
          <p:cNvSpPr/>
          <p:nvPr/>
        </p:nvSpPr>
        <p:spPr>
          <a:xfrm>
            <a:off x="684360" y="3357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Freeform 19"/>
          <p:cNvSpPr/>
          <p:nvPr/>
        </p:nvSpPr>
        <p:spPr>
          <a:xfrm>
            <a:off x="3340080" y="2590920"/>
            <a:ext cx="990720" cy="1440"/>
          </a:xfrm>
          <a:custGeom>
            <a:avLst/>
            <a:gdLst>
              <a:gd name="textAreaLeft" fmla="*/ 0 w 990720"/>
              <a:gd name="textAreaRight" fmla="*/ 991080 w 990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24" h="1">
                <a:moveTo>
                  <a:pt x="0" y="0"/>
                </a:moveTo>
                <a:lnTo>
                  <a:pt x="62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reeform 20"/>
          <p:cNvSpPr/>
          <p:nvPr/>
        </p:nvSpPr>
        <p:spPr>
          <a:xfrm>
            <a:off x="4427640" y="6237360"/>
            <a:ext cx="2376360" cy="730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40" h="1">
                <a:moveTo>
                  <a:pt x="0" y="0"/>
                </a:moveTo>
                <a:lnTo>
                  <a:pt x="1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22"/>
          <p:cNvSpPr/>
          <p:nvPr/>
        </p:nvSpPr>
        <p:spPr>
          <a:xfrm>
            <a:off x="684360" y="4365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2" name="Group 31"/>
          <p:cNvGrpSpPr/>
          <p:nvPr/>
        </p:nvGrpSpPr>
        <p:grpSpPr>
          <a:xfrm>
            <a:off x="3276720" y="2565360"/>
            <a:ext cx="3598920" cy="3676680"/>
            <a:chOff x="3276720" y="2565360"/>
            <a:chExt cx="3598920" cy="3676680"/>
          </a:xfrm>
        </p:grpSpPr>
        <p:sp>
          <p:nvSpPr>
            <p:cNvPr id="2303" name="Freeform 27"/>
            <p:cNvSpPr/>
            <p:nvPr/>
          </p:nvSpPr>
          <p:spPr>
            <a:xfrm>
              <a:off x="3416400" y="2565360"/>
              <a:ext cx="3378240" cy="355608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3556080"/>
                <a:gd name="textAreaBottom" fmla="*/ 3556440 h 3556080"/>
              </a:gdLst>
              <a:ahLst/>
              <a:rect l="textAreaLeft" t="textAreaTop" r="textAreaRight" b="textAreaBottom"/>
              <a:pathLst>
                <a:path w="2128" h="2240">
                  <a:moveTo>
                    <a:pt x="0" y="32"/>
                  </a:moveTo>
                  <a:cubicBezTo>
                    <a:pt x="201" y="88"/>
                    <a:pt x="845" y="0"/>
                    <a:pt x="1200" y="368"/>
                  </a:cubicBezTo>
                  <a:cubicBezTo>
                    <a:pt x="1555" y="736"/>
                    <a:pt x="1935" y="1850"/>
                    <a:pt x="2128" y="224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Oval 29"/>
            <p:cNvSpPr/>
            <p:nvPr/>
          </p:nvSpPr>
          <p:spPr>
            <a:xfrm>
              <a:off x="3276720" y="2565360"/>
              <a:ext cx="142920" cy="149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Oval 30"/>
            <p:cNvSpPr/>
            <p:nvPr/>
          </p:nvSpPr>
          <p:spPr>
            <a:xfrm>
              <a:off x="6732720" y="6093000"/>
              <a:ext cx="142920" cy="149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6" name="Freeform 32"/>
          <p:cNvSpPr/>
          <p:nvPr/>
        </p:nvSpPr>
        <p:spPr>
          <a:xfrm>
            <a:off x="3352680" y="5613480"/>
            <a:ext cx="3451320" cy="12600"/>
          </a:xfrm>
          <a:custGeom>
            <a:avLst/>
            <a:gdLst>
              <a:gd name="textAreaLeft" fmla="*/ 0 w 3451320"/>
              <a:gd name="textAreaRight" fmla="*/ 3451680 w 34513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174" h="8">
                <a:moveTo>
                  <a:pt x="0" y="0"/>
                </a:moveTo>
                <a:lnTo>
                  <a:pt x="2174" y="8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Freeform 33"/>
          <p:cNvSpPr/>
          <p:nvPr/>
        </p:nvSpPr>
        <p:spPr>
          <a:xfrm>
            <a:off x="4216320" y="2603520"/>
            <a:ext cx="12960" cy="3632040"/>
          </a:xfrm>
          <a:custGeom>
            <a:avLst/>
            <a:gdLst>
              <a:gd name="textAreaLeft" fmla="*/ 0 w 12960"/>
              <a:gd name="textAreaRight" fmla="*/ 13320 w 12960"/>
              <a:gd name="textAreaTop" fmla="*/ 0 h 3632040"/>
              <a:gd name="textAreaBottom" fmla="*/ 3632400 h 3632040"/>
            </a:gdLst>
            <a:ahLst/>
            <a:rect l="textAreaLeft" t="textAreaTop" r="textAreaRight" b="textAreaBottom"/>
            <a:pathLst>
              <a:path w="8" h="2288">
                <a:moveTo>
                  <a:pt x="0" y="2288"/>
                </a:moveTo>
                <a:lnTo>
                  <a:pt x="8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8" name="Object 34" descr=""/>
          <p:cNvPicPr/>
          <p:nvPr/>
        </p:nvPicPr>
        <p:blipFill>
          <a:blip r:embed="rId3"/>
          <a:stretch/>
        </p:blipFill>
        <p:spPr>
          <a:xfrm>
            <a:off x="3495600" y="1168560"/>
            <a:ext cx="2151000" cy="4063680"/>
          </a:xfrm>
          <a:prstGeom prst="rect">
            <a:avLst/>
          </a:prstGeom>
          <a:ln w="0">
            <a:noFill/>
          </a:ln>
        </p:spPr>
      </p:pic>
      <p:pic>
        <p:nvPicPr>
          <p:cNvPr id="2309" name="Picture 2" descr="C:\Users\Ирина Михайловна\Desktop\2783.gif"/>
          <p:cNvPicPr/>
          <p:nvPr/>
        </p:nvPicPr>
        <p:blipFill>
          <a:blip r:embed="rId4"/>
          <a:stretch/>
        </p:blipFill>
        <p:spPr>
          <a:xfrm>
            <a:off x="7380360" y="4941720"/>
            <a:ext cx="1595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4" dur="1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262673"/>
                </a:solidFill>
                <a:latin typeface="Monotype Corsiva"/>
              </a:rPr>
              <a:t>Самостійна робо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262673"/>
                </a:solidFill>
                <a:latin typeface="Monotype Corsiva"/>
              </a:rPr>
              <a:t>навчального характе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 варіант - </a:t>
            </a: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870, 874 (в), 876 (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І варіант - </a:t>
            </a: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871, 874 (б), 876 (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51" descr="Рисунок12112"/>
          <p:cNvPicPr/>
          <p:nvPr/>
        </p:nvPicPr>
        <p:blipFill>
          <a:blip r:embed="rId2"/>
          <a:stretch/>
        </p:blipFill>
        <p:spPr>
          <a:xfrm>
            <a:off x="6156360" y="4376880"/>
            <a:ext cx="1868400" cy="2079360"/>
          </a:xfrm>
          <a:prstGeom prst="rect">
            <a:avLst/>
          </a:prstGeom>
          <a:ln w="0">
            <a:noFill/>
          </a:ln>
        </p:spPr>
      </p:pic>
      <p:pic>
        <p:nvPicPr>
          <p:cNvPr id="2312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3"/>
          <a:stretch/>
        </p:blipFill>
        <p:spPr>
          <a:xfrm>
            <a:off x="108000" y="2811600"/>
            <a:ext cx="3247920" cy="4057560"/>
          </a:xfrm>
          <a:prstGeom prst="rect">
            <a:avLst/>
          </a:prstGeom>
          <a:ln w="0">
            <a:noFill/>
          </a:ln>
        </p:spPr>
      </p:pic>
      <p:sp>
        <p:nvSpPr>
          <p:cNvPr id="2313" name="Лента лицом вверх 5"/>
          <p:cNvSpPr/>
          <p:nvPr/>
        </p:nvSpPr>
        <p:spPr>
          <a:xfrm>
            <a:off x="1731960" y="765000"/>
            <a:ext cx="7343640" cy="2303640"/>
          </a:xfrm>
          <a:custGeom>
            <a:avLst/>
            <a:gdLst>
              <a:gd name="textAreaLeft" fmla="*/ 1836000 w 7343640"/>
              <a:gd name="textAreaRight" fmla="*/ 5508000 w 7343640"/>
              <a:gd name="textAreaTop" fmla="*/ 0 h 2303640"/>
              <a:gd name="textAreaBottom" fmla="*/ 1919880 h 230364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66ff33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Домашнє 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Опрацювати п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Виконати впра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868, 885, 888, 889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TextBox 2"/>
          <p:cNvSpPr/>
          <p:nvPr/>
        </p:nvSpPr>
        <p:spPr>
          <a:xfrm>
            <a:off x="3497400" y="3429000"/>
            <a:ext cx="4646520" cy="233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f14124"/>
                </a:solidFill>
                <a:uFillTx/>
                <a:latin typeface="Arial"/>
              </a:rPr>
              <a:t>Мета уро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формувати поняття функціональної залежності, аргументу, області визначення та області значення функції; розг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ути різні способи задання функ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5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250920" y="2637000"/>
            <a:ext cx="3247920" cy="4057560"/>
          </a:xfrm>
          <a:prstGeom prst="rect">
            <a:avLst/>
          </a:prstGeom>
          <a:ln w="0">
            <a:noFill/>
          </a:ln>
        </p:spPr>
      </p:pic>
      <p:sp>
        <p:nvSpPr>
          <p:cNvPr id="2316" name="Горизонтальный свиток 3"/>
          <p:cNvSpPr/>
          <p:nvPr/>
        </p:nvSpPr>
        <p:spPr>
          <a:xfrm>
            <a:off x="785880" y="214200"/>
            <a:ext cx="8215200" cy="2775240"/>
          </a:xfrm>
          <a:prstGeom prst="horizontalScroll">
            <a:avLst>
              <a:gd name="adj" fmla="val 125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66"/>
                </a:solidFill>
                <a:uFillTx/>
                <a:latin typeface="Trebuchet MS"/>
              </a:rPr>
              <a:t>Т</a:t>
            </a:r>
            <a:r>
              <a:rPr b="1" i="1" lang="uk-UA" sz="2800" spc="-1" strike="noStrike" u="sng">
                <a:solidFill>
                  <a:srgbClr val="ffff66"/>
                </a:solidFill>
                <a:uFillTx/>
                <a:latin typeface="Trebuchet MS"/>
              </a:rPr>
              <a:t>ема уроку:</a:t>
            </a:r>
            <a:r>
              <a:rPr b="1" i="1" lang="uk-UA" sz="2800" spc="-1" strike="noStrike">
                <a:solidFill>
                  <a:srgbClr val="ffff66"/>
                </a:solidFill>
                <a:latin typeface="Trebuchet MS"/>
              </a:rPr>
              <a:t> Функція. Область визначення і область значень функції. Способи задання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3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30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TextBox 1"/>
          <p:cNvSpPr/>
          <p:nvPr/>
        </p:nvSpPr>
        <p:spPr>
          <a:xfrm>
            <a:off x="684360" y="396720"/>
            <a:ext cx="617364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і поняття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TextBox 7"/>
          <p:cNvSpPr/>
          <p:nvPr/>
        </p:nvSpPr>
        <p:spPr>
          <a:xfrm>
            <a:off x="685800" y="1844640"/>
            <a:ext cx="698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.Які є способи задання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функції?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Box 8"/>
          <p:cNvSpPr/>
          <p:nvPr/>
        </p:nvSpPr>
        <p:spPr>
          <a:xfrm>
            <a:off x="685800" y="2505240"/>
            <a:ext cx="70340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3.Щ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зиваєть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ргументом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Що називається значенням функції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Box 3"/>
          <p:cNvSpPr/>
          <p:nvPr/>
        </p:nvSpPr>
        <p:spPr>
          <a:xfrm>
            <a:off x="722160" y="3573360"/>
            <a:ext cx="7034400" cy="132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Як знайти значення функції, якщо відомо значення аргументу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Як знайти значення аргументу, коли відомо значення функці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TextBox 6"/>
          <p:cNvSpPr/>
          <p:nvPr/>
        </p:nvSpPr>
        <p:spPr>
          <a:xfrm>
            <a:off x="804960" y="5732640"/>
            <a:ext cx="7034040" cy="50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6</a:t>
            </a:r>
            <a:r>
              <a:rPr b="1" i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.</a:t>
            </a: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 Що називається областю значення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Box 7"/>
          <p:cNvSpPr/>
          <p:nvPr/>
        </p:nvSpPr>
        <p:spPr>
          <a:xfrm>
            <a:off x="785880" y="5143680"/>
            <a:ext cx="7034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5</a:t>
            </a:r>
            <a:r>
              <a:rPr b="1" i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. </a:t>
            </a: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Що називається областю визначення функці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4" name="Picture 10" descr="C:\Users\Ирина Михайловна\Desktop\MOI7.gif"/>
          <p:cNvPicPr/>
          <p:nvPr/>
        </p:nvPicPr>
        <p:blipFill>
          <a:blip r:embed="rId4"/>
          <a:stretch/>
        </p:blipFill>
        <p:spPr>
          <a:xfrm>
            <a:off x="7742160" y="430200"/>
            <a:ext cx="1214640" cy="1517760"/>
          </a:xfrm>
          <a:prstGeom prst="rect">
            <a:avLst/>
          </a:prstGeom>
          <a:ln w="0">
            <a:noFill/>
          </a:ln>
        </p:spPr>
      </p:pic>
      <p:sp>
        <p:nvSpPr>
          <p:cNvPr id="2125" name="TextBox 4"/>
          <p:cNvSpPr/>
          <p:nvPr/>
        </p:nvSpPr>
        <p:spPr>
          <a:xfrm>
            <a:off x="708120" y="1244520"/>
            <a:ext cx="7003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i="1" lang="uk-UA" sz="1800" spc="-1" strike="noStrike">
                <a:solidFill>
                  <a:srgbClr val="663300"/>
                </a:solidFill>
                <a:latin typeface="Arial"/>
              </a:rPr>
              <a:t>Що називається функцією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TextBox 2"/>
          <p:cNvSpPr/>
          <p:nvPr/>
        </p:nvSpPr>
        <p:spPr>
          <a:xfrm>
            <a:off x="3497400" y="3429000"/>
            <a:ext cx="4646520" cy="233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f14124"/>
                </a:solidFill>
                <a:uFillTx/>
                <a:latin typeface="Arial"/>
              </a:rPr>
              <a:t>Мета уро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формувати поняття функціональної залежності, аргументу, області визначення та області значення функції; розг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ути різні способи задання функ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7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250920" y="2637000"/>
            <a:ext cx="3247920" cy="4057560"/>
          </a:xfrm>
          <a:prstGeom prst="rect">
            <a:avLst/>
          </a:prstGeom>
          <a:ln w="0">
            <a:noFill/>
          </a:ln>
        </p:spPr>
      </p:pic>
      <p:sp>
        <p:nvSpPr>
          <p:cNvPr id="2128" name="Горизонтальный свиток 3"/>
          <p:cNvSpPr/>
          <p:nvPr/>
        </p:nvSpPr>
        <p:spPr>
          <a:xfrm>
            <a:off x="785880" y="214200"/>
            <a:ext cx="8215200" cy="2775240"/>
          </a:xfrm>
          <a:prstGeom prst="horizontalScroll">
            <a:avLst>
              <a:gd name="adj" fmla="val 125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66"/>
                </a:solidFill>
                <a:uFillTx/>
                <a:latin typeface="Trebuchet MS"/>
              </a:rPr>
              <a:t>Т</a:t>
            </a:r>
            <a:r>
              <a:rPr b="1" i="1" lang="uk-UA" sz="2800" spc="-1" strike="noStrike" u="sng">
                <a:solidFill>
                  <a:srgbClr val="ffff66"/>
                </a:solidFill>
                <a:uFillTx/>
                <a:latin typeface="Trebuchet MS"/>
              </a:rPr>
              <a:t>ема уроку:</a:t>
            </a:r>
            <a:r>
              <a:rPr b="1" i="1" lang="uk-UA" sz="2800" spc="-1" strike="noStrike">
                <a:solidFill>
                  <a:srgbClr val="ffff66"/>
                </a:solidFill>
                <a:latin typeface="Trebuchet MS"/>
              </a:rPr>
              <a:t> Функція. Область визначення і область значень функції. Способи задання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30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30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WordArt 4"/>
          <p:cNvSpPr txBox="1"/>
          <p:nvPr/>
        </p:nvSpPr>
        <p:spPr>
          <a:xfrm>
            <a:off x="1476360" y="476280"/>
            <a:ext cx="3743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ункція 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0" name="Text Box 5"/>
          <p:cNvSpPr/>
          <p:nvPr/>
        </p:nvSpPr>
        <p:spPr>
          <a:xfrm>
            <a:off x="53964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Це така залежність між змінними при як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6"/>
          <p:cNvSpPr/>
          <p:nvPr/>
        </p:nvSpPr>
        <p:spPr>
          <a:xfrm>
            <a:off x="539640" y="1989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жному    значенню     незалежної     змінної відповідає єдине значення залежної змінно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Прямоугольник 1"/>
          <p:cNvSpPr/>
          <p:nvPr/>
        </p:nvSpPr>
        <p:spPr>
          <a:xfrm>
            <a:off x="928800" y="3143160"/>
            <a:ext cx="52149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Термін “Функція” вперше зустрічається в рукописі Г. Лейбніца (1673 р.), в друкованому вигляді (1692 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Із латинської </a:t>
            </a:r>
            <a:r>
              <a:rPr b="1" i="1" lang="en-US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 function </a:t>
            </a:r>
            <a:r>
              <a:rPr b="1" i="1" lang="uk-UA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переводиться як “здійснення”, “виконання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8675640" y="0"/>
            <a:ext cx="468360" cy="5205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20560"/>
              <a:gd name="textAreaBottom" fmla="*/ 490320 h 520560"/>
            </a:gdLst>
            <a:ahLst/>
            <a:rect l="textAreaLeft" t="textAreaTop" r="textAreaRight" b="textAreaBottom"/>
            <a:pathLst>
              <a:path w="21600" h="24006">
                <a:moveTo>
                  <a:pt x="0" y="0"/>
                </a:moveTo>
                <a:lnTo>
                  <a:pt x="21600" y="0"/>
                </a:lnTo>
                <a:lnTo>
                  <a:pt x="21600" y="24006"/>
                </a:lnTo>
                <a:lnTo>
                  <a:pt x="0" y="24006"/>
                </a:lnTo>
                <a:close/>
              </a:path>
              <a:path fill="lightenLess" w="21600" h="24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6">
                <a:moveTo>
                  <a:pt x="21600" y="0"/>
                </a:moveTo>
                <a:lnTo>
                  <a:pt x="21600" y="24006"/>
                </a:lnTo>
                <a:lnTo>
                  <a:pt x="20200" y="22606"/>
                </a:lnTo>
                <a:lnTo>
                  <a:pt x="20200" y="1400"/>
                </a:lnTo>
                <a:close/>
              </a:path>
              <a:path fill="darkenLess" w="21600" h="24006">
                <a:moveTo>
                  <a:pt x="21600" y="24006"/>
                </a:moveTo>
                <a:lnTo>
                  <a:pt x="0" y="24006"/>
                </a:lnTo>
                <a:lnTo>
                  <a:pt x="1400" y="22606"/>
                </a:lnTo>
                <a:lnTo>
                  <a:pt x="20200" y="22606"/>
                </a:lnTo>
                <a:close/>
              </a:path>
              <a:path fill="lighten" w="21600" h="24006">
                <a:moveTo>
                  <a:pt x="0" y="24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6"/>
                </a:lnTo>
                <a:close/>
              </a:path>
              <a:path fill="darken" w="21600" h="24006">
                <a:moveTo>
                  <a:pt x="3794" y="12003"/>
                </a:moveTo>
                <a:lnTo>
                  <a:pt x="17806" y="4996"/>
                </a:lnTo>
                <a:lnTo>
                  <a:pt x="17806" y="1900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4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6012000" y="2508120"/>
            <a:ext cx="32479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Прямоугольник 3"/>
          <p:cNvSpPr/>
          <p:nvPr/>
        </p:nvSpPr>
        <p:spPr>
          <a:xfrm>
            <a:off x="1488960" y="4968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Незалежну змінну (х) ще назива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Прямоугольник 4"/>
          <p:cNvSpPr/>
          <p:nvPr/>
        </p:nvSpPr>
        <p:spPr>
          <a:xfrm>
            <a:off x="4574880" y="1062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аргу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Прямоугольник 7"/>
          <p:cNvSpPr/>
          <p:nvPr/>
        </p:nvSpPr>
        <p:spPr>
          <a:xfrm>
            <a:off x="1499040" y="1616040"/>
            <a:ext cx="72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Залежну змінну (у) ще називаю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Прямоугольник 8"/>
          <p:cNvSpPr/>
          <p:nvPr/>
        </p:nvSpPr>
        <p:spPr>
          <a:xfrm>
            <a:off x="4660560" y="225900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функціє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Прямоугольник 9"/>
          <p:cNvSpPr/>
          <p:nvPr/>
        </p:nvSpPr>
        <p:spPr>
          <a:xfrm>
            <a:off x="3132000" y="2852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або значенням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Прямоугольник 10"/>
          <p:cNvSpPr/>
          <p:nvPr/>
        </p:nvSpPr>
        <p:spPr>
          <a:xfrm>
            <a:off x="923040" y="4076640"/>
            <a:ext cx="53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У цьому випадку пиш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Прямоугольник 11"/>
          <p:cNvSpPr/>
          <p:nvPr/>
        </p:nvSpPr>
        <p:spPr>
          <a:xfrm>
            <a:off x="5994000" y="4653000"/>
            <a:ext cx="13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Y=f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( 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Управляющая кнопка: назад 1"/>
          <p:cNvSpPr/>
          <p:nvPr/>
        </p:nvSpPr>
        <p:spPr>
          <a:xfrm>
            <a:off x="8415360" y="38160"/>
            <a:ext cx="728640" cy="522360"/>
          </a:xfrm>
          <a:custGeom>
            <a:avLst/>
            <a:gdLst>
              <a:gd name="textAreaLeft" fmla="*/ 33840 w 728640"/>
              <a:gd name="textAreaRight" fmla="*/ 694800 w 72864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30124" h="21600">
                <a:moveTo>
                  <a:pt x="0" y="0"/>
                </a:moveTo>
                <a:lnTo>
                  <a:pt x="30124" y="0"/>
                </a:lnTo>
                <a:lnTo>
                  <a:pt x="30124" y="21600"/>
                </a:lnTo>
                <a:lnTo>
                  <a:pt x="0" y="21600"/>
                </a:lnTo>
                <a:close/>
              </a:path>
              <a:path fill="lightenLess" w="30124" h="21600">
                <a:moveTo>
                  <a:pt x="0" y="0"/>
                </a:moveTo>
                <a:lnTo>
                  <a:pt x="30124" y="0"/>
                </a:lnTo>
                <a:lnTo>
                  <a:pt x="28724" y="1400"/>
                </a:lnTo>
                <a:lnTo>
                  <a:pt x="1400" y="1400"/>
                </a:lnTo>
                <a:close/>
              </a:path>
              <a:path fill="darken" w="30124" h="21600">
                <a:moveTo>
                  <a:pt x="30124" y="0"/>
                </a:moveTo>
                <a:lnTo>
                  <a:pt x="30124" y="21600"/>
                </a:lnTo>
                <a:lnTo>
                  <a:pt x="28724" y="20200"/>
                </a:lnTo>
                <a:lnTo>
                  <a:pt x="28724" y="1400"/>
                </a:lnTo>
                <a:close/>
              </a:path>
              <a:path fill="darkenLess" w="30124" h="21600">
                <a:moveTo>
                  <a:pt x="3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24" y="20200"/>
                </a:lnTo>
                <a:close/>
              </a:path>
              <a:path fill="lighten" w="3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24" h="21600">
                <a:moveTo>
                  <a:pt x="8056" y="10800"/>
                </a:moveTo>
                <a:lnTo>
                  <a:pt x="22068" y="3794"/>
                </a:lnTo>
                <a:lnTo>
                  <a:pt x="220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4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ласть значення і область визначення фун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854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іль рухається по шосе з постійною швидкістю 70 км / год. За час t год автомобіль проходить шлях S = 70 · t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6"/>
          <p:cNvSpPr/>
          <p:nvPr/>
        </p:nvSpPr>
        <p:spPr>
          <a:xfrm>
            <a:off x="179280" y="2421000"/>
            <a:ext cx="633744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і значення може приймати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7"/>
          <p:cNvSpPr/>
          <p:nvPr/>
        </p:nvSpPr>
        <p:spPr>
          <a:xfrm>
            <a:off x="179280" y="2997360"/>
            <a:ext cx="633744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значення може приймати 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8"/>
          <p:cNvSpPr/>
          <p:nvPr/>
        </p:nvSpPr>
        <p:spPr>
          <a:xfrm>
            <a:off x="6659640" y="242100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9"/>
          <p:cNvSpPr/>
          <p:nvPr/>
        </p:nvSpPr>
        <p:spPr>
          <a:xfrm>
            <a:off x="6659640" y="299736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1"/>
          <p:cNvSpPr/>
          <p:nvPr/>
        </p:nvSpPr>
        <p:spPr>
          <a:xfrm>
            <a:off x="250920" y="3645000"/>
            <a:ext cx="597672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і значення, які приймає незалежна змінна утворюють область визначення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2"/>
          <p:cNvSpPr/>
          <p:nvPr/>
        </p:nvSpPr>
        <p:spPr>
          <a:xfrm>
            <a:off x="250920" y="5229360"/>
            <a:ext cx="597672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начення залежної змінної утворюють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 область значень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13"/>
          <p:cNvSpPr/>
          <p:nvPr/>
        </p:nvSpPr>
        <p:spPr>
          <a:xfrm flipV="1">
            <a:off x="5292720" y="2708280"/>
            <a:ext cx="1511280" cy="100800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Freeform 14"/>
          <p:cNvSpPr/>
          <p:nvPr/>
        </p:nvSpPr>
        <p:spPr>
          <a:xfrm>
            <a:off x="5940360" y="3251160"/>
            <a:ext cx="930240" cy="2266920"/>
          </a:xfrm>
          <a:custGeom>
            <a:avLst/>
            <a:gdLst>
              <a:gd name="textAreaLeft" fmla="*/ 0 w 930240"/>
              <a:gd name="textAreaRight" fmla="*/ 930600 w 930240"/>
              <a:gd name="textAreaTop" fmla="*/ 0 h 2266920"/>
              <a:gd name="textAreaBottom" fmla="*/ 2267280 h 2266920"/>
            </a:gdLst>
            <a:ahLst/>
            <a:rect l="textAreaLeft" t="textAreaTop" r="textAreaRight" b="textAreaBottom"/>
            <a:pathLst>
              <a:path w="586" h="1428">
                <a:moveTo>
                  <a:pt x="0" y="1428"/>
                </a:moveTo>
                <a:lnTo>
                  <a:pt x="586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3" name="Picture 13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7045200" y="3716280"/>
            <a:ext cx="257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4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ласть значень і  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ласть визначення функ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5"/>
          <p:cNvSpPr/>
          <p:nvPr/>
        </p:nvSpPr>
        <p:spPr>
          <a:xfrm>
            <a:off x="611280" y="2924280"/>
            <a:ext cx="799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Line 6"/>
          <p:cNvSpPr/>
          <p:nvPr/>
        </p:nvSpPr>
        <p:spPr>
          <a:xfrm flipV="1">
            <a:off x="971640" y="1483920"/>
            <a:ext cx="0" cy="331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Text Box 7"/>
          <p:cNvSpPr/>
          <p:nvPr/>
        </p:nvSpPr>
        <p:spPr>
          <a:xfrm>
            <a:off x="685800" y="2851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ext Box 8"/>
          <p:cNvSpPr/>
          <p:nvPr/>
        </p:nvSpPr>
        <p:spPr>
          <a:xfrm>
            <a:off x="14778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9"/>
          <p:cNvSpPr/>
          <p:nvPr/>
        </p:nvSpPr>
        <p:spPr>
          <a:xfrm>
            <a:off x="29178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0"/>
          <p:cNvSpPr/>
          <p:nvPr/>
        </p:nvSpPr>
        <p:spPr>
          <a:xfrm>
            <a:off x="3636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1"/>
          <p:cNvSpPr/>
          <p:nvPr/>
        </p:nvSpPr>
        <p:spPr>
          <a:xfrm>
            <a:off x="507816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2"/>
          <p:cNvSpPr/>
          <p:nvPr/>
        </p:nvSpPr>
        <p:spPr>
          <a:xfrm>
            <a:off x="579744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13"/>
          <p:cNvSpPr/>
          <p:nvPr/>
        </p:nvSpPr>
        <p:spPr>
          <a:xfrm>
            <a:off x="723744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14"/>
          <p:cNvSpPr/>
          <p:nvPr/>
        </p:nvSpPr>
        <p:spPr>
          <a:xfrm>
            <a:off x="-360" y="1150920"/>
            <a:ext cx="15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м/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15"/>
          <p:cNvSpPr/>
          <p:nvPr/>
        </p:nvSpPr>
        <p:spPr>
          <a:xfrm>
            <a:off x="8104320" y="29242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16"/>
          <p:cNvSpPr/>
          <p:nvPr/>
        </p:nvSpPr>
        <p:spPr>
          <a:xfrm>
            <a:off x="469440" y="155592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Text Box 17"/>
          <p:cNvSpPr/>
          <p:nvPr/>
        </p:nvSpPr>
        <p:spPr>
          <a:xfrm>
            <a:off x="396360" y="429264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Freeform 18"/>
          <p:cNvSpPr/>
          <p:nvPr/>
        </p:nvSpPr>
        <p:spPr>
          <a:xfrm>
            <a:off x="965160" y="4567320"/>
            <a:ext cx="5029200" cy="14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68" h="1">
                <a:moveTo>
                  <a:pt x="0" y="0"/>
                </a:moveTo>
                <a:lnTo>
                  <a:pt x="31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19"/>
          <p:cNvSpPr/>
          <p:nvPr/>
        </p:nvSpPr>
        <p:spPr>
          <a:xfrm>
            <a:off x="971640" y="1771560"/>
            <a:ext cx="711000" cy="1800"/>
          </a:xfrm>
          <a:custGeom>
            <a:avLst/>
            <a:gdLst>
              <a:gd name="textAreaLeft" fmla="*/ 0 w 711000"/>
              <a:gd name="textAreaRight" fmla="*/ 711360 w 711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8" h="1">
                <a:moveTo>
                  <a:pt x="0" y="0"/>
                </a:moveTo>
                <a:lnTo>
                  <a:pt x="44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Line 20"/>
          <p:cNvSpPr/>
          <p:nvPr/>
        </p:nvSpPr>
        <p:spPr>
          <a:xfrm>
            <a:off x="1692360" y="1771560"/>
            <a:ext cx="143964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Freeform 21"/>
          <p:cNvSpPr/>
          <p:nvPr/>
        </p:nvSpPr>
        <p:spPr>
          <a:xfrm>
            <a:off x="965160" y="1760400"/>
            <a:ext cx="711360" cy="1155960"/>
          </a:xfrm>
          <a:custGeom>
            <a:avLst/>
            <a:gdLst>
              <a:gd name="textAreaLeft" fmla="*/ 0 w 711360"/>
              <a:gd name="textAreaRight" fmla="*/ 711720 w 71136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448" h="728">
                <a:moveTo>
                  <a:pt x="0" y="728"/>
                </a:moveTo>
                <a:lnTo>
                  <a:pt x="448" y="0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22"/>
          <p:cNvSpPr/>
          <p:nvPr/>
        </p:nvSpPr>
        <p:spPr>
          <a:xfrm>
            <a:off x="3149640" y="1773360"/>
            <a:ext cx="685800" cy="1155600"/>
          </a:xfrm>
          <a:custGeom>
            <a:avLst/>
            <a:gdLst>
              <a:gd name="textAreaLeft" fmla="*/ 0 w 685800"/>
              <a:gd name="textAreaRight" fmla="*/ 686160 w 6858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432" h="728">
                <a:moveTo>
                  <a:pt x="0" y="0"/>
                </a:moveTo>
                <a:lnTo>
                  <a:pt x="432" y="728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23"/>
          <p:cNvSpPr/>
          <p:nvPr/>
        </p:nvSpPr>
        <p:spPr>
          <a:xfrm>
            <a:off x="3851280" y="2924280"/>
            <a:ext cx="144000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reeform 24"/>
          <p:cNvSpPr/>
          <p:nvPr/>
        </p:nvSpPr>
        <p:spPr>
          <a:xfrm>
            <a:off x="6006960" y="4567320"/>
            <a:ext cx="1473480" cy="144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28" h="1">
                <a:moveTo>
                  <a:pt x="0" y="0"/>
                </a:moveTo>
                <a:lnTo>
                  <a:pt x="928" y="0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Freeform 25"/>
          <p:cNvSpPr/>
          <p:nvPr/>
        </p:nvSpPr>
        <p:spPr>
          <a:xfrm>
            <a:off x="5292720" y="2924280"/>
            <a:ext cx="714240" cy="1668240"/>
          </a:xfrm>
          <a:custGeom>
            <a:avLst/>
            <a:gdLst>
              <a:gd name="textAreaLeft" fmla="*/ 0 w 714240"/>
              <a:gd name="textAreaRight" fmla="*/ 714600 w 714240"/>
              <a:gd name="textAreaTop" fmla="*/ 0 h 1668240"/>
              <a:gd name="textAreaBottom" fmla="*/ 1668600 h 1668240"/>
            </a:gdLst>
            <a:ahLst/>
            <a:rect l="textAreaLeft" t="textAreaTop" r="textAreaRight" b="textAreaBottom"/>
            <a:pathLst>
              <a:path w="450" h="1051">
                <a:moveTo>
                  <a:pt x="0" y="0"/>
                </a:moveTo>
                <a:lnTo>
                  <a:pt x="450" y="1051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Line 26"/>
          <p:cNvSpPr/>
          <p:nvPr/>
        </p:nvSpPr>
        <p:spPr>
          <a:xfrm>
            <a:off x="1692360" y="1771560"/>
            <a:ext cx="0" cy="11527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Line 27"/>
          <p:cNvSpPr/>
          <p:nvPr/>
        </p:nvSpPr>
        <p:spPr>
          <a:xfrm>
            <a:off x="3132000" y="1771560"/>
            <a:ext cx="0" cy="11527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28"/>
          <p:cNvSpPr/>
          <p:nvPr/>
        </p:nvSpPr>
        <p:spPr>
          <a:xfrm>
            <a:off x="6006960" y="2941560"/>
            <a:ext cx="1800" cy="1600200"/>
          </a:xfrm>
          <a:custGeom>
            <a:avLst/>
            <a:gdLst>
              <a:gd name="textAreaLeft" fmla="*/ 0 w 1800"/>
              <a:gd name="textAreaRight" fmla="*/ 2160 w 18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" h="1008">
                <a:moveTo>
                  <a:pt x="0" y="0"/>
                </a:moveTo>
                <a:lnTo>
                  <a:pt x="0" y="1008"/>
                </a:lnTo>
              </a:path>
            </a:pathLst>
          </a:custGeom>
          <a:noFill/>
          <a:ln w="223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Freeform 29"/>
          <p:cNvSpPr/>
          <p:nvPr/>
        </p:nvSpPr>
        <p:spPr>
          <a:xfrm>
            <a:off x="7453440" y="2928960"/>
            <a:ext cx="1440" cy="1650960"/>
          </a:xfrm>
          <a:custGeom>
            <a:avLst/>
            <a:gdLst>
              <a:gd name="textAreaLeft" fmla="*/ 0 w 1440"/>
              <a:gd name="textAreaRight" fmla="*/ 1800 w 14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1" h="1040">
                <a:moveTo>
                  <a:pt x="1" y="0"/>
                </a:moveTo>
                <a:lnTo>
                  <a:pt x="0" y="1040"/>
                </a:lnTo>
              </a:path>
            </a:pathLst>
          </a:custGeom>
          <a:noFill/>
          <a:ln w="223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ext Box 30"/>
          <p:cNvSpPr/>
          <p:nvPr/>
        </p:nvSpPr>
        <p:spPr>
          <a:xfrm>
            <a:off x="1054080" y="1052640"/>
            <a:ext cx="7956720" cy="45972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афік швидкості автомобіля  v в залежності від часу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34"/>
          <p:cNvSpPr/>
          <p:nvPr/>
        </p:nvSpPr>
        <p:spPr>
          <a:xfrm>
            <a:off x="250920" y="4869000"/>
            <a:ext cx="633708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значення (за графіком) приймає 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 Box 35"/>
          <p:cNvSpPr/>
          <p:nvPr/>
        </p:nvSpPr>
        <p:spPr>
          <a:xfrm>
            <a:off x="6948360" y="486900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Text Box 36"/>
          <p:cNvSpPr/>
          <p:nvPr/>
        </p:nvSpPr>
        <p:spPr>
          <a:xfrm>
            <a:off x="250920" y="5516640"/>
            <a:ext cx="633708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значення (за графіком) приймає 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Text Box 37"/>
          <p:cNvSpPr/>
          <p:nvPr/>
        </p:nvSpPr>
        <p:spPr>
          <a:xfrm>
            <a:off x="6948360" y="551664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38"/>
          <p:cNvSpPr/>
          <p:nvPr/>
        </p:nvSpPr>
        <p:spPr>
          <a:xfrm>
            <a:off x="723960" y="6093000"/>
            <a:ext cx="34984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бласть визнач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Text Box 39"/>
          <p:cNvSpPr/>
          <p:nvPr/>
        </p:nvSpPr>
        <p:spPr>
          <a:xfrm>
            <a:off x="4788000" y="6093000"/>
            <a:ext cx="388764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бласть зна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Freeform 40"/>
          <p:cNvSpPr/>
          <p:nvPr/>
        </p:nvSpPr>
        <p:spPr>
          <a:xfrm>
            <a:off x="3124080" y="5308560"/>
            <a:ext cx="4686480" cy="889200"/>
          </a:xfrm>
          <a:custGeom>
            <a:avLst/>
            <a:gdLst>
              <a:gd name="textAreaLeft" fmla="*/ 0 w 4686480"/>
              <a:gd name="textAreaRight" fmla="*/ 4686480 w 46864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952" h="560">
                <a:moveTo>
                  <a:pt x="2952" y="0"/>
                </a:moveTo>
                <a:lnTo>
                  <a:pt x="0" y="56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Freeform 41"/>
          <p:cNvSpPr/>
          <p:nvPr/>
        </p:nvSpPr>
        <p:spPr>
          <a:xfrm>
            <a:off x="7277040" y="5905440"/>
            <a:ext cx="647640" cy="266760"/>
          </a:xfrm>
          <a:custGeom>
            <a:avLst/>
            <a:gdLst>
              <a:gd name="textAreaLeft" fmla="*/ 0 w 647640"/>
              <a:gd name="textAreaRight" fmla="*/ 648000 w 6476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08" h="168">
                <a:moveTo>
                  <a:pt x="408" y="0"/>
                </a:moveTo>
                <a:lnTo>
                  <a:pt x="0" y="16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Text Box 5"/>
          <p:cNvSpPr/>
          <p:nvPr/>
        </p:nvSpPr>
        <p:spPr>
          <a:xfrm>
            <a:off x="1267920" y="189000"/>
            <a:ext cx="149148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0" name="Group 12"/>
          <p:cNvGrpSpPr/>
          <p:nvPr/>
        </p:nvGrpSpPr>
        <p:grpSpPr>
          <a:xfrm>
            <a:off x="1908000" y="692280"/>
            <a:ext cx="7056720" cy="1557000"/>
            <a:chOff x="1908000" y="692280"/>
            <a:chExt cx="7056720" cy="1557000"/>
          </a:xfrm>
        </p:grpSpPr>
        <p:sp>
          <p:nvSpPr>
            <p:cNvPr id="2191" name="Text Box 7"/>
            <p:cNvSpPr/>
            <p:nvPr/>
          </p:nvSpPr>
          <p:spPr>
            <a:xfrm>
              <a:off x="1908000" y="692280"/>
              <a:ext cx="7056720" cy="155700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ункція задана формулою                        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  2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≤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≤ 9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Object 9" descr=""/>
            <p:cNvPicPr/>
            <p:nvPr/>
          </p:nvPicPr>
          <p:blipFill>
            <a:blip r:embed="rId2"/>
            <a:stretch/>
          </p:blipFill>
          <p:spPr>
            <a:xfrm>
              <a:off x="5796000" y="723960"/>
              <a:ext cx="295272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3" name="Oval 11"/>
          <p:cNvSpPr/>
          <p:nvPr/>
        </p:nvSpPr>
        <p:spPr>
          <a:xfrm>
            <a:off x="1403280" y="126828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 Box 13"/>
          <p:cNvSpPr/>
          <p:nvPr/>
        </p:nvSpPr>
        <p:spPr>
          <a:xfrm>
            <a:off x="1493280" y="2360520"/>
            <a:ext cx="7341840" cy="825480"/>
          </a:xfrm>
          <a:prstGeom prst="rect">
            <a:avLst/>
          </a:prstGeom>
          <a:solidFill>
            <a:srgbClr val="99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цьому прикладі область визначення вказана – вс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енн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що задовольняють умову 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5" name="Group 17"/>
          <p:cNvGrpSpPr/>
          <p:nvPr/>
        </p:nvGrpSpPr>
        <p:grpSpPr>
          <a:xfrm>
            <a:off x="1908000" y="3259080"/>
            <a:ext cx="7056720" cy="1193760"/>
            <a:chOff x="1908000" y="3259080"/>
            <a:chExt cx="7056720" cy="1193760"/>
          </a:xfrm>
        </p:grpSpPr>
        <p:sp>
          <p:nvSpPr>
            <p:cNvPr id="2196" name="Text Box 18"/>
            <p:cNvSpPr/>
            <p:nvPr/>
          </p:nvSpPr>
          <p:spPr>
            <a:xfrm>
              <a:off x="1908000" y="3259080"/>
              <a:ext cx="7056720" cy="119124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ункція задана формулою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7" name="Object 19" descr=""/>
            <p:cNvPicPr/>
            <p:nvPr/>
          </p:nvPicPr>
          <p:blipFill>
            <a:blip r:embed="rId3"/>
            <a:stretch/>
          </p:blipFill>
          <p:spPr>
            <a:xfrm>
              <a:off x="5796000" y="3290760"/>
              <a:ext cx="295272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8" name="Oval 20"/>
          <p:cNvSpPr/>
          <p:nvPr/>
        </p:nvSpPr>
        <p:spPr>
          <a:xfrm>
            <a:off x="1403280" y="3683160"/>
            <a:ext cx="43200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21"/>
          <p:cNvSpPr/>
          <p:nvPr/>
        </p:nvSpPr>
        <p:spPr>
          <a:xfrm>
            <a:off x="1436760" y="4581360"/>
            <a:ext cx="7273800" cy="1191240"/>
          </a:xfrm>
          <a:prstGeom prst="rect">
            <a:avLst/>
          </a:prstGeom>
          <a:solidFill>
            <a:srgbClr val="99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цьому випадку область визначення не зад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йдемо значення аргументу, при якому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мула для функції має зміс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0" name="Picture 10" descr="C:\Users\Ирина Михайловна\Desktop\MOI7.gif"/>
          <p:cNvPicPr/>
          <p:nvPr/>
        </p:nvPicPr>
        <p:blipFill>
          <a:blip r:embed="rId4"/>
          <a:stretch/>
        </p:blipFill>
        <p:spPr>
          <a:xfrm>
            <a:off x="7750080" y="5340240"/>
            <a:ext cx="12146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TextBox 4"/>
          <p:cNvSpPr/>
          <p:nvPr/>
        </p:nvSpPr>
        <p:spPr>
          <a:xfrm>
            <a:off x="324000" y="124920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Табличний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за допомогою табли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2" name=""/>
          <p:cNvGraphicFramePr/>
          <p:nvPr/>
        </p:nvGraphicFramePr>
        <p:xfrm>
          <a:off x="324000" y="1944720"/>
          <a:ext cx="3840120" cy="817560"/>
        </p:xfrm>
        <a:graphic>
          <a:graphicData uri="http://schemas.openxmlformats.org/drawingml/2006/table">
            <a:tbl>
              <a:tblPr/>
              <a:tblGrid>
                <a:gridCol w="639720"/>
                <a:gridCol w="639720"/>
                <a:gridCol w="639720"/>
                <a:gridCol w="641160"/>
                <a:gridCol w="640080"/>
                <a:gridCol w="639720"/>
              </a:tblGrid>
              <a:tr h="409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2203" name="TextBox 6"/>
          <p:cNvSpPr/>
          <p:nvPr/>
        </p:nvSpPr>
        <p:spPr>
          <a:xfrm>
            <a:off x="361800" y="2930400"/>
            <a:ext cx="43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Аналітичний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за допомогою математичної форм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Object 2" descr=""/>
          <p:cNvPicPr/>
          <p:nvPr/>
        </p:nvPicPr>
        <p:blipFill>
          <a:blip r:embed="rId2"/>
          <a:stretch/>
        </p:blipFill>
        <p:spPr>
          <a:xfrm>
            <a:off x="1440000" y="3638520"/>
            <a:ext cx="1098360" cy="503280"/>
          </a:xfrm>
          <a:prstGeom prst="rect">
            <a:avLst/>
          </a:prstGeom>
          <a:ln w="0">
            <a:noFill/>
          </a:ln>
        </p:spPr>
      </p:pic>
      <p:sp>
        <p:nvSpPr>
          <p:cNvPr id="2205" name="TextBox 8"/>
          <p:cNvSpPr/>
          <p:nvPr/>
        </p:nvSpPr>
        <p:spPr>
          <a:xfrm>
            <a:off x="5214960" y="12654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Графічний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за допомогою графі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6" name="Picture 4" descr=""/>
          <p:cNvPicPr/>
          <p:nvPr/>
        </p:nvPicPr>
        <p:blipFill>
          <a:blip r:embed="rId3"/>
          <a:srcRect l="0" t="0" r="-103" b="0"/>
          <a:stretch/>
        </p:blipFill>
        <p:spPr>
          <a:xfrm>
            <a:off x="5700600" y="2419200"/>
            <a:ext cx="2745000" cy="38577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207" name="TextBox 6"/>
          <p:cNvSpPr/>
          <p:nvPr/>
        </p:nvSpPr>
        <p:spPr>
          <a:xfrm>
            <a:off x="324000" y="4149720"/>
            <a:ext cx="5038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Описовий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словесним опи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ому цілому числу поставити у відповідність його квадр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Полілінія 11"/>
          <p:cNvSpPr/>
          <p:nvPr/>
        </p:nvSpPr>
        <p:spPr>
          <a:xfrm>
            <a:off x="6084720" y="2592360"/>
            <a:ext cx="2144880" cy="3414600"/>
          </a:xfrm>
          <a:custGeom>
            <a:avLst/>
            <a:gdLst/>
            <a:ahLst/>
            <a:rect l="l" t="t" r="r" b="b"/>
            <a:pathLst>
              <a:path w="2381250" h="3414651">
                <a:moveTo>
                  <a:pt x="0" y="2703391"/>
                </a:moveTo>
                <a:cubicBezTo>
                  <a:pt x="87312" y="1954091"/>
                  <a:pt x="337910" y="3458133"/>
                  <a:pt x="487135" y="3413683"/>
                </a:cubicBezTo>
                <a:cubicBezTo>
                  <a:pt x="636360" y="3369233"/>
                  <a:pt x="749527" y="3002295"/>
                  <a:pt x="895350" y="2436691"/>
                </a:cubicBezTo>
                <a:cubicBezTo>
                  <a:pt x="1041173" y="1871088"/>
                  <a:pt x="1197202" y="213964"/>
                  <a:pt x="1362075" y="20062"/>
                </a:cubicBezTo>
                <a:cubicBezTo>
                  <a:pt x="1526948" y="-173840"/>
                  <a:pt x="1775138" y="1097295"/>
                  <a:pt x="1884589" y="1273281"/>
                </a:cubicBezTo>
                <a:cubicBezTo>
                  <a:pt x="1994041" y="1449267"/>
                  <a:pt x="1996417" y="1310020"/>
                  <a:pt x="2079194" y="1108634"/>
                </a:cubicBezTo>
                <a:cubicBezTo>
                  <a:pt x="2161971" y="907248"/>
                  <a:pt x="2320839" y="233468"/>
                  <a:pt x="2381250" y="64966"/>
                </a:cubicBezTo>
              </a:path>
            </a:pathLst>
          </a:custGeom>
          <a:noFill/>
          <a:ln w="316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TextBox 12"/>
          <p:cNvSpPr/>
          <p:nvPr/>
        </p:nvSpPr>
        <p:spPr>
          <a:xfrm>
            <a:off x="1276920" y="488880"/>
            <a:ext cx="63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cc"/>
                </a:solidFill>
                <a:latin typeface="Constantia"/>
                <a:ea typeface="Arial"/>
              </a:rPr>
              <a:t>Способи задання функ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Управляющая кнопка: назад 1"/>
          <p:cNvSpPr/>
          <p:nvPr/>
        </p:nvSpPr>
        <p:spPr>
          <a:xfrm>
            <a:off x="8317080" y="0"/>
            <a:ext cx="826920" cy="811080"/>
          </a:xfrm>
          <a:custGeom>
            <a:avLst/>
            <a:gdLst>
              <a:gd name="textAreaLeft" fmla="*/ 52560 w 826920"/>
              <a:gd name="textAreaRight" fmla="*/ 774360 w 826920"/>
              <a:gd name="textAreaTop" fmla="*/ 52560 h 811080"/>
              <a:gd name="textAreaBottom" fmla="*/ 758520 h 811080"/>
            </a:gdLst>
            <a:ahLst/>
            <a:rect l="textAreaLeft" t="textAreaTop" r="textAreaRight" b="textAreaBottom"/>
            <a:pathLst>
              <a:path w="22022" h="21600">
                <a:moveTo>
                  <a:pt x="0" y="0"/>
                </a:moveTo>
                <a:lnTo>
                  <a:pt x="22022" y="0"/>
                </a:lnTo>
                <a:lnTo>
                  <a:pt x="22022" y="21600"/>
                </a:lnTo>
                <a:lnTo>
                  <a:pt x="0" y="21600"/>
                </a:lnTo>
                <a:close/>
              </a:path>
              <a:path fill="lightenLess" w="22022" h="21600">
                <a:moveTo>
                  <a:pt x="0" y="0"/>
                </a:moveTo>
                <a:lnTo>
                  <a:pt x="22022" y="0"/>
                </a:lnTo>
                <a:lnTo>
                  <a:pt x="20622" y="1400"/>
                </a:lnTo>
                <a:lnTo>
                  <a:pt x="1400" y="1400"/>
                </a:lnTo>
                <a:close/>
              </a:path>
              <a:path fill="darken" w="22022" h="21600">
                <a:moveTo>
                  <a:pt x="22022" y="0"/>
                </a:moveTo>
                <a:lnTo>
                  <a:pt x="22022" y="21600"/>
                </a:lnTo>
                <a:lnTo>
                  <a:pt x="20622" y="20200"/>
                </a:lnTo>
                <a:lnTo>
                  <a:pt x="20622" y="1400"/>
                </a:lnTo>
                <a:close/>
              </a:path>
              <a:path fill="darkenLess" w="22022" h="21600">
                <a:moveTo>
                  <a:pt x="22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22" y="20200"/>
                </a:lnTo>
                <a:close/>
              </a:path>
              <a:path fill="lighten" w="22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22" h="21600">
                <a:moveTo>
                  <a:pt x="4004" y="10800"/>
                </a:moveTo>
                <a:lnTo>
                  <a:pt x="18017" y="3794"/>
                </a:lnTo>
                <a:lnTo>
                  <a:pt x="180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23:02:43Z</dcterms:created>
  <dc:creator>MAMA</dc:creator>
  <dc:description/>
  <dc:language>en-US</dc:language>
  <cp:lastModifiedBy>Admin</cp:lastModifiedBy>
  <dcterms:modified xsi:type="dcterms:W3CDTF">2013-02-22T08:02:57Z</dcterms:modified>
  <cp:revision>67</cp:revision>
  <dc:subject/>
  <dc:title>Функция. График функц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2a000000000001024140</vt:lpwstr>
  </property>
</Properties>
</file>