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8.gif" ContentType="image/gif"/>
  <Override PartName="/ppt/media/image23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16.wmf" ContentType="image/x-wmf"/>
  <Override PartName="/ppt/media/image8.png" ContentType="image/png"/>
  <Override PartName="/ppt/media/image32.jpeg" ContentType="image/jpeg"/>
  <Override PartName="/ppt/media/image13.png" ContentType="image/png"/>
  <Override PartName="/ppt/media/image33.gif" ContentType="image/gif"/>
  <Override PartName="/ppt/media/image19.wmf" ContentType="image/x-wmf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drumroll.wav" ContentType="audio/x-wav"/>
  <Override PartName="/ppt/media/image15.png" ContentType="image/png"/>
  <Override PartName="/ppt/media/image1.png" ContentType="image/png"/>
  <Override PartName="/ppt/media/image14.gif" ContentType="image/gif"/>
  <Override PartName="/ppt/media/image21.wmf" ContentType="image/x-wmf"/>
  <Override PartName="/ppt/media/image18.png" ContentType="image/png"/>
  <Override PartName="/ppt/media/image20.jpeg" ContentType="image/jpeg"/>
  <Override PartName="/ppt/media/image22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dt" idx="1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ftr" idx="1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 type="sldNum" idx="1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EEB-012C-40CF-BC42-81F19C79A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4E0B-CFFC-4892-917D-D8E603B6B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50C-C327-4F23-B2F0-4240AFF4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175-003F-492A-96E0-69F4B4A4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E6373-C8B2-4C71-9A5D-9A25CC2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B2B0-7F0A-4AA7-B386-8CF9AF1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48C69-4097-4FE2-A57B-C8FB09F5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87A8-6344-4719-9FBF-6EC0FD2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3A369-1FD8-4D6E-9262-7E70371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3BE8B-8DEF-43DD-BCCF-FC01F3D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D95AC-3514-4F08-A8CB-5F44504F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1AA70-93E7-4967-8D2D-055AC974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5AF2-BB70-429D-953F-D167CB5E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63AB4-3A9B-4052-98CE-1ECA2707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9B4-13D9-4353-A539-0DF1C9FF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DBE0F-4535-4458-AA02-B2BA3409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5C9B0-36E4-4C1C-BDB5-AA5FBC47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C3280-AAC5-4358-9D98-A166DD2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34F5A-EBEA-4A88-BECF-BB8C15CC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C8A0B-81E1-4083-B17E-FAF37F27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C6829-D092-47AD-A703-1EFF5B3B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42E31-2A6C-466F-B896-8DA2E56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E32BC-81F3-4D28-BC30-34E44489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455B9-FE1F-46D0-8F35-3D2940C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BF14B-DFA3-47E9-A476-CF4A44AC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B1E-C5DA-4F66-A3D4-026245FB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83EDA-A04E-44A5-82AC-00D59A2E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C8F7F-E241-4F0C-90DC-0011489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10F1-D1A1-472C-A177-EAFC133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2533B-1390-4095-8C7A-C8D5DA3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86ECF-8A4A-4F31-9106-9DD5260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64827-120D-4F07-8C90-70609126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7618B-6031-4472-B982-F979F111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D46F5-B733-41D1-8255-6866646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A29F2-6C98-4A6D-9838-23D53A3A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6406E-52F3-4FC1-BF0C-3BAD5DE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506F-FF3E-4113-9EAF-9591521B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D5CF8-C46A-4BBC-AF47-8F47FB58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D5A2D-BFA8-43D8-A6D1-36E44EF0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7C9D5-11FC-4A0B-ACC1-BC74C23E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9F29-0527-43C9-A69E-84032579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BEFB9-4CF2-4835-9AB9-33BD995C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E29EB-0B6A-4497-9810-EBEFE239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F1C88-93B2-4CC8-B97F-579D0ED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40443-52EE-4F72-A6F3-9010B442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E9B22-C672-442F-A414-C33FB27B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F817C-DBB1-4FE0-8DF9-2A3B173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0AC-AA6E-49EC-889F-66357B2D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1E486-1FFB-4FF4-A6F9-96CE798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5EADD-E84F-4BA7-A224-0E61FBA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8AAB2-F8B3-4E7D-8952-43722DEB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CFB74-6B5D-40E5-9FDC-FA216058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D04C2-20CE-4827-B489-9CD06ABD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80FFF-E5B3-449F-8FF7-F26445C7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CE415-4D33-4525-ACE5-906D2B0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72A65-F592-4A5C-863A-629DB6A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DDCD8-437C-4A6F-BF64-1485660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51FC6-A080-4305-A38D-DD487277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E82D-DFC2-4A8E-A380-82DC73CE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4FC66-B05F-40EB-A130-B8C1AE8F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13DE7-6A73-45E8-A372-6500678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55F78-6ADF-4C3E-A962-75A21C1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9335B-ABCB-4AB3-B7A3-45590D4B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75F95-62DF-4B74-B112-749E967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3A28F-6976-4549-AA64-18F5C188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672F9-8476-4DF0-95C2-A44697B6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A3F81-7392-457C-981F-D43ADF52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39076-3F68-4433-9A67-82FD8A64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79697-54DA-4238-A025-C193A85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5151-EB0C-4E21-B19A-C27942CC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B17D5-15D0-4EC8-AA2B-6E2D1EE8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5AC33-9879-48C5-9353-C0B70093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EB862-D0DD-4B62-BCB0-C5277DD9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86EBE-24AC-4AC2-A2A6-9E31B081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C8B54-15FA-4AD8-9E59-C8F7EFF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74722-907D-4846-8543-B88B577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8B2CE-F68C-4A1D-8EA0-C305AFC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33584-8B82-4E32-A478-B155DBAD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4509E-A429-4A64-BB75-353B6244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7D7A6-98B5-4225-BF7F-BC88E7F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BD1A-7304-4D0B-AC5A-C5A6E21B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9B1D8-0DDC-43D8-805A-CF77B3B3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5C33F-BF2B-42EC-BF7A-65DB0A4D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51358-7ABD-4DC1-B05C-81577A3C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00F9A-5F3C-4D25-B851-843920B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21747-D017-4737-953E-8DB00E0B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1B8E4-B6CC-47BA-9A5B-90E1C7D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139BE-AAFB-40C5-B388-283A9411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59247-8060-476C-9BF5-51BA261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BE559-D8A6-4E9F-9C48-D9B1FD8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A477E-BBE6-4375-9813-2F992127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E281-4246-4803-A653-E3C145E5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F7FF1-9FC6-466F-921F-D4082A0C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45AC4-DA5D-43CB-A398-2E199500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C0907-B0CE-4A4E-9AFC-F06256D2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6E7E7-14EC-416A-8A7D-43B269EB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9B63C-7869-4228-9796-CAAC70A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4FCE6-1719-4569-91E5-72F2277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42D5C-CC9C-4D48-B2FB-FF2583A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A5C27-852E-46D1-B004-11DA270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05634-E643-4D65-A92A-796F0894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4DDCF-ABF8-412C-A50F-2078DA31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98F5-7DBA-4BDE-8D91-029A658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23711-D758-47BA-BD39-A0698F73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67BC3-1D4F-4BBC-B475-E6321297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351A8-EBD4-4770-A6EA-340C58BA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A18C9-3B44-48D1-8CC6-6C0E4E38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7D16D-A442-42E7-AEDE-B499BDF9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75580-A6BF-47F0-A787-F2E1BBEE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D5750-EEAD-4A4E-BB89-F522656A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63CB7-2D3E-4C63-9142-35A877C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228E6-EC0E-4261-9ABD-89FE18D2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C0796-1AB6-4B52-A1E9-76A2A7B8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362-83C7-42EB-A67B-7D3BE485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04C4-E2BD-406A-AE0F-89773F52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68803-8518-4EE0-893D-B5030C3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65497-1DE5-4BA1-AF43-BF78D73F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3A723-6B7F-4F1F-911E-C84D3F6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AA886-6122-4C1A-A7D8-970EBD7C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49401-5E6F-4722-81F8-C3951A8E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680995-A4D4-4DF9-AB61-6FA87EC0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13E927-0EFF-4F64-908B-6926C01D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7F1570-A7E2-4491-8EB0-F1F3F5D1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5C4B43-66C7-414A-B0E1-39F4BF0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2439B3-1085-4CEE-8C8B-5A1EFB69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317C-7638-45CA-BE12-2E08C69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368843-B814-46FE-8F9C-6900C98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20A86D-C11C-4D69-BFA6-AFE0247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54B14ED-8309-47A1-8307-142C7C3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05CC72-B985-4DBE-B5C6-C1FEB1F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760971-13BF-4194-8BA8-6F212EB8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6E31DC-9A49-4A3D-B72D-DCAE69FC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6836DD-BE3C-494F-820D-6020226B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8E6A5C-5B19-459D-8205-D4AFE88E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A4CBF-307C-459A-99CD-BFBC34FF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B9D55-DE9B-4773-AD16-06814749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4AA6-B07A-478F-B2D8-51E14178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6198C-C515-488D-89FD-DB8EB8AA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4809B-DE7A-4FDC-9168-6DBEE1A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4FFF5-2E65-449D-B397-9E4106EA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A3AF4-D271-4FC2-9381-A47DC10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C6C61-34DC-480B-9C09-5B04248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2305B-07C8-4A2A-A5B9-0EE3131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047E1-7F3A-4896-BFF2-BA7C5D7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9F895-E931-474D-9E25-7866D013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341B8-821E-4621-AADD-93114399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357F0-AB91-4B41-958D-38525BD6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8BC3-EAC2-42FD-968A-06116D80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245C4-CD79-4E19-B309-7CC6A022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E4714-FEC9-4658-9AAD-72C9B837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688FA1-AD6D-4B15-88B3-650DD295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CE579-B993-4558-8EE1-789CE334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21BFB-80D5-4125-8C31-5B00655E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4741E-4342-4F3C-9F1B-86C02AB4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27A3B-529C-4DB4-A503-DEDF6E6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87A0D-DCE1-4847-A45A-026E912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49F53-7369-4420-8390-1D4378E9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032B1-04A4-4F62-B3C1-EBA93C66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DFA8-D774-4AC3-B4AF-5B8860AD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D79C36-2003-4BAF-A14D-EDA614BA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EC8FB-B1C5-4A3F-B88B-A36F5072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5CC6C-4872-437A-9872-75DDF899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A743C-68EC-4FBB-86A1-AA607B60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76D2B-C724-4148-9077-3794804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D00D71-736A-4181-B0FD-13094CD1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FAFD6-76EB-45BC-A7F9-0FE6E50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3F6AFD-48F7-455F-BDE0-6E7414C8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49C37-43D6-40A9-BB9A-1F7C49E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6FF82-76A2-42D8-95A2-43CE7EF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61DF-88B7-4207-B596-2C5B09C0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6F0EB-1E76-4BB8-85F8-86BA401B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15758E-A91D-43B1-ACB0-F972FC79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C82B4-6191-4D67-B2A6-960B6AF1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7F0E89-F8EC-4BF0-92F6-1D6DA60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FF1FA4-F467-4002-8EDD-D66E79F9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0EEB63-91DD-44F4-9B74-8A858E3C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EB0FF-89E9-4D0C-A3BC-B0976C6E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38AA3C-A90E-4C2F-BE4F-B2A07DE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FB50F7-DF1B-46B1-A57B-14A0BF2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46DD3B-BB35-44C0-B5C4-0EC78FF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4806-D584-4B99-A302-5509F074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C46FBE-21DE-47CB-970B-2C34125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DABFE6-0298-4F5A-97CF-A90FEDC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49DAFA-C98D-4BDE-A5E3-9489B779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0515B-0BEE-432C-B6DB-C7CED245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9931D5-7371-4C34-B582-6B8ACA95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A0A375-E420-4A23-823B-E66F591F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B6DA7-B8BA-4B85-BC87-17BE4145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822895-0F06-454C-81C3-06F9942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C5C42-F52F-4C53-ADAF-54521043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394F6F-9084-4D0A-9CBA-9AF4986C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3885-7901-4E36-9B38-C0CF3F76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B4AC44-978B-47D5-A6E1-46A23C7E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81E72-CA85-491B-BD36-5F913805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7305DA-7F46-42D1-B7C6-7E83839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03D029-32C4-498B-A1BE-6586191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416932-A018-44D1-B9E1-6226774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AEF962-FC36-49C5-A560-CF0CBE10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C3B35E-1A70-49F1-B764-A6D6D6E9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82E6D2-5F6A-43BA-8E6A-11FB9041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DD92E8-1619-4698-B100-7D01FB1E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2FED0E-6FEF-4992-8925-CF325145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931B-3A73-4217-821A-8877F1B9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56ECA2-F06C-4C2E-8C72-28C46C9F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5ACDA4-5296-4748-AC12-B2A6B1F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61D2A-571E-4032-8EB3-D60E33A5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FDCCC8-4DC5-4D7A-9362-0F3E441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3C88FD-F649-4F5E-9A18-59A0587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044A51-B22D-4CB1-A402-EC93B4C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02EE0A-EB72-4A9E-B6C3-F901151E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E77517-6ECB-4E99-B946-1C86F8DA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DDA062-1A0D-4826-A3F5-27EC8DC2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E481A1-EA2F-475E-9D27-49A940CD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28E6-92E6-4F4C-B4F2-5EE7B2B9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3AC0F8-D842-4FB0-83C2-A0F492A1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E0E8CE-C2BF-43CE-ACE7-6F600B6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B0C9D4-A56D-45E0-B249-2A4632CD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5A1C89-16DB-47B3-8994-7FABA830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EC946C-0789-4147-A978-BFEFAE7B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5E86A3-5F58-4E7F-AA0E-F2A913A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DC9274-C579-4710-ACC3-821EC51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B52302-936B-4FCD-82BE-8B2C5813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AB52EA-51E0-44D1-8CB2-0F98079D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D47C21-248B-4059-9356-59902DE0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272-777A-4FCA-A092-0291C2E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1568-B3ED-4C2B-90A8-C7DE6D00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721DB8-C199-4CA2-AEFF-C15AD9FD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2BFFA2-D802-45DA-BCB7-2C1AE532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AAA5E-59C8-46BD-A4E7-35FDC78C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A002F7-9639-4B02-80AA-3FD815A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034CB7-4D08-4C1F-8928-50621E7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D9B4EC-98A1-4AB7-9506-4F2C48C1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2059F5-9A21-4258-96C9-C64FF0DC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A8DC24-CF91-4922-917C-5263F71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148C4A-7139-442F-BA0C-177E8F5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52FD71-E85A-4934-A4D9-5B1F623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460A-429E-4A00-91B0-2AE41CD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34D31C-B6B0-4459-9E00-D5C23A3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113AA4-FAC7-462F-BB20-C004620E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7DFEB1-F815-4A05-9DD2-9CE1F564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5B1047-5E51-4DDA-A46C-613D7FB4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062C9E-BD15-4DB3-8319-5451CB8F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38E7DB-D825-4C87-BF65-43669AE1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1D3776-7794-485A-AD3E-3BD029C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4AC367-011C-4000-8675-122B054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09D015-1C3C-4E95-B58D-91F8F2A9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EBF0BF-06A4-43BE-B4A8-1A401BFE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3074-7BA5-49F3-9A12-B75DC355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D75CB5-6ED5-4E73-B938-1521499A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7CB07E-3CDB-459F-B685-168F5F6F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BA0DCE-6C98-4A18-B0A9-4E7D55DD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279994-2B62-4E02-B597-88E33935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D47202-4E9A-405B-AACC-64222FB1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92F8B8-B8C3-4F3D-8AF2-525A5FBF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5FAF99-E521-416B-AED2-6C0745C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2A5062-1ACE-4424-8B67-02A4A7B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EE6827-6CC4-4F8E-ABCB-9C5A3704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EA6AC6-0607-47EF-9F86-EA701D46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5B6B-B302-4C55-8666-1F59C35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0F670D-B195-4598-94D6-04781CAE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0F402C-BB5D-442A-B39E-BB1DD45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D4AE14-4CE7-4A20-909D-7640463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5B7285-50EA-4D7C-BE40-8B9D4DA5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4AD1CD-39C0-4AAB-9F5C-9FC94BCE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981B6C-CEFE-4766-90C4-07E65DE1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5B4796-D130-44EA-8E9A-9E76EE1C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D62C20-C7C8-4E1A-935A-7DF05F42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F13C75-AFAB-43B5-B36F-893A6313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8C65B4-D83B-4375-8824-B33BA7DD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5367-6FCC-4003-B80F-ED76B02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C69BF1-DD5A-41C3-8351-4CCD362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194F0B-D8AE-4CEF-82F1-6CFEB389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ACC851-91C1-41F2-9E30-5CCB6B9E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2D727B-BA0D-4DB1-AA1A-27D81928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B3C776-B470-4257-9B58-6AB7613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B65E0F-3E84-433F-9ACC-9D7AEC3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25CFBA-70C5-4EC2-9DEA-4CB3AA9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AF0980-AD6C-4918-89DD-B4CD4DA8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9CBD30-DFCF-4162-87D3-6ACF5838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286F5D-6602-4FBB-8F4A-EF322E6E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4D45-ED01-4AF9-97ED-9C333D85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8CF630-93B3-42D3-8A6E-5B5082F5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DB237B-8EB0-4F76-85F2-DB021D4E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1A2983-52B7-457A-9B03-1855B20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FA1137-17D1-423F-9400-243AE626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F50B4F-605C-4CC5-917B-EAF272E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DBB69E-1B79-4393-8BE7-B6F291E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BF54A7-3338-4E16-9469-F35A9EC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B63FDD-47F5-4AE4-90CB-D3129812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803ECE-C17A-4EB6-B27A-C1DD6A11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545DCC-21D4-4AD3-866B-C57BCEB2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B26B3-7868-44A5-BBA9-0C35BAA3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CA32DD-8AB3-411E-8D98-6C467FDD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274F95-9906-49CC-A3ED-2A4D8389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E1707C-C92C-4B96-AD88-512F1A34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2B399C-00EC-4B71-8C09-4468BBC6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95381E-99A7-4928-A584-07CA2EF4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281E91-2ACB-4DE0-8F53-9E9314B8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298E07-5C20-42F2-BBE6-0A4893FC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CF71C1-40B5-4AEB-8A8A-8C93A48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5491B3-0F2F-4D7D-A066-10135171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0EDF69-6FBC-4B56-B757-67B92A1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1D93-2D4C-4577-8D61-821AF36E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9CA64E-026A-4363-A29D-DEC580CC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DBC581-E4CC-443B-A467-6B9A5FF3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EBE3D3-E39D-4EBB-A211-FD923038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F8F183-AD04-45D6-8B46-36A599D0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FDDDA9-54D4-4DF4-80C4-525233C1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E75B7B-546C-4B9D-A9A1-DFE5BA0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573E57-C794-43B3-BD9A-2F90EF4B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217971-F213-46EA-8AA9-ED90861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1D3660-FD26-4203-9401-E8EBCD41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3DC569-F2D9-4B12-8C83-F8C02219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87CA8-1275-469B-BC2E-CE04FF20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3C8BE2-1728-44EB-A111-539A78FE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2D41D0-046E-4680-A1EF-5997B195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294A63-1B0F-4527-9BCA-0AFAFE1E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DA856F-A336-44C3-9557-3BCCC899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B2179D-B9BD-431F-BAA9-AA524607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ABA501-F6B9-4BCC-A8A4-FE0BEF2F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1BF9BF-E335-47BB-8864-DCD17E51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1FBF77-9E21-4FED-BC26-6C232E59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B998CA-A4CF-4E2A-ADB9-B24FA82E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446D63-A532-4AEF-94AD-D8EB9BCD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1A33-9CB0-4F7F-B1F4-A03774B5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837BF9-A3FC-4181-9F5F-E66A5C7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9361AE-E91D-496A-A495-46FA9C3F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F7EAD6-D62F-43EC-A711-9583D112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7F2B33-F92D-446F-8C44-C38FEDE5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A164E8-4B00-4349-A864-D8B5B937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E42A6B-0067-461E-AF3B-502F3531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B940F6-E5F7-4A13-AE8A-32AA0C95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32488F-3AC9-47B0-8231-58A5DCC3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39B104-E943-465B-BD18-55E2E320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2F5147-4A42-4F04-B316-6B50BC6D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5F0-BDB8-471E-9A8F-17D93E1C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1A5F-11D1-4BEC-BD69-25CFCDF7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85A0D1-57AF-4829-ADFA-F8CCF22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8E0662-F5AF-4A9D-96DA-171DED3D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25D0C6-9F1C-4FFD-BC5D-05A826B3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E47C67-F778-4063-9AF6-985EB7C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47E5E6-1FBD-47DD-9966-88CC584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66D5FD-7A93-409F-A9CC-9136F9F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0E8131-B3E9-4685-9A75-0713C6EB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AFA87F-8EC5-49FF-8159-ABD33C1D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8D537B-1F96-4EAB-AFB7-B6F539D2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601CCB-6740-40DF-BFF0-1B482108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F3D3-C29F-4003-ABEA-68000767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2BDAF2-5B2F-408F-A940-B1E2E5E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06250C-474B-46D1-8CA6-F9B4301F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F9D71E-251C-4C3A-9EED-CAC21759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444B19-D4AA-4BE1-9C5F-968A695A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7140DA-C86D-4CD4-AE0B-921A2A22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9F81A7-47D5-469C-9201-F68DAD4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0FD9E1-D496-43A1-8F84-7636FC30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9FD16A-DFF1-4197-B139-891282B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EAC9CA-53B5-4BD5-8021-27F5AB9D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618BF3-C94A-4A01-8590-8031C4B3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B9A8-7822-4A74-992E-D9DB5DA5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8C445A-60A5-455C-A241-713C6005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353DCD-4540-490F-870C-9F24ADFB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F73B77-84D9-4969-901F-C4A80006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27C47F-C5FD-41BA-A2A9-3531B10B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97D7E0-F24C-4856-919A-BDD79E3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5229F7-6E21-487E-AB48-8987258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CF5450-D6C5-427D-A48B-85365B1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1C14B4-EBDC-48D3-AF83-7E6B0E4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4DBDCD-1455-42D8-BAA4-2987580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111B8E-2C92-40CB-9345-D7DFF2B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B550-BF3E-40B0-8F2C-D96FDCA1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9272C5-62AB-4768-BCAE-6F9315F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B863C3-491D-4A92-B92B-679BC8D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93DA7F-3F71-49DD-BA3C-ACBC94AE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10A2B9-A12D-4C9B-A7C1-614B9508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3210AE-8679-45FC-B45C-1522A202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7DB278-FDBD-446D-B67B-F3C4024B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2E5433-7EE0-4662-A1EC-FBCA3864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5F5E18-D4E0-4F24-9CE6-85B0B44C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A4A858-6A87-4429-8E17-E2B2FD81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3B188C-6276-407E-BDD0-B98A0DDC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E1D9-81AB-4104-8F81-2685153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26EF2E-6DED-4E78-9DF5-D6C7A6F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24DF9D-5177-4556-A46F-E2D0B3AA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88CBEA-ECF6-447D-9ABF-447CD50E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531598-C7EF-434F-8C2B-5F0EA742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A1C6E1-7D2A-433C-9C1E-B596A71B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6B925B-B6AB-4DC1-9486-97DEECAA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F28D28-ABBE-4F1C-A1B5-4EC62BF3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4D7F35-AC17-4999-BAD8-E93A275F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3B4841-D677-47CC-926C-691D7749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A95519-4364-4B19-9D6B-49A9C59A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9EE4-04FC-45BE-9C1D-A77FDF2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8E6C17-6DA3-4025-945F-2EEC9347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F8A625-7BE9-4202-B5CC-F3F6975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641460-F954-4700-96F8-BF01856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00B7B5-2EB5-4309-826E-6BA0B7B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C3E2A0-DE16-4C23-9909-2120D72D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511043-B5D0-4D96-90A0-D6836C1E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E0C55F-4F91-4F8C-8A7D-F7A13338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534037-B20B-47E6-A432-50B8D6F9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AA9D25-4338-4A48-9D92-B22728F5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6002F7-DAE8-4C31-B60A-0D00B6FD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BB00-3AF3-4BA3-BF7D-B7CF1BC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AA7978-1597-4009-9EF0-FD035D7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5791A4-D3C2-4785-A42E-1015693A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BFE1B0-3521-47DA-9743-D46D6B2D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3EB3D9-DD1B-4C77-888D-4BC7128D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E41E11-19BA-4F4F-BF22-3F6274B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F6E706-F1C7-43D4-B8A5-A67005E0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04A15B-AAFA-4A0A-8C30-51E2CFDB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ABA512-44D0-45DF-988A-04846F87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A05EA0-5B26-467E-BA75-0ADF38BC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F08C27-7A2E-406B-A894-739D9DBC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C434-FB1A-4F0F-8D8A-E4A4C186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1411A6-4294-4E54-AA29-E84323E3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59339D-B052-4EF8-A897-41ACCC1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65D46B-11EE-4904-8D51-0599B31A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CAF6F1-8E2C-429B-BA13-62A8BA4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CCF0B0-15A4-445E-9E40-CCCE76AA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62BA31-8529-4D2A-85BF-C6C85974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5B2C71-1FD3-43C5-B93E-3867653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F91F8E-B83D-42E7-A965-ACC5769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7457EB-E134-4F13-BC87-6FAC7F6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0608F4-6953-4F95-966B-37D1C083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B7F65-562E-42E4-95C4-530ACE71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B739A5-C6C4-44EC-B54A-41276118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C41E73-5CBF-4569-BBA3-F509D02F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B237AE-C650-42D1-B466-26194BE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0CA59A-5605-47D0-9094-2FED092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77FE59-9FD0-488A-9492-728A946E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BCABEB-10C6-4F01-A5B5-AC4790EF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1CB8A3-97FC-4276-8BEE-9A9EB6FF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17547B-D87B-44D1-B10E-9E4308C7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79CF34-D525-4420-AB02-EFA6408C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D0ACA4-435C-4151-8279-68674A8A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2ABA-5F5E-4353-BC4A-78E25A3A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602EBC-6E42-4030-A4C2-4EE238B1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E57B7C-3A09-43A5-AFFC-23658498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2DB97B-A335-4205-87AE-F27214EC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A27FEF-0DE6-46D0-B1E0-1DB2303A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2B99EF-B83B-4734-B78B-0AFA02AA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260C46-855F-4E8F-804D-3CA694F7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ABAD7A-A0B7-46C5-B364-B49CF49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E46E08-6088-459E-AB4E-731F7E3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8C3555-27E5-40AD-8205-C1F0A76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18E5C8-B8BF-4137-85A5-FFD5E60C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DB4-E096-4005-80E0-FEB28042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BC4C-779B-4D5B-984E-9DCAC79F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76AB7E-B54F-42A4-BC83-64474E5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3027B5-45C2-478D-A368-8A8482A7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90951F-4C14-4FB5-BBBA-70D6327C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C08102-03D4-4791-AEDE-1A41EBDB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5633BB-8F2B-441E-A3EC-1DCA7627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83382A-E4DF-42FE-AEDE-1799C6EE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A43C76-F72B-4553-9880-4FE5518E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3E0D0E-359A-440C-9CF6-CFCE62C5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09A513-1FAE-4C65-9550-7142C57E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92B15A-A5BD-48B8-A6A2-475B4981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FA2C-3BB0-425F-8724-1A4A42B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76F8DB-17AB-4D84-BC53-C9039DEE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0B61EB-A8AA-40C2-AA40-3BDD2EBB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928AC7-9010-46AC-9905-A5D79C8A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3AD3A9-75EF-4DD9-898E-4290B2C5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5AD286-A6F7-49ED-A105-09A1C2FA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87F0B3-B438-4CF5-925C-F5D3473D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04DBE9C-4BA8-411F-9580-2CD43242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7E6C0E-20FD-4FF0-8A5B-B4EBD1F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CCBE70-406B-4956-9E60-7FE53C53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9B7B25-2AD1-4E6B-A8C8-1F281DAD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F5634-FADD-4292-A595-760B09E6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8B540B-3529-4BE2-8028-B5A910A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056B4F-419B-4CFD-900C-1893967E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0BDBFD-C384-454B-9DD2-E0A2DBA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3DF2AA-E40A-4DF8-BECD-0E30AB6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4B470A-C368-427F-A3BA-46A2163C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6423D7-BAC2-4BA8-86A9-CD26A922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06EAD6E-9984-4F49-A093-9CEF7C6C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F42A07F-C60B-4494-93DA-C2EAECA6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35982C-7AAA-489E-BF1D-AF9ADB3E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D1B592-522A-4354-9241-8073D2AF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84684-518D-4B99-94D1-E87069FD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ACA91C-D436-4F68-B7B2-1CB3C20F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817CDE-DD2E-4B92-B8BB-1B144AB8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1A543E-DF4F-43F3-BEB8-D57BD2D3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3221753-C469-4122-9271-A79F5E9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88C7E80-08F8-4EF4-9545-1D4348B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CC629E-2B0C-412A-A313-7F57183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1A2502-4DC7-4C13-9E65-9EC773E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160BBF-005C-489A-8174-CB5BD71D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AACADA-2B3B-4AE6-8D0C-C9B9E2F0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B0BFDF-46C8-4532-A503-53E21917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FD79D-B260-4318-839D-B99B1D1B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C519BB-73DA-4026-858A-BD3E9BE1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B2E6F7-3485-4BE9-9933-D2CF2243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EFC7E4-2F8A-4E5E-B2DA-B5AEBC33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2292A7-6115-4492-BD7B-5CBC801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0E1C15D-FEB6-4159-9D70-74EB631E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15371E-D37D-414B-B0B9-9108499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2A7C12-70CB-47C7-8B28-55ADDCCB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ADA6A1-51E8-4815-9F2F-A93754A2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28BBE2-C64D-46B9-BAF1-A50762C4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20162C-C431-4AF5-A8B2-5C431270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7280-1E34-4AFD-ABCB-48B2B01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40185F-FD3F-4CE7-A6CE-1A2B1AB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720118-8BA7-4FC0-86F4-7632A966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6F8AD1-6256-409B-8145-EAA38969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B97DCE-290F-45E6-B92E-DB4E6B18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886C7D9-CD38-48E0-9B4C-5A772972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278A36-6F1C-4777-928E-4D080A7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6B04B1-4793-4152-AFFB-E0BBEA66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D1754EF-E35E-48FE-A9CB-33C67E5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5A0EE4-1FCB-4008-A3B5-4B84137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9663DF1-06EB-48C1-8DD0-6AE6C1DC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F5416-F71D-48AE-B803-8D47E231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5FC5AE-7BBE-48B8-88F8-061DE3C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966217-3CB4-4634-9155-B95773A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8A39B2E-A766-4956-A814-A3F68790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0B3DC1-3D83-4D02-B7AF-2763C9E6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E501C33-5D20-4991-ACD4-0557E3F8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B33191-4D93-4356-B595-FB3B2644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618C70-DA09-431D-AC6B-C762F679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43EF38-D9A1-4475-809F-0BB14530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3A272A-A8F1-455B-8542-7EBB96DA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E29956-60CA-4BFA-83DB-8EFDDCE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0E7F-C847-49C1-8EE4-AD761C2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00BA9E-30C6-4756-B5B0-E889D1B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21BE6B-C732-416F-B431-E1ED2FCC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7AA6F13-45CB-4067-B404-41DEA76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6278DF-C2F3-4D0B-8A54-5BA1C80B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B335E6-D9DC-4B37-9311-653FEE34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FFCF32-905A-4F72-808E-A09BB966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6E4506-D8CC-47FC-A6B4-3FA2373E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BC9B00-7474-4C11-A5B6-068EC7AA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0F90268-4A09-4D23-B49C-DACD9097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91FBB3-76CE-4BA4-8D1B-6F9F8FDC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E718A-82F6-4587-9236-3999F112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47A257-FB07-46C7-855E-6775BA6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BA09536-8AF7-4D6B-934F-D38E239B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8E87A9-FD81-4F59-9307-A88793F1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D79D93-1E21-4246-A00D-0910AD2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2F388C-848D-46E6-AB0D-47FB2ED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BDDC1F-C370-44A5-82EB-8C8A4CD1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D71BF9-6F3D-4D35-B611-0B639916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01B143-F1BD-4E15-B150-595383D3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359B29-034D-4414-A835-803213EC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569B-1547-465C-8629-0D6A9120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99B-8756-4D00-80AE-72E63F3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E8FA-AC3F-466A-9865-8B5994DA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10A5-7B31-445B-8FDC-D86330FD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9347D-EC5A-418E-A4E1-5FB504EF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74AD-DC44-44B8-B836-D11B0CC2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4ED6B-CF82-45D2-9F1E-EDF23CC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D265B-49C4-4487-A4A6-E746F8E4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55D61-C0D7-47AF-A7B1-9EACBF0F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DCCE-750F-4251-B94D-777F0B3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1705-215D-4637-9A68-56F328C3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6492-05D6-4B31-936D-DBDE079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8E0-3C6B-4EF7-A41F-B2B9D53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7A6B5-A17F-4509-8560-B9A0996F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FABF6-C16F-4AAB-AECF-653A66C6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DF824-C681-426A-9A7D-55C040F1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405B-60BD-4952-83B5-CF6A6DD0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619D-F1CA-43F1-A422-C35032D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03422-B53E-4EA8-9DD2-68E6955E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3294-7AA4-43C3-846C-31C139E5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84B65-9398-4764-98D1-90AFE3A5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5D17D-0255-43E2-88A3-AE3B3E7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062FC-04F0-4181-8A31-89E738E5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7B5-AA4F-4232-9058-62874CF8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72A4D-8471-4255-80E4-E0E0A5B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1FA9-380C-4EB1-AE14-1F09DF20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89526-44D1-436A-A83B-2795166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80EDE-DBCF-475E-80A7-72CC44DB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0C84D-6221-4143-937F-DF307666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1FC0F-7E97-4617-B8B2-265C6A3A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5EDCA-EBEE-4A90-8CE2-3E4203A6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FD80F-F1EF-495A-B48E-F84885C7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56C6E-655C-4D59-92B9-D0C7A064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54D8-E229-4D88-A6D1-4E432B12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AB3-EAAB-4A25-A12C-97A4EC5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7BD27-E8FA-475B-8CE9-1BB98318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F40F5-D105-44A6-9C38-CF4F71B6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E5A7A-C45F-42CD-B106-25015FAC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F2BCB-F3DB-41B1-8A81-9654229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83D9F-0F75-4D91-8964-0CC0E0F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B6D4-1B81-48F2-B5E6-E7F817A3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F5881-60CA-4F44-AAB5-3E520AEC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BF4AF-F469-4C91-8D49-5FB57264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D28F8-DA55-4BB8-AB77-519CEB5B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C8FED-05DF-421B-A632-2124F504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17.xml"/><Relationship Id="rId7" Type="http://schemas.openxmlformats.org/officeDocument/2006/relationships/slideLayout" Target="../slideLayouts/slideLayout518.xml"/><Relationship Id="rId8" Type="http://schemas.openxmlformats.org/officeDocument/2006/relationships/slideLayout" Target="../slideLayouts/slideLayout519.xml"/><Relationship Id="rId9" Type="http://schemas.openxmlformats.org/officeDocument/2006/relationships/slideLayout" Target="../slideLayouts/slideLayout520.xml"/><Relationship Id="rId10" Type="http://schemas.openxmlformats.org/officeDocument/2006/relationships/slideLayout" Target="../slideLayouts/slideLayout521.xml"/><Relationship Id="rId11" Type="http://schemas.openxmlformats.org/officeDocument/2006/relationships/slideLayout" Target="../slideLayouts/slideLayout522.xml"/><Relationship Id="rId12" Type="http://schemas.openxmlformats.org/officeDocument/2006/relationships/slideLayout" Target="../slideLayouts/slideLayout523.xml"/><Relationship Id="rId13" Type="http://schemas.openxmlformats.org/officeDocument/2006/relationships/slideLayout" Target="../slideLayouts/slideLayout524.xml"/><Relationship Id="rId14" Type="http://schemas.openxmlformats.org/officeDocument/2006/relationships/slideLayout" Target="../slideLayouts/slideLayout525.xml"/><Relationship Id="rId15" Type="http://schemas.openxmlformats.org/officeDocument/2006/relationships/slideLayout" Target="../slideLayouts/slideLayout526.xml"/><Relationship Id="rId16" Type="http://schemas.openxmlformats.org/officeDocument/2006/relationships/slideLayout" Target="../slideLayouts/slideLayout527.xml"/><Relationship Id="rId17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29.xml"/><Relationship Id="rId10" Type="http://schemas.openxmlformats.org/officeDocument/2006/relationships/slideLayout" Target="../slideLayouts/slideLayout530.xml"/><Relationship Id="rId11" Type="http://schemas.openxmlformats.org/officeDocument/2006/relationships/slideLayout" Target="../slideLayouts/slideLayout531.xml"/><Relationship Id="rId12" Type="http://schemas.openxmlformats.org/officeDocument/2006/relationships/slideLayout" Target="../slideLayouts/slideLayout532.xml"/><Relationship Id="rId13" Type="http://schemas.openxmlformats.org/officeDocument/2006/relationships/slideLayout" Target="../slideLayouts/slideLayout533.xml"/><Relationship Id="rId14" Type="http://schemas.openxmlformats.org/officeDocument/2006/relationships/slideLayout" Target="../slideLayouts/slideLayout534.xml"/><Relationship Id="rId15" Type="http://schemas.openxmlformats.org/officeDocument/2006/relationships/slideLayout" Target="../slideLayouts/slideLayout535.xml"/><Relationship Id="rId16" Type="http://schemas.openxmlformats.org/officeDocument/2006/relationships/slideLayout" Target="../slideLayouts/slideLayout536.xml"/><Relationship Id="rId17" Type="http://schemas.openxmlformats.org/officeDocument/2006/relationships/slideLayout" Target="../slideLayouts/slideLayout537.xml"/><Relationship Id="rId18" Type="http://schemas.openxmlformats.org/officeDocument/2006/relationships/slideLayout" Target="../slideLayouts/slideLayout538.xml"/><Relationship Id="rId19" Type="http://schemas.openxmlformats.org/officeDocument/2006/relationships/slideLayout" Target="../slideLayouts/slideLayout539.xml"/><Relationship Id="rId20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41.xml"/><Relationship Id="rId7" Type="http://schemas.openxmlformats.org/officeDocument/2006/relationships/slideLayout" Target="../slideLayouts/slideLayout542.xml"/><Relationship Id="rId8" Type="http://schemas.openxmlformats.org/officeDocument/2006/relationships/slideLayout" Target="../slideLayouts/slideLayout543.xml"/><Relationship Id="rId9" Type="http://schemas.openxmlformats.org/officeDocument/2006/relationships/slideLayout" Target="../slideLayouts/slideLayout544.xml"/><Relationship Id="rId10" Type="http://schemas.openxmlformats.org/officeDocument/2006/relationships/slideLayout" Target="../slideLayouts/slideLayout545.xml"/><Relationship Id="rId11" Type="http://schemas.openxmlformats.org/officeDocument/2006/relationships/slideLayout" Target="../slideLayouts/slideLayout546.xml"/><Relationship Id="rId12" Type="http://schemas.openxmlformats.org/officeDocument/2006/relationships/slideLayout" Target="../slideLayouts/slideLayout547.xml"/><Relationship Id="rId13" Type="http://schemas.openxmlformats.org/officeDocument/2006/relationships/slideLayout" Target="../slideLayouts/slideLayout548.xml"/><Relationship Id="rId14" Type="http://schemas.openxmlformats.org/officeDocument/2006/relationships/slideLayout" Target="../slideLayouts/slideLayout549.xml"/><Relationship Id="rId15" Type="http://schemas.openxmlformats.org/officeDocument/2006/relationships/slideLayout" Target="../slideLayouts/slideLayout550.xml"/><Relationship Id="rId16" Type="http://schemas.openxmlformats.org/officeDocument/2006/relationships/slideLayout" Target="../slideLayouts/slideLayout551.xml"/><Relationship Id="rId17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53.xml"/><Relationship Id="rId7" Type="http://schemas.openxmlformats.org/officeDocument/2006/relationships/slideLayout" Target="../slideLayouts/slideLayout554.xml"/><Relationship Id="rId8" Type="http://schemas.openxmlformats.org/officeDocument/2006/relationships/slideLayout" Target="../slideLayouts/slideLayout555.xml"/><Relationship Id="rId9" Type="http://schemas.openxmlformats.org/officeDocument/2006/relationships/slideLayout" Target="../slideLayouts/slideLayout556.xml"/><Relationship Id="rId10" Type="http://schemas.openxmlformats.org/officeDocument/2006/relationships/slideLayout" Target="../slideLayouts/slideLayout557.xml"/><Relationship Id="rId11" Type="http://schemas.openxmlformats.org/officeDocument/2006/relationships/slideLayout" Target="../slideLayouts/slideLayout558.xml"/><Relationship Id="rId12" Type="http://schemas.openxmlformats.org/officeDocument/2006/relationships/slideLayout" Target="../slideLayouts/slideLayout559.xml"/><Relationship Id="rId13" Type="http://schemas.openxmlformats.org/officeDocument/2006/relationships/slideLayout" Target="../slideLayouts/slideLayout560.xml"/><Relationship Id="rId14" Type="http://schemas.openxmlformats.org/officeDocument/2006/relationships/slideLayout" Target="../slideLayouts/slideLayout561.xml"/><Relationship Id="rId15" Type="http://schemas.openxmlformats.org/officeDocument/2006/relationships/slideLayout" Target="../slideLayouts/slideLayout562.xml"/><Relationship Id="rId16" Type="http://schemas.openxmlformats.org/officeDocument/2006/relationships/slideLayout" Target="../slideLayouts/slideLayout563.xml"/><Relationship Id="rId17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65.xml"/><Relationship Id="rId10" Type="http://schemas.openxmlformats.org/officeDocument/2006/relationships/slideLayout" Target="../slideLayouts/slideLayout566.xml"/><Relationship Id="rId11" Type="http://schemas.openxmlformats.org/officeDocument/2006/relationships/slideLayout" Target="../slideLayouts/slideLayout567.xml"/><Relationship Id="rId12" Type="http://schemas.openxmlformats.org/officeDocument/2006/relationships/slideLayout" Target="../slideLayouts/slideLayout568.xml"/><Relationship Id="rId13" Type="http://schemas.openxmlformats.org/officeDocument/2006/relationships/slideLayout" Target="../slideLayouts/slideLayout569.xml"/><Relationship Id="rId14" Type="http://schemas.openxmlformats.org/officeDocument/2006/relationships/slideLayout" Target="../slideLayouts/slideLayout570.xml"/><Relationship Id="rId15" Type="http://schemas.openxmlformats.org/officeDocument/2006/relationships/slideLayout" Target="../slideLayouts/slideLayout571.xml"/><Relationship Id="rId16" Type="http://schemas.openxmlformats.org/officeDocument/2006/relationships/slideLayout" Target="../slideLayouts/slideLayout572.xml"/><Relationship Id="rId17" Type="http://schemas.openxmlformats.org/officeDocument/2006/relationships/slideLayout" Target="../slideLayouts/slideLayout573.xml"/><Relationship Id="rId18" Type="http://schemas.openxmlformats.org/officeDocument/2006/relationships/slideLayout" Target="../slideLayouts/slideLayout574.xml"/><Relationship Id="rId19" Type="http://schemas.openxmlformats.org/officeDocument/2006/relationships/slideLayout" Target="../slideLayouts/slideLayout575.xml"/><Relationship Id="rId20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B4B0-A30B-4391-AB5F-2022150B0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7BE8-6A92-4C09-8E96-BCF137CE3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277-5657-490C-BABD-661ABCF46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1C42-696C-4D74-AE3D-BC6CE4E8E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AFBD-7DBA-4497-86BC-A2D477A35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5C09-BED3-4321-95C7-83B3A0469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D9F1-164D-4BEC-A6F7-F8263DB45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8390-3912-40C9-A5F9-CDC61FFA2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393D-B697-404F-B664-C387AD74F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F96-703B-4510-8ECF-AC23CFF3E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dt" idx="5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5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5143-D778-4124-BA42-27F31F53E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6D0-5DC2-40AF-8D36-FAED57F523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C0C9-6856-41BE-AC48-337CC8A66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6CF-5ED6-453B-B1E5-3CCE669E3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7342-EFD2-4F2C-B176-6579FB0B5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4527-EFD0-4673-A789-D1F0F995F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AD4-77C0-43C9-AEC5-498009357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198-EBBF-4D69-830D-775EE94DE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7D96-1A96-494C-9957-3B4403F15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2AE-7AEA-4A0E-A1A7-792977AC9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0F4A-C8D3-49FE-B403-0BA5A76E8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BF60-BFF8-4A0D-9235-B86924D29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5932-42D8-4EE7-AED2-74D9CA3C7F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41DD-3C37-4D83-BCD3-0FC78A501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2481-C202-49FF-AFFC-ABFD9171F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D4FB-F086-44A9-9712-297BDEF5F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9C7F-F212-46FB-8B28-3E4F83F4D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C183-282F-4BCC-B7E9-5814E0B00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69A0-0D99-4902-9248-D3909AB32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BBD-F9E5-4E4A-85B7-5CE708315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7363-A589-4463-A7AD-8B57BD726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2F76-37C4-429E-9768-D38642EE9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8D51-9503-48A3-A7AA-C48F7CF8E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27EF-EAA2-48A5-AC32-6B6E609CD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85A-26E6-4E7E-BA08-14BE88393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C31B-F879-4008-B30D-4400EF268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9253-B60E-49C8-B4C0-9B0E6722F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9F97-1D00-40D1-BE75-D2375BA23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78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78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9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3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3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3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32DC-AA63-4CF8-9FC3-5DAC88E4C6B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6"/>
    <p:sldLayoutId id="2147484209" r:id="rId7"/>
    <p:sldLayoutId id="2147484210" r:id="rId8"/>
    <p:sldLayoutId id="2147484211" r:id="rId9"/>
    <p:sldLayoutId id="2147484212" r:id="rId10"/>
    <p:sldLayoutId id="2147484213" r:id="rId11"/>
    <p:sldLayoutId id="2147484214" r:id="rId12"/>
    <p:sldLayoutId id="2147484215" r:id="rId13"/>
    <p:sldLayoutId id="2147484216" r:id="rId14"/>
    <p:sldLayoutId id="2147484217" r:id="rId15"/>
    <p:sldLayoutId id="2147484218" r:id="rId16"/>
    <p:sldLayoutId id="2147484219" r:id="rId17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83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83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4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4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5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3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3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13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9885-2D9E-4691-9BB5-4346005A2E8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9"/>
    <p:sldLayoutId id="2147484222" r:id="rId10"/>
    <p:sldLayoutId id="2147484223" r:id="rId11"/>
    <p:sldLayoutId id="2147484224" r:id="rId12"/>
    <p:sldLayoutId id="2147484225" r:id="rId13"/>
    <p:sldLayoutId id="2147484226" r:id="rId14"/>
    <p:sldLayoutId id="2147484227" r:id="rId15"/>
    <p:sldLayoutId id="2147484228" r:id="rId16"/>
    <p:sldLayoutId id="2147484229" r:id="rId17"/>
    <p:sldLayoutId id="2147484230" r:id="rId18"/>
    <p:sldLayoutId id="2147484231" r:id="rId19"/>
    <p:sldLayoutId id="2147484232" r:id="rId20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9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0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dt" idx="13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ftr" idx="13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 type="sldNum" idx="13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EAFA-98AE-40AC-AE81-603856B71B6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6"/>
    <p:sldLayoutId id="2147484235" r:id="rId7"/>
    <p:sldLayoutId id="2147484236" r:id="rId8"/>
    <p:sldLayoutId id="2147484237" r:id="rId9"/>
    <p:sldLayoutId id="2147484238" r:id="rId10"/>
    <p:sldLayoutId id="2147484239" r:id="rId11"/>
    <p:sldLayoutId id="2147484240" r:id="rId12"/>
    <p:sldLayoutId id="2147484241" r:id="rId13"/>
    <p:sldLayoutId id="2147484242" r:id="rId14"/>
    <p:sldLayoutId id="2147484243" r:id="rId15"/>
    <p:sldLayoutId id="2147484244" r:id="rId16"/>
    <p:sldLayoutId id="2147484245" r:id="rId17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94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95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5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 type="dt" idx="13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 type="ftr" idx="14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 type="sldNum" idx="14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AC02-8BEB-47EF-BA74-88542E737D8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6"/>
    <p:sldLayoutId id="2147484248" r:id="rId7"/>
    <p:sldLayoutId id="2147484249" r:id="rId8"/>
    <p:sldLayoutId id="2147484250" r:id="rId9"/>
    <p:sldLayoutId id="2147484251" r:id="rId10"/>
    <p:sldLayoutId id="2147484252" r:id="rId11"/>
    <p:sldLayoutId id="2147484253" r:id="rId12"/>
    <p:sldLayoutId id="2147484254" r:id="rId13"/>
    <p:sldLayoutId id="2147484255" r:id="rId14"/>
    <p:sldLayoutId id="2147484256" r:id="rId15"/>
    <p:sldLayoutId id="2147484257" r:id="rId16"/>
    <p:sldLayoutId id="2147484258" r:id="rId17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99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00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0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0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1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1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dt" idx="14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ftr" idx="14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 type="sldNum" idx="14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B4E-4A54-4B3D-905F-CB2062F1E75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9"/>
    <p:sldLayoutId id="2147484261" r:id="rId10"/>
    <p:sldLayoutId id="2147484262" r:id="rId11"/>
    <p:sldLayoutId id="2147484263" r:id="rId12"/>
    <p:sldLayoutId id="2147484264" r:id="rId13"/>
    <p:sldLayoutId id="2147484265" r:id="rId14"/>
    <p:sldLayoutId id="2147484266" r:id="rId15"/>
    <p:sldLayoutId id="2147484267" r:id="rId16"/>
    <p:sldLayoutId id="2147484268" r:id="rId17"/>
    <p:sldLayoutId id="2147484269" r:id="rId18"/>
    <p:sldLayoutId id="2147484270" r:id="rId19"/>
    <p:sldLayoutId id="2147484271" r:id="rId20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6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6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 type="dt" idx="14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 type="ftr" idx="14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 type="sldNum" idx="14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1DC5-1A72-4C14-9880-B20725C1D09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6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6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334F-6E1B-4E5C-BAB2-CC27C3E2F68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3454-E56B-43ED-A705-70EBC9E9C2F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25D-8869-47A5-B5E6-34FB0BAF2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BF41-57E5-4FB9-AC00-7599EDAF6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2EDD-66C3-4EA8-B58C-3F9E49CEB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gif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2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28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4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4.gi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Горизонтальный свиток 3" descr=""/>
          <p:cNvPicPr/>
          <p:nvPr/>
        </p:nvPicPr>
        <p:blipFill>
          <a:blip r:embed="rId2"/>
          <a:stretch/>
        </p:blipFill>
        <p:spPr>
          <a:xfrm>
            <a:off x="341280" y="1054080"/>
            <a:ext cx="8461440" cy="3822840"/>
          </a:xfrm>
          <a:prstGeom prst="rect">
            <a:avLst/>
          </a:prstGeom>
          <a:ln w="0">
            <a:noFill/>
          </a:ln>
        </p:spPr>
      </p:pic>
      <p:pic>
        <p:nvPicPr>
          <p:cNvPr id="2117" name="Прямоугольник 5" descr=""/>
          <p:cNvPicPr/>
          <p:nvPr/>
        </p:nvPicPr>
        <p:blipFill>
          <a:blip r:embed="rId3"/>
          <a:stretch/>
        </p:blipFill>
        <p:spPr>
          <a:xfrm>
            <a:off x="1749600" y="139680"/>
            <a:ext cx="58514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07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cc"/>
                </a:solidFill>
                <a:latin typeface="Calibri"/>
              </a:rPr>
              <a:t>Робота з формул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TextBox 4"/>
          <p:cNvSpPr/>
          <p:nvPr/>
        </p:nvSpPr>
        <p:spPr>
          <a:xfrm>
            <a:off x="1042560" y="1125360"/>
            <a:ext cx="59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ехай функція задана формулою у= 2х+5. Знай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TextBox 7"/>
          <p:cNvSpPr/>
          <p:nvPr/>
        </p:nvSpPr>
        <p:spPr>
          <a:xfrm>
            <a:off x="530280" y="2585880"/>
            <a:ext cx="3668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ення функції, якщо значення аргументу дорівнює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TextBox 8"/>
          <p:cNvSpPr/>
          <p:nvPr/>
        </p:nvSpPr>
        <p:spPr>
          <a:xfrm>
            <a:off x="4573440" y="26179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х=-4, то у=2•(-4)+5=-8+5=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TextBox 11"/>
          <p:cNvSpPr/>
          <p:nvPr/>
        </p:nvSpPr>
        <p:spPr>
          <a:xfrm>
            <a:off x="531720" y="3716280"/>
            <a:ext cx="367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ення аргументу, при якому значення функції дорівнює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Прямоугольник 12"/>
          <p:cNvSpPr/>
          <p:nvPr/>
        </p:nvSpPr>
        <p:spPr>
          <a:xfrm>
            <a:off x="4586400" y="3860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у=-7, то 2х+5=-7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х=-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х=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=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4" descr="CRCTR496"/>
          <p:cNvPicPr/>
          <p:nvPr/>
        </p:nvPicPr>
        <p:blipFill>
          <a:blip r:embed="rId2"/>
          <a:stretch/>
        </p:blipFill>
        <p:spPr>
          <a:xfrm flipH="1" rot="1525800">
            <a:off x="593280" y="-18720"/>
            <a:ext cx="658800" cy="1641600"/>
          </a:xfrm>
          <a:prstGeom prst="rect">
            <a:avLst/>
          </a:prstGeom>
          <a:ln w="0">
            <a:noFill/>
          </a:ln>
        </p:spPr>
      </p:pic>
      <p:sp>
        <p:nvSpPr>
          <p:cNvPr id="2218" name="Управляющая кнопка: назад 1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3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9" name="Group 9"/>
          <p:cNvGrpSpPr/>
          <p:nvPr/>
        </p:nvGrpSpPr>
        <p:grpSpPr>
          <a:xfrm>
            <a:off x="2084760" y="692280"/>
            <a:ext cx="6707880" cy="556920"/>
            <a:chOff x="2084760" y="692280"/>
            <a:chExt cx="6707880" cy="556920"/>
          </a:xfrm>
        </p:grpSpPr>
        <p:sp>
          <p:nvSpPr>
            <p:cNvPr id="2220" name="Text Box 4"/>
            <p:cNvSpPr/>
            <p:nvPr/>
          </p:nvSpPr>
          <p:spPr>
            <a:xfrm>
              <a:off x="2084760" y="692280"/>
              <a:ext cx="6707880" cy="520560"/>
            </a:xfrm>
            <a:prstGeom prst="rect">
              <a:avLst/>
            </a:prstGeom>
            <a:solidFill>
              <a:srgbClr val="99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</a:rPr>
                <a:t>Функція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задана формулою              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1" name="Object 5" descr=""/>
            <p:cNvPicPr/>
            <p:nvPr/>
          </p:nvPicPr>
          <p:blipFill>
            <a:blip r:embed="rId2"/>
            <a:stretch/>
          </p:blipFill>
          <p:spPr>
            <a:xfrm>
              <a:off x="6588000" y="692280"/>
              <a:ext cx="2089440" cy="55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2" name="Text Box 8"/>
          <p:cNvSpPr/>
          <p:nvPr/>
        </p:nvSpPr>
        <p:spPr>
          <a:xfrm>
            <a:off x="3371760" y="1936800"/>
            <a:ext cx="5658120" cy="5205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овнимо таблиц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3" name=""/>
          <p:cNvGraphicFramePr/>
          <p:nvPr/>
        </p:nvGraphicFramePr>
        <p:xfrm>
          <a:off x="336600" y="3068640"/>
          <a:ext cx="8496360" cy="1584360"/>
        </p:xfrm>
        <a:graphic>
          <a:graphicData uri="http://schemas.openxmlformats.org/drawingml/2006/table">
            <a:tbl>
              <a:tblPr/>
              <a:tblGrid>
                <a:gridCol w="1214280"/>
                <a:gridCol w="1212840"/>
                <a:gridCol w="1214640"/>
                <a:gridCol w="1212840"/>
                <a:gridCol w="1214280"/>
                <a:gridCol w="1212840"/>
                <a:gridCol w="1214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4" name="Rectangle 39"/>
          <p:cNvSpPr/>
          <p:nvPr/>
        </p:nvSpPr>
        <p:spPr>
          <a:xfrm>
            <a:off x="1619280" y="3933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40"/>
          <p:cNvSpPr/>
          <p:nvPr/>
        </p:nvSpPr>
        <p:spPr>
          <a:xfrm>
            <a:off x="284328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41"/>
          <p:cNvSpPr/>
          <p:nvPr/>
        </p:nvSpPr>
        <p:spPr>
          <a:xfrm>
            <a:off x="403056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42"/>
          <p:cNvSpPr/>
          <p:nvPr/>
        </p:nvSpPr>
        <p:spPr>
          <a:xfrm>
            <a:off x="5219640" y="390672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43"/>
          <p:cNvSpPr/>
          <p:nvPr/>
        </p:nvSpPr>
        <p:spPr>
          <a:xfrm>
            <a:off x="6443640" y="390528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44"/>
          <p:cNvSpPr/>
          <p:nvPr/>
        </p:nvSpPr>
        <p:spPr>
          <a:xfrm>
            <a:off x="7662960" y="3905280"/>
            <a:ext cx="10810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a2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8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Управляющая кнопка: назад 1"/>
          <p:cNvSpPr/>
          <p:nvPr/>
        </p:nvSpPr>
        <p:spPr>
          <a:xfrm>
            <a:off x="801216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1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Text Box 5"/>
          <p:cNvSpPr/>
          <p:nvPr/>
        </p:nvSpPr>
        <p:spPr>
          <a:xfrm>
            <a:off x="1264680" y="189000"/>
            <a:ext cx="1557000" cy="459720"/>
          </a:xfrm>
          <a:prstGeom prst="rect">
            <a:avLst/>
          </a:prstGeom>
          <a:solidFill>
            <a:srgbClr val="ffff66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6"/>
          <p:cNvSpPr/>
          <p:nvPr/>
        </p:nvSpPr>
        <p:spPr>
          <a:xfrm>
            <a:off x="2069640" y="692280"/>
            <a:ext cx="6171480" cy="5205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йти область визначення  функц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Oval 7"/>
          <p:cNvSpPr/>
          <p:nvPr/>
        </p:nvSpPr>
        <p:spPr>
          <a:xfrm>
            <a:off x="250920" y="1989000"/>
            <a:ext cx="43164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5" name="Group 21"/>
          <p:cNvGrpSpPr/>
          <p:nvPr/>
        </p:nvGrpSpPr>
        <p:grpSpPr>
          <a:xfrm>
            <a:off x="826920" y="1628640"/>
            <a:ext cx="3600720" cy="1922760"/>
            <a:chOff x="826920" y="1628640"/>
            <a:chExt cx="3600720" cy="1922760"/>
          </a:xfrm>
        </p:grpSpPr>
        <p:sp>
          <p:nvSpPr>
            <p:cNvPr id="2236" name="Text Box 10"/>
            <p:cNvSpPr/>
            <p:nvPr/>
          </p:nvSpPr>
          <p:spPr>
            <a:xfrm>
              <a:off x="826920" y="162864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7" name="Object 11" descr=""/>
            <p:cNvPicPr/>
            <p:nvPr/>
          </p:nvPicPr>
          <p:blipFill>
            <a:blip r:embed="rId2"/>
            <a:stretch/>
          </p:blipFill>
          <p:spPr>
            <a:xfrm>
              <a:off x="1116000" y="162864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8" name="Group 22"/>
          <p:cNvGrpSpPr/>
          <p:nvPr/>
        </p:nvGrpSpPr>
        <p:grpSpPr>
          <a:xfrm>
            <a:off x="826920" y="3357720"/>
            <a:ext cx="3600720" cy="1922760"/>
            <a:chOff x="826920" y="3357720"/>
            <a:chExt cx="3600720" cy="1922760"/>
          </a:xfrm>
        </p:grpSpPr>
        <p:sp>
          <p:nvSpPr>
            <p:cNvPr id="2239" name="Text Box 12"/>
            <p:cNvSpPr/>
            <p:nvPr/>
          </p:nvSpPr>
          <p:spPr>
            <a:xfrm>
              <a:off x="826920" y="335772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0" name="Object 13" descr=""/>
            <p:cNvPicPr/>
            <p:nvPr/>
          </p:nvPicPr>
          <p:blipFill>
            <a:blip r:embed="rId3"/>
            <a:stretch/>
          </p:blipFill>
          <p:spPr>
            <a:xfrm>
              <a:off x="1042920" y="3357720"/>
              <a:ext cx="316872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1" name="Oval 15"/>
          <p:cNvSpPr/>
          <p:nvPr/>
        </p:nvSpPr>
        <p:spPr>
          <a:xfrm>
            <a:off x="250920" y="3716280"/>
            <a:ext cx="43164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Oval 17"/>
          <p:cNvSpPr/>
          <p:nvPr/>
        </p:nvSpPr>
        <p:spPr>
          <a:xfrm>
            <a:off x="250920" y="5589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Group 23"/>
          <p:cNvGrpSpPr/>
          <p:nvPr/>
        </p:nvGrpSpPr>
        <p:grpSpPr>
          <a:xfrm>
            <a:off x="826920" y="5084640"/>
            <a:ext cx="3600720" cy="1922760"/>
            <a:chOff x="826920" y="5084640"/>
            <a:chExt cx="3600720" cy="1922760"/>
          </a:xfrm>
        </p:grpSpPr>
        <p:sp>
          <p:nvSpPr>
            <p:cNvPr id="2244" name="Text Box 16"/>
            <p:cNvSpPr/>
            <p:nvPr/>
          </p:nvSpPr>
          <p:spPr>
            <a:xfrm>
              <a:off x="826920" y="5084640"/>
              <a:ext cx="3600720" cy="192276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5" name="Object 18" descr=""/>
            <p:cNvPicPr/>
            <p:nvPr/>
          </p:nvPicPr>
          <p:blipFill>
            <a:blip r:embed="rId4"/>
            <a:stretch/>
          </p:blipFill>
          <p:spPr>
            <a:xfrm>
              <a:off x="1042920" y="5157720"/>
              <a:ext cx="3095640" cy="110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7" name="Group 27"/>
          <p:cNvGrpSpPr/>
          <p:nvPr/>
        </p:nvGrpSpPr>
        <p:grpSpPr>
          <a:xfrm>
            <a:off x="4572000" y="1916280"/>
            <a:ext cx="2521080" cy="580680"/>
            <a:chOff x="4572000" y="1916280"/>
            <a:chExt cx="2521080" cy="580680"/>
          </a:xfrm>
        </p:grpSpPr>
        <p:sp>
          <p:nvSpPr>
            <p:cNvPr id="2248" name="Text Box 24"/>
            <p:cNvSpPr/>
            <p:nvPr/>
          </p:nvSpPr>
          <p:spPr>
            <a:xfrm>
              <a:off x="4572000" y="1965240"/>
              <a:ext cx="2521080" cy="45684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9" name="Object 25" descr=""/>
            <p:cNvPicPr/>
            <p:nvPr/>
          </p:nvPicPr>
          <p:blipFill>
            <a:blip r:embed="rId5"/>
            <a:stretch/>
          </p:blipFill>
          <p:spPr>
            <a:xfrm>
              <a:off x="4572000" y="1916280"/>
              <a:ext cx="25210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0" name="Group 28"/>
          <p:cNvGrpSpPr/>
          <p:nvPr/>
        </p:nvGrpSpPr>
        <p:grpSpPr>
          <a:xfrm>
            <a:off x="4572000" y="3645000"/>
            <a:ext cx="2521080" cy="581040"/>
            <a:chOff x="4572000" y="3645000"/>
            <a:chExt cx="2521080" cy="581040"/>
          </a:xfrm>
        </p:grpSpPr>
        <p:sp>
          <p:nvSpPr>
            <p:cNvPr id="2251" name="Text Box 29"/>
            <p:cNvSpPr/>
            <p:nvPr/>
          </p:nvSpPr>
          <p:spPr>
            <a:xfrm>
              <a:off x="4572000" y="3694320"/>
              <a:ext cx="2521080" cy="45720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2" name="Object 30" descr=""/>
            <p:cNvPicPr/>
            <p:nvPr/>
          </p:nvPicPr>
          <p:blipFill>
            <a:blip r:embed="rId6"/>
            <a:stretch/>
          </p:blipFill>
          <p:spPr>
            <a:xfrm>
              <a:off x="4589640" y="3645000"/>
              <a:ext cx="2484360" cy="58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3" name="Group 31"/>
          <p:cNvGrpSpPr/>
          <p:nvPr/>
        </p:nvGrpSpPr>
        <p:grpSpPr>
          <a:xfrm>
            <a:off x="4572000" y="5410080"/>
            <a:ext cx="2521080" cy="507960"/>
            <a:chOff x="4572000" y="5410080"/>
            <a:chExt cx="2521080" cy="507960"/>
          </a:xfrm>
        </p:grpSpPr>
        <p:sp>
          <p:nvSpPr>
            <p:cNvPr id="2254" name="Text Box 32"/>
            <p:cNvSpPr/>
            <p:nvPr/>
          </p:nvSpPr>
          <p:spPr>
            <a:xfrm>
              <a:off x="4572000" y="5422680"/>
              <a:ext cx="2521080" cy="457200"/>
            </a:xfrm>
            <a:prstGeom prst="rect">
              <a:avLst/>
            </a:prstGeom>
            <a:solidFill>
              <a:srgbClr val="ff99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5" name="Object 33" descr=""/>
            <p:cNvPicPr/>
            <p:nvPr/>
          </p:nvPicPr>
          <p:blipFill>
            <a:blip r:embed="rId7"/>
            <a:stretch/>
          </p:blipFill>
          <p:spPr>
            <a:xfrm>
              <a:off x="5313240" y="5410080"/>
              <a:ext cx="1038240" cy="50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6" name="Picture 2" descr="C:\Users\Ирина Михайловна\Desktop\2783.gif"/>
          <p:cNvPicPr/>
          <p:nvPr/>
        </p:nvPicPr>
        <p:blipFill>
          <a:blip r:embed="rId8"/>
          <a:stretch/>
        </p:blipFill>
        <p:spPr>
          <a:xfrm>
            <a:off x="7380360" y="5083200"/>
            <a:ext cx="159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235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235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238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238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243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2243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Text Box 5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0" name="Object 7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370400" cy="4408200"/>
          </a:xfrm>
          <a:prstGeom prst="rect">
            <a:avLst/>
          </a:prstGeom>
          <a:ln w="0">
            <a:noFill/>
          </a:ln>
        </p:spPr>
      </p:pic>
      <p:sp>
        <p:nvSpPr>
          <p:cNvPr id="2261" name="Line 10"/>
          <p:cNvSpPr/>
          <p:nvPr/>
        </p:nvSpPr>
        <p:spPr>
          <a:xfrm flipV="1">
            <a:off x="2700360" y="5589720"/>
            <a:ext cx="4168800" cy="936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11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12"/>
          <p:cNvSpPr/>
          <p:nvPr/>
        </p:nvSpPr>
        <p:spPr>
          <a:xfrm>
            <a:off x="680040" y="3357720"/>
            <a:ext cx="2870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будь - як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Oval 13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Freeform 14"/>
          <p:cNvSpPr/>
          <p:nvPr/>
        </p:nvSpPr>
        <p:spPr>
          <a:xfrm>
            <a:off x="4280040" y="2278080"/>
            <a:ext cx="6120" cy="3906720"/>
          </a:xfrm>
          <a:custGeom>
            <a:avLst/>
            <a:gdLst>
              <a:gd name="textAreaLeft" fmla="*/ 0 w 6120"/>
              <a:gd name="textAreaRight" fmla="*/ 6480 w 6120"/>
              <a:gd name="textAreaTop" fmla="*/ 0 h 3906720"/>
              <a:gd name="textAreaBottom" fmla="*/ 3907080 h 3906720"/>
            </a:gdLst>
            <a:ahLst/>
            <a:rect l="textAreaLeft" t="textAreaTop" r="textAreaRight" b="textAreaBottom"/>
            <a:pathLst>
              <a:path w="4" h="2461">
                <a:moveTo>
                  <a:pt x="0" y="2461"/>
                </a:moveTo>
                <a:lnTo>
                  <a:pt x="4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Freeform 15"/>
          <p:cNvSpPr/>
          <p:nvPr/>
        </p:nvSpPr>
        <p:spPr>
          <a:xfrm>
            <a:off x="4343400" y="6197760"/>
            <a:ext cx="482760" cy="1440"/>
          </a:xfrm>
          <a:custGeom>
            <a:avLst/>
            <a:gdLst>
              <a:gd name="textAreaLeft" fmla="*/ 0 w 482760"/>
              <a:gd name="textAreaRight" fmla="*/ 483120 w 482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 Box 16"/>
          <p:cNvSpPr/>
          <p:nvPr/>
        </p:nvSpPr>
        <p:spPr>
          <a:xfrm>
            <a:off x="684360" y="4365720"/>
            <a:ext cx="2374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8" name="Picture 2" descr="C:\Users\Ирина Михайловна\Desktop\2783.gif"/>
          <p:cNvPicPr/>
          <p:nvPr/>
        </p:nvPicPr>
        <p:blipFill>
          <a:blip r:embed="rId3"/>
          <a:stretch/>
        </p:blipFill>
        <p:spPr>
          <a:xfrm>
            <a:off x="7380360" y="4941720"/>
            <a:ext cx="1595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0" dur="1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3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Oval 9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Oval 11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Rectangle 16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5" name="Object 15" descr=""/>
          <p:cNvPicPr/>
          <p:nvPr/>
        </p:nvPicPr>
        <p:blipFill>
          <a:blip r:embed="rId2"/>
          <a:stretch/>
        </p:blipFill>
        <p:spPr>
          <a:xfrm>
            <a:off x="2484360" y="2190600"/>
            <a:ext cx="4497480" cy="4537080"/>
          </a:xfrm>
          <a:prstGeom prst="rect">
            <a:avLst/>
          </a:prstGeom>
          <a:ln w="0">
            <a:noFill/>
          </a:ln>
        </p:spPr>
      </p:pic>
      <p:grpSp>
        <p:nvGrpSpPr>
          <p:cNvPr id="2276" name="Group 21"/>
          <p:cNvGrpSpPr/>
          <p:nvPr/>
        </p:nvGrpSpPr>
        <p:grpSpPr>
          <a:xfrm>
            <a:off x="3265560" y="2995200"/>
            <a:ext cx="3095640" cy="3313440"/>
            <a:chOff x="3265560" y="2995200"/>
            <a:chExt cx="3095640" cy="3313440"/>
          </a:xfrm>
        </p:grpSpPr>
        <p:sp>
          <p:nvSpPr>
            <p:cNvPr id="2277" name="Freeform 18"/>
            <p:cNvSpPr/>
            <p:nvPr/>
          </p:nvSpPr>
          <p:spPr>
            <a:xfrm>
              <a:off x="3336840" y="3066840"/>
              <a:ext cx="2952720" cy="316872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w="1860" h="1996">
                  <a:moveTo>
                    <a:pt x="0" y="1996"/>
                  </a:moveTo>
                  <a:cubicBezTo>
                    <a:pt x="30" y="1799"/>
                    <a:pt x="69" y="1597"/>
                    <a:pt x="136" y="1406"/>
                  </a:cubicBezTo>
                  <a:cubicBezTo>
                    <a:pt x="203" y="1215"/>
                    <a:pt x="269" y="1026"/>
                    <a:pt x="403" y="851"/>
                  </a:cubicBezTo>
                  <a:cubicBezTo>
                    <a:pt x="537" y="676"/>
                    <a:pt x="696" y="497"/>
                    <a:pt x="939" y="355"/>
                  </a:cubicBezTo>
                  <a:cubicBezTo>
                    <a:pt x="1182" y="213"/>
                    <a:pt x="1668" y="74"/>
                    <a:pt x="186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Oval 19"/>
            <p:cNvSpPr/>
            <p:nvPr/>
          </p:nvSpPr>
          <p:spPr>
            <a:xfrm flipV="1">
              <a:off x="3265560" y="6163920"/>
              <a:ext cx="144360" cy="144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Oval 20"/>
            <p:cNvSpPr/>
            <p:nvPr/>
          </p:nvSpPr>
          <p:spPr>
            <a:xfrm flipV="1">
              <a:off x="6216480" y="2994840"/>
              <a:ext cx="144720" cy="144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0" name="Line 22"/>
          <p:cNvSpPr/>
          <p:nvPr/>
        </p:nvSpPr>
        <p:spPr>
          <a:xfrm flipV="1">
            <a:off x="3348000" y="5660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23"/>
          <p:cNvSpPr/>
          <p:nvPr/>
        </p:nvSpPr>
        <p:spPr>
          <a:xfrm flipV="1">
            <a:off x="6300720" y="31413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Freeform 24"/>
          <p:cNvSpPr/>
          <p:nvPr/>
        </p:nvSpPr>
        <p:spPr>
          <a:xfrm>
            <a:off x="3327480" y="5613480"/>
            <a:ext cx="2971800" cy="126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72" h="8">
                <a:moveTo>
                  <a:pt x="0" y="0"/>
                </a:moveTo>
                <a:lnTo>
                  <a:pt x="1872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2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Line 29"/>
          <p:cNvSpPr/>
          <p:nvPr/>
        </p:nvSpPr>
        <p:spPr>
          <a:xfrm>
            <a:off x="3419640" y="623736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30"/>
          <p:cNvSpPr/>
          <p:nvPr/>
        </p:nvSpPr>
        <p:spPr>
          <a:xfrm>
            <a:off x="4317840" y="3111480"/>
            <a:ext cx="1968840" cy="1440"/>
          </a:xfrm>
          <a:custGeom>
            <a:avLst/>
            <a:gdLst>
              <a:gd name="textAreaLeft" fmla="*/ 0 w 1968840"/>
              <a:gd name="textAreaRight" fmla="*/ 1969200 w 1968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Freeform 31"/>
          <p:cNvSpPr/>
          <p:nvPr/>
        </p:nvSpPr>
        <p:spPr>
          <a:xfrm>
            <a:off x="4213080" y="3141720"/>
            <a:ext cx="3240" cy="3093840"/>
          </a:xfrm>
          <a:custGeom>
            <a:avLst/>
            <a:gdLst>
              <a:gd name="textAreaLeft" fmla="*/ 0 w 3240"/>
              <a:gd name="textAreaRight" fmla="*/ 3600 w 324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2" h="1949">
                <a:moveTo>
                  <a:pt x="2" y="1949"/>
                </a:moveTo>
                <a:lnTo>
                  <a:pt x="0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3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Picture 2" descr="C:\Users\Ирина Михайловна\Desktop\2783.gif"/>
          <p:cNvPicPr/>
          <p:nvPr/>
        </p:nvPicPr>
        <p:blipFill>
          <a:blip r:embed="rId3"/>
          <a:stretch/>
        </p:blipFill>
        <p:spPr>
          <a:xfrm>
            <a:off x="7186680" y="5013360"/>
            <a:ext cx="159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9" dur="10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Text Box 3"/>
          <p:cNvSpPr/>
          <p:nvPr/>
        </p:nvSpPr>
        <p:spPr>
          <a:xfrm>
            <a:off x="1193040" y="189000"/>
            <a:ext cx="155700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д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4"/>
          <p:cNvSpPr/>
          <p:nvPr/>
        </p:nvSpPr>
        <p:spPr>
          <a:xfrm>
            <a:off x="1763640" y="692280"/>
            <a:ext cx="6983640" cy="1373760"/>
          </a:xfrm>
          <a:prstGeom prst="rect">
            <a:avLst/>
          </a:prstGeom>
          <a:solidFill>
            <a:srgbClr val="99ff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графіку функції знайді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її область визначе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область значень функції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Oval 6"/>
          <p:cNvSpPr/>
          <p:nvPr/>
        </p:nvSpPr>
        <p:spPr>
          <a:xfrm>
            <a:off x="108000" y="3357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Oval 7"/>
          <p:cNvSpPr/>
          <p:nvPr/>
        </p:nvSpPr>
        <p:spPr>
          <a:xfrm>
            <a:off x="108000" y="4365720"/>
            <a:ext cx="43164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5" name="Object 9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4497480" cy="4537080"/>
          </a:xfrm>
          <a:prstGeom prst="rect">
            <a:avLst/>
          </a:prstGeom>
          <a:ln w="0">
            <a:noFill/>
          </a:ln>
        </p:spPr>
      </p:pic>
      <p:sp>
        <p:nvSpPr>
          <p:cNvPr id="2296" name="Freeform 15"/>
          <p:cNvSpPr/>
          <p:nvPr/>
        </p:nvSpPr>
        <p:spPr>
          <a:xfrm>
            <a:off x="6769080" y="5689440"/>
            <a:ext cx="1440" cy="495360"/>
          </a:xfrm>
          <a:custGeom>
            <a:avLst/>
            <a:gdLst>
              <a:gd name="textAreaLeft" fmla="*/ 0 w 1440"/>
              <a:gd name="textAreaRight" fmla="*/ 1800 w 14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" h="312">
                <a:moveTo>
                  <a:pt x="0" y="3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16"/>
          <p:cNvSpPr/>
          <p:nvPr/>
        </p:nvSpPr>
        <p:spPr>
          <a:xfrm flipV="1">
            <a:off x="3348000" y="2707920"/>
            <a:ext cx="0" cy="302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18"/>
          <p:cNvSpPr/>
          <p:nvPr/>
        </p:nvSpPr>
        <p:spPr>
          <a:xfrm>
            <a:off x="684360" y="3357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reeform 19"/>
          <p:cNvSpPr/>
          <p:nvPr/>
        </p:nvSpPr>
        <p:spPr>
          <a:xfrm>
            <a:off x="3340080" y="2590920"/>
            <a:ext cx="990720" cy="1440"/>
          </a:xfrm>
          <a:custGeom>
            <a:avLst/>
            <a:gdLst>
              <a:gd name="textAreaLeft" fmla="*/ 0 w 990720"/>
              <a:gd name="textAreaRight" fmla="*/ 991080 w 99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24" h="1">
                <a:moveTo>
                  <a:pt x="0" y="0"/>
                </a:moveTo>
                <a:lnTo>
                  <a:pt x="62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20"/>
          <p:cNvSpPr/>
          <p:nvPr/>
        </p:nvSpPr>
        <p:spPr>
          <a:xfrm>
            <a:off x="4427640" y="6237360"/>
            <a:ext cx="2376360" cy="730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40" h="1">
                <a:moveTo>
                  <a:pt x="0" y="0"/>
                </a:moveTo>
                <a:lnTo>
                  <a:pt x="124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22"/>
          <p:cNvSpPr/>
          <p:nvPr/>
        </p:nvSpPr>
        <p:spPr>
          <a:xfrm>
            <a:off x="684360" y="4365720"/>
            <a:ext cx="2158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2" name="Group 31"/>
          <p:cNvGrpSpPr/>
          <p:nvPr/>
        </p:nvGrpSpPr>
        <p:grpSpPr>
          <a:xfrm>
            <a:off x="3276720" y="2565360"/>
            <a:ext cx="3598920" cy="3676680"/>
            <a:chOff x="3276720" y="2565360"/>
            <a:chExt cx="3598920" cy="3676680"/>
          </a:xfrm>
        </p:grpSpPr>
        <p:sp>
          <p:nvSpPr>
            <p:cNvPr id="2303" name="Freeform 27"/>
            <p:cNvSpPr/>
            <p:nvPr/>
          </p:nvSpPr>
          <p:spPr>
            <a:xfrm>
              <a:off x="3416400" y="2565360"/>
              <a:ext cx="3378240" cy="355608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3556080"/>
                <a:gd name="textAreaBottom" fmla="*/ 3556440 h 3556080"/>
              </a:gdLst>
              <a:ahLst/>
              <a:rect l="textAreaLeft" t="textAreaTop" r="textAreaRight" b="textAreaBottom"/>
              <a:pathLst>
                <a:path w="2128" h="2240">
                  <a:moveTo>
                    <a:pt x="0" y="32"/>
                  </a:moveTo>
                  <a:cubicBezTo>
                    <a:pt x="201" y="88"/>
                    <a:pt x="845" y="0"/>
                    <a:pt x="1200" y="368"/>
                  </a:cubicBezTo>
                  <a:cubicBezTo>
                    <a:pt x="1555" y="736"/>
                    <a:pt x="1935" y="1850"/>
                    <a:pt x="2128" y="224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Oval 29"/>
            <p:cNvSpPr/>
            <p:nvPr/>
          </p:nvSpPr>
          <p:spPr>
            <a:xfrm>
              <a:off x="3276720" y="2565360"/>
              <a:ext cx="142920" cy="149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Oval 30"/>
            <p:cNvSpPr/>
            <p:nvPr/>
          </p:nvSpPr>
          <p:spPr>
            <a:xfrm>
              <a:off x="6732720" y="6093000"/>
              <a:ext cx="142920" cy="149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6" name="Freeform 32"/>
          <p:cNvSpPr/>
          <p:nvPr/>
        </p:nvSpPr>
        <p:spPr>
          <a:xfrm>
            <a:off x="3352680" y="5613480"/>
            <a:ext cx="3451320" cy="12600"/>
          </a:xfrm>
          <a:custGeom>
            <a:avLst/>
            <a:gdLst>
              <a:gd name="textAreaLeft" fmla="*/ 0 w 3451320"/>
              <a:gd name="textAreaRight" fmla="*/ 3451680 w 34513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174" h="8">
                <a:moveTo>
                  <a:pt x="0" y="0"/>
                </a:moveTo>
                <a:lnTo>
                  <a:pt x="2174" y="8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Freeform 33"/>
          <p:cNvSpPr/>
          <p:nvPr/>
        </p:nvSpPr>
        <p:spPr>
          <a:xfrm>
            <a:off x="4216320" y="2603520"/>
            <a:ext cx="12960" cy="3632040"/>
          </a:xfrm>
          <a:custGeom>
            <a:avLst/>
            <a:gdLst>
              <a:gd name="textAreaLeft" fmla="*/ 0 w 12960"/>
              <a:gd name="textAreaRight" fmla="*/ 13320 w 12960"/>
              <a:gd name="textAreaTop" fmla="*/ 0 h 3632040"/>
              <a:gd name="textAreaBottom" fmla="*/ 3632400 h 3632040"/>
            </a:gdLst>
            <a:ahLst/>
            <a:rect l="textAreaLeft" t="textAreaTop" r="textAreaRight" b="textAreaBottom"/>
            <a:pathLst>
              <a:path w="8" h="2288">
                <a:moveTo>
                  <a:pt x="0" y="2288"/>
                </a:moveTo>
                <a:lnTo>
                  <a:pt x="8" y="0"/>
                </a:lnTo>
              </a:path>
            </a:pathLst>
          </a:custGeom>
          <a:noFill/>
          <a:ln w="127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8" name="Object 34" descr=""/>
          <p:cNvPicPr/>
          <p:nvPr/>
        </p:nvPicPr>
        <p:blipFill>
          <a:blip r:embed="rId3"/>
          <a:stretch/>
        </p:blipFill>
        <p:spPr>
          <a:xfrm>
            <a:off x="3495600" y="1168560"/>
            <a:ext cx="2151000" cy="4063680"/>
          </a:xfrm>
          <a:prstGeom prst="rect">
            <a:avLst/>
          </a:prstGeom>
          <a:ln w="0">
            <a:noFill/>
          </a:ln>
        </p:spPr>
      </p:pic>
      <p:pic>
        <p:nvPicPr>
          <p:cNvPr id="2309" name="Picture 2" descr="C:\Users\Ирина Михайловна\Desktop\2783.gif"/>
          <p:cNvPicPr/>
          <p:nvPr/>
        </p:nvPicPr>
        <p:blipFill>
          <a:blip r:embed="rId4"/>
          <a:stretch/>
        </p:blipFill>
        <p:spPr>
          <a:xfrm>
            <a:off x="7380360" y="4941720"/>
            <a:ext cx="1595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4" dur="1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62673"/>
                </a:solidFill>
                <a:latin typeface="Monotype Corsiva"/>
              </a:rPr>
              <a:t>Самостійна робо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262673"/>
                </a:solidFill>
                <a:latin typeface="Monotype Corsiva"/>
              </a:rPr>
              <a:t>навчального характе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 варіант - </a:t>
            </a: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870, 874 (в), 876 (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І варіант - </a:t>
            </a:r>
            <a:r>
              <a:rPr b="0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871, 874 (б), 876 (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51" descr="Рисунок12112"/>
          <p:cNvPicPr/>
          <p:nvPr/>
        </p:nvPicPr>
        <p:blipFill>
          <a:blip r:embed="rId2"/>
          <a:stretch/>
        </p:blipFill>
        <p:spPr>
          <a:xfrm>
            <a:off x="6156360" y="4376880"/>
            <a:ext cx="1868400" cy="207936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3"/>
          <a:stretch/>
        </p:blipFill>
        <p:spPr>
          <a:xfrm>
            <a:off x="108000" y="28116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313" name="Лента лицом вверх 5"/>
          <p:cNvSpPr/>
          <p:nvPr/>
        </p:nvSpPr>
        <p:spPr>
          <a:xfrm>
            <a:off x="1731960" y="765000"/>
            <a:ext cx="7343640" cy="2303640"/>
          </a:xfrm>
          <a:custGeom>
            <a:avLst/>
            <a:gdLst>
              <a:gd name="textAreaLeft" fmla="*/ 1836000 w 7343640"/>
              <a:gd name="textAreaRight" fmla="*/ 5508000 w 7343640"/>
              <a:gd name="textAreaTop" fmla="*/ 0 h 2303640"/>
              <a:gd name="textAreaBottom" fmla="*/ 1919880 h 23036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66ff33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Домашнє 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Опрацювати п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Виконати впра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rebuchet MS"/>
              </a:rPr>
              <a:t>868, 885, 888, 889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TextBox 2"/>
          <p:cNvSpPr/>
          <p:nvPr/>
        </p:nvSpPr>
        <p:spPr>
          <a:xfrm>
            <a:off x="3497400" y="3429000"/>
            <a:ext cx="4646520" cy="233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14124"/>
                </a:solidFill>
                <a:uFillTx/>
                <a:latin typeface="Arial"/>
              </a:rPr>
              <a:t>Мета уро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формувати поняття функціональної залежності, аргументу, області визначення та області значення функції; розг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ути різні способи задання функ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250920" y="26370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316" name="Горизонтальный свиток 3"/>
          <p:cNvSpPr/>
          <p:nvPr/>
        </p:nvSpPr>
        <p:spPr>
          <a:xfrm>
            <a:off x="785880" y="214200"/>
            <a:ext cx="8215200" cy="2775240"/>
          </a:xfrm>
          <a:prstGeom prst="horizontalScroll">
            <a:avLst>
              <a:gd name="adj" fmla="val 125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66"/>
                </a:solidFill>
                <a:uFillTx/>
                <a:latin typeface="Trebuchet MS"/>
              </a:rPr>
              <a:t>Т</a:t>
            </a:r>
            <a:r>
              <a:rPr b="1" i="1" lang="uk-UA" sz="2800" spc="-1" strike="noStrike" u="sng">
                <a:solidFill>
                  <a:srgbClr val="ffff66"/>
                </a:solidFill>
                <a:uFillTx/>
                <a:latin typeface="Trebuchet MS"/>
              </a:rPr>
              <a:t>ема уроку:</a:t>
            </a:r>
            <a:r>
              <a:rPr b="1" i="1" lang="uk-UA" sz="2800" spc="-1" strike="noStrike">
                <a:solidFill>
                  <a:srgbClr val="ffff66"/>
                </a:solidFill>
                <a:latin typeface="Trebuchet MS"/>
              </a:rPr>
              <a:t> Функція. Область визначення і область значень функції. Способи зада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3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30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TextBox 1"/>
          <p:cNvSpPr/>
          <p:nvPr/>
        </p:nvSpPr>
        <p:spPr>
          <a:xfrm>
            <a:off x="684360" y="396720"/>
            <a:ext cx="617364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і поняття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Box 7"/>
          <p:cNvSpPr/>
          <p:nvPr/>
        </p:nvSpPr>
        <p:spPr>
          <a:xfrm>
            <a:off x="685800" y="1844640"/>
            <a:ext cx="698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.Які є способи задання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функції?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Box 8"/>
          <p:cNvSpPr/>
          <p:nvPr/>
        </p:nvSpPr>
        <p:spPr>
          <a:xfrm>
            <a:off x="685800" y="2505240"/>
            <a:ext cx="70340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3.Щ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зиваєть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ргументо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Що називається значенням функції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Box 3"/>
          <p:cNvSpPr/>
          <p:nvPr/>
        </p:nvSpPr>
        <p:spPr>
          <a:xfrm>
            <a:off x="722160" y="3573360"/>
            <a:ext cx="7034400" cy="13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Як знайти значення функції, якщо відомо значення аргумент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Як знайти значення аргументу, коли відомо значення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Box 6"/>
          <p:cNvSpPr/>
          <p:nvPr/>
        </p:nvSpPr>
        <p:spPr>
          <a:xfrm>
            <a:off x="804960" y="5732640"/>
            <a:ext cx="7034040" cy="50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6</a:t>
            </a:r>
            <a:r>
              <a:rPr b="1" i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.</a:t>
            </a: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 Що називається областю значення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Box 7"/>
          <p:cNvSpPr/>
          <p:nvPr/>
        </p:nvSpPr>
        <p:spPr>
          <a:xfrm>
            <a:off x="785880" y="5143680"/>
            <a:ext cx="7034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5</a:t>
            </a:r>
            <a:r>
              <a:rPr b="1" i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. </a:t>
            </a:r>
            <a:r>
              <a:rPr b="1" i="1" lang="uk-UA" sz="1800" spc="-1" strike="noStrike" u="sng">
                <a:solidFill>
                  <a:srgbClr val="3c8c93"/>
                </a:solidFill>
                <a:uFillTx/>
                <a:latin typeface="Arial"/>
              </a:rPr>
              <a:t>Що називається областю визначення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Picture 10" descr="C:\Users\Ирина Михайловна\Desktop\MOI7.gif"/>
          <p:cNvPicPr/>
          <p:nvPr/>
        </p:nvPicPr>
        <p:blipFill>
          <a:blip r:embed="rId4"/>
          <a:stretch/>
        </p:blipFill>
        <p:spPr>
          <a:xfrm>
            <a:off x="7742160" y="430200"/>
            <a:ext cx="1214640" cy="1517760"/>
          </a:xfrm>
          <a:prstGeom prst="rect">
            <a:avLst/>
          </a:prstGeom>
          <a:ln w="0">
            <a:noFill/>
          </a:ln>
        </p:spPr>
      </p:pic>
      <p:sp>
        <p:nvSpPr>
          <p:cNvPr id="2125" name="TextBox 4"/>
          <p:cNvSpPr/>
          <p:nvPr/>
        </p:nvSpPr>
        <p:spPr>
          <a:xfrm>
            <a:off x="708120" y="1244520"/>
            <a:ext cx="7003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i="1" lang="uk-UA" sz="1800" spc="-1" strike="noStrike">
                <a:solidFill>
                  <a:srgbClr val="663300"/>
                </a:solidFill>
                <a:latin typeface="Arial"/>
              </a:rPr>
              <a:t>Що називається функцією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TextBox 2"/>
          <p:cNvSpPr/>
          <p:nvPr/>
        </p:nvSpPr>
        <p:spPr>
          <a:xfrm>
            <a:off x="3497400" y="3429000"/>
            <a:ext cx="4646520" cy="233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f14124"/>
                </a:solidFill>
                <a:uFillTx/>
                <a:latin typeface="Arial"/>
              </a:rPr>
              <a:t>Мета уро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формувати поняття функціональної залежності, аргументу, області визначення та області значення функції; розг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ути різні способи задання функ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7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250920" y="2637000"/>
            <a:ext cx="3247920" cy="4057560"/>
          </a:xfrm>
          <a:prstGeom prst="rect">
            <a:avLst/>
          </a:prstGeom>
          <a:ln w="0">
            <a:noFill/>
          </a:ln>
        </p:spPr>
      </p:pic>
      <p:sp>
        <p:nvSpPr>
          <p:cNvPr id="2128" name="Горизонтальный свиток 3"/>
          <p:cNvSpPr/>
          <p:nvPr/>
        </p:nvSpPr>
        <p:spPr>
          <a:xfrm>
            <a:off x="785880" y="214200"/>
            <a:ext cx="8215200" cy="2775240"/>
          </a:xfrm>
          <a:prstGeom prst="horizontalScroll">
            <a:avLst>
              <a:gd name="adj" fmla="val 125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66"/>
                </a:solidFill>
                <a:uFillTx/>
                <a:latin typeface="Trebuchet MS"/>
              </a:rPr>
              <a:t>Т</a:t>
            </a:r>
            <a:r>
              <a:rPr b="1" i="1" lang="uk-UA" sz="2800" spc="-1" strike="noStrike" u="sng">
                <a:solidFill>
                  <a:srgbClr val="ffff66"/>
                </a:solidFill>
                <a:uFillTx/>
                <a:latin typeface="Trebuchet MS"/>
              </a:rPr>
              <a:t>ема уроку:</a:t>
            </a:r>
            <a:r>
              <a:rPr b="1" i="1" lang="uk-UA" sz="2800" spc="-1" strike="noStrike">
                <a:solidFill>
                  <a:srgbClr val="ffff66"/>
                </a:solidFill>
                <a:latin typeface="Trebuchet MS"/>
              </a:rPr>
              <a:t> Функція. Область визначення і область значень функції. Способи зада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30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WordArt 4"/>
          <p:cNvSpPr txBox="1"/>
          <p:nvPr/>
        </p:nvSpPr>
        <p:spPr>
          <a:xfrm>
            <a:off x="1476360" y="476280"/>
            <a:ext cx="3743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ункція 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0" name="Text Box 5"/>
          <p:cNvSpPr/>
          <p:nvPr/>
        </p:nvSpPr>
        <p:spPr>
          <a:xfrm>
            <a:off x="53964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Це така залежність між змінними при як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6"/>
          <p:cNvSpPr/>
          <p:nvPr/>
        </p:nvSpPr>
        <p:spPr>
          <a:xfrm>
            <a:off x="539640" y="1989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жному    значенню     незалежної     змінної відповідає єдине значення залежної змінно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Прямоугольник 1"/>
          <p:cNvSpPr/>
          <p:nvPr/>
        </p:nvSpPr>
        <p:spPr>
          <a:xfrm>
            <a:off x="928800" y="3143160"/>
            <a:ext cx="5214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Термін “Функція” вперше зустрічається в рукописі Г. Лейбніца (1673 р.), в друкованому вигляді (1692 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Із латинської </a:t>
            </a:r>
            <a:r>
              <a:rPr b="1" i="1" lang="en-US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 function </a:t>
            </a:r>
            <a:r>
              <a:rPr b="1" i="1" lang="uk-UA" sz="2600" spc="-1" strike="noStrike">
                <a:solidFill>
                  <a:srgbClr val="002060"/>
                </a:solidFill>
                <a:latin typeface="Times New Roman"/>
                <a:ea typeface="Arial"/>
              </a:rPr>
              <a:t>переводиться як “здійснення”, “виконання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8675640" y="0"/>
            <a:ext cx="468360" cy="5205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20560"/>
              <a:gd name="textAreaBottom" fmla="*/ 490320 h 520560"/>
            </a:gdLst>
            <a:ahLst/>
            <a:rect l="textAreaLeft" t="textAreaTop" r="textAreaRight" b="textAreaBottom"/>
            <a:pathLst>
              <a:path w="21600" h="24006">
                <a:moveTo>
                  <a:pt x="0" y="0"/>
                </a:moveTo>
                <a:lnTo>
                  <a:pt x="21600" y="0"/>
                </a:lnTo>
                <a:lnTo>
                  <a:pt x="21600" y="24006"/>
                </a:lnTo>
                <a:lnTo>
                  <a:pt x="0" y="24006"/>
                </a:lnTo>
                <a:close/>
              </a:path>
              <a:path fill="lightenLess" w="21600" h="24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6">
                <a:moveTo>
                  <a:pt x="21600" y="0"/>
                </a:moveTo>
                <a:lnTo>
                  <a:pt x="21600" y="24006"/>
                </a:lnTo>
                <a:lnTo>
                  <a:pt x="20200" y="22606"/>
                </a:lnTo>
                <a:lnTo>
                  <a:pt x="20200" y="1400"/>
                </a:lnTo>
                <a:close/>
              </a:path>
              <a:path fill="darkenLess" w="21600" h="24006">
                <a:moveTo>
                  <a:pt x="21600" y="24006"/>
                </a:moveTo>
                <a:lnTo>
                  <a:pt x="0" y="24006"/>
                </a:lnTo>
                <a:lnTo>
                  <a:pt x="1400" y="22606"/>
                </a:lnTo>
                <a:lnTo>
                  <a:pt x="20200" y="22606"/>
                </a:lnTo>
                <a:close/>
              </a:path>
              <a:path fill="lighten" w="21600" h="24006">
                <a:moveTo>
                  <a:pt x="0" y="24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6"/>
                </a:lnTo>
                <a:close/>
              </a:path>
              <a:path fill="darken" w="21600" h="24006">
                <a:moveTo>
                  <a:pt x="3794" y="12003"/>
                </a:moveTo>
                <a:lnTo>
                  <a:pt x="17806" y="4996"/>
                </a:lnTo>
                <a:lnTo>
                  <a:pt x="17806" y="1900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4" name="Picture 8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6012000" y="2508120"/>
            <a:ext cx="32479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Прямоугольник 3"/>
          <p:cNvSpPr/>
          <p:nvPr/>
        </p:nvSpPr>
        <p:spPr>
          <a:xfrm>
            <a:off x="1488960" y="4968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Незалежну змінну (х) ще назива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Прямоугольник 4"/>
          <p:cNvSpPr/>
          <p:nvPr/>
        </p:nvSpPr>
        <p:spPr>
          <a:xfrm>
            <a:off x="4574880" y="1062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аргу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рямоугольник 7"/>
          <p:cNvSpPr/>
          <p:nvPr/>
        </p:nvSpPr>
        <p:spPr>
          <a:xfrm>
            <a:off x="1499040" y="161604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Залежну змінну (у) ще називаю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Прямоугольник 8"/>
          <p:cNvSpPr/>
          <p:nvPr/>
        </p:nvSpPr>
        <p:spPr>
          <a:xfrm>
            <a:off x="4660560" y="225900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функціє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Прямоугольник 9"/>
          <p:cNvSpPr/>
          <p:nvPr/>
        </p:nvSpPr>
        <p:spPr>
          <a:xfrm>
            <a:off x="3132000" y="2852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або значенням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Прямоугольник 10"/>
          <p:cNvSpPr/>
          <p:nvPr/>
        </p:nvSpPr>
        <p:spPr>
          <a:xfrm>
            <a:off x="923040" y="407664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У цьому випадку пиш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11"/>
          <p:cNvSpPr/>
          <p:nvPr/>
        </p:nvSpPr>
        <p:spPr>
          <a:xfrm>
            <a:off x="5994000" y="465300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Y=f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( 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Управляющая кнопка: назад 1"/>
          <p:cNvSpPr/>
          <p:nvPr/>
        </p:nvSpPr>
        <p:spPr>
          <a:xfrm>
            <a:off x="8415360" y="38160"/>
            <a:ext cx="728640" cy="522360"/>
          </a:xfrm>
          <a:custGeom>
            <a:avLst/>
            <a:gdLst>
              <a:gd name="textAreaLeft" fmla="*/ 33840 w 728640"/>
              <a:gd name="textAreaRight" fmla="*/ 694800 w 72864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30124" h="21600">
                <a:moveTo>
                  <a:pt x="0" y="0"/>
                </a:moveTo>
                <a:lnTo>
                  <a:pt x="30124" y="0"/>
                </a:lnTo>
                <a:lnTo>
                  <a:pt x="30124" y="21600"/>
                </a:lnTo>
                <a:lnTo>
                  <a:pt x="0" y="21600"/>
                </a:lnTo>
                <a:close/>
              </a:path>
              <a:path fill="lightenLess" w="30124" h="21600">
                <a:moveTo>
                  <a:pt x="0" y="0"/>
                </a:moveTo>
                <a:lnTo>
                  <a:pt x="30124" y="0"/>
                </a:lnTo>
                <a:lnTo>
                  <a:pt x="28724" y="1400"/>
                </a:lnTo>
                <a:lnTo>
                  <a:pt x="1400" y="1400"/>
                </a:lnTo>
                <a:close/>
              </a:path>
              <a:path fill="darken" w="30124" h="21600">
                <a:moveTo>
                  <a:pt x="30124" y="0"/>
                </a:moveTo>
                <a:lnTo>
                  <a:pt x="30124" y="21600"/>
                </a:lnTo>
                <a:lnTo>
                  <a:pt x="28724" y="20200"/>
                </a:lnTo>
                <a:lnTo>
                  <a:pt x="28724" y="1400"/>
                </a:lnTo>
                <a:close/>
              </a:path>
              <a:path fill="darkenLess" w="30124" h="21600">
                <a:moveTo>
                  <a:pt x="3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24" y="20200"/>
                </a:lnTo>
                <a:close/>
              </a:path>
              <a:path fill="lighten" w="3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24" h="21600">
                <a:moveTo>
                  <a:pt x="8056" y="10800"/>
                </a:moveTo>
                <a:lnTo>
                  <a:pt x="22068" y="3794"/>
                </a:lnTo>
                <a:lnTo>
                  <a:pt x="220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4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значення і область визначення фун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іль рухається по шосе з постійною швидкістю 70 км / год. За час t год автомобіль проходить шлях S = 70 · t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6"/>
          <p:cNvSpPr/>
          <p:nvPr/>
        </p:nvSpPr>
        <p:spPr>
          <a:xfrm>
            <a:off x="179280" y="2421000"/>
            <a:ext cx="633744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і значення може приймати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7"/>
          <p:cNvSpPr/>
          <p:nvPr/>
        </p:nvSpPr>
        <p:spPr>
          <a:xfrm>
            <a:off x="179280" y="2997360"/>
            <a:ext cx="633744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може приймати 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8"/>
          <p:cNvSpPr/>
          <p:nvPr/>
        </p:nvSpPr>
        <p:spPr>
          <a:xfrm>
            <a:off x="6659640" y="242100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9"/>
          <p:cNvSpPr/>
          <p:nvPr/>
        </p:nvSpPr>
        <p:spPr>
          <a:xfrm>
            <a:off x="6659640" y="299736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1"/>
          <p:cNvSpPr/>
          <p:nvPr/>
        </p:nvSpPr>
        <p:spPr>
          <a:xfrm>
            <a:off x="250920" y="3645000"/>
            <a:ext cx="5976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і значення, які приймає незалежна змінна утворюють область визначення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2"/>
          <p:cNvSpPr/>
          <p:nvPr/>
        </p:nvSpPr>
        <p:spPr>
          <a:xfrm>
            <a:off x="250920" y="5229360"/>
            <a:ext cx="597672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начення залежної змінної утворюють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 область значень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13"/>
          <p:cNvSpPr/>
          <p:nvPr/>
        </p:nvSpPr>
        <p:spPr>
          <a:xfrm flipV="1">
            <a:off x="5292720" y="2708280"/>
            <a:ext cx="1511280" cy="100800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14"/>
          <p:cNvSpPr/>
          <p:nvPr/>
        </p:nvSpPr>
        <p:spPr>
          <a:xfrm>
            <a:off x="5940360" y="3251160"/>
            <a:ext cx="930240" cy="2266920"/>
          </a:xfrm>
          <a:custGeom>
            <a:avLst/>
            <a:gdLst>
              <a:gd name="textAreaLeft" fmla="*/ 0 w 930240"/>
              <a:gd name="textAreaRight" fmla="*/ 930600 w 930240"/>
              <a:gd name="textAreaTop" fmla="*/ 0 h 2266920"/>
              <a:gd name="textAreaBottom" fmla="*/ 2267280 h 2266920"/>
            </a:gdLst>
            <a:ahLst/>
            <a:rect l="textAreaLeft" t="textAreaTop" r="textAreaRight" b="textAreaBottom"/>
            <a:pathLst>
              <a:path w="586" h="1428">
                <a:moveTo>
                  <a:pt x="0" y="1428"/>
                </a:moveTo>
                <a:lnTo>
                  <a:pt x="586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3" name="Picture 13" descr="D:\юля\як створювати презентацію\Kartinki\картинки на школьныю тему\Рисунок16.png"/>
          <p:cNvPicPr/>
          <p:nvPr/>
        </p:nvPicPr>
        <p:blipFill>
          <a:blip r:embed="rId2"/>
          <a:stretch/>
        </p:blipFill>
        <p:spPr>
          <a:xfrm>
            <a:off x="7045200" y="3716280"/>
            <a:ext cx="257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4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значень і  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ласть визначення функ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5"/>
          <p:cNvSpPr/>
          <p:nvPr/>
        </p:nvSpPr>
        <p:spPr>
          <a:xfrm>
            <a:off x="611280" y="2924280"/>
            <a:ext cx="799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6"/>
          <p:cNvSpPr/>
          <p:nvPr/>
        </p:nvSpPr>
        <p:spPr>
          <a:xfrm flipV="1">
            <a:off x="971640" y="1483920"/>
            <a:ext cx="0" cy="331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Text Box 7"/>
          <p:cNvSpPr/>
          <p:nvPr/>
        </p:nvSpPr>
        <p:spPr>
          <a:xfrm>
            <a:off x="685800" y="2851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8"/>
          <p:cNvSpPr/>
          <p:nvPr/>
        </p:nvSpPr>
        <p:spPr>
          <a:xfrm>
            <a:off x="1477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9"/>
          <p:cNvSpPr/>
          <p:nvPr/>
        </p:nvSpPr>
        <p:spPr>
          <a:xfrm>
            <a:off x="2917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0"/>
          <p:cNvSpPr/>
          <p:nvPr/>
        </p:nvSpPr>
        <p:spPr>
          <a:xfrm>
            <a:off x="3636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1"/>
          <p:cNvSpPr/>
          <p:nvPr/>
        </p:nvSpPr>
        <p:spPr>
          <a:xfrm>
            <a:off x="5078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2"/>
          <p:cNvSpPr/>
          <p:nvPr/>
        </p:nvSpPr>
        <p:spPr>
          <a:xfrm>
            <a:off x="579744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13"/>
          <p:cNvSpPr/>
          <p:nvPr/>
        </p:nvSpPr>
        <p:spPr>
          <a:xfrm>
            <a:off x="723744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14"/>
          <p:cNvSpPr/>
          <p:nvPr/>
        </p:nvSpPr>
        <p:spPr>
          <a:xfrm>
            <a:off x="-360" y="1150920"/>
            <a:ext cx="15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м/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15"/>
          <p:cNvSpPr/>
          <p:nvPr/>
        </p:nvSpPr>
        <p:spPr>
          <a:xfrm>
            <a:off x="8104320" y="2924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6"/>
          <p:cNvSpPr/>
          <p:nvPr/>
        </p:nvSpPr>
        <p:spPr>
          <a:xfrm>
            <a:off x="469440" y="155592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17"/>
          <p:cNvSpPr/>
          <p:nvPr/>
        </p:nvSpPr>
        <p:spPr>
          <a:xfrm>
            <a:off x="396360" y="4292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18"/>
          <p:cNvSpPr/>
          <p:nvPr/>
        </p:nvSpPr>
        <p:spPr>
          <a:xfrm>
            <a:off x="965160" y="4567320"/>
            <a:ext cx="5029200" cy="14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68" h="1">
                <a:moveTo>
                  <a:pt x="0" y="0"/>
                </a:moveTo>
                <a:lnTo>
                  <a:pt x="31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19"/>
          <p:cNvSpPr/>
          <p:nvPr/>
        </p:nvSpPr>
        <p:spPr>
          <a:xfrm>
            <a:off x="971640" y="1771560"/>
            <a:ext cx="711000" cy="1800"/>
          </a:xfrm>
          <a:custGeom>
            <a:avLst/>
            <a:gdLst>
              <a:gd name="textAreaLeft" fmla="*/ 0 w 711000"/>
              <a:gd name="textAreaRight" fmla="*/ 711360 w 7110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48" h="1">
                <a:moveTo>
                  <a:pt x="0" y="0"/>
                </a:moveTo>
                <a:lnTo>
                  <a:pt x="44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Line 20"/>
          <p:cNvSpPr/>
          <p:nvPr/>
        </p:nvSpPr>
        <p:spPr>
          <a:xfrm>
            <a:off x="1692360" y="1771560"/>
            <a:ext cx="14396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Freeform 21"/>
          <p:cNvSpPr/>
          <p:nvPr/>
        </p:nvSpPr>
        <p:spPr>
          <a:xfrm>
            <a:off x="965160" y="1760400"/>
            <a:ext cx="711360" cy="1155960"/>
          </a:xfrm>
          <a:custGeom>
            <a:avLst/>
            <a:gdLst>
              <a:gd name="textAreaLeft" fmla="*/ 0 w 711360"/>
              <a:gd name="textAreaRight" fmla="*/ 711720 w 71136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448" h="728">
                <a:moveTo>
                  <a:pt x="0" y="728"/>
                </a:moveTo>
                <a:lnTo>
                  <a:pt x="44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22"/>
          <p:cNvSpPr/>
          <p:nvPr/>
        </p:nvSpPr>
        <p:spPr>
          <a:xfrm>
            <a:off x="3149640" y="1773360"/>
            <a:ext cx="685800" cy="1155600"/>
          </a:xfrm>
          <a:custGeom>
            <a:avLst/>
            <a:gdLst>
              <a:gd name="textAreaLeft" fmla="*/ 0 w 685800"/>
              <a:gd name="textAreaRight" fmla="*/ 686160 w 6858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432" h="728">
                <a:moveTo>
                  <a:pt x="0" y="0"/>
                </a:moveTo>
                <a:lnTo>
                  <a:pt x="432" y="728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3"/>
          <p:cNvSpPr/>
          <p:nvPr/>
        </p:nvSpPr>
        <p:spPr>
          <a:xfrm>
            <a:off x="3851280" y="2924280"/>
            <a:ext cx="144000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reeform 24"/>
          <p:cNvSpPr/>
          <p:nvPr/>
        </p:nvSpPr>
        <p:spPr>
          <a:xfrm>
            <a:off x="6006960" y="4567320"/>
            <a:ext cx="1473480" cy="144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28" h="1">
                <a:moveTo>
                  <a:pt x="0" y="0"/>
                </a:moveTo>
                <a:lnTo>
                  <a:pt x="928" y="0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Freeform 25"/>
          <p:cNvSpPr/>
          <p:nvPr/>
        </p:nvSpPr>
        <p:spPr>
          <a:xfrm>
            <a:off x="5292720" y="2924280"/>
            <a:ext cx="714240" cy="1668240"/>
          </a:xfrm>
          <a:custGeom>
            <a:avLst/>
            <a:gdLst>
              <a:gd name="textAreaLeft" fmla="*/ 0 w 714240"/>
              <a:gd name="textAreaRight" fmla="*/ 714600 w 71424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450" h="1051">
                <a:moveTo>
                  <a:pt x="0" y="0"/>
                </a:moveTo>
                <a:lnTo>
                  <a:pt x="450" y="1051"/>
                </a:lnTo>
              </a:path>
            </a:pathLst>
          </a:custGeom>
          <a:noFill/>
          <a:ln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26"/>
          <p:cNvSpPr/>
          <p:nvPr/>
        </p:nvSpPr>
        <p:spPr>
          <a:xfrm>
            <a:off x="1692360" y="177156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Line 27"/>
          <p:cNvSpPr/>
          <p:nvPr/>
        </p:nvSpPr>
        <p:spPr>
          <a:xfrm>
            <a:off x="3132000" y="1771560"/>
            <a:ext cx="0" cy="11527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28"/>
          <p:cNvSpPr/>
          <p:nvPr/>
        </p:nvSpPr>
        <p:spPr>
          <a:xfrm>
            <a:off x="6006960" y="2941560"/>
            <a:ext cx="1800" cy="1600200"/>
          </a:xfrm>
          <a:custGeom>
            <a:avLst/>
            <a:gdLst>
              <a:gd name="textAreaLeft" fmla="*/ 0 w 1800"/>
              <a:gd name="textAreaRight" fmla="*/ 2160 w 1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" h="1008">
                <a:moveTo>
                  <a:pt x="0" y="0"/>
                </a:moveTo>
                <a:lnTo>
                  <a:pt x="0" y="1008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Freeform 29"/>
          <p:cNvSpPr/>
          <p:nvPr/>
        </p:nvSpPr>
        <p:spPr>
          <a:xfrm>
            <a:off x="7453440" y="2928960"/>
            <a:ext cx="1440" cy="1650960"/>
          </a:xfrm>
          <a:custGeom>
            <a:avLst/>
            <a:gdLst>
              <a:gd name="textAreaLeft" fmla="*/ 0 w 1440"/>
              <a:gd name="textAreaRight" fmla="*/ 1800 w 14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" h="1040">
                <a:moveTo>
                  <a:pt x="1" y="0"/>
                </a:moveTo>
                <a:lnTo>
                  <a:pt x="0" y="1040"/>
                </a:lnTo>
              </a:path>
            </a:pathLst>
          </a:custGeom>
          <a:noFill/>
          <a:ln w="223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ext Box 30"/>
          <p:cNvSpPr/>
          <p:nvPr/>
        </p:nvSpPr>
        <p:spPr>
          <a:xfrm>
            <a:off x="1054080" y="1052640"/>
            <a:ext cx="7956720" cy="4597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афік швидкості автомобіля  v в залежності від часу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34"/>
          <p:cNvSpPr/>
          <p:nvPr/>
        </p:nvSpPr>
        <p:spPr>
          <a:xfrm>
            <a:off x="250920" y="4869000"/>
            <a:ext cx="633708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(за графіком) приймає 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 Box 35"/>
          <p:cNvSpPr/>
          <p:nvPr/>
        </p:nvSpPr>
        <p:spPr>
          <a:xfrm>
            <a:off x="6948360" y="486900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36"/>
          <p:cNvSpPr/>
          <p:nvPr/>
        </p:nvSpPr>
        <p:spPr>
          <a:xfrm>
            <a:off x="250920" y="5516640"/>
            <a:ext cx="6337080" cy="459720"/>
          </a:xfrm>
          <a:prstGeom prst="rect">
            <a:avLst/>
          </a:prstGeom>
          <a:solidFill>
            <a:srgbClr val="99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 значення (за графіком) приймає 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37"/>
          <p:cNvSpPr/>
          <p:nvPr/>
        </p:nvSpPr>
        <p:spPr>
          <a:xfrm>
            <a:off x="6948360" y="5516640"/>
            <a:ext cx="1944720" cy="459720"/>
          </a:xfrm>
          <a:prstGeom prst="rect">
            <a:avLst/>
          </a:prstGeom>
          <a:solidFill>
            <a:srgbClr val="ff99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38"/>
          <p:cNvSpPr/>
          <p:nvPr/>
        </p:nvSpPr>
        <p:spPr>
          <a:xfrm>
            <a:off x="723960" y="6093000"/>
            <a:ext cx="34984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бласть визна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Text Box 39"/>
          <p:cNvSpPr/>
          <p:nvPr/>
        </p:nvSpPr>
        <p:spPr>
          <a:xfrm>
            <a:off x="4788000" y="6093000"/>
            <a:ext cx="388764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бласть зна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40"/>
          <p:cNvSpPr/>
          <p:nvPr/>
        </p:nvSpPr>
        <p:spPr>
          <a:xfrm>
            <a:off x="3124080" y="5308560"/>
            <a:ext cx="4686480" cy="889200"/>
          </a:xfrm>
          <a:custGeom>
            <a:avLst/>
            <a:gdLst>
              <a:gd name="textAreaLeft" fmla="*/ 0 w 4686480"/>
              <a:gd name="textAreaRight" fmla="*/ 4686480 w 468648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2952" h="560">
                <a:moveTo>
                  <a:pt x="2952" y="0"/>
                </a:moveTo>
                <a:lnTo>
                  <a:pt x="0" y="56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Freeform 41"/>
          <p:cNvSpPr/>
          <p:nvPr/>
        </p:nvSpPr>
        <p:spPr>
          <a:xfrm>
            <a:off x="7277040" y="5905440"/>
            <a:ext cx="647640" cy="266760"/>
          </a:xfrm>
          <a:custGeom>
            <a:avLst/>
            <a:gdLst>
              <a:gd name="textAreaLeft" fmla="*/ 0 w 647640"/>
              <a:gd name="textAreaRight" fmla="*/ 648000 w 6476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08" h="168">
                <a:moveTo>
                  <a:pt x="408" y="0"/>
                </a:moveTo>
                <a:lnTo>
                  <a:pt x="0" y="16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Text Box 5"/>
          <p:cNvSpPr/>
          <p:nvPr/>
        </p:nvSpPr>
        <p:spPr>
          <a:xfrm>
            <a:off x="1267920" y="189000"/>
            <a:ext cx="1491480" cy="45972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0" name="Group 12"/>
          <p:cNvGrpSpPr/>
          <p:nvPr/>
        </p:nvGrpSpPr>
        <p:grpSpPr>
          <a:xfrm>
            <a:off x="1908000" y="692280"/>
            <a:ext cx="7056720" cy="1557000"/>
            <a:chOff x="1908000" y="692280"/>
            <a:chExt cx="7056720" cy="1557000"/>
          </a:xfrm>
        </p:grpSpPr>
        <p:sp>
          <p:nvSpPr>
            <p:cNvPr id="2191" name="Text Box 7"/>
            <p:cNvSpPr/>
            <p:nvPr/>
          </p:nvSpPr>
          <p:spPr>
            <a:xfrm>
              <a:off x="1908000" y="692280"/>
              <a:ext cx="7056720" cy="155700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ункція задана формулою                        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  2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≤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≤ 9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Object 9" descr=""/>
            <p:cNvPicPr/>
            <p:nvPr/>
          </p:nvPicPr>
          <p:blipFill>
            <a:blip r:embed="rId2"/>
            <a:stretch/>
          </p:blipFill>
          <p:spPr>
            <a:xfrm>
              <a:off x="5796000" y="72396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3" name="Oval 11"/>
          <p:cNvSpPr/>
          <p:nvPr/>
        </p:nvSpPr>
        <p:spPr>
          <a:xfrm>
            <a:off x="1403280" y="1268280"/>
            <a:ext cx="432000" cy="4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13"/>
          <p:cNvSpPr/>
          <p:nvPr/>
        </p:nvSpPr>
        <p:spPr>
          <a:xfrm>
            <a:off x="1493280" y="2360520"/>
            <a:ext cx="7341840" cy="825480"/>
          </a:xfrm>
          <a:prstGeom prst="rect">
            <a:avLst/>
          </a:prstGeom>
          <a:solidFill>
            <a:srgbClr val="99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цьому прикладі область визначення вказана – в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енн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що задовольняють умову 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5" name="Group 17"/>
          <p:cNvGrpSpPr/>
          <p:nvPr/>
        </p:nvGrpSpPr>
        <p:grpSpPr>
          <a:xfrm>
            <a:off x="1908000" y="3259080"/>
            <a:ext cx="7056720" cy="1193760"/>
            <a:chOff x="1908000" y="3259080"/>
            <a:chExt cx="7056720" cy="1193760"/>
          </a:xfrm>
        </p:grpSpPr>
        <p:sp>
          <p:nvSpPr>
            <p:cNvPr id="2196" name="Text Box 18"/>
            <p:cNvSpPr/>
            <p:nvPr/>
          </p:nvSpPr>
          <p:spPr>
            <a:xfrm>
              <a:off x="1908000" y="3259080"/>
              <a:ext cx="7056720" cy="1191240"/>
            </a:xfrm>
            <a:prstGeom prst="rect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ункція задана формулою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7" name="Object 19" descr=""/>
            <p:cNvPicPr/>
            <p:nvPr/>
          </p:nvPicPr>
          <p:blipFill>
            <a:blip r:embed="rId3"/>
            <a:stretch/>
          </p:blipFill>
          <p:spPr>
            <a:xfrm>
              <a:off x="5796000" y="3290760"/>
              <a:ext cx="295272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8" name="Oval 20"/>
          <p:cNvSpPr/>
          <p:nvPr/>
        </p:nvSpPr>
        <p:spPr>
          <a:xfrm>
            <a:off x="1403280" y="3683160"/>
            <a:ext cx="432000" cy="409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21"/>
          <p:cNvSpPr/>
          <p:nvPr/>
        </p:nvSpPr>
        <p:spPr>
          <a:xfrm>
            <a:off x="1436760" y="4581360"/>
            <a:ext cx="7273800" cy="1191240"/>
          </a:xfrm>
          <a:prstGeom prst="rect">
            <a:avLst/>
          </a:prstGeom>
          <a:solidFill>
            <a:srgbClr val="99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цьому випадку область визначення не зад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йдемо значення аргументу, при якому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мула для функції має зміс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0" name="Picture 10" descr="C:\Users\Ирина Михайловна\Desktop\MOI7.gif"/>
          <p:cNvPicPr/>
          <p:nvPr/>
        </p:nvPicPr>
        <p:blipFill>
          <a:blip r:embed="rId4"/>
          <a:stretch/>
        </p:blipFill>
        <p:spPr>
          <a:xfrm>
            <a:off x="7750080" y="5340240"/>
            <a:ext cx="12146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TextBox 4"/>
          <p:cNvSpPr/>
          <p:nvPr/>
        </p:nvSpPr>
        <p:spPr>
          <a:xfrm>
            <a:off x="324000" y="124920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Табличний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табли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324000" y="1944720"/>
          <a:ext cx="3840120" cy="817560"/>
        </p:xfrm>
        <a:graphic>
          <a:graphicData uri="http://schemas.openxmlformats.org/drawingml/2006/table">
            <a:tbl>
              <a:tblPr/>
              <a:tblGrid>
                <a:gridCol w="639720"/>
                <a:gridCol w="639720"/>
                <a:gridCol w="639720"/>
                <a:gridCol w="641160"/>
                <a:gridCol w="640080"/>
                <a:gridCol w="639720"/>
              </a:tblGrid>
              <a:tr h="40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2203" name="TextBox 6"/>
          <p:cNvSpPr/>
          <p:nvPr/>
        </p:nvSpPr>
        <p:spPr>
          <a:xfrm>
            <a:off x="361800" y="2930400"/>
            <a:ext cx="43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Аналітичний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математичної форм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Object 2" descr=""/>
          <p:cNvPicPr/>
          <p:nvPr/>
        </p:nvPicPr>
        <p:blipFill>
          <a:blip r:embed="rId2"/>
          <a:stretch/>
        </p:blipFill>
        <p:spPr>
          <a:xfrm>
            <a:off x="1440000" y="3638520"/>
            <a:ext cx="1098360" cy="503280"/>
          </a:xfrm>
          <a:prstGeom prst="rect">
            <a:avLst/>
          </a:prstGeom>
          <a:ln w="0">
            <a:noFill/>
          </a:ln>
        </p:spPr>
      </p:pic>
      <p:sp>
        <p:nvSpPr>
          <p:cNvPr id="2205" name="TextBox 8"/>
          <p:cNvSpPr/>
          <p:nvPr/>
        </p:nvSpPr>
        <p:spPr>
          <a:xfrm>
            <a:off x="5214960" y="12654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Графічний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за допомогою графі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6" name="Picture 4" descr=""/>
          <p:cNvPicPr/>
          <p:nvPr/>
        </p:nvPicPr>
        <p:blipFill>
          <a:blip r:embed="rId3"/>
          <a:srcRect l="0" t="0" r="-103" b="0"/>
          <a:stretch/>
        </p:blipFill>
        <p:spPr>
          <a:xfrm>
            <a:off x="5700600" y="2419200"/>
            <a:ext cx="2745000" cy="38577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207" name="TextBox 6"/>
          <p:cNvSpPr/>
          <p:nvPr/>
        </p:nvSpPr>
        <p:spPr>
          <a:xfrm>
            <a:off x="324000" y="4149720"/>
            <a:ext cx="5038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Описовий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нкція задається словесним опи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ому цілому числу поставити у відповідність його квадр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Полілінія 11"/>
          <p:cNvSpPr/>
          <p:nvPr/>
        </p:nvSpPr>
        <p:spPr>
          <a:xfrm>
            <a:off x="6084720" y="2592360"/>
            <a:ext cx="2144880" cy="3414600"/>
          </a:xfrm>
          <a:custGeom>
            <a:avLst/>
            <a:gdLst/>
            <a:ahLst/>
            <a:rect l="l" t="t" r="r" b="b"/>
            <a:pathLst>
              <a:path w="2381250" h="3414651">
                <a:moveTo>
                  <a:pt x="0" y="2703391"/>
                </a:moveTo>
                <a:cubicBezTo>
                  <a:pt x="87312" y="1954091"/>
                  <a:pt x="337910" y="3458133"/>
                  <a:pt x="487135" y="3413683"/>
                </a:cubicBezTo>
                <a:cubicBezTo>
                  <a:pt x="636360" y="3369233"/>
                  <a:pt x="749527" y="3002295"/>
                  <a:pt x="895350" y="2436691"/>
                </a:cubicBezTo>
                <a:cubicBezTo>
                  <a:pt x="1041173" y="1871088"/>
                  <a:pt x="1197202" y="213964"/>
                  <a:pt x="1362075" y="20062"/>
                </a:cubicBezTo>
                <a:cubicBezTo>
                  <a:pt x="1526948" y="-173840"/>
                  <a:pt x="1775138" y="1097295"/>
                  <a:pt x="1884589" y="1273281"/>
                </a:cubicBezTo>
                <a:cubicBezTo>
                  <a:pt x="1994041" y="1449267"/>
                  <a:pt x="1996417" y="1310020"/>
                  <a:pt x="2079194" y="1108634"/>
                </a:cubicBezTo>
                <a:cubicBezTo>
                  <a:pt x="2161971" y="907248"/>
                  <a:pt x="2320839" y="233468"/>
                  <a:pt x="2381250" y="64966"/>
                </a:cubicBezTo>
              </a:path>
            </a:pathLst>
          </a:custGeom>
          <a:noFill/>
          <a:ln w="316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TextBox 12"/>
          <p:cNvSpPr/>
          <p:nvPr/>
        </p:nvSpPr>
        <p:spPr>
          <a:xfrm>
            <a:off x="1276920" y="488880"/>
            <a:ext cx="63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cc"/>
                </a:solidFill>
                <a:latin typeface="Constantia"/>
                <a:ea typeface="Arial"/>
              </a:rPr>
              <a:t>Способи задання функ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Управляющая кнопка: назад 1"/>
          <p:cNvSpPr/>
          <p:nvPr/>
        </p:nvSpPr>
        <p:spPr>
          <a:xfrm>
            <a:off x="8317080" y="0"/>
            <a:ext cx="826920" cy="811080"/>
          </a:xfrm>
          <a:custGeom>
            <a:avLst/>
            <a:gdLst>
              <a:gd name="textAreaLeft" fmla="*/ 52560 w 826920"/>
              <a:gd name="textAreaRight" fmla="*/ 774360 w 82692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22022" h="21600">
                <a:moveTo>
                  <a:pt x="0" y="0"/>
                </a:moveTo>
                <a:lnTo>
                  <a:pt x="22022" y="0"/>
                </a:lnTo>
                <a:lnTo>
                  <a:pt x="22022" y="21600"/>
                </a:lnTo>
                <a:lnTo>
                  <a:pt x="0" y="21600"/>
                </a:lnTo>
                <a:close/>
              </a:path>
              <a:path fill="lightenLess" w="22022" h="21600">
                <a:moveTo>
                  <a:pt x="0" y="0"/>
                </a:moveTo>
                <a:lnTo>
                  <a:pt x="22022" y="0"/>
                </a:lnTo>
                <a:lnTo>
                  <a:pt x="20622" y="1400"/>
                </a:lnTo>
                <a:lnTo>
                  <a:pt x="1400" y="1400"/>
                </a:lnTo>
                <a:close/>
              </a:path>
              <a:path fill="darken" w="22022" h="21600">
                <a:moveTo>
                  <a:pt x="22022" y="0"/>
                </a:moveTo>
                <a:lnTo>
                  <a:pt x="22022" y="21600"/>
                </a:lnTo>
                <a:lnTo>
                  <a:pt x="20622" y="20200"/>
                </a:lnTo>
                <a:lnTo>
                  <a:pt x="20622" y="1400"/>
                </a:lnTo>
                <a:close/>
              </a:path>
              <a:path fill="darkenLess" w="22022" h="21600">
                <a:moveTo>
                  <a:pt x="22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22" y="20200"/>
                </a:lnTo>
                <a:close/>
              </a:path>
              <a:path fill="lighten" w="22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22" h="21600">
                <a:moveTo>
                  <a:pt x="4004" y="10800"/>
                </a:moveTo>
                <a:lnTo>
                  <a:pt x="18017" y="3794"/>
                </a:lnTo>
                <a:lnTo>
                  <a:pt x="180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23:02:43Z</dcterms:created>
  <dc:creator>MAMA</dc:creator>
  <dc:description/>
  <dc:language>en-US</dc:language>
  <cp:lastModifiedBy>Admin</cp:lastModifiedBy>
  <dcterms:modified xsi:type="dcterms:W3CDTF">2013-02-22T08:02:57Z</dcterms:modified>
  <cp:revision>67</cp:revision>
  <dc:subject/>
  <dc:title>Функция. График функц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2a000000000001024140</vt:lpwstr>
  </property>
</Properties>
</file>