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10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8.wmf" ContentType="image/x-wmf"/>
  <Override PartName="/ppt/media/image3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25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1.png" ContentType="image/png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326-4D9B-4F6D-B6FA-C6AD42D8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114-4B2F-48B4-A580-4391C469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F39C-16B5-4396-94BD-3221EFBE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11365-6BB2-47D4-B294-F1B366E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BB8B7-BB30-4E9C-93FB-6597546D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C5545-7EEC-4551-8647-2043271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FFF92-3C45-4431-A510-8AA9E3E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7C758-30CD-47D2-A335-0D0C80D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D07A3-16D4-4D95-A41F-099F135D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47147-2E27-41A9-90FE-1D441E0D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2678A-577E-422E-8A86-5372A757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273DC-1C06-4604-9610-0014512B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329-D668-4BC9-85ED-537AF92E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37EE93-0017-4150-B856-09A0AC5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4329EC-1ECD-45A0-986C-02C06B08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7881B4-2288-44A4-95D3-929CE472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9F0278-5AD8-4758-B82A-F881A08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2D1D9E-CA57-4F14-8CB4-41EA269A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4201B7-A9CD-4E90-959A-E9048F1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10DE0-0DD9-4245-B60F-77122E15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AFD758-E6BA-4688-833B-1C44846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491D9-2208-415B-8CFC-6F73D2A0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D7FC24-B981-4C35-84AE-8F97976F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E70-DEFA-40CB-BFDD-235F05B4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7BA86C-D438-446A-A4F2-B6F39142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6268A-70E2-48C6-8D24-64BF467E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591E6-11E5-40EE-BEB2-DDA2486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D089A-05C9-4E89-90BB-CF3120CB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D2C6-137A-48AC-82C7-75E710CE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744B4-A198-4690-A71B-58DAE658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ACAC8-6239-4DA9-B494-D7368E06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3FE39-70C3-49B8-8F0D-7610039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B623E-1A13-437F-8823-9B5378B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4716-7371-437B-B874-2A4ADA8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849B-2BCF-4227-B4FF-4109FBCA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D97B8-0BC8-4A8C-928B-0034DF06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DD2E5-451C-4A0E-8DA1-35BC3282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367F3-C02E-4885-8B41-6F0E6F82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8D926-6A2A-4730-A0B7-94828155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240D1-D341-41C7-BE0B-FE9DA36D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6EADF-6344-480C-BC17-9D8EBE4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EAC3F-07A3-454D-9AA3-D81420B6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2EADF-982D-4EBE-9D39-66CB7B3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B5322-A487-4DD8-9F2B-97612E1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61939-B5F2-47F0-BFD3-76F5F47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A810-5365-4523-9805-5237C4CC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54DE3-E34E-4FD4-B359-6BBC2677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3944B-1EC6-4C5E-A901-94E243FF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97217-CF49-4D41-88FC-73A370DB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46D3D-06B5-4DA2-96B7-30F1FAE3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CB20D-F56C-404D-9158-079B1C43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ABE47-2421-463A-9646-8B17467C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0EDDD-6503-4849-8926-2DAF046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F5D70-CD75-443D-925A-E67B2DBB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71772-5900-494A-A881-D1EAE46C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3343B-9615-4AC2-99FB-3B99BB32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E677-A0FA-4E47-99CE-B4EFDE6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CAF04-634A-40C2-869F-4172D732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4FE39-23A1-478A-A892-435BD9E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96EC8-F23E-4531-8473-29922FC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CA1D5-8127-4158-A816-6D5FAF0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36A4F-DA61-4242-BCDA-507E39D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367F3-5619-45AC-AF1C-847C5821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2AAC1-81F6-4962-8997-70348AAC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8924C-A11D-49E3-A4BC-08031A7C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0E504-E1FA-442A-80B7-AB875D8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A3DA7-63BE-4872-AAB0-BA16E634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B9E-9CF3-4D84-B908-CA47C29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565A1-BB6F-4B11-80B4-A7912A96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0F0D6-D1EB-4B48-96B4-FB7A7433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F6773-7700-4C3F-A50E-1FD4B10E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6166F-1A14-4211-81B1-3972BC8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6A9D5-5754-410F-B8A7-1266226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9B286-8CC5-430A-8BF1-179D73A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AEFE6-B9D9-41E2-9190-25C264E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DDEAD-1C23-4774-8580-B6D84CFB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11ED4-E10C-410D-82A0-678D7437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1D4A5-AA3D-40FC-B638-E6F0248D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8FBF-6C72-4D6C-8784-93080835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04ED7-F195-4656-A4E4-4A883366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2FB62-BEF9-4889-89CA-4B59E26E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88617-6D78-42E1-B7F0-F1ED219C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5E477-0D7E-445F-978A-F14AD1F3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1605F-B6B4-4C24-A8F7-0F63BC23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DBAB3-ACE0-4D2A-929D-E77FD1E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20C3F-7679-46C6-8BAD-E35201FC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61209-7D73-492D-BE71-465672D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2881E-2762-48CA-8B5E-7F0BFA50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84DA8-417C-4F40-B45C-921ACEB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049-1022-4335-B994-94A328C0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B9815-9031-4431-A2EE-4D935F21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C5B09-428A-4B7C-9D64-98C0D05D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2BCF9-DA99-49B3-8156-1C0D65C7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28A0C-3D5F-45B1-87B0-93F1B95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B4882-A3D8-4B75-B4D3-40F56BE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247AC-28F8-4120-B3A5-712627B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E61F9-3EEF-4867-B741-47D4387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B9104-63ED-4F51-8D4E-F2958EE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D3704-3F6D-43F9-8707-D24E69F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4C5F4-26D7-43A6-8BC1-1D3F722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5D2C-B98B-4240-B5ED-9FE8C43B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91269-81D7-4312-A2A2-6CD73EC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945FA-1573-4711-B70D-5083DD18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50E58-15BD-422E-9165-C9EB65C8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64B17-FBF7-4625-9D1F-B4D30AF5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2AD5D-03B1-492B-80A1-8CB5862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8A72E-C66F-400C-8BFA-801A46C0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C218D-8AA5-48DB-8DAD-4FE6CC1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CBAEA-A722-4151-BBAA-5CAE0AC7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1C14D-69A9-4DF4-AF71-673BBB84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9255D-856C-45F8-BD37-C97B5B1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7B2-87C1-4D02-92FB-8A8E9100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0F58-1ACB-4DE7-9107-03A134D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227D3-F12B-4CE1-8965-B96AEE6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03C55-1B7F-463F-89F3-7E690F1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9D593-EA05-46FB-82C4-EB1AD98D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57404-4C27-48EB-AF8B-6704787A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1F2D8-2D99-4794-9C8F-5D09DE0E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B5DB3-B8A5-44A7-BE81-F3335C08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098A8-B17F-4E40-8807-5E0EB8F9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93DEF-554B-4D82-8B66-84C1643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C8432-B684-4B51-AC3F-A69FFBCA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F3982-3792-4DC9-A9C0-A169CA90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6C4-8D37-4727-99B6-E622CAD2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6617C-2F27-4C39-961C-5826951E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B5611-AB8F-451A-A80E-E60E1A8C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EF5C5-4CA1-41DE-9B5A-B6CCAB8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16545-3DC5-418C-A05E-B32CA70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4BCB9-B1E8-4A71-9438-D1CA4477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C7116-42D5-414D-A165-DDFED8A8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92F48-8905-4B73-91AD-4B78701D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2DEFCB-0463-4560-BE96-0D49EAE9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ED135D-51EC-4E18-A919-D4386134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E95D32-B7BC-4588-95AA-C4A0FC9F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8762-6E95-4421-9EB0-15AB2A5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A64978-9D0F-423B-8467-8F85DEE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5B81B5-4F02-4F81-85D2-B7C1598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5988DF-DCA5-48A3-900B-08F2AE7A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77C935-0278-4BA1-88BA-5D9374B2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8E5BF8-EA98-4573-B718-7AC75A0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89B23C-9A99-40F9-B897-39250A8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D76FD0-3B01-4301-85C8-DE55EE5F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8B86EA-560E-4858-A206-F103639B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A511A7-ED16-402A-A704-CB4A3656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3AC64-5493-4468-951A-718F4484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E81C-0877-433E-BB08-A8B2385D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92784-7B64-4A8E-A3CC-E5362D18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0197B-746E-40DA-8BEA-735A6835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FF249-73C0-47DB-B7D3-5AD1C9AE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A07CD-FF1D-4533-B73D-5D0DFB29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586FA-73E0-4CC9-BE64-3BCB017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4107C-0672-429B-8740-F5BE5F8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D68F6-F60E-4254-ADD6-1B6BFE9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195D4-5953-41F5-A85C-5DB6A25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89524-0337-4407-84A4-7042451A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3A3D8-97C8-4ED4-97E5-E7C0109D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8B47-CA12-43B1-903F-E55F75CD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F742E-DE08-4B24-AF02-327A51F1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31E97-4AAE-41C5-9F13-7D482FF6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EEAC42-A45C-44E4-ADC0-6B23838C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87065-9E8E-4E9B-8F51-7CF9CC0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78180-4DFE-4390-8CF2-167CCBF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AEE38-C865-48D5-92E9-0EB46C4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43F8B-3AF5-4EDE-8B42-389B888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A4E1DA-0629-49E7-8F1D-3C0563D3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C688D-D6EF-4E12-A9EB-88695EDD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F2D677-8CAF-4491-AE16-6098CC0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AA40-756E-443C-8B96-7C6FBA13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30FEE6-D445-45C0-BF89-17D60E1F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5168F5-86E7-4264-84A0-81FEB96D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1C3AF-9BD5-45AA-9617-264658F8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F27E8-2F0E-44BB-B677-0CC53E96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78367-300F-46E3-8E83-AAC118C8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F3F67-B391-4931-A761-49E1AD4F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D761A-4745-4C26-BD44-16C36081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81E4DC-1E7A-49AD-B840-5D9FF45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E17C35-F7A9-46E7-9C16-F6512233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B26CA-39FD-4532-867F-FFE2386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9204-056A-4E0A-A2C5-09D19FF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7776E-ECE3-4402-A81C-72081AF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09D3CA-5FB0-49B5-A938-BF42759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D4003-2FA3-46B5-85D5-B43947DC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C0DABE-A2B7-4561-94C2-B656328D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8D027B-8686-4BA2-B371-89370736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322844-F369-42CC-B929-3D651178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6D5BD0-456A-43AA-855A-5E63843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8F050-1B49-4985-B394-0348A1FC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B8F000-C8DE-47CF-B8E1-67635FA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D3E01B-1BC4-4B45-9B66-0D7AC4EB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CC37-8AAA-438B-B5F5-448DC31C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9C61C-7912-4482-880E-F6B136F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969023-C63B-4319-9214-09605695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7449A4-D46D-484D-BE56-9E6A6BB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0A9CE-0812-4FDB-BBA6-11D7F82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E0BA61-52F1-4AE1-9DE8-9A66B0FE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2DE34-27B6-4A26-A90A-5EB2FA78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BFB02D-CF83-4ED0-B698-6FD9874A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30F0-0251-4F40-B389-9F518E5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8F7E-120B-489E-B99D-E9391C9F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FA0-FB01-4534-A3BA-DCB7F6BB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C01C-2102-4317-B86F-A5A36CA4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5BC0-49DD-4377-A71C-728EC56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0745-AD85-4174-9E4C-A8EB87E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F710-076B-4221-848E-68E53D7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7EFF-4024-44A7-9940-FE7F423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27A7-4393-494B-95F4-56239EF1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1713-63F6-419F-A79A-74CFB881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952E-C1D4-4004-AFFA-2577824E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FF6B-E3DC-4B7A-BD26-D1FDFD9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A9BB-628D-4A36-9023-2B4B2F7E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0A2-7A8C-4CB4-B1C4-28B5F982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E624-2152-4FD3-8472-8D1CE5F3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3257-8765-4525-8B84-1B9C5D94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1FE3-1297-47BB-8EBC-6112714A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D07F-22C1-4A3F-A86D-E7E8D5A7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26A1-CFA5-4030-9DFF-CDA168A6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BB4E-1E1D-4F1F-9043-821D3EC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0E71-2F62-4A73-AB31-D390DE29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6471-BCD5-4411-9FF2-C2EA2B60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7824-ED90-448E-B9E9-C5F3810C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B45A-783F-4400-A5E5-A07816A5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FD9-9D56-4C9B-8CDF-A9554289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C29A-BAF8-4B12-BDEF-81D58995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D0B5-A040-4B9C-B618-BFA7F6D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EBD4-73F7-4C4A-AB28-A5465A6F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145E-4B29-4B09-B05C-E7D18B3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36E32-6D1D-4A21-B472-7F9F1312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412D3-8B08-4CCF-8DC9-66E460E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9759-8886-4186-B229-4B2691C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1F35-A546-4625-842D-905D92B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71A7-4185-422B-B9A2-C3A9D91C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3141-9354-4B98-874B-242D1A88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778-FDF9-41DA-A9F1-540015C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FADE5-9704-430E-A466-8F870C26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BBF7F-4496-4238-90E8-B767C2C6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8B7B3-300E-46A2-83F7-9793253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0775D-A1CA-43B0-89E6-4721215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8C45B-BD04-42A4-B681-587F76AB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CC821-12BF-4785-93C8-0110112C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A4DB4-B54E-4344-B7EB-04F4BAFA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0D192-609B-4DA6-BE26-9728A794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4ED65-A91D-4D18-9FDD-D15D0FA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700D3-4FF0-4E50-862D-A10A7FF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6E7-552D-4B52-B215-F71AA9B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59445-C7C8-4321-8949-BAE165EE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6147A-C073-4FFE-965F-FEEFF95B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BC40D-8A21-4E78-9DDA-470F8019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EC2C7-4C06-40A7-8E65-AA20627B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7C0D6-E4A2-4046-9AE9-D19EDE2B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384C-2510-451F-ADF2-9843DD5D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14967-A4C4-4033-82C5-C8626F99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E6B7E-AE9A-48EE-93C0-4868A411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9760-2D45-4508-A20B-206BB87F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FD0A-7D37-4654-96F7-AD8375E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16E-A74E-4B00-8F3F-72CA299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F0FFF-0ED8-4B96-93BB-B990E1C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5D0CB-0F2C-4FD9-AE8E-3E2CBDC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EF545-96C1-4A58-B4CD-C87C3941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A74A6-3816-40CC-A47F-58BBD06F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74A3-5850-43E6-B8A1-CB5E462E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1166-F06C-4C9A-87D8-7CB61A30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1323B-46A8-4EEE-A91C-A76054B6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769B3-0910-476F-9B67-9EF03CC3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4596-A016-4383-BBD7-96B1DE00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239D-A042-4A67-947D-5C2C1946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0FA-C179-48BB-9FB1-2B64BD6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BFA1D-1B65-4D98-8D21-4D4CE50A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F18AF-C356-4027-8D0C-D60E49B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8B85-F497-4472-B2E6-21C333C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021C-A809-4E49-9B2E-7C598BE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EAD93-A578-43A9-8812-F127AB3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A0F9-185F-40D2-AB32-AD93FFC9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DD87D-8161-4C60-8E99-F639D220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21027-8FC2-413E-97C7-31C8B710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623BD-60F5-4A01-85B7-F8809EC6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1D19A-E73C-442C-BEEE-504ECB4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B5D6-3374-4174-A325-A65D5ACD31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4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4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4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5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5A93-25C8-44AE-BDA7-B59490BFC4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0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2A66-A5F6-4533-8692-0CB37D72C7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2EBB-8667-4BD9-A6BE-A8ED087835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8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9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1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5E8A-0F88-4ACC-8712-66EC0154013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6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6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59B3-E5F4-4BB8-B4B6-DD6A5563655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61A4-0843-4737-885C-09F816BA09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8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084-68AA-47BC-B4FA-E2B4B2A06E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AC5-261A-459C-AF0F-51E202F1F2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7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97FB-1477-4280-92E0-A0800E85AD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BE85-5566-4B9E-95DB-726EADDB4FF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DC62-A014-4362-BC3D-E10B70E8D2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660A-E5AB-4413-B360-777E5BACF16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5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5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5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2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BAF9-18C6-45A2-A0F1-81ED4F4E625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22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22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23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23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23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4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4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5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5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5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6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7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27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28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28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9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0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30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31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31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1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2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32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32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3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33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4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213-90D3-47DB-8B31-CB89E2C18E1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FE7-171E-4999-8693-AAE3F91AEB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5B1-7879-4206-91FA-7E873EF39E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1E2-8630-468C-AA9E-802CFB030B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5373-9541-42D1-A6AF-EF8D63F545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6410-1BBF-4951-B1FC-EAA44FC0CF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6DC-F654-4A77-A268-FBFD56E6FF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2F51-6DF4-4607-A242-E1FFD2D303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8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8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F3D-EC62-48D7-8540-96E441A120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27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158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Не махай на все рукою, не лінуйся, а учись.</a:t>
            </a:r>
            <a:br>
              <a:rPr sz="4400"/>
            </a:b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Бо чого навчишся в школі - </a:t>
            </a:r>
            <a:br>
              <a:rPr sz="4400"/>
            </a:b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знадобиться ще колис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900000" y="1773360"/>
            <a:ext cx="75596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зв'язування рівнянь метод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іни змінно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116000" y="1268280"/>
            <a:ext cx="734544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 яких значеннях параметра 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684360" y="3284640"/>
            <a:ext cx="27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івня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3646440" y="3171960"/>
            <a:ext cx="5013360" cy="8683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 txBox="1"/>
          <p:nvPr/>
        </p:nvSpPr>
        <p:spPr>
          <a:xfrm>
            <a:off x="2627280" y="4581360"/>
            <a:ext cx="395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має коренів  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rcRect l="0" t="0" r="0" b="-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755640" y="2335320"/>
            <a:ext cx="763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омашнє завда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2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2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539640" y="1557360"/>
            <a:ext cx="7777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вці квадратних рівнян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684360" y="1700280"/>
            <a:ext cx="698472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e1f08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навці неповних 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e1f08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e1f08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вадратних рівнянь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e1f08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250920" y="220500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вці дробово-раціональних рівня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 txBox="1"/>
          <p:nvPr/>
        </p:nvSpPr>
        <p:spPr>
          <a:xfrm>
            <a:off x="324000" y="2349360"/>
            <a:ext cx="8497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навці біквадратних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рівнян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1. Обчислі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2"/>
          <a:stretch/>
        </p:blipFill>
        <p:spPr>
          <a:xfrm>
            <a:off x="1276200" y="1778040"/>
            <a:ext cx="3570480" cy="406440"/>
          </a:xfrm>
          <a:prstGeom prst="rect">
            <a:avLst/>
          </a:prstGeom>
          <a:ln w="0">
            <a:noFill/>
          </a:ln>
        </p:spPr>
      </p:pic>
      <p:pic>
        <p:nvPicPr>
          <p:cNvPr id="1443" name="" descr=""/>
          <p:cNvPicPr/>
          <p:nvPr/>
        </p:nvPicPr>
        <p:blipFill>
          <a:blip r:embed="rId3"/>
          <a:stretch/>
        </p:blipFill>
        <p:spPr>
          <a:xfrm>
            <a:off x="1206360" y="2529000"/>
            <a:ext cx="3570480" cy="668160"/>
          </a:xfrm>
          <a:prstGeom prst="rect">
            <a:avLst/>
          </a:prstGeom>
          <a:ln w="0">
            <a:noFill/>
          </a:ln>
        </p:spPr>
      </p:pic>
      <p:pic>
        <p:nvPicPr>
          <p:cNvPr id="1444" name="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2592360" cy="79236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5"/>
          <a:stretch/>
        </p:blipFill>
        <p:spPr>
          <a:xfrm>
            <a:off x="1042920" y="4581360"/>
            <a:ext cx="4969080" cy="54144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>
            <a:off x="5148360" y="1700280"/>
            <a:ext cx="287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508720" y="1773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37236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588000" y="36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227640" y="465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" descr=""/>
          <p:cNvPicPr/>
          <p:nvPr/>
        </p:nvPicPr>
        <p:blipFill>
          <a:blip r:embed="rId6"/>
          <a:stretch/>
        </p:blipFill>
        <p:spPr>
          <a:xfrm>
            <a:off x="8317080" y="3429000"/>
            <a:ext cx="358560" cy="720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Знайдіть значення х (якщо воно існує), при якому виконується рівні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1655640" cy="205452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2"/>
          <a:stretch/>
        </p:blipFill>
        <p:spPr>
          <a:xfrm>
            <a:off x="3638520" y="1843200"/>
            <a:ext cx="2085840" cy="320832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3"/>
          <a:stretch/>
        </p:blipFill>
        <p:spPr>
          <a:xfrm>
            <a:off x="6659640" y="1916280"/>
            <a:ext cx="1655640" cy="165708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>
            <a:off x="6516720" y="37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’язків нема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619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c0039"/>
                </a:solidFill>
                <a:latin typeface="Times New Roman"/>
              </a:rPr>
              <a:t>3. При яких значеннях </a:t>
            </a:r>
            <a:r>
              <a:rPr b="1" i="1" lang="uk-UA" sz="2000" spc="-1" strike="noStrike">
                <a:solidFill>
                  <a:srgbClr val="8c003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8c0039"/>
                </a:solidFill>
                <a:latin typeface="Times New Roman"/>
              </a:rPr>
              <a:t> має зміст вираз                    ?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7524720" y="476280"/>
            <a:ext cx="863640" cy="95076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/>
          <p:nvPr/>
        </p:nvSpPr>
        <p:spPr>
          <a:xfrm>
            <a:off x="1332000" y="23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ідповідь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2592360" cy="2194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ідповіді до математичного диктан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корен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коефіцієнт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 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н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неповн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зведене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теорема Віє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2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</a:rPr>
              <a:t>р;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826920" y="1986120"/>
            <a:ext cx="2089440" cy="43632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17720" cy="21276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635280" y="1773360"/>
            <a:ext cx="216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916360" y="19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3710160" y="2057400"/>
            <a:ext cx="645840" cy="36504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1476360" y="3357720"/>
            <a:ext cx="936720" cy="43308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971640" y="4365720"/>
            <a:ext cx="187164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 rot="21460200">
            <a:off x="1476360" y="1628280"/>
            <a:ext cx="6480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33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і рівня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4105080" cy="85068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3"/>
          <a:stretch/>
        </p:blipFill>
        <p:spPr>
          <a:xfrm>
            <a:off x="6588000" y="1773360"/>
            <a:ext cx="357480" cy="32544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4"/>
          <a:stretch/>
        </p:blipFill>
        <p:spPr>
          <a:xfrm>
            <a:off x="754200" y="4416480"/>
            <a:ext cx="1801800" cy="65556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5651640" y="1628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476360" y="2637000"/>
            <a:ext cx="647640" cy="1584000"/>
          </a:xfrm>
          <a:prstGeom prst="downArrow">
            <a:avLst>
              <a:gd name="adj1" fmla="val 50000"/>
              <a:gd name="adj2" fmla="val 61145"/>
            </a:avLst>
          </a:prstGeom>
          <a:gradFill rotWithShape="0">
            <a:gsLst>
              <a:gs pos="0">
                <a:srgbClr val="0000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40360" y="2565360"/>
            <a:ext cx="647640" cy="1584360"/>
          </a:xfrm>
          <a:prstGeom prst="downArrow">
            <a:avLst>
              <a:gd name="adj1" fmla="val 50000"/>
              <a:gd name="adj2" fmla="val 61159"/>
            </a:avLst>
          </a:prstGeom>
          <a:gradFill rotWithShape="0">
            <a:gsLst>
              <a:gs pos="0">
                <a:srgbClr val="0000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948360" y="2492280"/>
            <a:ext cx="648000" cy="1584360"/>
          </a:xfrm>
          <a:prstGeom prst="downArrow">
            <a:avLst>
              <a:gd name="adj1" fmla="val 50000"/>
              <a:gd name="adj2" fmla="val 61125"/>
            </a:avLst>
          </a:prstGeom>
          <a:gradFill rotWithShape="0">
            <a:gsLst>
              <a:gs pos="0">
                <a:srgbClr val="0000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" descr=""/>
          <p:cNvPicPr/>
          <p:nvPr/>
        </p:nvPicPr>
        <p:blipFill>
          <a:blip r:embed="rId5"/>
          <a:stretch/>
        </p:blipFill>
        <p:spPr>
          <a:xfrm>
            <a:off x="3203640" y="4349880"/>
            <a:ext cx="2590560" cy="72216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6"/>
          <a:stretch/>
        </p:blipFill>
        <p:spPr>
          <a:xfrm>
            <a:off x="6443640" y="4365720"/>
            <a:ext cx="2089080" cy="72072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 txBox="1"/>
          <p:nvPr/>
        </p:nvSpPr>
        <p:spPr>
          <a:xfrm>
            <a:off x="755640" y="333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повні квадратні рівнян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971640" y="765000"/>
            <a:ext cx="74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Дробово-раціональні рівня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3862440" y="2935440"/>
            <a:ext cx="1817640" cy="219528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2319480" y="5416560"/>
            <a:ext cx="239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492360" y="422100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435640" y="3357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 rot="21431400">
            <a:off x="1835280" y="691920"/>
            <a:ext cx="60498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іквадратні рівнянн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3"/>
          <a:stretch/>
        </p:blipFill>
        <p:spPr>
          <a:xfrm>
            <a:off x="2124000" y="2417760"/>
            <a:ext cx="5043600" cy="121428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4"/>
          <a:stretch/>
        </p:blipFill>
        <p:spPr>
          <a:xfrm>
            <a:off x="3710160" y="4272120"/>
            <a:ext cx="1906560" cy="949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6:34:17Z</dcterms:created>
  <dc:creator>Комп</dc:creator>
  <dc:description/>
  <dc:language>en-US</dc:language>
  <cp:lastModifiedBy>Комп</cp:lastModifiedBy>
  <dcterms:modified xsi:type="dcterms:W3CDTF">2013-02-17T16:46:45Z</dcterms:modified>
  <cp:revision>31</cp:revision>
  <dc:subject/>
  <dc:title>Не махай на все рукою, не лінуйся, а учись. Бо чого навчишся в школі -  знадобиться ще колис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8000000000001024140</vt:lpwstr>
  </property>
</Properties>
</file>