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10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8.wmf" ContentType="image/x-wmf"/>
  <Override PartName="/ppt/media/image3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5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1.png" ContentType="image/png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496-C64E-48EE-B343-D878AF66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905-3579-4998-AA86-99770B08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66907-CD34-47DF-B9C4-C0F036FF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1756F-D22F-4102-A151-D27ADD07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C27C4-D14F-4C80-8312-7BBE1711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0ABED-5733-4D1A-BABF-03081F7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462E-2E4C-4EA5-A6AA-8F42469D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D455C-2A5A-4404-897E-9262844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B07B3-3A89-459B-A811-6C226FFC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A356D-48D4-4BAD-B00D-88BDC698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CB63-A886-4356-B26F-67DAD30B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DCB211-72E9-4954-BFE5-039E5096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6A2-8229-4EC4-B77A-23D86564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1B37A-442E-46D7-990F-BCEABAAE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0C96FD-59FA-4F8E-A22E-4B82278E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0CBBC8-0715-4C7E-9C51-FAD706E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4A60F-41FD-45C6-A09D-BECCA87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15936-6A02-4BB8-808C-8D953997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8384F-812F-435F-B912-B0B07A08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E25718-CF0F-4C38-86F7-F4E3C4D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E2FF9F-77ED-437F-855E-C44D72B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38F837-A013-4D3C-84E9-57B17216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D08494-6CB5-4840-BF3A-C05153AB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09C-6AD5-45AF-87E0-833BD34E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012713-908C-4700-8A4D-3C3833E2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9DD0D-7A2D-4286-9738-052B3726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4F924-07FC-48F8-88A5-B714A173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3A03E-1EFB-4AE8-AFF3-E27CC3C0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E19CF-085A-46CC-B05A-34E4C73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3E6D-BB85-4525-8FFA-D0A1F7AA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E19E-CF2B-4195-84A3-136AC55D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DB7CC-DC7F-4D16-B839-3BDCC99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A3732-2AA2-4B1A-8C4B-FD41592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42735-7223-4F5A-9ECA-563734F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4BDE-228C-4A87-A33D-FB996109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39DD-AF73-43CF-A80D-C3AF09C8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DB831-80E2-403E-A3BD-83556349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D318B-6C07-498E-BD61-0929806B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79BDE-F508-4B3D-9F15-A61F0F6E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E267B-D0FF-4C66-B3B5-84B5EF9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45018-BC9F-4077-BDC1-FBA20995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D7BFE-BC14-4D53-9617-0141B089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DBE24-18DC-4443-8485-E265D74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16E7A-7867-48E7-8F66-9CCC776D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363C6-1635-4DEC-A507-337B614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27F-B370-4F62-85E8-B331D28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03FB3-CB61-44A9-B638-45A1074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90D0F-EF6C-4838-A13A-F2CFFB3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99276-BECF-4BB2-BD95-7905858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CFA9E-77CD-4A72-996B-FD0C55DD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5C4FC-F071-4DFC-A782-32E1FA99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20FCA-EEA5-435E-A8C6-2DFF4F6D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F1AF1-4088-44A6-9E7D-B8CEF6CF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61091-E583-42ED-AB8A-1BE1918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F928E-F5B4-46AB-80AA-A2BFD8B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0D843-43FC-49D8-AEE0-5BAA98E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47CC-53CD-4260-AEC0-8A22CF4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76505-14B1-4C93-BA93-B62E4C3A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E89FA-29B0-4E72-9EEB-069E616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0B181-DCD2-4FCF-A3B5-DE8C00C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6C31E-F86C-4DFC-9E83-5AC673C4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C0C49-AF3E-489E-9F33-378FA6D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A2050-815B-4BAB-B25B-88DFD6BD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E203D-8F23-4F87-BD30-5B54EDA1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C5D6F-6BAB-4F1A-AE79-DF8D45CA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116B2-6AED-4E42-BBC3-3C3DDCC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118FC-F467-4D92-8250-03F1F2B8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2D0-6E5F-4518-A256-2960BE3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8A582-9D54-4D7F-B17E-121C377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FE75F-4069-42EA-84A0-C2B28C56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C8EDB-F204-4FCD-A42D-F084FC7D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5E08B-BB30-42B7-A5D7-5FF585C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381B1-14FF-4545-9C7B-8C6746FC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A9FE4-A0C8-4820-9C07-51584C0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62FDD-85A1-424F-9947-996FDB80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058B6-5CA4-4FB8-B5AB-AF7E55D7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22DCE-09D9-4833-B5AA-DDB811A1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727BA-95B0-4D06-A03E-37B38295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EA15-8D9B-4B34-BC37-DDA13F4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FA7DF-259B-4C03-81D3-96DE16E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1D3E7-CFE0-4B45-AD43-9246D1DE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E88D0-4167-43B2-A76E-4DC3970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B2B38-441F-4B46-B4F5-F8B4018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AF336-D4C9-4C53-852B-5837654C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B8059-13CD-43A1-971D-BBC894AA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477E8-C7B4-4D2C-9CB5-8043403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B852E-F860-401D-AA44-687194C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5F76B-EB8E-413D-BFC8-9FEC08C6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0C6EA-1CA3-4E12-87C4-2E2BF013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10D-E962-48CA-A6B7-446E883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7867E-FD1B-427C-96D2-08635EEC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9FFF4-3C07-4039-9A9A-D122EC81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1737A-4660-43D7-BAA5-90ACAC2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BEA98-1F5A-4610-8632-51127C1C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9A3EE-4EAC-4424-8419-C503CC61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A0BEC-72AF-4E64-B502-0FE93A3C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DE792-0599-491B-A068-418B6486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92E78-E474-4397-9AB8-362312B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F7B35-96A9-4E20-B655-5A4F4B3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D7D45-B8A6-49BE-94EA-A22A1E7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66B-5C9E-40F8-9E82-D64F5B4C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B45E3-6003-45FA-B35C-7BC395C4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1141C-2517-49BC-B090-EDE6E058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EFAA2-5BF4-49D4-8C7B-C77EC2B1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10B16-B0F3-4340-A105-8EC68EBE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D9A73-1092-4EA0-8CFF-ED15F06D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125DA-DD65-4D77-9565-DB01415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0EB00-2DDD-4A4D-A173-2C85852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6E504-57F8-49A8-BEE0-86D9653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FEB38-AD28-4337-831F-B9A0E0D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D4081-B093-47D6-92A1-AFD9067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12B-3899-483D-8698-4CF724D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4928-A84E-4402-B40C-D30EA71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4AB8A-60E4-4D5C-83DF-95776F8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36294-07F8-40C4-A600-29A7F47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9E08C-73E8-498A-8AE4-D61B4DC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170DB-1C2D-4E37-8E3D-25F52209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70C01-66C9-4108-8B72-59A3FA2D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B64DB-A915-4D2A-80F9-19924FBA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0969B-1952-4FFD-9BF4-BDC11B09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F52CD-98C0-4FC7-AE02-316324BA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10436-40F7-4F63-9BEC-89588195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6E3B7-A02F-4D57-BE2C-EE225F18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FBDC-B62D-4549-93E7-70D8B234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7DC49-1684-49CB-B767-849120A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CD8DC-39A0-4D4D-8AD4-D7A73D0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19177-0ABD-43B3-A908-AC07158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2BF5A-4C80-4636-B19F-491EE7A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D3640-3E84-4D0F-B57A-788B7CF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601CC-800A-43D6-A59C-47F08592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4832B-819D-4B87-B7B7-646F56C8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E028DF-8F9E-4052-9D27-3A5658C1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354905-9B09-4FA0-97D0-A134CEC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76855E-39DA-443A-BC61-F6D3347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4BC0-036E-4CCC-BADA-B5BA960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F6C20D-D75B-46A4-8796-4981AE97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167566-D274-4675-AAFA-E6F4C29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3974A2-A21F-45ED-B6CF-936D7D8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93B2B9-6BB6-4C86-A29C-085A21C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4943B0-984F-4C6C-9FB6-4E8993EB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7FE3FF-D7E3-449E-8C0C-5050AEE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2280F7-264C-4C0D-B015-96A3FAE8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580F9E-9CA0-4C5E-8718-6334CD5B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64DF1D-FA40-4EE3-B96A-7C51EF4E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AB8D5-6A70-4F03-95A3-98904BF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4ED0-3EB6-4DB9-A8A8-19E438A6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88F10-24AE-4E40-B3F8-8634851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CAC07-77EC-49CE-B8A2-8CCFED7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1E12C-14A7-4D94-8027-98B1A44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8D4AD-68AE-41A0-8A54-AE263938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F6587-AB48-478F-9B88-8A987417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E64A3-BA0C-4AC9-9F14-87149BA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6750E-A060-439D-B217-47AA7BF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A8303-C859-49C0-B499-86966A2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B3F50-B639-4316-BC7E-4486DA5D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8D37F8-C82C-46C6-86EC-19035FEA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5EA0-CF4C-484D-9AC5-4C4B33F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6BE2E-4E37-47D1-A373-83D42C7B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F0518-D3D9-493F-A480-4C0E5092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C79CB4-A87D-4B98-83CD-4AE6C04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05656-913A-47DC-BA9D-767DD77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967C8-5A6F-4C63-8E34-14D9AD4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D7673-4AE1-4B1C-9C0F-38AAB9A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BB246-91DB-47D9-830A-D6238CD4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5CC88-0621-4519-8A0D-AFFAD3D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05D06-A401-471F-AB9A-7A6B487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830C5-8929-4060-9AA0-4E96FBA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BC75-645F-4026-9D1D-9547DDC6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75178-292E-41CD-B660-F243FDC2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0CA4B-7517-4269-B86B-00C18B00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63BAF-36E9-4042-B732-C3DFB5F8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C2138D-C27D-4640-9D59-DA5A787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6CB9D7-66D8-4232-B987-BD2607C0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EB307D-70FB-41D8-A7CC-23188C8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8C9FC9-45D6-40F5-B605-1D5AECD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FBF254-31B6-4B3E-9DAD-CA43A47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2345C-4BBA-421C-AED0-524AE38E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CB8D7C-39C1-4A31-8ACA-35F5CF1D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8B00-FEF6-4444-84AF-2AB479A5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B7A30F-2856-4C30-832A-6BBEB5D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C5511-46D6-42E8-A8E6-E1B8D98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FF3E5-F8F9-4A68-82F8-981A6C70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004D6-51F3-462C-9631-98A392BE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BF307E-4D46-408B-82B5-1F44A463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A7191-FFD5-4E88-9B31-2E14239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4F61D-9FB3-45A5-A5B2-ADFF3F3D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AE844B-11AC-4400-9398-37AB2DA5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57D7F1-BC6B-420A-93C3-711BCCA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6E86DD-1773-4E07-8B74-742D7CC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1383-91EE-4978-9133-69269B2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22DABC-5F25-4177-A23F-3230BA85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70F41E-FF7E-445E-BC32-0ABFD39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E64368-538C-4CC7-A6D2-D47C869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1C32B5-67CF-4D7C-BFAD-166970F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5CA692-71D4-4C2D-B9B3-71B21EBF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F54BDF-2AB5-4922-97F0-DE01CA30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BF433-E4B4-4E33-89A2-FF350261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E0E7-7BDC-4C73-B363-73E5C766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EABD-D857-475D-884C-8812466E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31F-CB93-4FBF-8460-66EA35B1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9008-12D6-40EB-AB79-50F4364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9613-791D-4EA8-AB76-8197917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914F-BD5C-44AD-8575-0232612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9B46-72D9-4D9F-A2FD-AAE602A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3CF3-91FB-47A8-A2F5-A8193A3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18AE-C2C1-4F49-A9B9-C1200FDA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80C7-A403-4CF0-9C5C-6DAFEAD6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6127-16BD-445D-BF82-CEC17F10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90EB-5A45-4C3E-BBF3-FF99210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8464-3F4A-40C0-8B69-A50B867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923-4E9F-4655-AAC8-C2FBE414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3FA5-749D-4DD1-977E-5E97D5B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784E-0B13-4FA2-98D6-4EAED0DA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F32E-B5D4-4036-98A1-77C91167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E93B8-2FAD-483D-894B-6D96C39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CD18-7C33-428E-B6DA-7C237CF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4551-5DAE-4FD9-B7B7-CDAC8753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BFBB-3030-4119-B46B-FF37A20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7E87-786F-4121-97B9-61A1B1A6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2EFF-DD8E-4DCD-9651-D045ED21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B377B-A76D-4E01-9E98-D8CB7A43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E93-FFFB-45A1-972D-A643879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C00AF-D239-429B-B803-9B26E06B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9331-4360-4F68-8676-6306FA75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1B2E-0D2E-4E57-BDCA-AB498AAF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ACA5-5654-4A8F-BE54-74C86763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E7F0F-BD70-42EA-8FFE-EBA3D596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25AE-51B7-422B-B973-3F6249E1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513A-1DA9-4EB3-9C62-0C21ACB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A51D-1EB2-4B40-969C-D771CF6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1C5D-67CC-4421-8572-E7D30895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3ED5-F612-4D16-BD2A-F7D4A035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581-6304-40D0-8B44-6EB6781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BA5F-094A-4D4B-AE40-43803FB2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30082-9B67-48A9-9F2E-DD6656A5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5A3C4-25CD-4265-AECC-35BD4E6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8F9AD-C05E-433D-A01D-021D556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D0F9B-695F-4F02-852F-69882EE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AEEFE-B168-40E9-8F6D-D279D39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27CDC-68A3-40CC-AB96-7DE6D3E0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265F7-78A9-43D9-A7D5-631E18F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F7383-FA7C-4A65-B477-443BF78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2E672-3C13-430D-A321-E230EF2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96D-F1C5-42CB-AD2E-A849C5C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7E91A-34EF-4FF3-B99A-208ABE2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961A8-BCA6-446F-BCB7-66388014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C4D79-DEAE-4134-97A8-F3D60CDF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B075-C2FE-4061-99E3-B7B4B14E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A929-A44B-4E27-A369-11493217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97E4-0559-4B1A-8DB3-709F498E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24FD3-F7EE-4A78-B65D-3848D5F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4E469-7999-480D-8F0F-8DE2A580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14A3-8A1C-4956-9F97-BB4F597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0741-F138-44BA-BD01-E53E02AE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EA7-1865-4442-9017-54095E8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89589-06BF-44A6-AEB0-BEBB8BD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6A2F-DA31-4700-B321-6FBF869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32CA7-8E09-488D-841A-04ED56E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68546-69AA-4D50-BD9A-304872DF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AB5A-BDF8-4AD1-B1D3-29ABBE99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7C403-3E37-4125-9F73-17095D5F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4229E-4DDE-4DE1-A4D3-1DDA6157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BDD2-1E26-459A-A581-181F99CA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0D90-0F9D-4915-BEB7-D0251DF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BF24-2F7A-42C7-B662-30B7F809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D09-2B74-4834-A406-6E513FA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0882-1F77-4C9B-9FE3-A4713779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E2DCC-BF45-4E90-8442-99D134E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D0AD-5FA5-4EFE-84F4-B5426E9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4F244-B7DF-46DC-86D5-15C70AA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E5E4C-953D-4053-BB51-248A1BD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793A-55E0-4D3A-8B8A-288EFFFF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0BF6-E0DA-4119-862C-B85CAB01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0ABF9-9EB7-430C-B530-D40A8697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4D2FC-0658-4DF4-A276-5053F66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EFF1-4613-45BB-8C0D-35C5EE1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50D2-4E02-4709-8C20-8581730635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4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4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4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5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DC8D-5A69-4970-B71D-49790547D3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0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6037-C0A6-4F0C-B31F-894709C0FE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D688-87A5-4EF2-ADDD-762B108BBB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8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9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1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D33-61B6-4C66-8568-E7A9EF4D636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6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6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B03-8895-4E34-BAD2-7AFF39E72F4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5F3-C918-4282-8629-19185B1BBE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8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0E5-AB08-4AF5-B800-53CF2A796C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E165-056F-4F3A-BA8C-F722380034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838-9BDE-4254-967F-7EE328246A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CA3-4B4E-46C4-89C3-85236A11AC8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B4E-7EDA-4A79-8A1C-9FF1F36E01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7E2-E681-4773-9DF9-94DEDBC54C0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5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5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2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D35-8949-40D4-97E3-620BCB44D1E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2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2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3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3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3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4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4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5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5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5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6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7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8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8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9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0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30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31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1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2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2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2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3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3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4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2D3A-82B1-4195-B2F1-99B3B3EF452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212-F87C-484D-957E-B3FF8EBAF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505-57F9-41C6-BB7C-6EB2C416FD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360C-43BE-4B13-B9CF-B1EF002EA6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85A-62C2-4014-B788-6810500E1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DC4-2C2C-4C52-B9FE-D97E21436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3443-4C80-4797-B67A-1C0AD8559E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448-21F6-4568-B5B6-E04CCC021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8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8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F08-5793-406A-B1CB-4732BF8067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7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15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Не махай на все рукою, не лінуйся, а учись.</a:t>
            </a:r>
            <a:br>
              <a:rPr sz="4400"/>
            </a:b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Бо чого навчишся в школі - </a:t>
            </a:r>
            <a:br>
              <a:rPr sz="4400"/>
            </a:b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знадобиться ще колис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900000" y="1773360"/>
            <a:ext cx="75596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зв'язування рівнянь метод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іни змінно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116000" y="1268280"/>
            <a:ext cx="734544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яких значеннях параметра 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684360" y="3284640"/>
            <a:ext cx="27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івня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3646440" y="3171960"/>
            <a:ext cx="5013360" cy="8683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 txBox="1"/>
          <p:nvPr/>
        </p:nvSpPr>
        <p:spPr>
          <a:xfrm>
            <a:off x="2627280" y="4581360"/>
            <a:ext cx="395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має коренів  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rcRect l="0" t="0" r="0" b="-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755640" y="2335320"/>
            <a:ext cx="763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омашнє завда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2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2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539640" y="1557360"/>
            <a:ext cx="7777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вці квадратних рівнян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684360" y="1700280"/>
            <a:ext cx="698472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e1f08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навці неповних 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e1f08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e1f08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их рівнянь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e1f08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250920" y="220500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вці дробово-раціональних рівня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324000" y="2349360"/>
            <a:ext cx="8497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навці біквадратних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рівнян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1. Обчислі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2"/>
          <a:stretch/>
        </p:blipFill>
        <p:spPr>
          <a:xfrm>
            <a:off x="1276200" y="1778040"/>
            <a:ext cx="3570480" cy="406440"/>
          </a:xfrm>
          <a:prstGeom prst="rect">
            <a:avLst/>
          </a:prstGeom>
          <a:ln w="0">
            <a:noFill/>
          </a:ln>
        </p:spPr>
      </p:pic>
      <p:pic>
        <p:nvPicPr>
          <p:cNvPr id="1443" name="" descr=""/>
          <p:cNvPicPr/>
          <p:nvPr/>
        </p:nvPicPr>
        <p:blipFill>
          <a:blip r:embed="rId3"/>
          <a:stretch/>
        </p:blipFill>
        <p:spPr>
          <a:xfrm>
            <a:off x="1206360" y="2529000"/>
            <a:ext cx="3570480" cy="668160"/>
          </a:xfrm>
          <a:prstGeom prst="rect">
            <a:avLst/>
          </a:prstGeom>
          <a:ln w="0">
            <a:noFill/>
          </a:ln>
        </p:spPr>
      </p:pic>
      <p:pic>
        <p:nvPicPr>
          <p:cNvPr id="1444" name="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2592360" cy="79236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5"/>
          <a:stretch/>
        </p:blipFill>
        <p:spPr>
          <a:xfrm>
            <a:off x="1042920" y="4581360"/>
            <a:ext cx="4969080" cy="54144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5148360" y="1700280"/>
            <a:ext cx="287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508720" y="1773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37236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588000" y="36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22764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ідповідь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" descr=""/>
          <p:cNvPicPr/>
          <p:nvPr/>
        </p:nvPicPr>
        <p:blipFill>
          <a:blip r:embed="rId6"/>
          <a:stretch/>
        </p:blipFill>
        <p:spPr>
          <a:xfrm>
            <a:off x="8317080" y="3429000"/>
            <a:ext cx="35856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Знайдіть значення х (якщо воно існує), при якому виконується рівні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1655640" cy="205452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2"/>
          <a:stretch/>
        </p:blipFill>
        <p:spPr>
          <a:xfrm>
            <a:off x="3638520" y="1843200"/>
            <a:ext cx="2085840" cy="320832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3"/>
          <a:stretch/>
        </p:blipFill>
        <p:spPr>
          <a:xfrm>
            <a:off x="6659640" y="1916280"/>
            <a:ext cx="1655640" cy="165708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6516720" y="37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’язків нема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619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c0039"/>
                </a:solidFill>
                <a:latin typeface="Times New Roman"/>
              </a:rPr>
              <a:t>3. При яких значеннях </a:t>
            </a:r>
            <a:r>
              <a:rPr b="1" i="1" lang="uk-UA" sz="2000" spc="-1" strike="noStrike">
                <a:solidFill>
                  <a:srgbClr val="8c003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8c0039"/>
                </a:solidFill>
                <a:latin typeface="Times New Roman"/>
              </a:rPr>
              <a:t> має зміст вираз                    ?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7524720" y="476280"/>
            <a:ext cx="863640" cy="95076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/>
          <p:nvPr/>
        </p:nvSpPr>
        <p:spPr>
          <a:xfrm>
            <a:off x="1332000" y="23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ідповідь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2592360" cy="2194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ідповіді до математичного дикта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корен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коефіцієнт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 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неповн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зведене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теорема Віє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2)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</a:rPr>
              <a:t>р;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826920" y="1986120"/>
            <a:ext cx="2089440" cy="43632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17720" cy="21276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635280" y="1773360"/>
            <a:ext cx="216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916360" y="19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3710160" y="2057400"/>
            <a:ext cx="645840" cy="36504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1476360" y="3357720"/>
            <a:ext cx="936720" cy="43308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187164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 rot="21460200">
            <a:off x="1476360" y="1628280"/>
            <a:ext cx="6480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33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і рівня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4105080" cy="85068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3"/>
          <a:stretch/>
        </p:blipFill>
        <p:spPr>
          <a:xfrm>
            <a:off x="6588000" y="1773360"/>
            <a:ext cx="357480" cy="32544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4"/>
          <a:stretch/>
        </p:blipFill>
        <p:spPr>
          <a:xfrm>
            <a:off x="754200" y="4416480"/>
            <a:ext cx="1801800" cy="65556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5651640" y="1628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476360" y="2637000"/>
            <a:ext cx="647640" cy="1584000"/>
          </a:xfrm>
          <a:prstGeom prst="downArrow">
            <a:avLst>
              <a:gd name="adj1" fmla="val 50000"/>
              <a:gd name="adj2" fmla="val 61145"/>
            </a:avLst>
          </a:prstGeom>
          <a:gradFill rotWithShape="0">
            <a:gsLst>
              <a:gs pos="0">
                <a:srgbClr val="0000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40360" y="2565360"/>
            <a:ext cx="647640" cy="1584360"/>
          </a:xfrm>
          <a:prstGeom prst="downArrow">
            <a:avLst>
              <a:gd name="adj1" fmla="val 50000"/>
              <a:gd name="adj2" fmla="val 61159"/>
            </a:avLst>
          </a:prstGeom>
          <a:gradFill rotWithShape="0">
            <a:gsLst>
              <a:gs pos="0">
                <a:srgbClr val="0000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948360" y="2492280"/>
            <a:ext cx="648000" cy="1584360"/>
          </a:xfrm>
          <a:prstGeom prst="downArrow">
            <a:avLst>
              <a:gd name="adj1" fmla="val 50000"/>
              <a:gd name="adj2" fmla="val 61125"/>
            </a:avLst>
          </a:prstGeom>
          <a:gradFill rotWithShape="0">
            <a:gsLst>
              <a:gs pos="0">
                <a:srgbClr val="0000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" descr=""/>
          <p:cNvPicPr/>
          <p:nvPr/>
        </p:nvPicPr>
        <p:blipFill>
          <a:blip r:embed="rId5"/>
          <a:stretch/>
        </p:blipFill>
        <p:spPr>
          <a:xfrm>
            <a:off x="3203640" y="4349880"/>
            <a:ext cx="2590560" cy="72216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6"/>
          <a:stretch/>
        </p:blipFill>
        <p:spPr>
          <a:xfrm>
            <a:off x="6443640" y="4365720"/>
            <a:ext cx="2089080" cy="72072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 txBox="1"/>
          <p:nvPr/>
        </p:nvSpPr>
        <p:spPr>
          <a:xfrm>
            <a:off x="755640" y="333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повні квадратні рівнянн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971640" y="765000"/>
            <a:ext cx="74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Дробово-раціональні рівня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3862440" y="2935440"/>
            <a:ext cx="1817640" cy="219528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2319480" y="5416560"/>
            <a:ext cx="239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492360" y="422100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435640" y="3357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 rot="21431400">
            <a:off x="1835280" y="691920"/>
            <a:ext cx="60498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іквадратні рівнянн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3"/>
          <a:stretch/>
        </p:blipFill>
        <p:spPr>
          <a:xfrm>
            <a:off x="2124000" y="2417760"/>
            <a:ext cx="5043600" cy="121428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4"/>
          <a:stretch/>
        </p:blipFill>
        <p:spPr>
          <a:xfrm>
            <a:off x="3710160" y="4272120"/>
            <a:ext cx="1906560" cy="949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6:34:17Z</dcterms:created>
  <dc:creator>Комп</dc:creator>
  <dc:description/>
  <dc:language>en-US</dc:language>
  <cp:lastModifiedBy>Комп</cp:lastModifiedBy>
  <dcterms:modified xsi:type="dcterms:W3CDTF">2013-02-17T16:46:45Z</dcterms:modified>
  <cp:revision>31</cp:revision>
  <dc:subject/>
  <dc:title>Не махай на все рукою, не лінуйся, а учись. Бо чого навчишся в школі -  знадобиться ще колис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8000000000001024140</vt:lpwstr>
  </property>
</Properties>
</file>