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.jpeg" ContentType="image/jpeg"/>
  <Override PartName="/ppt/media/image7.jpeg" ContentType="image/jpeg"/>
  <Override PartName="/ppt/media/explode.wav" ContentType="audio/x-wav"/>
  <Override PartName="/ppt/media/image6.png" ContentType="image/png"/>
  <Override PartName="/ppt/media/image1.jpeg" ContentType="image/jpeg"/>
  <Override PartName="/ppt/media/whoosh.wav" ContentType="audio/x-wav"/>
  <Override PartName="/ppt/media/applause.wav" ContentType="audio/x-wav"/>
  <Override PartName="/ppt/media/type.wav" ContentType="audio/x-wav"/>
  <Override PartName="/ppt/media/chimes.wav" ContentType="audio/x-wav"/>
  <Override PartName="/ppt/media/image2.jpeg" ContentType="image/jpeg"/>
  <Override PartName="/ppt/media/drumroll.wav" ContentType="audio/x-wav"/>
  <Override PartName="/ppt/media/image3.jpeg" ContentType="image/jpeg"/>
  <Override PartName="/ppt/media/driveby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21E-BB90-411A-9FBD-C5B1321F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D6B-9C4E-41EC-AACC-E5067CDE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90E-02AD-4AF3-ABA1-6DA1BFDE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32EC-0FBF-438C-87AC-672009DC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3C89-4380-47FD-87FE-50B3B39C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1D2A-FC30-4C24-887D-552FA2EC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02B4-45A6-4CC8-AC06-AE8AAD1D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BB0-7327-42FC-B95E-6C6C7ED6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9BE-C370-4198-98F9-7286CC0C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705-1809-4707-851E-E84CA602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627-8174-437B-AE42-1BB0EBC3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38FB-1D49-4AB2-97DE-2F3F32BB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ECBF-D322-4C3E-A9C4-813EC6BA6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explode.wav"/><Relationship Id="rId4" Type="http://schemas.openxmlformats.org/officeDocument/2006/relationships/audio" Target="../media/applause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explod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typ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typ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95360" y="5569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Пропорці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8380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4960" y="182880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Times New Roman"/>
              </a:rPr>
              <a:t>Визначення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0640" y="1876320"/>
            <a:ext cx="55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Times New Roman"/>
              </a:rPr>
              <a:t>Рівність двох відношень називається </a:t>
            </a:r>
            <a:r>
              <a:rPr b="1" i="1" lang="en-US" sz="2000" spc="-1" strike="noStrike" u="sng">
                <a:solidFill>
                  <a:srgbClr val="00ff99"/>
                </a:solidFill>
                <a:uFillTx/>
                <a:latin typeface="Times New Roman"/>
              </a:rPr>
              <a:t>пропорціє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9880" y="231444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А записують пропорції так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28195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: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c: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19800" y="3809880"/>
            <a:ext cx="10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або так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600360" y="4229280"/>
            <a:ext cx="1604880" cy="1588320"/>
            <a:chOff x="3600360" y="4229280"/>
            <a:chExt cx="1604880" cy="1588320"/>
          </a:xfrm>
        </p:grpSpPr>
        <p:sp>
          <p:nvSpPr>
            <p:cNvPr id="49" name=""/>
            <p:cNvSpPr/>
            <p:nvPr/>
          </p:nvSpPr>
          <p:spPr>
            <a:xfrm>
              <a:off x="3609720" y="423396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00360" y="489096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05120" y="422928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62280" y="490068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14760" y="5043600"/>
              <a:ext cx="5191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10160" y="5067360"/>
              <a:ext cx="514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14800" y="468144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75"/>
                            </p:stCondLst>
                            <p:childTnLst>
                              <p:par>
                                <p:cTn id="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5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27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2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97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12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lastslide"/>
          </p:cNvPr>
          <p:cNvSpPr/>
          <p:nvPr/>
        </p:nvSpPr>
        <p:spPr>
          <a:xfrm>
            <a:off x="2838600" y="2762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Крайніми член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00240" y="49500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Як називають числа 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 і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в пропорції 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x:a=b:y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lastslide"/>
          </p:cNvPr>
          <p:cNvSpPr/>
          <p:nvPr/>
        </p:nvSpPr>
        <p:spPr>
          <a:xfrm>
            <a:off x="2847960" y="23385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Дільник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2819520" y="31478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. Середн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и члена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lastslide"/>
          </p:cNvPr>
          <p:cNvSpPr/>
          <p:nvPr/>
        </p:nvSpPr>
        <p:spPr>
          <a:xfrm>
            <a:off x="2819520" y="3562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Лінійними кра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18880" y="45684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Сформулюйте основну властивість пропорці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7880" y="1828800"/>
            <a:ext cx="4110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правильній пропорції добуток крайніх членів дорівнює добутку середних члені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2743200" y="2819520"/>
            <a:ext cx="39625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кщо добуток главних членів пропорції  дорівнює добутку середніх членів пропорції, то пропорція правиль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lastslide"/>
          </p:cNvPr>
          <p:cNvSpPr/>
          <p:nvPr/>
        </p:nvSpPr>
        <p:spPr>
          <a:xfrm>
            <a:off x="2766960" y="4114800"/>
            <a:ext cx="396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порції завжди рівн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2838600" y="2762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Н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28440" y="49500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Чи буде пропорция вірною, якщо поміняти місцями який-небудь середній її член з одним з крайні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lastslide"/>
          </p:cNvPr>
          <p:cNvSpPr/>
          <p:nvPr/>
        </p:nvSpPr>
        <p:spPr>
          <a:xfrm>
            <a:off x="2847960" y="23385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Та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lastslide"/>
          </p:cNvPr>
          <p:cNvSpPr/>
          <p:nvPr/>
        </p:nvSpPr>
        <p:spPr>
          <a:xfrm>
            <a:off x="2819520" y="31478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. Збільшиться в 2 раз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lastslide"/>
          </p:cNvPr>
          <p:cNvSpPr/>
          <p:nvPr/>
        </p:nvSpPr>
        <p:spPr>
          <a:xfrm>
            <a:off x="2819520" y="3562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Не завжд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lastslide"/>
          </p:cNvPr>
          <p:cNvSpPr/>
          <p:nvPr/>
        </p:nvSpPr>
        <p:spPr>
          <a:xfrm>
            <a:off x="2838600" y="2762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Н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28440" y="49500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Чи  залишиться пропорція правильною, якщо обидва середніх члена поміняти місцями з крайніми членами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2847960" y="23385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Та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lastslide"/>
          </p:cNvPr>
          <p:cNvSpPr/>
          <p:nvPr/>
        </p:nvSpPr>
        <p:spPr>
          <a:xfrm>
            <a:off x="2819520" y="314784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. Пропорція стане неправильно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lastslide"/>
          </p:cNvPr>
          <p:cNvSpPr/>
          <p:nvPr/>
        </p:nvSpPr>
        <p:spPr>
          <a:xfrm>
            <a:off x="2819520" y="37195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Пропорції не залишить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rId3" action="ppaction://hlinksldjump"/>
          </p:cNvPr>
          <p:cNvSpPr/>
          <p:nvPr/>
        </p:nvSpPr>
        <p:spPr>
          <a:xfrm>
            <a:off x="3495600" y="2762280"/>
            <a:ext cx="25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:5=1,2: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440" y="49500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Запишіть пропорцію: «5 так відноситься до 3, як 2 відноситься до 1,2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rId4" action="ppaction://hlinksldjump"/>
          </p:cNvPr>
          <p:cNvSpPr/>
          <p:nvPr/>
        </p:nvSpPr>
        <p:spPr>
          <a:xfrm>
            <a:off x="3505320" y="233856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:3=5: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3476520" y="314784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:3=2: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lastslide"/>
          </p:cNvPr>
          <p:cNvSpPr/>
          <p:nvPr/>
        </p:nvSpPr>
        <p:spPr>
          <a:xfrm>
            <a:off x="3462480" y="356220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gt;3 =&gt; 3&lt;5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rcRect l="0" t="0" r="0" b="327"/>
          <a:stretch/>
        </p:blipFill>
        <p:spPr>
          <a:xfrm>
            <a:off x="6100920" y="4633920"/>
            <a:ext cx="2414520" cy="17748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57240" y="5810400"/>
            <a:ext cx="1162080" cy="1009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828440" y="49500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УРОК ЗАКІНЧЕ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firstslide"/>
          </p:cNvPr>
          <p:cNvSpPr/>
          <p:nvPr/>
        </p:nvSpPr>
        <p:spPr>
          <a:xfrm>
            <a:off x="3505320" y="2338560"/>
            <a:ext cx="25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* ПОВТОРИ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endshow"/>
          </p:cNvPr>
          <p:cNvSpPr/>
          <p:nvPr/>
        </p:nvSpPr>
        <p:spPr>
          <a:xfrm>
            <a:off x="3476520" y="314784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* ВИХІ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1800" y="2209680"/>
            <a:ext cx="2438280" cy="838440"/>
          </a:xfrm>
          <a:prstGeom prst="wedgeEllipseCallout">
            <a:avLst>
              <a:gd name="adj1" fmla="val -33592"/>
              <a:gd name="adj2" fmla="val 29753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-b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endshow"/>
          </p:cNvPr>
          <p:cNvSpPr/>
          <p:nvPr/>
        </p:nvSpPr>
        <p:spPr>
          <a:xfrm>
            <a:off x="30492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Презентація складена ученицею 11-А класа Мінко Ирино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endshow"/>
          </p:cNvPr>
          <p:cNvSpPr/>
          <p:nvPr/>
        </p:nvSpPr>
        <p:spPr>
          <a:xfrm>
            <a:off x="3124080" y="62434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33ff"/>
                </a:solidFill>
                <a:latin typeface="Times New Roman"/>
              </a:rPr>
              <a:t>Луганск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33ff"/>
                </a:solidFill>
                <a:latin typeface="Times New Roman"/>
              </a:rPr>
              <a:t>Ви дали неправильну відповідь. Доведеться повторити все с початк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09640" y="1419120"/>
            <a:ext cx="5667480" cy="34578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c3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38840" y="324000"/>
            <a:ext cx="2743200" cy="2666880"/>
          </a:xfrm>
          <a:prstGeom prst="ellipse">
            <a:avLst/>
          </a:prstGeom>
          <a:gradFill rotWithShape="0">
            <a:gsLst>
              <a:gs pos="0">
                <a:srgbClr val="a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238880" y="5334120"/>
            <a:ext cx="1417680" cy="104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20166000">
            <a:off x="990720" y="1676520"/>
            <a:ext cx="2971800" cy="4438440"/>
          </a:xfrm>
          <a:prstGeom prst="rtTriangl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7040" y="33336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6858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: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c: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947880" y="1652760"/>
            <a:ext cx="1604880" cy="1588320"/>
            <a:chOff x="947880" y="1652760"/>
            <a:chExt cx="1604880" cy="1588320"/>
          </a:xfrm>
        </p:grpSpPr>
        <p:sp>
          <p:nvSpPr>
            <p:cNvPr id="64" name=""/>
            <p:cNvSpPr/>
            <p:nvPr/>
          </p:nvSpPr>
          <p:spPr>
            <a:xfrm>
              <a:off x="957240" y="165744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47880" y="231444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52640" y="165276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09800" y="232416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62280" y="2467080"/>
              <a:ext cx="5191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57680" y="2490840"/>
              <a:ext cx="514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62320" y="2104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048120" y="1676520"/>
            <a:ext cx="5638680" cy="3124080"/>
          </a:xfrm>
          <a:prstGeom prst="wedgeEllipseCallout">
            <a:avLst>
              <a:gd name="adj1" fmla="val 35305"/>
              <a:gd name="adj2" fmla="val 67379"/>
            </a:avLst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і записи читають та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ідношення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івнює відношенню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б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ідноситься д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як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ідноситься д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7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09640" y="1419120"/>
            <a:ext cx="5667480" cy="34578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c3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38840" y="324000"/>
            <a:ext cx="2743200" cy="2666880"/>
          </a:xfrm>
          <a:prstGeom prst="ellipse">
            <a:avLst/>
          </a:prstGeom>
          <a:gradFill rotWithShape="0">
            <a:gsLst>
              <a:gs pos="0">
                <a:srgbClr val="a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38880" y="5334120"/>
            <a:ext cx="1417680" cy="1044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rot="20166000">
            <a:off x="990720" y="1676520"/>
            <a:ext cx="2971800" cy="4438440"/>
          </a:xfrm>
          <a:prstGeom prst="rtTriangl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7040" y="33336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90520" y="25909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: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c: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990720"/>
            <a:ext cx="4343400" cy="3352680"/>
          </a:xfrm>
          <a:prstGeom prst="wedgeEllipseCallout">
            <a:avLst>
              <a:gd name="adj1" fmla="val 30921"/>
              <a:gd name="adj2" fmla="val 79828"/>
            </a:avLst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ивают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йніми член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числ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ередніми члена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порц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887480" y="2023920"/>
            <a:ext cx="1117800" cy="743040"/>
            <a:chOff x="1887480" y="2023920"/>
            <a:chExt cx="1117800" cy="743040"/>
          </a:xfrm>
        </p:grpSpPr>
        <p:grpSp>
          <p:nvGrpSpPr>
            <p:cNvPr id="81" name=""/>
            <p:cNvGrpSpPr/>
            <p:nvPr/>
          </p:nvGrpSpPr>
          <p:grpSpPr>
            <a:xfrm>
              <a:off x="1981080" y="2362320"/>
              <a:ext cx="914400" cy="404640"/>
              <a:chOff x="1981080" y="2362320"/>
              <a:chExt cx="914400" cy="404640"/>
            </a:xfrm>
          </p:grpSpPr>
          <p:sp>
            <p:nvSpPr>
              <p:cNvPr id="82" name=""/>
              <p:cNvSpPr/>
              <p:nvPr/>
            </p:nvSpPr>
            <p:spPr>
              <a:xfrm>
                <a:off x="2895480" y="2362320"/>
                <a:ext cx="0" cy="3808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90800" y="2386080"/>
                <a:ext cx="0" cy="3808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981080" y="2376360"/>
                <a:ext cx="9144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1887480" y="2023920"/>
              <a:ext cx="11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Arial"/>
                </a:rPr>
                <a:t>Середн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500120" y="3486240"/>
            <a:ext cx="1928880" cy="720720"/>
            <a:chOff x="1500120" y="3486240"/>
            <a:chExt cx="1928880" cy="720720"/>
          </a:xfrm>
        </p:grpSpPr>
        <p:sp>
          <p:nvSpPr>
            <p:cNvPr id="87" name=""/>
            <p:cNvSpPr/>
            <p:nvPr/>
          </p:nvSpPr>
          <p:spPr>
            <a:xfrm>
              <a:off x="3419640" y="348624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00120" y="351000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4800" y="3871800"/>
              <a:ext cx="1924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14480" y="3838680"/>
              <a:ext cx="11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Arial"/>
                </a:rPr>
                <a:t>Крайн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09640" y="1419120"/>
            <a:ext cx="5667480" cy="34578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c3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38840" y="324000"/>
            <a:ext cx="2743200" cy="2666880"/>
          </a:xfrm>
          <a:prstGeom prst="ellipse">
            <a:avLst/>
          </a:prstGeom>
          <a:gradFill rotWithShape="0">
            <a:gsLst>
              <a:gs pos="0">
                <a:srgbClr val="a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238880" y="5334120"/>
            <a:ext cx="1417680" cy="1044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20166000">
            <a:off x="990720" y="1676520"/>
            <a:ext cx="2971800" cy="4438440"/>
          </a:xfrm>
          <a:prstGeom prst="rtTriangl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7040" y="33336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1676520"/>
            <a:ext cx="4343400" cy="1981080"/>
          </a:xfrm>
          <a:prstGeom prst="wedgeEllipseCallout">
            <a:avLst>
              <a:gd name="adj1" fmla="val -111185"/>
              <a:gd name="adj2" fmla="val -64662"/>
            </a:avLst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правильній пропорції добуток крайніх членів дорівнює добутку середніх члені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580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Основна властивість пропорці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3809880"/>
            <a:ext cx="4800600" cy="2514600"/>
          </a:xfrm>
          <a:prstGeom prst="wedgeEllipseCallout">
            <a:avLst>
              <a:gd name="adj1" fmla="val 66069"/>
              <a:gd name="adj2" fmla="val 6819"/>
            </a:avLst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кщо добуток крайніх членів пропорції  дорівнює добутку середних членів пропорції, то ця пропорція правиль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90520" y="25909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: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c: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887480" y="2023920"/>
            <a:ext cx="1117800" cy="743040"/>
            <a:chOff x="1887480" y="2023920"/>
            <a:chExt cx="1117800" cy="743040"/>
          </a:xfrm>
        </p:grpSpPr>
        <p:grpSp>
          <p:nvGrpSpPr>
            <p:cNvPr id="104" name=""/>
            <p:cNvGrpSpPr/>
            <p:nvPr/>
          </p:nvGrpSpPr>
          <p:grpSpPr>
            <a:xfrm>
              <a:off x="1981080" y="2362320"/>
              <a:ext cx="914400" cy="404640"/>
              <a:chOff x="1981080" y="2362320"/>
              <a:chExt cx="914400" cy="404640"/>
            </a:xfrm>
          </p:grpSpPr>
          <p:sp>
            <p:nvSpPr>
              <p:cNvPr id="105" name=""/>
              <p:cNvSpPr/>
              <p:nvPr/>
            </p:nvSpPr>
            <p:spPr>
              <a:xfrm>
                <a:off x="2895480" y="2362320"/>
                <a:ext cx="0" cy="3808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90800" y="2386080"/>
                <a:ext cx="0" cy="3808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81080" y="2376360"/>
                <a:ext cx="9144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887480" y="2023920"/>
              <a:ext cx="11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Arial"/>
                </a:rPr>
                <a:t>Сред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500120" y="3486240"/>
            <a:ext cx="1928880" cy="720720"/>
            <a:chOff x="1500120" y="3486240"/>
            <a:chExt cx="1928880" cy="720720"/>
          </a:xfrm>
        </p:grpSpPr>
        <p:sp>
          <p:nvSpPr>
            <p:cNvPr id="110" name=""/>
            <p:cNvSpPr/>
            <p:nvPr/>
          </p:nvSpPr>
          <p:spPr>
            <a:xfrm>
              <a:off x="3419640" y="348624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00120" y="351000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04800" y="3871800"/>
              <a:ext cx="1924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14480" y="3838680"/>
              <a:ext cx="11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Arial"/>
                </a:rPr>
                <a:t>Край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15000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25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7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2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7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09640" y="1419120"/>
            <a:ext cx="5667480" cy="34578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c3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38840" y="324000"/>
            <a:ext cx="2743200" cy="2666880"/>
          </a:xfrm>
          <a:prstGeom prst="ellipse">
            <a:avLst/>
          </a:prstGeom>
          <a:gradFill rotWithShape="0">
            <a:gsLst>
              <a:gs pos="0">
                <a:srgbClr val="a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238880" y="5334120"/>
            <a:ext cx="1417680" cy="1044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20166000">
            <a:off x="990720" y="1676520"/>
            <a:ext cx="2971800" cy="4438440"/>
          </a:xfrm>
          <a:prstGeom prst="rtTriangl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7040" y="33336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90520" y="181944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: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c: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990720"/>
            <a:ext cx="4495680" cy="2819160"/>
          </a:xfrm>
          <a:prstGeom prst="wedgeEllipseCallout">
            <a:avLst>
              <a:gd name="adj1" fmla="val 31569"/>
              <a:gd name="adj2" fmla="val 104393"/>
            </a:avLst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Якщо в правильній пропорції поміняти місцями середні члени або крайні члени, то отримаємо нові правильні пропорції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981080" y="685800"/>
            <a:ext cx="1067040" cy="914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214280" y="30718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:</a:t>
            </a: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d: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8195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75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425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925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09640" y="1419120"/>
            <a:ext cx="5667480" cy="34578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c3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38840" y="324000"/>
            <a:ext cx="2743200" cy="2666880"/>
          </a:xfrm>
          <a:prstGeom prst="ellipse">
            <a:avLst/>
          </a:prstGeom>
          <a:gradFill rotWithShape="0">
            <a:gsLst>
              <a:gs pos="0">
                <a:srgbClr val="a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238880" y="5334120"/>
            <a:ext cx="1417680" cy="1044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rot="20166000">
            <a:off x="990720" y="1676520"/>
            <a:ext cx="2971800" cy="4438440"/>
          </a:xfrm>
          <a:prstGeom prst="rtTriangl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7040" y="33336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90520" y="1819440"/>
            <a:ext cx="36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0,5:а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2: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990720"/>
            <a:ext cx="3657600" cy="3733560"/>
          </a:xfrm>
          <a:prstGeom prst="wedgeEllipseCallout">
            <a:avLst>
              <a:gd name="adj1" fmla="val 27342"/>
              <a:gd name="adj2" fmla="val 66583"/>
            </a:avLst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икористовуючи основну властивість пропорції, можно знайти її невідомий член, якщо всі інші члени відомі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981080" y="685800"/>
            <a:ext cx="1067040" cy="914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171440" y="2871720"/>
            <a:ext cx="36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*2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0.5*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4280" y="4114800"/>
            <a:ext cx="35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0.5*13\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57600" y="264780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383364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86040" y="505296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5291280"/>
            <a:ext cx="35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3.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7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9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4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9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4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39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44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22860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  тепер спробуйте відповісти на декілька питань по вивченій темі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2838600" y="2762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Рівність двох відношен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Що таке пропорці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lastslide"/>
          </p:cNvPr>
          <p:cNvSpPr/>
          <p:nvPr/>
        </p:nvSpPr>
        <p:spPr>
          <a:xfrm>
            <a:off x="2847960" y="23385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Формула математи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lastslide"/>
          </p:cNvPr>
          <p:cNvSpPr/>
          <p:nvPr/>
        </p:nvSpPr>
        <p:spPr>
          <a:xfrm>
            <a:off x="2819520" y="31478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. Добуток середних члені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lastslide"/>
          </p:cNvPr>
          <p:cNvSpPr/>
          <p:nvPr/>
        </p:nvSpPr>
        <p:spPr>
          <a:xfrm>
            <a:off x="2819520" y="3562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Рівність виразі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2838600" y="2762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Крайніми член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00240" y="49500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Як називають числа 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 і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в пропорції 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x:a=b:y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lastslide"/>
          </p:cNvPr>
          <p:cNvSpPr/>
          <p:nvPr/>
        </p:nvSpPr>
        <p:spPr>
          <a:xfrm>
            <a:off x="2847960" y="23385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Дільник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lastslide"/>
          </p:cNvPr>
          <p:cNvSpPr/>
          <p:nvPr/>
        </p:nvSpPr>
        <p:spPr>
          <a:xfrm>
            <a:off x="2819520" y="31478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. Середніми члена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lastslide"/>
          </p:cNvPr>
          <p:cNvSpPr/>
          <p:nvPr/>
        </p:nvSpPr>
        <p:spPr>
          <a:xfrm>
            <a:off x="2819520" y="3562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Лінійними кра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7:13:57Z</dcterms:created>
  <dc:creator>MROM</dc:creator>
  <dc:description/>
  <dc:language>en-US</dc:language>
  <cp:lastModifiedBy>User</cp:lastModifiedBy>
  <dcterms:modified xsi:type="dcterms:W3CDTF">2006-12-04T18:47:43Z</dcterms:modified>
  <cp:revision>10</cp:revision>
  <dc:subject/>
  <dc:title>Пропор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04000000000001024140</vt:lpwstr>
  </property>
</Properties>
</file>