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078C-3079-4BC1-90EF-2BB3FC2F7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73A2-0659-4FF7-8432-44B3466DF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EAB0-2279-4FA8-B0E7-4332931CC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8143-7D71-41C9-8A55-32A613F97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A7979-9F64-4205-901D-CBE5B852B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6B9CD-233C-4542-AAF8-0CAB14CF9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31FA1-9096-481C-8184-76ECE234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E79A9-B657-485C-A62C-789BD736E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B66A2-9D57-40CB-A1F0-B8674DE70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FB149-48C3-46D2-9861-672043CB8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EAE4A-415D-455F-A8D3-4019F992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584B-36D6-463B-BA96-DDCE9B654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20569-A260-42F6-9730-1DF6D81C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90990-8E3C-43E1-BE26-F1D85ECC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3F52F-5731-463F-8F58-A62E4D5A8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04A2D-5061-48B8-B608-352DB9E16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EBC46-77AF-4ABD-8269-05D6CF68B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835AC-8121-4D93-BEA0-DBD88EC41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76139-4F88-47EA-8CC0-94FFFB333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A545A-1442-43B5-96C7-692A5CA4B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4C5CB-FAFE-413A-825C-43498E270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5B773-1C03-4335-87DB-CBA51CC87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827D-B49A-4AF1-AD64-DC0D5C9D4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40511-B65E-41E3-B7A4-A07F7097B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336DA-DB8D-45F4-AF4D-99372303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D37E8-88C4-417E-A150-A66537E8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9704C-1B5B-4F97-85B2-DF57A4AA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DEEE2-A660-4AA5-B6FF-099AD23AE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050EE-9384-4881-BEE0-543D654D8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A08CA-37DB-4B91-8BF3-439853854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5FF8A-88E7-493B-9EFE-0B2D3B728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2FE12-BEBB-4974-958C-6FF9712C2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8A24C-C65A-4C22-BA9C-59D5AB0B8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8AA2-4CE8-47B2-BB73-890DD7AD3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C71CA-3F4F-4F10-8962-C1F3ADC9F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55EB9-A7C4-4100-8CC4-683D67EAF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3D004-E61C-4BD5-8BE4-10C14772A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223AF-4B6F-487D-A97A-CD9BAB86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2E297-01EA-4FD2-BC49-BC1682B3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B1773-6A32-490C-93FE-C9E7525D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30927-DF6B-465B-B23C-38A4378A9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6EC86-8F2F-4FB9-9759-07BC3C84D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FCA10-0EC5-426C-984E-EFB8C2262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D7A7C-9BF0-4DEE-BE91-61BAF6631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8CA8-4BF8-410D-9FBE-1BF93BA96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A95BA-7D8B-4337-B2E4-ABDEAC9A9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E84A3-A13A-4CAC-844A-18C6A3746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1D259-B76E-46F6-A3A2-6BEFA5A05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64A13-DE14-4A02-88B6-15EA32328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4252D-B74C-41A6-8AF5-1079EF6C9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27A88-D4A6-431B-9B48-35791625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01728-F181-413E-A75F-7C3AB2AF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DFB01-5471-4496-AC0F-E8D8487C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A8B0C-E978-4A79-960A-78F21B2D6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0A672-2531-4EEB-B204-BE1C8FA62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1EAA-674D-46B7-908C-BC9D0FB49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FABA6-17F0-44D0-8804-F60277322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09FCE-CB1E-4DA8-B15A-FB1DA63C7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54006-F09B-4FAC-8E03-3164E821B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FB0DB-A762-484A-96C7-BB3D0FD52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8BEC1-AF36-42A0-8597-97E917718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53ADC2-60E6-4640-A320-DF7C8072F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413B9-D402-4E06-A939-6A1428F3B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A55B08-6DD6-402F-A471-A40DF886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3A9A3-1892-4E17-BC38-72D49222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C16E6-45AB-479E-947C-E492BA20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1EFE-E9B6-4111-83B4-80B4E2D6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8D750-80A8-4359-96F0-99631ECB7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8C0A12-0078-49E2-BDB0-6695681E1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28633-F244-4697-A60F-3E1664CC9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77696-653A-4391-ABCC-2A07223A5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0849CA-795E-46EE-932A-A3A790760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EAE564-E5C2-4010-B8CC-E96E4B282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13605-201C-4592-81BA-BDEDD1B1B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103D5A-BB6E-46EE-A902-445EE304A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AF5027-A80D-49DA-AAAB-8C4CBF92E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A5DA28-8019-4FDA-ADC4-D500C733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C47F-2660-4937-84C4-22C2C5B6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1FC5A-42A3-45B0-B54B-5ADA61A5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D1F77-513C-4F16-B472-6B24284B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90627-14A3-4DC9-8653-2B92E8ACD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C946A2-1A79-4156-A97E-5D5BF9860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E3C40-9AD7-4B9A-982E-6B1F6C664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0DC3-AF61-48F5-91EF-D0CB7AD7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>
                <a:gd name="textAreaLeft" fmla="*/ 0 w 5544720"/>
                <a:gd name="textAreaRight" fmla="*/ 5545080 w 55447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>
                <a:gd name="textAreaLeft" fmla="*/ 0 w 5468040"/>
                <a:gd name="textAreaRight" fmla="*/ 5468400 w 546804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>
                <a:gd name="textAreaLeft" fmla="*/ 0 w 3308040"/>
                <a:gd name="textAreaRight" fmla="*/ 3308400 w 3308040"/>
                <a:gd name="textAreaTop" fmla="*/ 0 h 651960"/>
                <a:gd name="textAreaBottom" fmla="*/ 652320 h 65196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D9E3F-AC19-46CF-995C-878A13CA321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0320"/>
                <a:gd name="textAreaBottom" fmla="*/ 850680 h 85032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4360"/>
                <a:gd name="textAreaBottom" fmla="*/ 774720 h 7743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1600"/>
                <a:gd name="textAreaBottom" fmla="*/ 651600 h 65160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502C8-D1B1-499B-83B8-141DE4D5902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>
              <a:gd name="textAreaLeft" fmla="*/ 0 w 2876400"/>
              <a:gd name="textAreaRight" fmla="*/ 2876760 w 287640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>
              <a:gd name="textAreaLeft" fmla="*/ 0 w 5545080"/>
              <a:gd name="textAreaRight" fmla="*/ 5545440 w 554508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>
              <a:gd name="textAreaLeft" fmla="*/ 0 w 5467320"/>
              <a:gd name="textAreaRight" fmla="*/ 5467680 w 546732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>
              <a:gd name="textAreaLeft" fmla="*/ 0 w 3306600"/>
              <a:gd name="textAreaRight" fmla="*/ 3306960 w 3306600"/>
              <a:gd name="textAreaTop" fmla="*/ 0 h 652680"/>
              <a:gd name="textAreaBottom" fmla="*/ 653040 h 652680"/>
            </a:gdLst>
            <a:ahLst/>
            <a:rect l="textAreaLeft" t="textAreaTop" r="textAreaRight" b="textAreaBottom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>
              <a:gd name="textAreaLeft" fmla="*/ 0 w 8723520"/>
              <a:gd name="textAreaRight" fmla="*/ 8723880 w 8723520"/>
              <a:gd name="textAreaTop" fmla="*/ 0 h 1328760"/>
              <a:gd name="textAreaBottom" fmla="*/ 1329120 h 1328760"/>
            </a:gdLst>
            <a:ahLst/>
            <a:rect l="textAreaLeft" t="textAreaTop" r="textAreaRight" b="textAreaBottom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AB3D7-DAAA-4FDC-A5AF-FA8E012C696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>
                <a:gd name="textAreaLeft" fmla="*/ 0 w 5544720"/>
                <a:gd name="textAreaRight" fmla="*/ 5545080 w 55447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>
                <a:gd name="textAreaLeft" fmla="*/ 0 w 5468040"/>
                <a:gd name="textAreaRight" fmla="*/ 5468400 w 546804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>
                <a:gd name="textAreaLeft" fmla="*/ 0 w 3308040"/>
                <a:gd name="textAreaRight" fmla="*/ 3308400 w 3308040"/>
                <a:gd name="textAreaTop" fmla="*/ 0 h 651960"/>
                <a:gd name="textAreaBottom" fmla="*/ 652320 h 65196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52A2B-7E15-4E1A-9145-ED5CF0BFBFB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5320"/>
                <a:gd name="textAreaBottom" fmla="*/ 715680 h 7153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1400"/>
                <a:gd name="textAreaBottom" fmla="*/ 851760 h 8514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5440"/>
                <a:gd name="textAreaBottom" fmla="*/ 775800 h 77544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97647-1821-4107-8EBB-BFD9E07A0F0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0320"/>
                <a:gd name="textAreaBottom" fmla="*/ 850680 h 85032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4360"/>
                <a:gd name="textAreaBottom" fmla="*/ 774720 h 7743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1600"/>
                <a:gd name="textAreaBottom" fmla="*/ 651600 h 65160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3F590-641C-409D-93A3-F64B5888575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5320"/>
                <a:gd name="textAreaBottom" fmla="*/ 715680 h 7153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1400"/>
                <a:gd name="textAreaBottom" fmla="*/ 851760 h 8514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5440"/>
                <a:gd name="textAreaBottom" fmla="*/ 775800 h 77544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FD18A-2A59-498A-9286-C1F3F038FE6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Candara"/>
              </a:rPr>
              <a:t>Тема уроку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Candara"/>
              </a:rPr>
              <a:t>Квадратична функція. Квадратна нерівність.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73e87"/>
                </a:solidFill>
                <a:latin typeface="Candara"/>
              </a:rPr>
              <a:t>Живімо з алгеброю в злагоді і мирі!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73e87"/>
                </a:solidFill>
                <a:latin typeface="Candara"/>
              </a:rPr>
              <a:t>Нехай кмітливість вам допомагає,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73e87"/>
                </a:solidFill>
                <a:latin typeface="Candara"/>
              </a:rPr>
              <a:t>Алгебраїчні таємниці кожен з вас пізнає!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Candara"/>
              </a:rPr>
              <a:t>Завершення подорожі.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73e87"/>
                </a:solidFill>
                <a:latin typeface="Candara"/>
              </a:rPr>
              <a:t>Недостатньо лише мати добрий розум, головне раціонально його використовувати.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r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73e87"/>
                </a:solidFill>
                <a:latin typeface="Candara"/>
              </a:rPr>
              <a:t>Рене Декарт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Candara"/>
              </a:rPr>
              <a:t>Девіз уроку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Объект 1" descr=""/>
          <p:cNvPicPr/>
          <p:nvPr/>
        </p:nvPicPr>
        <p:blipFill>
          <a:blip r:embed="rId1"/>
          <a:stretch/>
        </p:blipFill>
        <p:spPr>
          <a:xfrm>
            <a:off x="774720" y="2603520"/>
            <a:ext cx="7510320" cy="352908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Candara"/>
              </a:rPr>
              <a:t>Завдання митного контролю.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8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073e87"/>
                </a:solidFill>
                <a:latin typeface="Candara"/>
              </a:rPr>
              <a:t>«Квадратична функція»</a:t>
            </a:r>
            <a:endParaRPr b="0" lang="en-US" sz="7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Candara"/>
              </a:rPr>
              <a:t>Перша зупинк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Объект 1" descr=""/>
          <p:cNvPicPr/>
          <p:nvPr/>
        </p:nvPicPr>
        <p:blipFill>
          <a:blip r:embed="rId1"/>
          <a:stretch/>
        </p:blipFill>
        <p:spPr>
          <a:xfrm>
            <a:off x="774720" y="2603520"/>
            <a:ext cx="7510320" cy="352908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Candara"/>
              </a:rPr>
              <a:t>Друга зупинка.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Объект 1" descr=""/>
          <p:cNvPicPr/>
          <p:nvPr/>
        </p:nvPicPr>
        <p:blipFill>
          <a:blip r:embed="rId1"/>
          <a:stretch/>
        </p:blipFill>
        <p:spPr>
          <a:xfrm>
            <a:off x="774720" y="2603520"/>
            <a:ext cx="7510320" cy="352908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Candara"/>
              </a:rPr>
              <a:t>Третя зупинка.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24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600" spc="-1" strike="noStrike">
                <a:solidFill>
                  <a:srgbClr val="073e87"/>
                </a:solidFill>
                <a:latin typeface="Candara"/>
              </a:rPr>
              <a:t>«Лото»</a:t>
            </a:r>
            <a:endParaRPr b="0" lang="en-US" sz="9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Candara"/>
              </a:rPr>
              <a:t>Четверта зупинк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Объект 1" descr=""/>
          <p:cNvPicPr/>
          <p:nvPr/>
        </p:nvPicPr>
        <p:blipFill>
          <a:blip r:embed="rId1"/>
          <a:stretch/>
        </p:blipFill>
        <p:spPr>
          <a:xfrm>
            <a:off x="774720" y="2603520"/>
            <a:ext cx="7510320" cy="352908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Candara"/>
              </a:rPr>
              <a:t>Заключне завданн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73e87"/>
                </a:solidFill>
                <a:latin typeface="Candara"/>
              </a:rPr>
              <a:t>С. 147 – 148, № 1 – 10.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Candara"/>
              </a:rPr>
              <a:t>Домашнє завданн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2-07T08:43:26Z</dcterms:modified>
  <cp:revision>4</cp:revision>
  <dc:subject/>
  <dc:title>Квадратична функція. Квадратні нерівності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214000000000001024140</vt:lpwstr>
  </property>
</Properties>
</file>