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6EE-F754-4F6B-AEFC-C5EE4DAE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CC3-291B-4BC6-9020-A1C0CAD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B90-3B82-45BD-9D0F-3A02920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494-FEE6-4013-BFD0-C33980BF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8BC5-C21D-4852-8F8C-0053809C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480-2EBD-49C8-BA15-44B57C0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884-1647-4A01-828D-31CBF713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E38-2CF8-44CA-A5F7-47540D58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D9FD-E110-4BC1-9DD6-E3CDFBF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57E3-3746-4D80-8F67-02F6FFC1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698-D9E7-468C-A977-BBAA565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D15-7FA3-4FD7-9EDD-642A5BD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31B-6161-4AA8-875E-CCE6598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6B0E-D894-4948-848A-86DE2332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116C-7E24-4E57-8EA3-78419BBE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F2D8-17A9-4EA0-A0A6-844EEC24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0035-0CF5-41CF-8D70-A3F138C2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64D3-677B-4E20-BA8C-3CE7C830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BA46-B0DE-45B8-A6AB-30D4050B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03D7-915C-441F-B692-B549526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2576-5DE7-4FDE-A830-E1A303F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DF8F-F471-4076-9A05-CF8DBA7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8CF-0E07-4D97-A9D7-BAB79E1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88E4-9949-4777-9E34-99D79E7A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715B-7853-4017-8456-279D4AE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30EB-6D1B-4622-80E6-CB95BD9E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0B25-13D6-43D9-BE99-6FDF77E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4615-6277-46F7-AECD-1A9B479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E83F-89BB-4122-86DE-61F3B4FA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1964-66FC-4DCB-9EB3-6BE4F47C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ECA2-E796-4176-9A53-C484660B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2F9F-305B-4A51-9911-4F6AFA0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852E-F6BC-4076-820D-9078559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97C-6695-42DD-8439-37B741E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DFA9-80BC-49A5-84FF-D05A9D1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72EE-13C6-4B85-A137-D0A6C9FB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8A77-19D1-4C21-B36E-9093D680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90DF-DCF8-4390-9E7C-C5B544E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22A4E-8BBA-430C-A18A-AF27635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8674-7345-4EFD-9235-E2FD9D4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3491-4BC6-45EC-ADCE-F4FD9E6A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6EADD-63DF-4EBE-A46C-9209C871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7239-1DE2-43D0-8A33-C0FA27BE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C1E0-0C06-489C-898C-2FA5D5A7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FD0-341E-42B3-B90C-ED54A278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9219-CE9C-4858-B62B-6AFC258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C916B-866C-41FB-91CA-90828029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FFBA-6C60-467A-A66C-A4C8F2AF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CDBF-7149-4B95-B0C3-A8E1BB84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133E-760A-4794-A4B2-3892E9E3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86D3-B7B7-4CDE-815F-ADD108D4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9E77-2948-46AE-BBE9-BDACE80D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F29C-E32E-4695-AC86-88C1DEE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D3F17-95FF-42A5-A19B-BB63A2A8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25D61-FC46-438A-BD26-6436ED82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F39-9D13-4DAC-9088-49C32459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682D8-F7D3-4F43-A82F-4BC4E527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237D4-1BE3-4697-A6FF-5EFC6D73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8CE2-64ED-413F-B1C3-FDADC641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0273-9559-4135-A8A3-DDB86249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4DDD-F40E-4082-BE01-065F77B7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CD8DC-4650-444C-B216-C6C803DA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49082-23E6-45AD-BC8F-907C44A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EFF11-521A-4D00-A91C-81EF737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56CD-1753-422E-B21E-E3FF210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8D99-36A4-4168-BC52-8AD12A6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AE6-56DB-45B1-A603-BED2BF62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C492-CA9B-4E43-8FD4-BE4DAC3D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EA7C7-EA47-45F6-8562-87C2781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7E31-D6D9-4573-A7AE-3572DDEC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A0C2-F1C2-42FD-ADEA-63508D84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902C-C2D0-4677-AF1D-8996651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A3D3E-5054-47B0-8BE3-E509B3CB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DD95-9DA0-4F45-9BEA-F81DFD9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CDF4-1A8A-4F36-B30A-40A17ADF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292F7-B4C7-477C-BFFF-F5317486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4BA99-3FA5-4847-8CC5-41BF6BBF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839-D205-4805-B00C-23AC8B1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63CD-D397-4394-BC80-46FD324C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E62A6-522D-472E-8BB7-21FF55A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30E7-5117-4604-A6BF-9696BED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7D31F-14E7-4405-A366-8FE28808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69EE-EF14-4645-9639-77726AFE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CF9-2AAA-4601-9AA5-32B8584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1751-0600-477E-BCEF-42B375E556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288A-6DFF-46DE-A528-22ED0DB2CE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165D-D6CE-4232-A232-5D81FC34B3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9777-F0E7-442A-85BD-3EA972A0A3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202-EFFF-4372-89CD-FAECF9BE68E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3FD5-4E4F-4154-AA5A-22837433EE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7CF5-E967-47C3-93F1-7E0452F606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Тема уро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Квадратична функція. Квадратна нерівність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Живімо з алгеброю в злагоді і мирі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Нехай кмітливість вам допомагає,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73e87"/>
                </a:solidFill>
                <a:latin typeface="Candara"/>
              </a:rPr>
              <a:t>Алгебраїчні таємниці кожен з вас пізнає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вершення подорожі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73e87"/>
                </a:solidFill>
                <a:latin typeface="Candara"/>
              </a:rPr>
              <a:t>Недостатньо лише мати добрий розум, головне раціонально його використовувати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не Декар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евіз уроку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вдання митного контролю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73e87"/>
                </a:solidFill>
                <a:latin typeface="Candara"/>
              </a:rPr>
              <a:t>«Квадратична функція»</a:t>
            </a: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ш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руга зупин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Третя зупин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73e87"/>
                </a:solidFill>
                <a:latin typeface="Candara"/>
              </a:rPr>
              <a:t>«Лото»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Четверт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Объект 1" descr=""/>
          <p:cNvPicPr/>
          <p:nvPr/>
        </p:nvPicPr>
        <p:blipFill>
          <a:blip r:embed="rId1"/>
          <a:stretch/>
        </p:blipFill>
        <p:spPr>
          <a:xfrm>
            <a:off x="774720" y="2603520"/>
            <a:ext cx="7510320" cy="35290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Заключне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73e87"/>
                </a:solidFill>
                <a:latin typeface="Candara"/>
              </a:rPr>
              <a:t>С. 147 – 148, № 1 – 10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07T08:43:26Z</dcterms:modified>
  <cp:revision>4</cp:revision>
  <dc:subject/>
  <dc:title>Квадратична функція. Квадратні нерівност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4000000000001024140</vt:lpwstr>
  </property>
</Properties>
</file>