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3E4-1946-4714-8DB9-1DBA2AF9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CC2-5F2A-46CC-9074-2828DBE5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8DC-7197-48FB-B225-19029F91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D55-9262-4DCF-81A0-AFC3DE70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3AD0-9EC9-4612-9CBA-CFDEEC86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5DA8-F76A-415F-843F-9100C514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C894-BB5A-4135-8A09-5FCF64EE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C4A7-E942-41A9-BF5C-F9235AC9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BE95-4DD1-4E74-8758-24389D93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E798-0672-45B2-8C14-A6896910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6E61-9A06-40F2-8249-664F5CED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F64-1F24-4C61-BC00-D2231AC9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96C4-C4B2-4476-8BA6-695A33C8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1145-BC65-4896-B139-51B20981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5A4C-78EB-4BC1-94DC-08E57D7A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F6A8-F2F2-41A5-94FF-E24999FA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1BBE-1598-41BE-AA3A-F84F1C87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6E28D-F15F-4FDF-ADE2-EB98139F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86B20-CC11-4DC2-8405-8202C91A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4C1F-88FF-4605-9E6D-EE72A026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0A7E0-8FD1-4610-9CF7-66F5F9E7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F8672-0C04-4001-A4C7-80B3812A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C42-FB9A-490E-92B9-5AAC3A4D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FC799-A35C-4681-A76C-6962FAC8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9A11D-1966-4B20-954C-BE378691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4393-B8CC-456B-9464-8FDAE55A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ACD9-FD85-495E-BEDA-ABF0D74A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AB522-0EB4-4815-B057-8EBF23DA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B1AF-73AE-4DAE-B798-2FADC469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2B9F-A527-4F4E-BF0D-1F4FE497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B891E-C3AD-459B-9DE7-24419EE1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CECE3-D8A7-49F3-9A94-055AFF87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115F1-964D-4ED9-ABE1-41FF0B84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C68-13DD-4300-AF93-1CD17A5C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ECF75-2358-4800-B578-4E52B7AA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E66E4-9A59-481E-AD74-699F2B75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738DF-AA3E-4257-B3E8-B96E908C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D3C95-2D41-4136-B71D-42C52030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BAA17-5EC2-40C5-AE00-A8E7108D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DA015-F6F3-4867-9578-154FB2D9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35848-F076-461F-A384-C3D8B638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E1C31-F120-431A-85FE-1099AEC0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82504-28C7-4E01-8D6C-500ED71C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71A68-E7E9-48E5-A844-22BF6444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C68-50C6-4477-9819-ED659327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D2CCC-2CD3-421A-B1C6-45ED7892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DC5D7-6399-46A0-8E56-ECC7E6E4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CA63D-A71C-4C15-8D7C-EA1711DA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68C6E-F483-4735-B2C6-31B38762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17AB7-C430-49EB-A694-FA208D97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8A48C-ED4A-431D-8983-041CC665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E010E-1B23-45F6-AE0B-F77792E0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8FB5D-D1A9-4AD7-B6A7-2E8979F3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A7E19-0450-4D1F-A15A-885F48FE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E2878-96D0-44B4-90F8-FF2B60D3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B3F-B8DE-4830-9740-FECF0944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55FDC-87C4-48CC-A3A4-406BE72C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A0833-C467-45BD-BDE4-3DDC42B5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3A481-5ABC-44E1-82C5-024BDE6A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2F69D-1F4B-46C5-9C97-92564DB5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6B3E5-1D74-4F06-892F-022D5EA2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BAE9B-7DBE-4345-AD06-13F70DC8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ACBAA-783F-4EDC-B7D4-19756DFD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5C197-7838-44B2-971D-BDC93DB0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C3EAC-5914-4C1D-8B51-7C224824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83CCC-1A0B-42FA-836F-F60518C8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84F-07DA-4C8B-9C43-32EE9175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A721D-3C7B-41D1-8A6E-BD15C258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2F0D6-3BD9-4D1E-86F4-E4459699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986C3-611D-4921-BCDC-8273CBD9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BE382-A0DC-4109-98D3-23053E2B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497AF-3E18-4777-873D-E0CF2377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1C435-37C8-44D6-B7E7-04BDAF8F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6A0D5-A60B-4B51-BCF1-F2F03C13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E599D-1FB5-4DC6-843C-4E82A4DE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26898-7B4F-4802-9AC1-E767ED78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16578-E5DC-4AC4-9802-98EAB7CF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032-FD7F-4AAC-9643-699D7F5B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C0A0C-B618-4552-8858-469CC882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A6498-FD1B-4033-A907-9FE4BCB8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0740E-14F4-44B0-8425-C8112666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E7AE3-2AFE-41BF-877B-BFF798C2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47FC5-BB14-4C9B-8013-6FBB1622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09E-1577-42AC-BBAE-56187078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ED8B-9835-4600-AB8F-52354A66554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9DEF-DFA8-466C-9D39-97BADFF5E66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9EC4-3245-427A-9E25-511D298D9E8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B7B9-8045-4F1F-A9A2-8B9F9EB7E30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2EE3-8D52-4B06-9FBA-AD11BA2333A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C47C-9775-4C2A-8207-63795240230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6257-9D9D-4543-A57E-D52392ED47F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Тема урок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Квадратична функція. Квадратна нерівність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73e87"/>
                </a:solidFill>
                <a:latin typeface="Candara"/>
              </a:rPr>
              <a:t>Живімо з алгеброю в злагоді і мирі!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73e87"/>
                </a:solidFill>
                <a:latin typeface="Candara"/>
              </a:rPr>
              <a:t>Нехай кмітливість вам допомагає,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73e87"/>
                </a:solidFill>
                <a:latin typeface="Candara"/>
              </a:rPr>
              <a:t>Алгебраїчні таємниці кожен з вас пізнає!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Завершення подорожі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73e87"/>
                </a:solidFill>
                <a:latin typeface="Candara"/>
              </a:rPr>
              <a:t>Недостатньо лише мати добрий розум, головне раціонально його використовувати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Рене Декар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Девіз уроку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Объект 1" descr=""/>
          <p:cNvPicPr/>
          <p:nvPr/>
        </p:nvPicPr>
        <p:blipFill>
          <a:blip r:embed="rId1"/>
          <a:stretch/>
        </p:blipFill>
        <p:spPr>
          <a:xfrm>
            <a:off x="774720" y="2603520"/>
            <a:ext cx="7510320" cy="35290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Завдання митного контролю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73e87"/>
                </a:solidFill>
                <a:latin typeface="Candara"/>
              </a:rPr>
              <a:t>«Квадратична функція»</a:t>
            </a:r>
            <a:endParaRPr b="0" lang="en-US" sz="7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Перша зупин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Объект 1" descr=""/>
          <p:cNvPicPr/>
          <p:nvPr/>
        </p:nvPicPr>
        <p:blipFill>
          <a:blip r:embed="rId1"/>
          <a:stretch/>
        </p:blipFill>
        <p:spPr>
          <a:xfrm>
            <a:off x="774720" y="2603520"/>
            <a:ext cx="7510320" cy="35290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Друга зупинк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Объект 1" descr=""/>
          <p:cNvPicPr/>
          <p:nvPr/>
        </p:nvPicPr>
        <p:blipFill>
          <a:blip r:embed="rId1"/>
          <a:stretch/>
        </p:blipFill>
        <p:spPr>
          <a:xfrm>
            <a:off x="774720" y="2603520"/>
            <a:ext cx="7510320" cy="35290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Третя зупинк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4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73e87"/>
                </a:solidFill>
                <a:latin typeface="Candara"/>
              </a:rPr>
              <a:t>«Лото»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Четверта зупин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Объект 1" descr=""/>
          <p:cNvPicPr/>
          <p:nvPr/>
        </p:nvPicPr>
        <p:blipFill>
          <a:blip r:embed="rId1"/>
          <a:stretch/>
        </p:blipFill>
        <p:spPr>
          <a:xfrm>
            <a:off x="774720" y="2603520"/>
            <a:ext cx="7510320" cy="35290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Заключне завданн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73e87"/>
                </a:solidFill>
                <a:latin typeface="Candara"/>
              </a:rPr>
              <a:t>С. 147 – 148, № 1 – 10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07T08:43:26Z</dcterms:modified>
  <cp:revision>4</cp:revision>
  <dc:subject/>
  <dc:title>Квадратична функція. Квадратні нерівності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14000000000001024140</vt:lpwstr>
  </property>
</Properties>
</file>