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3.png" ContentType="image/png"/>
  <Override PartName="/ppt/media/image2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.png" ContentType="image/png"/>
  <Override PartName="/ppt/media/image32.png" ContentType="image/png"/>
  <Override PartName="/ppt/media/image15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30.jpeg" ContentType="image/jpeg"/>
  <Override PartName="/ppt/media/image33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1.png" ContentType="image/png"/>
  <Override PartName="/ppt/media/image24.png" ContentType="image/png"/>
  <Override PartName="/ppt/media/image12.wmf" ContentType="image/x-wmf"/>
  <Override PartName="/ppt/media/image16.gif" ContentType="image/gif"/>
  <Override PartName="/ppt/media/image19.png" ContentType="image/png"/>
  <Override PartName="/ppt/media/image21.png" ContentType="image/pn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BAD-D04D-47C7-9C54-1EF66ECB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E1E-7F75-4C2B-8B76-4F94A90F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B38-C286-4FF3-9A93-68F732F8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A0C-38DF-4AE9-A1AF-1AC07862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354-1BCB-44AA-8D42-F834F6D0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1B1-7B55-4B7B-8393-2EDAAC4A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24B-9B9B-476A-9225-A5FFBBB3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F99-4376-4DB2-BEC6-82BBE07D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5D0-BAC8-463B-9B7B-B8F13609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2EB-0E2C-40EB-A072-696E01F5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B83-2BF4-421D-9FC2-8E77FE0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33A-8F33-48A1-BE35-EC8A8E54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BD9E-76CA-4B5E-A2E8-0B66B9C15B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gif"/><Relationship Id="rId10" Type="http://schemas.openxmlformats.org/officeDocument/2006/relationships/image" Target="../media/image17.wm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692360" y="90792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змагання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Я    з м о ж у"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684360" y="4581360"/>
            <a:ext cx="770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: "Всі дії з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вичайними дробами"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348000" y="2395440"/>
            <a:ext cx="194472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кнопочка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76aee9fd656"/>
          <p:cNvPicPr/>
          <p:nvPr/>
        </p:nvPicPr>
        <p:blipFill>
          <a:blip r:embed="rId4"/>
          <a:srcRect l="0" t="0" r="48517" b="118"/>
          <a:stretch/>
        </p:blipFill>
        <p:spPr>
          <a:xfrm>
            <a:off x="4356000" y="11592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663640" cy="443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3203640" y="1989000"/>
            <a:ext cx="3024000" cy="309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6227640" y="2133720"/>
            <a:ext cx="2351160" cy="36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3780000" y="5084640"/>
            <a:ext cx="1223640" cy="108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MG_2402"/>
          <p:cNvPicPr/>
          <p:nvPr/>
        </p:nvPicPr>
        <p:blipFill>
          <a:blip r:embed="rId6"/>
          <a:srcRect l="0" t="0" r="0" b="-225"/>
          <a:stretch/>
        </p:blipFill>
        <p:spPr>
          <a:xfrm>
            <a:off x="468360" y="549360"/>
            <a:ext cx="1512720" cy="75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IMG_2403"/>
          <p:cNvPicPr/>
          <p:nvPr/>
        </p:nvPicPr>
        <p:blipFill>
          <a:blip r:embed="rId7"/>
          <a:srcRect l="0" t="0" r="45" b="48"/>
          <a:stretch/>
        </p:blipFill>
        <p:spPr>
          <a:xfrm>
            <a:off x="7020000" y="620640"/>
            <a:ext cx="1511280" cy="69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IMG_2401"/>
          <p:cNvPicPr/>
          <p:nvPr/>
        </p:nvPicPr>
        <p:blipFill>
          <a:blip r:embed="rId8"/>
          <a:srcRect l="0" t="0" r="0" b="72"/>
          <a:stretch/>
        </p:blipFill>
        <p:spPr>
          <a:xfrm>
            <a:off x="3348000" y="907920"/>
            <a:ext cx="2232000" cy="141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кнопочка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e76aee9fd656"/>
          <p:cNvPicPr/>
          <p:nvPr/>
        </p:nvPicPr>
        <p:blipFill>
          <a:blip r:embed="rId10"/>
          <a:srcRect l="0" t="0" r="48517" b="118"/>
          <a:stretch/>
        </p:blipFill>
        <p:spPr>
          <a:xfrm>
            <a:off x="4284720" y="0"/>
            <a:ext cx="43164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457200" y="981000"/>
            <a:ext cx="8229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99000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11280" y="1989000"/>
            <a:ext cx="5832360" cy="36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Математику  краї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Ми ніколи не покин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Всі задачі,  теореми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Будем вчити без пробле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 найбільше до вподо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Нам усім звичайні дроб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877080" y="765000"/>
            <a:ext cx="1584360" cy="140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кнопочка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e76aee9fd656"/>
          <p:cNvPicPr/>
          <p:nvPr/>
        </p:nvPicPr>
        <p:blipFill>
          <a:blip r:embed="rId4"/>
          <a:srcRect l="0" t="0" r="48517" b="118"/>
          <a:stretch/>
        </p:blipFill>
        <p:spPr>
          <a:xfrm>
            <a:off x="4356000" y="115920"/>
            <a:ext cx="43200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20df76943c2a"/>
          <p:cNvPicPr/>
          <p:nvPr/>
        </p:nvPicPr>
        <p:blipFill>
          <a:blip r:embed="rId5"/>
          <a:srcRect l="0" t="0" r="167" b="0"/>
          <a:stretch/>
        </p:blipFill>
        <p:spPr>
          <a:xfrm rot="19021200">
            <a:off x="179280" y="1628280"/>
            <a:ext cx="1008000" cy="785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4454-b"/>
          <p:cNvPicPr/>
          <p:nvPr/>
        </p:nvPicPr>
        <p:blipFill>
          <a:blip r:embed="rId6"/>
          <a:stretch/>
        </p:blipFill>
        <p:spPr>
          <a:xfrm>
            <a:off x="6516720" y="4222800"/>
            <a:ext cx="1950840" cy="193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Calibri"/>
              </a:rPr>
              <a:t>Спортивно-математична вікто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402680" cy="352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в житті необхідні знання про дроби - підніміть вгору ру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вам необхідно в житті розв'язувати різні задачі та рівняння - кліпніть очи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урок математики розвиває логіку вашого мислення, то покрутіть головою вправо і влі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хороша дисципліна на уроці - запорука вашого успіху та знань, то зі жміть і розіжміть пальці ваших ру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на вашу думку, ви дисципліновані і уважні на уроці - сплесніть у долоні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, щоб бути здоровими, потрібно займатися спортом, то зробіть вдих і види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e76aee9fd656"/>
          <p:cNvPicPr/>
          <p:nvPr/>
        </p:nvPicPr>
        <p:blipFill>
          <a:blip r:embed="rId2"/>
          <a:srcRect l="0" t="0" r="48517" b="118"/>
          <a:stretch/>
        </p:blipFill>
        <p:spPr>
          <a:xfrm>
            <a:off x="4356000" y="115920"/>
            <a:ext cx="432000" cy="57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3"/>
          <a:stretch/>
        </p:blipFill>
        <p:spPr>
          <a:xfrm>
            <a:off x="6804000" y="4768920"/>
            <a:ext cx="1800360" cy="143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990000"/>
                </a:solidFill>
                <a:latin typeface="Times New Roman"/>
              </a:rPr>
              <a:t>Домашнє завдання</a:t>
            </a:r>
            <a:r>
              <a:rPr b="1" lang="uk-UA" sz="44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211880" cy="129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вторити:  § § 1-3  пп. 1-1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озв’язати: № 547, 550 стор. 9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6" descr="e76aee9fd656"/>
          <p:cNvPicPr/>
          <p:nvPr/>
        </p:nvPicPr>
        <p:blipFill>
          <a:blip r:embed="rId2"/>
          <a:srcRect l="0" t="0" r="48517" b="118"/>
          <a:stretch/>
        </p:blipFill>
        <p:spPr>
          <a:xfrm>
            <a:off x="4284720" y="115920"/>
            <a:ext cx="43164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12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mathematics1"/>
          <p:cNvPicPr/>
          <p:nvPr/>
        </p:nvPicPr>
        <p:blipFill>
          <a:blip r:embed="rId4"/>
          <a:stretch/>
        </p:blipFill>
        <p:spPr>
          <a:xfrm>
            <a:off x="5796000" y="4149720"/>
            <a:ext cx="2523960" cy="1989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20df76943c2a"/>
          <p:cNvPicPr/>
          <p:nvPr/>
        </p:nvPicPr>
        <p:blipFill>
          <a:blip r:embed="rId5"/>
          <a:srcRect l="0" t="0" r="167" b="0"/>
          <a:stretch/>
        </p:blipFill>
        <p:spPr>
          <a:xfrm rot="19021200">
            <a:off x="324000" y="1988640"/>
            <a:ext cx="1008000" cy="785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755640" y="907920"/>
            <a:ext cx="119052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:</a:t>
            </a:r>
            <a:endParaRPr b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900000" y="908280"/>
            <a:ext cx="702648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загальнити  і  систематизувати уміння і навички учнів розв'язування  вправ  на  всі дії з звичайними  дробами; розвивати  інтелектуальні  і творчі  здібності  учнів,  логічне  та абстрактне мислення, інтерес до математики та історії рідного краю, школи; виховувати любов та повагу до людей праці.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771640" y="2492280"/>
            <a:ext cx="5832720" cy="34448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Урок проводиться у вигляді змаганн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лас поділено на три команди за списком в журналі</a:t>
            </a:r>
            <a:r>
              <a:rPr b="1" lang="uk-UA" sz="1600" spc="-1" strike="noStrike">
                <a:solidFill>
                  <a:srgbClr val="ffff66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І команда 1-8 учні,</a:t>
            </a:r>
            <a:r>
              <a:rPr b="1" lang="uk-UA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uk-UA" sz="1400" spc="-1" strike="noStrike">
                <a:solidFill>
                  <a:srgbClr val="0000cc"/>
                </a:solidFill>
                <a:latin typeface="Times New Roman"/>
              </a:rPr>
              <a:t>2 команда 9-16 учні,</a:t>
            </a:r>
            <a:r>
              <a:rPr b="1" lang="uk-UA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uk-UA" sz="1400" spc="-1" strike="noStrike">
                <a:solidFill>
                  <a:srgbClr val="00ff00"/>
                </a:solidFill>
                <a:latin typeface="Times New Roman"/>
              </a:rPr>
              <a:t>3 команда 17-23 учні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І –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Д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2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3 – </a:t>
            </a:r>
            <a:r>
              <a:rPr b="1" lang="uk-UA" sz="1800" spc="-1" strike="noStrike">
                <a:solidFill>
                  <a:srgbClr val="00ff00"/>
                </a:solidFill>
                <a:latin typeface="Times New Roman"/>
              </a:rPr>
              <a:t>Л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І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2 – </a:t>
            </a:r>
            <a:r>
              <a:rPr b="1" lang="uk-UA" sz="1800" spc="-1" strike="noStrike">
                <a:solidFill>
                  <a:srgbClr val="00ff00"/>
                </a:solidFill>
                <a:latin typeface="Times New Roman"/>
              </a:rPr>
              <a:t>Л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3 –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Д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І – </a:t>
            </a:r>
            <a:r>
              <a:rPr b="1" lang="uk-UA" sz="1800" spc="-1" strike="noStrike">
                <a:solidFill>
                  <a:srgbClr val="00ff00"/>
                </a:solidFill>
                <a:latin typeface="Times New Roman"/>
              </a:rPr>
              <a:t>Л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2 –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Д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3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ff0000"/>
                </a:solidFill>
                <a:uFillTx/>
                <a:latin typeface="Times New Roman"/>
              </a:rPr>
              <a:t>Мета змагання - </a:t>
            </a:r>
            <a:r>
              <a:rPr b="1" lang="ru-RU" sz="1600" spc="-1" strike="noStrike">
                <a:solidFill>
                  <a:srgbClr val="0066ff"/>
                </a:solidFill>
                <a:latin typeface="Calibri"/>
              </a:rPr>
              <a:t>розв’язати завдання трьох етапів уро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Комп’ютерне тестуван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buClr>
                <a:srgbClr val="99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Times New Roman"/>
              </a:rPr>
              <a:t>Завдання на листочк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Інтелектуальне завдання на дошці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1513080" cy="134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e76aee9fd656"/>
          <p:cNvPicPr/>
          <p:nvPr/>
        </p:nvPicPr>
        <p:blipFill>
          <a:blip r:embed="rId3"/>
          <a:srcRect l="51727" t="0" r="-3169" b="12817"/>
          <a:stretch/>
        </p:blipFill>
        <p:spPr>
          <a:xfrm>
            <a:off x="2700360" y="249228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4356000" y="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cc"/>
                </a:solidFill>
                <a:latin typeface="Times New Roman"/>
              </a:rPr>
              <a:t>Епіграф</a:t>
            </a:r>
            <a:r>
              <a:rPr b="1" i="1" lang="uk-UA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uk-UA" sz="5400" spc="-1" strike="noStrike">
                <a:solidFill>
                  <a:srgbClr val="0000cc"/>
                </a:solidFill>
                <a:latin typeface="Times New Roman"/>
              </a:rPr>
              <a:t>урок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rcRect l="0" t="0" r="47" b="0"/>
          <a:stretch/>
        </p:blipFill>
        <p:spPr>
          <a:xfrm>
            <a:off x="539640" y="2565360"/>
            <a:ext cx="2884680" cy="352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79640" y="2565360"/>
            <a:ext cx="471636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Не достатньо мати лише добрий розум, головне – це добре застосовувати й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uk-UA" sz="2400" spc="-1" strike="noStrike">
                <a:solidFill>
                  <a:srgbClr val="0000cc"/>
                </a:solidFill>
                <a:latin typeface="Times New Roman"/>
              </a:rPr>
              <a:t>Р. Дека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кнопочка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e76aee9fd656"/>
          <p:cNvPicPr/>
          <p:nvPr/>
        </p:nvPicPr>
        <p:blipFill>
          <a:blip r:embed="rId4"/>
          <a:srcRect l="0" t="0" r="79" b="-24867"/>
          <a:stretch/>
        </p:blipFill>
        <p:spPr>
          <a:xfrm>
            <a:off x="1692360" y="62064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e76aee9fd656"/>
          <p:cNvPicPr/>
          <p:nvPr/>
        </p:nvPicPr>
        <p:blipFill>
          <a:blip r:embed="rId5"/>
          <a:srcRect l="51727" t="0" r="-3169" b="12817"/>
          <a:stretch/>
        </p:blipFill>
        <p:spPr>
          <a:xfrm>
            <a:off x="3564000" y="2205000"/>
            <a:ext cx="431640" cy="50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cc"/>
                </a:solidFill>
                <a:latin typeface="Times New Roman"/>
              </a:rPr>
              <a:t>Девіз урок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79640" y="2133720"/>
            <a:ext cx="4679640" cy="273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Не махай на все рукою, не лінуйся, а учись,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Бо чого навчився в школі,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                                    </a:t>
            </a: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     </a:t>
            </a: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знадобиться ще ко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e76aee9fd656"/>
          <p:cNvPicPr/>
          <p:nvPr/>
        </p:nvPicPr>
        <p:blipFill>
          <a:blip r:embed="rId2"/>
          <a:srcRect l="0" t="0" r="79" b="-24867"/>
          <a:stretch/>
        </p:blipFill>
        <p:spPr>
          <a:xfrm>
            <a:off x="2195640" y="62064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e76aee9fd656"/>
          <p:cNvPicPr/>
          <p:nvPr/>
        </p:nvPicPr>
        <p:blipFill>
          <a:blip r:embed="rId3"/>
          <a:srcRect l="51727" t="0" r="-3169" b="12817"/>
          <a:stretch/>
        </p:blipFill>
        <p:spPr>
          <a:xfrm>
            <a:off x="3564000" y="1916280"/>
            <a:ext cx="431640" cy="50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математика 6"/>
          <p:cNvPicPr/>
          <p:nvPr/>
        </p:nvPicPr>
        <p:blipFill>
          <a:blip r:embed="rId5"/>
          <a:stretch/>
        </p:blipFill>
        <p:spPr>
          <a:xfrm>
            <a:off x="539640" y="2421000"/>
            <a:ext cx="2819520" cy="3624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7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cc"/>
                </a:solidFill>
                <a:latin typeface="Times New Roman"/>
              </a:rPr>
              <a:t>Загад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58920" y="1699920"/>
            <a:ext cx="5398920" cy="338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а базарі їх не купиш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а дорозі не знайде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Їх не зважиш на терезах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і ціни не підбере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588000" y="5157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33ff"/>
                </a:solidFill>
                <a:latin typeface="Calibri"/>
              </a:rPr>
              <a:t>(Знан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e76aee9fd656"/>
          <p:cNvPicPr/>
          <p:nvPr/>
        </p:nvPicPr>
        <p:blipFill>
          <a:blip r:embed="rId2"/>
          <a:srcRect l="51727" t="0" r="-3169" b="12817"/>
          <a:stretch/>
        </p:blipFill>
        <p:spPr>
          <a:xfrm>
            <a:off x="2843280" y="148428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domzadan"/>
          <p:cNvPicPr/>
          <p:nvPr/>
        </p:nvPicPr>
        <p:blipFill>
          <a:blip r:embed="rId3"/>
          <a:stretch/>
        </p:blipFill>
        <p:spPr>
          <a:xfrm>
            <a:off x="611280" y="2781360"/>
            <a:ext cx="2139840" cy="3190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cc"/>
                </a:solidFill>
                <a:latin typeface="Times New Roman"/>
              </a:rPr>
              <a:t>Порахуй, яке число повинно бути в рамц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8360" y="1557360"/>
            <a:ext cx="934920" cy="1081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"/>
          <p:cNvSpPr/>
          <p:nvPr/>
        </p:nvSpPr>
        <p:spPr>
          <a:xfrm>
            <a:off x="2340000" y="242100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"/>
          <p:cNvSpPr/>
          <p:nvPr/>
        </p:nvSpPr>
        <p:spPr>
          <a:xfrm>
            <a:off x="3419640" y="4221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>
            <a:off x="5580000" y="35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66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596360" y="4941720"/>
            <a:ext cx="934920" cy="1008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33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1476360" y="2276640"/>
            <a:ext cx="863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3132000" y="3429000"/>
            <a:ext cx="5032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4572000" y="4365720"/>
            <a:ext cx="9367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6588000" y="4437000"/>
            <a:ext cx="792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595080" cy="102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95600" y="1628640"/>
            <a:ext cx="546120" cy="84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842000" y="4581360"/>
            <a:ext cx="436320" cy="84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889680" y="3789360"/>
            <a:ext cx="546120" cy="844560"/>
          </a:xfrm>
          <a:prstGeom prst="rect">
            <a:avLst/>
          </a:prstGeom>
          <a:ln w="0">
            <a:noFill/>
          </a:ln>
        </p:spPr>
      </p:pic>
      <p:sp>
        <p:nvSpPr>
          <p:cNvPr id="90" name="WordArt 16"/>
          <p:cNvSpPr txBox="1"/>
          <p:nvPr/>
        </p:nvSpPr>
        <p:spPr>
          <a:xfrm>
            <a:off x="7740720" y="515772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+?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590920" y="2492280"/>
            <a:ext cx="519120" cy="84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5915160" y="3645000"/>
            <a:ext cx="30636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767040" y="4314960"/>
            <a:ext cx="325440" cy="839520"/>
          </a:xfrm>
          <a:prstGeom prst="rect">
            <a:avLst/>
          </a:prstGeom>
          <a:ln w="0">
            <a:noFill/>
          </a:ln>
        </p:spPr>
      </p:pic>
      <p:sp>
        <p:nvSpPr>
          <p:cNvPr id="94" name="WordArt 20"/>
          <p:cNvSpPr txBox="1"/>
          <p:nvPr/>
        </p:nvSpPr>
        <p:spPr>
          <a:xfrm>
            <a:off x="7883640" y="4797360"/>
            <a:ext cx="287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5" name="WordArt 21"/>
          <p:cNvSpPr txBox="1"/>
          <p:nvPr/>
        </p:nvSpPr>
        <p:spPr>
          <a:xfrm>
            <a:off x="7883640" y="5516640"/>
            <a:ext cx="288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6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6" name="WordArt 22"/>
          <p:cNvSpPr txBox="1"/>
          <p:nvPr/>
        </p:nvSpPr>
        <p:spPr>
          <a:xfrm>
            <a:off x="7812000" y="5300640"/>
            <a:ext cx="43200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-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7" name="Picture 23" descr="11"/>
          <p:cNvPicPr/>
          <p:nvPr/>
        </p:nvPicPr>
        <p:blipFill>
          <a:blip r:embed="rId9"/>
          <a:stretch/>
        </p:blipFill>
        <p:spPr>
          <a:xfrm>
            <a:off x="8244000" y="602136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2843280" y="3784680"/>
            <a:ext cx="361800" cy="390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e76aee9fd656"/>
          <p:cNvPicPr/>
          <p:nvPr/>
        </p:nvPicPr>
        <p:blipFill>
          <a:blip r:embed="rId11"/>
          <a:srcRect l="0" t="0" r="48517" b="118"/>
          <a:stretch/>
        </p:blipFill>
        <p:spPr>
          <a:xfrm>
            <a:off x="4356000" y="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14 0.00069 C -0.04218 -0.03264 -0.02656 -0.06134 -0.00555 -0.06343 C 0.01476 -0.06574 0.03368 -0.04352 0.0349 -0.01134 C 0.03664 0.01852 0.02327 0.0463 0.00434 0.04838 C -0.01302 0.05 -0.02951 0.03148 -0.03072 0.0037 C -0.03211 -0.02176 -0.02083 -0.0456 -0.00486 -0.04745 C 0.01007 -0.04907 0.02396 -0.03357 0.02483 -0.01019 C 0.0257 0.01065 0.01702 0.03102 0.00365 0.03194 C -0.00833 0.03356 -0.01961 0.02153 -0.02066 0.00255 C -0.02118 -0.01435 -0.01458 -0.03079 -0.00416 -0.03171 C 0.00487 -0.03264 0.01407 -0.02361 0.01476 -0.00926 C 0.01528 0.00301 0.01059 0.01505 0.00313 0.0162 C -0.00329 0.01713 -0.00989 0.01157 -0.01024 0.00162 C -0.01076 -0.00625 -0.00833 -0.01482 -0.00364 -0.01574 C 0.00018 -0.01574 0.004 -0.01389 0.00452 -0.00833 C 0.00487 -0.00463 0.00434 -0.00139 0.00243 7.40741E-007 C 0.00139 0.00069 0.00087 0.00069 -4.16667E-006 7.40741E-007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17960"/>
            <a:ext cx="158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cc"/>
                </a:solidFill>
                <a:latin typeface="Times New Roman"/>
              </a:rPr>
              <a:t>Завдання № 1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908000" y="980640"/>
            <a:ext cx="4321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'язати кросворд і прочитати слово, записане у виділених клітин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2133720"/>
          <a:ext cx="5183280" cy="1828800"/>
        </p:xfrm>
        <a:graphic>
          <a:graphicData uri="http://schemas.openxmlformats.org/drawingml/2006/table">
            <a:tbl>
              <a:tblPr/>
              <a:tblGrid>
                <a:gridCol w="282600"/>
                <a:gridCol w="49006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, написане під рискою дроб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на часу обмежена 45 хв. в школ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роб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, написане над рискою дроб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іб, у якого чисельник менший за знамен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19" descr=""/>
          <p:cNvPicPr/>
          <p:nvPr/>
        </p:nvPicPr>
        <p:blipFill>
          <a:blip r:embed="rId2"/>
          <a:stretch/>
        </p:blipFill>
        <p:spPr>
          <a:xfrm>
            <a:off x="5862600" y="765000"/>
            <a:ext cx="2579760" cy="540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"/>
          <p:cNvPicPr/>
          <p:nvPr/>
        </p:nvPicPr>
        <p:blipFill>
          <a:blip r:embed="rId3"/>
          <a:stretch/>
        </p:blipFill>
        <p:spPr>
          <a:xfrm>
            <a:off x="2195640" y="4653000"/>
            <a:ext cx="1368360" cy="1214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250920" y="189000"/>
            <a:ext cx="431640" cy="57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68360" y="346320"/>
            <a:ext cx="158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cc"/>
                </a:solidFill>
                <a:latin typeface="Times New Roman"/>
              </a:rPr>
              <a:t>Завдання № 2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979640" y="836280"/>
            <a:ext cx="583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'язати кросворд і прочитати слово, записане у виділених клітин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36060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468360" y="1628640"/>
          <a:ext cx="5292720" cy="2560680"/>
        </p:xfrm>
        <a:graphic>
          <a:graphicData uri="http://schemas.openxmlformats.org/drawingml/2006/table">
            <a:tbl>
              <a:tblPr/>
              <a:tblGrid>
                <a:gridCol w="318960"/>
                <a:gridCol w="3167280"/>
                <a:gridCol w="241200"/>
                <a:gridCol w="760320"/>
                <a:gridCol w="8049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ом якої дії є част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додав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яке ділиться на дане чи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називають числа, що додаю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е число, яке має тільки два діль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яке ділить дане чи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шене число складається з цілої і … част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3" name="Picture 33" descr=""/>
          <p:cNvPicPr/>
          <p:nvPr/>
        </p:nvPicPr>
        <p:blipFill>
          <a:blip r:embed="rId3"/>
          <a:stretch/>
        </p:blipFill>
        <p:spPr>
          <a:xfrm>
            <a:off x="2124000" y="4573440"/>
            <a:ext cx="1438200" cy="127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0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179280" y="189000"/>
            <a:ext cx="432000" cy="57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9640" y="346320"/>
            <a:ext cx="1582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cc"/>
                </a:solidFill>
                <a:latin typeface="Times New Roman"/>
              </a:rPr>
              <a:t>Завдання № 3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979640" y="836280"/>
            <a:ext cx="33843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'язати кросворд і прочитати слово, записа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у виділених клітин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017880" cy="474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539640" y="1916280"/>
          <a:ext cx="4824360" cy="3170160"/>
        </p:xfrm>
        <a:graphic>
          <a:graphicData uri="http://schemas.openxmlformats.org/drawingml/2006/table">
            <a:tbl>
              <a:tblPr/>
              <a:tblGrid>
                <a:gridCol w="216000"/>
                <a:gridCol w="4608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йбільще натуральне число, яке ділиться на кожне з даних чмсел, називають … спільним дільником цих чис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ілення чисельника і знаменника дробу на їх спільний дільник, відмінний від одиниці, називають … дроб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ва числа, добуток яких дорівнює 1, називають взаємно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Число, яке має більше двох діль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Щоб знайти дріб від числа, потрібно число … на цей дрі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20" descr=""/>
          <p:cNvPicPr/>
          <p:nvPr/>
        </p:nvPicPr>
        <p:blipFill>
          <a:blip r:embed="rId3"/>
          <a:stretch/>
        </p:blipFill>
        <p:spPr>
          <a:xfrm>
            <a:off x="3203640" y="5157720"/>
            <a:ext cx="863640" cy="766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179280" y="26028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30:08Z</dcterms:created>
  <dc:creator>Администратор</dc:creator>
  <dc:description/>
  <dc:language>en-US</dc:language>
  <cp:lastModifiedBy>Admin</cp:lastModifiedBy>
  <dcterms:modified xsi:type="dcterms:W3CDTF">2013-01-15T07:59:53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f000000000001024140</vt:lpwstr>
  </property>
</Properties>
</file>