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E8E-3892-43CD-BAF9-FD254209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EF9-7F23-48A1-BEC3-1FC44F6C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3A4-1C80-4D01-94E8-C5F716DF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0D3-4E71-427A-BB68-7DD84898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8A1B-3D86-4052-BCFE-E79EC898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2D7-B718-4ED1-B2A7-D8D0D88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8D40-C77B-4C7A-901A-8EF96B7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7C0-20CE-4D39-ABB8-DF48F30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9FBB-33E7-474C-9C1C-40C59F8D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F869-AEEA-4D1D-9814-0D6A04D4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34EC-28AC-481C-B460-7BD61AC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44F-E35C-4681-9626-AA548183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5167-29CA-49BA-9C9A-9698BDD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EF2E-57C6-4ACC-B9CA-163ABFCA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680-1B0C-477B-8A65-01F207A9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76DA-E70C-4F12-AD60-8F2458A1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FD8A-D650-482B-AA2D-48DFB7E5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F13-9832-4DF1-998E-B0C23D5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930-0EB0-4437-9B30-95D93341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E50-15ED-4175-A5E0-A9CA6972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6B3-2703-4DDE-8A1C-ADF191F1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46F-D542-482F-A425-84648AB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A8B-80AE-4859-89E1-748BC20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8F8-740F-4808-A88B-70A55F8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4C62-058E-4B07-9AC7-3F53438F79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2C4B-EE1B-4419-81C6-6E15583E43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79.wmf"/><Relationship Id="rId12" Type="http://schemas.openxmlformats.org/officeDocument/2006/relationships/image" Target="../media/image80.wmf"/><Relationship Id="rId13" Type="http://schemas.openxmlformats.org/officeDocument/2006/relationships/image" Target="../media/image81.wmf"/><Relationship Id="rId14" Type="http://schemas.openxmlformats.org/officeDocument/2006/relationships/image" Target="../media/image82.wmf"/><Relationship Id="rId15" Type="http://schemas.openxmlformats.org/officeDocument/2006/relationships/image" Target="../media/image83.wmf"/><Relationship Id="rId16" Type="http://schemas.openxmlformats.org/officeDocument/2006/relationships/image" Target="../media/image84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9.wmf"/><Relationship Id="rId6" Type="http://schemas.openxmlformats.org/officeDocument/2006/relationships/image" Target="../media/image90.wmf"/><Relationship Id="rId7" Type="http://schemas.openxmlformats.org/officeDocument/2006/relationships/image" Target="../media/image91.wmf"/><Relationship Id="rId8" Type="http://schemas.openxmlformats.org/officeDocument/2006/relationships/image" Target="../media/image92.wmf"/><Relationship Id="rId9" Type="http://schemas.openxmlformats.org/officeDocument/2006/relationships/image" Target="../media/image93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9.wmf"/><Relationship Id="rId20" Type="http://schemas.openxmlformats.org/officeDocument/2006/relationships/image" Target="../media/image40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3.wmf"/><Relationship Id="rId24" Type="http://schemas.openxmlformats.org/officeDocument/2006/relationships/image" Target="../media/image4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image" Target="../media/image54.wmf"/><Relationship Id="rId11" Type="http://schemas.openxmlformats.org/officeDocument/2006/relationships/image" Target="../media/image55.wmf"/><Relationship Id="rId12" Type="http://schemas.openxmlformats.org/officeDocument/2006/relationships/image" Target="../media/image56.wmf"/><Relationship Id="rId13" Type="http://schemas.openxmlformats.org/officeDocument/2006/relationships/image" Target="../media/image57.wmf"/><Relationship Id="rId14" Type="http://schemas.openxmlformats.org/officeDocument/2006/relationships/image" Target="../media/image58.wmf"/><Relationship Id="rId15" Type="http://schemas.openxmlformats.org/officeDocument/2006/relationships/image" Target="../media/image59.wmf"/><Relationship Id="rId16" Type="http://schemas.openxmlformats.org/officeDocument/2006/relationships/image" Target="../media/image60.wmf"/><Relationship Id="rId17" Type="http://schemas.openxmlformats.org/officeDocument/2006/relationships/image" Target="../media/image61.wmf"/><Relationship Id="rId18" Type="http://schemas.openxmlformats.org/officeDocument/2006/relationships/image" Target="../media/image62.wmf"/><Relationship Id="rId19" Type="http://schemas.openxmlformats.org/officeDocument/2006/relationships/image" Target="../media/image63.wmf"/><Relationship Id="rId20" Type="http://schemas.openxmlformats.org/officeDocument/2006/relationships/image" Target="../media/image64.wmf"/><Relationship Id="rId21" Type="http://schemas.openxmlformats.org/officeDocument/2006/relationships/image" Target="../media/image65.wmf"/><Relationship Id="rId22" Type="http://schemas.openxmlformats.org/officeDocument/2006/relationships/image" Target="../media/image66.wmf"/><Relationship Id="rId23" Type="http://schemas.openxmlformats.org/officeDocument/2006/relationships/image" Target="../media/image67.wmf"/><Relationship Id="rId24" Type="http://schemas.openxmlformats.org/officeDocument/2006/relationships/image" Target="../media/image68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Тема уроку: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Застосування різних способів розкладання многочленів на множник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14600" y="57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44640" y="1713600"/>
            <a:ext cx="81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класти на множники, використовуючи різні способ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17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І                                                  Варіант І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1371600" cy="32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676520" y="2895480"/>
            <a:ext cx="2438280" cy="349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638680" y="2819520"/>
            <a:ext cx="2514600" cy="336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676520" y="3276720"/>
            <a:ext cx="1904760" cy="338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5638680" y="3200400"/>
            <a:ext cx="1905120" cy="34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1676520" y="3657600"/>
            <a:ext cx="1447560" cy="325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5657760" y="3581280"/>
            <a:ext cx="1790640" cy="343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-118440" y="129420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360" y="1827720"/>
            <a:ext cx="25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0880" y="23612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920" y="289440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3960" y="3961440"/>
            <a:ext cx="22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0880" y="44946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480" y="556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5960" y="38854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пові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412920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аріант І                                                     Варіант І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1752480" y="4724280"/>
            <a:ext cx="1981440" cy="316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6095880" y="4724280"/>
            <a:ext cx="1447920" cy="351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1"/>
          <a:stretch/>
        </p:blipFill>
        <p:spPr>
          <a:xfrm>
            <a:off x="1752480" y="5105520"/>
            <a:ext cx="1828800" cy="307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6095880" y="5105520"/>
            <a:ext cx="2057400" cy="298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1752480" y="548640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6095880" y="5486400"/>
            <a:ext cx="2133720" cy="304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1752480" y="5791320"/>
            <a:ext cx="1067040" cy="298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6"/>
          <a:stretch/>
        </p:blipFill>
        <p:spPr>
          <a:xfrm>
            <a:off x="6095880" y="5715000"/>
            <a:ext cx="1295640" cy="35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3800" y="137052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87160" y="34279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0280" y="39614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3120" y="44186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30400" y="41230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6087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ліц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3200" y="4875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5991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якому випадку вказано правильне розкладання             многочлен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множ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0" y="227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1143000" cy="327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60" y="3389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1143000" cy="298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2133720" cy="3301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82880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1219320" cy="347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63240" y="25898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5080" y="4313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97080" y="2971440"/>
            <a:ext cx="61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7320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новіть логічний ланцюжок (розставте вираження 1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320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порядку, відповідне логіці урок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1828800" y="3886200"/>
            <a:ext cx="2362320" cy="3747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4572000" y="3886200"/>
            <a:ext cx="1981080" cy="338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1828800" y="4419720"/>
            <a:ext cx="2362320" cy="336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9"/>
          <a:stretch/>
        </p:blipFill>
        <p:spPr>
          <a:xfrm>
            <a:off x="4602240" y="4419720"/>
            <a:ext cx="2560680" cy="326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35600" y="27565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000" y="326124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6840" y="379476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3800" y="5486040"/>
            <a:ext cx="48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2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кий крок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б додали до отримано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ланцюж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піграф до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озумова праця на уроках математики-пробний камінь мислен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А.Сухомлин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1240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кладання многочлена на множники-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590920"/>
            <a:ext cx="3200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я многочлена у вигляді суми двох або декількох многочле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343400"/>
            <a:ext cx="300528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ння многочлена у вигляді добутку двох або декількох многочле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6576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53036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З'єднати лініями відповідні частини ви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52280" y="156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960" y="56379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цінка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2895480"/>
            <a:ext cx="2667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Щоб розкласти многочлен на множники способом групування, потрі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438280"/>
            <a:ext cx="609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3526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648320"/>
            <a:ext cx="601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057400"/>
            <a:ext cx="2819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ти в кожній групі загальний множник (у вигляді многочлена) за ду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3276720"/>
            <a:ext cx="2819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групувати його члени так, щоб доданки в кожній групі мали загальний множ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95680"/>
            <a:ext cx="2819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ти в кожній групі загальний множник у вигляді одночлена за ду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48280"/>
            <a:ext cx="75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новіть порядок виконання дій при розкладанні многочлена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ники способом груп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5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666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38098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2514240"/>
            <a:ext cx="99036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4860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цінка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42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ідзначити знаком «+» вірні ви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0" y="16214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4720" y="5074200"/>
            <a:ext cx="1095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4360" y="602712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9400" y="1785960"/>
            <a:ext cx="3722760" cy="52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71720" y="2475000"/>
            <a:ext cx="3602160" cy="56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23623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1320" y="25135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246400"/>
            <a:ext cx="129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8680" y="19346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752480"/>
            <a:ext cx="60948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335268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60560" y="4303800"/>
            <a:ext cx="3763800" cy="555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3352680"/>
            <a:ext cx="609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7600" y="350496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10960" y="265860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35840"/>
            <a:ext cx="5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7280" y="42206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419720"/>
            <a:ext cx="609480" cy="609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8320" y="449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360" y="5562000"/>
            <a:ext cx="73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цінка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бали (по 0,5 за кожне вірно вибране і вірно невибране вир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0320" y="31838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1409760" cy="18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34320" y="4800600"/>
            <a:ext cx="723960" cy="200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00200" y="4800600"/>
            <a:ext cx="933480" cy="219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62520" y="4724280"/>
            <a:ext cx="8287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629400" y="4800600"/>
            <a:ext cx="1247760" cy="200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457200"/>
            <a:ext cx="6324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розкладу на множ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828800"/>
            <a:ext cx="2209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есення спільного множника за дуж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9810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 скороченого множ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98108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іб угрупова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657600"/>
            <a:ext cx="17604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124080"/>
            <a:ext cx="1752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1911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724280"/>
            <a:ext cx="17524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657600"/>
            <a:ext cx="1511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124080"/>
            <a:ext cx="1528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191120"/>
            <a:ext cx="154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4724280"/>
            <a:ext cx="15652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581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048120"/>
            <a:ext cx="2133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1480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4724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1371600"/>
            <a:ext cx="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10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500080"/>
            <a:ext cx="4267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вірку виконують у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і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ьтан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371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5640" y="1371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1981440" cy="2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523880" y="3124080"/>
            <a:ext cx="1486080" cy="414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1371600" y="3657600"/>
            <a:ext cx="1752480" cy="32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1447920" y="4191120"/>
            <a:ext cx="1515960" cy="41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1447920" y="4724280"/>
            <a:ext cx="1485720" cy="41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4267080" y="3124080"/>
            <a:ext cx="838440" cy="382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4114800" y="3657600"/>
            <a:ext cx="990720" cy="330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4114800" y="4114800"/>
            <a:ext cx="1066680" cy="449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4114800" y="4724280"/>
            <a:ext cx="1295280" cy="330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6324480" y="3048120"/>
            <a:ext cx="1981440" cy="34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6324480" y="3505320"/>
            <a:ext cx="1828800" cy="352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6248520" y="4114800"/>
            <a:ext cx="213336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05120" y="4989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атематична естафе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9896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5040" y="179424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8280" y="229932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303264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0" y="356616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00" y="4327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440" y="486144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800" y="5594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0" y="612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66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81856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7920" y="8685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25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4880" y="166104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3990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-й ряд                              2-й ряд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-й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2057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зкласти на множ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143000" cy="330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33753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40" y="-108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960" y="53244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828800" cy="365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629400" y="2895480"/>
            <a:ext cx="1143000" cy="295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5640" y="29088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62120" y="3200400"/>
            <a:ext cx="1981080" cy="3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2133720" cy="374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6629400" y="3200400"/>
            <a:ext cx="1219320" cy="34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0088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369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3657600" y="3505320"/>
            <a:ext cx="1219320" cy="33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29400" y="3505320"/>
            <a:ext cx="2362320" cy="323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62120" y="3886200"/>
            <a:ext cx="1885680" cy="324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3657600" y="3809880"/>
            <a:ext cx="2895480" cy="34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6629400" y="3809880"/>
            <a:ext cx="205740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62120" y="4191120"/>
            <a:ext cx="2743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4"/>
          <a:stretch/>
        </p:blipFill>
        <p:spPr>
          <a:xfrm>
            <a:off x="3657600" y="4114800"/>
            <a:ext cx="2133720" cy="368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5"/>
          <a:stretch/>
        </p:blipFill>
        <p:spPr>
          <a:xfrm>
            <a:off x="6629400" y="4191120"/>
            <a:ext cx="1905120" cy="299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762120" y="4572000"/>
            <a:ext cx="1752480" cy="361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"/>
          <a:stretch/>
        </p:blipFill>
        <p:spPr>
          <a:xfrm>
            <a:off x="3657600" y="4495680"/>
            <a:ext cx="2590920" cy="352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8"/>
          <a:stretch/>
        </p:blipFill>
        <p:spPr>
          <a:xfrm>
            <a:off x="6629400" y="4495680"/>
            <a:ext cx="1981080" cy="312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9"/>
          <a:stretch/>
        </p:blipFill>
        <p:spPr>
          <a:xfrm>
            <a:off x="762120" y="4952880"/>
            <a:ext cx="251460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0"/>
          <a:stretch/>
        </p:blipFill>
        <p:spPr>
          <a:xfrm>
            <a:off x="3657600" y="4876920"/>
            <a:ext cx="160020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1"/>
          <a:stretch/>
        </p:blipFill>
        <p:spPr>
          <a:xfrm>
            <a:off x="6629400" y="4876920"/>
            <a:ext cx="1600200" cy="299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2"/>
          <a:stretch/>
        </p:blipFill>
        <p:spPr>
          <a:xfrm>
            <a:off x="762120" y="5257800"/>
            <a:ext cx="2133360" cy="347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3"/>
          <a:stretch/>
        </p:blipFill>
        <p:spPr>
          <a:xfrm>
            <a:off x="6629400" y="5181480"/>
            <a:ext cx="1600200" cy="33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2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0" y="43236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7000" y="68472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0" y="1727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22611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800" y="29944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80" y="3528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40" y="4113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5854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151920" y="5866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4"/>
          <a:stretch/>
        </p:blipFill>
        <p:spPr>
          <a:xfrm>
            <a:off x="3657600" y="5181480"/>
            <a:ext cx="18111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7040" y="60876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108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ідповід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1143000" cy="311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1143000" cy="36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1219320" cy="301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143000" y="2286000"/>
            <a:ext cx="1676520" cy="325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962520" y="2286000"/>
            <a:ext cx="1676160" cy="322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6629400" y="2286000"/>
            <a:ext cx="2209680" cy="333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143000" y="2666880"/>
            <a:ext cx="1828800" cy="28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3962520" y="2666880"/>
            <a:ext cx="1218960" cy="32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6629400" y="2666880"/>
            <a:ext cx="1905120" cy="32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1143000" y="2971800"/>
            <a:ext cx="1676520" cy="299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1"/>
          <a:stretch/>
        </p:blipFill>
        <p:spPr>
          <a:xfrm>
            <a:off x="3962520" y="2971800"/>
            <a:ext cx="1981080" cy="307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>
            <a:off x="6629400" y="2895480"/>
            <a:ext cx="1295280" cy="336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tretch/>
        </p:blipFill>
        <p:spPr>
          <a:xfrm>
            <a:off x="1143000" y="3276720"/>
            <a:ext cx="2133720" cy="331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tretch/>
        </p:blipFill>
        <p:spPr>
          <a:xfrm>
            <a:off x="3962520" y="3276720"/>
            <a:ext cx="1218960" cy="32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6629400" y="3276720"/>
            <a:ext cx="1523880" cy="304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893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9000" y="112284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49960" y="152280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0" y="30373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8280" y="35424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4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" y="545688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6"/>
          <a:stretch/>
        </p:blipFill>
        <p:spPr>
          <a:xfrm>
            <a:off x="1143000" y="3581280"/>
            <a:ext cx="1219320" cy="370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7"/>
          <a:stretch/>
        </p:blipFill>
        <p:spPr>
          <a:xfrm>
            <a:off x="3962520" y="3581280"/>
            <a:ext cx="1828800" cy="29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8"/>
          <a:stretch/>
        </p:blipFill>
        <p:spPr>
          <a:xfrm>
            <a:off x="6629400" y="3505320"/>
            <a:ext cx="1752480" cy="331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9"/>
          <a:stretch/>
        </p:blipFill>
        <p:spPr>
          <a:xfrm>
            <a:off x="1143000" y="3962520"/>
            <a:ext cx="1752480" cy="28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0"/>
          <a:stretch/>
        </p:blipFill>
        <p:spPr>
          <a:xfrm>
            <a:off x="3962520" y="3886200"/>
            <a:ext cx="205740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1"/>
          <a:stretch/>
        </p:blipFill>
        <p:spPr>
          <a:xfrm>
            <a:off x="6629400" y="3886200"/>
            <a:ext cx="160020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2"/>
          <a:stretch/>
        </p:blipFill>
        <p:spPr>
          <a:xfrm>
            <a:off x="1143000" y="4267080"/>
            <a:ext cx="1219320" cy="343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3"/>
          <a:stretch/>
        </p:blipFill>
        <p:spPr>
          <a:xfrm>
            <a:off x="3962520" y="4191120"/>
            <a:ext cx="1828800" cy="350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4"/>
          <a:stretch/>
        </p:blipFill>
        <p:spPr>
          <a:xfrm>
            <a:off x="6629400" y="4191120"/>
            <a:ext cx="1066680" cy="336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20" y="227556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5040" y="403740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2880" y="478044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998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0280" y="57906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цін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 бали (по 0,5 бала за кожний вірно виконаний прикл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олективно складається таке правило-орієнтир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инести загальний множник (якщо він є) за ду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пробувати розкласти многочлен (отриманий в дужках) за формулами скороченого мно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Якщо многочлен містить більше трьох членів, то спробувати застосувати спосіб угрупо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хно</cp:lastModifiedBy>
  <dcterms:modified xsi:type="dcterms:W3CDTF">2012-10-17T16:42:26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1000000000001024140</vt:lpwstr>
  </property>
  <property fmtid="{D5CDD505-2E9C-101B-9397-08002B2CF9AE}" pid="3" name="Version">
    <vt:r8>1</vt:r8>
  </property>
</Properties>
</file>