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89.wmf" ContentType="image/x-wmf"/>
  <Override PartName="/ppt/media/image77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75.wmf" ContentType="image/x-wmf"/>
  <Override PartName="/ppt/media/image79.wmf" ContentType="image/x-wmf"/>
  <Override PartName="/ppt/media/image78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29.wmf" ContentType="image/x-wmf"/>
  <Override PartName="/ppt/media/image68.wmf" ContentType="image/x-wmf"/>
  <Override PartName="/ppt/media/image31.wmf" ContentType="image/x-wmf"/>
  <Override PartName="/ppt/media/image70.wmf" ContentType="image/x-wmf"/>
  <Override PartName="/ppt/media/image2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8.wmf" ContentType="image/x-wmf"/>
  <Override PartName="/ppt/media/image93.wmf" ContentType="image/x-wmf"/>
  <Override PartName="/ppt/media/image91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8E1E-8E21-4BA9-BD73-790F6B53C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3B53-8C3F-46A7-8F57-E5275AE7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73DF-4D3B-46E9-B000-89FD8F5B0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FF47-B18C-4A7C-8F2B-06643827D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EAE3-9F53-4D38-BBB6-544BFAEE9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4CE3-15C7-4E41-82D4-0B7EED20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2012-3375-493E-8CCB-1123B730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1C58-DE23-4C39-8FEB-18590C36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5B8A-0CBA-4C33-B016-4D0F587B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F432-8176-4090-A92D-33532EF5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95C0D-4E26-4312-9A20-D73CC503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8CF8-10CA-44D7-B110-802E2630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D0BF-6407-4206-BDAF-B791B228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3311-901C-491D-9978-E17B045B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85B2-BAF6-4AF1-A338-558CDD7B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2240-2E04-4339-BF7A-52D7FA794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0DB6-B09D-44B5-8DA1-7B4D19E2A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13EA-4839-43CF-8029-D921429D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29F5-9EA0-44EF-A4E7-E4EF7EE5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0E62-8E18-4E19-A6F0-8D6976C3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FC38-B853-4665-ADEF-A6F4A491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BB08-C99A-4B0B-957C-66724916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69FA-6C4A-4EE3-B144-1C9CA4BD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895C-536B-4042-9264-6BD666BB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3534-198B-47A9-89D6-57BC842F38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AFB2-276E-49D5-8EDD-67F53F101A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image" Target="../media/image70.wmf"/><Relationship Id="rId3" Type="http://schemas.openxmlformats.org/officeDocument/2006/relationships/image" Target="../media/image71.wmf"/><Relationship Id="rId4" Type="http://schemas.openxmlformats.org/officeDocument/2006/relationships/image" Target="../media/image72.wmf"/><Relationship Id="rId5" Type="http://schemas.openxmlformats.org/officeDocument/2006/relationships/image" Target="../media/image73.wmf"/><Relationship Id="rId6" Type="http://schemas.openxmlformats.org/officeDocument/2006/relationships/image" Target="../media/image74.wmf"/><Relationship Id="rId7" Type="http://schemas.openxmlformats.org/officeDocument/2006/relationships/image" Target="../media/image75.wmf"/><Relationship Id="rId8" Type="http://schemas.openxmlformats.org/officeDocument/2006/relationships/image" Target="../media/image76.wmf"/><Relationship Id="rId9" Type="http://schemas.openxmlformats.org/officeDocument/2006/relationships/image" Target="../media/image77.wmf"/><Relationship Id="rId10" Type="http://schemas.openxmlformats.org/officeDocument/2006/relationships/image" Target="../media/image78.wmf"/><Relationship Id="rId11" Type="http://schemas.openxmlformats.org/officeDocument/2006/relationships/image" Target="../media/image79.wmf"/><Relationship Id="rId12" Type="http://schemas.openxmlformats.org/officeDocument/2006/relationships/image" Target="../media/image80.wmf"/><Relationship Id="rId13" Type="http://schemas.openxmlformats.org/officeDocument/2006/relationships/image" Target="../media/image81.wmf"/><Relationship Id="rId14" Type="http://schemas.openxmlformats.org/officeDocument/2006/relationships/image" Target="../media/image82.wmf"/><Relationship Id="rId15" Type="http://schemas.openxmlformats.org/officeDocument/2006/relationships/image" Target="../media/image83.wmf"/><Relationship Id="rId16" Type="http://schemas.openxmlformats.org/officeDocument/2006/relationships/image" Target="../media/image84.wmf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image" Target="../media/image86.wmf"/><Relationship Id="rId3" Type="http://schemas.openxmlformats.org/officeDocument/2006/relationships/image" Target="../media/image87.wmf"/><Relationship Id="rId4" Type="http://schemas.openxmlformats.org/officeDocument/2006/relationships/image" Target="../media/image88.wmf"/><Relationship Id="rId5" Type="http://schemas.openxmlformats.org/officeDocument/2006/relationships/image" Target="../media/image89.wmf"/><Relationship Id="rId6" Type="http://schemas.openxmlformats.org/officeDocument/2006/relationships/image" Target="../media/image90.wmf"/><Relationship Id="rId7" Type="http://schemas.openxmlformats.org/officeDocument/2006/relationships/image" Target="../media/image91.wmf"/><Relationship Id="rId8" Type="http://schemas.openxmlformats.org/officeDocument/2006/relationships/image" Target="../media/image92.wmf"/><Relationship Id="rId9" Type="http://schemas.openxmlformats.org/officeDocument/2006/relationships/image" Target="../media/image93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image" Target="../media/image14.wmf"/><Relationship Id="rId12" Type="http://schemas.openxmlformats.org/officeDocument/2006/relationships/image" Target="../media/image15.wmf"/><Relationship Id="rId13" Type="http://schemas.openxmlformats.org/officeDocument/2006/relationships/image" Target="../media/image16.wmf"/><Relationship Id="rId14" Type="http://schemas.openxmlformats.org/officeDocument/2006/relationships/image" Target="../media/image17.wmf"/><Relationship Id="rId15" Type="http://schemas.openxmlformats.org/officeDocument/2006/relationships/image" Target="../media/image18.wmf"/><Relationship Id="rId16" Type="http://schemas.openxmlformats.org/officeDocument/2006/relationships/image" Target="../media/image19.wmf"/><Relationship Id="rId17" Type="http://schemas.openxmlformats.org/officeDocument/2006/relationships/image" Target="../media/image20.wmf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image" Target="../media/image30.wmf"/><Relationship Id="rId11" Type="http://schemas.openxmlformats.org/officeDocument/2006/relationships/image" Target="../media/image31.wmf"/><Relationship Id="rId12" Type="http://schemas.openxmlformats.org/officeDocument/2006/relationships/image" Target="../media/image32.wmf"/><Relationship Id="rId13" Type="http://schemas.openxmlformats.org/officeDocument/2006/relationships/image" Target="../media/image33.wmf"/><Relationship Id="rId14" Type="http://schemas.openxmlformats.org/officeDocument/2006/relationships/image" Target="../media/image34.wmf"/><Relationship Id="rId15" Type="http://schemas.openxmlformats.org/officeDocument/2006/relationships/image" Target="../media/image35.wmf"/><Relationship Id="rId16" Type="http://schemas.openxmlformats.org/officeDocument/2006/relationships/image" Target="../media/image36.wmf"/><Relationship Id="rId17" Type="http://schemas.openxmlformats.org/officeDocument/2006/relationships/image" Target="../media/image37.wmf"/><Relationship Id="rId18" Type="http://schemas.openxmlformats.org/officeDocument/2006/relationships/image" Target="../media/image38.wmf"/><Relationship Id="rId19" Type="http://schemas.openxmlformats.org/officeDocument/2006/relationships/image" Target="../media/image39.wmf"/><Relationship Id="rId20" Type="http://schemas.openxmlformats.org/officeDocument/2006/relationships/image" Target="../media/image40.wmf"/><Relationship Id="rId21" Type="http://schemas.openxmlformats.org/officeDocument/2006/relationships/image" Target="../media/image41.wmf"/><Relationship Id="rId22" Type="http://schemas.openxmlformats.org/officeDocument/2006/relationships/image" Target="../media/image42.wmf"/><Relationship Id="rId23" Type="http://schemas.openxmlformats.org/officeDocument/2006/relationships/image" Target="../media/image43.wmf"/><Relationship Id="rId24" Type="http://schemas.openxmlformats.org/officeDocument/2006/relationships/image" Target="../media/image44.wmf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48.wmf"/><Relationship Id="rId5" Type="http://schemas.openxmlformats.org/officeDocument/2006/relationships/image" Target="../media/image49.wmf"/><Relationship Id="rId6" Type="http://schemas.openxmlformats.org/officeDocument/2006/relationships/image" Target="../media/image50.wmf"/><Relationship Id="rId7" Type="http://schemas.openxmlformats.org/officeDocument/2006/relationships/image" Target="../media/image51.wmf"/><Relationship Id="rId8" Type="http://schemas.openxmlformats.org/officeDocument/2006/relationships/image" Target="../media/image52.wmf"/><Relationship Id="rId9" Type="http://schemas.openxmlformats.org/officeDocument/2006/relationships/image" Target="../media/image53.wmf"/><Relationship Id="rId10" Type="http://schemas.openxmlformats.org/officeDocument/2006/relationships/image" Target="../media/image54.wmf"/><Relationship Id="rId11" Type="http://schemas.openxmlformats.org/officeDocument/2006/relationships/image" Target="../media/image55.wmf"/><Relationship Id="rId12" Type="http://schemas.openxmlformats.org/officeDocument/2006/relationships/image" Target="../media/image56.wmf"/><Relationship Id="rId13" Type="http://schemas.openxmlformats.org/officeDocument/2006/relationships/image" Target="../media/image57.wmf"/><Relationship Id="rId14" Type="http://schemas.openxmlformats.org/officeDocument/2006/relationships/image" Target="../media/image58.wmf"/><Relationship Id="rId15" Type="http://schemas.openxmlformats.org/officeDocument/2006/relationships/image" Target="../media/image59.wmf"/><Relationship Id="rId16" Type="http://schemas.openxmlformats.org/officeDocument/2006/relationships/image" Target="../media/image60.wmf"/><Relationship Id="rId17" Type="http://schemas.openxmlformats.org/officeDocument/2006/relationships/image" Target="../media/image61.wmf"/><Relationship Id="rId18" Type="http://schemas.openxmlformats.org/officeDocument/2006/relationships/image" Target="../media/image62.wmf"/><Relationship Id="rId19" Type="http://schemas.openxmlformats.org/officeDocument/2006/relationships/image" Target="../media/image63.wmf"/><Relationship Id="rId20" Type="http://schemas.openxmlformats.org/officeDocument/2006/relationships/image" Target="../media/image64.wmf"/><Relationship Id="rId21" Type="http://schemas.openxmlformats.org/officeDocument/2006/relationships/image" Target="../media/image65.wmf"/><Relationship Id="rId22" Type="http://schemas.openxmlformats.org/officeDocument/2006/relationships/image" Target="../media/image66.wmf"/><Relationship Id="rId23" Type="http://schemas.openxmlformats.org/officeDocument/2006/relationships/image" Target="../media/image67.wmf"/><Relationship Id="rId24" Type="http://schemas.openxmlformats.org/officeDocument/2006/relationships/image" Target="../media/image68.wmf"/><Relationship Id="rId2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330033"/>
                </a:solidFill>
                <a:latin typeface="Times New Roman"/>
              </a:rPr>
              <a:t>Тема уроку:</a:t>
            </a: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Застосування різних способів розкладання многочленів на множники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514600" y="5770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амостійна робота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44640" y="1713600"/>
            <a:ext cx="819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озкласти на множники, використовуючи різні способ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523880" y="217116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Варіант І                                                  Варіант І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676520" y="2514600"/>
            <a:ext cx="1371600" cy="3319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5638680" y="2514600"/>
            <a:ext cx="1371600" cy="3254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1676520" y="2895480"/>
            <a:ext cx="2438280" cy="3492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5638680" y="2819520"/>
            <a:ext cx="2514600" cy="3366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5"/>
          <a:stretch/>
        </p:blipFill>
        <p:spPr>
          <a:xfrm>
            <a:off x="1676520" y="3276720"/>
            <a:ext cx="1904760" cy="3380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6"/>
          <a:stretch/>
        </p:blipFill>
        <p:spPr>
          <a:xfrm>
            <a:off x="5638680" y="3200400"/>
            <a:ext cx="1905120" cy="3459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7"/>
          <a:stretch/>
        </p:blipFill>
        <p:spPr>
          <a:xfrm>
            <a:off x="1676520" y="3657600"/>
            <a:ext cx="1447560" cy="32544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8"/>
          <a:stretch/>
        </p:blipFill>
        <p:spPr>
          <a:xfrm>
            <a:off x="5657760" y="3581280"/>
            <a:ext cx="1790640" cy="34308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-118440" y="1294200"/>
            <a:ext cx="73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0360" y="1827720"/>
            <a:ext cx="259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0880" y="2361240"/>
            <a:ext cx="68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7920" y="2894400"/>
            <a:ext cx="18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3960" y="3961440"/>
            <a:ext cx="224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0880" y="4494600"/>
            <a:ext cx="68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14480" y="556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505960" y="3885480"/>
            <a:ext cx="268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Відпові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523880" y="4129200"/>
            <a:ext cx="60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Варіант І                                                     Варіант ІІ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9"/>
          <a:stretch/>
        </p:blipFill>
        <p:spPr>
          <a:xfrm>
            <a:off x="1752480" y="4724280"/>
            <a:ext cx="1981440" cy="31608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10"/>
          <a:stretch/>
        </p:blipFill>
        <p:spPr>
          <a:xfrm>
            <a:off x="6095880" y="4724280"/>
            <a:ext cx="1447920" cy="3510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11"/>
          <a:stretch/>
        </p:blipFill>
        <p:spPr>
          <a:xfrm>
            <a:off x="1752480" y="5105520"/>
            <a:ext cx="1828800" cy="3078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12"/>
          <a:stretch/>
        </p:blipFill>
        <p:spPr>
          <a:xfrm>
            <a:off x="6095880" y="5105520"/>
            <a:ext cx="2057400" cy="2984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13"/>
          <a:stretch/>
        </p:blipFill>
        <p:spPr>
          <a:xfrm>
            <a:off x="1752480" y="5486400"/>
            <a:ext cx="2133720" cy="3049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14"/>
          <a:stretch/>
        </p:blipFill>
        <p:spPr>
          <a:xfrm>
            <a:off x="6095880" y="5486400"/>
            <a:ext cx="2133720" cy="3049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15"/>
          <a:stretch/>
        </p:blipFill>
        <p:spPr>
          <a:xfrm>
            <a:off x="1752480" y="5791320"/>
            <a:ext cx="1067040" cy="29844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16"/>
          <a:stretch/>
        </p:blipFill>
        <p:spPr>
          <a:xfrm>
            <a:off x="6095880" y="5715000"/>
            <a:ext cx="1295640" cy="3571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3043800" y="1370520"/>
            <a:ext cx="73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87160" y="3427920"/>
            <a:ext cx="68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410280" y="3961440"/>
            <a:ext cx="20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73120" y="4418640"/>
            <a:ext cx="68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030400" y="4123080"/>
            <a:ext cx="33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819520" y="60876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24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Бліц-те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753200" y="487584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724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295280" y="1599120"/>
            <a:ext cx="65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якому випадку вказано правильне розкладання             многочлена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на множни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60" y="227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0" y="227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3124080" y="1981080"/>
            <a:ext cx="1143000" cy="3272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360" y="33897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447920" y="2362320"/>
            <a:ext cx="1143000" cy="29844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2743200" y="2362320"/>
            <a:ext cx="2133720" cy="33012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4"/>
          <a:stretch/>
        </p:blipFill>
        <p:spPr>
          <a:xfrm>
            <a:off x="4952880" y="2362320"/>
            <a:ext cx="1828800" cy="3175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5"/>
          <a:stretch/>
        </p:blipFill>
        <p:spPr>
          <a:xfrm>
            <a:off x="7010280" y="2362320"/>
            <a:ext cx="1219320" cy="3474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3963240" y="258984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25080" y="431388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724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297080" y="2971440"/>
            <a:ext cx="61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673200"/>
                <a:tab algn="l" pos="3724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Відновіть логічний ланцюжок (розставте вираження 1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3724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в порядку, відповідне логіці уроку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6"/>
          <a:stretch/>
        </p:blipFill>
        <p:spPr>
          <a:xfrm>
            <a:off x="1828800" y="3886200"/>
            <a:ext cx="2362320" cy="3747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7"/>
          <a:stretch/>
        </p:blipFill>
        <p:spPr>
          <a:xfrm>
            <a:off x="4572000" y="3886200"/>
            <a:ext cx="1981080" cy="33804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8"/>
          <a:stretch/>
        </p:blipFill>
        <p:spPr>
          <a:xfrm>
            <a:off x="1828800" y="4419720"/>
            <a:ext cx="2362320" cy="3366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9"/>
          <a:stretch/>
        </p:blipFill>
        <p:spPr>
          <a:xfrm>
            <a:off x="4602240" y="4419720"/>
            <a:ext cx="2560680" cy="3268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35600" y="275652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1000" y="3261240"/>
            <a:ext cx="68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724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-6840" y="379476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03800" y="5486040"/>
            <a:ext cx="481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24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Який крок 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 б додали до отримано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го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ланцюжк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4200"/>
            </a:br>
            <a:br>
              <a:rPr sz="4200"/>
            </a:br>
            <a:br>
              <a:rPr sz="4200"/>
            </a:b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456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піграф до у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Розумова праця на уроках математики-пробний камінь мисленн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.А.Сухомлинсь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71600" y="31240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кладання многочлена на множники-ц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43400" y="2590920"/>
            <a:ext cx="3200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є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ня многочлена у вигляді суми двох або декількох многочлен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95680" y="4343400"/>
            <a:ext cx="3005280" cy="8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ання многочлена у вигляді добутку двох або декількох многочлен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3657600"/>
            <a:ext cx="12952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153036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З'єднати лініями відповідні частини визнач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152280" y="1569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71960" y="5637960"/>
            <a:ext cx="15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цінка-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 б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09480" y="2895480"/>
            <a:ext cx="266724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Щоб розкласти многочлен на множники способом групування, потріб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2438280"/>
            <a:ext cx="6098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81280" y="3352680"/>
            <a:ext cx="6098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4648320"/>
            <a:ext cx="6019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2057400"/>
            <a:ext cx="28195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инести в кожній групі загальний множник (у вигляді многочлена) за дуж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81480" y="3276720"/>
            <a:ext cx="28195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групувати його члени так, щоб доданки в кожній групі мали загальний множ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4495680"/>
            <a:ext cx="28195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инести в кожній групі загальний множник у вигляді одночлена за дуж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548280"/>
            <a:ext cx="7527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ідновіть порядок виконання дій при розкладанні многочлена 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ножники способом групув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951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91120" y="2666880"/>
            <a:ext cx="9903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38098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191120" y="2514240"/>
            <a:ext cx="99036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548604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цінка-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 б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47920" y="4258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Відзначити знаком «+» вірні вираж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67200" y="162144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44720" y="5074200"/>
            <a:ext cx="10951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44360" y="6027120"/>
            <a:ext cx="23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949400" y="1785960"/>
            <a:ext cx="3722760" cy="520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971720" y="2475000"/>
            <a:ext cx="3602160" cy="565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62120" y="2362320"/>
            <a:ext cx="6094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1904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81320" y="2513520"/>
            <a:ext cx="78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2246400"/>
            <a:ext cx="1295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58680" y="1934640"/>
            <a:ext cx="23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1752480"/>
            <a:ext cx="609480" cy="4572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057400" y="3352680"/>
            <a:ext cx="3352680" cy="5097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960560" y="4303800"/>
            <a:ext cx="3763800" cy="555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62120" y="3352680"/>
            <a:ext cx="60948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7600" y="3504960"/>
            <a:ext cx="114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10960" y="2658600"/>
            <a:ext cx="23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3435840"/>
            <a:ext cx="533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87280" y="4220640"/>
            <a:ext cx="23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4419720"/>
            <a:ext cx="609480" cy="6094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78320" y="44949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0360" y="5562000"/>
            <a:ext cx="734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Оцінка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бали (по 0,5 за кожне вірно вибране і вірно невибране вираз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60320" y="318384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447920" y="4876920"/>
            <a:ext cx="1409760" cy="180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934320" y="4800600"/>
            <a:ext cx="723960" cy="2001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600200" y="4800600"/>
            <a:ext cx="933480" cy="219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3962520" y="4724280"/>
            <a:ext cx="828720" cy="200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6629400" y="4800600"/>
            <a:ext cx="1247760" cy="200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523880" y="457200"/>
            <a:ext cx="6324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 розкладу на множ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1828800"/>
            <a:ext cx="22096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Винесення спільного множника за дужк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33920" y="1981080"/>
            <a:ext cx="1981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Формули скороченого множенн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77120" y="1981080"/>
            <a:ext cx="17524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іб угрупованн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71600" y="3657600"/>
            <a:ext cx="176040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3124080"/>
            <a:ext cx="1752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4191120"/>
            <a:ext cx="1752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71600" y="4724280"/>
            <a:ext cx="175248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86200" y="3657600"/>
            <a:ext cx="1511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3124080"/>
            <a:ext cx="1528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4191120"/>
            <a:ext cx="154620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4724280"/>
            <a:ext cx="1565280" cy="3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48520" y="3581280"/>
            <a:ext cx="21333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248520" y="3048120"/>
            <a:ext cx="2133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48520" y="4114800"/>
            <a:ext cx="21333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4724280"/>
            <a:ext cx="21333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48320" y="1371600"/>
            <a:ext cx="0" cy="58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1341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103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2712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500080"/>
            <a:ext cx="42674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вірку виконують у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і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сультант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81680" y="13716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285640" y="13716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6324480" y="4724280"/>
            <a:ext cx="1981440" cy="2811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7"/>
          <a:stretch/>
        </p:blipFill>
        <p:spPr>
          <a:xfrm>
            <a:off x="1523880" y="3124080"/>
            <a:ext cx="1486080" cy="414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8"/>
          <a:stretch/>
        </p:blipFill>
        <p:spPr>
          <a:xfrm>
            <a:off x="1371600" y="3657600"/>
            <a:ext cx="1752480" cy="3222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9"/>
          <a:stretch/>
        </p:blipFill>
        <p:spPr>
          <a:xfrm>
            <a:off x="1447920" y="4191120"/>
            <a:ext cx="1515960" cy="4172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0"/>
          <a:stretch/>
        </p:blipFill>
        <p:spPr>
          <a:xfrm>
            <a:off x="1447920" y="4724280"/>
            <a:ext cx="1485720" cy="414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1"/>
          <a:stretch/>
        </p:blipFill>
        <p:spPr>
          <a:xfrm>
            <a:off x="4267080" y="3124080"/>
            <a:ext cx="838440" cy="382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2"/>
          <a:stretch/>
        </p:blipFill>
        <p:spPr>
          <a:xfrm>
            <a:off x="4114800" y="3657600"/>
            <a:ext cx="990720" cy="3301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3"/>
          <a:stretch/>
        </p:blipFill>
        <p:spPr>
          <a:xfrm>
            <a:off x="4114800" y="4114800"/>
            <a:ext cx="1066680" cy="4492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4"/>
          <a:stretch/>
        </p:blipFill>
        <p:spPr>
          <a:xfrm>
            <a:off x="4114800" y="4724280"/>
            <a:ext cx="1295280" cy="3304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5"/>
          <a:stretch/>
        </p:blipFill>
        <p:spPr>
          <a:xfrm>
            <a:off x="6324480" y="3048120"/>
            <a:ext cx="1981440" cy="3474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6"/>
          <a:stretch/>
        </p:blipFill>
        <p:spPr>
          <a:xfrm>
            <a:off x="6324480" y="3505320"/>
            <a:ext cx="1828800" cy="3524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7"/>
          <a:stretch/>
        </p:blipFill>
        <p:spPr>
          <a:xfrm>
            <a:off x="6248520" y="4114800"/>
            <a:ext cx="2133360" cy="2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905120" y="49896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Математична естафе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498960"/>
            <a:ext cx="11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15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-5040" y="1794240"/>
            <a:ext cx="163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-8280" y="2299320"/>
            <a:ext cx="194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80" y="3032640"/>
            <a:ext cx="103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20" y="3566160"/>
            <a:ext cx="58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00" y="432792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-1440" y="4861440"/>
            <a:ext cx="128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-1800" y="5594760"/>
            <a:ext cx="133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80" y="61282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666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80" y="8185680"/>
            <a:ext cx="103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-7920" y="868572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925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214880" y="1661040"/>
            <a:ext cx="132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авд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43000" y="239904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-й ряд                              2-й ряд 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-й ря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205704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981080"/>
                <a:tab algn="l" pos="223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озкласти на множн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81080"/>
                <a:tab algn="l" pos="223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762120" y="2895480"/>
            <a:ext cx="1143000" cy="3304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0" y="3375360"/>
            <a:ext cx="33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640" y="-1080"/>
            <a:ext cx="33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-3960" y="532440"/>
            <a:ext cx="15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3657600" y="2895480"/>
            <a:ext cx="1828800" cy="3654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6629400" y="2895480"/>
            <a:ext cx="1143000" cy="2955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5640" y="2908800"/>
            <a:ext cx="33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762120" y="3200400"/>
            <a:ext cx="1981080" cy="3556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3657600" y="3200400"/>
            <a:ext cx="2133720" cy="3747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6629400" y="3200400"/>
            <a:ext cx="1219320" cy="3492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0" y="3008880"/>
            <a:ext cx="11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7"/>
          <a:stretch/>
        </p:blipFill>
        <p:spPr>
          <a:xfrm>
            <a:off x="762120" y="3505320"/>
            <a:ext cx="1371600" cy="3697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8"/>
          <a:stretch/>
        </p:blipFill>
        <p:spPr>
          <a:xfrm>
            <a:off x="3657600" y="3505320"/>
            <a:ext cx="1219320" cy="338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9"/>
          <a:stretch/>
        </p:blipFill>
        <p:spPr>
          <a:xfrm>
            <a:off x="6629400" y="3505320"/>
            <a:ext cx="2362320" cy="3236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0"/>
          <a:stretch/>
        </p:blipFill>
        <p:spPr>
          <a:xfrm>
            <a:off x="762120" y="3886200"/>
            <a:ext cx="1885680" cy="3240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1"/>
          <a:stretch/>
        </p:blipFill>
        <p:spPr>
          <a:xfrm>
            <a:off x="3657600" y="3809880"/>
            <a:ext cx="2895480" cy="3412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2"/>
          <a:stretch/>
        </p:blipFill>
        <p:spPr>
          <a:xfrm>
            <a:off x="6629400" y="3809880"/>
            <a:ext cx="2057400" cy="3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3"/>
          <a:stretch/>
        </p:blipFill>
        <p:spPr>
          <a:xfrm>
            <a:off x="762120" y="4191120"/>
            <a:ext cx="2743200" cy="3524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4"/>
          <a:stretch/>
        </p:blipFill>
        <p:spPr>
          <a:xfrm>
            <a:off x="3657600" y="4114800"/>
            <a:ext cx="2133720" cy="3682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15"/>
          <a:stretch/>
        </p:blipFill>
        <p:spPr>
          <a:xfrm>
            <a:off x="6629400" y="4191120"/>
            <a:ext cx="1905120" cy="2998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6"/>
          <a:stretch/>
        </p:blipFill>
        <p:spPr>
          <a:xfrm>
            <a:off x="762120" y="4572000"/>
            <a:ext cx="1752480" cy="3618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7"/>
          <a:stretch/>
        </p:blipFill>
        <p:spPr>
          <a:xfrm>
            <a:off x="3657600" y="4495680"/>
            <a:ext cx="2590920" cy="3524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8"/>
          <a:stretch/>
        </p:blipFill>
        <p:spPr>
          <a:xfrm>
            <a:off x="6629400" y="4495680"/>
            <a:ext cx="1981080" cy="3128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9"/>
          <a:stretch/>
        </p:blipFill>
        <p:spPr>
          <a:xfrm>
            <a:off x="762120" y="4952880"/>
            <a:ext cx="2514600" cy="343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0"/>
          <a:stretch/>
        </p:blipFill>
        <p:spPr>
          <a:xfrm>
            <a:off x="3657600" y="4876920"/>
            <a:ext cx="1600200" cy="3571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1"/>
          <a:stretch/>
        </p:blipFill>
        <p:spPr>
          <a:xfrm>
            <a:off x="6629400" y="4876920"/>
            <a:ext cx="1600200" cy="2998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2"/>
          <a:stretch/>
        </p:blipFill>
        <p:spPr>
          <a:xfrm>
            <a:off x="762120" y="5257800"/>
            <a:ext cx="2133360" cy="3477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3"/>
          <a:stretch/>
        </p:blipFill>
        <p:spPr>
          <a:xfrm>
            <a:off x="6629400" y="5181480"/>
            <a:ext cx="1600200" cy="3398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0" y="2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080" y="432360"/>
            <a:ext cx="103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7000" y="684720"/>
            <a:ext cx="58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200" y="172764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-1440" y="2261160"/>
            <a:ext cx="128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-1800" y="2994480"/>
            <a:ext cx="133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880" y="352800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40" y="4113720"/>
            <a:ext cx="68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80" y="5585400"/>
            <a:ext cx="103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-151920" y="586620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4"/>
          <a:stretch/>
        </p:blipFill>
        <p:spPr>
          <a:xfrm>
            <a:off x="3657600" y="5181480"/>
            <a:ext cx="181116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147040" y="608760"/>
            <a:ext cx="31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81080"/>
                <a:tab algn="l" pos="223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Відповіді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1143000" cy="3110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3962520" y="1905120"/>
            <a:ext cx="1143000" cy="3603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6629400" y="1981080"/>
            <a:ext cx="1219320" cy="3016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4"/>
          <a:stretch/>
        </p:blipFill>
        <p:spPr>
          <a:xfrm>
            <a:off x="1143000" y="2286000"/>
            <a:ext cx="1676520" cy="3254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5"/>
          <a:stretch/>
        </p:blipFill>
        <p:spPr>
          <a:xfrm>
            <a:off x="3962520" y="2286000"/>
            <a:ext cx="1676160" cy="3222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6"/>
          <a:stretch/>
        </p:blipFill>
        <p:spPr>
          <a:xfrm>
            <a:off x="6629400" y="2286000"/>
            <a:ext cx="2209680" cy="3333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7"/>
          <a:stretch/>
        </p:blipFill>
        <p:spPr>
          <a:xfrm>
            <a:off x="1143000" y="2666880"/>
            <a:ext cx="1828800" cy="2811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8"/>
          <a:stretch/>
        </p:blipFill>
        <p:spPr>
          <a:xfrm>
            <a:off x="3962520" y="2666880"/>
            <a:ext cx="1218960" cy="324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9"/>
          <a:stretch/>
        </p:blipFill>
        <p:spPr>
          <a:xfrm>
            <a:off x="6629400" y="2666880"/>
            <a:ext cx="1905120" cy="3254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10"/>
          <a:stretch/>
        </p:blipFill>
        <p:spPr>
          <a:xfrm>
            <a:off x="1143000" y="2971800"/>
            <a:ext cx="1676520" cy="2998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11"/>
          <a:stretch/>
        </p:blipFill>
        <p:spPr>
          <a:xfrm>
            <a:off x="3962520" y="2971800"/>
            <a:ext cx="1981080" cy="3078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12"/>
          <a:stretch/>
        </p:blipFill>
        <p:spPr>
          <a:xfrm>
            <a:off x="6629400" y="2895480"/>
            <a:ext cx="1295280" cy="336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13"/>
          <a:stretch/>
        </p:blipFill>
        <p:spPr>
          <a:xfrm>
            <a:off x="1143000" y="3276720"/>
            <a:ext cx="2133720" cy="3315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4"/>
          <a:stretch/>
        </p:blipFill>
        <p:spPr>
          <a:xfrm>
            <a:off x="3962520" y="3276720"/>
            <a:ext cx="1218960" cy="323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5"/>
          <a:stretch/>
        </p:blipFill>
        <p:spPr>
          <a:xfrm>
            <a:off x="6629400" y="3276720"/>
            <a:ext cx="1523880" cy="304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0" y="3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589320"/>
            <a:ext cx="124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-9000" y="1122840"/>
            <a:ext cx="199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49960" y="152280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20" y="303732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-8280" y="3542400"/>
            <a:ext cx="194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404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20" y="545688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6"/>
          <a:stretch/>
        </p:blipFill>
        <p:spPr>
          <a:xfrm>
            <a:off x="1143000" y="3581280"/>
            <a:ext cx="1219320" cy="3700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17"/>
          <a:stretch/>
        </p:blipFill>
        <p:spPr>
          <a:xfrm>
            <a:off x="3962520" y="3581280"/>
            <a:ext cx="1828800" cy="2937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8"/>
          <a:stretch/>
        </p:blipFill>
        <p:spPr>
          <a:xfrm>
            <a:off x="6629400" y="3505320"/>
            <a:ext cx="1752480" cy="3315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19"/>
          <a:stretch/>
        </p:blipFill>
        <p:spPr>
          <a:xfrm>
            <a:off x="1143000" y="3962520"/>
            <a:ext cx="1752480" cy="2808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0"/>
          <a:stretch/>
        </p:blipFill>
        <p:spPr>
          <a:xfrm>
            <a:off x="3962520" y="3886200"/>
            <a:ext cx="2057400" cy="2858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1"/>
          <a:stretch/>
        </p:blipFill>
        <p:spPr>
          <a:xfrm>
            <a:off x="6629400" y="3886200"/>
            <a:ext cx="1600200" cy="3207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2"/>
          <a:stretch/>
        </p:blipFill>
        <p:spPr>
          <a:xfrm>
            <a:off x="1143000" y="4267080"/>
            <a:ext cx="1219320" cy="3430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3"/>
          <a:stretch/>
        </p:blipFill>
        <p:spPr>
          <a:xfrm>
            <a:off x="3962520" y="4191120"/>
            <a:ext cx="1828800" cy="3506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4"/>
          <a:stretch/>
        </p:blipFill>
        <p:spPr>
          <a:xfrm>
            <a:off x="6629400" y="4191120"/>
            <a:ext cx="1066680" cy="3366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-2520" y="227556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-5040" y="4037400"/>
            <a:ext cx="163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-2880" y="4780440"/>
            <a:ext cx="143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4998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0280" y="5790600"/>
            <a:ext cx="650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Оцінк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4 бали (по 0,5 бала за кожний вірно виконаний приклад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Колективно складається таке правило-орієнтир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Винести загальний множник (якщо він є) за ду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Спробувати розкласти многочлен (отриманий в дужках) за формулами скороченого множе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Якщо многочлен містить більше трьох членів, то спробувати застосувати спосіб угрупова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вахно</cp:lastModifiedBy>
  <dcterms:modified xsi:type="dcterms:W3CDTF">2012-10-17T16:42:26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a01000000000001024140</vt:lpwstr>
  </property>
  <property fmtid="{D5CDD505-2E9C-101B-9397-08002B2CF9AE}" pid="3" name="Version">
    <vt:r8>1</vt:r8>
  </property>
</Properties>
</file>