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FD6-01DA-4752-AF06-36383D84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51A-91BD-4778-AD99-EC3DE098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BD3-6B92-425C-9C47-049D2347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04C-FD27-4DD4-B9E8-2E2D0B51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ED26-EBDF-469A-AF84-9EFCC86E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8922-A603-426F-B09E-7EADFAF2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8BA7-1AEB-480E-A23C-D4562BC8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1B9C-DCA5-49AD-98F9-DB41A7E5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4DF6-0201-4BDD-A839-B56D0B1D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D06A-32FD-44FC-AEB4-F2F3D983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CABA-4EBA-41B9-AAF7-782A0278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E5A-6C1B-4FB6-85F0-0210E041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FE08-F3F7-4F5E-931E-E09A2EA8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193D-9EB1-403A-843C-6E09609E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53EC-38A3-448C-BA9B-04947424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9789-933C-40C1-A905-C01BB829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9DB5-A99F-457D-B551-A394F6EC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65E-B881-4F38-A867-863FB47F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726-44CD-46B8-8B14-EE0A2ED1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626-7243-40D2-B03B-BE5D79D7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85E-2C56-417E-8DB9-491000E3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297-5CC0-4620-980E-44908C89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DC6-2A09-457B-9382-69D70ED1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205-6E8E-436C-8778-FE2728AB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9E74-BE72-4976-BF3E-19FDC17010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D91D-9F32-4177-A2E3-EB96884D5B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image" Target="../media/image75.wmf"/><Relationship Id="rId8" Type="http://schemas.openxmlformats.org/officeDocument/2006/relationships/image" Target="../media/image76.wmf"/><Relationship Id="rId9" Type="http://schemas.openxmlformats.org/officeDocument/2006/relationships/image" Target="../media/image77.wmf"/><Relationship Id="rId10" Type="http://schemas.openxmlformats.org/officeDocument/2006/relationships/image" Target="../media/image78.wmf"/><Relationship Id="rId11" Type="http://schemas.openxmlformats.org/officeDocument/2006/relationships/image" Target="../media/image79.wmf"/><Relationship Id="rId12" Type="http://schemas.openxmlformats.org/officeDocument/2006/relationships/image" Target="../media/image80.wmf"/><Relationship Id="rId13" Type="http://schemas.openxmlformats.org/officeDocument/2006/relationships/image" Target="../media/image81.wmf"/><Relationship Id="rId14" Type="http://schemas.openxmlformats.org/officeDocument/2006/relationships/image" Target="../media/image82.wmf"/><Relationship Id="rId15" Type="http://schemas.openxmlformats.org/officeDocument/2006/relationships/image" Target="../media/image83.wmf"/><Relationship Id="rId16" Type="http://schemas.openxmlformats.org/officeDocument/2006/relationships/image" Target="../media/image84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image" Target="../media/image89.wmf"/><Relationship Id="rId6" Type="http://schemas.openxmlformats.org/officeDocument/2006/relationships/image" Target="../media/image90.wmf"/><Relationship Id="rId7" Type="http://schemas.openxmlformats.org/officeDocument/2006/relationships/image" Target="../media/image91.wmf"/><Relationship Id="rId8" Type="http://schemas.openxmlformats.org/officeDocument/2006/relationships/image" Target="../media/image92.wmf"/><Relationship Id="rId9" Type="http://schemas.openxmlformats.org/officeDocument/2006/relationships/image" Target="../media/image93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36.wmf"/><Relationship Id="rId17" Type="http://schemas.openxmlformats.org/officeDocument/2006/relationships/image" Target="../media/image37.wmf"/><Relationship Id="rId18" Type="http://schemas.openxmlformats.org/officeDocument/2006/relationships/image" Target="../media/image38.wmf"/><Relationship Id="rId19" Type="http://schemas.openxmlformats.org/officeDocument/2006/relationships/image" Target="../media/image39.wmf"/><Relationship Id="rId20" Type="http://schemas.openxmlformats.org/officeDocument/2006/relationships/image" Target="../media/image40.wmf"/><Relationship Id="rId21" Type="http://schemas.openxmlformats.org/officeDocument/2006/relationships/image" Target="../media/image41.wmf"/><Relationship Id="rId22" Type="http://schemas.openxmlformats.org/officeDocument/2006/relationships/image" Target="../media/image42.wmf"/><Relationship Id="rId23" Type="http://schemas.openxmlformats.org/officeDocument/2006/relationships/image" Target="../media/image43.wmf"/><Relationship Id="rId24" Type="http://schemas.openxmlformats.org/officeDocument/2006/relationships/image" Target="../media/image44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4.wmf"/><Relationship Id="rId11" Type="http://schemas.openxmlformats.org/officeDocument/2006/relationships/image" Target="../media/image55.wmf"/><Relationship Id="rId12" Type="http://schemas.openxmlformats.org/officeDocument/2006/relationships/image" Target="../media/image56.wmf"/><Relationship Id="rId13" Type="http://schemas.openxmlformats.org/officeDocument/2006/relationships/image" Target="../media/image57.wmf"/><Relationship Id="rId14" Type="http://schemas.openxmlformats.org/officeDocument/2006/relationships/image" Target="../media/image58.wmf"/><Relationship Id="rId15" Type="http://schemas.openxmlformats.org/officeDocument/2006/relationships/image" Target="../media/image59.wmf"/><Relationship Id="rId16" Type="http://schemas.openxmlformats.org/officeDocument/2006/relationships/image" Target="../media/image60.wmf"/><Relationship Id="rId17" Type="http://schemas.openxmlformats.org/officeDocument/2006/relationships/image" Target="../media/image61.wmf"/><Relationship Id="rId18" Type="http://schemas.openxmlformats.org/officeDocument/2006/relationships/image" Target="../media/image62.wmf"/><Relationship Id="rId19" Type="http://schemas.openxmlformats.org/officeDocument/2006/relationships/image" Target="../media/image63.wmf"/><Relationship Id="rId20" Type="http://schemas.openxmlformats.org/officeDocument/2006/relationships/image" Target="../media/image64.wmf"/><Relationship Id="rId21" Type="http://schemas.openxmlformats.org/officeDocument/2006/relationships/image" Target="../media/image65.wmf"/><Relationship Id="rId22" Type="http://schemas.openxmlformats.org/officeDocument/2006/relationships/image" Target="../media/image66.wmf"/><Relationship Id="rId23" Type="http://schemas.openxmlformats.org/officeDocument/2006/relationships/image" Target="../media/image67.wmf"/><Relationship Id="rId24" Type="http://schemas.openxmlformats.org/officeDocument/2006/relationships/image" Target="../media/image68.wmf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Тема уроку: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Застосування різних способів розкладання многочленів на множник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14600" y="577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стійна робот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44640" y="1713600"/>
            <a:ext cx="81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класти на множники, використовуючи різні способ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1711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аріант І                                                  Варіант І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1371600" cy="325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676520" y="2895480"/>
            <a:ext cx="2438280" cy="349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5638680" y="2819520"/>
            <a:ext cx="2514600" cy="336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1676520" y="3276720"/>
            <a:ext cx="1904760" cy="338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5638680" y="3200400"/>
            <a:ext cx="1905120" cy="345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1676520" y="3657600"/>
            <a:ext cx="1447560" cy="325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5657760" y="3581280"/>
            <a:ext cx="1790640" cy="3430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-118440" y="129420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360" y="1827720"/>
            <a:ext cx="25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0880" y="236124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920" y="289440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3960" y="3961440"/>
            <a:ext cx="22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0880" y="449460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480" y="556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5960" y="388548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пові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4129200"/>
            <a:ext cx="60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аріант І                                                     Варіант І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9"/>
          <a:stretch/>
        </p:blipFill>
        <p:spPr>
          <a:xfrm>
            <a:off x="1752480" y="4724280"/>
            <a:ext cx="1981440" cy="3160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0"/>
          <a:stretch/>
        </p:blipFill>
        <p:spPr>
          <a:xfrm>
            <a:off x="6095880" y="4724280"/>
            <a:ext cx="1447920" cy="351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1"/>
          <a:stretch/>
        </p:blipFill>
        <p:spPr>
          <a:xfrm>
            <a:off x="1752480" y="5105520"/>
            <a:ext cx="1828800" cy="307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2"/>
          <a:stretch/>
        </p:blipFill>
        <p:spPr>
          <a:xfrm>
            <a:off x="6095880" y="5105520"/>
            <a:ext cx="2057400" cy="298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3"/>
          <a:stretch/>
        </p:blipFill>
        <p:spPr>
          <a:xfrm>
            <a:off x="1752480" y="5486400"/>
            <a:ext cx="2133720" cy="304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4"/>
          <a:stretch/>
        </p:blipFill>
        <p:spPr>
          <a:xfrm>
            <a:off x="6095880" y="5486400"/>
            <a:ext cx="2133720" cy="304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5"/>
          <a:stretch/>
        </p:blipFill>
        <p:spPr>
          <a:xfrm>
            <a:off x="1752480" y="5791320"/>
            <a:ext cx="1067040" cy="298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6"/>
          <a:stretch/>
        </p:blipFill>
        <p:spPr>
          <a:xfrm>
            <a:off x="6095880" y="5715000"/>
            <a:ext cx="1295640" cy="35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043800" y="137052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87160" y="34279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10280" y="39614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3120" y="441864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030400" y="412308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6087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ліц-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53200" y="48758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159912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якому випадку вказано правильне розкладання             многочлен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 множ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0" y="227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0" y="227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1143000" cy="327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60" y="3389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1143000" cy="2984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2133720" cy="3301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4952880" y="2362320"/>
            <a:ext cx="1828800" cy="317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7010280" y="2362320"/>
            <a:ext cx="1219320" cy="347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63240" y="25898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25080" y="43138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97080" y="2971440"/>
            <a:ext cx="61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7320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новіть логічний ланцюжок (розставте вираження 1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 порядку, відповідне логіці урок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1828800" y="3886200"/>
            <a:ext cx="2362320" cy="3747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4572000" y="3886200"/>
            <a:ext cx="1981080" cy="338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1828800" y="4419720"/>
            <a:ext cx="2362320" cy="336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9"/>
          <a:stretch/>
        </p:blipFill>
        <p:spPr>
          <a:xfrm>
            <a:off x="4602240" y="4419720"/>
            <a:ext cx="2560680" cy="326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35600" y="27565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1000" y="326124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-6840" y="379476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3800" y="5486040"/>
            <a:ext cx="48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кий крок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б додали до отримано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г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ланцюжк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піграф до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озумова праця на уроках математики-пробний камінь мисленн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А.Сухомлин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31240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кладання многочлена на множники-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2590920"/>
            <a:ext cx="3200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ня многочлена у вигляді суми двох або декількох многочле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4343400"/>
            <a:ext cx="300528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ння многочлена у вигляді добутку двох або декількох многочле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36576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53036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З'єднати лініями відповідні частини визна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52280" y="156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960" y="563796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цінка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б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2895480"/>
            <a:ext cx="26672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Щоб розкласти многочлен на множники способом групування, потріб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2438280"/>
            <a:ext cx="6098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3526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648320"/>
            <a:ext cx="601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057400"/>
            <a:ext cx="28195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инести в кожній групі загальний множник (у вигляді многочлена) за ду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3276720"/>
            <a:ext cx="28195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групувати його члени так, щоб доданки в кожній групі мали загальний множ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495680"/>
            <a:ext cx="28195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инести в кожній групі загальний множник у вигляді одночлена за ду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48280"/>
            <a:ext cx="752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ідновіть порядок виконання дій при розкладанні многочлена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жники способом груп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5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26668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38098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91120" y="2514240"/>
            <a:ext cx="99036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4860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цінка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б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425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Відзначити знаком «+» вірні вира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7200" y="16214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4720" y="5074200"/>
            <a:ext cx="1095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4360" y="602712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49400" y="1785960"/>
            <a:ext cx="3722760" cy="52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71720" y="2475000"/>
            <a:ext cx="3602160" cy="56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23623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90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1320" y="251352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24640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8680" y="19346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752480"/>
            <a:ext cx="609480" cy="45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3352680" cy="509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960560" y="4303800"/>
            <a:ext cx="3763800" cy="555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3352680"/>
            <a:ext cx="6094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7600" y="350496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10960" y="265860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435840"/>
            <a:ext cx="5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7280" y="42206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419720"/>
            <a:ext cx="609480" cy="6094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8320" y="4494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360" y="5562000"/>
            <a:ext cx="73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цінка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бали (по 0,5 за кожне вірно вибране і вірно невибране вир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0320" y="31838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1409760" cy="18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34320" y="4800600"/>
            <a:ext cx="723960" cy="200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600200" y="4800600"/>
            <a:ext cx="933480" cy="219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62520" y="4724280"/>
            <a:ext cx="8287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6629400" y="4800600"/>
            <a:ext cx="1247760" cy="200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3880" y="457200"/>
            <a:ext cx="6324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розкладу на множ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828800"/>
            <a:ext cx="2209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инесення спільного множника за дуж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9810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 скороченого множе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198108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іб угрупова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657600"/>
            <a:ext cx="17604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124080"/>
            <a:ext cx="1752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19112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724280"/>
            <a:ext cx="17524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3657600"/>
            <a:ext cx="1511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124080"/>
            <a:ext cx="1528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191120"/>
            <a:ext cx="1546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4724280"/>
            <a:ext cx="156528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581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048120"/>
            <a:ext cx="2133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11480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4724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1371600"/>
            <a:ext cx="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10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71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500080"/>
            <a:ext cx="4267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вірку виконують у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і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ультан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1371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85640" y="1371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6324480" y="4724280"/>
            <a:ext cx="1981440" cy="281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523880" y="3124080"/>
            <a:ext cx="1486080" cy="414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1371600" y="3657600"/>
            <a:ext cx="1752480" cy="322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1447920" y="4191120"/>
            <a:ext cx="1515960" cy="417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1447920" y="4724280"/>
            <a:ext cx="1485720" cy="414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4267080" y="3124080"/>
            <a:ext cx="838440" cy="382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4114800" y="3657600"/>
            <a:ext cx="990720" cy="330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3"/>
          <a:stretch/>
        </p:blipFill>
        <p:spPr>
          <a:xfrm>
            <a:off x="4114800" y="4114800"/>
            <a:ext cx="1066680" cy="449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4"/>
          <a:stretch/>
        </p:blipFill>
        <p:spPr>
          <a:xfrm>
            <a:off x="4114800" y="4724280"/>
            <a:ext cx="1295280" cy="330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5"/>
          <a:stretch/>
        </p:blipFill>
        <p:spPr>
          <a:xfrm>
            <a:off x="6324480" y="3048120"/>
            <a:ext cx="1981440" cy="347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6"/>
          <a:stretch/>
        </p:blipFill>
        <p:spPr>
          <a:xfrm>
            <a:off x="6324480" y="3505320"/>
            <a:ext cx="1828800" cy="352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6248520" y="4114800"/>
            <a:ext cx="213336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05120" y="49896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Математична естафе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9896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5040" y="179424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280" y="229932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303264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0" y="356616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00" y="4327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1440" y="486144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1800" y="5594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0" y="61282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66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81856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7920" y="8685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25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4880" y="166104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вд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23990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й ряд                              2-й ряд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-й 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20570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8108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озкласти на множ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108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1143000" cy="3304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337536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40" y="-108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960" y="53244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1828800" cy="365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629400" y="2895480"/>
            <a:ext cx="1143000" cy="295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5640" y="29088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62120" y="3200400"/>
            <a:ext cx="1981080" cy="35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657600" y="3200400"/>
            <a:ext cx="2133720" cy="374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6629400" y="3200400"/>
            <a:ext cx="1219320" cy="349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0088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762120" y="3505320"/>
            <a:ext cx="1371600" cy="369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3657600" y="3505320"/>
            <a:ext cx="1219320" cy="33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6629400" y="3505320"/>
            <a:ext cx="2362320" cy="323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762120" y="3886200"/>
            <a:ext cx="1885680" cy="324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3657600" y="3809880"/>
            <a:ext cx="2895480" cy="341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6629400" y="3809880"/>
            <a:ext cx="205740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62120" y="4191120"/>
            <a:ext cx="2743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4"/>
          <a:stretch/>
        </p:blipFill>
        <p:spPr>
          <a:xfrm>
            <a:off x="3657600" y="4114800"/>
            <a:ext cx="2133720" cy="368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5"/>
          <a:stretch/>
        </p:blipFill>
        <p:spPr>
          <a:xfrm>
            <a:off x="6629400" y="4191120"/>
            <a:ext cx="1905120" cy="299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6"/>
          <a:stretch/>
        </p:blipFill>
        <p:spPr>
          <a:xfrm>
            <a:off x="762120" y="4572000"/>
            <a:ext cx="1752480" cy="361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7"/>
          <a:stretch/>
        </p:blipFill>
        <p:spPr>
          <a:xfrm>
            <a:off x="3657600" y="4495680"/>
            <a:ext cx="2590920" cy="352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8"/>
          <a:stretch/>
        </p:blipFill>
        <p:spPr>
          <a:xfrm>
            <a:off x="6629400" y="4495680"/>
            <a:ext cx="1981080" cy="312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9"/>
          <a:stretch/>
        </p:blipFill>
        <p:spPr>
          <a:xfrm>
            <a:off x="762120" y="4952880"/>
            <a:ext cx="2514600" cy="343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0"/>
          <a:stretch/>
        </p:blipFill>
        <p:spPr>
          <a:xfrm>
            <a:off x="3657600" y="4876920"/>
            <a:ext cx="1600200" cy="357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1"/>
          <a:stretch/>
        </p:blipFill>
        <p:spPr>
          <a:xfrm>
            <a:off x="6629400" y="4876920"/>
            <a:ext cx="1600200" cy="299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2"/>
          <a:stretch/>
        </p:blipFill>
        <p:spPr>
          <a:xfrm>
            <a:off x="762120" y="5257800"/>
            <a:ext cx="2133360" cy="347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3"/>
          <a:stretch/>
        </p:blipFill>
        <p:spPr>
          <a:xfrm>
            <a:off x="6629400" y="5181480"/>
            <a:ext cx="1600200" cy="339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2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80" y="43236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7000" y="68472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00" y="1727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1440" y="226116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1800" y="29944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80" y="35280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40" y="41137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58540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151920" y="5866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4"/>
          <a:stretch/>
        </p:blipFill>
        <p:spPr>
          <a:xfrm>
            <a:off x="3657600" y="5181480"/>
            <a:ext cx="18111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7040" y="60876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8108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ідповід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1143000" cy="311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1143000" cy="360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629400" y="1981080"/>
            <a:ext cx="1219320" cy="301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1143000" y="2286000"/>
            <a:ext cx="1676520" cy="325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3962520" y="2286000"/>
            <a:ext cx="1676160" cy="322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6629400" y="2286000"/>
            <a:ext cx="2209680" cy="333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1143000" y="2666880"/>
            <a:ext cx="1828800" cy="281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3962520" y="2666880"/>
            <a:ext cx="1218960" cy="324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6629400" y="2666880"/>
            <a:ext cx="1905120" cy="325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0"/>
          <a:stretch/>
        </p:blipFill>
        <p:spPr>
          <a:xfrm>
            <a:off x="1143000" y="2971800"/>
            <a:ext cx="1676520" cy="299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1"/>
          <a:stretch/>
        </p:blipFill>
        <p:spPr>
          <a:xfrm>
            <a:off x="3962520" y="2971800"/>
            <a:ext cx="1981080" cy="3078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2"/>
          <a:stretch/>
        </p:blipFill>
        <p:spPr>
          <a:xfrm>
            <a:off x="6629400" y="2895480"/>
            <a:ext cx="1295280" cy="336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3"/>
          <a:stretch/>
        </p:blipFill>
        <p:spPr>
          <a:xfrm>
            <a:off x="1143000" y="3276720"/>
            <a:ext cx="2133720" cy="3315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4"/>
          <a:stretch/>
        </p:blipFill>
        <p:spPr>
          <a:xfrm>
            <a:off x="3962520" y="3276720"/>
            <a:ext cx="1218960" cy="32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5"/>
          <a:stretch/>
        </p:blipFill>
        <p:spPr>
          <a:xfrm>
            <a:off x="6629400" y="3276720"/>
            <a:ext cx="1523880" cy="304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58932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9000" y="112284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49960" y="152280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0" y="30373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8280" y="354240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04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0" y="545688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6"/>
          <a:stretch/>
        </p:blipFill>
        <p:spPr>
          <a:xfrm>
            <a:off x="1143000" y="3581280"/>
            <a:ext cx="1219320" cy="370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7"/>
          <a:stretch/>
        </p:blipFill>
        <p:spPr>
          <a:xfrm>
            <a:off x="3962520" y="3581280"/>
            <a:ext cx="1828800" cy="293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8"/>
          <a:stretch/>
        </p:blipFill>
        <p:spPr>
          <a:xfrm>
            <a:off x="6629400" y="3505320"/>
            <a:ext cx="1752480" cy="331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9"/>
          <a:stretch/>
        </p:blipFill>
        <p:spPr>
          <a:xfrm>
            <a:off x="1143000" y="3962520"/>
            <a:ext cx="1752480" cy="280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0"/>
          <a:stretch/>
        </p:blipFill>
        <p:spPr>
          <a:xfrm>
            <a:off x="3962520" y="3886200"/>
            <a:ext cx="2057400" cy="285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1"/>
          <a:stretch/>
        </p:blipFill>
        <p:spPr>
          <a:xfrm>
            <a:off x="6629400" y="3886200"/>
            <a:ext cx="1600200" cy="320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2"/>
          <a:stretch/>
        </p:blipFill>
        <p:spPr>
          <a:xfrm>
            <a:off x="1143000" y="4267080"/>
            <a:ext cx="1219320" cy="343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3"/>
          <a:stretch/>
        </p:blipFill>
        <p:spPr>
          <a:xfrm>
            <a:off x="3962520" y="4191120"/>
            <a:ext cx="1828800" cy="350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4"/>
          <a:stretch/>
        </p:blipFill>
        <p:spPr>
          <a:xfrm>
            <a:off x="6629400" y="4191120"/>
            <a:ext cx="1066680" cy="336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20" y="227556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5040" y="403740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-2880" y="478044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998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0280" y="57906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цін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 бали (по 0,5 бала за кожний вірно виконаний прикла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олективно складається таке правило-орієнтир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Винести загальний множник (якщо він є) за ду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пробувати розкласти многочлен (отриманий в дужках) за формулами скороченого множ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Якщо многочлен містить більше трьох членів, то спробувати застосувати спосіб угрупо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хно</cp:lastModifiedBy>
  <dcterms:modified xsi:type="dcterms:W3CDTF">2012-10-17T16:42:26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1000000000001024140</vt:lpwstr>
  </property>
  <property fmtid="{D5CDD505-2E9C-101B-9397-08002B2CF9AE}" pid="3" name="Version">
    <vt:r8>1</vt:r8>
  </property>
</Properties>
</file>