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root" initials="r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<Relationship Id="rId13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08-02-21T00:13:32.886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DAD6-3909-498F-BCC1-BFDB23BA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6C9-D5AD-4068-BD02-DF640691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5BA8-1C29-4385-A90F-C753069E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C813-F56A-4FFE-87C9-8F5218A8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457-C46D-4A6A-81C0-2AFC210E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4AD6-4FE0-41C2-82AD-AF082D74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18E-3F76-4F74-AF2A-3CEC69F1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1FE1-AFDC-46EE-9488-BAAC3770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BF3A-470D-46B5-96D5-93652B07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72C-D451-4E41-A629-6A1BB546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C5F6-3FCF-471F-92C4-14057C56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2F0B-8546-4F27-BF7F-F2E3D35C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AD87-DF9D-4D59-ABD2-0A4453E66DC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orks.fij.ru/Samara/r5/history/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571680" y="1071720"/>
            <a:ext cx="7920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00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  а  р   і   в   н   и й    с в  і т     к в а д р. а т н и х    р   і   в  н  я   н  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cc00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1908000" y="2565360"/>
            <a:ext cx="53280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д  проектом  працювали: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іточко  Олександр,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рам  Сергій,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аврилов Степан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 клас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67579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Calibri"/>
              </a:rPr>
              <a:t>Наша група”Універсалів”працювала над проблемою  розв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’</a:t>
            </a:r>
            <a:r>
              <a:rPr b="1" i="1" lang="uk-UA" sz="3200" spc="-1" strike="noStrike">
                <a:solidFill>
                  <a:srgbClr val="ff0000"/>
                </a:solidFill>
                <a:latin typeface="Calibri"/>
              </a:rPr>
              <a:t>язання квадратних рівнянь різними способ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Calibri"/>
              </a:rPr>
              <a:t>Знайшла цікаві дані з історії виникнення квадратних рівнян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Calibri"/>
              </a:rPr>
              <a:t>Провела опитування в своєї рідні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Calibri"/>
              </a:rPr>
              <a:t>Результатом нашої роботи має стати створення мультимедійної презент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Прямоугольник 8" descr=""/>
          <p:cNvPicPr/>
          <p:nvPr/>
        </p:nvPicPr>
        <p:blipFill>
          <a:blip r:embed="rId1"/>
          <a:stretch/>
        </p:blipFill>
        <p:spPr>
          <a:xfrm>
            <a:off x="1438200" y="249120"/>
            <a:ext cx="6437520" cy="1109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Program Files\Microsoft Office\MEDIA\CAGCAT10\j0300520.gif"/>
          <p:cNvPicPr/>
          <p:nvPr/>
        </p:nvPicPr>
        <p:blipFill>
          <a:blip r:embed="rId2"/>
          <a:stretch/>
        </p:blipFill>
        <p:spPr>
          <a:xfrm>
            <a:off x="7000920" y="3357720"/>
            <a:ext cx="1928880" cy="239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Organization Chart 7"/>
          <p:cNvGrpSpPr/>
          <p:nvPr/>
        </p:nvGrpSpPr>
        <p:grpSpPr>
          <a:xfrm>
            <a:off x="431640" y="1589040"/>
            <a:ext cx="8208360" cy="4462560"/>
            <a:chOff x="431640" y="1589040"/>
            <a:chExt cx="8208360" cy="4462560"/>
          </a:xfrm>
        </p:grpSpPr>
        <p:cxnSp>
          <p:nvCxnSpPr>
            <p:cNvPr id="50" name="_s1028"/>
            <p:cNvCxnSpPr>
              <a:stCxn id="51" idx="0"/>
              <a:endCxn id="52" idx="2"/>
            </p:cNvCxnSpPr>
            <p:nvPr/>
          </p:nvCxnSpPr>
          <p:spPr>
            <a:xfrm flipV="1" rot="16200000">
              <a:off x="5538240" y="2382840"/>
              <a:ext cx="867960" cy="2873520"/>
            </a:xfrm>
            <a:prstGeom prst="bentConnector3">
              <a:avLst>
                <a:gd name="adj1" fmla="val 13195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3" name="_s1029"/>
            <p:cNvCxnSpPr>
              <a:stCxn id="54" idx="0"/>
              <a:endCxn id="52" idx="2"/>
            </p:cNvCxnSpPr>
            <p:nvPr/>
          </p:nvCxnSpPr>
          <p:spPr>
            <a:xfrm flipV="1">
              <a:off x="4536000" y="3385800"/>
              <a:ext cx="3600" cy="8679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5" name="_s1030"/>
            <p:cNvCxnSpPr>
              <a:stCxn id="56" idx="0"/>
              <a:endCxn id="52" idx="2"/>
            </p:cNvCxnSpPr>
            <p:nvPr/>
          </p:nvCxnSpPr>
          <p:spPr>
            <a:xfrm flipH="1" flipV="1" rot="5400000">
              <a:off x="2665440" y="2383200"/>
              <a:ext cx="867960" cy="2873520"/>
            </a:xfrm>
            <a:prstGeom prst="bentConnector3">
              <a:avLst>
                <a:gd name="adj1" fmla="val 13195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52" name="_s1031"/>
            <p:cNvSpPr/>
            <p:nvPr/>
          </p:nvSpPr>
          <p:spPr>
            <a:xfrm>
              <a:off x="3304440" y="158904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663300"/>
                  </a:solidFill>
                  <a:uFillTx/>
                  <a:latin typeface="Times New Roman"/>
                  <a:ea typeface="Tahoma"/>
                </a:rPr>
                <a:t>Види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663300"/>
                  </a:solidFill>
                  <a:uFillTx/>
                  <a:latin typeface="Times New Roman"/>
                  <a:ea typeface="Tahoma"/>
                </a:rPr>
                <a:t>квадратних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663300"/>
                  </a:solidFill>
                  <a:uFillTx/>
                  <a:latin typeface="Times New Roman"/>
                  <a:ea typeface="Tahoma"/>
                </a:rPr>
                <a:t>рівнянь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_s1032"/>
            <p:cNvSpPr/>
            <p:nvPr/>
          </p:nvSpPr>
          <p:spPr>
            <a:xfrm>
              <a:off x="43164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Tahoma"/>
                </a:rPr>
                <a:t>Неповні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ahoma"/>
                </a:rPr>
                <a:t>ax</a:t>
              </a:r>
              <a:r>
                <a:rPr b="1" lang="en-US" sz="32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²+c</a:t>
              </a:r>
              <a:r>
                <a:rPr b="1" lang="ru-RU" sz="32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=0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ahoma"/>
                </a:rPr>
                <a:t>ax</a:t>
              </a:r>
              <a:r>
                <a:rPr b="1" lang="en-US" sz="32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²+bx=0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330444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Tahoma"/>
                </a:rPr>
                <a:t>Зведені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ahoma"/>
                </a:rPr>
                <a:t>x</a:t>
              </a:r>
              <a:r>
                <a:rPr b="1" lang="en-US" sz="32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²+px+q=0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_s1034"/>
            <p:cNvSpPr/>
            <p:nvPr/>
          </p:nvSpPr>
          <p:spPr>
            <a:xfrm>
              <a:off x="617760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Tahoma"/>
                </a:rPr>
                <a:t>Повні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ahoma"/>
                </a:rPr>
                <a:t>ax</a:t>
              </a:r>
              <a:r>
                <a:rPr b="1" lang="en-US" sz="28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²+bx+c=0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WordArt 4"/>
          <p:cNvSpPr txBox="1"/>
          <p:nvPr/>
        </p:nvSpPr>
        <p:spPr>
          <a:xfrm>
            <a:off x="826920" y="333360"/>
            <a:ext cx="763272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і дослідженн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0384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ивів формули рішень  для квадратних рівнянь  Франсуа Віє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Tahoma"/>
              </a:rPr>
              <a:t>Вперше, хто роз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`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ahoma"/>
              </a:rPr>
              <a:t>язав квадратні рівняння – це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Tahoma"/>
              </a:rPr>
              <a:t> мате -матики давнього Єгип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Фото004"/>
          <p:cNvPicPr/>
          <p:nvPr/>
        </p:nvPicPr>
        <p:blipFill>
          <a:blip r:embed="rId1"/>
          <a:stretch/>
        </p:blipFill>
        <p:spPr>
          <a:xfrm>
            <a:off x="5148360" y="1771560"/>
            <a:ext cx="3028680" cy="4038840"/>
          </a:xfrm>
          <a:prstGeom prst="rect">
            <a:avLst/>
          </a:prstGeom>
          <a:ln w="0">
            <a:noFill/>
          </a:ln>
        </p:spPr>
      </p:pic>
      <p:sp>
        <p:nvSpPr>
          <p:cNvPr id="61" name="WordArt 8"/>
          <p:cNvSpPr txBox="1"/>
          <p:nvPr/>
        </p:nvSpPr>
        <p:spPr>
          <a:xfrm>
            <a:off x="755640" y="333360"/>
            <a:ext cx="756144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ікаве з історії квадратних рівнян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8435880" cy="49719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Tahoma"/>
              </a:rPr>
              <a:t>Вієт вивів різні способи розв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Tahoma"/>
              </a:rPr>
              <a:t>`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Tahoma"/>
              </a:rPr>
              <a:t>язання квадратних рівнянь, як зведених так і повних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Tahoma"/>
              </a:rPr>
              <a:t>Ми розв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Tahoma"/>
              </a:rPr>
              <a:t>`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Tahoma"/>
              </a:rPr>
              <a:t>язали квадратн</a:t>
            </a:r>
            <a:r>
              <a:rPr b="1" i="1" lang="uk-UA" sz="3600" spc="-1" strike="noStrike">
                <a:solidFill>
                  <a:srgbClr val="000000"/>
                </a:solidFill>
                <a:latin typeface="Calibri"/>
                <a:ea typeface="Tahoma"/>
              </a:rPr>
              <a:t>і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Tahoma"/>
              </a:rPr>
              <a:t> рівняння  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Tahoma"/>
              </a:rPr>
              <a:t>                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Calibri"/>
                <a:ea typeface="Tahoma"/>
              </a:rPr>
              <a:t>x²+1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  <a:ea typeface="Tahoma"/>
              </a:rPr>
              <a:t>4</a:t>
            </a:r>
            <a:r>
              <a:rPr b="1" i="1" lang="en-US" sz="3600" spc="-1" strike="noStrike">
                <a:solidFill>
                  <a:srgbClr val="ff0000"/>
                </a:solidFill>
                <a:latin typeface="Calibri"/>
                <a:ea typeface="Tahoma"/>
              </a:rPr>
              <a:t>x+</a:t>
            </a:r>
            <a:r>
              <a:rPr b="1" i="1" lang="uk-UA" sz="3600" spc="-1" strike="noStrike">
                <a:solidFill>
                  <a:srgbClr val="ff0000"/>
                </a:solidFill>
                <a:latin typeface="Calibri"/>
                <a:ea typeface="Tahoma"/>
              </a:rPr>
              <a:t>13</a:t>
            </a:r>
            <a:r>
              <a:rPr b="1" i="1" lang="en-US" sz="3600" spc="-1" strike="noStrike">
                <a:solidFill>
                  <a:srgbClr val="ff0000"/>
                </a:solidFill>
                <a:latin typeface="Calibri"/>
                <a:ea typeface="Tahoma"/>
              </a:rPr>
              <a:t>=0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  <a:ea typeface="Tahoma"/>
              </a:rPr>
              <a:t>,  5х²-7х+2= 0 ,  х²-4х+3=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Tahoma"/>
              </a:rPr>
              <a:t>За формул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Tahoma"/>
              </a:rPr>
              <a:t>За властивістю коефіцієнтів </a:t>
            </a:r>
            <a:r>
              <a:rPr b="1" i="1" lang="en-US" sz="3600" spc="-1" strike="noStrike">
                <a:solidFill>
                  <a:srgbClr val="0070c0"/>
                </a:solidFill>
                <a:latin typeface="Calibri"/>
                <a:ea typeface="Tahoma"/>
              </a:rPr>
              <a:t>a+b+c=0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ahoma"/>
              </a:rPr>
              <a:t>, a-b+c=0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ahoma"/>
              </a:rPr>
              <a:t>.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WordArt 4"/>
          <p:cNvSpPr txBox="1"/>
          <p:nvPr/>
        </p:nvSpPr>
        <p:spPr>
          <a:xfrm rot="285600">
            <a:off x="-252360" y="549000"/>
            <a:ext cx="8640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56000"/>
                  </a:srgbClr>
                </a:solidFill>
                <a:latin typeface="Impact"/>
              </a:rPr>
              <a:t>Допомога Франсуа  Вієта  у  розвязку  квадратних рівня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56000"/>
                </a:srgbClr>
              </a:solidFill>
              <a:latin typeface="Impact"/>
              <a:ea typeface="Impact"/>
            </a:endParaRPr>
          </a:p>
        </p:txBody>
      </p:sp>
    </p:spTree>
  </p:cSld>
  <p:transition spd="med"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i="1" lang="uk-UA" sz="2800" spc="-1" strike="noStrike">
                <a:solidFill>
                  <a:srgbClr val="003399"/>
                </a:solidFill>
                <a:latin typeface="Calibri"/>
              </a:rPr>
              <a:t>Батьки – з 10 знали лише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i="1" lang="uk-UA" sz="2800" spc="-1" strike="noStrike">
                <a:solidFill>
                  <a:srgbClr val="003399"/>
                </a:solidFill>
                <a:latin typeface="Calibri"/>
              </a:rPr>
              <a:t>Дідусі та бабусі- з 10 опитуваних знали лише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99"/>
                </a:solidFill>
                <a:latin typeface="Calibri"/>
              </a:rPr>
              <a:t>Старші брати і сестри – з 10 опитуваних знали 8 чолові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Object 16" descr=""/>
          <p:cNvPicPr/>
          <p:nvPr/>
        </p:nvPicPr>
        <p:blipFill>
          <a:blip r:embed="rId1"/>
          <a:stretch/>
        </p:blipFill>
        <p:spPr>
          <a:xfrm>
            <a:off x="5442120" y="1738440"/>
            <a:ext cx="2482560" cy="2189160"/>
          </a:xfrm>
          <a:prstGeom prst="rect">
            <a:avLst/>
          </a:prstGeom>
          <a:ln w="0">
            <a:noFill/>
          </a:ln>
        </p:spPr>
      </p:pic>
      <p:sp>
        <p:nvSpPr>
          <p:cNvPr id="68" name="WordArt 7"/>
          <p:cNvSpPr txBox="1"/>
          <p:nvPr/>
        </p:nvSpPr>
        <p:spPr>
          <a:xfrm>
            <a:off x="324000" y="189000"/>
            <a:ext cx="853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питування знань квадратних рівнянь у нашої рідні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amond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7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Calibri"/>
              </a:rPr>
              <a:t>Над проектом</a:t>
            </a:r>
            <a:r>
              <a:rPr b="1" i="1" lang="ru-RU" sz="28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d0d0d"/>
                </a:solidFill>
                <a:latin typeface="Calibri"/>
              </a:rPr>
              <a:t>працювала група дослідників 8 класу Раухівської загальноосвітньої</a:t>
            </a:r>
            <a:r>
              <a:rPr b="1" i="1" lang="ru-RU" sz="28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d0d0d"/>
                </a:solidFill>
                <a:latin typeface="Calibri"/>
              </a:rPr>
              <a:t>шко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d0d0d"/>
                </a:solidFill>
                <a:latin typeface="Calibri"/>
              </a:rPr>
              <a:t>Ніточко 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i="1" lang="uk-UA" sz="3200" spc="-1" strike="noStrike">
                <a:solidFill>
                  <a:srgbClr val="0d0d0d"/>
                </a:solidFill>
                <a:latin typeface="Calibri"/>
              </a:rPr>
              <a:t>Сабрам 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Фото007"/>
          <p:cNvPicPr/>
          <p:nvPr/>
        </p:nvPicPr>
        <p:blipFill>
          <a:blip r:embed="rId1"/>
          <a:stretch/>
        </p:blipFill>
        <p:spPr>
          <a:xfrm>
            <a:off x="4786200" y="2133720"/>
            <a:ext cx="4106880" cy="3166920"/>
          </a:xfrm>
          <a:prstGeom prst="rect">
            <a:avLst/>
          </a:prstGeom>
          <a:ln w="0">
            <a:noFill/>
          </a:ln>
        </p:spPr>
      </p:pic>
      <p:sp>
        <p:nvSpPr>
          <p:cNvPr id="72" name="WordArt 6"/>
          <p:cNvSpPr txBox="1"/>
          <p:nvPr/>
        </p:nvSpPr>
        <p:spPr>
          <a:xfrm>
            <a:off x="1714680" y="333360"/>
            <a:ext cx="500040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р у п а  “У н і в е р. с а л і в”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453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800" spc="-1" strike="noStrike">
                <a:solidFill>
                  <a:srgbClr val="953735"/>
                </a:solidFill>
                <a:latin typeface="Calibri"/>
              </a:rPr>
              <a:t>Алгебра.8 клас. Упорядник Г.П.Бев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58ed5"/>
                </a:solidFill>
                <a:latin typeface="Calibri"/>
              </a:rPr>
              <a:t>   </a:t>
            </a:r>
            <a:r>
              <a:rPr b="1" i="1" lang="ru-RU" sz="2800" spc="-1" strike="noStrike">
                <a:solidFill>
                  <a:srgbClr val="558ed5"/>
                </a:solidFill>
                <a:latin typeface="Calibri"/>
              </a:rPr>
              <a:t>Інтернет сайт. 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works.fij.ru/Samara/r5/history/htm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1" i="1" lang="en-US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Програм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i="1" lang="en-US" sz="2800" spc="-1" strike="noStrike">
                <a:solidFill>
                  <a:srgbClr val="7030a0"/>
                </a:solidFill>
                <a:latin typeface="Calibri"/>
              </a:rPr>
              <a:t>Microsoft Off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i="1" lang="en-US" sz="2800" spc="-1" strike="noStrike">
                <a:solidFill>
                  <a:srgbClr val="7030a0"/>
                </a:solidFill>
                <a:latin typeface="Calibri"/>
              </a:rPr>
              <a:t>Microsoft Power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i="1" lang="en-US" sz="2800" spc="-1" strike="noStrike">
                <a:solidFill>
                  <a:srgbClr val="7030a0"/>
                </a:solidFill>
                <a:latin typeface="Calibri"/>
              </a:rPr>
              <a:t>Microsoft Exc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WordArt 8"/>
          <p:cNvSpPr txBox="1"/>
          <p:nvPr/>
        </p:nvSpPr>
        <p:spPr>
          <a:xfrm>
            <a:off x="1763640" y="476280"/>
            <a:ext cx="532944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користані джере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Picture 6" descr="best_road_big"/>
          <p:cNvPicPr/>
          <p:nvPr/>
        </p:nvPicPr>
        <p:blipFill>
          <a:blip r:embed="rId2"/>
          <a:stretch/>
        </p:blipFill>
        <p:spPr>
          <a:xfrm>
            <a:off x="5429160" y="2400480"/>
            <a:ext cx="2197080" cy="2600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900" spc="-1" strike="noStrike">
                <a:solidFill>
                  <a:srgbClr val="cc00cc"/>
                </a:solidFill>
                <a:latin typeface="Calibri"/>
              </a:rPr>
              <a:t>До</a:t>
            </a:r>
            <a:r>
              <a:rPr b="1" i="1" lang="uk-UA" sz="5900" spc="-1" strike="noStrike">
                <a:solidFill>
                  <a:srgbClr val="cc00cc"/>
                </a:solidFill>
                <a:latin typeface="Calibri"/>
              </a:rPr>
              <a:t> скорої зустрічі у нашій школі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root\Desktop\8 клас.gif"/>
          <p:cNvPicPr/>
          <p:nvPr/>
        </p:nvPicPr>
        <p:blipFill>
          <a:blip r:embed="rId1"/>
          <a:stretch/>
        </p:blipFill>
        <p:spPr>
          <a:xfrm>
            <a:off x="1428840" y="2286000"/>
            <a:ext cx="6215040" cy="40719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400068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2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lanova N M</dc:creator>
  <dc:description/>
  <dc:language>en-US</dc:language>
  <cp:lastModifiedBy>root</cp:lastModifiedBy>
  <dcterms:modified xsi:type="dcterms:W3CDTF">2008-02-22T03:10:28Z</dcterms:modified>
  <cp:revision>37</cp:revision>
  <dc:subject>Чарівний світ кв. рівнянь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0c000000000001024140</vt:lpwstr>
  </property>
</Properties>
</file>