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chimes.wav" ContentType="audio/x-wav"/>
  <Override PartName="/ppt/media/image7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6.jpeg" ContentType="image/jpeg"/>
  <Override PartName="/ppt/media/applause.wav" ContentType="audio/x-wav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A25A-8967-4D6C-8F0E-112C4FADC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D209-7C4D-407E-9B9C-04CDB8820F50}" type="slidenum">
              <a:rPr b="0" lang="ru-RU" sz="12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332-D4B1-4892-B28D-4B94A5DB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AAF-665E-45CF-B430-2AE9C58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E72-53A3-403D-8A72-1C82C6B5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561-242E-48ED-B417-91510756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071-54CA-4E40-9A3F-6C5F828B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F1F-768A-4F89-A566-B5F9483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45C-D769-4510-B5A8-341D7A6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DD8-7CCB-421B-834B-3579E509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58D-AADA-4F04-BFC4-5F8DC7BD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70F-A83B-4432-A88E-9EE3258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094-5129-4085-9948-6FB99FA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D4F-33C3-4187-AC16-61470F8A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01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01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101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D63-6373-45FD-89C9-DD81B5690C47}" type="slidenum">
              <a:rPr b="0" lang="ru-RU" sz="14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7786800" cy="15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2960" y="3860640"/>
            <a:ext cx="716112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Проект з алгебри для 8 класу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ЗОШ І-ІІІ ст. смт Раухівка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Березівського району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Одеської області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ff"/>
                </a:solidFill>
                <a:latin typeface="Arial"/>
              </a:rPr>
              <a:t>Уланова Н М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971640" y="549360"/>
            <a:ext cx="70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 а  р  і  в  н  и  й       с  в  і  т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714240" y="2928960"/>
            <a:ext cx="72867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   в  а  д  р а т н и х    р  і  в н я н  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2" descr="j0195384"/>
          <p:cNvPicPr/>
          <p:nvPr/>
        </p:nvPicPr>
        <p:blipFill>
          <a:blip r:embed="rId1"/>
          <a:stretch/>
        </p:blipFill>
        <p:spPr>
          <a:xfrm>
            <a:off x="6372360" y="4724280"/>
            <a:ext cx="2520720" cy="20178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Вірно чи ні, що рівняння виду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x²+bx+c=0 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називають квадратним рівнянням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Відомо,що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²-4ac&lt;0.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Чи виникає з цього,що квадратне рівняння має один корень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ка теорема дає  можливість  швидко розв’язати квадратне рівняння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к зв'язок між коефіцієнтами впливає на розв'язування квадратного рівняння 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54" name="WordArt 5" descr=""/>
          <p:cNvPicPr/>
          <p:nvPr/>
        </p:nvPicPr>
        <p:blipFill>
          <a:blip r:embed="rId1"/>
          <a:stretch/>
        </p:blipFill>
        <p:spPr>
          <a:xfrm>
            <a:off x="2114640" y="689040"/>
            <a:ext cx="4329000" cy="627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2"/>
          <a:stretch/>
        </p:blipFill>
        <p:spPr>
          <a:xfrm>
            <a:off x="407880" y="133200"/>
            <a:ext cx="8382240" cy="939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15238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57" name="Picture 9" descr="C:\Program Files\Microsoft Office\MEDIA\CAGCAT10\j0299125.wmf"/>
          <p:cNvPicPr/>
          <p:nvPr/>
        </p:nvPicPr>
        <p:blipFill>
          <a:blip r:embed="rId3"/>
          <a:stretch/>
        </p:blipFill>
        <p:spPr>
          <a:xfrm>
            <a:off x="7858080" y="43578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4824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Допоможе навчитися розв'язувати різними способами квадратні рівняння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Дати навички роботи з комп'ютером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Допоможе об'єктивно оцінювати свою діяльність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539640" y="189000"/>
            <a:ext cx="79614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76a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Що  дає  нам  виконання  проекту ?</a:t>
            </a:r>
            <a:endParaRPr b="0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0076a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327640" y="2214720"/>
            <a:ext cx="3816360" cy="28080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2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1714320"/>
            <a:ext cx="5214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Буде працювати над проблемою  розв</a:t>
            </a:r>
            <a:r>
              <a:rPr b="0" lang="en-US" sz="2800" spc="-1" strike="noStrike">
                <a:solidFill>
                  <a:srgbClr val="00000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язування квадратних рівнянь різними способами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Цікаві дані з історії виникнення квадратних рівнянь 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Проведе опитування в своєї рідні 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f"/>
                </a:solidFill>
                <a:latin typeface="Arial"/>
              </a:rPr>
              <a:t>Результатом її роботи має стати створення мультимедійної презентації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62" name="Picture 12" descr="j0292020"/>
          <p:cNvPicPr/>
          <p:nvPr/>
        </p:nvPicPr>
        <p:blipFill>
          <a:blip r:embed="rId1"/>
          <a:stretch/>
        </p:blipFill>
        <p:spPr>
          <a:xfrm>
            <a:off x="5810400" y="1773360"/>
            <a:ext cx="2938320" cy="3000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1547640" y="0"/>
            <a:ext cx="56102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цього створимо 3 груп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79280" y="1557360"/>
            <a:ext cx="52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група " Універсали"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8000">
    <p:strips dir="ld"/>
    <p:sndAc>
      <p:stSnd>
        <p:snd r:embed="rId4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5840" y="1676160"/>
            <a:ext cx="8556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Здійснюватиме пошук у різноманітних джерелах (підручниках,Інтернеті) інформації про виникнення квадратних рівнянь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Проведе захист теореми Вієта та розв’язування рівнянь іншими способами 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Об’яве конкурс на розв’язування рівнянь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Результатом роботи групи має стати публікація в програмі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ublisher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66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255600"/>
            <a:ext cx="8132760" cy="1103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69" name="Picture 9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7396200" y="50007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newsflash/>
    <p:sndAc>
      <p:stSnd>
        <p:snd r:embed="rId3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3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3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6760" y="1714320"/>
            <a:ext cx="8556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Узагальнюватиме результати роботи всіх груп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Проведе опитування учнів про використання квадратних рівнянь у різних предметах (створення діаграми 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1f9ff"/>
                </a:solidFill>
                <a:latin typeface="Arial"/>
              </a:rPr>
              <a:t>Створюватиме Веб-сторінку,яка дасть можливість побачити результати роботи всіх груп  учням з інших міст та країн для обміну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851544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Program Files\Microsoft Office\MEDIA\CAGCAT10\j0300520.gif"/>
          <p:cNvPicPr/>
          <p:nvPr/>
        </p:nvPicPr>
        <p:blipFill>
          <a:blip r:embed="rId2"/>
          <a:stretch/>
        </p:blipFill>
        <p:spPr>
          <a:xfrm>
            <a:off x="7286760" y="5234040"/>
            <a:ext cx="159516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edge/>
    <p:sndAc>
      <p:stSnd>
        <p:snd r:embed="rId3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6500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9</a:t>
            </a: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с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чня – ознайомлення   з проектом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січня– поділ на групи,розподіл обов’язків.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5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січня– оформлення інформації на папері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8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лютого– створення публікації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1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 лютого– створення презентації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5 </a:t>
            </a:r>
            <a:r>
              <a:rPr b="0" lang="uk-UA" sz="2800" spc="-1" strike="noStrike">
                <a:solidFill>
                  <a:srgbClr val="010199"/>
                </a:solidFill>
                <a:latin typeface="Arial"/>
              </a:rPr>
              <a:t>лютого– створення веб-сторінки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22</a:t>
            </a:r>
            <a:r>
              <a:rPr b="0" lang="uk-UA" sz="3200" spc="-1" strike="noStrike">
                <a:solidFill>
                  <a:srgbClr val="010199"/>
                </a:solidFill>
                <a:latin typeface="Arial"/>
              </a:rPr>
              <a:t> лютого--захист проекту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76" name="Прямоугольник 12" descr=""/>
          <p:cNvPicPr/>
          <p:nvPr/>
        </p:nvPicPr>
        <p:blipFill>
          <a:blip r:embed="rId1"/>
          <a:stretch/>
        </p:blipFill>
        <p:spPr>
          <a:xfrm>
            <a:off x="884160" y="66600"/>
            <a:ext cx="727236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nature_088"/>
          <p:cNvPicPr/>
          <p:nvPr/>
        </p:nvPicPr>
        <p:blipFill>
          <a:blip r:embed="rId2"/>
          <a:stretch/>
        </p:blipFill>
        <p:spPr>
          <a:xfrm>
            <a:off x="6443640" y="2133720"/>
            <a:ext cx="2592360" cy="35272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checke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Кінцевим результатом вашої роботи над проектом стане участь у мІж предметній конференції старшокласників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i="1" lang="uk-UA" sz="3600" spc="-1" strike="noStrike">
                <a:solidFill>
                  <a:srgbClr val="ff00ff"/>
                </a:solidFill>
                <a:latin typeface="Arial"/>
              </a:rPr>
              <a:t>Чарівний  світ математики”</a:t>
            </a: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ff"/>
                </a:solidFill>
                <a:latin typeface="Arial"/>
              </a:rPr>
              <a:t>яка відбудеться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28</a:t>
            </a:r>
            <a:r>
              <a:rPr b="1" lang="uk-UA" sz="4000" spc="-1" strike="noStrike">
                <a:solidFill>
                  <a:srgbClr val="ff00ff"/>
                </a:solidFill>
                <a:latin typeface="Arial"/>
              </a:rPr>
              <a:t> лютого</a:t>
            </a:r>
            <a:r>
              <a:rPr b="1" lang="uk-UA" sz="40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uk-UA" sz="3600" spc="-1" strike="noStrike">
                <a:solidFill>
                  <a:srgbClr val="0101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79" name="Прямоугольник 5" descr=""/>
          <p:cNvPicPr/>
          <p:nvPr/>
        </p:nvPicPr>
        <p:blipFill>
          <a:blip r:embed="rId1"/>
          <a:stretch/>
        </p:blipFill>
        <p:spPr>
          <a:xfrm>
            <a:off x="268200" y="281160"/>
            <a:ext cx="8551800" cy="8888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wheel spokes="8"/>
    <p:sndAc>
      <p:stSnd>
        <p:snd r:embed="rId2" name="applause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3:30:00Z</dcterms:created>
  <dc:creator>Ulanova N M</dc:creator>
  <dc:description/>
  <dc:language>en-US</dc:language>
  <cp:lastModifiedBy>User</cp:lastModifiedBy>
  <dcterms:modified xsi:type="dcterms:W3CDTF">2012-08-19T21:17:17Z</dcterms:modified>
  <cp:revision>113</cp:revision>
  <dc:subject/>
  <dc:title>Чарівний світ квадратних рівнян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a000000000001024140</vt:lpwstr>
  </property>
</Properties>
</file>