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ot" initials="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8-02-21T00:13:32.88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31E-858B-4AA2-8439-098B3C7E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017-BBFC-4C48-8D69-1037EB45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96F-BE16-4A86-A97E-80765020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C00-54BE-477E-9BBC-7DECC3D4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383-6B0E-4C4A-9BCC-7A7AF164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7FD-3FA0-4B12-ADEB-BCCFE0CC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733-7D06-4958-BA9F-532667BC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CDB-83A0-46A2-8CF7-FE1D0E9B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A24-2753-47B5-B621-085EEE9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1CF-36A3-471A-9DFB-008EA55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DC5-171E-41DA-8509-286BB18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F15-0FE2-499C-A2EA-79A95B6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7B2-DE5E-45E7-AE92-63AC8977CDF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ks.fij.ru/Samara/r5/history/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571680" y="1071720"/>
            <a:ext cx="7920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00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 а  р   і   в   н   и й    с в  і т     к в а д р. а т н и х    р   і   в  н  я   н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00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908000" y="2565360"/>
            <a:ext cx="5328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 проектом  працювали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іточко  Олександр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рам  Сергій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врилов Степан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клас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67579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Наша група”Універсалів”працювала над проблемою  розв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язання квадратних рівнянь різними способ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Знайшла цікаві дані з історії виникнення квадратних рівня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Провела опитування в своєї рідні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Результатом нашої роботи має стати створення мультимедійної презент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1438200" y="249120"/>
            <a:ext cx="6437520" cy="11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000920" y="3357720"/>
            <a:ext cx="1928880" cy="23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38240" y="2382840"/>
              <a:ext cx="867960" cy="2873520"/>
            </a:xfrm>
            <a:prstGeom prst="bentConnector3">
              <a:avLst>
                <a:gd name="adj1" fmla="val 1319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36000" y="3385800"/>
              <a:ext cx="3600" cy="867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65440" y="2383200"/>
              <a:ext cx="867960" cy="2873520"/>
            </a:xfrm>
            <a:prstGeom prst="bentConnector3">
              <a:avLst>
                <a:gd name="adj1" fmla="val 13195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Види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квадратних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рівнянь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Неповні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c</a:t>
              </a:r>
              <a:r>
                <a:rPr b="1" lang="ru-RU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bx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Зведені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px+q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Повні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bx+c=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WordArt 4"/>
          <p:cNvSpPr txBox="1"/>
          <p:nvPr/>
        </p:nvSpPr>
        <p:spPr>
          <a:xfrm>
            <a:off x="826920" y="333360"/>
            <a:ext cx="76327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і дослідже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вів формули рішень  для квадратних рівнянь  Франсуа Віє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Вперше, хто роз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язав квадратні рівняння – це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 мате -матики давнього Єгип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Фото004"/>
          <p:cNvPicPr/>
          <p:nvPr/>
        </p:nvPicPr>
        <p:blipFill>
          <a:blip r:embed="rId1"/>
          <a:stretch/>
        </p:blipFill>
        <p:spPr>
          <a:xfrm>
            <a:off x="5148360" y="1771560"/>
            <a:ext cx="3028680" cy="4038840"/>
          </a:xfrm>
          <a:prstGeom prst="rect">
            <a:avLst/>
          </a:prstGeom>
          <a:ln w="0">
            <a:noFill/>
          </a:ln>
        </p:spPr>
      </p:pic>
      <p:sp>
        <p:nvSpPr>
          <p:cNvPr id="61" name="WordArt 8"/>
          <p:cNvSpPr txBox="1"/>
          <p:nvPr/>
        </p:nvSpPr>
        <p:spPr>
          <a:xfrm>
            <a:off x="755640" y="333360"/>
            <a:ext cx="75614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ікаве з історії квадратних рівня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435880" cy="497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Вієт вивів різні способи розв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язання квадратних рівнянь, як зведених так і повни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Ми розв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язали квадратн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і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 рівняння 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x²+1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  <a:ea typeface="Tahoma"/>
              </a:rPr>
              <a:t>4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x+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  <a:ea typeface="Tahoma"/>
              </a:rPr>
              <a:t>13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=0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  <a:ea typeface="Tahoma"/>
              </a:rPr>
              <a:t>,  5х²-7х+2= 0 ,  х²-4х+3=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За формул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За властивістю коефіцієнтів 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ahoma"/>
              </a:rPr>
              <a:t>a+b+c=0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ahoma"/>
              </a:rPr>
              <a:t>, a-b+c=0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ahoma"/>
              </a:rPr>
              <a:t>.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4"/>
          <p:cNvSpPr txBox="1"/>
          <p:nvPr/>
        </p:nvSpPr>
        <p:spPr>
          <a:xfrm rot="285600">
            <a:off x="-252360" y="549000"/>
            <a:ext cx="864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6000"/>
                  </a:srgbClr>
                </a:solidFill>
                <a:latin typeface="Impact"/>
              </a:rPr>
              <a:t>Допомога Франсуа  Вієта  у  розвязку  квадратних рівня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6000"/>
                </a:srgbClr>
              </a:solidFill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Батьки – з 10 знали лише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Дідусі та бабусі- з 10 опитуваних знали лише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Старші брати і сестри – з 10 опитуваних знали 8 чолові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ject 16" descr=""/>
          <p:cNvPicPr/>
          <p:nvPr/>
        </p:nvPicPr>
        <p:blipFill>
          <a:blip r:embed="rId1"/>
          <a:stretch/>
        </p:blipFill>
        <p:spPr>
          <a:xfrm>
            <a:off x="5442120" y="1738440"/>
            <a:ext cx="2482560" cy="218916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324000" y="189000"/>
            <a:ext cx="85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итування знань квадратних рівнянь у нашої рідн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Над проектом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працювала група дослідників 8 класу Раухівської загальноосвітньої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шк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Ніточко 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Сабрам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Фото007"/>
          <p:cNvPicPr/>
          <p:nvPr/>
        </p:nvPicPr>
        <p:blipFill>
          <a:blip r:embed="rId1"/>
          <a:stretch/>
        </p:blipFill>
        <p:spPr>
          <a:xfrm>
            <a:off x="4786200" y="2133720"/>
            <a:ext cx="4106880" cy="3166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714680" y="333360"/>
            <a:ext cx="50004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 у п а  “У н і в е р. с а л і в”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Алгебра.8 клас. Упорядник Г.П.Бев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558ed5"/>
                </a:solidFill>
                <a:latin typeface="Calibri"/>
              </a:rPr>
              <a:t>Інтернет сайт.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rks.fij.ru/Samara/r5/history/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Програ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Power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Exc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1763640" y="476280"/>
            <a:ext cx="5329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ористані джере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best_road_big"/>
          <p:cNvPicPr/>
          <p:nvPr/>
        </p:nvPicPr>
        <p:blipFill>
          <a:blip r:embed="rId2"/>
          <a:stretch/>
        </p:blipFill>
        <p:spPr>
          <a:xfrm>
            <a:off x="5429160" y="2400480"/>
            <a:ext cx="21970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cc00cc"/>
                </a:solidFill>
                <a:latin typeface="Calibri"/>
              </a:rPr>
              <a:t>До</a:t>
            </a:r>
            <a:r>
              <a:rPr b="1" i="1" lang="uk-UA" sz="5900" spc="-1" strike="noStrike">
                <a:solidFill>
                  <a:srgbClr val="cc00cc"/>
                </a:solidFill>
                <a:latin typeface="Calibri"/>
              </a:rPr>
              <a:t> скорої зустрічі у нашій школ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root\Desktop\8 клас.gif"/>
          <p:cNvPicPr/>
          <p:nvPr/>
        </p:nvPicPr>
        <p:blipFill>
          <a:blip r:embed="rId1"/>
          <a:stretch/>
        </p:blipFill>
        <p:spPr>
          <a:xfrm>
            <a:off x="1428840" y="2286000"/>
            <a:ext cx="6215040" cy="4071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400068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lanova N M</dc:creator>
  <dc:description/>
  <dc:language>en-US</dc:language>
  <cp:lastModifiedBy>root</cp:lastModifiedBy>
  <dcterms:modified xsi:type="dcterms:W3CDTF">2008-02-22T03:10:28Z</dcterms:modified>
  <cp:revision>37</cp:revision>
  <dc:subject>Чарівний світ кв. рівнян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c000000000001024140</vt:lpwstr>
  </property>
</Properties>
</file>