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7CC8-7F79-4772-B653-4DFC2EDB3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9DDA-E7A3-4BD8-81DD-B993CF9BA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96C-25B4-4A75-8AA4-2D8A8C0E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56A-2323-4FE9-9C12-79CF74B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035-C5FB-460D-B5ED-7622FFF5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B1A-0F5E-461D-9577-45BE2D87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F0A-4A04-4A98-8580-65F89024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0D2-B3EC-4495-ADB4-15979081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344-64CB-42F3-AEE3-739F886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0ED-13C8-4103-98D6-1E6CB71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338-3A44-42A5-BBFC-9C2607F1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D0B-F4E7-4140-BB53-76279809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BB3-288D-4C77-9D62-1C814ED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C3F-DAC8-4769-95EF-A003C56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44C2-B925-4A55-858A-DF79A27FC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загальнення і  систематизація знань учні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 темі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Лінійні рівняння з однією змінною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0" y="2923920"/>
            <a:ext cx="4248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езентацію підготу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-III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упенів №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Ільніцька Л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ИЛВ\Desktop\Рівняння.gif"/>
          <p:cNvPicPr/>
          <p:nvPr/>
        </p:nvPicPr>
        <p:blipFill>
          <a:blip r:embed="rId1"/>
          <a:stretch/>
        </p:blipFill>
        <p:spPr>
          <a:xfrm>
            <a:off x="108000" y="184464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хай потрібно розв’язати рівняння: x + 6 = 15. Скількома способами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ні відповідають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жна розв’язати на підставі залежностей між доданками і сумою, тобто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= 15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6 = 9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 перший спосі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Други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ти до обох части н рівняння -6. Дістанем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+ 6) + (–6) = 15 + (–6);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+ 6 – 6 = 15 – 6;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Треті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нки можна переносити з однієї частини в другу, змінюючи їхні знаки на протилежні: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15 – 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47592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вати ліву і праву частину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x + 7 = 3x -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0,5x = 4,7х + 8;    в) 4у + 12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ояснити, чому не має розв’язку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х + 3 = 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5 -z = 8 -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ідповідь. В обох рівняннях в лівій та правій частині однакові  змін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ов’язати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5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7;             в) 24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2 = 23;                г) 3,7 – 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повідь.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12;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35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6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0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казати, щ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з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і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 - 2)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2" descr=""/>
          <p:cNvPicPr/>
          <p:nvPr/>
        </p:nvPicPr>
        <p:blipFill>
          <a:blip r:embed="rId1"/>
          <a:stretch/>
        </p:blipFill>
        <p:spPr>
          <a:xfrm>
            <a:off x="317520" y="901800"/>
            <a:ext cx="83757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тецтво склад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міста А до міста В одночасно виїхали автомобіль і мотоцикліст. Коли через 2, 5 год автомобіль прибув до міста В, мотоциклісту до цього міста залишалося проїхати  ще  75 км. Знайти відстань між містами, якщо швидкість автомобіля в 1, 6 разу більша від швидкості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ай швидкість мотоцикліс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/год, тоді швидкість автомобіля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м/год. Автомобіль проїхав 2,5 ∙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Мотоцикліст за цей час проїхав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Відомо, що мотоциклісту до цього міста залишилося проїхати  ще 75 км.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∙ 2,5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50(км/год) – швидкість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стань між містами: 1,6∙50∙2,5 = 200 (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28200" cy="167004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2" descr=""/>
          <p:cNvPicPr/>
          <p:nvPr/>
        </p:nvPicPr>
        <p:blipFill>
          <a:blip r:embed="rId2"/>
          <a:stretch/>
        </p:blipFill>
        <p:spPr>
          <a:xfrm>
            <a:off x="103320" y="1768320"/>
            <a:ext cx="893736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сторична дові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 тривалий час була частиною арифметики — однієї з найдавніших математичних дисциплін. Слово арифметика в перекладі з грецької мови означає „мистецтво чисел”. Алгебру ж після виокремлення її в окрему науку розглядали як мистецтво розв’язуват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ИЛВ\Desktop\рис 1.jpg"/>
          <p:cNvPicPr/>
          <p:nvPr/>
        </p:nvPicPr>
        <p:blipFill>
          <a:blip r:embed="rId1"/>
          <a:stretch/>
        </p:blipFill>
        <p:spPr>
          <a:xfrm>
            <a:off x="465120" y="3249720"/>
            <a:ext cx="3675240" cy="341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ИЛВ\Desktop\2.jpg"/>
          <p:cNvPicPr/>
          <p:nvPr/>
        </p:nvPicPr>
        <p:blipFill>
          <a:blip r:embed="rId2"/>
          <a:stretch/>
        </p:blipFill>
        <p:spPr>
          <a:xfrm>
            <a:off x="4248000" y="3249720"/>
            <a:ext cx="4356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03320" y="182520"/>
            <a:ext cx="8937360" cy="605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0920" y="6165360"/>
            <a:ext cx="86421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ібні задачі вміли розв’язувати вчені Стародавньої Греції, Індії, Кит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ЛВ\Desktop\історичні дані\старод Єгипет.jpeg"/>
          <p:cNvPicPr/>
          <p:nvPr/>
        </p:nvPicPr>
        <p:blipFill>
          <a:blip r:embed="rId2"/>
          <a:stretch/>
        </p:blipFill>
        <p:spPr>
          <a:xfrm>
            <a:off x="250920" y="907920"/>
            <a:ext cx="8642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давня Грец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ИЛВ\Desktop\історичні дані\Стародавня Греція.jpg"/>
          <p:cNvPicPr/>
          <p:nvPr/>
        </p:nvPicPr>
        <p:blipFill>
          <a:blip r:embed="rId2"/>
          <a:stretch/>
        </p:blipFill>
        <p:spPr>
          <a:xfrm>
            <a:off x="250920" y="692280"/>
            <a:ext cx="87850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д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ИЛВ\Desktop\історичні дані\Індія.jpeg"/>
          <p:cNvPicPr/>
          <p:nvPr/>
        </p:nvPicPr>
        <p:blipFill>
          <a:blip r:embed="rId1"/>
          <a:stretch/>
        </p:blipFill>
        <p:spPr>
          <a:xfrm>
            <a:off x="108000" y="692280"/>
            <a:ext cx="885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пі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’ятайте, якщо ви бажаєте навчитися плавати, то сміло заходьте у воду, а якщо бажаєте навчитися розв’язувати задачі, то сміло розв’язуйте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Пой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:\Картинки (Лена)\docs-owl.png"/>
          <p:cNvPicPr/>
          <p:nvPr/>
        </p:nvPicPr>
        <p:blipFill>
          <a:blip r:embed="rId1"/>
          <a:stretch/>
        </p:blipFill>
        <p:spPr>
          <a:xfrm>
            <a:off x="826920" y="3798720"/>
            <a:ext cx="3168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ИЛВ\Desktop\історичні дані\Китай.jpeg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463680" y="5724360"/>
            <a:ext cx="8515080" cy="114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ИЛВ\Desktop\Діофант 4.jpeg"/>
          <p:cNvPicPr/>
          <p:nvPr/>
        </p:nvPicPr>
        <p:blipFill>
          <a:blip r:embed="rId2"/>
          <a:stretch/>
        </p:blipFill>
        <p:spPr>
          <a:xfrm>
            <a:off x="1619280" y="11592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одавня єгипетська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103320" y="615960"/>
            <a:ext cx="87962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 «Відгада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ИЛВ\Desktop\історичні дані\фокусник.jpeg"/>
          <p:cNvPicPr/>
          <p:nvPr/>
        </p:nvPicPr>
        <p:blipFill>
          <a:blip r:embed="rId1"/>
          <a:stretch/>
        </p:blipFill>
        <p:spPr>
          <a:xfrm>
            <a:off x="108000" y="765000"/>
            <a:ext cx="86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ай число. Додай до задуманого числа число 3. Суму помнож на 6. Добуток зменш на 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 час гри дії, запропоновані учням, варто наперед написати мовою алгеб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сля виконання дій матиме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6 ─ 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– 8 = 6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рет фокуса у рівнянн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чий запитує, яке число дістав учень, після виконання дій, а потім розв’язує  відповідне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3739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1.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4 + 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− 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2 (7 −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2,3 – 0,3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2,7 + 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9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3 (8−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3,2 – 0,8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6 + 5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 (1,2 –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4 (6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= 0,5 (7 –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400" y="1844640"/>
            <a:ext cx="3195720" cy="612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1240" y="3933720"/>
            <a:ext cx="2835360" cy="647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54120" y="6093000"/>
            <a:ext cx="2394000" cy="64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ння перших завд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549000"/>
            <a:ext cx="85186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рі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+ 2у = 7(у − 2,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 + 2у – 7у = −16,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6,1 – 3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9,5;    у = 3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,7 + 3у = 9(у – 2,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7 +3у = 9у – 18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18,9 –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21,6;     у = 3,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,6 + 5у = 7(1,2 – 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6 + 5у = 8,4 – 7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у = 4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0,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ання  других  завд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62064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2 (7−2у)  = 2,3 – 0,3(у –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4 – 0,4у = 2,3 – 0,3у + 1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4у + 0,3 =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2,7;  у = − 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3(8−3у) = 3,2 – 0,8(у – 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0,9у = 3,2 – 0,8у + 5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6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− 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4(6 – 4 t) = 0,5(7 – 3 t) −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1,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,5 – 1,5 t – 1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 t + 1,5 t = 1,6 −2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 t  = − 0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ання третіх зав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171360" y="755640"/>
            <a:ext cx="8728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450720" y="901800"/>
            <a:ext cx="82425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12640" y="2341440"/>
            <a:ext cx="8240760" cy="398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539640" y="134136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25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сум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огодні ми  повторили:  ( а далі продовжують учні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таке рівняння  з однією змінно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означає розв’язати рівняння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стивості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чення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ількість коренів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в’язали ряд задач  на складання рівнянь, де показали свої  вміння шукати шляхи  розв’язання  в стандартних умовах і в більш складних ситуаціях і побачили важливість вивченої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оналися, що  дійсно рівняння  - це золотий ключик , який допомагає  розв’язувати  складні математичні 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23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вдання додому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и : Роді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’язати  № 9, № 33, № 35,№ 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вчук Василь,  Янченко  Галина.  Алгебра : Підручник для 7 класу.− Тернопіль: Підручники і посібники, 2007.− 22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шукова робота: знайти стародавні задачі на складання і розв’язування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і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бірник задач і завдань для тематичного оцінювання з алгебри для 7 класу,   А.Г.Мерзляк, В.Б.Полонсь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равчук Василь,  Янченко  Галина.  Алгебра : Підручник для 7 класу.−       Тернопіль: Підручники і посібники, 2007.−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постолова Г.В. Я сам! Навчальний посібник з алгебри для тих. Хто у сьомому класі та старше, з опорними схемами, відповідями та порадами – К.: ФАКТ, 1997. – 204с. – укр.мо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валенко В.Г. Дидактические игры на уроках математики: Кн. Для учителя. – М.: Просвещение, 1990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797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рьох мішках було 135 кг цукру, до того ж, у першому на 15 кг більше, ніж у третьому,  а  в третьому в 1,2 разу менше, ніж у другому. Скільки цукру в кожному міш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в третьому мішку було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, тоді в першому  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5) кг, в другому 1,2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. За умовою задачі в трьох мішках було 135 кг цукру. 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,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5 = 13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;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7,5 (кг) – в третьому мі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5 + 15 = 52,5 ( кг)  - у перш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∙ 37,5 =- 45 (кг) – у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кспрес опит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о таке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ість з невідомим значенням змінної називають рівнянням з однією змінн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Що називється коренем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начення змінної, для якого рівняння перетворюється у правильну числову рів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ювати основні властивості рівня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будь-якій частині рівняння можна розкрити дужки або             звести подібні дод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удь-який доданок можна перенести з однієї частини в       іншу, змінивши його знак на протилеж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идві частини рівняння можна помножити або поділити  на одне  і те ж, відмінне від нуля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6104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Сформулювати означення лінійного рівняння з однією змінно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450720" y="2560680"/>
            <a:ext cx="808992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468360" y="1125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яння виду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у якому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і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деякі відомі  числа, а 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змі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0:26:13Z</dcterms:created>
  <dc:creator>l</dc:creator>
  <dc:description/>
  <dc:language>en-US</dc:language>
  <cp:lastModifiedBy>Admin</cp:lastModifiedBy>
  <dcterms:modified xsi:type="dcterms:W3CDTF">2012-06-11T07:41:09Z</dcterms:modified>
  <cp:revision>119</cp:revision>
  <dc:subject/>
  <dc:title>Алгебра, 7-й клас, автор Ільніцька Л.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e000000000001024140</vt:lpwstr>
  </property>
</Properties>
</file>