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4.png" ContentType="image/png"/>
  <Override PartName="/ppt/media/image1.gif" ContentType="image/gif"/>
  <Override PartName="/ppt/media/image27.png" ContentType="image/png"/>
  <Override PartName="/ppt/media/image25.wmf" ContentType="image/x-wmf"/>
  <Override PartName="/ppt/media/image3.png" ContentType="image/png"/>
  <Override PartName="/ppt/media/image17.jpeg" ContentType="image/jpeg"/>
  <Override PartName="/ppt/media/image26.png" ContentType="image/png"/>
  <Override PartName="/ppt/media/image24.wmf" ContentType="image/x-wmf"/>
  <Override PartName="/ppt/media/image20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7510-9EEA-4E93-BBF2-BCDD49A7CE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21B0-8EFE-4B3A-ABD4-0A1FFE5B4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208-B906-43A5-9EF8-A0151C9B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A9BA-52DC-4373-BE36-392D8CB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98B-565B-4CD5-AA1A-B9E09FEA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C08E-4845-405D-97C2-AA529153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222-794C-4E59-A3EE-F4DA098D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EDF-A652-4AAD-AF1A-0F899AB0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562-F459-4FD6-9901-6C97CBA5F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926C-0228-4E5F-A9FA-2A040F21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8682-C0D3-4FAB-8707-FD2668EB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E3A-1AEE-4237-AC0C-E300432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E1E-0842-4793-869E-5E141142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2A0-703D-494D-9747-295C947D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E06-1A46-4CC0-896E-65ACD645CC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Узагальнення і  систематизація знань учнів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по темі </a:t>
            </a: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«Лінійні рівняння з однією змінною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0" y="2923920"/>
            <a:ext cx="4248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резентацію підготув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читель мате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I-III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ступенів № 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Ільніцька Л. 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ИЛВ\Desktop\Рівняння.gif"/>
          <p:cNvPicPr/>
          <p:nvPr/>
        </p:nvPicPr>
        <p:blipFill>
          <a:blip r:embed="rId1"/>
          <a:stretch/>
        </p:blipFill>
        <p:spPr>
          <a:xfrm>
            <a:off x="108000" y="1844640"/>
            <a:ext cx="4824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хай потрібно розв’язати рівняння: x + 6 = 15. Скількома способами це можна зроби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ні відповідають.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Можна розв’язати на підставі залежностей між доданками і сумою, тобто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= 15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6 = 9.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Це перший спосі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Други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ти до обох части н рівняння -6. Дістанем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+ 6) + (–6) = 15 + (–6); 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+ 6 – 6 = 15 – 6;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Третій спосіб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. Доданки можна переносити з однієї частини в другу, змінюючи їхні знаки на протилежні: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15 – 6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=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4920" y="47592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Назвати ліву і праву частину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5x + 7 = 3x -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0,5x = 4,7х + 8;    в) 4у + 12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Пояснити, чому не має розв’язку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х + 3 = 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5 -z = 8 -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ідповідь. В обох рівняннях в лівій та правій частині однакові  змінн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Ров’язати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25 +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7;             в) 24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12 = 23;                г) 3,7 – 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дповідь.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12;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35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6;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= 0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оказати, що рівня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з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 і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з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z - 2)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3) = 0 має розв’язк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,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-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о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1"/>
          <a:stretch/>
        </p:blipFill>
        <p:spPr>
          <a:xfrm>
            <a:off x="450720" y="689040"/>
            <a:ext cx="8242560" cy="59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Объект 2" descr=""/>
          <p:cNvPicPr/>
          <p:nvPr/>
        </p:nvPicPr>
        <p:blipFill>
          <a:blip r:embed="rId1"/>
          <a:stretch/>
        </p:blipFill>
        <p:spPr>
          <a:xfrm>
            <a:off x="317520" y="901800"/>
            <a:ext cx="83757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истецтво склад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76464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ча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 міста А до міста В одночасно виїхали автомобіль і мотоцикліст. Коли через 2, 5 год автомобіль прибув до міста В, мотоциклісту до цього міста залишалося проїхати  ще  75 км. Знайти відстань між містами, якщо швидкість автомобіля в 1, 6 разу більша від швидкості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ай швидкість мотоцикліст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/год, тоді швидкість автомобіля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км/год. Автомобіль проїхав 2,5 ∙ 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Мотоцикліст за цей час проїхав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м. Відомо, що мотоциклісту до цього міста залишилося проїхати  ще 75 км.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6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∙ 2,5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2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+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5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7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50(км/год) – швидкість мотоциклі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ідстань між містами: 1,6∙50∙2,5 = 200 (к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Заголовок 1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728200" cy="1670040"/>
          </a:xfrm>
          <a:prstGeom prst="rect">
            <a:avLst/>
          </a:prstGeom>
          <a:ln w="0">
            <a:noFill/>
          </a:ln>
        </p:spPr>
      </p:pic>
      <p:pic>
        <p:nvPicPr>
          <p:cNvPr id="81" name="Объект 2" descr=""/>
          <p:cNvPicPr/>
          <p:nvPr/>
        </p:nvPicPr>
        <p:blipFill>
          <a:blip r:embed="rId2"/>
          <a:stretch/>
        </p:blipFill>
        <p:spPr>
          <a:xfrm>
            <a:off x="103320" y="1768320"/>
            <a:ext cx="893736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Історична довід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ебра тривалий час була частиною арифметики — однієї з найдавніших математичних дисциплін. Слово арифметика в перекладі з грецької мови означає „мистецтво чисел”. Алгебру ж після виокремлення її в окрему науку розглядали як мистецтво розв’язувати рівнян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Users\ИЛВ\Desktop\рис 1.jpg"/>
          <p:cNvPicPr/>
          <p:nvPr/>
        </p:nvPicPr>
        <p:blipFill>
          <a:blip r:embed="rId1"/>
          <a:stretch/>
        </p:blipFill>
        <p:spPr>
          <a:xfrm>
            <a:off x="465120" y="3249720"/>
            <a:ext cx="3675240" cy="3419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ИЛВ\Desktop\2.jpg"/>
          <p:cNvPicPr/>
          <p:nvPr/>
        </p:nvPicPr>
        <p:blipFill>
          <a:blip r:embed="rId2"/>
          <a:stretch/>
        </p:blipFill>
        <p:spPr>
          <a:xfrm>
            <a:off x="4248000" y="3249720"/>
            <a:ext cx="435636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03320" y="182520"/>
            <a:ext cx="8937360" cy="6059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50920" y="6165360"/>
            <a:ext cx="864216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ібні задачі вміли розв’язувати вчені Стародавньої Греції, Індії, Кита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ИЛВ\Desktop\історичні дані\старод Єгипет.jpeg"/>
          <p:cNvPicPr/>
          <p:nvPr/>
        </p:nvPicPr>
        <p:blipFill>
          <a:blip r:embed="rId2"/>
          <a:stretch/>
        </p:blipFill>
        <p:spPr>
          <a:xfrm>
            <a:off x="250920" y="907920"/>
            <a:ext cx="86421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ародавня Грец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ИЛВ\Desktop\історичні дані\Стародавня Греція.jpg"/>
          <p:cNvPicPr/>
          <p:nvPr/>
        </p:nvPicPr>
        <p:blipFill>
          <a:blip r:embed="rId2"/>
          <a:stretch/>
        </p:blipFill>
        <p:spPr>
          <a:xfrm>
            <a:off x="250920" y="692280"/>
            <a:ext cx="8785080" cy="59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Інд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ИЛВ\Desktop\історичні дані\Індія.jpeg"/>
          <p:cNvPicPr/>
          <p:nvPr/>
        </p:nvPicPr>
        <p:blipFill>
          <a:blip r:embed="rId1"/>
          <a:stretch/>
        </p:blipFill>
        <p:spPr>
          <a:xfrm>
            <a:off x="108000" y="692280"/>
            <a:ext cx="8856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Епігра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м’ятайте, якщо ви бажаєте навчитися плавати, то сміло заходьте у воду, а якщо бажаєте навчитися розв’язувати задачі, то сміло розв’язуйте ї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Пой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:\Картинки (Лена)\docs-owl.png"/>
          <p:cNvPicPr/>
          <p:nvPr/>
        </p:nvPicPr>
        <p:blipFill>
          <a:blip r:embed="rId1"/>
          <a:stretch/>
        </p:blipFill>
        <p:spPr>
          <a:xfrm>
            <a:off x="826920" y="3798720"/>
            <a:ext cx="3168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Users\ИЛВ\Desktop\історичні дані\Китай.jpeg"/>
          <p:cNvPicPr/>
          <p:nvPr/>
        </p:nvPicPr>
        <p:blipFill>
          <a:blip r:embed="rId1"/>
          <a:stretch/>
        </p:blipFill>
        <p:spPr>
          <a:xfrm>
            <a:off x="108000" y="620640"/>
            <a:ext cx="8928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2" descr=""/>
          <p:cNvPicPr/>
          <p:nvPr/>
        </p:nvPicPr>
        <p:blipFill>
          <a:blip r:embed="rId1"/>
          <a:stretch/>
        </p:blipFill>
        <p:spPr>
          <a:xfrm>
            <a:off x="463680" y="5724360"/>
            <a:ext cx="8515080" cy="114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ИЛВ\Desktop\Діофант 4.jpeg"/>
          <p:cNvPicPr/>
          <p:nvPr/>
        </p:nvPicPr>
        <p:blipFill>
          <a:blip r:embed="rId2"/>
          <a:stretch/>
        </p:blipFill>
        <p:spPr>
          <a:xfrm>
            <a:off x="1619280" y="115920"/>
            <a:ext cx="532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56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родавня єгипетська зад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Объект 2" descr=""/>
          <p:cNvPicPr/>
          <p:nvPr/>
        </p:nvPicPr>
        <p:blipFill>
          <a:blip r:embed="rId1"/>
          <a:stretch/>
        </p:blipFill>
        <p:spPr>
          <a:xfrm>
            <a:off x="103320" y="615960"/>
            <a:ext cx="879624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569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 «Відгада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ИЛВ\Desktop\історичні дані\фокусник.jpeg"/>
          <p:cNvPicPr/>
          <p:nvPr/>
        </p:nvPicPr>
        <p:blipFill>
          <a:blip r:embed="rId1"/>
          <a:stretch/>
        </p:blipFill>
        <p:spPr>
          <a:xfrm>
            <a:off x="108000" y="765000"/>
            <a:ext cx="8640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раз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0920" y="836280"/>
            <a:ext cx="8642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умай число. Додай до задуманого числа число 3. Суму помнож на 6. Добуток зменш на 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д час гри дії, запропоновані учням, варто наперед написати мовою алгебр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ісля виконання дій матимем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6 ─ 8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 – 8 = 6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крет фокуса у рівнянні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чий запитує, яке число дістав учень, після виконання дій, а потім розв’язує  відповідне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амостійна ро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20640"/>
            <a:ext cx="83739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1.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4 + 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− 2,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2 (7 −2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2,3 – 0,3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2,7 + 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9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– 2,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3 (8−3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 = 3,2 – 0,8 (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7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) 3,6 + 5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= 7 (1,2 – </a:t>
            </a: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2) 0,4 (6 – 4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= 0,5 (7 – 3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1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3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98400" y="1844640"/>
            <a:ext cx="3195720" cy="6127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41240" y="3933720"/>
            <a:ext cx="2835360" cy="647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54120" y="6093000"/>
            <a:ext cx="2394000" cy="64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0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0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язання перших завда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549000"/>
            <a:ext cx="85186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Варі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+ 2у = 7(у − 2,3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4  + 2у – 7у = −16,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6,1 – 3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у  = −19,5;    у = 3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2,7 + 3у = 9(у – 2,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7 +3у = 9у – 18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18,9 –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у = − 21,6;     у = 3,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) 3,6 + 5у = 7(1,2 – у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,6 + 5у = 8,4 – 7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у = 4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0,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1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4072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зання  других  завда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79280" y="620640"/>
            <a:ext cx="85075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р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2 (7−2у)  = 2,3 – 0,3(у – 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,4 – 0,4у = 2,3 – 0,3у + 1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4у + 0,3 = 2,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2,7;  у = − 2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) 0,3(8−3у) = 3,2 – 0,8(у – 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0,9у = 3,2 – 0,8у + 5,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,1у = 6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= − 6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аріант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4(6 – 4 t) = 0,5(7 – 3 t) −1,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,4 – 1,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3,5 – 1,5 t – 1,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6 t + 1,5 t = 1,6 −2,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,1 t  = − 0,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11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11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язання третіх завда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171360" y="755640"/>
            <a:ext cx="87282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Объект 2" descr=""/>
          <p:cNvPicPr/>
          <p:nvPr/>
        </p:nvPicPr>
        <p:blipFill>
          <a:blip r:embed="rId1"/>
          <a:stretch/>
        </p:blipFill>
        <p:spPr>
          <a:xfrm>
            <a:off x="450720" y="901800"/>
            <a:ext cx="824256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512640" y="2341440"/>
            <a:ext cx="8240760" cy="3980160"/>
          </a:xfrm>
          <a:prstGeom prst="rect">
            <a:avLst/>
          </a:prstGeom>
          <a:ln w="0">
            <a:noFill/>
          </a:ln>
        </p:spPr>
      </p:pic>
      <p:sp>
        <p:nvSpPr>
          <p:cNvPr id="56" name="Заголовок 1"/>
          <p:cNvSpPr/>
          <p:nvPr/>
        </p:nvSpPr>
        <p:spPr>
          <a:xfrm>
            <a:off x="539640" y="1341360"/>
            <a:ext cx="822960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Объект 2" descr=""/>
          <p:cNvPicPr/>
          <p:nvPr/>
        </p:nvPicPr>
        <p:blipFill>
          <a:blip r:embed="rId1"/>
          <a:stretch/>
        </p:blipFill>
        <p:spPr>
          <a:xfrm>
            <a:off x="450720" y="755640"/>
            <a:ext cx="824256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сумок у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ьогодні ми  повторили:  ( а далі продовжують учні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таке рівняння  з однією змінно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Що означає розв’язати рівняння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стивості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значення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ількість коренів лінійного рівня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зв’язали ряд задач  на складання рівнянь, де показали свої  вміння шукати шляхи  розв’язання  в стандартних умовах і в більш складних ситуаціях і побачили важливість вивченої те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оналися, що  дійсно рівняння  - це золотий ключик , який допомагає  розв’язувати  складні математичні  пита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231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авдання додому</a:t>
            </a:r>
            <a:br>
              <a:rPr sz="2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765000"/>
            <a:ext cx="850752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ити : Роді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’язати  № 9, № 33, № 35,№ 9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авчук Василь,  Янченко  Галина.  Алгебра : Підручник для 7 класу.− Тернопіль: Підручники і посібники, 2007.− 224 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шукова робота: знайти стародавні задачі на складання і розв’язування рівня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Лі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бірник задач і завдань для тематичного оцінювання з алгебри для 7 класу,   А.Г.Мерзляк, В.Б.Полонсь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Кравчук Василь,  Янченко  Галина.  Алгебра : Підручник для 7 класу.−       Тернопіль: Підручники і посібники, 2007.− 224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постолова Г.В. Я сам! Навчальний посібник з алгебри для тих. Хто у сьомому класі та старше, з опорними схемами, відповідями та порадами – К.: ФАКТ, 1997. – 204с. – укр.мово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оваленко В.Г. Дидактические игры на уроках математики: Кн. Для учителя. – М.: Просвещение, 1990. – 9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зати рівня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Объект 1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77979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97000"/>
            <a:ext cx="82296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трьох мішках було 135 кг цукру, до того ж, у першому на 15 кг більше, ніж у третьому,  а  в третьому в 1,2 разу менше, ніж у другому. Скільки цукру в кожному мішку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зв’язан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в третьому мішку було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, тоді в першому  (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15) кг, в другому 1,2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 цукру. За умовою задачі в трьох мішках було 135 кг цукру.  Дістанемо рівнянн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1,2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15 = 13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3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20; 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7,5 (кг) – в третьому міш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5 + 15 = 52,5 ( кг)  - у першом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 ∙ 37,5 =- 45 (кг) – у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Експрес опит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Що таке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ість з невідомим значенням змінної називають рівнянням з однією змінно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Що називється коренем рівнян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Значення змінної, для якого рівняння перетворюється у правильну числову рівні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450720" y="1189080"/>
            <a:ext cx="8242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довжен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формулювати основні властивості рівнян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 будь-якій частині рівняння можна розкрити дужки або             звести подібні додан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Будь-який доданок можна перенести з однієї частини в       іншу, змінивши його знак на протилеж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Властивість 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Обидві частини рівняння можна помножити або поділити  на одне  і те ж, відмінне від нуля чис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16080"/>
            <a:ext cx="86104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Сформулювати означення лінійного рівняння з однією змінною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Объект 2" descr=""/>
          <p:cNvPicPr/>
          <p:nvPr/>
        </p:nvPicPr>
        <p:blipFill>
          <a:blip r:embed="rId1"/>
          <a:stretch/>
        </p:blipFill>
        <p:spPr>
          <a:xfrm>
            <a:off x="450720" y="2560680"/>
            <a:ext cx="808992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468360" y="1125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Рівняння виду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=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, у якому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і </a:t>
            </a:r>
            <a:r>
              <a:rPr b="0" i="1" lang="ru-RU" sz="2800" spc="-1" strike="noStrike">
                <a:solidFill>
                  <a:srgbClr val="c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деякі відомі  числа, а  </a:t>
            </a:r>
            <a:r>
              <a:rPr b="0" i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– змі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1-20T10:26:13Z</dcterms:created>
  <dc:creator>l</dc:creator>
  <dc:description/>
  <dc:language>en-US</dc:language>
  <cp:lastModifiedBy>Admin</cp:lastModifiedBy>
  <dcterms:modified xsi:type="dcterms:W3CDTF">2012-06-11T07:41:09Z</dcterms:modified>
  <cp:revision>119</cp:revision>
  <dc:subject/>
  <dc:title>Алгебра, 7-й клас, автор Ільніцька Л.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1e000000000001024140</vt:lpwstr>
  </property>
</Properties>
</file>