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23.wmf" ContentType="image/x-wmf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6.png" ContentType="image/png"/>
  <Override PartName="/ppt/media/image4.png" ContentType="image/png"/>
  <Override PartName="/ppt/media/image1.gif" ContentType="image/gif"/>
  <Override PartName="/ppt/media/image27.png" ContentType="image/png"/>
  <Override PartName="/ppt/media/image25.wmf" ContentType="image/x-wmf"/>
  <Override PartName="/ppt/media/image3.png" ContentType="image/png"/>
  <Override PartName="/ppt/media/image17.jpeg" ContentType="image/jpeg"/>
  <Override PartName="/ppt/media/image26.png" ContentType="image/png"/>
  <Override PartName="/ppt/media/image24.wmf" ContentType="image/x-wmf"/>
  <Override PartName="/ppt/media/image20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28.png" ContentType="image/png"/>
  <Override PartName="/ppt/media/image5.png" ContentType="image/png"/>
  <Override PartName="/ppt/media/image10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F3F01-5343-441A-8EA8-E4120C5383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D52A1-CA04-43CB-AE2E-3D11F13B7A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E5A5-0CE8-49AC-AA94-AF72DA69C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D5DF-30D2-44F1-A297-7D80FCA6F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9A41-0EC3-48FF-B9FE-DE5F2F9A3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A4E7-0AD1-4819-9AFB-9594D60A4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27F6-1D17-4206-9D2B-4C19315E8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F0E3-8063-45A4-875B-706337AEB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DE3F-182F-4CEC-8FCB-EDA4A2B8F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6304-CA9E-47C0-B386-7000B40FD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3478-2850-49BB-A383-5BDA810EA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6934-7820-4D90-957D-343F06A21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CC4D-4ECF-40B7-9066-4BF696E57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F596-856A-4EC5-A6B2-036A6D93D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E1675-1B5A-4926-A765-2D0516A76F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Узагальнення і  систематизація знань учнів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по темі 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«Лінійні рівняння з однією змінною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716000" y="2923920"/>
            <a:ext cx="424836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Презентацію підготув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вчитель матема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ЗШ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I-III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ступенів № 1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м. Білої Церк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Ільніцька Л. 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C:\Users\ИЛВ\Desktop\Рівняння.gif"/>
          <p:cNvPicPr/>
          <p:nvPr/>
        </p:nvPicPr>
        <p:blipFill>
          <a:blip r:embed="rId1"/>
          <a:stretch/>
        </p:blipFill>
        <p:spPr>
          <a:xfrm>
            <a:off x="108000" y="1844640"/>
            <a:ext cx="48243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хай потрібно розв’язати рівняння: x + 6 = 15. Скількома способами це можна зробит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5075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ні відповідають.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Можна розв’язати на підставі залежностей між доданками і сумою, тобто </a:t>
            </a:r>
            <a:r>
              <a:rPr b="0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= 15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6 = 9. </a:t>
            </a:r>
            <a:r>
              <a:rPr b="0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Це перший спосі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Другий спосіб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. Додати до обох части н рівняння -6. Дістанем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 + 6) + (–6) = 15 + (–6);  </a:t>
            </a:r>
            <a:r>
              <a:rPr b="0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+ 6 – 6 = 15 – 6; </a:t>
            </a:r>
            <a:r>
              <a:rPr b="0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= 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Третій спосіб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. Доданки можна переносити з однієї частини в другу, змінюючи їхні знаки на протилежні: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= 15 – 6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= 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с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94920" y="475920"/>
            <a:ext cx="843588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Назвати ліву і праву частину рівнянн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5x + 7 = 3x -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0,5x = 4,7х + 8;    в) 4у + 12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Пояснити, чому не має розв’язку рівнянн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х + 3 = х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5 -z = 8 - 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Відповідь. В обох рівняннях в лівій та правій частині однакові  змінні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Ров’язати рівнянн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25 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37;             в) 24 –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8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12 = 23;                г) 3,7 – 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дповідь. </a:t>
            </a:r>
            <a:r>
              <a:rPr b="0" i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= 12;  </a:t>
            </a:r>
            <a:r>
              <a:rPr b="0" i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= 35;   </a:t>
            </a:r>
            <a:r>
              <a:rPr b="0" i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= 6;   </a:t>
            </a:r>
            <a:r>
              <a:rPr b="0" i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= 0,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Показати, що рівнянн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з) = 0 має розв’язки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 і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з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z - 2)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3) = 0 має розв’язки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,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,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-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исьмо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Объект 2" descr=""/>
          <p:cNvPicPr/>
          <p:nvPr/>
        </p:nvPicPr>
        <p:blipFill>
          <a:blip r:embed="rId1"/>
          <a:stretch/>
        </p:blipFill>
        <p:spPr>
          <a:xfrm>
            <a:off x="450720" y="689040"/>
            <a:ext cx="8242560" cy="59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родовже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Объект 2" descr=""/>
          <p:cNvPicPr/>
          <p:nvPr/>
        </p:nvPicPr>
        <p:blipFill>
          <a:blip r:embed="rId1"/>
          <a:stretch/>
        </p:blipFill>
        <p:spPr>
          <a:xfrm>
            <a:off x="317520" y="901800"/>
            <a:ext cx="8375760" cy="52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истецтво складати рівня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764640"/>
            <a:ext cx="822960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ча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 міста А до міста В одночасно виїхали автомобіль і мотоцикліст. Коли через 2, 5 год автомобіль прибув до міста В, мотоциклісту до цього міста залишалося проїхати  ще  75 км. Знайти відстань між містами, якщо швидкість автомобіля в 1, 6 разу більша від швидкості мотоциклі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зв’язан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хай швидкість мотоцикліста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м/год, тоді швидкість автомобіля 1,6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км/год. Автомобіль проїхав 2,5 ∙ 1,6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м. Мотоцикліст за цей час проїхав 2,5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м. Відомо, що мотоциклісту до цього міста залишилося проїхати  ще 75 км. Дістанемо рівнянн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,6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∙ 2,5 = 2,5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+75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= 2,5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+75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,5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= 75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= 50(км/год) – швидкість мотоциклі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ідстань між містами: 1,6∙50∙2,5 = 200 (к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Заголовок 1" descr=""/>
          <p:cNvPicPr/>
          <p:nvPr/>
        </p:nvPicPr>
        <p:blipFill>
          <a:blip r:embed="rId1"/>
          <a:stretch/>
        </p:blipFill>
        <p:spPr>
          <a:xfrm>
            <a:off x="171360" y="109440"/>
            <a:ext cx="8728200" cy="1670040"/>
          </a:xfrm>
          <a:prstGeom prst="rect">
            <a:avLst/>
          </a:prstGeom>
          <a:ln w="0">
            <a:noFill/>
          </a:ln>
        </p:spPr>
      </p:pic>
      <p:pic>
        <p:nvPicPr>
          <p:cNvPr id="81" name="Объект 2" descr=""/>
          <p:cNvPicPr/>
          <p:nvPr/>
        </p:nvPicPr>
        <p:blipFill>
          <a:blip r:embed="rId2"/>
          <a:stretch/>
        </p:blipFill>
        <p:spPr>
          <a:xfrm>
            <a:off x="103320" y="1768320"/>
            <a:ext cx="8937360" cy="469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Історична довід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гебра тривалий час була частиною арифметики — однієї з найдавніших математичних дисциплін. Слово арифметика в перекладі з грецької мови означає „мистецтво чисел”. Алгебру ж після виокремлення її в окрему науку розглядали як мистецтво розв’язувати рівня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C:\Users\ИЛВ\Desktop\рис 1.jpg"/>
          <p:cNvPicPr/>
          <p:nvPr/>
        </p:nvPicPr>
        <p:blipFill>
          <a:blip r:embed="rId1"/>
          <a:stretch/>
        </p:blipFill>
        <p:spPr>
          <a:xfrm>
            <a:off x="465120" y="3249720"/>
            <a:ext cx="3675240" cy="3419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C:\Users\ИЛВ\Desktop\2.jpg"/>
          <p:cNvPicPr/>
          <p:nvPr/>
        </p:nvPicPr>
        <p:blipFill>
          <a:blip r:embed="rId2"/>
          <a:stretch/>
        </p:blipFill>
        <p:spPr>
          <a:xfrm>
            <a:off x="4248000" y="3249720"/>
            <a:ext cx="4356360" cy="34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103320" y="182520"/>
            <a:ext cx="8937360" cy="60595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250920" y="6165360"/>
            <a:ext cx="8642160" cy="6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ібні задачі вміли розв’язувати вчені Стародавньої Греції, Індії, Кита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C:\Users\ИЛВ\Desktop\історичні дані\старод Єгипет.jpeg"/>
          <p:cNvPicPr/>
          <p:nvPr/>
        </p:nvPicPr>
        <p:blipFill>
          <a:blip r:embed="rId2"/>
          <a:stretch/>
        </p:blipFill>
        <p:spPr>
          <a:xfrm>
            <a:off x="250920" y="907920"/>
            <a:ext cx="86421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ародавня Грец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і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C:\Users\ИЛВ\Desktop\історичні дані\Стародавня Греція.jpg"/>
          <p:cNvPicPr/>
          <p:nvPr/>
        </p:nvPicPr>
        <p:blipFill>
          <a:blip r:embed="rId2"/>
          <a:stretch/>
        </p:blipFill>
        <p:spPr>
          <a:xfrm>
            <a:off x="250920" y="692280"/>
            <a:ext cx="8785080" cy="59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Інді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C:\Users\ИЛВ\Desktop\історичні дані\Індія.jpeg"/>
          <p:cNvPicPr/>
          <p:nvPr/>
        </p:nvPicPr>
        <p:blipFill>
          <a:blip r:embed="rId1"/>
          <a:stretch/>
        </p:blipFill>
        <p:spPr>
          <a:xfrm>
            <a:off x="108000" y="692280"/>
            <a:ext cx="885672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Епіграф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40720" cy="23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м’ятайте, якщо ви бажаєте навчитися плавати, то сміло заходьте у воду, а якщо бажаєте навчитися розв’язувати задачі, то сміло розв’язуйте ї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.Пой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F:\Картинки (Лена)\docs-owl.png"/>
          <p:cNvPicPr/>
          <p:nvPr/>
        </p:nvPicPr>
        <p:blipFill>
          <a:blip r:embed="rId1"/>
          <a:stretch/>
        </p:blipFill>
        <p:spPr>
          <a:xfrm>
            <a:off x="826920" y="3798720"/>
            <a:ext cx="3168720" cy="27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Кит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C:\Users\ИЛВ\Desktop\історичні дані\Китай.jpeg"/>
          <p:cNvPicPr/>
          <p:nvPr/>
        </p:nvPicPr>
        <p:blipFill>
          <a:blip r:embed="rId1"/>
          <a:stretch/>
        </p:blipFill>
        <p:spPr>
          <a:xfrm>
            <a:off x="108000" y="620640"/>
            <a:ext cx="892800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Объект 2" descr=""/>
          <p:cNvPicPr/>
          <p:nvPr/>
        </p:nvPicPr>
        <p:blipFill>
          <a:blip r:embed="rId1"/>
          <a:stretch/>
        </p:blipFill>
        <p:spPr>
          <a:xfrm>
            <a:off x="463680" y="5724360"/>
            <a:ext cx="8515080" cy="11401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C:\Users\ИЛВ\Desktop\Діофант 4.jpeg"/>
          <p:cNvPicPr/>
          <p:nvPr/>
        </p:nvPicPr>
        <p:blipFill>
          <a:blip r:embed="rId2"/>
          <a:stretch/>
        </p:blipFill>
        <p:spPr>
          <a:xfrm>
            <a:off x="1619280" y="115920"/>
            <a:ext cx="53290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85672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ародавня єгипетська задач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Объект 2" descr=""/>
          <p:cNvPicPr/>
          <p:nvPr/>
        </p:nvPicPr>
        <p:blipFill>
          <a:blip r:embed="rId1"/>
          <a:stretch/>
        </p:blipFill>
        <p:spPr>
          <a:xfrm>
            <a:off x="103320" y="615960"/>
            <a:ext cx="8796240" cy="60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569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а «Відгада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C:\Users\ИЛВ\Desktop\історичні дані\фокусник.jpeg"/>
          <p:cNvPicPr/>
          <p:nvPr/>
        </p:nvPicPr>
        <p:blipFill>
          <a:blip r:embed="rId1"/>
          <a:stretch/>
        </p:blipFill>
        <p:spPr>
          <a:xfrm>
            <a:off x="108000" y="765000"/>
            <a:ext cx="864072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раз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50920" y="836280"/>
            <a:ext cx="864216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умай число. Додай до задуманого числа число 3. Суму помнож на 6. Добуток зменш на 8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ід час гри дії, запропоновані учням, варто наперед написати мовою алгебр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ісля виконання дій матимем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(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6 ─ 8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8 – 8 = 6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крет фокуса у рівнянні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дучий запитує, яке число дістав учень, після виконання дій, а потім розв’язує  відповідне рівнян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6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амостійна ро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560" y="620640"/>
            <a:ext cx="837396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Варіант 1.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1) 3,4 + 2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= 7(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</a:rPr>
              <a:t>у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− 2,3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2) 0,2 (7 −2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) = 2,3 – 0,3 (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– 6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3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Варіант 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1) 2,7 + 3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= 9 (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</a:rPr>
              <a:t>у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 2,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2) 0,3 (8−3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) = 3,2 – 0,8 (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– 7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Варіант 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1) 3,6 + 5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= 7 (1,2 –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2) 0,4 (6 – 4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 = 0,5 (7 – 3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−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1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3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98400" y="1844640"/>
            <a:ext cx="3195720" cy="61272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41240" y="3933720"/>
            <a:ext cx="2835360" cy="64764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32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654120" y="6093000"/>
            <a:ext cx="2394000" cy="64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1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10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10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10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Роз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язання перших завда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78920" y="549000"/>
            <a:ext cx="851868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аріант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,4 + 2у = 7(у − 2,3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,4  + 2у – 7у = −16,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−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у  = −16,1 – 3,4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−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у  = −19,5;    у = 3,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аріант 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2,7 + 3у = 9(у – 2,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,7 +3у = 9у – 18,9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−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у = − 18,9 – 2,7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у = − 21,6;     у = 3,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ар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т 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3,6 + 5у = 7(1,2 – у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,6 + 5у = 8,4 – 7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2у = 4,8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= 0,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500"/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1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500"/>
                                        <p:tgtEl>
                                          <p:spTgt spid="11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640720" cy="2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Роз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язання  других  завдан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79280" y="620640"/>
            <a:ext cx="850752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р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т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0,2 (7−2у)  = 2,3 – 0,3(у – 6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,4 – 0,4у = 2,3 – 0,3у + 1,8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,4у + 0,3 = 2,7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,1у = 2,7;  у = − 2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аріант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0,3(8−3у) = 3,2 – 0,8(у – 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,4 – 0,9у = 3,2 – 0,8у + 5,6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,1у = 6,4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= − 6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аріант 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,4(6 – 4 t) = 0,5(7 – 3 t) −1,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,4 – 1,6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= 3,5 – 1,5 t – 1,9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,6 t + 1,5 t = 1,6 −2,4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,1 t  = − 0,8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= 8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5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5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500"/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500"/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500"/>
                                        <p:tgtEl>
                                          <p:spTgt spid="11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500"/>
                                        <p:tgtEl>
                                          <p:spTgt spid="11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з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язання третіх завда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Объект 2" descr=""/>
          <p:cNvPicPr/>
          <p:nvPr/>
        </p:nvPicPr>
        <p:blipFill>
          <a:blip r:embed="rId1"/>
          <a:stretch/>
        </p:blipFill>
        <p:spPr>
          <a:xfrm>
            <a:off x="171360" y="755640"/>
            <a:ext cx="8728200" cy="53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358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Продовжен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Объект 2" descr=""/>
          <p:cNvPicPr/>
          <p:nvPr/>
        </p:nvPicPr>
        <p:blipFill>
          <a:blip r:embed="rId1"/>
          <a:stretch/>
        </p:blipFill>
        <p:spPr>
          <a:xfrm>
            <a:off x="450720" y="901800"/>
            <a:ext cx="8242560" cy="52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є завда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Объект 3" descr=""/>
          <p:cNvPicPr/>
          <p:nvPr/>
        </p:nvPicPr>
        <p:blipFill>
          <a:blip r:embed="rId1"/>
          <a:stretch/>
        </p:blipFill>
        <p:spPr>
          <a:xfrm>
            <a:off x="512640" y="2341440"/>
            <a:ext cx="8240760" cy="3980160"/>
          </a:xfrm>
          <a:prstGeom prst="rect">
            <a:avLst/>
          </a:prstGeom>
          <a:ln w="0">
            <a:noFill/>
          </a:ln>
        </p:spPr>
      </p:pic>
      <p:sp>
        <p:nvSpPr>
          <p:cNvPr id="56" name="Заголовок 1"/>
          <p:cNvSpPr/>
          <p:nvPr/>
        </p:nvSpPr>
        <p:spPr>
          <a:xfrm>
            <a:off x="539640" y="1341360"/>
            <a:ext cx="82296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оз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зати рівня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Продовжен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Объект 2" descr=""/>
          <p:cNvPicPr/>
          <p:nvPr/>
        </p:nvPicPr>
        <p:blipFill>
          <a:blip r:embed="rId1"/>
          <a:stretch/>
        </p:blipFill>
        <p:spPr>
          <a:xfrm>
            <a:off x="450720" y="755640"/>
            <a:ext cx="8242560" cy="53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сумок уро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ьогодні ми  повторили:  ( а далі продовжують учні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Що таке рівняння  з однією змінною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Що означає розв’язати рівняння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ластивості рівня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значення лінійного рівнян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ількість коренів лінійного рівнян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зв’язали ряд задач  на складання рівнянь, де показали свої  вміння шукати шляхи  розв’язання  в стандартних умовах і в більш складних ситуаціях і побачили важливість вивченої те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коналися, що  дійсно рівняння  - це золотий ключик , який допомагає  розв’язувати  складні математичні  питан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4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4" dur="5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7231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 Завдання додому</a:t>
            </a:r>
            <a:br>
              <a:rPr sz="2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79280" y="765000"/>
            <a:ext cx="850752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торити : Роділ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озв’язати  № 9, № 33, № 35,№ 96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авчук Василь,  Янченко  Галина.  Алгебра : Підручник для 7 класу.− Тернопіль: Підручники і посібники, 2007.− 224 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Пошукова робота: знайти стародавні задачі на складання і розв’язування рівня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9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Літера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Збірник задач і завдань для тематичного оцінювання з алгебри для 7 класу,   А.Г.Мерзляк, В.Б.Полонськ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 Кравчук Василь,  Янченко  Галина.  Алгебра : Підручник для 7 класу.−       Тернопіль: Підручники і посібники, 2007.− 224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Апостолова Г.В. Я сам! Навчальний посібник з алгебри для тих. Хто у сьомому класі та старше, з опорними схемами, відповідями та порадами – К.: ФАКТ, 1997. – 204с. – укр.мово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Коваленко В.Г. Дидактические игры на уроках математики: Кн. Для учителя. – М.: Просвещение, 1990. – 96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1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6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6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оз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зати рівня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Объект 1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7797960" cy="47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ада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95280" y="1197000"/>
            <a:ext cx="8229600" cy="48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трьох мішках було 135 кг цукру, до того ж, у першому на 15 кг більше, ніж у третьому,  а  в третьому в 1,2 разу менше, ніж у другому. Скільки цукру в кожному мішку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зв’язан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хай в третьому мішку було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г цукру, тоді в першому  (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15) кг, в другому 1,2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г цукру. За умовою задачі в трьох мішках було 135 кг цукру.  Дістанемо рівнянн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1,2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15 = 135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,3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20; 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37,5 (кг) – в третьому міш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,5 + 15 = 52,5 ( кг)  - у першом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2 ∙ 37,5 =- 45 (кг) – у друго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Експрес опитува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Що таке рівнянн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Рівність з невідомим значенням змінної називають рівнянням з однією змінно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Що називється коренем рівнянн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Значення змінної, для якого рівняння перетворюється у правильну числову рівні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Продовже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Объект 2" descr=""/>
          <p:cNvPicPr/>
          <p:nvPr/>
        </p:nvPicPr>
        <p:blipFill>
          <a:blip r:embed="rId1"/>
          <a:stretch/>
        </p:blipFill>
        <p:spPr>
          <a:xfrm>
            <a:off x="450720" y="1189080"/>
            <a:ext cx="824256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довже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240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формулювати основні властивості рівнян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Властивість 1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У будь-якій частині рівняння можна розкрити дужки або             звести подібні додан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Властивість 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Будь-який доданок можна перенести з однієї частини в       іншу, змінивши його знак на протилежн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Властивість 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Обидві частини рівняння можна помножити або поділити  на одне  і те ж, відмінне від нуля числ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316080"/>
            <a:ext cx="86104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Сформулювати означення лінійного рівняння з однією змінною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Объект 2" descr=""/>
          <p:cNvPicPr/>
          <p:nvPr/>
        </p:nvPicPr>
        <p:blipFill>
          <a:blip r:embed="rId1"/>
          <a:stretch/>
        </p:blipFill>
        <p:spPr>
          <a:xfrm>
            <a:off x="450720" y="2560680"/>
            <a:ext cx="8089920" cy="357192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3"/>
          <p:cNvSpPr/>
          <p:nvPr/>
        </p:nvSpPr>
        <p:spPr>
          <a:xfrm>
            <a:off x="468360" y="1125360"/>
            <a:ext cx="84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Рівняння виду </a:t>
            </a:r>
            <a:r>
              <a:rPr b="0" i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</a:t>
            </a:r>
            <a:r>
              <a:rPr b="0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x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 = </a:t>
            </a:r>
            <a:r>
              <a:rPr b="0" i="1" lang="ru-RU" sz="2800" spc="-1" strike="noStrike">
                <a:solidFill>
                  <a:srgbClr val="c00000"/>
                </a:solidFill>
                <a:latin typeface="Arial"/>
              </a:rPr>
              <a:t>b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, у якому</a:t>
            </a:r>
            <a:r>
              <a:rPr b="0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</a:t>
            </a:r>
            <a:r>
              <a:rPr b="0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і </a:t>
            </a:r>
            <a:r>
              <a:rPr b="0" i="1" lang="ru-RU" sz="2800" spc="-1" strike="noStrike">
                <a:solidFill>
                  <a:srgbClr val="c00000"/>
                </a:solidFill>
                <a:latin typeface="Arial"/>
              </a:rPr>
              <a:t>b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 – деякі відомі  числа, а  </a:t>
            </a:r>
            <a:r>
              <a:rPr b="0" i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x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 – змін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20T10:26:13Z</dcterms:created>
  <dc:creator>l</dc:creator>
  <dc:description/>
  <dc:language>en-US</dc:language>
  <cp:lastModifiedBy>Admin</cp:lastModifiedBy>
  <dcterms:modified xsi:type="dcterms:W3CDTF">2012-06-11T07:41:09Z</dcterms:modified>
  <cp:revision>119</cp:revision>
  <dc:subject/>
  <dc:title>Алгебра, 7-й клас, автор Ільніцька Л.В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01e000000000001024140</vt:lpwstr>
  </property>
</Properties>
</file>