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9592-BA8D-40B8-8063-38E44A09E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3A29-9B6E-4C8B-8025-3736AC7C6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38E-83E3-46D5-A411-4886854A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CFF-E9B0-4F19-9552-19375DA9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DB4-F9DF-4209-A215-9ECE48B6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DC8-C12A-48B5-B2E9-A991284B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DDF-1644-4ECB-8998-A8B1C8BB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134-D4A0-482A-B828-8709D644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2CF-4C4B-4639-AE85-3A1591D3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2F6-828F-4767-8848-83DFD1DF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14B-F52B-4386-BF87-868B02DA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0CA-417D-4C10-B857-D463CC76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E2B-EBE5-411E-B50C-ABFAF920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849-5957-4712-9DF2-775A7A0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9917-560E-4FD4-A205-333AD0D89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загальнення і  систематизація знань учнів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 темі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Лінійні рівняння з однією змінною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0" y="2923920"/>
            <a:ext cx="4248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езентацію підготу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Ш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-III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упенів № 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. Білої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Ільніцька Л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ИЛВ\Desktop\Рівняння.gif"/>
          <p:cNvPicPr/>
          <p:nvPr/>
        </p:nvPicPr>
        <p:blipFill>
          <a:blip r:embed="rId1"/>
          <a:stretch/>
        </p:blipFill>
        <p:spPr>
          <a:xfrm>
            <a:off x="108000" y="184464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хай потрібно розв’язати рівняння: x + 6 = 15. Скількома способами це можна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ні відповідають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жна розв’язати на підставі залежностей між доданками і сумою, тобто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= 15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6 = 9.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 перший спосі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Другий спосіб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Додати до обох части н рівняння -6. Дістанем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+ 6) + (–6) = 15 + (–6); 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+ 6 – 6 = 15 – 6;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Третій спосіб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Доданки можна переносити з однієї частини в другу, змінюючи їхні знаки на протилежні: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15 – 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4920" y="47592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звати ліву і праву частину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5x + 7 = 3x -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0,5x = 4,7х + 8;    в) 4у + 12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ояснити, чому не має розв’язку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х + 3 = 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5 -z = 8 -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ідповідь. В обох рівняннях в лівій та правій частині однакові  змін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ов’язати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5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7;             в) 24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2 = 23;                г) 3,7 – 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повідь.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12;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35;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6;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0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казати, що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з) = 0 має розв’яз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і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 - 2)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) = 0 має розв’яз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2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2" descr=""/>
          <p:cNvPicPr/>
          <p:nvPr/>
        </p:nvPicPr>
        <p:blipFill>
          <a:blip r:embed="rId1"/>
          <a:stretch/>
        </p:blipFill>
        <p:spPr>
          <a:xfrm>
            <a:off x="317520" y="901800"/>
            <a:ext cx="83757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тецтво склад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міста А до міста В одночасно виїхали автомобіль і мотоцикліст. Коли через 2, 5 год автомобіль прибув до міста В, мотоциклісту до цього міста залишалося проїхати  ще  75 км. Знайти відстань між містами, якщо швидкість автомобіля в 1, 6 разу більша від швидкості мотоциклі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хай швидкість мотоцикліс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/год, тоді швидкість автомобіля 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м/год. Автомобіль проїхав 2,5 ∙ 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. Мотоцикліст за цей час проїхав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. Відомо, що мотоциклісту до цього міста залишилося проїхати  ще 75 км. Дістанемо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∙ 2,5 =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50(км/год) – швидкість мотоциклі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ідстань між містами: 1,6∙50∙2,5 = 200 (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728200" cy="167004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2" descr=""/>
          <p:cNvPicPr/>
          <p:nvPr/>
        </p:nvPicPr>
        <p:blipFill>
          <a:blip r:embed="rId2"/>
          <a:stretch/>
        </p:blipFill>
        <p:spPr>
          <a:xfrm>
            <a:off x="103320" y="1768320"/>
            <a:ext cx="893736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сторична дові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 тривалий час була частиною арифметики — однієї з найдавніших математичних дисциплін. Слово арифметика в перекладі з грецької мови означає „мистецтво чисел”. Алгебру ж після виокремлення її в окрему науку розглядали як мистецтво розв’язувати рівня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ИЛВ\Desktop\рис 1.jpg"/>
          <p:cNvPicPr/>
          <p:nvPr/>
        </p:nvPicPr>
        <p:blipFill>
          <a:blip r:embed="rId1"/>
          <a:stretch/>
        </p:blipFill>
        <p:spPr>
          <a:xfrm>
            <a:off x="465120" y="3249720"/>
            <a:ext cx="3675240" cy="341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ИЛВ\Desktop\2.jpg"/>
          <p:cNvPicPr/>
          <p:nvPr/>
        </p:nvPicPr>
        <p:blipFill>
          <a:blip r:embed="rId2"/>
          <a:stretch/>
        </p:blipFill>
        <p:spPr>
          <a:xfrm>
            <a:off x="4248000" y="3249720"/>
            <a:ext cx="43563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03320" y="182520"/>
            <a:ext cx="8937360" cy="605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0920" y="6165360"/>
            <a:ext cx="864216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ібні задачі вміли розв’язувати вчені Стародавньої Греції, Індії, Кит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ИЛВ\Desktop\історичні дані\старод Єгипет.jpeg"/>
          <p:cNvPicPr/>
          <p:nvPr/>
        </p:nvPicPr>
        <p:blipFill>
          <a:blip r:embed="rId2"/>
          <a:stretch/>
        </p:blipFill>
        <p:spPr>
          <a:xfrm>
            <a:off x="250920" y="907920"/>
            <a:ext cx="8642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одавня Грец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ИЛВ\Desktop\історичні дані\Стародавня Греція.jpg"/>
          <p:cNvPicPr/>
          <p:nvPr/>
        </p:nvPicPr>
        <p:blipFill>
          <a:blip r:embed="rId2"/>
          <a:stretch/>
        </p:blipFill>
        <p:spPr>
          <a:xfrm>
            <a:off x="250920" y="692280"/>
            <a:ext cx="87850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д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ИЛВ\Desktop\історичні дані\Індія.jpeg"/>
          <p:cNvPicPr/>
          <p:nvPr/>
        </p:nvPicPr>
        <p:blipFill>
          <a:blip r:embed="rId1"/>
          <a:stretch/>
        </p:blipFill>
        <p:spPr>
          <a:xfrm>
            <a:off x="108000" y="692280"/>
            <a:ext cx="885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пігра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’ятайте, якщо ви бажаєте навчитися плавати, то сміло заходьте у воду, а якщо бажаєте навчитися розв’язувати задачі, то сміло розв’язуйте 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Пой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:\Картинки (Лена)\docs-owl.png"/>
          <p:cNvPicPr/>
          <p:nvPr/>
        </p:nvPicPr>
        <p:blipFill>
          <a:blip r:embed="rId1"/>
          <a:stretch/>
        </p:blipFill>
        <p:spPr>
          <a:xfrm>
            <a:off x="826920" y="3798720"/>
            <a:ext cx="3168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ИЛВ\Desktop\історичні дані\Китай.jpeg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2" descr=""/>
          <p:cNvPicPr/>
          <p:nvPr/>
        </p:nvPicPr>
        <p:blipFill>
          <a:blip r:embed="rId1"/>
          <a:stretch/>
        </p:blipFill>
        <p:spPr>
          <a:xfrm>
            <a:off x="463680" y="5724360"/>
            <a:ext cx="8515080" cy="114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ИЛВ\Desktop\Діофант 4.jpeg"/>
          <p:cNvPicPr/>
          <p:nvPr/>
        </p:nvPicPr>
        <p:blipFill>
          <a:blip r:embed="rId2"/>
          <a:stretch/>
        </p:blipFill>
        <p:spPr>
          <a:xfrm>
            <a:off x="1619280" y="11592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одавня єгипетська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103320" y="615960"/>
            <a:ext cx="87962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 «Відгада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ИЛВ\Desktop\історичні дані\фокусник.jpeg"/>
          <p:cNvPicPr/>
          <p:nvPr/>
        </p:nvPicPr>
        <p:blipFill>
          <a:blip r:embed="rId1"/>
          <a:stretch/>
        </p:blipFill>
        <p:spPr>
          <a:xfrm>
            <a:off x="108000" y="765000"/>
            <a:ext cx="864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ай число. Додай до задуманого числа число 3. Суму помнож на 6. Добуток зменш на 8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д час гри дії, запропоновані учням, варто наперед написати мовою алгеб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сля виконання дій матимем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6 ─ 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– 8 = 6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рет фокуса у рівнянн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чий запитує, яке число дістав учень, після виконання дій, а потім розв’язує  відповідне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ій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3739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1.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3,4 + 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− 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2 (7 −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 = 2,3 – 0,3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2,7 + 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9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3 (8−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 = 3,2 – 0,8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3,6 + 5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 (1,2 –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4 (6 –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= 0,5 (7 –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8400" y="1844640"/>
            <a:ext cx="3195720" cy="612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1240" y="3933720"/>
            <a:ext cx="2835360" cy="647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54120" y="6093000"/>
            <a:ext cx="2394000" cy="64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ння перших завд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549000"/>
            <a:ext cx="85186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рі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+ 2у = 7(у − 2,3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 + 2у – 7у = −16,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у  = −16,1 – 3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у  = −19,5;    у = 3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,7 + 3у = 9(у – 2,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7 +3у = 9у – 18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у = − 18,9 – 2,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у = − 21,6;     у = 3,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3,6 + 5у = 7(1,2 – 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6 + 5у = 8,4 – 7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у = 4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0,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ання  других  завд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62064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0,2 (7−2у)  = 2,3 – 0,3(у –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4 – 0,4у = 2,3 – 0,3у + 1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4у + 0,3 = 2,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у = 2,7;  у = − 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0,3(8−3у) = 3,2 – 0,8(у – 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4 – 0,9у = 3,2 – 0,8у + 5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у = 6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− 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4(6 – 4 t) = 0,5(7 – 3 t) −1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4 – 1,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3,5 – 1,5 t – 1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6 t + 1,5 t = 1,6 −2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 t  = − 0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зання третіх завд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Объект 2" descr=""/>
          <p:cNvPicPr/>
          <p:nvPr/>
        </p:nvPicPr>
        <p:blipFill>
          <a:blip r:embed="rId1"/>
          <a:stretch/>
        </p:blipFill>
        <p:spPr>
          <a:xfrm>
            <a:off x="171360" y="755640"/>
            <a:ext cx="87282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450720" y="901800"/>
            <a:ext cx="82425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512640" y="2341440"/>
            <a:ext cx="8240760" cy="39801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539640" y="134136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2425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сумо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ьогодні ми  повторили:  ( а далі продовжують учні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таке рівняння  з однією змінно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означає розв’язати рівняння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стивості рівня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чення лінійного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ількість коренів лінійного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в’язали ряд задач  на складання рівнянь, де показали свої  вміння шукати шляхи  розв’язання  в стандартних умовах і в більш складних ситуаціях і побачили важливість вивченої 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оналися, що  дійсно рівняння  - це золотий ключик , який допомагає  розв’язувати  складні математичні  пи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23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вдання додому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765000"/>
            <a:ext cx="8507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и : Роді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’язати  № 9, № 33, № 35,№ 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вчук Василь,  Янченко  Галина.  Алгебра : Підручник для 7 класу.− Тернопіль: Підручники і посібники, 2007.− 22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шукова робота: знайти стародавні задачі на складання і розв’язування рівня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Лі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бірник задач і завдань для тематичного оцінювання з алгебри для 7 класу,   А.Г.Мерзляк, В.Б.Полонсь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Кравчук Василь,  Янченко  Галина.  Алгебра : Підручник для 7 класу.−       Тернопіль: Підручники і посібники, 2007.− 22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постолова Г.В. Я сам! Навчальний посібник з алгебри для тих. Хто у сьомому класі та старше, з опорними схемами, відповідями та порадами – К.: ФАКТ, 1997. – 204с. – укр.мо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валенко В.Г. Дидактические игры на уроках математики: Кн. Для учителя. – М.: Просвещение, 1990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1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7979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970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рьох мішках було 135 кг цукру, до того ж, у першому на 15 кг більше, ніж у третьому,  а  в третьому в 1,2 разу менше, ніж у другому. Скільки цукру в кожному міш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в третьому мішку було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 цукру, тоді в першому  (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15) кг, в другому 1,2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 цукру. За умовою задачі в трьох мішках було 135 кг цукру.  Дістанемо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,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5 = 13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;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7,5 (кг) – в третьому міш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5 + 15 = 52,5 ( кг)  - у перш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∙ 37,5 =- 45 (кг) – у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кспрес опит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о таке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івність з невідомим значенням змінної називають рівнянням з однією змінн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Що називється коренем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начення змінної, для якого рівняння перетворюється у правильну числову рів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8242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ювати основні властивості рівня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будь-якій частині рівняння можна розкрити дужки або             звести подібні дода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удь-який доданок можна перенести з однієї частини в       іншу, змінивши його знак на протилеж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идві частини рівняння можна помножити або поділити  на одне  і те ж, відмінне від нуля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6104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Сформулювати означення лінійного рівняння з однією змінно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450720" y="2560680"/>
            <a:ext cx="808992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468360" y="1125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івняння виду </a:t>
            </a:r>
            <a:r>
              <a:rPr b="0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у якому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і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деякі відомі  числа, а  </a:t>
            </a:r>
            <a:r>
              <a:rPr b="0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змі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0:26:13Z</dcterms:created>
  <dc:creator>l</dc:creator>
  <dc:description/>
  <dc:language>en-US</dc:language>
  <cp:lastModifiedBy>Admin</cp:lastModifiedBy>
  <dcterms:modified xsi:type="dcterms:W3CDTF">2012-06-11T07:41:09Z</dcterms:modified>
  <cp:revision>119</cp:revision>
  <dc:subject/>
  <dc:title>Алгебра, 7-й клас, автор Ільніцька Л.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e000000000001024140</vt:lpwstr>
  </property>
</Properties>
</file>