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B683-4698-4939-ABA0-1450B9F8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AE2F-BBD9-4B21-8031-D1B12898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4F78-4943-4145-95B2-6DE58832B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CAA7-745E-4BF4-BC34-428A70743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4358-4E6D-4A0F-85D9-8FC295A3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EB22-B5B2-4C77-B91A-BEAC426E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FFD1-5811-4A26-AB6B-6DD23DD0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C090-C918-4B7D-BFFE-8FC2CC95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AA46-B337-4BAB-A672-F8291904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39F5-41F6-4799-B03A-06264014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063B-ABCB-4D35-A466-F1590944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A710-A5CD-4CBD-80EA-10796485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f1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E1DB-556A-42A8-BBE0-22E4263939B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00"/>
                </a:solidFill>
                <a:latin typeface="Calibri"/>
              </a:rPr>
              <a:t>Розв’язування текстових задач з теми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3789000"/>
            <a:ext cx="6400800" cy="19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00b050"/>
                </a:solidFill>
                <a:latin typeface="Calibri"/>
              </a:rPr>
              <a:t>„</a:t>
            </a:r>
            <a:r>
              <a:rPr b="1" i="1" lang="uk-UA" sz="5400" spc="-1" strike="noStrike">
                <a:solidFill>
                  <a:srgbClr val="00b050"/>
                </a:solidFill>
                <a:latin typeface="Calibri"/>
              </a:rPr>
              <a:t>ГЕОМЕТРИЧНА ПРОГРЕСІЯ.” 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500720" y="5857920"/>
            <a:ext cx="43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БУГАЙ Н.В.,учитель математики Шосткинської гімназі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476280"/>
            <a:ext cx="8686800" cy="72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І груп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Між числами 5 і 1280 вставте три таких числа, щоб вони разом із даними числами утворювали геометричну прогресію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ІІ група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Між числами 4 і 2500 вставте три таких числа, щоб вони разом із даними числами утворювали геометричну прогресію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ІІІ група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Знайдіть перший член геометричної прогресії , яка складається з шести членів , якщо сума трьох її членів з непарними номерами дорівнює 546, а сума трьох інших членів дорівнює 182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ри якому значенні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числа 2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– 1 ,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+ 3 ,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+ 15 будуть послідовними членами геометричної прогресії? Знайдіть ці числ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476280"/>
            <a:ext cx="8229600" cy="69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Розв’язання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За властивістю геометричної прогресії : будь-який член прогресії, крім першого, є середнє геометричне між сусідніми членами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+ 3 =√  (   ? – 1) × (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+ 15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(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+ 3)² = (2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– 1) × (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+ 15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² + ?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+ 9 = 2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² + ?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– х –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²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² + 6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–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9 +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15 = 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-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²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?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+ 24 = 0  поділимо дане рівняння на -1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²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- 24 = 0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За теоремою Вієта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 + 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= ?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 і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×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= ?,  то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1 =-24  ;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2= 1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Якщо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=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-24,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то  2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– 1 = 2 ×(-24) - 1 = - 48 - 1 =  ?,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+ 3 = - 24 + 3 =  ? ,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+ 15 = - 24 + 15 =  ?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Якщо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=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1,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то 2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– 1 = 2 × 1 – 1 =2 – 1 = ? ,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+ 3 =1 + 3 = ?,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+ 15 = 1 + 15 = ? 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Відповідь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=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-24,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- 49, - 21, - 9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або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=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1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1, 4, 16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-36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Розв’язання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За властивістю геометричної прогресії : будь-який член прогресії, крім першого, є середнє геометричне між сусідніми членами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+ 3 =√ (2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– 1) × (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+ 15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(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+ 3)² = (2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– 1) × (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+ 15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² + 6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+ 9 = 2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² + 30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– х –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²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² + 6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–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9 +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15 = 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-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²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+ 24 = 0  поділимо дане рівняння на -1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²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- 24 = 0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За теоремою Вієта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 + 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= -23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 і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×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=-24,  то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1 =-24  ;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2= 1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Якщо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=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-24,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то  2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– 1 = 2 ×(-24) - 1 = - 48 - 1 =- 49,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+ 3 = - 24 + 3 = - 21,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+ 15 = - 24 + 15 = - 9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Якщо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=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1,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то 2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– 1 = 2 × 1 – 1 =2 – 1 = 1,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+ 3 =1 + 3 = 4,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+ 15 = 1 + 15 = 16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Відповідь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=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-24,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- 49, - 21, - 9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або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=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1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1, 4, 16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333360"/>
            <a:ext cx="8229600" cy="71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dd7e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d7e0e"/>
                </a:solidFill>
                <a:latin typeface="Calibri"/>
              </a:rPr>
              <a:t>Підсумок уроку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d7e0e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dd7e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dd7e0e"/>
                </a:solidFill>
                <a:latin typeface="Calibri"/>
              </a:rPr>
              <a:t>Що нового дізнались на уроці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dd7e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dd7e0e"/>
                </a:solidFill>
                <a:latin typeface="Calibri"/>
              </a:rPr>
              <a:t>Чим займались ми сьогодні на уроці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dd7e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dd7e0e"/>
                </a:solidFill>
                <a:latin typeface="Calibri"/>
              </a:rPr>
              <a:t>Яку історичну інформацію про геометричну прогресію ви можете повідомити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dd7e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Усн</a:t>
            </a:r>
            <a:r>
              <a:rPr b="0" lang="uk-UA" sz="4400" spc="-1" strike="noStrike">
                <a:solidFill>
                  <a:srgbClr val="ff0000"/>
                </a:solidFill>
                <a:latin typeface="Calibri"/>
              </a:rPr>
              <a:t>і вправ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Яка числова послідовність називається геометричною прогресією?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Серед наведених послідовностей виберіть геометричну прогресію, назвіть її знаменник. З’ясуйте, яка вона зростаюча чи спадна? :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а) 5, 8, 10, 15,.........;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б) 3, 6, 12, 24,.........;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в) 4,  9, 16, 25,........;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г)</a:t>
            </a:r>
            <a:r>
              <a:rPr b="1" lang="uk-UA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81, 27, 9, 3,.........;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3.  Назвіть формулу n-го члена геометричної прогресії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4.  Сформулювати властивості геометричної прогресії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Порядо</a:t>
            </a:r>
            <a:r>
              <a:rPr b="1" lang="uk-UA" sz="4400" spc="-1" strike="noStrike">
                <a:solidFill>
                  <a:srgbClr val="7030a0"/>
                </a:solidFill>
                <a:latin typeface="Calibri"/>
              </a:rPr>
              <a:t>к </a:t>
            </a: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проведення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не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кажіть усе, що спаде вам на думку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не обговорюйте і не критикуйте висловлювань інших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можна повторювати ідеї, запропоновані іншими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розширення запропонованої ідеї заохочується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Яка з наведених послідовностей є геометричною прогресією?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А) 2; 6; 18; 36;                                                            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В) 4; 8; 16; 32;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Б) 80; 40; 20; 5;                                  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Г)2; -10; 50; 250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Укажіть серед наведених послідовностей  геометричну  прогресію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А) 6; 18; 54; 162;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) 3; 8; 13; 18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Б) 1; 2; 3; 5;          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Г) 21; 19; 17; 15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Знайдіть знаменник геометричної прогресії  (bn), якщо b6 = 14 / 15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b7 =2 /3.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А) 3/7;   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Б) 5/7;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) 7/5;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Г) 7/3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Знайдіть перший член  геометричної прогресії, якщо її другий член      b2 =12,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а знаменник q = -3.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А) 4;     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Б) -4; 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) 36;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Г) -36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Чому дорівнює п’ятий член  геометричної прогресії, якщо її перший член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b1 = 405, а знаменник q = -⅓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А)-5;     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Б) 5;  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)-3;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Г) 3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Знайти невідомий член геометричної прогресії : 3; 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х;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27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81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А)9;     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Б) 9;  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)3;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Г) 343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3T18:06:13Z</dcterms:created>
  <dc:creator>Пользователь Windows</dc:creator>
  <dc:description/>
  <dc:language>en-US</dc:language>
  <cp:lastModifiedBy>Светик</cp:lastModifiedBy>
  <dcterms:modified xsi:type="dcterms:W3CDTF">2012-06-05T10:11:54Z</dcterms:modified>
  <cp:revision>9</cp:revision>
  <dc:subject/>
  <dc:title>Розв’язування текстових задач з теми:</dc:title>
</cp:coreProperties>
</file>