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BFD-1652-42BA-A4FB-36421837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54D-A531-4209-B3F2-0A46B6B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CBA-48C7-4710-98C1-4508A747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8E2-DEC8-4863-A565-3B158D4C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F91-E64F-4BFE-A37A-2A9BC03F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2ED-86EB-411B-9304-BF0AEB8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7FD-FA07-4345-9607-561C9781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6F4-8986-45EE-9C3F-FDC551D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DFD-8548-4724-A26C-FB3D1621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FD7-D6CB-45C4-80DB-9E75C78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175-CEBE-4399-8780-956022F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4F4-7386-496C-AB4A-DDA56D0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f1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F62-834F-4FAA-92D7-731A7C7753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озв’язування текстових задач з тем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000"/>
            <a:ext cx="640080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1" i="1" lang="uk-UA" sz="5400" spc="-1" strike="noStrike">
                <a:solidFill>
                  <a:srgbClr val="00b050"/>
                </a:solidFill>
                <a:latin typeface="Calibri"/>
              </a:rPr>
              <a:t>ГЕОМЕТРИЧНА ПРОГРЕСІЯ.”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585792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УГАЙ Н.В.,учитель математики Шосткинської гімназ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6280"/>
            <a:ext cx="8686800" cy="72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 гр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5 і 128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 група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ж числами 4 і 2500 вставте три таких числа, щоб вони разом із даними числами утворювали геометричну прогресі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ІІІ група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найдіть перший член геометричної прогресії , яка складається з шести членів , якщо сума трьох її членів з непарними номерами дорівнює 546, а сума трьох інших членів дорівнює 182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и якому значенні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исла 2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– 1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3 ,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 15 будуть послідовними членами геометричної прогресії? Знайдіть ці чис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76280"/>
            <a:ext cx="82296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 (   ? 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?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?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?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 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 ?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? 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?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? 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озв’язання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властивістю геометричної прогресії : будь-який член прогресії, крім першого, є середнє геометричне між сусідніми членами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√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)² = (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) × (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9 =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х –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+ 6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9 +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5 = 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-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24 = 0  поділимо дане рівняння на -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²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 24 = 0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 теоремою Вієта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+ 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 -23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×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=-24,  то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 =-24  ;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2= 1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(-24) - 1 = - 48 - 1 =- 49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 - 24 + 3 = - 2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- 24 + 15 =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Якщо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то 2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– 1 = 2 × 1 – 1 =2 – 1 = 1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+ 3 =1 + 3 = 4,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+ 15 = 1 + 15 =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Відповідь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-24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- 49, - 21, - 9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</a:t>
            </a:r>
            <a:r>
              <a:rPr b="0" i="1" lang="uk-UA" sz="1300" spc="-1" strike="noStrike">
                <a:solidFill>
                  <a:srgbClr val="000000"/>
                </a:solidFill>
                <a:latin typeface="Calibri"/>
              </a:rPr>
              <a:t>х =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1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1, 4, 16.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33360"/>
            <a:ext cx="8229600" cy="71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Підсумок уроку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d7e0e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Що нового дізнались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Чим займались ми сьогодні на уроці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d7e0e"/>
                </a:solidFill>
                <a:latin typeface="Calibri"/>
              </a:rPr>
              <a:t>Яку історичну інформацію про геометричну прогресію ви можете повідомит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Усн</a:t>
            </a: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і вправ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Яка числова послідовність називається геометричною прогресією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Серед наведених послідовностей виберіть геометричну прогресію, назвіть її знаменник. З’ясуйте, яка вона зростаюча чи спадна? 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а) 5, 8, 10, 15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б) 3, 6, 12, 24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) 4,  9, 16, 25,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81, 27, 9, 3,.........;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.  Назвіть формулу n-го члена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4.  Сформулювати властивості геометричної прогресії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рядо</a:t>
            </a:r>
            <a:r>
              <a:rPr b="1" lang="uk-UA" sz="4400" spc="-1" strike="noStrike">
                <a:solidFill>
                  <a:srgbClr val="7030a0"/>
                </a:solidFill>
                <a:latin typeface="Calibri"/>
              </a:rPr>
              <a:t>к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ведення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іть усе, що спаде вам на думку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 обговорюйте і не критикуйте висловлювань інших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ожна повторювати ідеї, запропоновані інши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зширення запропонованої ідеї заохочує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Яка з наведених послідовностей є геометричною прогресією?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) 2; 6; 18; 36;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) 4; 8; 16; 32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Б) 80; 40; 20; 5;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)2; -10; 50; 250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кажіть серед наведених послідовностей  геометричну  прогресію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6; 18; 54; 162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; 8; 13; 18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1; 2; 3; 5;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21; 19; 17; 15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знаменник геометричної прогресії  (bn), якщо b6 = 14 / 15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7 =2 /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3/7;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/7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7/5;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7/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діть перший член  геометричної прогресії, якщо її другий член      b2 =12,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а знаменник q = -3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4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-4;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36;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-36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ому дорівнює п’ятий член  геометричної прогресії, якщо її перший член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b1 = 405, а знаменник q = -⅓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-5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5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-3;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найти невідомий член геометричної прогресії : 3; 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х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8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9;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9;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3;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34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8:06:13Z</dcterms:created>
  <dc:creator>Пользователь Windows</dc:creator>
  <dc:description/>
  <dc:language>en-US</dc:language>
  <cp:lastModifiedBy>Светик</cp:lastModifiedBy>
  <dcterms:modified xsi:type="dcterms:W3CDTF">2012-06-05T10:11:54Z</dcterms:modified>
  <cp:revision>9</cp:revision>
  <dc:subject/>
  <dc:title>Розв’язування текстових задач з теми:</dc:title>
</cp:coreProperties>
</file>