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27.jpeg" ContentType="image/jpeg"/>
  <Override PartName="/ppt/media/image9.jpeg" ContentType="image/jpeg"/>
  <Override PartName="/ppt/media/image11.jpeg" ContentType="image/jpeg"/>
  <Override PartName="/ppt/media/image22.jpeg" ContentType="image/jpeg"/>
  <Override PartName="/ppt/media/image7.png" ContentType="image/png"/>
  <Override PartName="/ppt/media/image29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30.png" ContentType="image/png"/>
  <Override PartName="/ppt/media/image28.png" ContentType="image/png"/>
  <Override PartName="/ppt/media/image31.jpeg" ContentType="image/jpeg"/>
  <Override PartName="/ppt/media/image2.png" ContentType="image/png"/>
  <Override PartName="/ppt/media/image32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6.jpeg" ContentType="image/jpeg"/>
  <Override PartName="/ppt/media/image18.png" ContentType="image/png"/>
  <Override PartName="/ppt/media/image25.png" ContentType="image/png"/>
  <Override PartName="/ppt/media/image19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8B9D-3059-4663-8579-B71AB0FB1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295D-1E09-45CC-A534-C6BA4EED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F63A7E-0DBA-4F42-8765-BD9004FD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5F1ACD-4C54-4EC9-A8F6-A2C668C7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6BA86-F4D8-4756-BCC4-107BB9C1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A24232-2E61-4B24-924A-789FDA88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7819C1-D9B2-4A5E-80DE-6D0A8B99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A2982A-92D1-4C3D-8F64-06B5B25C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784CFA-A960-47CA-8FB9-F7672478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FA9553-63A4-4998-9079-771239BFC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A393D4-86CC-42D8-9272-7DDC76D37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4721-E5E5-489C-AF61-FDF6CDCF9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0C94-45F5-4C34-B719-3C918711D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8A48-CCDC-4C54-83CF-0329C7DAD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4C6E-C804-41F6-82EF-F24A2B35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B85B-B0BD-49A0-96AD-49EFC524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CCE5-6F1F-4796-973C-D733B967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EC1E-578F-4824-8B2F-F8081A79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A8D91-9169-4D44-851A-61F66844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F7F39-CEA5-42CD-97EB-B2858A60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C1FB-0D40-48C3-80AD-2990AF2B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6794-5CB8-4FE6-A3DF-64626BA0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AB82-B24E-4AE5-B97F-8CD660AB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09BC8-B725-44D1-ACC5-0B733847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7EBB-1F38-4076-B1A8-339969B52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3C01-D262-44CE-A64F-3DEA2EAE5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F3F08-4A42-4C18-BA4B-27DD43BD4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B6822-28F6-4DF6-BBD1-04D86F86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2750F-556F-4C1C-B230-C66F512F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6D02A-F69C-4691-80D5-680684C7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BB9FE-453F-4614-9C06-668F19EC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BFF2-F84A-43BE-997C-3B5B6FFE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68E98-D564-481D-AF7F-3FD409DB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92A1E-721F-4566-80EF-5E7EC2E0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A9FF3-3A01-472E-89A7-2C560FA0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FBBE4-C5EF-4F66-BC83-2C740066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4D373-9D3C-49ED-95BC-EBEA0F52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F3863-3B78-4609-B5CD-CF2781A46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832CD-8871-4C3B-B326-8D9C894F3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40C43-4E5E-4B07-92AB-D1FBA4DD4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26A77-EFC0-4999-B6AE-5E2B9798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EA164-1815-4023-9B23-71902AA8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33D7-E649-4D02-8476-BBB042C1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5C914-6BAB-44BE-9EFC-D638CF73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E7623-081C-4E01-A1C6-8BD3076B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38198-0F5A-4C37-AF84-E70ECB27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4AEA5-0393-4F27-A6B6-57BB2A73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C0569-9A19-432B-90C1-24024846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E5158-0183-4DF8-9276-C4A23813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289B8-17ED-4C92-B69D-561C665C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603E8-1189-4552-830A-1E4AD279F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388FE-660D-4977-B364-67194F501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36D7B-1E80-4983-ADBF-72DE0D63B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F46D-1BB2-4280-888A-637E3422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AE0C1-6B8E-43DA-B6AE-05070858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BF346-D234-4049-ACF6-3662E5EA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4B6DD-053F-4FB2-A365-ADDC9F47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76EE1-B9B5-4998-A807-2F037F3A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2B6FB-6622-4443-A2FA-BF4886AE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09F7B-6DD6-4593-93AB-19408DB4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22887-A06D-4DDF-9064-DCA6523B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B1CD9-74DE-47BE-AF72-68461C18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7EDFE-C3DB-4E07-91DE-2B654639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ED579-ACE5-4505-B689-9D0E1E392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52EF-5AB0-4686-8415-91DC470E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D370D-19FB-4077-B0A8-2A3ECE949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4D854-85F7-4D03-8B97-C478FEABC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5911A-35B7-4E88-B20C-495A3EC5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A4492-7B64-4C9C-A218-F3AA6652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003F0-DE31-4651-B17B-8BCF5F0D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67E15-0783-490A-8DA3-300A5953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F101C-4D95-4A74-A6CD-CE4D8F12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E60F4-FDF4-444C-BAEB-2C38D5C1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A83FC-4131-48E3-BDAA-370677E3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F53BD-01B1-474E-B845-27EB8364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C733-1F79-424A-BE76-328A98A7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82711-4A03-46A8-AD6A-C203B668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51091-64BB-4FDE-AE9E-191154B9F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0A1F0-D1CC-4622-B968-06F155B43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9B041-66BC-4358-9276-CE79EA2D0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10F1F-E148-409F-B089-1F8D1303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AEF6F-8EC7-413A-ADF5-388D096D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4EDB1-9410-4D75-8468-B31250E6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7F053-26D5-450D-96C9-99416991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B2EC5-B8ED-47A7-BFC3-A27962C4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295D6-1554-4354-B9A7-291EA695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86B7-ACC0-46CD-8C19-9BA36DEB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7389E-DAF2-4C8B-A9AC-3A91887B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E73CF-A9AC-4C32-BD3C-4BEFF83B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C4D37-D6D0-4B60-8F43-BF1378C9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E744B-31E3-49D2-8072-19B12A20F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AB636-74AB-46D8-A3A2-66684B9F0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EDAAB0-B12A-497C-9728-3D97BFA87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99D0DC-E73D-48EA-8D6C-CB92648A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006131-D161-4439-9CD7-18800219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4ADA52-DA0B-440C-BA90-C38E2D2F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3CDA95-5590-4535-999F-D21791C0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6639-EB69-4F9C-A48C-FDE3E95B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60226D-9540-4933-AF8D-28B4BBCB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1F6663-9519-44B0-8510-04C6950D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63B8DE-B82C-49AE-9E64-7E43B483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D552DE-8828-4BD7-ACD3-C1B64405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97F8D5-3B55-434C-8D26-BAE82D24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747F9D-2383-4107-B244-2CEAFEED4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D06890-7C83-4E41-9B30-C72425FF1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857284-EA9A-4E5A-AB67-C0B887999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F67DFD-2D3A-4A23-B3EC-53BE4A9B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C3F5E7-673A-4BC0-8EE3-671FF3CE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Elephant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8D9B-D68E-4E8B-8050-52F08B844B45}" type="slidenum"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9f293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9f293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1b587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57360" indent="-246240">
              <a:spcBef>
                <a:spcPts val="300"/>
              </a:spcBef>
              <a:buClr>
                <a:srgbClr val="9f293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922320" indent="-218880">
              <a:spcBef>
                <a:spcPts val="300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179360" indent="-199800">
              <a:spcBef>
                <a:spcPts val="300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389240" indent="-182880">
              <a:spcBef>
                <a:spcPts val="300"/>
              </a:spcBef>
              <a:buClr>
                <a:srgbClr val="1b587c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9f293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9f293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2986-2E3F-44D2-A609-3F8B8A5F298D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101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Elephant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C094-7158-450E-8DDC-4A09E4BFEF8D}" type="slidenum"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146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Elephant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7E59-8285-4EA9-89F5-B00BFA970DD9}" type="slidenum"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Elephant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43CC-33E0-43ED-B595-7B16FA7E4332}" type="slidenum"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Elephant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332B-F4C1-40DD-AE83-F9C4C0A5A2F3}" type="slidenum"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9f293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9f293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9f293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9f293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9f293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1b587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57360" indent="-246240">
              <a:spcBef>
                <a:spcPts val="300"/>
              </a:spcBef>
              <a:buClr>
                <a:srgbClr val="9f293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922320" indent="-218880">
              <a:spcBef>
                <a:spcPts val="300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179360" indent="-199800">
              <a:spcBef>
                <a:spcPts val="300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389240" indent="-182880">
              <a:spcBef>
                <a:spcPts val="300"/>
              </a:spcBef>
              <a:buClr>
                <a:srgbClr val="1b587c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9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9f293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9f293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0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1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EEA1-1FDB-4E30-BE6F-712864691E52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9f293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9f293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1b587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57360" indent="-246240">
              <a:spcBef>
                <a:spcPts val="300"/>
              </a:spcBef>
              <a:buClr>
                <a:srgbClr val="9f293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922320" indent="-218880">
              <a:spcBef>
                <a:spcPts val="300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179360" indent="-199800">
              <a:spcBef>
                <a:spcPts val="300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389240" indent="-182880">
              <a:spcBef>
                <a:spcPts val="300"/>
              </a:spcBef>
              <a:buClr>
                <a:srgbClr val="1b587c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9f293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9f293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sldNum" idx="2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B8C1-7AC0-4183-95C9-F4FB4FEE2368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ftr" idx="2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9f293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9f293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1b587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57360" indent="-246240">
              <a:spcBef>
                <a:spcPts val="300"/>
              </a:spcBef>
              <a:buClr>
                <a:srgbClr val="9f293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922320" indent="-218880">
              <a:spcBef>
                <a:spcPts val="300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179360" indent="-199800">
              <a:spcBef>
                <a:spcPts val="300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389240" indent="-182880">
              <a:spcBef>
                <a:spcPts val="300"/>
              </a:spcBef>
              <a:buClr>
                <a:srgbClr val="1b587c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9f293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9f293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E1D0-6ED9-4E9C-B396-4374EDDB704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png"/><Relationship Id="rId1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628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d75b7e"/>
                </a:solidFill>
                <a:latin typeface="Elephant"/>
              </a:rPr>
              <a:t>ВЗАЄМНЕ РОЗМІЩЕННЯ ПРЯМИХ НА ПЛОЩИНІ  </a:t>
            </a:r>
            <a:br>
              <a:rPr sz="4000"/>
            </a:br>
            <a:r>
              <a:rPr b="1" lang="uk-UA" sz="3600" spc="-1" strike="noStrike">
                <a:solidFill>
                  <a:srgbClr val="d75b7e"/>
                </a:solidFill>
                <a:latin typeface="Elephant"/>
              </a:rPr>
              <a:t>                                                </a:t>
            </a:r>
            <a:r>
              <a:rPr b="1" lang="uk-UA" sz="3600" spc="-1" strike="noStrike">
                <a:solidFill>
                  <a:srgbClr val="b24d1d"/>
                </a:solidFill>
                <a:latin typeface="Elephant"/>
              </a:rPr>
              <a:t>7 КЛАС</a:t>
            </a: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533160" y="3228840"/>
            <a:ext cx="8110440" cy="24148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8a2e4e"/>
                </a:solidFill>
                <a:latin typeface="Cambria"/>
              </a:rPr>
              <a:t>Підготувала вчитель математики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8a2e4e"/>
                </a:solidFill>
                <a:latin typeface="Cambria"/>
              </a:rPr>
              <a:t>Вихватенко Тетяна Федорівна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8a2e4e"/>
                </a:solidFill>
                <a:latin typeface="Cambria"/>
              </a:rPr>
              <a:t>Старобільська ЗОШ ІІ-ІІІ ступенів № 4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8a2e4e"/>
                </a:solidFill>
                <a:latin typeface="Cambria"/>
              </a:rPr>
              <a:t>Луганської області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Содержимое 2" descr=""/>
          <p:cNvPicPr/>
          <p:nvPr/>
        </p:nvPicPr>
        <p:blipFill>
          <a:blip r:embed="rId1"/>
          <a:stretch/>
        </p:blipFill>
        <p:spPr>
          <a:xfrm>
            <a:off x="444600" y="585720"/>
            <a:ext cx="7138800" cy="1074744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2" descr=""/>
          <p:cNvPicPr/>
          <p:nvPr/>
        </p:nvPicPr>
        <p:blipFill>
          <a:blip r:embed="rId2"/>
          <a:srcRect l="0" t="0" r="0" b="67"/>
          <a:stretch/>
        </p:blipFill>
        <p:spPr>
          <a:xfrm>
            <a:off x="1571760" y="2714760"/>
            <a:ext cx="6072120" cy="423216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3" descr=""/>
          <p:cNvPicPr/>
          <p:nvPr/>
        </p:nvPicPr>
        <p:blipFill>
          <a:blip r:embed="rId3"/>
          <a:stretch/>
        </p:blipFill>
        <p:spPr>
          <a:xfrm>
            <a:off x="1643040" y="2786040"/>
            <a:ext cx="5786640" cy="40514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5" descr="32"/>
          <p:cNvPicPr/>
          <p:nvPr/>
        </p:nvPicPr>
        <p:blipFill>
          <a:blip r:embed="rId4"/>
          <a:stretch/>
        </p:blipFill>
        <p:spPr>
          <a:xfrm>
            <a:off x="1571760" y="2714760"/>
            <a:ext cx="6572160" cy="405576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9" descr=""/>
          <p:cNvPicPr/>
          <p:nvPr/>
        </p:nvPicPr>
        <p:blipFill>
          <a:blip r:embed="rId5"/>
          <a:stretch/>
        </p:blipFill>
        <p:spPr>
          <a:xfrm>
            <a:off x="2214720" y="2643120"/>
            <a:ext cx="5072040" cy="421488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0" descr=""/>
          <p:cNvPicPr/>
          <p:nvPr/>
        </p:nvPicPr>
        <p:blipFill>
          <a:blip r:embed="rId6"/>
          <a:stretch/>
        </p:blipFill>
        <p:spPr>
          <a:xfrm>
            <a:off x="1857240" y="2571840"/>
            <a:ext cx="5700960" cy="428616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11" descr=""/>
          <p:cNvPicPr/>
          <p:nvPr/>
        </p:nvPicPr>
        <p:blipFill>
          <a:blip r:embed="rId7"/>
          <a:stretch/>
        </p:blipFill>
        <p:spPr>
          <a:xfrm>
            <a:off x="3143160" y="2568600"/>
            <a:ext cx="2928960" cy="428940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13" descr=""/>
          <p:cNvPicPr/>
          <p:nvPr/>
        </p:nvPicPr>
        <p:blipFill>
          <a:blip r:embed="rId8"/>
          <a:srcRect l="0" t="0" r="0" b="-14"/>
          <a:stretch/>
        </p:blipFill>
        <p:spPr>
          <a:xfrm>
            <a:off x="1500120" y="3000240"/>
            <a:ext cx="6939000" cy="300060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4" descr=""/>
          <p:cNvPicPr/>
          <p:nvPr/>
        </p:nvPicPr>
        <p:blipFill>
          <a:blip r:embed="rId9"/>
          <a:stretch/>
        </p:blipFill>
        <p:spPr>
          <a:xfrm>
            <a:off x="1428840" y="2571840"/>
            <a:ext cx="6786360" cy="433044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7" descr=""/>
          <p:cNvPicPr/>
          <p:nvPr/>
        </p:nvPicPr>
        <p:blipFill>
          <a:blip r:embed="rId10"/>
          <a:stretch/>
        </p:blipFill>
        <p:spPr>
          <a:xfrm>
            <a:off x="2643120" y="2611440"/>
            <a:ext cx="4071960" cy="42465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6" descr=""/>
          <p:cNvPicPr/>
          <p:nvPr/>
        </p:nvPicPr>
        <p:blipFill>
          <a:blip r:embed="rId11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</p:spPr>
      </p:pic>
      <p:pic>
        <p:nvPicPr>
          <p:cNvPr id="508" name="Новая дорожка 2.mp3" descr=""/>
          <p:cNvPicPr/>
          <p:nvPr/>
        </p:nvPicPr>
        <p:blipFill>
          <a:blip r:embed="rId1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5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7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770" fill="hold"/>
                                        <p:tgtEl>
                                          <p:spTgt spid="4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5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77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770" fill="hold"/>
                                        <p:tgtEl>
                                          <p:spTgt spid="5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77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770" fill="hold"/>
                                        <p:tgtEl>
                                          <p:spTgt spid="5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77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770" fill="hold"/>
                                        <p:tgtEl>
                                          <p:spTgt spid="5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7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770" fill="hold"/>
                                        <p:tgtEl>
                                          <p:spTgt spid="5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77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770" fill="hold"/>
                                        <p:tgtEl>
                                          <p:spTgt spid="5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77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" dur="770" fill="hold"/>
                                        <p:tgtEl>
                                          <p:spTgt spid="5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8" dur="77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0" dur="77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571680" y="1000080"/>
            <a:ext cx="811512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           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а                                           с   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1    </a:t>
            </a: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                       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3</a:t>
            </a: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                                 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                                                                            </a:t>
            </a:r>
            <a:r>
              <a:rPr b="0" lang="uk-UA" sz="2000" spc="-1" strike="noStrike">
                <a:solidFill>
                  <a:srgbClr val="ff0000"/>
                </a:solidFill>
                <a:latin typeface="Cambri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                                                  </a:t>
            </a:r>
            <a:r>
              <a:rPr b="0" lang="uk-UA" sz="3200" spc="-1" strike="noStrike">
                <a:solidFill>
                  <a:srgbClr val="ff0000"/>
                </a:solidFill>
                <a:latin typeface="Cambria"/>
              </a:rPr>
              <a:t>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240120">
              <a:spcBef>
                <a:spcPts val="300"/>
              </a:spcBef>
              <a:buClr>
                <a:srgbClr val="1b587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Будинки поросят Наф-Наф, Ніф-Ніф, Нуф-Нуф розташовано в кутах трикутника АВС. Треба  побудувати їм нові будинки-кути, але вони повинні бути рівними зі старими за градусною мірою. Дороги а і с паралельні.  Де будуть мешкати поросята?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0" name="Прямая соединительная линия 4"/>
          <p:cNvSpPr/>
          <p:nvPr/>
        </p:nvSpPr>
        <p:spPr>
          <a:xfrm flipH="1">
            <a:off x="1571400" y="1928880"/>
            <a:ext cx="1143000" cy="1357200"/>
          </a:xfrm>
          <a:prstGeom prst="line">
            <a:avLst/>
          </a:prstGeom>
          <a:ln w="381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ая соединительная линия 5"/>
          <p:cNvSpPr/>
          <p:nvPr/>
        </p:nvSpPr>
        <p:spPr>
          <a:xfrm>
            <a:off x="2714040" y="1928880"/>
            <a:ext cx="2143080" cy="2786040"/>
          </a:xfrm>
          <a:prstGeom prst="line">
            <a:avLst/>
          </a:prstGeom>
          <a:ln w="381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8"/>
          <p:cNvSpPr/>
          <p:nvPr/>
        </p:nvSpPr>
        <p:spPr>
          <a:xfrm>
            <a:off x="1500120" y="3357720"/>
            <a:ext cx="4857840" cy="785520"/>
          </a:xfrm>
          <a:prstGeom prst="line">
            <a:avLst/>
          </a:prstGeom>
          <a:ln w="381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ая соединительная линия 13"/>
          <p:cNvSpPr/>
          <p:nvPr/>
        </p:nvSpPr>
        <p:spPr>
          <a:xfrm flipH="1">
            <a:off x="4143240" y="2000160"/>
            <a:ext cx="1500480" cy="1785960"/>
          </a:xfrm>
          <a:prstGeom prst="line">
            <a:avLst/>
          </a:prstGeom>
          <a:ln w="381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4" descr=""/>
          <p:cNvPicPr/>
          <p:nvPr/>
        </p:nvPicPr>
        <p:blipFill>
          <a:blip r:embed="rId1"/>
          <a:srcRect l="0" t="3446" r="67131" b="0"/>
          <a:stretch/>
        </p:blipFill>
        <p:spPr>
          <a:xfrm>
            <a:off x="928800" y="3286080"/>
            <a:ext cx="657000" cy="11667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5" descr=""/>
          <p:cNvPicPr/>
          <p:nvPr/>
        </p:nvPicPr>
        <p:blipFill>
          <a:blip r:embed="rId2"/>
          <a:srcRect l="29631" t="0" r="36354" b="23759"/>
          <a:stretch/>
        </p:blipFill>
        <p:spPr>
          <a:xfrm>
            <a:off x="2000160" y="928800"/>
            <a:ext cx="743040" cy="100476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6" descr=""/>
          <p:cNvPicPr/>
          <p:nvPr/>
        </p:nvPicPr>
        <p:blipFill>
          <a:blip r:embed="rId3"/>
          <a:srcRect l="64359" t="6120" r="0" b="4603"/>
          <a:stretch/>
        </p:blipFill>
        <p:spPr>
          <a:xfrm>
            <a:off x="3429000" y="3714840"/>
            <a:ext cx="70812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23232"/>
                </a:solidFill>
                <a:latin typeface="Cambria"/>
              </a:rPr>
              <a:t>Відповідь </a:t>
            </a:r>
            <a:endParaRPr b="0" lang="en-US" sz="40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193500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mbri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9" name="Прямая соединительная линия 5"/>
          <p:cNvSpPr/>
          <p:nvPr/>
        </p:nvSpPr>
        <p:spPr>
          <a:xfrm flipH="1">
            <a:off x="1643040" y="2000160"/>
            <a:ext cx="928800" cy="2071800"/>
          </a:xfrm>
          <a:prstGeom prst="line">
            <a:avLst/>
          </a:prstGeom>
          <a:ln w="381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Прямая соединительная линия 6"/>
          <p:cNvSpPr/>
          <p:nvPr/>
        </p:nvSpPr>
        <p:spPr>
          <a:xfrm flipH="1">
            <a:off x="4214520" y="1928880"/>
            <a:ext cx="1500120" cy="2643120"/>
          </a:xfrm>
          <a:prstGeom prst="line">
            <a:avLst/>
          </a:prstGeom>
          <a:ln w="381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Прямая соединительная линия 7"/>
          <p:cNvSpPr/>
          <p:nvPr/>
        </p:nvSpPr>
        <p:spPr>
          <a:xfrm flipH="1" flipV="1">
            <a:off x="1642680" y="4071960"/>
            <a:ext cx="4714920" cy="928800"/>
          </a:xfrm>
          <a:prstGeom prst="line">
            <a:avLst/>
          </a:prstGeom>
          <a:ln w="381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рямая соединительная линия 10"/>
          <p:cNvSpPr/>
          <p:nvPr/>
        </p:nvSpPr>
        <p:spPr>
          <a:xfrm>
            <a:off x="2571120" y="2000160"/>
            <a:ext cx="2857320" cy="4500720"/>
          </a:xfrm>
          <a:prstGeom prst="line">
            <a:avLst/>
          </a:prstGeom>
          <a:ln w="381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5" descr=""/>
          <p:cNvPicPr/>
          <p:nvPr/>
        </p:nvPicPr>
        <p:blipFill>
          <a:blip r:embed="rId1"/>
          <a:srcRect l="29631" t="0" r="36354" b="23759"/>
          <a:stretch/>
        </p:blipFill>
        <p:spPr>
          <a:xfrm>
            <a:off x="3857760" y="2857680"/>
            <a:ext cx="742680" cy="10047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6" descr=""/>
          <p:cNvPicPr/>
          <p:nvPr/>
        </p:nvPicPr>
        <p:blipFill>
          <a:blip r:embed="rId2"/>
          <a:srcRect l="64359" t="6120" r="0" b="4603"/>
          <a:stretch/>
        </p:blipFill>
        <p:spPr>
          <a:xfrm>
            <a:off x="5143680" y="4929120"/>
            <a:ext cx="707760" cy="10717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4" descr=""/>
          <p:cNvPicPr/>
          <p:nvPr/>
        </p:nvPicPr>
        <p:blipFill>
          <a:blip r:embed="rId3"/>
          <a:srcRect l="0" t="3446" r="67131" b="0"/>
          <a:stretch/>
        </p:blipFill>
        <p:spPr>
          <a:xfrm>
            <a:off x="5214960" y="3500280"/>
            <a:ext cx="657360" cy="1167120"/>
          </a:xfrm>
          <a:prstGeom prst="rect">
            <a:avLst/>
          </a:prstGeom>
          <a:ln w="0">
            <a:noFill/>
          </a:ln>
        </p:spPr>
      </p:pic>
      <p:sp>
        <p:nvSpPr>
          <p:cNvPr id="526" name="TextBox 15"/>
          <p:cNvSpPr/>
          <p:nvPr/>
        </p:nvSpPr>
        <p:spPr>
          <a:xfrm>
            <a:off x="4646880" y="4786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16"/>
          <p:cNvSpPr/>
          <p:nvPr/>
        </p:nvSpPr>
        <p:spPr>
          <a:xfrm>
            <a:off x="4003920" y="38577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20"/>
          <p:cNvSpPr/>
          <p:nvPr/>
        </p:nvSpPr>
        <p:spPr>
          <a:xfrm>
            <a:off x="4718160" y="38577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б  стріла Івана потрапила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  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царівни-жабки,  треба  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йти кут польоту стріли (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, 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що 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= 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= 35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uk-UA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= 42</a:t>
            </a:r>
            <a:r>
              <a:rPr b="0" lang="uk-UA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                    5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6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                </a:t>
            </a:r>
            <a:r>
              <a:rPr b="1" lang="uk-U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cxnSp>
        <p:nvCxnSpPr>
          <p:cNvPr id="530" name="Прямая со стрелкой 4"/>
          <p:cNvCxnSpPr/>
          <p:nvPr/>
        </p:nvCxnSpPr>
        <p:spPr>
          <a:xfrm flipH="1" flipV="1">
            <a:off x="642240" y="2785680"/>
            <a:ext cx="3072600" cy="2160"/>
          </a:xfrm>
          <a:prstGeom prst="straightConnector1">
            <a:avLst/>
          </a:prstGeom>
          <a:ln w="4752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531" name="Прямая со стрелкой 10"/>
          <p:cNvCxnSpPr/>
          <p:nvPr/>
        </p:nvCxnSpPr>
        <p:spPr>
          <a:xfrm flipH="1" flipV="1">
            <a:off x="2571120" y="2071080"/>
            <a:ext cx="786600" cy="3143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32" name="Прямая со стрелкой 11"/>
          <p:cNvCxnSpPr/>
          <p:nvPr/>
        </p:nvCxnSpPr>
        <p:spPr>
          <a:xfrm flipV="1">
            <a:off x="784800" y="2142720"/>
            <a:ext cx="1143720" cy="2929680"/>
          </a:xfrm>
          <a:prstGeom prst="straightConnector1">
            <a:avLst/>
          </a:prstGeom>
          <a:ln w="38160">
            <a:solidFill>
              <a:srgbClr val="f07f09"/>
            </a:solidFill>
            <a:miter/>
            <a:tailEnd len="med" type="triangle" w="med"/>
          </a:ln>
        </p:spPr>
      </p:cxnSp>
      <p:sp>
        <p:nvSpPr>
          <p:cNvPr id="533" name="Прямая соединительная линия 21"/>
          <p:cNvSpPr/>
          <p:nvPr/>
        </p:nvSpPr>
        <p:spPr>
          <a:xfrm>
            <a:off x="642960" y="4500720"/>
            <a:ext cx="3143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2" descr=""/>
          <p:cNvPicPr/>
          <p:nvPr/>
        </p:nvPicPr>
        <p:blipFill>
          <a:blip r:embed="rId1"/>
          <a:stretch/>
        </p:blipFill>
        <p:spPr>
          <a:xfrm>
            <a:off x="71280" y="351000"/>
            <a:ext cx="1571760" cy="193500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3" descr=""/>
          <p:cNvPicPr/>
          <p:nvPr/>
        </p:nvPicPr>
        <p:blipFill>
          <a:blip r:embed="rId2"/>
          <a:srcRect l="0" t="0" r="272" b="0"/>
          <a:stretch/>
        </p:blipFill>
        <p:spPr>
          <a:xfrm>
            <a:off x="3571920" y="4572000"/>
            <a:ext cx="1785960" cy="2000160"/>
          </a:xfrm>
          <a:prstGeom prst="rect">
            <a:avLst/>
          </a:prstGeom>
          <a:ln w="0">
            <a:noFill/>
          </a:ln>
        </p:spPr>
      </p:pic>
      <p:sp>
        <p:nvSpPr>
          <p:cNvPr id="536" name="Дуга 9"/>
          <p:cNvSpPr/>
          <p:nvPr/>
        </p:nvSpPr>
        <p:spPr>
          <a:xfrm rot="11137800">
            <a:off x="2910960" y="4257720"/>
            <a:ext cx="565200" cy="520560"/>
          </a:xfrm>
          <a:custGeom>
            <a:avLst/>
            <a:gdLst/>
            <a:ahLst/>
            <a:rect l="l" t="t" r="r" b="b"/>
            <a:pathLst>
              <a:path stroke="0" w="565150" h="520700">
                <a:moveTo>
                  <a:pt x="166713" y="22891"/>
                </a:moveTo>
                <a:cubicBezTo>
                  <a:pt x="244015" y="-9127"/>
                  <a:pt x="332833" y="-7485"/>
                  <a:pt x="408679" y="27363"/>
                </a:cubicBezTo>
                <a:cubicBezTo>
                  <a:pt x="492355" y="65808"/>
                  <a:pt x="549971" y="139901"/>
                  <a:pt x="562572" y="225264"/>
                </a:cubicBezTo>
                <a:lnTo>
                  <a:pt x="282575" y="260350"/>
                </a:lnTo>
                <a:lnTo>
                  <a:pt x="166713" y="22891"/>
                </a:lnTo>
                <a:close/>
              </a:path>
              <a:path fill="none" w="565150" h="520700">
                <a:moveTo>
                  <a:pt x="166713" y="22891"/>
                </a:moveTo>
                <a:cubicBezTo>
                  <a:pt x="244015" y="-9127"/>
                  <a:pt x="332833" y="-7485"/>
                  <a:pt x="408679" y="27363"/>
                </a:cubicBezTo>
                <a:cubicBezTo>
                  <a:pt x="492355" y="65808"/>
                  <a:pt x="549971" y="139901"/>
                  <a:pt x="562572" y="225264"/>
                </a:cubicBezTo>
              </a:path>
            </a:pathLst>
          </a:custGeom>
          <a:solidFill>
            <a:srgbClr val="cc1a51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Дуга 12"/>
          <p:cNvSpPr/>
          <p:nvPr/>
        </p:nvSpPr>
        <p:spPr>
          <a:xfrm rot="12427800">
            <a:off x="1478880" y="2485800"/>
            <a:ext cx="398520" cy="628560"/>
          </a:xfrm>
          <a:custGeom>
            <a:avLst/>
            <a:gdLst/>
            <a:ahLst/>
            <a:rect l="l" t="t" r="r" b="b"/>
            <a:pathLst>
              <a:path stroke="0" w="398463" h="628650">
                <a:moveTo>
                  <a:pt x="187717" y="525"/>
                </a:moveTo>
                <a:cubicBezTo>
                  <a:pt x="276868" y="-7617"/>
                  <a:pt x="358564" y="78826"/>
                  <a:pt x="387621" y="212047"/>
                </a:cubicBezTo>
                <a:lnTo>
                  <a:pt x="199232" y="314325"/>
                </a:lnTo>
                <a:lnTo>
                  <a:pt x="187717" y="525"/>
                </a:lnTo>
                <a:close/>
              </a:path>
              <a:path fill="none" w="398463" h="628650">
                <a:moveTo>
                  <a:pt x="187717" y="525"/>
                </a:moveTo>
                <a:cubicBezTo>
                  <a:pt x="276868" y="-7617"/>
                  <a:pt x="358564" y="78826"/>
                  <a:pt x="387621" y="212047"/>
                </a:cubicBezTo>
              </a:path>
            </a:pathLst>
          </a:custGeom>
          <a:solidFill>
            <a:srgbClr val="f9b268"/>
          </a:solidFill>
          <a:ln w="9360">
            <a:solidFill>
              <a:srgbClr val="f07f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Дуга 14"/>
          <p:cNvSpPr/>
          <p:nvPr/>
        </p:nvSpPr>
        <p:spPr>
          <a:xfrm rot="12427800">
            <a:off x="760320" y="4213080"/>
            <a:ext cx="478080" cy="635040"/>
          </a:xfrm>
          <a:custGeom>
            <a:avLst/>
            <a:gdLst/>
            <a:ahLst/>
            <a:rect l="l" t="t" r="r" b="b"/>
            <a:pathLst>
              <a:path stroke="0" w="477837" h="635000">
                <a:moveTo>
                  <a:pt x="204337" y="3343"/>
                </a:moveTo>
                <a:cubicBezTo>
                  <a:pt x="313025" y="-17786"/>
                  <a:pt x="418550" y="62292"/>
                  <a:pt x="460092" y="197423"/>
                </a:cubicBezTo>
                <a:lnTo>
                  <a:pt x="238919" y="317500"/>
                </a:lnTo>
                <a:lnTo>
                  <a:pt x="204337" y="3343"/>
                </a:lnTo>
                <a:close/>
              </a:path>
              <a:path fill="none" w="477837" h="635000">
                <a:moveTo>
                  <a:pt x="204337" y="3343"/>
                </a:moveTo>
                <a:cubicBezTo>
                  <a:pt x="313025" y="-17786"/>
                  <a:pt x="418550" y="62292"/>
                  <a:pt x="460092" y="197423"/>
                </a:cubicBezTo>
              </a:path>
            </a:pathLst>
          </a:custGeom>
          <a:solidFill>
            <a:srgbClr val="f9b268"/>
          </a:solidFill>
          <a:ln w="9360">
            <a:solidFill>
              <a:srgbClr val="f07f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Дуга 15"/>
          <p:cNvSpPr/>
          <p:nvPr/>
        </p:nvSpPr>
        <p:spPr>
          <a:xfrm rot="4900200">
            <a:off x="2464200" y="2602440"/>
            <a:ext cx="574920" cy="423720"/>
          </a:xfrm>
          <a:custGeom>
            <a:avLst/>
            <a:gdLst/>
            <a:ahLst/>
            <a:rect l="l" t="t" r="r" b="b"/>
            <a:pathLst>
              <a:path stroke="0" w="574675" h="423863">
                <a:moveTo>
                  <a:pt x="309373" y="624"/>
                </a:moveTo>
                <a:cubicBezTo>
                  <a:pt x="436543" y="7838"/>
                  <a:pt x="542044" y="76020"/>
                  <a:pt x="568450" y="168055"/>
                </a:cubicBezTo>
                <a:lnTo>
                  <a:pt x="287338" y="211932"/>
                </a:lnTo>
                <a:lnTo>
                  <a:pt x="309373" y="624"/>
                </a:lnTo>
                <a:close/>
              </a:path>
              <a:path fill="none" w="574675" h="423863">
                <a:moveTo>
                  <a:pt x="309373" y="624"/>
                </a:moveTo>
                <a:cubicBezTo>
                  <a:pt x="436543" y="7838"/>
                  <a:pt x="542044" y="76020"/>
                  <a:pt x="568450" y="168055"/>
                </a:cubicBezTo>
              </a:path>
            </a:pathLst>
          </a:custGeom>
          <a:solidFill>
            <a:srgbClr val="00b050"/>
          </a:solidFill>
          <a:ln w="9360">
            <a:solidFill>
              <a:srgbClr val="f07f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Прямая соединительная линия 17"/>
          <p:cNvSpPr/>
          <p:nvPr/>
        </p:nvSpPr>
        <p:spPr>
          <a:xfrm>
            <a:off x="2751120" y="2814480"/>
            <a:ext cx="1440" cy="18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323232"/>
              </a:solidFill>
              <a:latin typeface="Cambria"/>
            </a:endParaRPr>
          </a:p>
        </p:txBody>
      </p:sp>
      <p:pic>
        <p:nvPicPr>
          <p:cNvPr id="542" name="Picture 4" descr=""/>
          <p:cNvPicPr/>
          <p:nvPr/>
        </p:nvPicPr>
        <p:blipFill>
          <a:blip r:embed="rId1"/>
          <a:stretch/>
        </p:blipFill>
        <p:spPr>
          <a:xfrm>
            <a:off x="357120" y="1785960"/>
            <a:ext cx="8102520" cy="3786120"/>
          </a:xfrm>
          <a:prstGeom prst="rect">
            <a:avLst/>
          </a:prstGeom>
          <a:ln w="0">
            <a:noFill/>
          </a:ln>
        </p:spPr>
      </p:pic>
      <p:pic>
        <p:nvPicPr>
          <p:cNvPr id="543" name="Прямоугольник 4" descr=""/>
          <p:cNvPicPr/>
          <p:nvPr/>
        </p:nvPicPr>
        <p:blipFill>
          <a:blip r:embed="rId2"/>
          <a:stretch/>
        </p:blipFill>
        <p:spPr>
          <a:xfrm>
            <a:off x="706320" y="463680"/>
            <a:ext cx="7023240" cy="1541160"/>
          </a:xfrm>
          <a:prstGeom prst="rect">
            <a:avLst/>
          </a:prstGeom>
          <a:ln w="0">
            <a:noFill/>
          </a:ln>
        </p:spPr>
      </p:pic>
      <p:sp>
        <p:nvSpPr>
          <p:cNvPr id="544" name="Прямоугольник 5"/>
          <p:cNvSpPr/>
          <p:nvPr/>
        </p:nvSpPr>
        <p:spPr>
          <a:xfrm>
            <a:off x="5508000" y="585792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Ілюзія Поггерфор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2" descr=""/>
          <p:cNvPicPr/>
          <p:nvPr/>
        </p:nvPicPr>
        <p:blipFill>
          <a:blip r:embed="rId1"/>
          <a:srcRect l="0" t="0" r="-65" b="-87"/>
          <a:stretch/>
        </p:blipFill>
        <p:spPr>
          <a:xfrm>
            <a:off x="1071720" y="1714680"/>
            <a:ext cx="6713280" cy="4203360"/>
          </a:xfrm>
          <a:prstGeom prst="rect">
            <a:avLst/>
          </a:prstGeom>
          <a:ln w="0">
            <a:noFill/>
          </a:ln>
        </p:spPr>
      </p:pic>
      <p:pic>
        <p:nvPicPr>
          <p:cNvPr id="546" name="Прямоугольник 4" descr=""/>
          <p:cNvPicPr/>
          <p:nvPr/>
        </p:nvPicPr>
        <p:blipFill>
          <a:blip r:embed="rId2"/>
          <a:stretch/>
        </p:blipFill>
        <p:spPr>
          <a:xfrm>
            <a:off x="785880" y="500040"/>
            <a:ext cx="743112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6" descr=""/>
          <p:cNvPicPr/>
          <p:nvPr/>
        </p:nvPicPr>
        <p:blipFill>
          <a:blip r:embed="rId1"/>
          <a:stretch/>
        </p:blipFill>
        <p:spPr>
          <a:xfrm>
            <a:off x="571680" y="1643040"/>
            <a:ext cx="3458880" cy="468936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7" descr=""/>
          <p:cNvPicPr/>
          <p:nvPr/>
        </p:nvPicPr>
        <p:blipFill>
          <a:blip r:embed="rId2"/>
          <a:stretch/>
        </p:blipFill>
        <p:spPr>
          <a:xfrm>
            <a:off x="4714920" y="1643040"/>
            <a:ext cx="3036960" cy="4863960"/>
          </a:xfrm>
          <a:prstGeom prst="rect">
            <a:avLst/>
          </a:prstGeom>
          <a:ln w="0">
            <a:noFill/>
          </a:ln>
        </p:spPr>
      </p:pic>
      <p:pic>
        <p:nvPicPr>
          <p:cNvPr id="549" name="Прямоугольник 5" descr=""/>
          <p:cNvPicPr/>
          <p:nvPr/>
        </p:nvPicPr>
        <p:blipFill>
          <a:blip r:embed="rId3"/>
          <a:stretch/>
        </p:blipFill>
        <p:spPr>
          <a:xfrm>
            <a:off x="285840" y="798480"/>
            <a:ext cx="864540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"/>
          <p:cNvPicPr/>
          <p:nvPr/>
        </p:nvPicPr>
        <p:blipFill>
          <a:blip r:embed="rId1"/>
          <a:stretch/>
        </p:blipFill>
        <p:spPr>
          <a:xfrm>
            <a:off x="1928880" y="1785960"/>
            <a:ext cx="4572000" cy="4599000"/>
          </a:xfrm>
          <a:prstGeom prst="rect">
            <a:avLst/>
          </a:prstGeom>
          <a:ln w="76320">
            <a:solidFill>
              <a:srgbClr val="d96b77"/>
            </a:solidFill>
            <a:miter/>
          </a:ln>
        </p:spPr>
      </p:pic>
      <p:pic>
        <p:nvPicPr>
          <p:cNvPr id="551" name="Прямоугольник 3" descr=""/>
          <p:cNvPicPr/>
          <p:nvPr/>
        </p:nvPicPr>
        <p:blipFill>
          <a:blip r:embed="rId2"/>
          <a:stretch/>
        </p:blipFill>
        <p:spPr>
          <a:xfrm>
            <a:off x="712800" y="712800"/>
            <a:ext cx="658980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28760" y="4929120"/>
            <a:ext cx="8286480" cy="1000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bfbfb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e8ce72"/>
                </a:solidFill>
                <a:latin typeface="Elephant"/>
              </a:rPr>
              <a:t>Р Е Й С Ш И Н А</a:t>
            </a:r>
            <a:endParaRPr b="1" lang="en-US" sz="6000" spc="-1" strike="noStrike">
              <a:solidFill>
                <a:srgbClr val="e8ce72"/>
              </a:solidFill>
              <a:latin typeface="Elephant"/>
            </a:endParaRPr>
          </a:p>
        </p:txBody>
      </p:sp>
      <p:pic>
        <p:nvPicPr>
          <p:cNvPr id="553" name="Picture 2" descr=""/>
          <p:cNvPicPr/>
          <p:nvPr/>
        </p:nvPicPr>
        <p:blipFill>
          <a:blip r:embed="rId2"/>
          <a:srcRect l="0" t="0" r="110" b="-167"/>
          <a:stretch/>
        </p:blipFill>
        <p:spPr>
          <a:xfrm>
            <a:off x="1357200" y="428760"/>
            <a:ext cx="5572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428760" y="500040"/>
            <a:ext cx="8183520" cy="5399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b23b7e"/>
                </a:solidFill>
                <a:latin typeface="Cambria"/>
              </a:rPr>
              <a:t>            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55" name="Прямоугольник 3" descr=""/>
          <p:cNvPicPr/>
          <p:nvPr/>
        </p:nvPicPr>
        <p:blipFill>
          <a:blip r:embed="rId1"/>
          <a:stretch/>
        </p:blipFill>
        <p:spPr>
          <a:xfrm>
            <a:off x="712800" y="2120760"/>
            <a:ext cx="1008396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23232"/>
                </a:solidFill>
                <a:latin typeface="Cambria"/>
              </a:rPr>
              <a:t>Мета та задачі уроку</a:t>
            </a:r>
            <a:endParaRPr b="0" lang="en-US" sz="4000" spc="-1" strike="noStrike">
              <a:solidFill>
                <a:srgbClr val="323232"/>
              </a:solidFill>
              <a:latin typeface="Cambria"/>
            </a:endParaRPr>
          </a:p>
        </p:txBody>
      </p:sp>
      <p:pic>
        <p:nvPicPr>
          <p:cNvPr id="437" name="Содержимое 16" descr=""/>
          <p:cNvPicPr/>
          <p:nvPr/>
        </p:nvPicPr>
        <p:blipFill>
          <a:blip r:embed="rId1"/>
          <a:stretch/>
        </p:blipFill>
        <p:spPr>
          <a:xfrm>
            <a:off x="890640" y="1816200"/>
            <a:ext cx="786276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86480" cy="785520"/>
          </a:xfrm>
          <a:prstGeom prst="rect">
            <a:avLst/>
          </a:prstGeom>
          <a:solidFill>
            <a:srgbClr val="cda3d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e8ce72"/>
                </a:solidFill>
                <a:latin typeface="Elephant"/>
              </a:rPr>
              <a:t>Література</a:t>
            </a:r>
            <a:r>
              <a:rPr b="1" lang="uk-UA" sz="3600" spc="-1" strike="noStrike">
                <a:solidFill>
                  <a:srgbClr val="e8ce72"/>
                </a:solidFill>
                <a:latin typeface="Elephant"/>
              </a:rPr>
              <a:t> </a:t>
            </a: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502920" y="1500120"/>
            <a:ext cx="8069400" cy="4286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72009a"/>
                </a:solidFill>
                <a:latin typeface="Verdana"/>
              </a:rPr>
              <a:t>Істер О.С. </a:t>
            </a:r>
            <a:r>
              <a:rPr b="0" lang="uk-UA" sz="1600" spc="-1" strike="noStrike">
                <a:solidFill>
                  <a:srgbClr val="72009a"/>
                </a:solidFill>
                <a:latin typeface="Verdana"/>
              </a:rPr>
              <a:t>Геометрія: Підруч. для 7 кл. загальноосвіт. навч. закл. – К.:Освіта, 2007. – 159 с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72009a"/>
                </a:solidFill>
                <a:latin typeface="Verdana"/>
              </a:rPr>
              <a:t>Мерзляк А.Г., Полонський В.Б., Рабінович Ю.М., Якір М.С. </a:t>
            </a:r>
            <a:r>
              <a:rPr b="0" lang="uk-UA" sz="1600" spc="-1" strike="noStrike">
                <a:solidFill>
                  <a:srgbClr val="72009a"/>
                </a:solidFill>
                <a:latin typeface="Verdana"/>
              </a:rPr>
              <a:t>Збірник задач і завдань для тематичного оцінювання з геометрії для 7 класу. – Х.: </a:t>
            </a:r>
            <a:r>
              <a:rPr b="0" lang="ru-RU" sz="1600" spc="-1" strike="noStrike">
                <a:solidFill>
                  <a:srgbClr val="72009a"/>
                </a:solidFill>
                <a:latin typeface="Verdana"/>
              </a:rPr>
              <a:t>«</a:t>
            </a:r>
            <a:r>
              <a:rPr b="0" lang="uk-UA" sz="1600" spc="-1" strike="noStrike">
                <a:solidFill>
                  <a:srgbClr val="72009a"/>
                </a:solidFill>
                <a:latin typeface="Verdana"/>
              </a:rPr>
              <a:t>Гімназія</a:t>
            </a:r>
            <a:r>
              <a:rPr b="0" lang="ru-RU" sz="1600" spc="-1" strike="noStrike">
                <a:solidFill>
                  <a:srgbClr val="72009a"/>
                </a:solidFill>
                <a:latin typeface="Verdana"/>
              </a:rPr>
              <a:t>»</a:t>
            </a:r>
            <a:r>
              <a:rPr b="0" lang="uk-UA" sz="1600" spc="-1" strike="noStrike">
                <a:solidFill>
                  <a:srgbClr val="72009a"/>
                </a:solidFill>
                <a:latin typeface="Verdana"/>
              </a:rPr>
              <a:t>, 2007. – 112 с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009a"/>
                </a:solidFill>
                <a:latin typeface="Verdana"/>
              </a:rPr>
              <a:t>Рабінович Ю.М. </a:t>
            </a:r>
            <a:r>
              <a:rPr b="0" lang="ru-RU" sz="1600" spc="-1" strike="noStrike">
                <a:solidFill>
                  <a:srgbClr val="72009a"/>
                </a:solidFill>
                <a:latin typeface="Verdana"/>
              </a:rPr>
              <a:t>Задачі і вправи на готових кресленнях. – Х.: Гімназія, 1998. – 64 с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009a"/>
                </a:solidFill>
                <a:latin typeface="Verdana"/>
              </a:rPr>
              <a:t>Сосницька  В.А. </a:t>
            </a:r>
            <a:r>
              <a:rPr b="0" lang="ru-RU" sz="1600" spc="-1" strike="noStrike">
                <a:solidFill>
                  <a:srgbClr val="72009a"/>
                </a:solidFill>
                <a:latin typeface="Verdana"/>
              </a:rPr>
              <a:t>Завдання для усної роботи та математичні диктанти. Геометрія. 7 клас.–Х.: Вид. Група «Основа», 2006. – 112 с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72009a"/>
                </a:solidFill>
                <a:latin typeface="Verdana"/>
              </a:rPr>
              <a:t>Разбеглов Ю.Г. </a:t>
            </a:r>
            <a:r>
              <a:rPr b="0" lang="uk-UA" sz="1600" spc="-1" strike="noStrike">
                <a:solidFill>
                  <a:srgbClr val="72009a"/>
                </a:solidFill>
                <a:latin typeface="Verdana"/>
              </a:rPr>
              <a:t>Тетрадь с печатной основой по </a:t>
            </a:r>
            <a:r>
              <a:rPr b="0" lang="ru-RU" sz="1600" spc="-1" strike="noStrike">
                <a:solidFill>
                  <a:srgbClr val="72009a"/>
                </a:solidFill>
                <a:latin typeface="Verdana"/>
              </a:rPr>
              <a:t>геометрии для 7-х классов. – Х.: УМЦ «Школьник», 1995.-124 с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009a"/>
                </a:solidFill>
                <a:latin typeface="Verdana"/>
              </a:rPr>
              <a:t>Вадченко Н.Л., Хаткина Н.В.  </a:t>
            </a:r>
            <a:r>
              <a:rPr b="0" lang="ru-RU" sz="1600" spc="-1" strike="noStrike">
                <a:solidFill>
                  <a:srgbClr val="72009a"/>
                </a:solidFill>
                <a:latin typeface="Verdana"/>
              </a:rPr>
              <a:t>600 задач на сообразительность. – Д.: Сталкер, 2000. – 512 с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mbria"/>
              </a:rPr>
              <a:t>Які прямі зображено на малюнку?</a:t>
            </a:r>
            <a:endParaRPr b="0" lang="en-US" sz="3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 b  c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                         n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                                  m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0" name="Прямая соединительная линия 4"/>
          <p:cNvSpPr/>
          <p:nvPr/>
        </p:nvSpPr>
        <p:spPr>
          <a:xfrm flipV="1">
            <a:off x="856440" y="2000160"/>
            <a:ext cx="1500120" cy="157176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Прямая соединительная линия 6"/>
          <p:cNvSpPr/>
          <p:nvPr/>
        </p:nvSpPr>
        <p:spPr>
          <a:xfrm flipH="1">
            <a:off x="1356840" y="2428200"/>
            <a:ext cx="2071800" cy="1143000"/>
          </a:xfrm>
          <a:prstGeom prst="line">
            <a:avLst/>
          </a:prstGeom>
          <a:ln w="3492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ая соединительная линия 7"/>
          <p:cNvSpPr/>
          <p:nvPr/>
        </p:nvSpPr>
        <p:spPr>
          <a:xfrm>
            <a:off x="5929200" y="2143080"/>
            <a:ext cx="2214720" cy="100008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Прямая соединительная линия 15"/>
          <p:cNvSpPr/>
          <p:nvPr/>
        </p:nvSpPr>
        <p:spPr>
          <a:xfrm>
            <a:off x="5643720" y="2571840"/>
            <a:ext cx="2500200" cy="107136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ая соединительная линия 17"/>
          <p:cNvSpPr/>
          <p:nvPr/>
        </p:nvSpPr>
        <p:spPr>
          <a:xfrm flipH="1">
            <a:off x="7071840" y="3929040"/>
            <a:ext cx="1800" cy="228600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ая соединительная линия 22"/>
          <p:cNvSpPr/>
          <p:nvPr/>
        </p:nvSpPr>
        <p:spPr>
          <a:xfrm flipH="1">
            <a:off x="7429680" y="3857760"/>
            <a:ext cx="1440" cy="235728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ая соединительная линия 24"/>
          <p:cNvSpPr/>
          <p:nvPr/>
        </p:nvSpPr>
        <p:spPr>
          <a:xfrm flipH="1">
            <a:off x="6714720" y="3930480"/>
            <a:ext cx="1800" cy="228456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ая соединительная линия 28"/>
          <p:cNvSpPr/>
          <p:nvPr/>
        </p:nvSpPr>
        <p:spPr>
          <a:xfrm>
            <a:off x="3785400" y="3857760"/>
            <a:ext cx="71640" cy="207144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ая соединительная линия 30"/>
          <p:cNvSpPr/>
          <p:nvPr/>
        </p:nvSpPr>
        <p:spPr>
          <a:xfrm>
            <a:off x="2857680" y="4714920"/>
            <a:ext cx="2071440" cy="144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ая соединительная линия 35"/>
          <p:cNvSpPr/>
          <p:nvPr/>
        </p:nvSpPr>
        <p:spPr>
          <a:xfrm flipH="1">
            <a:off x="571680" y="4143240"/>
            <a:ext cx="1643040" cy="1571760"/>
          </a:xfrm>
          <a:prstGeom prst="line">
            <a:avLst/>
          </a:prstGeom>
          <a:ln w="3492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ая соединительная линия 36"/>
          <p:cNvSpPr/>
          <p:nvPr/>
        </p:nvSpPr>
        <p:spPr>
          <a:xfrm flipH="1" flipV="1">
            <a:off x="571680" y="4643280"/>
            <a:ext cx="1643040" cy="500400"/>
          </a:xfrm>
          <a:prstGeom prst="line">
            <a:avLst/>
          </a:prstGeom>
          <a:ln w="3492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4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323232"/>
                </a:solidFill>
                <a:latin typeface="Cambria"/>
              </a:rPr>
              <a:t>Продовжити речення:</a:t>
            </a:r>
            <a:br>
              <a:rPr sz="3000"/>
            </a:br>
            <a:r>
              <a:rPr b="0" i="1" lang="uk-UA" sz="2500" spc="-1" strike="noStrike">
                <a:solidFill>
                  <a:srgbClr val="323232"/>
                </a:solidFill>
                <a:latin typeface="Arial Narrow"/>
              </a:rPr>
              <a:t>при перетині двох  прямих січною утворилися кути</a:t>
            </a:r>
            <a:endParaRPr b="0" lang="en-US" sz="25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0520" y="2000160"/>
            <a:ext cx="840132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</a:t>
            </a:r>
            <a:r>
              <a:rPr b="1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с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          </a:t>
            </a:r>
            <a:r>
              <a:rPr b="1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i="1" lang="en-US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a</a:t>
            </a:r>
            <a:r>
              <a:rPr b="1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1" i="1" lang="ru-RU" sz="15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3b6431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uk-UA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uk-UA" sz="1500" spc="-1" strike="noStrike">
                <a:solidFill>
                  <a:srgbClr val="3b6431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</a:t>
            </a:r>
            <a:r>
              <a:rPr b="1" lang="uk-UA" sz="15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3b6431"/>
                </a:solidFill>
                <a:latin typeface="Times New Roman"/>
                <a:ea typeface="Times New Roman"/>
              </a:rPr>
              <a:t>               </a:t>
            </a:r>
            <a:r>
              <a:rPr b="1" lang="uk-UA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                                                                                               </a:t>
            </a:r>
            <a:r>
              <a:rPr b="1" lang="uk-UA" sz="15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1" i="1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</a:t>
            </a:r>
            <a:r>
              <a:rPr b="1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утрішні односторонні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1" i="1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i="1" lang="uk-UA" sz="26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внутрішні різносторонні</a:t>
            </a:r>
            <a:r>
              <a:rPr b="1" i="1" lang="en-US" sz="26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 </a:t>
            </a:r>
            <a:r>
              <a:rPr b="1" i="1" lang="en-US" sz="15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                            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</a:t>
            </a:r>
            <a:r>
              <a:rPr b="1" i="1" lang="uk-UA" sz="1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</a:t>
            </a:r>
            <a:r>
              <a:rPr b="1" i="1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i="1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               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1" i="1" lang="uk-UA" sz="1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1" i="1" lang="uk-UA" sz="1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1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                                                         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uk-UA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ідповідні</a:t>
            </a:r>
            <a:r>
              <a:rPr b="1" i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3" name="Прямая соединительная линия 4"/>
          <p:cNvSpPr/>
          <p:nvPr/>
        </p:nvSpPr>
        <p:spPr>
          <a:xfrm flipV="1">
            <a:off x="785880" y="2286000"/>
            <a:ext cx="2500200" cy="35712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ая соединительная линия 6"/>
          <p:cNvSpPr/>
          <p:nvPr/>
        </p:nvSpPr>
        <p:spPr>
          <a:xfrm>
            <a:off x="714240" y="3286080"/>
            <a:ext cx="2643480" cy="180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ая соединительная линия 8"/>
          <p:cNvSpPr/>
          <p:nvPr/>
        </p:nvSpPr>
        <p:spPr>
          <a:xfrm flipH="1">
            <a:off x="1357200" y="2000160"/>
            <a:ext cx="1000080" cy="157176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ая соединительная линия 12"/>
          <p:cNvSpPr/>
          <p:nvPr/>
        </p:nvSpPr>
        <p:spPr>
          <a:xfrm flipV="1">
            <a:off x="5072040" y="2428560"/>
            <a:ext cx="2714760" cy="21420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ая соединительная линия 14"/>
          <p:cNvSpPr/>
          <p:nvPr/>
        </p:nvSpPr>
        <p:spPr>
          <a:xfrm>
            <a:off x="5072040" y="3214800"/>
            <a:ext cx="2714760" cy="144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ая соединительная линия 18"/>
          <p:cNvSpPr/>
          <p:nvPr/>
        </p:nvSpPr>
        <p:spPr>
          <a:xfrm flipH="1">
            <a:off x="6072120" y="2000160"/>
            <a:ext cx="1000080" cy="150012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ая соединительная линия 20"/>
          <p:cNvSpPr/>
          <p:nvPr/>
        </p:nvSpPr>
        <p:spPr>
          <a:xfrm>
            <a:off x="2500200" y="4500720"/>
            <a:ext cx="2428920" cy="21564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ая соединительная линия 22"/>
          <p:cNvSpPr/>
          <p:nvPr/>
        </p:nvSpPr>
        <p:spPr>
          <a:xfrm>
            <a:off x="2500200" y="5214960"/>
            <a:ext cx="2500560" cy="144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ая соединительная линия 32"/>
          <p:cNvSpPr/>
          <p:nvPr/>
        </p:nvSpPr>
        <p:spPr>
          <a:xfrm flipH="1">
            <a:off x="3143160" y="4000680"/>
            <a:ext cx="1000080" cy="157140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Дуга 19"/>
          <p:cNvSpPr/>
          <p:nvPr/>
        </p:nvSpPr>
        <p:spPr>
          <a:xfrm rot="14716800">
            <a:off x="6005160" y="2947320"/>
            <a:ext cx="517680" cy="498600"/>
          </a:xfrm>
          <a:custGeom>
            <a:avLst/>
            <a:gdLst/>
            <a:ahLst/>
            <a:rect l="l" t="t" r="r" b="b"/>
            <a:pathLst>
              <a:path stroke="0" w="517525" h="498475">
                <a:moveTo>
                  <a:pt x="359160" y="19524"/>
                </a:moveTo>
                <a:cubicBezTo>
                  <a:pt x="449114" y="55998"/>
                  <a:pt x="510109" y="138120"/>
                  <a:pt x="516898" y="231900"/>
                </a:cubicBezTo>
                <a:cubicBezTo>
                  <a:pt x="523739" y="326398"/>
                  <a:pt x="474372" y="416463"/>
                  <a:pt x="389501" y="464324"/>
                </a:cubicBezTo>
                <a:lnTo>
                  <a:pt x="258763" y="249238"/>
                </a:lnTo>
                <a:lnTo>
                  <a:pt x="359160" y="19524"/>
                </a:lnTo>
                <a:close/>
              </a:path>
              <a:path fill="none" w="517525" h="498475">
                <a:moveTo>
                  <a:pt x="359160" y="19524"/>
                </a:moveTo>
                <a:cubicBezTo>
                  <a:pt x="449114" y="55998"/>
                  <a:pt x="510109" y="138120"/>
                  <a:pt x="516898" y="231900"/>
                </a:cubicBezTo>
                <a:cubicBezTo>
                  <a:pt x="523739" y="326398"/>
                  <a:pt x="474372" y="416463"/>
                  <a:pt x="389501" y="464324"/>
                </a:cubicBezTo>
              </a:path>
            </a:pathLst>
          </a:custGeom>
          <a:solidFill>
            <a:srgbClr val="854d47">
              <a:alpha val="41000"/>
            </a:srgbClr>
          </a:solidFill>
          <a:ln w="9360">
            <a:solidFill>
              <a:srgbClr val="dac1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ая соединительная линия 30"/>
          <p:cNvSpPr/>
          <p:nvPr/>
        </p:nvSpPr>
        <p:spPr>
          <a:xfrm flipH="1">
            <a:off x="6013080" y="3197160"/>
            <a:ext cx="250920" cy="468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ая соединительная линия 35"/>
          <p:cNvSpPr/>
          <p:nvPr/>
        </p:nvSpPr>
        <p:spPr>
          <a:xfrm flipH="1">
            <a:off x="6264360" y="2989440"/>
            <a:ext cx="139680" cy="20772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Дуга 85"/>
          <p:cNvSpPr/>
          <p:nvPr/>
        </p:nvSpPr>
        <p:spPr>
          <a:xfrm rot="3972000">
            <a:off x="6470280" y="2259000"/>
            <a:ext cx="544320" cy="496800"/>
          </a:xfrm>
          <a:custGeom>
            <a:avLst/>
            <a:gdLst/>
            <a:ahLst/>
            <a:rect l="l" t="t" r="r" b="b"/>
            <a:pathLst>
              <a:path stroke="0" w="544513" h="496887">
                <a:moveTo>
                  <a:pt x="343796" y="8730"/>
                </a:moveTo>
                <a:cubicBezTo>
                  <a:pt x="446650" y="34291"/>
                  <a:pt x="523695" y="112276"/>
                  <a:pt x="540931" y="208272"/>
                </a:cubicBezTo>
                <a:cubicBezTo>
                  <a:pt x="558891" y="308299"/>
                  <a:pt x="508461" y="408253"/>
                  <a:pt x="413501" y="460838"/>
                </a:cubicBezTo>
                <a:lnTo>
                  <a:pt x="272257" y="248444"/>
                </a:lnTo>
                <a:lnTo>
                  <a:pt x="343796" y="8730"/>
                </a:lnTo>
                <a:close/>
              </a:path>
              <a:path fill="none" w="544513" h="496887">
                <a:moveTo>
                  <a:pt x="343796" y="8730"/>
                </a:moveTo>
                <a:cubicBezTo>
                  <a:pt x="446650" y="34291"/>
                  <a:pt x="523695" y="112276"/>
                  <a:pt x="540931" y="208272"/>
                </a:cubicBezTo>
                <a:cubicBezTo>
                  <a:pt x="558891" y="308299"/>
                  <a:pt x="508461" y="408253"/>
                  <a:pt x="413501" y="460838"/>
                </a:cubicBezTo>
              </a:path>
            </a:pathLst>
          </a:custGeom>
          <a:solidFill>
            <a:srgbClr val="854d47">
              <a:alpha val="41000"/>
            </a:srgbClr>
          </a:solidFill>
          <a:ln w="9360">
            <a:solidFill>
              <a:srgbClr val="dac1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Дуга 86"/>
          <p:cNvSpPr/>
          <p:nvPr/>
        </p:nvSpPr>
        <p:spPr>
          <a:xfrm rot="14716800">
            <a:off x="1246680" y="3029400"/>
            <a:ext cx="603360" cy="573120"/>
          </a:xfrm>
          <a:custGeom>
            <a:avLst/>
            <a:gdLst/>
            <a:ahLst/>
            <a:rect l="l" t="t" r="r" b="b"/>
            <a:pathLst>
              <a:path stroke="0" w="603250" h="573087">
                <a:moveTo>
                  <a:pt x="424286" y="24764"/>
                </a:moveTo>
                <a:cubicBezTo>
                  <a:pt x="527589" y="68449"/>
                  <a:pt x="596495" y="163353"/>
                  <a:pt x="602783" y="270608"/>
                </a:cubicBezTo>
                <a:cubicBezTo>
                  <a:pt x="609123" y="378749"/>
                  <a:pt x="550739" y="481046"/>
                  <a:pt x="451883" y="535001"/>
                </a:cubicBezTo>
                <a:lnTo>
                  <a:pt x="301625" y="286544"/>
                </a:lnTo>
                <a:lnTo>
                  <a:pt x="424286" y="24764"/>
                </a:lnTo>
                <a:close/>
              </a:path>
              <a:path fill="none" w="603250" h="573087">
                <a:moveTo>
                  <a:pt x="424286" y="24764"/>
                </a:moveTo>
                <a:cubicBezTo>
                  <a:pt x="527589" y="68449"/>
                  <a:pt x="596495" y="163353"/>
                  <a:pt x="602783" y="270608"/>
                </a:cubicBezTo>
                <a:cubicBezTo>
                  <a:pt x="609123" y="378749"/>
                  <a:pt x="550739" y="481046"/>
                  <a:pt x="451883" y="535001"/>
                </a:cubicBezTo>
              </a:path>
            </a:pathLst>
          </a:custGeom>
          <a:solidFill>
            <a:srgbClr val="ff0000">
              <a:alpha val="41000"/>
            </a:srgbClr>
          </a:solidFill>
          <a:ln w="9360">
            <a:solidFill>
              <a:srgbClr val="dac1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Дуга 87"/>
          <p:cNvSpPr/>
          <p:nvPr/>
        </p:nvSpPr>
        <p:spPr>
          <a:xfrm rot="9118800">
            <a:off x="1743840" y="2142720"/>
            <a:ext cx="684360" cy="600120"/>
          </a:xfrm>
          <a:custGeom>
            <a:avLst/>
            <a:gdLst/>
            <a:ahLst/>
            <a:rect l="l" t="t" r="r" b="b"/>
            <a:pathLst>
              <a:path stroke="0" w="684212" h="600075">
                <a:moveTo>
                  <a:pt x="629601" y="137412"/>
                </a:moveTo>
                <a:cubicBezTo>
                  <a:pt x="687043" y="215522"/>
                  <a:pt x="699966" y="312569"/>
                  <a:pt x="664592" y="400185"/>
                </a:cubicBezTo>
                <a:lnTo>
                  <a:pt x="342106" y="300038"/>
                </a:lnTo>
                <a:lnTo>
                  <a:pt x="629601" y="137412"/>
                </a:lnTo>
                <a:close/>
              </a:path>
              <a:path fill="none" w="684212" h="600075">
                <a:moveTo>
                  <a:pt x="629601" y="137412"/>
                </a:moveTo>
                <a:cubicBezTo>
                  <a:pt x="687043" y="215522"/>
                  <a:pt x="699966" y="312569"/>
                  <a:pt x="664592" y="400185"/>
                </a:cubicBezTo>
              </a:path>
            </a:pathLst>
          </a:custGeom>
          <a:solidFill>
            <a:srgbClr val="ff0000">
              <a:alpha val="41000"/>
            </a:srgbClr>
          </a:solidFill>
          <a:ln w="9360">
            <a:solidFill>
              <a:srgbClr val="dac1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Дуга 93"/>
          <p:cNvSpPr/>
          <p:nvPr/>
        </p:nvSpPr>
        <p:spPr>
          <a:xfrm rot="14338800">
            <a:off x="3161880" y="4941720"/>
            <a:ext cx="362160" cy="584280"/>
          </a:xfrm>
          <a:custGeom>
            <a:avLst/>
            <a:gdLst/>
            <a:ahLst/>
            <a:rect l="l" t="t" r="r" b="b"/>
            <a:pathLst>
              <a:path stroke="0" w="361950" h="584200">
                <a:moveTo>
                  <a:pt x="325835" y="117012"/>
                </a:moveTo>
                <a:cubicBezTo>
                  <a:pt x="352348" y="174156"/>
                  <a:pt x="364976" y="244993"/>
                  <a:pt x="361336" y="316141"/>
                </a:cubicBezTo>
                <a:cubicBezTo>
                  <a:pt x="357020" y="400498"/>
                  <a:pt x="330244" y="477684"/>
                  <a:pt x="287943" y="527714"/>
                </a:cubicBezTo>
                <a:lnTo>
                  <a:pt x="180975" y="292100"/>
                </a:lnTo>
                <a:lnTo>
                  <a:pt x="325835" y="117012"/>
                </a:lnTo>
                <a:close/>
              </a:path>
              <a:path fill="none" w="361950" h="584200">
                <a:moveTo>
                  <a:pt x="325835" y="117012"/>
                </a:moveTo>
                <a:cubicBezTo>
                  <a:pt x="352348" y="174156"/>
                  <a:pt x="364976" y="244993"/>
                  <a:pt x="361336" y="316141"/>
                </a:cubicBezTo>
                <a:cubicBezTo>
                  <a:pt x="357020" y="400498"/>
                  <a:pt x="330244" y="477684"/>
                  <a:pt x="287943" y="527714"/>
                </a:cubicBezTo>
              </a:path>
            </a:pathLst>
          </a:custGeom>
          <a:solidFill>
            <a:srgbClr val="00b0f0">
              <a:alpha val="41000"/>
            </a:srgbClr>
          </a:solidFill>
          <a:ln w="9360">
            <a:solidFill>
              <a:srgbClr val="dac1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Дуга 94"/>
          <p:cNvSpPr/>
          <p:nvPr/>
        </p:nvSpPr>
        <p:spPr>
          <a:xfrm rot="15148800">
            <a:off x="3597840" y="4338720"/>
            <a:ext cx="353880" cy="536760"/>
          </a:xfrm>
          <a:custGeom>
            <a:avLst/>
            <a:gdLst/>
            <a:ahLst/>
            <a:rect l="l" t="t" r="r" b="b"/>
            <a:pathLst>
              <a:path stroke="0" w="354012" h="536575">
                <a:moveTo>
                  <a:pt x="271148" y="41092"/>
                </a:moveTo>
                <a:cubicBezTo>
                  <a:pt x="314757" y="82605"/>
                  <a:pt x="344276" y="150845"/>
                  <a:pt x="352006" y="228014"/>
                </a:cubicBezTo>
                <a:cubicBezTo>
                  <a:pt x="358089" y="288736"/>
                  <a:pt x="350242" y="350783"/>
                  <a:pt x="329776" y="403791"/>
                </a:cubicBezTo>
                <a:lnTo>
                  <a:pt x="177006" y="268288"/>
                </a:lnTo>
                <a:lnTo>
                  <a:pt x="271148" y="41092"/>
                </a:lnTo>
                <a:close/>
              </a:path>
              <a:path fill="none" w="354012" h="536575">
                <a:moveTo>
                  <a:pt x="271148" y="41092"/>
                </a:moveTo>
                <a:cubicBezTo>
                  <a:pt x="314757" y="82605"/>
                  <a:pt x="344276" y="150845"/>
                  <a:pt x="352006" y="228014"/>
                </a:cubicBezTo>
                <a:cubicBezTo>
                  <a:pt x="358089" y="288736"/>
                  <a:pt x="350242" y="350783"/>
                  <a:pt x="329776" y="403791"/>
                </a:cubicBezTo>
              </a:path>
            </a:pathLst>
          </a:custGeom>
          <a:solidFill>
            <a:srgbClr val="00b0f0">
              <a:alpha val="41000"/>
            </a:srgbClr>
          </a:solidFill>
          <a:ln w="9360">
            <a:solidFill>
              <a:srgbClr val="dac1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Прямоугольник 95"/>
          <p:cNvSpPr/>
          <p:nvPr/>
        </p:nvSpPr>
        <p:spPr>
          <a:xfrm>
            <a:off x="2143080" y="2286000"/>
            <a:ext cx="285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1a51"/>
                </a:solidFill>
                <a:latin typeface="Cambria"/>
              </a:rPr>
              <a:t>Ознаки паралельності прямих</a:t>
            </a:r>
            <a:endParaRPr b="0" lang="en-US" sz="40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7200" y="1857240"/>
            <a:ext cx="8229600" cy="47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 algn="just">
              <a:lnSpc>
                <a:spcPct val="80000"/>
              </a:lnSpc>
              <a:spcBef>
                <a:spcPts val="300"/>
              </a:spcBef>
              <a:buClr>
                <a:srgbClr val="1b587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1. </a:t>
            </a:r>
            <a:r>
              <a:rPr b="0" lang="uk-UA" sz="3000" spc="-1" strike="noStrike">
                <a:solidFill>
                  <a:srgbClr val="000000"/>
                </a:solidFill>
                <a:latin typeface="Cambria"/>
              </a:rPr>
              <a:t>Якщо при перетині двох прямих січною відповідні кути рівні, то прямі паралельні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57480" indent="-2502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57480" indent="-250200" algn="just">
              <a:lnSpc>
                <a:spcPct val="80000"/>
              </a:lnSpc>
              <a:spcBef>
                <a:spcPts val="300"/>
              </a:spcBef>
              <a:buClr>
                <a:srgbClr val="1b587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mbria"/>
              </a:rPr>
              <a:t>2. Якщо при перетині двох прямих січною внутрішні різносторонні кути рівні, то прямі паралельні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57480" indent="-2502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57480" indent="-250200" algn="just">
              <a:lnSpc>
                <a:spcPct val="80000"/>
              </a:lnSpc>
              <a:spcBef>
                <a:spcPts val="300"/>
              </a:spcBef>
              <a:buClr>
                <a:srgbClr val="1b587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mbria"/>
              </a:rPr>
              <a:t>3. Якщо при перетині двох прямих січною сума внутрішніх односторонніх кутів дорівнює 180</a:t>
            </a:r>
            <a:r>
              <a:rPr b="0" lang="uk-UA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uk-UA" sz="3000" spc="-1" strike="noStrike">
                <a:solidFill>
                  <a:srgbClr val="000000"/>
                </a:solidFill>
                <a:latin typeface="Cambria"/>
              </a:rPr>
              <a:t>,   то прямі паралельні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ipe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85840" y="704520"/>
            <a:ext cx="840096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23232"/>
                </a:solidFill>
                <a:latin typeface="Cambria"/>
              </a:rPr>
              <a:t>Тест-контроль теоретичних знань</a:t>
            </a:r>
            <a:endParaRPr b="0" lang="en-US" sz="40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7200" y="1641240"/>
            <a:ext cx="8229600" cy="5002200"/>
          </a:xfrm>
          <a:prstGeom prst="rect">
            <a:avLst/>
          </a:prstGeom>
          <a:noFill/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 fontScale="90000"/>
          </a:bodyPr>
          <a:p>
            <a:pPr marL="245520" indent="-245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                                                                                     </a:t>
            </a:r>
            <a:r>
              <a:rPr b="0" lang="uk-UA" sz="2800" spc="-1" strike="noStrike">
                <a:solidFill>
                  <a:srgbClr val="c00000"/>
                </a:solidFill>
                <a:latin typeface="Cambria"/>
              </a:rPr>
              <a:t>1    6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45520" indent="-245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Cambria"/>
              </a:rPr>
              <a:t>                                                                                    </a:t>
            </a:r>
            <a:r>
              <a:rPr b="0" lang="uk-UA" sz="2800" spc="-1" strike="noStrike">
                <a:solidFill>
                  <a:srgbClr val="c00000"/>
                </a:solidFill>
                <a:latin typeface="Cambria"/>
              </a:rPr>
              <a:t>8    3                 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45520" indent="-245520">
              <a:spcBef>
                <a:spcPts val="300"/>
              </a:spcBef>
              <a:buClr>
                <a:srgbClr val="1b587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Виберіть вірні твердження:                     </a:t>
            </a:r>
            <a:r>
              <a:rPr b="0" lang="uk-UA" sz="2800" spc="-1" strike="noStrike">
                <a:solidFill>
                  <a:srgbClr val="c00000"/>
                </a:solidFill>
                <a:latin typeface="Cambria"/>
              </a:rPr>
              <a:t>5    7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45520" indent="-245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а)</a:t>
            </a:r>
            <a:r>
              <a:rPr b="0" lang="uk-UA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і </a:t>
            </a:r>
            <a:r>
              <a:rPr b="0" lang="uk-UA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– вертикальні;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        </a:t>
            </a:r>
            <a:r>
              <a:rPr b="0" lang="uk-UA" sz="2800" spc="-1" strike="noStrike">
                <a:solidFill>
                  <a:srgbClr val="c00000"/>
                </a:solidFill>
                <a:latin typeface="Cambria"/>
              </a:rPr>
              <a:t>2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uk-UA" sz="2800" spc="-1" strike="noStrike">
                <a:solidFill>
                  <a:srgbClr val="c00000"/>
                </a:solidFill>
                <a:latin typeface="Cambria"/>
              </a:rPr>
              <a:t>4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                             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45520" indent="-245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б) </a:t>
            </a:r>
            <a:r>
              <a:rPr b="0" lang="uk-UA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і </a:t>
            </a:r>
            <a:r>
              <a:rPr b="0" lang="uk-UA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– внутрішні односторонні;         </a:t>
            </a: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45520" indent="-245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в) </a:t>
            </a:r>
            <a:r>
              <a:rPr b="0" lang="uk-UA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і </a:t>
            </a:r>
            <a:r>
              <a:rPr b="0" lang="uk-UA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– відповідні;                          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45520" indent="-245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г) </a:t>
            </a:r>
            <a:r>
              <a:rPr b="0" lang="uk-UA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і </a:t>
            </a:r>
            <a:r>
              <a:rPr b="0" lang="uk-UA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– суміжні;                            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45520" indent="-245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д)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і </a:t>
            </a:r>
            <a:r>
              <a:rPr b="0" lang="uk-UA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– внутрішні односторонні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45520" indent="-245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е) </a:t>
            </a:r>
            <a:r>
              <a:rPr b="0" lang="uk-UA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і </a:t>
            </a:r>
            <a:r>
              <a:rPr b="0" lang="uk-UA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– внутрішні різносторонні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45520" indent="-245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ж)</a:t>
            </a:r>
            <a:r>
              <a:rPr b="0" lang="uk-UA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і </a:t>
            </a:r>
            <a:r>
              <a:rPr b="0" lang="uk-UA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– внутрішні різносторонні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5" name="Прямая соединительная линия 3"/>
          <p:cNvSpPr/>
          <p:nvPr/>
        </p:nvSpPr>
        <p:spPr>
          <a:xfrm>
            <a:off x="6072120" y="2071800"/>
            <a:ext cx="2786040" cy="1440"/>
          </a:xfrm>
          <a:prstGeom prst="line">
            <a:avLst/>
          </a:prstGeom>
          <a:ln w="381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Прямая соединительная линия 4"/>
          <p:cNvSpPr/>
          <p:nvPr/>
        </p:nvSpPr>
        <p:spPr>
          <a:xfrm>
            <a:off x="6143760" y="3000240"/>
            <a:ext cx="2643120" cy="1800"/>
          </a:xfrm>
          <a:prstGeom prst="line">
            <a:avLst/>
          </a:prstGeom>
          <a:ln w="381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Прямая соединительная линия 5"/>
          <p:cNvSpPr/>
          <p:nvPr/>
        </p:nvSpPr>
        <p:spPr>
          <a:xfrm flipV="1">
            <a:off x="6857280" y="1428480"/>
            <a:ext cx="857160" cy="2500200"/>
          </a:xfrm>
          <a:prstGeom prst="line">
            <a:avLst/>
          </a:prstGeom>
          <a:ln w="381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500" autoRev="1" fill="hold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54,41,-97)"/>
                                      </p:to>
                                    </p:set>
                                    <p:set>
                                      <p:cBhvr>
                                        <p:cTn id="47" dur="500" autoRev="1" fill="hold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4,41,-97)"/>
                                      </p:to>
                                    </p:set>
                                    <p:set>
                                      <p:cBhvr>
                                        <p:cTn id="48" dur="500" autoRev="1" fill="hold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500" autoRev="1" fill="hold"/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54,41,-97)"/>
                                      </p:to>
                                    </p:set>
                                    <p:set>
                                      <p:cBhvr>
                                        <p:cTn id="53" dur="500" autoRev="1" fill="hold"/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4,41,-97)"/>
                                      </p:to>
                                    </p:set>
                                    <p:set>
                                      <p:cBhvr>
                                        <p:cTn id="54" dur="500" autoRev="1" fill="hold"/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500" autoRev="1" fill="hold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54,41,-97)"/>
                                      </p:to>
                                    </p:set>
                                    <p:set>
                                      <p:cBhvr>
                                        <p:cTn id="59" dur="500" autoRev="1" fill="hold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4,41,-97)"/>
                                      </p:to>
                                    </p:set>
                                    <p:set>
                                      <p:cBhvr>
                                        <p:cTn id="60" dur="500" autoRev="1" fill="hold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500" autoRev="1" fill="hold"/>
                                        <p:tgtEl>
                                          <p:spTgt spid="4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54,41,-97)"/>
                                      </p:to>
                                    </p:set>
                                    <p:set>
                                      <p:cBhvr>
                                        <p:cTn id="65" dur="500" autoRev="1" fill="hold"/>
                                        <p:tgtEl>
                                          <p:spTgt spid="4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4,41,-97)"/>
                                      </p:to>
                                    </p:set>
                                    <p:set>
                                      <p:cBhvr>
                                        <p:cTn id="66" dur="500" autoRev="1" fill="hold"/>
                                        <p:tgtEl>
                                          <p:spTgt spid="4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500" autoRev="1" fill="hold"/>
                                        <p:tgtEl>
                                          <p:spTgt spid="4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54,41,-97)"/>
                                      </p:to>
                                    </p:set>
                                    <p:set>
                                      <p:cBhvr>
                                        <p:cTn id="71" dur="500" autoRev="1" fill="hold"/>
                                        <p:tgtEl>
                                          <p:spTgt spid="4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4,41,-97)"/>
                                      </p:to>
                                    </p:set>
                                    <p:set>
                                      <p:cBhvr>
                                        <p:cTn id="72" dur="500" autoRev="1" fill="hold"/>
                                        <p:tgtEl>
                                          <p:spTgt spid="4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92880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23232"/>
                </a:solidFill>
                <a:latin typeface="Cambria"/>
              </a:rPr>
              <a:t>Чи паралельні прямі </a:t>
            </a:r>
            <a:r>
              <a:rPr b="0" i="1" lang="uk-UA" sz="4000" spc="-1" strike="noStrike">
                <a:solidFill>
                  <a:srgbClr val="323232"/>
                </a:solidFill>
                <a:latin typeface="Cambria"/>
              </a:rPr>
              <a:t>а</a:t>
            </a:r>
            <a:r>
              <a:rPr b="0" lang="uk-UA" sz="4000" spc="-1" strike="noStrike">
                <a:solidFill>
                  <a:srgbClr val="323232"/>
                </a:solidFill>
                <a:latin typeface="Cambria"/>
              </a:rPr>
              <a:t> і </a:t>
            </a:r>
            <a:r>
              <a:rPr b="0" i="1" lang="uk-UA" sz="4000" spc="-1" strike="noStrike">
                <a:solidFill>
                  <a:srgbClr val="323232"/>
                </a:solidFill>
                <a:latin typeface="Cambria"/>
              </a:rPr>
              <a:t>с</a:t>
            </a:r>
            <a:r>
              <a:rPr b="0" lang="uk-UA" sz="4000" spc="-1" strike="noStrike">
                <a:solidFill>
                  <a:srgbClr val="323232"/>
                </a:solidFill>
                <a:latin typeface="Cambria"/>
              </a:rPr>
              <a:t> ?</a:t>
            </a:r>
            <a:br>
              <a:rPr sz="4000"/>
            </a:br>
            <a:endParaRPr b="0" lang="en-US" sz="40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mbria"/>
              </a:rPr>
              <a:t>                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r>
              <a:rPr b="1" lang="uk-UA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mbria"/>
              </a:rPr>
              <a:t>                                         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3 </a:t>
            </a:r>
            <a:r>
              <a:rPr b="1" lang="uk-UA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i="1" lang="uk-UA" sz="3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0" name="Прямая соединительная линия 4"/>
          <p:cNvSpPr/>
          <p:nvPr/>
        </p:nvSpPr>
        <p:spPr>
          <a:xfrm>
            <a:off x="928800" y="3500280"/>
            <a:ext cx="4929120" cy="180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ая соединительная линия 7"/>
          <p:cNvSpPr/>
          <p:nvPr/>
        </p:nvSpPr>
        <p:spPr>
          <a:xfrm>
            <a:off x="785880" y="4429080"/>
            <a:ext cx="4929120" cy="180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рямая соединительная линия 8"/>
          <p:cNvSpPr/>
          <p:nvPr/>
        </p:nvSpPr>
        <p:spPr>
          <a:xfrm flipH="1" flipV="1">
            <a:off x="2214720" y="2357280"/>
            <a:ext cx="2357280" cy="350064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Дуга 16"/>
          <p:cNvSpPr/>
          <p:nvPr/>
        </p:nvSpPr>
        <p:spPr>
          <a:xfrm rot="18296400">
            <a:off x="2755440" y="3215880"/>
            <a:ext cx="443160" cy="506520"/>
          </a:xfrm>
          <a:custGeom>
            <a:avLst/>
            <a:gdLst/>
            <a:ahLst/>
            <a:rect l="l" t="t" r="r" b="b"/>
            <a:pathLst>
              <a:path stroke="0" w="442913" h="506413">
                <a:moveTo>
                  <a:pt x="71901" y="66462"/>
                </a:moveTo>
                <a:cubicBezTo>
                  <a:pt x="136625" y="-1301"/>
                  <a:pt x="230240" y="-18972"/>
                  <a:pt x="310579" y="21409"/>
                </a:cubicBezTo>
                <a:lnTo>
                  <a:pt x="221457" y="253207"/>
                </a:lnTo>
                <a:lnTo>
                  <a:pt x="71901" y="66462"/>
                </a:lnTo>
                <a:close/>
              </a:path>
              <a:path fill="none" w="442913" h="506413">
                <a:moveTo>
                  <a:pt x="71901" y="66462"/>
                </a:moveTo>
                <a:cubicBezTo>
                  <a:pt x="136625" y="-1301"/>
                  <a:pt x="230240" y="-18972"/>
                  <a:pt x="310579" y="21409"/>
                </a:cubicBezTo>
              </a:path>
            </a:pathLst>
          </a:cu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8706000"/>
          </a:gradFill>
          <a:ln w="31680">
            <a:solidFill>
              <a:srgbClr val="f07f09"/>
            </a:solidFill>
            <a:round/>
          </a:ln>
          <a:effectLst>
            <a:outerShdw dist="2556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Дуга 17"/>
          <p:cNvGrpSpPr/>
          <p:nvPr/>
        </p:nvGrpSpPr>
        <p:grpSpPr>
          <a:xfrm>
            <a:off x="3376440" y="3978360"/>
            <a:ext cx="682920" cy="601560"/>
            <a:chOff x="3376440" y="3978360"/>
            <a:chExt cx="682920" cy="601560"/>
          </a:xfrm>
        </p:grpSpPr>
        <p:pic>
          <p:nvPicPr>
            <p:cNvPr id="485" name="Дуга 17" descr=""/>
            <p:cNvPicPr/>
            <p:nvPr/>
          </p:nvPicPr>
          <p:blipFill>
            <a:blip r:embed="rId1"/>
            <a:stretch/>
          </p:blipFill>
          <p:spPr>
            <a:xfrm>
              <a:off x="3376440" y="4085280"/>
              <a:ext cx="682920" cy="44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 rot="2913600">
              <a:off x="3504600" y="4107600"/>
              <a:ext cx="5000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Дуга 18"/>
          <p:cNvSpPr/>
          <p:nvPr/>
        </p:nvSpPr>
        <p:spPr>
          <a:xfrm flipV="1" rot="12988200">
            <a:off x="3304800" y="4221720"/>
            <a:ext cx="501840" cy="711360"/>
          </a:xfrm>
          <a:custGeom>
            <a:avLst/>
            <a:gdLst/>
            <a:ahLst/>
            <a:rect l="l" t="t" r="r" b="b"/>
            <a:pathLst>
              <a:path stroke="0" w="501650" h="711200">
                <a:moveTo>
                  <a:pt x="116190" y="55569"/>
                </a:moveTo>
                <a:cubicBezTo>
                  <a:pt x="230442" y="-47478"/>
                  <a:pt x="381761" y="-3354"/>
                  <a:pt x="458052" y="155255"/>
                </a:cubicBezTo>
                <a:lnTo>
                  <a:pt x="250825" y="355600"/>
                </a:lnTo>
                <a:lnTo>
                  <a:pt x="116190" y="55569"/>
                </a:lnTo>
                <a:close/>
              </a:path>
              <a:path fill="none" w="501650" h="711200">
                <a:moveTo>
                  <a:pt x="116190" y="55569"/>
                </a:moveTo>
                <a:cubicBezTo>
                  <a:pt x="230442" y="-47478"/>
                  <a:pt x="381761" y="-3354"/>
                  <a:pt x="458052" y="155255"/>
                </a:cubicBezTo>
              </a:path>
            </a:pathLst>
          </a:custGeom>
          <a:noFill/>
          <a:ln w="31680">
            <a:solidFill>
              <a:srgbClr val="f07f09"/>
            </a:solidFill>
            <a:round/>
          </a:ln>
          <a:effectLst>
            <a:outerShdw dist="2556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9"/>
          <p:cNvSpPr/>
          <p:nvPr/>
        </p:nvSpPr>
        <p:spPr>
          <a:xfrm>
            <a:off x="2500200" y="221472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uk-UA" sz="40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Чи паралельні прямі</a:t>
            </a:r>
            <a:r>
              <a:rPr b="0" lang="en-US" sz="40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 </a:t>
            </a:r>
            <a:r>
              <a:rPr b="0" i="1" lang="en-US" sz="40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n</a:t>
            </a:r>
            <a:r>
              <a:rPr b="0" lang="en-US" sz="40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 i </a:t>
            </a:r>
            <a:r>
              <a:rPr b="0" i="1" lang="en-US" sz="40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m</a:t>
            </a:r>
            <a:r>
              <a:rPr b="0" i="1" lang="uk-UA" sz="40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, </a:t>
            </a:r>
            <a:r>
              <a:rPr b="0" lang="uk-UA" sz="40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якщо </a:t>
            </a:r>
            <a:br>
              <a:rPr sz="4000"/>
            </a:br>
            <a:endParaRPr b="0" lang="en-US" sz="40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57200" y="1714680"/>
            <a:ext cx="822960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d          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1" lang="uk-UA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uk-UA" sz="3000" spc="-1" strike="noStrike">
                <a:solidFill>
                  <a:srgbClr val="000000"/>
                </a:solidFill>
                <a:latin typeface="Cambria"/>
              </a:rPr>
              <a:t>= </a:t>
            </a:r>
            <a:r>
              <a:rPr b="1" lang="uk-UA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uk-UA" sz="3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;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2) </a:t>
            </a:r>
            <a:r>
              <a:rPr b="1" lang="uk-UA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uk-UA" sz="3000" spc="-1" strike="noStrike">
                <a:solidFill>
                  <a:srgbClr val="000000"/>
                </a:solidFill>
                <a:latin typeface="Cambria"/>
              </a:rPr>
              <a:t> = </a:t>
            </a:r>
            <a:r>
              <a:rPr b="1" lang="uk-UA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;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       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1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1" lang="uk-UA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uk-UA" sz="3000" spc="-1" strike="noStrike">
                <a:solidFill>
                  <a:srgbClr val="000000"/>
                </a:solidFill>
                <a:latin typeface="Cambria"/>
              </a:rPr>
              <a:t> + </a:t>
            </a:r>
            <a:r>
              <a:rPr b="1" lang="uk-UA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uk-UA" sz="3000" spc="-1" strike="noStrike">
                <a:solidFill>
                  <a:srgbClr val="000000"/>
                </a:solidFill>
                <a:latin typeface="Cambria"/>
              </a:rPr>
              <a:t>= 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0</a:t>
            </a:r>
            <a:r>
              <a:rPr b="1" lang="uk-UA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</a:t>
            </a:r>
            <a:r>
              <a:rPr b="1" lang="uk-UA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1" lang="uk-UA" sz="3000" spc="-1" strike="noStrike">
                <a:solidFill>
                  <a:srgbClr val="000000"/>
                </a:solidFill>
                <a:latin typeface="Cambria"/>
              </a:rPr>
              <a:t>= </a:t>
            </a:r>
            <a:r>
              <a:rPr b="1" lang="uk-UA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uk-UA" sz="3000" spc="-1" strike="noStrike">
                <a:solidFill>
                  <a:srgbClr val="000000"/>
                </a:solidFill>
                <a:latin typeface="Cambria"/>
              </a:rPr>
              <a:t>= 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r>
              <a:rPr b="1" lang="uk-UA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     6           3   2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5) </a:t>
            </a:r>
            <a:r>
              <a:rPr b="1" lang="uk-UA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1" lang="uk-UA" sz="3000" spc="-1" strike="noStrike">
                <a:solidFill>
                  <a:srgbClr val="000000"/>
                </a:solidFill>
                <a:latin typeface="Cambria"/>
              </a:rPr>
              <a:t>= </a:t>
            </a:r>
            <a:r>
              <a:rPr b="1" lang="uk-UA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uk-UA" sz="3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?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1" name="Прямая соединительная линия 4"/>
          <p:cNvSpPr/>
          <p:nvPr/>
        </p:nvSpPr>
        <p:spPr>
          <a:xfrm>
            <a:off x="714240" y="3214800"/>
            <a:ext cx="3357720" cy="144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Прямая соединительная линия 5"/>
          <p:cNvSpPr/>
          <p:nvPr/>
        </p:nvSpPr>
        <p:spPr>
          <a:xfrm>
            <a:off x="785880" y="4643280"/>
            <a:ext cx="3214800" cy="180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рямая соединительная линия 6"/>
          <p:cNvSpPr/>
          <p:nvPr/>
        </p:nvSpPr>
        <p:spPr>
          <a:xfrm>
            <a:off x="1428840" y="2071800"/>
            <a:ext cx="0" cy="335736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рямая соединительная линия 8"/>
          <p:cNvSpPr/>
          <p:nvPr/>
        </p:nvSpPr>
        <p:spPr>
          <a:xfrm flipV="1">
            <a:off x="2714760" y="2071440"/>
            <a:ext cx="1428480" cy="321444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"/>
          <p:cNvPicPr/>
          <p:nvPr/>
        </p:nvPicPr>
        <p:blipFill>
          <a:blip r:embed="rId1"/>
          <a:srcRect l="0" t="0" r="-56" b="0"/>
          <a:stretch/>
        </p:blipFill>
        <p:spPr>
          <a:xfrm>
            <a:off x="1857240" y="642960"/>
            <a:ext cx="5500800" cy="2714760"/>
          </a:xfrm>
          <a:prstGeom prst="rect">
            <a:avLst/>
          </a:prstGeom>
          <a:ln w="76320">
            <a:solidFill>
              <a:srgbClr val="00b0f0"/>
            </a:solidFill>
            <a:miter/>
          </a:ln>
        </p:spPr>
      </p:pic>
      <p:sp>
        <p:nvSpPr>
          <p:cNvPr id="496" name=""/>
          <p:cNvSpPr txBox="1"/>
          <p:nvPr/>
        </p:nvSpPr>
        <p:spPr>
          <a:xfrm>
            <a:off x="428760" y="2220840"/>
            <a:ext cx="822960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1b587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1b587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50141b"/>
                </a:solidFill>
                <a:latin typeface="Monotype Corsiva"/>
              </a:rPr>
              <a:t>         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50141b"/>
                </a:solidFill>
                <a:latin typeface="Monotype Corsiva"/>
              </a:rPr>
              <a:t>           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50141b"/>
                </a:solidFill>
                <a:latin typeface="Monotype Corsiva"/>
              </a:rPr>
              <a:t>                             </a:t>
            </a:r>
            <a:r>
              <a:rPr b="0" i="1" lang="ru-RU" sz="2700" spc="-1" strike="noStrike">
                <a:solidFill>
                  <a:srgbClr val="50141b"/>
                </a:solidFill>
                <a:latin typeface="Monotype Corsiva"/>
              </a:rPr>
              <a:t>Там лес и дол видений полны;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50141b"/>
                </a:solidFill>
                <a:latin typeface="Monotype Corsiva"/>
              </a:rPr>
              <a:t>                         </a:t>
            </a:r>
            <a:r>
              <a:rPr b="0" i="1" lang="ru-RU" sz="2700" spc="-1" strike="noStrike">
                <a:solidFill>
                  <a:srgbClr val="50141b"/>
                </a:solidFill>
                <a:latin typeface="Monotype Corsiva"/>
              </a:rPr>
              <a:t>Там о заре прихлынут волны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50141b"/>
                </a:solidFill>
                <a:latin typeface="Monotype Corsiva"/>
              </a:rPr>
              <a:t>                        </a:t>
            </a:r>
            <a:r>
              <a:rPr b="0" i="1" lang="ru-RU" sz="2700" spc="-1" strike="noStrike">
                <a:solidFill>
                  <a:srgbClr val="50141b"/>
                </a:solidFill>
                <a:latin typeface="Monotype Corsiva"/>
              </a:rPr>
              <a:t>На брег песчаный и пустой,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50141b"/>
                </a:solidFill>
                <a:latin typeface="Monotype Corsiva"/>
              </a:rPr>
              <a:t>                        </a:t>
            </a:r>
            <a:r>
              <a:rPr b="0" i="1" lang="ru-RU" sz="2700" spc="-1" strike="noStrike">
                <a:solidFill>
                  <a:srgbClr val="50141b"/>
                </a:solidFill>
                <a:latin typeface="Monotype Corsiva"/>
              </a:rPr>
              <a:t>И тридцать витязей прекрасных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50141b"/>
                </a:solidFill>
                <a:latin typeface="Monotype Corsiva"/>
              </a:rPr>
              <a:t>                       </a:t>
            </a:r>
            <a:r>
              <a:rPr b="0" i="1" lang="ru-RU" sz="2700" spc="-1" strike="noStrike">
                <a:solidFill>
                  <a:srgbClr val="50141b"/>
                </a:solidFill>
                <a:latin typeface="Monotype Corsiva"/>
              </a:rPr>
              <a:t>Чредой из вод выходят ясных,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50141b"/>
                </a:solidFill>
                <a:latin typeface="Monotype Corsiva"/>
              </a:rPr>
              <a:t>                       </a:t>
            </a:r>
            <a:r>
              <a:rPr b="0" i="1" lang="ru-RU" sz="2700" spc="-1" strike="noStrike">
                <a:solidFill>
                  <a:srgbClr val="50141b"/>
                </a:solidFill>
                <a:latin typeface="Monotype Corsiva"/>
              </a:rPr>
              <a:t>И с ними дядька их морской.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0141b"/>
                </a:solidFill>
                <a:latin typeface="Cambria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                                              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mbria"/>
              </a:rPr>
              <a:t>                                                                                  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Cambria"/>
              </a:rPr>
              <a:t>А.С. Пушкин «Руслан и Людмила»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19:12:01Z</dcterms:created>
  <dc:creator>rabbit</dc:creator>
  <dc:description/>
  <dc:language>en-US</dc:language>
  <cp:lastModifiedBy>rabbit</cp:lastModifiedBy>
  <dcterms:modified xsi:type="dcterms:W3CDTF">2012-02-01T05:07:44Z</dcterms:modified>
  <cp:revision>138</cp:revision>
  <dc:subject/>
  <dc:title>ОЗНАКИ ПАРАЛЕЛЬНОСТІ ПРЯМИ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81a000000000001024140</vt:lpwstr>
  </property>
</Properties>
</file>