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28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5.png" ContentType="image/pn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1C6-187A-47AE-91F6-0C976059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6B8-C61C-4F3D-BCCF-31ADC121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0F770-F801-4688-A47D-23A05B0F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6498B-20D5-4E86-BF05-82CD5356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D5B32-471C-459A-BE3E-9F1A9B8D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3F4B7-A627-40A0-BA54-CB5FD7E8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29551-E45A-4A0D-9EF0-7549FF9C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6CB81-6F65-413A-AF6C-D8735445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5EF3B-7CD1-4F2F-B0D5-A9E7D93D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21F4D-90EB-4760-A09B-333C9E92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E112F-796B-4E98-A1A6-B192F203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876-62E6-4885-B9C2-8B7ED204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56B-A351-4704-BE47-CCDCA0D8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03F8-B4A5-44A0-9EB5-B61BB48D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82C2-4AF0-476D-BEC8-51E9394A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7A6E-7A94-4B60-899F-9F264C0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2C22-6C97-40AC-955E-808DCF61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2E5F-6E1A-4783-BEE8-37CE9AC5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6D48-454F-45DB-BFF7-35AE8E08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C03D-321C-48C3-A8E7-A310F9BB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426-0295-4A76-B19B-C86FE34F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09EA-8FBF-4DDD-9D89-26832F5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2644-8D89-4008-ACFE-8031B980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2301-DDB2-42CB-9E2F-5C2C7A95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7564-A1E2-432A-9E5B-5601E1AE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941B-3489-4A77-A7B7-A52FC093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B865E-4BEA-4F4E-9DA6-FB4F6646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CEBC-5E59-4AB5-9A9F-CC25DA51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A1A50-DA0B-4675-8B08-7C2275D4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4068-36F7-4C9E-B107-E029B375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5D75-0C97-4B82-A538-808B3B87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BC0-A1AF-435B-AB17-C8BACC49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1F9E4-857D-43C3-81D3-E0BCC561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E1A68-7E7B-44C6-BABE-816336BC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5BD97-3A0C-4DCD-A3B0-48E888FA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36C2-4C37-436C-ACB9-4BE04937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2F4C2-6D63-4E20-B90F-DBE76E5F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DD099-144C-4CE2-905E-93F317131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904A-3490-4C31-B447-B63F5957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78164-1FB9-47CE-A630-14C5206E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56DCB-9B1C-4AA8-BA2F-94B191A0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077B9-54CA-4703-8915-04BEB4EC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40A-DD9A-4D43-AC1E-4E89CA17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F147-154C-4BC5-9263-31DB090B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BBF96-EF9C-41B6-8EFD-5FBC4725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BDE0F-2B00-4DAD-8D7D-32BA19BB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647D9-8CE9-4390-B585-6607416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3E45B-B775-490E-9248-09923EA4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AEDA-B40B-4877-AC79-088BA89B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FC392-2638-46AF-B37A-91873E0A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DC6A-51D3-4810-A31F-E263E77E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BC7C7-96AC-4547-B2A3-BF63505B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C52C7-9226-454A-9A31-AEEBDA93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2B7-552A-439D-9151-595A20F0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092B4-5809-4529-A79E-EFB78C3B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F8925-6091-4A89-A57A-5FB14BFB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F572D-68E9-41FD-9A6A-1284479B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728A-4C8A-417B-A104-3B2FB247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AE16E-4CFF-48FD-B25A-478CDC67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7634B-5CD6-4791-BB29-F5EB480B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113CB-F337-4A99-BC9E-4A92BB66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3D91A-B1A8-4029-A92A-D68F9606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E3D77-8FE0-435B-9F2A-E0D8740E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48B94-BE41-40A1-A12E-713811A8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1B8-C162-42C6-BDF9-28717638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AD98E-6FDF-40F7-A0D1-84A6CFE7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27D5B-20CA-4623-ABB8-A5376326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91886-EB13-4CA0-8CD2-D406FEF7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F69F0-E0A1-4B57-8CC7-D5286FA2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9D84A-DDEC-447D-9429-D6C76086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1742F-28A1-46DD-A411-D528AC14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8C50C-84B6-4EF4-8C8D-A0989027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F3BB2-6126-4790-9289-1551D8E7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6470D-6F7F-4D9C-9737-806F4420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997C3-884A-4531-AED4-1D6EB92B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EB4-9369-458E-9962-291DC66F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8B3C8-91CC-4BE7-9F7B-4D5A371C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C152E-8AE0-4791-ABA4-FE2265A5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3FE84-0649-404D-AFBF-C380F31D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931A4-9E7D-41ED-8A89-93DAAE89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E1474-8C31-449E-ACC9-EA424701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0FD05-7C67-42F4-89BE-40D6E95A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94604-9A8A-4FD5-A9EC-BE8335CA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642E7-7C43-4ED8-A26A-C92464F6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25BDB-8716-422F-9367-12B843A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50F6A-A5A1-41F7-AF40-A892C87D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B24-86D2-40AC-A62E-C3BB61B4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F2755-6C0D-48FD-B454-59447CEA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3782C-EAC1-486D-B5DB-4A7BC4A5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0E82A-D5D9-411D-A5D3-15A5CCE2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94AE3-5DB0-43AB-AEAB-A30F3C29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C0821-D547-4259-954A-D0BBC325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1EC5A8-6EC1-483B-82CD-16D48498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F2AE6-461B-4CBC-81DE-AA3C61E1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B19872-3AEA-4F14-BC66-650BF33A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A3C4AB-6711-427C-B8FC-2EEEB273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1C052E-73E4-4F38-93E7-B5ABC8A8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5F6-EF65-4A5C-A439-76B358B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91EA83-1EB8-445D-A4E5-F95B0EE3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6FB563-08BB-4B19-AB7B-C3F75A07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3FF2E-1235-41C2-A114-0A594692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7D8237-0E3B-4424-A63D-F0291817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D06F7F-39D8-4912-BCE2-832A3BA2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AC1EF7-044C-4ABA-98EE-3311E422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67B66D-C651-4362-B001-C7C70800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8E4F7-8378-4E42-A08A-D00241C6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AD967-495A-47DA-BB3E-0AF7F5B5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2BB7F-986D-49CD-B8B0-8CAA5D27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Elephant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A87B-722D-463B-A47E-82E330B250A7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86D8-997F-4323-93D3-32FF7D915D1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10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Elephant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C5C1-AAF5-4A9F-A3FF-811BB3AC32CD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46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Elephant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85F-2B23-46F4-8C0D-9C7347D08F8F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Elephant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61A3-F701-40C7-836A-5915B500C6A4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ce72"/>
                </a:solidFill>
                <a:latin typeface="Elephant"/>
              </a:rPr>
              <a:t>Click to edit the title text format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785880" indent="-182520">
              <a:spcBef>
                <a:spcPts val="249"/>
              </a:spcBef>
              <a:buClr>
                <a:srgbClr val="b1dc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023840" indent="-182520">
              <a:spcBef>
                <a:spcPts val="249"/>
              </a:spcBef>
              <a:buClr>
                <a:srgbClr val="b1dc8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279440" indent="-182520">
              <a:spcBef>
                <a:spcPts val="249"/>
              </a:spcBef>
              <a:buClr>
                <a:srgbClr val="54d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97B1-1A16-4C61-A19A-98A0E4F98689}" type="slidenum">
              <a:rPr b="0" lang="ru-RU" sz="1000" spc="-1" strike="noStrike">
                <a:solidFill>
                  <a:srgbClr val="b3aaa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9f293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9f293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9f293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235C-9417-4D30-9A93-343127F4638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71CF-F1DA-4BB0-88D0-8CEE445E01B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9f293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657360" indent="-246240">
              <a:spcBef>
                <a:spcPts val="300"/>
              </a:spcBef>
              <a:buClr>
                <a:srgbClr val="9f29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922320" indent="-21888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179360" indent="-199800">
              <a:spcBef>
                <a:spcPts val="300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389240" indent="-182880">
              <a:spcBef>
                <a:spcPts val="300"/>
              </a:spcBef>
              <a:buClr>
                <a:srgbClr val="1b587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9f293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520A-CF82-4BF0-806E-C0A479028A1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628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d75b7e"/>
                </a:solidFill>
                <a:latin typeface="Elephant"/>
              </a:rPr>
              <a:t>ВЗАЄМНЕ РОЗМІЩЕННЯ ПРЯМИХ НА ПЛОЩИНІ  </a:t>
            </a:r>
            <a:br>
              <a:rPr sz="4000"/>
            </a:br>
            <a:r>
              <a:rPr b="1" lang="uk-UA" sz="3600" spc="-1" strike="noStrike">
                <a:solidFill>
                  <a:srgbClr val="d75b7e"/>
                </a:solidFill>
                <a:latin typeface="Elephant"/>
              </a:rPr>
              <a:t>                                                </a:t>
            </a:r>
            <a:r>
              <a:rPr b="1" lang="uk-UA" sz="3600" spc="-1" strike="noStrike">
                <a:solidFill>
                  <a:srgbClr val="b24d1d"/>
                </a:solidFill>
                <a:latin typeface="Elephant"/>
              </a:rPr>
              <a:t>7 КЛАС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533160" y="3228840"/>
            <a:ext cx="8110440" cy="24148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a2e4e"/>
                </a:solidFill>
                <a:latin typeface="Cambria"/>
              </a:rPr>
              <a:t>Підготувала вчитель математики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a2e4e"/>
                </a:solidFill>
                <a:latin typeface="Cambria"/>
              </a:rPr>
              <a:t>Вихватенко Тетяна Федорівна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a2e4e"/>
                </a:solidFill>
                <a:latin typeface="Cambria"/>
              </a:rPr>
              <a:t>Старобільська ЗОШ ІІ-ІІІ ступенів № 4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a2e4e"/>
                </a:solidFill>
                <a:latin typeface="Cambria"/>
              </a:rPr>
              <a:t>Луганської області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Содержимое 2" descr=""/>
          <p:cNvPicPr/>
          <p:nvPr/>
        </p:nvPicPr>
        <p:blipFill>
          <a:blip r:embed="rId1"/>
          <a:stretch/>
        </p:blipFill>
        <p:spPr>
          <a:xfrm>
            <a:off x="444600" y="585720"/>
            <a:ext cx="7138800" cy="10747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2"/>
          <a:srcRect l="0" t="0" r="0" b="67"/>
          <a:stretch/>
        </p:blipFill>
        <p:spPr>
          <a:xfrm>
            <a:off x="1571760" y="2714760"/>
            <a:ext cx="6072120" cy="4232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3"/>
          <a:stretch/>
        </p:blipFill>
        <p:spPr>
          <a:xfrm>
            <a:off x="1643040" y="2786040"/>
            <a:ext cx="5786640" cy="40514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5" descr="32"/>
          <p:cNvPicPr/>
          <p:nvPr/>
        </p:nvPicPr>
        <p:blipFill>
          <a:blip r:embed="rId4"/>
          <a:stretch/>
        </p:blipFill>
        <p:spPr>
          <a:xfrm>
            <a:off x="1571760" y="2714760"/>
            <a:ext cx="6572160" cy="40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"/>
          <p:cNvPicPr/>
          <p:nvPr/>
        </p:nvPicPr>
        <p:blipFill>
          <a:blip r:embed="rId5"/>
          <a:stretch/>
        </p:blipFill>
        <p:spPr>
          <a:xfrm>
            <a:off x="2214720" y="2643120"/>
            <a:ext cx="5072040" cy="42148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"/>
          <p:cNvPicPr/>
          <p:nvPr/>
        </p:nvPicPr>
        <p:blipFill>
          <a:blip r:embed="rId6"/>
          <a:stretch/>
        </p:blipFill>
        <p:spPr>
          <a:xfrm>
            <a:off x="1857240" y="2571840"/>
            <a:ext cx="5700960" cy="42861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1" descr=""/>
          <p:cNvPicPr/>
          <p:nvPr/>
        </p:nvPicPr>
        <p:blipFill>
          <a:blip r:embed="rId7"/>
          <a:stretch/>
        </p:blipFill>
        <p:spPr>
          <a:xfrm>
            <a:off x="3143160" y="2568600"/>
            <a:ext cx="2928960" cy="4289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3" descr=""/>
          <p:cNvPicPr/>
          <p:nvPr/>
        </p:nvPicPr>
        <p:blipFill>
          <a:blip r:embed="rId8"/>
          <a:srcRect l="0" t="0" r="0" b="-14"/>
          <a:stretch/>
        </p:blipFill>
        <p:spPr>
          <a:xfrm>
            <a:off x="1500120" y="3000240"/>
            <a:ext cx="6939000" cy="30006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4" descr=""/>
          <p:cNvPicPr/>
          <p:nvPr/>
        </p:nvPicPr>
        <p:blipFill>
          <a:blip r:embed="rId9"/>
          <a:stretch/>
        </p:blipFill>
        <p:spPr>
          <a:xfrm>
            <a:off x="1428840" y="2571840"/>
            <a:ext cx="6786360" cy="4330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"/>
          <p:cNvPicPr/>
          <p:nvPr/>
        </p:nvPicPr>
        <p:blipFill>
          <a:blip r:embed="rId10"/>
          <a:stretch/>
        </p:blipFill>
        <p:spPr>
          <a:xfrm>
            <a:off x="2643120" y="2611440"/>
            <a:ext cx="4071960" cy="42465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"/>
          <p:cNvPicPr/>
          <p:nvPr/>
        </p:nvPicPr>
        <p:blipFill>
          <a:blip r:embed="rId11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  <p:pic>
        <p:nvPicPr>
          <p:cNvPr id="508" name="Новая дорожка 2.mp3" descr=""/>
          <p:cNvPicPr/>
          <p:nvPr/>
        </p:nvPicPr>
        <p:blipFill>
          <a:blip r:embed="rId1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4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5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5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5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5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5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571680" y="1000080"/>
            <a:ext cx="811512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                                           с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1    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          </a:t>
            </a:r>
            <a:r>
              <a:rPr b="0" lang="uk-UA" sz="2000" spc="-1" strike="noStrike">
                <a:solidFill>
                  <a:srgbClr val="ff0000"/>
                </a:solidFill>
                <a:latin typeface="Cambri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                                                 </a:t>
            </a:r>
            <a:r>
              <a:rPr b="0" lang="uk-UA" sz="3200" spc="-1" strike="noStrike">
                <a:solidFill>
                  <a:srgbClr val="ff0000"/>
                </a:solidFill>
                <a:latin typeface="Cambria"/>
              </a:rPr>
              <a:t>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240120"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Будинки поросят Наф-Наф, Ніф-Ніф, Нуф-Нуф розташовано в кутах трикутника АВС. Треба  побудувати їм нові будинки-кути, але вони повинні бути рівними зі старими за градусною мірою. Дороги а і с паралельні.  Де будуть мешкати поросята?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0" name="Прямая соединительная линия 4"/>
          <p:cNvSpPr/>
          <p:nvPr/>
        </p:nvSpPr>
        <p:spPr>
          <a:xfrm flipH="1">
            <a:off x="1571400" y="1928880"/>
            <a:ext cx="1143000" cy="13572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5"/>
          <p:cNvSpPr/>
          <p:nvPr/>
        </p:nvSpPr>
        <p:spPr>
          <a:xfrm>
            <a:off x="2714040" y="1928880"/>
            <a:ext cx="2143080" cy="27860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8"/>
          <p:cNvSpPr/>
          <p:nvPr/>
        </p:nvSpPr>
        <p:spPr>
          <a:xfrm>
            <a:off x="1500120" y="3357720"/>
            <a:ext cx="4857840" cy="78552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13"/>
          <p:cNvSpPr/>
          <p:nvPr/>
        </p:nvSpPr>
        <p:spPr>
          <a:xfrm flipH="1">
            <a:off x="4143240" y="2000160"/>
            <a:ext cx="1500480" cy="178596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rcRect l="0" t="3446" r="67131" b="0"/>
          <a:stretch/>
        </p:blipFill>
        <p:spPr>
          <a:xfrm>
            <a:off x="928800" y="3286080"/>
            <a:ext cx="657000" cy="11667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"/>
          <p:cNvPicPr/>
          <p:nvPr/>
        </p:nvPicPr>
        <p:blipFill>
          <a:blip r:embed="rId2"/>
          <a:srcRect l="29631" t="0" r="36354" b="23759"/>
          <a:stretch/>
        </p:blipFill>
        <p:spPr>
          <a:xfrm>
            <a:off x="2000160" y="928800"/>
            <a:ext cx="743040" cy="100476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"/>
          <p:cNvPicPr/>
          <p:nvPr/>
        </p:nvPicPr>
        <p:blipFill>
          <a:blip r:embed="rId3"/>
          <a:srcRect l="64359" t="6120" r="0" b="4603"/>
          <a:stretch/>
        </p:blipFill>
        <p:spPr>
          <a:xfrm>
            <a:off x="3429000" y="3714840"/>
            <a:ext cx="7081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Відповідь 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mbri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Прямая соединительная линия 5"/>
          <p:cNvSpPr/>
          <p:nvPr/>
        </p:nvSpPr>
        <p:spPr>
          <a:xfrm flipH="1">
            <a:off x="1643040" y="2000160"/>
            <a:ext cx="928800" cy="20718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6"/>
          <p:cNvSpPr/>
          <p:nvPr/>
        </p:nvSpPr>
        <p:spPr>
          <a:xfrm flipH="1">
            <a:off x="4214520" y="1928880"/>
            <a:ext cx="1500120" cy="264312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7"/>
          <p:cNvSpPr/>
          <p:nvPr/>
        </p:nvSpPr>
        <p:spPr>
          <a:xfrm flipH="1" flipV="1">
            <a:off x="1642680" y="4071960"/>
            <a:ext cx="4714920" cy="9288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10"/>
          <p:cNvSpPr/>
          <p:nvPr/>
        </p:nvSpPr>
        <p:spPr>
          <a:xfrm>
            <a:off x="2571120" y="2000160"/>
            <a:ext cx="2857320" cy="450072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"/>
          <p:cNvPicPr/>
          <p:nvPr/>
        </p:nvPicPr>
        <p:blipFill>
          <a:blip r:embed="rId1"/>
          <a:srcRect l="29631" t="0" r="36354" b="23759"/>
          <a:stretch/>
        </p:blipFill>
        <p:spPr>
          <a:xfrm>
            <a:off x="3857760" y="2857680"/>
            <a:ext cx="742680" cy="10047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2"/>
          <a:srcRect l="64359" t="6120" r="0" b="4603"/>
          <a:stretch/>
        </p:blipFill>
        <p:spPr>
          <a:xfrm>
            <a:off x="5143680" y="4929120"/>
            <a:ext cx="707760" cy="1071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"/>
          <p:cNvPicPr/>
          <p:nvPr/>
        </p:nvPicPr>
        <p:blipFill>
          <a:blip r:embed="rId3"/>
          <a:srcRect l="0" t="3446" r="67131" b="0"/>
          <a:stretch/>
        </p:blipFill>
        <p:spPr>
          <a:xfrm>
            <a:off x="5214960" y="3500280"/>
            <a:ext cx="657360" cy="116712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5"/>
          <p:cNvSpPr/>
          <p:nvPr/>
        </p:nvSpPr>
        <p:spPr>
          <a:xfrm>
            <a:off x="4646880" y="4786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6"/>
          <p:cNvSpPr/>
          <p:nvPr/>
        </p:nvSpPr>
        <p:spPr>
          <a:xfrm>
            <a:off x="4003920" y="3857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4718160" y="3857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 стріла Івана потрапила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царівни-жабки,  треба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ти кут польоту стріли (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,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= 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= 35</a:t>
            </a:r>
            <a:r>
              <a:rPr b="0" lang="uk-UA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= 42</a:t>
            </a:r>
            <a:r>
              <a:rPr b="0" lang="uk-UA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                   5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6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               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530" name="Прямая со стрелкой 4"/>
          <p:cNvCxnSpPr/>
          <p:nvPr/>
        </p:nvCxnSpPr>
        <p:spPr>
          <a:xfrm flipH="1" flipV="1">
            <a:off x="642240" y="2785680"/>
            <a:ext cx="3072600" cy="2160"/>
          </a:xfrm>
          <a:prstGeom prst="straightConnector1">
            <a:avLst/>
          </a:prstGeom>
          <a:ln w="475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531" name="Прямая со стрелкой 10"/>
          <p:cNvCxnSpPr/>
          <p:nvPr/>
        </p:nvCxnSpPr>
        <p:spPr>
          <a:xfrm flipH="1" flipV="1">
            <a:off x="2571120" y="2071080"/>
            <a:ext cx="786600" cy="314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32" name="Прямая со стрелкой 11"/>
          <p:cNvCxnSpPr/>
          <p:nvPr/>
        </p:nvCxnSpPr>
        <p:spPr>
          <a:xfrm flipV="1">
            <a:off x="784800" y="2142720"/>
            <a:ext cx="1143720" cy="2929680"/>
          </a:xfrm>
          <a:prstGeom prst="straightConnector1">
            <a:avLst/>
          </a:prstGeom>
          <a:ln w="38160">
            <a:solidFill>
              <a:srgbClr val="f07f09"/>
            </a:solidFill>
            <a:miter/>
            <a:tailEnd len="med" type="triangle" w="med"/>
          </a:ln>
        </p:spPr>
      </p:cxnSp>
      <p:sp>
        <p:nvSpPr>
          <p:cNvPr id="533" name="Прямая соединительная линия 21"/>
          <p:cNvSpPr/>
          <p:nvPr/>
        </p:nvSpPr>
        <p:spPr>
          <a:xfrm>
            <a:off x="642960" y="4500720"/>
            <a:ext cx="31431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71280" y="351000"/>
            <a:ext cx="1571760" cy="1935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"/>
          <p:cNvPicPr/>
          <p:nvPr/>
        </p:nvPicPr>
        <p:blipFill>
          <a:blip r:embed="rId2"/>
          <a:srcRect l="0" t="0" r="272" b="0"/>
          <a:stretch/>
        </p:blipFill>
        <p:spPr>
          <a:xfrm>
            <a:off x="3571920" y="4572000"/>
            <a:ext cx="1785960" cy="2000160"/>
          </a:xfrm>
          <a:prstGeom prst="rect">
            <a:avLst/>
          </a:prstGeom>
          <a:ln w="0">
            <a:noFill/>
          </a:ln>
        </p:spPr>
      </p:pic>
      <p:sp>
        <p:nvSpPr>
          <p:cNvPr id="536" name="Дуга 9"/>
          <p:cNvSpPr/>
          <p:nvPr/>
        </p:nvSpPr>
        <p:spPr>
          <a:xfrm rot="11137800">
            <a:off x="2910960" y="4257720"/>
            <a:ext cx="565200" cy="520560"/>
          </a:xfrm>
          <a:custGeom>
            <a:avLst/>
            <a:gdLst/>
            <a:ahLst/>
            <a:rect l="l" t="t" r="r" b="b"/>
            <a:pathLst>
              <a:path stroke="0" w="565150" h="520700">
                <a:moveTo>
                  <a:pt x="166713" y="22891"/>
                </a:moveTo>
                <a:cubicBezTo>
                  <a:pt x="244015" y="-9127"/>
                  <a:pt x="332833" y="-7485"/>
                  <a:pt x="408679" y="27363"/>
                </a:cubicBezTo>
                <a:cubicBezTo>
                  <a:pt x="492355" y="65808"/>
                  <a:pt x="549971" y="139901"/>
                  <a:pt x="562572" y="225264"/>
                </a:cubicBezTo>
                <a:lnTo>
                  <a:pt x="282575" y="260350"/>
                </a:lnTo>
                <a:lnTo>
                  <a:pt x="166713" y="22891"/>
                </a:lnTo>
                <a:close/>
              </a:path>
              <a:path fill="none" w="565150" h="520700">
                <a:moveTo>
                  <a:pt x="166713" y="22891"/>
                </a:moveTo>
                <a:cubicBezTo>
                  <a:pt x="244015" y="-9127"/>
                  <a:pt x="332833" y="-7485"/>
                  <a:pt x="408679" y="27363"/>
                </a:cubicBezTo>
                <a:cubicBezTo>
                  <a:pt x="492355" y="65808"/>
                  <a:pt x="549971" y="139901"/>
                  <a:pt x="562572" y="225264"/>
                </a:cubicBezTo>
              </a:path>
            </a:pathLst>
          </a:custGeom>
          <a:solidFill>
            <a:srgbClr val="cc1a51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Дуга 12"/>
          <p:cNvSpPr/>
          <p:nvPr/>
        </p:nvSpPr>
        <p:spPr>
          <a:xfrm rot="12427800">
            <a:off x="1478880" y="2485800"/>
            <a:ext cx="398520" cy="628560"/>
          </a:xfrm>
          <a:custGeom>
            <a:avLst/>
            <a:gdLst/>
            <a:ahLst/>
            <a:rect l="l" t="t" r="r" b="b"/>
            <a:pathLst>
              <a:path stroke="0" w="398463" h="628650">
                <a:moveTo>
                  <a:pt x="187717" y="525"/>
                </a:moveTo>
                <a:cubicBezTo>
                  <a:pt x="276868" y="-7617"/>
                  <a:pt x="358564" y="78826"/>
                  <a:pt x="387621" y="212047"/>
                </a:cubicBezTo>
                <a:lnTo>
                  <a:pt x="199232" y="314325"/>
                </a:lnTo>
                <a:lnTo>
                  <a:pt x="187717" y="525"/>
                </a:lnTo>
                <a:close/>
              </a:path>
              <a:path fill="none" w="398463" h="628650">
                <a:moveTo>
                  <a:pt x="187717" y="525"/>
                </a:moveTo>
                <a:cubicBezTo>
                  <a:pt x="276868" y="-7617"/>
                  <a:pt x="358564" y="78826"/>
                  <a:pt x="387621" y="212047"/>
                </a:cubicBezTo>
              </a:path>
            </a:pathLst>
          </a:custGeom>
          <a:solidFill>
            <a:srgbClr val="f9b268"/>
          </a:solidFill>
          <a:ln w="936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Дуга 14"/>
          <p:cNvSpPr/>
          <p:nvPr/>
        </p:nvSpPr>
        <p:spPr>
          <a:xfrm rot="12427800">
            <a:off x="760320" y="4213080"/>
            <a:ext cx="478080" cy="635040"/>
          </a:xfrm>
          <a:custGeom>
            <a:avLst/>
            <a:gdLst/>
            <a:ahLst/>
            <a:rect l="l" t="t" r="r" b="b"/>
            <a:pathLst>
              <a:path stroke="0" w="477837" h="635000">
                <a:moveTo>
                  <a:pt x="204337" y="3343"/>
                </a:moveTo>
                <a:cubicBezTo>
                  <a:pt x="313025" y="-17786"/>
                  <a:pt x="418550" y="62292"/>
                  <a:pt x="460092" y="197423"/>
                </a:cubicBezTo>
                <a:lnTo>
                  <a:pt x="238919" y="317500"/>
                </a:lnTo>
                <a:lnTo>
                  <a:pt x="204337" y="3343"/>
                </a:lnTo>
                <a:close/>
              </a:path>
              <a:path fill="none" w="477837" h="635000">
                <a:moveTo>
                  <a:pt x="204337" y="3343"/>
                </a:moveTo>
                <a:cubicBezTo>
                  <a:pt x="313025" y="-17786"/>
                  <a:pt x="418550" y="62292"/>
                  <a:pt x="460092" y="197423"/>
                </a:cubicBezTo>
              </a:path>
            </a:pathLst>
          </a:custGeom>
          <a:solidFill>
            <a:srgbClr val="f9b268"/>
          </a:solidFill>
          <a:ln w="936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Дуга 15"/>
          <p:cNvSpPr/>
          <p:nvPr/>
        </p:nvSpPr>
        <p:spPr>
          <a:xfrm rot="4900200">
            <a:off x="2464200" y="2602440"/>
            <a:ext cx="574920" cy="423720"/>
          </a:xfrm>
          <a:custGeom>
            <a:avLst/>
            <a:gdLst/>
            <a:ahLst/>
            <a:rect l="l" t="t" r="r" b="b"/>
            <a:pathLst>
              <a:path stroke="0" w="574675" h="423863">
                <a:moveTo>
                  <a:pt x="309373" y="624"/>
                </a:moveTo>
                <a:cubicBezTo>
                  <a:pt x="436543" y="7838"/>
                  <a:pt x="542044" y="76020"/>
                  <a:pt x="568450" y="168055"/>
                </a:cubicBezTo>
                <a:lnTo>
                  <a:pt x="287338" y="211932"/>
                </a:lnTo>
                <a:lnTo>
                  <a:pt x="309373" y="624"/>
                </a:lnTo>
                <a:close/>
              </a:path>
              <a:path fill="none" w="574675" h="423863">
                <a:moveTo>
                  <a:pt x="309373" y="624"/>
                </a:moveTo>
                <a:cubicBezTo>
                  <a:pt x="436543" y="7838"/>
                  <a:pt x="542044" y="76020"/>
                  <a:pt x="568450" y="168055"/>
                </a:cubicBezTo>
              </a:path>
            </a:pathLst>
          </a:custGeom>
          <a:solidFill>
            <a:srgbClr val="00b050"/>
          </a:solidFill>
          <a:ln w="936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ая соединительная линия 17"/>
          <p:cNvSpPr/>
          <p:nvPr/>
        </p:nvSpPr>
        <p:spPr>
          <a:xfrm>
            <a:off x="2751120" y="2814480"/>
            <a:ext cx="1440" cy="18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57120" y="1785960"/>
            <a:ext cx="8102520" cy="3786120"/>
          </a:xfrm>
          <a:prstGeom prst="rect">
            <a:avLst/>
          </a:prstGeom>
          <a:ln w="0">
            <a:noFill/>
          </a:ln>
        </p:spPr>
      </p:pic>
      <p:pic>
        <p:nvPicPr>
          <p:cNvPr id="543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463680"/>
            <a:ext cx="7023240" cy="154116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5"/>
          <p:cNvSpPr/>
          <p:nvPr/>
        </p:nvSpPr>
        <p:spPr>
          <a:xfrm>
            <a:off x="5508000" y="585792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люзія Поггерфор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1"/>
          <a:srcRect l="0" t="0" r="-65" b="-87"/>
          <a:stretch/>
        </p:blipFill>
        <p:spPr>
          <a:xfrm>
            <a:off x="1071720" y="1714680"/>
            <a:ext cx="6713280" cy="4203360"/>
          </a:xfrm>
          <a:prstGeom prst="rect">
            <a:avLst/>
          </a:prstGeom>
          <a:ln w="0">
            <a:noFill/>
          </a:ln>
        </p:spPr>
      </p:pic>
      <p:pic>
        <p:nvPicPr>
          <p:cNvPr id="546" name="Прямоугольник 4" descr=""/>
          <p:cNvPicPr/>
          <p:nvPr/>
        </p:nvPicPr>
        <p:blipFill>
          <a:blip r:embed="rId2"/>
          <a:stretch/>
        </p:blipFill>
        <p:spPr>
          <a:xfrm>
            <a:off x="785880" y="500040"/>
            <a:ext cx="743112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3458880" cy="4689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7" descr=""/>
          <p:cNvPicPr/>
          <p:nvPr/>
        </p:nvPicPr>
        <p:blipFill>
          <a:blip r:embed="rId2"/>
          <a:stretch/>
        </p:blipFill>
        <p:spPr>
          <a:xfrm>
            <a:off x="4714920" y="1643040"/>
            <a:ext cx="3036960" cy="4863960"/>
          </a:xfrm>
          <a:prstGeom prst="rect">
            <a:avLst/>
          </a:prstGeom>
          <a:ln w="0">
            <a:noFill/>
          </a:ln>
        </p:spPr>
      </p:pic>
      <p:pic>
        <p:nvPicPr>
          <p:cNvPr id="549" name="Прямоугольник 5" descr=""/>
          <p:cNvPicPr/>
          <p:nvPr/>
        </p:nvPicPr>
        <p:blipFill>
          <a:blip r:embed="rId3"/>
          <a:stretch/>
        </p:blipFill>
        <p:spPr>
          <a:xfrm>
            <a:off x="285840" y="798480"/>
            <a:ext cx="86454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1928880" y="1785960"/>
            <a:ext cx="4572000" cy="4599000"/>
          </a:xfrm>
          <a:prstGeom prst="rect">
            <a:avLst/>
          </a:prstGeom>
          <a:ln w="76320">
            <a:solidFill>
              <a:srgbClr val="d96b77"/>
            </a:solidFill>
            <a:miter/>
          </a:ln>
        </p:spPr>
      </p:pic>
      <p:pic>
        <p:nvPicPr>
          <p:cNvPr id="551" name="Прямоугольник 3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65898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28760" y="4929120"/>
            <a:ext cx="8286480" cy="1000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bfbfb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e8ce72"/>
                </a:solidFill>
                <a:latin typeface="Elephant"/>
              </a:rPr>
              <a:t>Р Е Й С Ш И Н А</a:t>
            </a:r>
            <a:endParaRPr b="1" lang="en-US" sz="6000" spc="-1" strike="noStrike">
              <a:solidFill>
                <a:srgbClr val="e8ce72"/>
              </a:solidFill>
              <a:latin typeface="Elephant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rcRect l="0" t="0" r="110" b="-167"/>
          <a:stretch/>
        </p:blipFill>
        <p:spPr>
          <a:xfrm>
            <a:off x="1357200" y="428760"/>
            <a:ext cx="5572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28760" y="500040"/>
            <a:ext cx="8183520" cy="5399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23b7e"/>
                </a:solidFill>
                <a:latin typeface="Cambria"/>
              </a:rPr>
              <a:t>            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5" name="Прямоугольник 3" descr=""/>
          <p:cNvPicPr/>
          <p:nvPr/>
        </p:nvPicPr>
        <p:blipFill>
          <a:blip r:embed="rId1"/>
          <a:stretch/>
        </p:blipFill>
        <p:spPr>
          <a:xfrm>
            <a:off x="712800" y="2120760"/>
            <a:ext cx="100839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Мета та задачі уроку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437" name="Содержимое 16" descr=""/>
          <p:cNvPicPr/>
          <p:nvPr/>
        </p:nvPicPr>
        <p:blipFill>
          <a:blip r:embed="rId1"/>
          <a:stretch/>
        </p:blipFill>
        <p:spPr>
          <a:xfrm>
            <a:off x="890640" y="1816200"/>
            <a:ext cx="78627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86480" cy="785520"/>
          </a:xfrm>
          <a:prstGeom prst="rect">
            <a:avLst/>
          </a:prstGeom>
          <a:solidFill>
            <a:srgbClr val="cda3d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e8ce72"/>
                </a:solidFill>
                <a:latin typeface="Elephant"/>
              </a:rPr>
              <a:t>Література</a:t>
            </a:r>
            <a:r>
              <a:rPr b="1" lang="uk-UA" sz="3600" spc="-1" strike="noStrike">
                <a:solidFill>
                  <a:srgbClr val="e8ce72"/>
                </a:solidFill>
                <a:latin typeface="Elephant"/>
              </a:rPr>
              <a:t> </a:t>
            </a:r>
            <a:endParaRPr b="1" lang="en-US" sz="3600" spc="-1" strike="noStrike">
              <a:solidFill>
                <a:srgbClr val="e8ce72"/>
              </a:solidFill>
              <a:latin typeface="Elephan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502920" y="1500120"/>
            <a:ext cx="8069400" cy="4286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2009a"/>
                </a:solidFill>
                <a:latin typeface="Verdana"/>
              </a:rPr>
              <a:t>Істер О.С. </a:t>
            </a:r>
            <a:r>
              <a:rPr b="0" lang="uk-UA" sz="1600" spc="-1" strike="noStrike">
                <a:solidFill>
                  <a:srgbClr val="72009a"/>
                </a:solidFill>
                <a:latin typeface="Verdana"/>
              </a:rPr>
              <a:t>Геометрія: Підруч. для 7 кл. загальноосвіт. навч. закл. – К.:Освіта, 2007. – 159 с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2009a"/>
                </a:solidFill>
                <a:latin typeface="Verdana"/>
              </a:rPr>
              <a:t>Мерзляк А.Г., Полонський В.Б., Рабінович Ю.М., Якір М.С. </a:t>
            </a:r>
            <a:r>
              <a:rPr b="0" lang="uk-UA" sz="1600" spc="-1" strike="noStrike">
                <a:solidFill>
                  <a:srgbClr val="72009a"/>
                </a:solidFill>
                <a:latin typeface="Verdana"/>
              </a:rPr>
              <a:t>Збірник задач і завдань для тематичного оцінювання з геометрії для 7 класу. – Х.: 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«</a:t>
            </a:r>
            <a:r>
              <a:rPr b="0" lang="uk-UA" sz="1600" spc="-1" strike="noStrike">
                <a:solidFill>
                  <a:srgbClr val="72009a"/>
                </a:solidFill>
                <a:latin typeface="Verdana"/>
              </a:rPr>
              <a:t>Гімназія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»</a:t>
            </a:r>
            <a:r>
              <a:rPr b="0" lang="uk-UA" sz="1600" spc="-1" strike="noStrike">
                <a:solidFill>
                  <a:srgbClr val="72009a"/>
                </a:solidFill>
                <a:latin typeface="Verdana"/>
              </a:rPr>
              <a:t>, 2007. – 112 с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009a"/>
                </a:solidFill>
                <a:latin typeface="Verdana"/>
              </a:rPr>
              <a:t>Рабінович Ю.М. 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Задачі і вправи на готових кресленнях. – Х.: Гімназія, 1998. – 64 с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009a"/>
                </a:solidFill>
                <a:latin typeface="Verdana"/>
              </a:rPr>
              <a:t>Сосницька  В.А. 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Завдання для усної роботи та математичні диктанти. Геометрія. 7 клас.–Х.: Вид. Група «Основа», 2006. – 112 с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72009a"/>
                </a:solidFill>
                <a:latin typeface="Verdana"/>
              </a:rPr>
              <a:t>Разбеглов Ю.Г. </a:t>
            </a:r>
            <a:r>
              <a:rPr b="0" lang="uk-UA" sz="1600" spc="-1" strike="noStrike">
                <a:solidFill>
                  <a:srgbClr val="72009a"/>
                </a:solidFill>
                <a:latin typeface="Verdana"/>
              </a:rPr>
              <a:t>Тетрадь с печатной основой по 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геометрии для 7-х классов. – Х.: УМЦ «Школьник», 1995.-124 с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2009a"/>
                </a:solidFill>
                <a:latin typeface="Verdana"/>
              </a:rPr>
              <a:t>Вадченко Н.Л., Хаткина Н.В.  </a:t>
            </a:r>
            <a:r>
              <a:rPr b="0" lang="ru-RU" sz="1600" spc="-1" strike="noStrike">
                <a:solidFill>
                  <a:srgbClr val="72009a"/>
                </a:solidFill>
                <a:latin typeface="Verdana"/>
              </a:rPr>
              <a:t>600 задач на сообразительность. – Д.: Сталкер, 2000. – 512 с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Які прямі зображено на малюнку?</a:t>
            </a: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b  c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                        n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                                 m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Прямая соединительная линия 4"/>
          <p:cNvSpPr/>
          <p:nvPr/>
        </p:nvSpPr>
        <p:spPr>
          <a:xfrm flipV="1">
            <a:off x="856440" y="2000160"/>
            <a:ext cx="1500120" cy="157176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ая соединительная линия 6"/>
          <p:cNvSpPr/>
          <p:nvPr/>
        </p:nvSpPr>
        <p:spPr>
          <a:xfrm flipH="1">
            <a:off x="1356840" y="2428200"/>
            <a:ext cx="2071800" cy="1143000"/>
          </a:xfrm>
          <a:prstGeom prst="line">
            <a:avLst/>
          </a:prstGeom>
          <a:ln w="349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7"/>
          <p:cNvSpPr/>
          <p:nvPr/>
        </p:nvSpPr>
        <p:spPr>
          <a:xfrm>
            <a:off x="5929200" y="2143080"/>
            <a:ext cx="2214720" cy="100008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15"/>
          <p:cNvSpPr/>
          <p:nvPr/>
        </p:nvSpPr>
        <p:spPr>
          <a:xfrm>
            <a:off x="5643720" y="2571840"/>
            <a:ext cx="2500200" cy="107136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ая соединительная линия 17"/>
          <p:cNvSpPr/>
          <p:nvPr/>
        </p:nvSpPr>
        <p:spPr>
          <a:xfrm flipH="1">
            <a:off x="7071840" y="3929040"/>
            <a:ext cx="1800" cy="22860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ая соединительная линия 22"/>
          <p:cNvSpPr/>
          <p:nvPr/>
        </p:nvSpPr>
        <p:spPr>
          <a:xfrm flipH="1">
            <a:off x="7429680" y="3857760"/>
            <a:ext cx="1440" cy="235728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24"/>
          <p:cNvSpPr/>
          <p:nvPr/>
        </p:nvSpPr>
        <p:spPr>
          <a:xfrm flipH="1">
            <a:off x="6714720" y="3930480"/>
            <a:ext cx="1800" cy="228456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ая соединительная линия 28"/>
          <p:cNvSpPr/>
          <p:nvPr/>
        </p:nvSpPr>
        <p:spPr>
          <a:xfrm>
            <a:off x="3785400" y="3857760"/>
            <a:ext cx="71640" cy="2071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30"/>
          <p:cNvSpPr/>
          <p:nvPr/>
        </p:nvSpPr>
        <p:spPr>
          <a:xfrm>
            <a:off x="2857680" y="4714920"/>
            <a:ext cx="2071440" cy="1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35"/>
          <p:cNvSpPr/>
          <p:nvPr/>
        </p:nvSpPr>
        <p:spPr>
          <a:xfrm flipH="1">
            <a:off x="571680" y="4143240"/>
            <a:ext cx="1643040" cy="1571760"/>
          </a:xfrm>
          <a:prstGeom prst="line">
            <a:avLst/>
          </a:prstGeom>
          <a:ln w="349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36"/>
          <p:cNvSpPr/>
          <p:nvPr/>
        </p:nvSpPr>
        <p:spPr>
          <a:xfrm flipH="1" flipV="1">
            <a:off x="571680" y="4643280"/>
            <a:ext cx="1643040" cy="500400"/>
          </a:xfrm>
          <a:prstGeom prst="line">
            <a:avLst/>
          </a:prstGeom>
          <a:ln w="3492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23232"/>
                </a:solidFill>
                <a:latin typeface="Cambria"/>
              </a:rPr>
              <a:t>Продовжити речення:</a:t>
            </a:r>
            <a:br>
              <a:rPr sz="3000"/>
            </a:br>
            <a:r>
              <a:rPr b="0" i="1" lang="uk-UA" sz="2500" spc="-1" strike="noStrike">
                <a:solidFill>
                  <a:srgbClr val="323232"/>
                </a:solidFill>
                <a:latin typeface="Arial Narrow"/>
              </a:rPr>
              <a:t>при перетині двох  прямих січною утворилися кути</a:t>
            </a:r>
            <a:endParaRPr b="0" lang="en-US" sz="25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0520" y="2000160"/>
            <a:ext cx="84013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</a:t>
            </a: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       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a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i="1" lang="ru-RU" sz="15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uk-UA" sz="1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uk-UA" sz="15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3b6431"/>
                </a:solidFill>
                <a:latin typeface="Times New Roman"/>
                <a:ea typeface="Times New Roman"/>
              </a:rPr>
              <a:t>               </a:t>
            </a:r>
            <a:r>
              <a:rPr b="1" lang="uk-UA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                                                                                               </a:t>
            </a:r>
            <a:r>
              <a:rPr b="1" lang="uk-UA" sz="15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ішні односторонні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uk-UA" sz="2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внутрішні різносторонні</a:t>
            </a:r>
            <a:r>
              <a:rPr b="1" i="1" lang="en-US" sz="2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 </a:t>
            </a:r>
            <a:r>
              <a:rPr b="1" i="1" lang="en-US" sz="15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1" i="1" lang="uk-UA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              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i="1" lang="uk-UA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i="1" lang="uk-UA" sz="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uk-UA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ідповідні</a:t>
            </a: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Прямая соединительная линия 4"/>
          <p:cNvSpPr/>
          <p:nvPr/>
        </p:nvSpPr>
        <p:spPr>
          <a:xfrm flipV="1">
            <a:off x="785880" y="2286000"/>
            <a:ext cx="2500200" cy="35712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ая соединительная линия 6"/>
          <p:cNvSpPr/>
          <p:nvPr/>
        </p:nvSpPr>
        <p:spPr>
          <a:xfrm>
            <a:off x="714240" y="3286080"/>
            <a:ext cx="2643480" cy="18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ая соединительная линия 8"/>
          <p:cNvSpPr/>
          <p:nvPr/>
        </p:nvSpPr>
        <p:spPr>
          <a:xfrm flipH="1">
            <a:off x="1357200" y="2000160"/>
            <a:ext cx="1000080" cy="157176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12"/>
          <p:cNvSpPr/>
          <p:nvPr/>
        </p:nvSpPr>
        <p:spPr>
          <a:xfrm flipV="1">
            <a:off x="5072040" y="2428560"/>
            <a:ext cx="2714760" cy="2142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14"/>
          <p:cNvSpPr/>
          <p:nvPr/>
        </p:nvSpPr>
        <p:spPr>
          <a:xfrm>
            <a:off x="5072040" y="3214800"/>
            <a:ext cx="2714760" cy="1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18"/>
          <p:cNvSpPr/>
          <p:nvPr/>
        </p:nvSpPr>
        <p:spPr>
          <a:xfrm flipH="1">
            <a:off x="6072120" y="2000160"/>
            <a:ext cx="1000080" cy="150012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ая соединительная линия 20"/>
          <p:cNvSpPr/>
          <p:nvPr/>
        </p:nvSpPr>
        <p:spPr>
          <a:xfrm>
            <a:off x="2500200" y="4500720"/>
            <a:ext cx="2428920" cy="2156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22"/>
          <p:cNvSpPr/>
          <p:nvPr/>
        </p:nvSpPr>
        <p:spPr>
          <a:xfrm>
            <a:off x="2500200" y="5214960"/>
            <a:ext cx="2500560" cy="1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ая соединительная линия 32"/>
          <p:cNvSpPr/>
          <p:nvPr/>
        </p:nvSpPr>
        <p:spPr>
          <a:xfrm flipH="1">
            <a:off x="3143160" y="4000680"/>
            <a:ext cx="1000080" cy="15714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Дуга 19"/>
          <p:cNvSpPr/>
          <p:nvPr/>
        </p:nvSpPr>
        <p:spPr>
          <a:xfrm rot="14716800">
            <a:off x="6005160" y="2947320"/>
            <a:ext cx="517680" cy="498600"/>
          </a:xfrm>
          <a:custGeom>
            <a:avLst/>
            <a:gdLst/>
            <a:ahLst/>
            <a:rect l="l" t="t" r="r" b="b"/>
            <a:pathLst>
              <a:path stroke="0" w="517525" h="498475">
                <a:moveTo>
                  <a:pt x="359160" y="19524"/>
                </a:moveTo>
                <a:cubicBezTo>
                  <a:pt x="449114" y="55998"/>
                  <a:pt x="510109" y="138120"/>
                  <a:pt x="516898" y="231900"/>
                </a:cubicBezTo>
                <a:cubicBezTo>
                  <a:pt x="523739" y="326398"/>
                  <a:pt x="474372" y="416463"/>
                  <a:pt x="389501" y="464324"/>
                </a:cubicBezTo>
                <a:lnTo>
                  <a:pt x="258763" y="249238"/>
                </a:lnTo>
                <a:lnTo>
                  <a:pt x="359160" y="19524"/>
                </a:lnTo>
                <a:close/>
              </a:path>
              <a:path fill="none" w="517525" h="498475">
                <a:moveTo>
                  <a:pt x="359160" y="19524"/>
                </a:moveTo>
                <a:cubicBezTo>
                  <a:pt x="449114" y="55998"/>
                  <a:pt x="510109" y="138120"/>
                  <a:pt x="516898" y="231900"/>
                </a:cubicBezTo>
                <a:cubicBezTo>
                  <a:pt x="523739" y="326398"/>
                  <a:pt x="474372" y="416463"/>
                  <a:pt x="389501" y="464324"/>
                </a:cubicBezTo>
              </a:path>
            </a:pathLst>
          </a:custGeom>
          <a:solidFill>
            <a:srgbClr val="854d47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ая соединительная линия 30"/>
          <p:cNvSpPr/>
          <p:nvPr/>
        </p:nvSpPr>
        <p:spPr>
          <a:xfrm flipH="1">
            <a:off x="6013080" y="3197160"/>
            <a:ext cx="250920" cy="468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ая соединительная линия 35"/>
          <p:cNvSpPr/>
          <p:nvPr/>
        </p:nvSpPr>
        <p:spPr>
          <a:xfrm flipH="1">
            <a:off x="6264360" y="2989440"/>
            <a:ext cx="139680" cy="207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Дуга 85"/>
          <p:cNvSpPr/>
          <p:nvPr/>
        </p:nvSpPr>
        <p:spPr>
          <a:xfrm rot="3972000">
            <a:off x="6470280" y="2259000"/>
            <a:ext cx="544320" cy="496800"/>
          </a:xfrm>
          <a:custGeom>
            <a:avLst/>
            <a:gdLst/>
            <a:ahLst/>
            <a:rect l="l" t="t" r="r" b="b"/>
            <a:pathLst>
              <a:path stroke="0" w="544513" h="496887">
                <a:moveTo>
                  <a:pt x="343796" y="8730"/>
                </a:moveTo>
                <a:cubicBezTo>
                  <a:pt x="446650" y="34291"/>
                  <a:pt x="523695" y="112276"/>
                  <a:pt x="540931" y="208272"/>
                </a:cubicBezTo>
                <a:cubicBezTo>
                  <a:pt x="558891" y="308299"/>
                  <a:pt x="508461" y="408253"/>
                  <a:pt x="413501" y="460838"/>
                </a:cubicBezTo>
                <a:lnTo>
                  <a:pt x="272257" y="248444"/>
                </a:lnTo>
                <a:lnTo>
                  <a:pt x="343796" y="8730"/>
                </a:lnTo>
                <a:close/>
              </a:path>
              <a:path fill="none" w="544513" h="496887">
                <a:moveTo>
                  <a:pt x="343796" y="8730"/>
                </a:moveTo>
                <a:cubicBezTo>
                  <a:pt x="446650" y="34291"/>
                  <a:pt x="523695" y="112276"/>
                  <a:pt x="540931" y="208272"/>
                </a:cubicBezTo>
                <a:cubicBezTo>
                  <a:pt x="558891" y="308299"/>
                  <a:pt x="508461" y="408253"/>
                  <a:pt x="413501" y="460838"/>
                </a:cubicBezTo>
              </a:path>
            </a:pathLst>
          </a:custGeom>
          <a:solidFill>
            <a:srgbClr val="854d47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Дуга 86"/>
          <p:cNvSpPr/>
          <p:nvPr/>
        </p:nvSpPr>
        <p:spPr>
          <a:xfrm rot="14716800">
            <a:off x="1246680" y="3029400"/>
            <a:ext cx="603360" cy="573120"/>
          </a:xfrm>
          <a:custGeom>
            <a:avLst/>
            <a:gdLst/>
            <a:ahLst/>
            <a:rect l="l" t="t" r="r" b="b"/>
            <a:pathLst>
              <a:path stroke="0" w="603250" h="573087">
                <a:moveTo>
                  <a:pt x="424286" y="24764"/>
                </a:moveTo>
                <a:cubicBezTo>
                  <a:pt x="527589" y="68449"/>
                  <a:pt x="596495" y="163353"/>
                  <a:pt x="602783" y="270608"/>
                </a:cubicBezTo>
                <a:cubicBezTo>
                  <a:pt x="609123" y="378749"/>
                  <a:pt x="550739" y="481046"/>
                  <a:pt x="451883" y="535001"/>
                </a:cubicBezTo>
                <a:lnTo>
                  <a:pt x="301625" y="286544"/>
                </a:lnTo>
                <a:lnTo>
                  <a:pt x="424286" y="24764"/>
                </a:lnTo>
                <a:close/>
              </a:path>
              <a:path fill="none" w="603250" h="573087">
                <a:moveTo>
                  <a:pt x="424286" y="24764"/>
                </a:moveTo>
                <a:cubicBezTo>
                  <a:pt x="527589" y="68449"/>
                  <a:pt x="596495" y="163353"/>
                  <a:pt x="602783" y="270608"/>
                </a:cubicBezTo>
                <a:cubicBezTo>
                  <a:pt x="609123" y="378749"/>
                  <a:pt x="550739" y="481046"/>
                  <a:pt x="451883" y="535001"/>
                </a:cubicBezTo>
              </a:path>
            </a:pathLst>
          </a:custGeom>
          <a:solidFill>
            <a:srgbClr val="ff0000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Дуга 87"/>
          <p:cNvSpPr/>
          <p:nvPr/>
        </p:nvSpPr>
        <p:spPr>
          <a:xfrm rot="9118800">
            <a:off x="1743840" y="2142720"/>
            <a:ext cx="684360" cy="600120"/>
          </a:xfrm>
          <a:custGeom>
            <a:avLst/>
            <a:gdLst/>
            <a:ahLst/>
            <a:rect l="l" t="t" r="r" b="b"/>
            <a:pathLst>
              <a:path stroke="0" w="684212" h="600075">
                <a:moveTo>
                  <a:pt x="629601" y="137412"/>
                </a:moveTo>
                <a:cubicBezTo>
                  <a:pt x="687043" y="215522"/>
                  <a:pt x="699966" y="312569"/>
                  <a:pt x="664592" y="400185"/>
                </a:cubicBezTo>
                <a:lnTo>
                  <a:pt x="342106" y="300038"/>
                </a:lnTo>
                <a:lnTo>
                  <a:pt x="629601" y="137412"/>
                </a:lnTo>
                <a:close/>
              </a:path>
              <a:path fill="none" w="684212" h="600075">
                <a:moveTo>
                  <a:pt x="629601" y="137412"/>
                </a:moveTo>
                <a:cubicBezTo>
                  <a:pt x="687043" y="215522"/>
                  <a:pt x="699966" y="312569"/>
                  <a:pt x="664592" y="400185"/>
                </a:cubicBezTo>
              </a:path>
            </a:pathLst>
          </a:custGeom>
          <a:solidFill>
            <a:srgbClr val="ff0000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Дуга 93"/>
          <p:cNvSpPr/>
          <p:nvPr/>
        </p:nvSpPr>
        <p:spPr>
          <a:xfrm rot="14338800">
            <a:off x="3161880" y="4941720"/>
            <a:ext cx="362160" cy="584280"/>
          </a:xfrm>
          <a:custGeom>
            <a:avLst/>
            <a:gdLst/>
            <a:ahLst/>
            <a:rect l="l" t="t" r="r" b="b"/>
            <a:pathLst>
              <a:path stroke="0" w="361950" h="584200">
                <a:moveTo>
                  <a:pt x="325835" y="117012"/>
                </a:moveTo>
                <a:cubicBezTo>
                  <a:pt x="352348" y="174156"/>
                  <a:pt x="364976" y="244993"/>
                  <a:pt x="361336" y="316141"/>
                </a:cubicBezTo>
                <a:cubicBezTo>
                  <a:pt x="357020" y="400498"/>
                  <a:pt x="330244" y="477684"/>
                  <a:pt x="287943" y="527714"/>
                </a:cubicBezTo>
                <a:lnTo>
                  <a:pt x="180975" y="292100"/>
                </a:lnTo>
                <a:lnTo>
                  <a:pt x="325835" y="117012"/>
                </a:lnTo>
                <a:close/>
              </a:path>
              <a:path fill="none" w="361950" h="584200">
                <a:moveTo>
                  <a:pt x="325835" y="117012"/>
                </a:moveTo>
                <a:cubicBezTo>
                  <a:pt x="352348" y="174156"/>
                  <a:pt x="364976" y="244993"/>
                  <a:pt x="361336" y="316141"/>
                </a:cubicBezTo>
                <a:cubicBezTo>
                  <a:pt x="357020" y="400498"/>
                  <a:pt x="330244" y="477684"/>
                  <a:pt x="287943" y="527714"/>
                </a:cubicBezTo>
              </a:path>
            </a:pathLst>
          </a:custGeom>
          <a:solidFill>
            <a:srgbClr val="00b0f0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Дуга 94"/>
          <p:cNvSpPr/>
          <p:nvPr/>
        </p:nvSpPr>
        <p:spPr>
          <a:xfrm rot="15148800">
            <a:off x="3597840" y="4338720"/>
            <a:ext cx="353880" cy="536760"/>
          </a:xfrm>
          <a:custGeom>
            <a:avLst/>
            <a:gdLst/>
            <a:ahLst/>
            <a:rect l="l" t="t" r="r" b="b"/>
            <a:pathLst>
              <a:path stroke="0" w="354012" h="536575">
                <a:moveTo>
                  <a:pt x="271148" y="41092"/>
                </a:moveTo>
                <a:cubicBezTo>
                  <a:pt x="314757" y="82605"/>
                  <a:pt x="344276" y="150845"/>
                  <a:pt x="352006" y="228014"/>
                </a:cubicBezTo>
                <a:cubicBezTo>
                  <a:pt x="358089" y="288736"/>
                  <a:pt x="350242" y="350783"/>
                  <a:pt x="329776" y="403791"/>
                </a:cubicBezTo>
                <a:lnTo>
                  <a:pt x="177006" y="268288"/>
                </a:lnTo>
                <a:lnTo>
                  <a:pt x="271148" y="41092"/>
                </a:lnTo>
                <a:close/>
              </a:path>
              <a:path fill="none" w="354012" h="536575">
                <a:moveTo>
                  <a:pt x="271148" y="41092"/>
                </a:moveTo>
                <a:cubicBezTo>
                  <a:pt x="314757" y="82605"/>
                  <a:pt x="344276" y="150845"/>
                  <a:pt x="352006" y="228014"/>
                </a:cubicBezTo>
                <a:cubicBezTo>
                  <a:pt x="358089" y="288736"/>
                  <a:pt x="350242" y="350783"/>
                  <a:pt x="329776" y="403791"/>
                </a:cubicBezTo>
              </a:path>
            </a:pathLst>
          </a:custGeom>
          <a:solidFill>
            <a:srgbClr val="00b0f0">
              <a:alpha val="41000"/>
            </a:srgbClr>
          </a:solidFill>
          <a:ln w="9360">
            <a:solidFill>
              <a:srgbClr val="dac1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95"/>
          <p:cNvSpPr/>
          <p:nvPr/>
        </p:nvSpPr>
        <p:spPr>
          <a:xfrm>
            <a:off x="2143080" y="2286000"/>
            <a:ext cx="285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1a51"/>
                </a:solidFill>
                <a:latin typeface="Cambria"/>
              </a:rPr>
              <a:t>Ознаки паралельності прямих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1.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Якщо при перетині двох прямих січною відповідні кути рівні, то прямі паралельні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2. Якщо при перетині двох прямих січною внутрішні різносторонні кути рівні, то прямі паралельні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57480" indent="-250200" algn="just">
              <a:lnSpc>
                <a:spcPct val="80000"/>
              </a:lnSpc>
              <a:spcBef>
                <a:spcPts val="300"/>
              </a:spcBef>
              <a:buClr>
                <a:srgbClr val="1b587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3. Якщо при перетині двох прямих січною сума внутрішніх односторонніх кутів дорівнює 180</a:t>
            </a:r>
            <a:r>
              <a:rPr b="0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,   то прямі паралельні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85840" y="704520"/>
            <a:ext cx="840096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Тест-контроль теоретичних знань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41240"/>
            <a:ext cx="8229600" cy="5002200"/>
          </a:xfrm>
          <a:prstGeom prst="rect">
            <a:avLst/>
          </a:prstGeom>
          <a:noFill/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90000"/>
          </a:bodyPr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                    </a:t>
            </a: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1    6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                                                                                    </a:t>
            </a: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8    3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buClr>
                <a:srgbClr val="1b587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иберіть вірні твердження:                     </a:t>
            </a: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5    7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а)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ертикальні;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uk-UA" sz="2800" spc="-1" strike="noStrike">
                <a:solidFill>
                  <a:srgbClr val="c00000"/>
                </a:solidFill>
                <a:latin typeface="Cambria"/>
              </a:rPr>
              <a:t>4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б)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нутрішні односторонні;         </a:t>
            </a: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в)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ідповідні;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г)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суміжні;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д)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нутрішні односторонні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е)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нутрішні різносторонні;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ж)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і 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</a:rPr>
              <a:t> – внутрішні різносторонні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5" name="Прямая соединительная линия 3"/>
          <p:cNvSpPr/>
          <p:nvPr/>
        </p:nvSpPr>
        <p:spPr>
          <a:xfrm>
            <a:off x="6072120" y="2071800"/>
            <a:ext cx="2786040" cy="144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ая соединительная линия 4"/>
          <p:cNvSpPr/>
          <p:nvPr/>
        </p:nvSpPr>
        <p:spPr>
          <a:xfrm>
            <a:off x="6143760" y="3000240"/>
            <a:ext cx="2643120" cy="18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5"/>
          <p:cNvSpPr/>
          <p:nvPr/>
        </p:nvSpPr>
        <p:spPr>
          <a:xfrm flipV="1">
            <a:off x="6857280" y="1428480"/>
            <a:ext cx="857160" cy="25002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47" dur="500" autoRev="1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48" dur="500" autoRev="1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53" dur="500" autoRev="1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500" autoRev="1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59" dur="500" autoRev="1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60" dur="500" autoRev="1" fill="hold"/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500" autoRev="1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65" dur="500" autoRev="1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4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500" autoRev="1" fill="hold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71" dur="500" autoRev="1" fill="hold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4,41,-97)"/>
                                      </p:to>
                                    </p:set>
                                    <p:set>
                                      <p:cBhvr>
                                        <p:cTn id="72" dur="500" autoRev="1" fill="hold"/>
                                        <p:tgtEl>
                                          <p:spTgt spid="4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Чи паралельні прямі </a:t>
            </a:r>
            <a:r>
              <a:rPr b="0" i="1" lang="uk-UA" sz="4000" spc="-1" strike="noStrike">
                <a:solidFill>
                  <a:srgbClr val="323232"/>
                </a:solidFill>
                <a:latin typeface="Cambria"/>
              </a:rPr>
              <a:t>а</a:t>
            </a: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 і </a:t>
            </a:r>
            <a:r>
              <a:rPr b="0" i="1" lang="uk-UA" sz="4000" spc="-1" strike="noStrike">
                <a:solidFill>
                  <a:srgbClr val="323232"/>
                </a:solidFill>
                <a:latin typeface="Cambria"/>
              </a:rPr>
              <a:t>с</a:t>
            </a:r>
            <a:r>
              <a:rPr b="0" lang="uk-UA" sz="4000" spc="-1" strike="noStrike">
                <a:solidFill>
                  <a:srgbClr val="323232"/>
                </a:solidFill>
                <a:latin typeface="Cambria"/>
              </a:rPr>
              <a:t> ?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      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                               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Прямая соединительная линия 4"/>
          <p:cNvSpPr/>
          <p:nvPr/>
        </p:nvSpPr>
        <p:spPr>
          <a:xfrm>
            <a:off x="928800" y="3500280"/>
            <a:ext cx="4929120" cy="18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7"/>
          <p:cNvSpPr/>
          <p:nvPr/>
        </p:nvSpPr>
        <p:spPr>
          <a:xfrm>
            <a:off x="785880" y="4429080"/>
            <a:ext cx="4929120" cy="18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8"/>
          <p:cNvSpPr/>
          <p:nvPr/>
        </p:nvSpPr>
        <p:spPr>
          <a:xfrm flipH="1" flipV="1">
            <a:off x="2214720" y="2357280"/>
            <a:ext cx="2357280" cy="35006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Дуга 16"/>
          <p:cNvSpPr/>
          <p:nvPr/>
        </p:nvSpPr>
        <p:spPr>
          <a:xfrm rot="18296400">
            <a:off x="2755440" y="3215880"/>
            <a:ext cx="443160" cy="506520"/>
          </a:xfrm>
          <a:custGeom>
            <a:avLst/>
            <a:gdLst/>
            <a:ahLst/>
            <a:rect l="l" t="t" r="r" b="b"/>
            <a:pathLst>
              <a:path stroke="0" w="442913" h="506413">
                <a:moveTo>
                  <a:pt x="71901" y="66462"/>
                </a:moveTo>
                <a:cubicBezTo>
                  <a:pt x="136625" y="-1301"/>
                  <a:pt x="230240" y="-18972"/>
                  <a:pt x="310579" y="21409"/>
                </a:cubicBezTo>
                <a:lnTo>
                  <a:pt x="221457" y="253207"/>
                </a:lnTo>
                <a:lnTo>
                  <a:pt x="71901" y="66462"/>
                </a:lnTo>
                <a:close/>
              </a:path>
              <a:path fill="none" w="442913" h="506413">
                <a:moveTo>
                  <a:pt x="71901" y="66462"/>
                </a:moveTo>
                <a:cubicBezTo>
                  <a:pt x="136625" y="-1301"/>
                  <a:pt x="230240" y="-18972"/>
                  <a:pt x="310579" y="21409"/>
                </a:cubicBezTo>
              </a:path>
            </a:pathLst>
          </a:cu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8706000"/>
          </a:gradFill>
          <a:ln w="31680">
            <a:solidFill>
              <a:srgbClr val="f07f09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Дуга 17"/>
          <p:cNvGrpSpPr/>
          <p:nvPr/>
        </p:nvGrpSpPr>
        <p:grpSpPr>
          <a:xfrm>
            <a:off x="3376440" y="3978360"/>
            <a:ext cx="682920" cy="601560"/>
            <a:chOff x="3376440" y="3978360"/>
            <a:chExt cx="682920" cy="601560"/>
          </a:xfrm>
        </p:grpSpPr>
        <p:pic>
          <p:nvPicPr>
            <p:cNvPr id="485" name="Дуга 17" descr=""/>
            <p:cNvPicPr/>
            <p:nvPr/>
          </p:nvPicPr>
          <p:blipFill>
            <a:blip r:embed="rId1"/>
            <a:stretch/>
          </p:blipFill>
          <p:spPr>
            <a:xfrm>
              <a:off x="3376440" y="4085280"/>
              <a:ext cx="682920" cy="4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 rot="2913600">
              <a:off x="3504600" y="4107600"/>
              <a:ext cx="500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Дуга 18"/>
          <p:cNvSpPr/>
          <p:nvPr/>
        </p:nvSpPr>
        <p:spPr>
          <a:xfrm flipV="1" rot="12988200">
            <a:off x="3304800" y="4221720"/>
            <a:ext cx="501840" cy="711360"/>
          </a:xfrm>
          <a:custGeom>
            <a:avLst/>
            <a:gdLst/>
            <a:ahLst/>
            <a:rect l="l" t="t" r="r" b="b"/>
            <a:pathLst>
              <a:path stroke="0" w="501650" h="711200">
                <a:moveTo>
                  <a:pt x="116190" y="55569"/>
                </a:moveTo>
                <a:cubicBezTo>
                  <a:pt x="230442" y="-47478"/>
                  <a:pt x="381761" y="-3354"/>
                  <a:pt x="458052" y="155255"/>
                </a:cubicBezTo>
                <a:lnTo>
                  <a:pt x="250825" y="355600"/>
                </a:lnTo>
                <a:lnTo>
                  <a:pt x="116190" y="55569"/>
                </a:lnTo>
                <a:close/>
              </a:path>
              <a:path fill="none" w="501650" h="711200">
                <a:moveTo>
                  <a:pt x="116190" y="55569"/>
                </a:moveTo>
                <a:cubicBezTo>
                  <a:pt x="230442" y="-47478"/>
                  <a:pt x="381761" y="-3354"/>
                  <a:pt x="458052" y="155255"/>
                </a:cubicBezTo>
              </a:path>
            </a:pathLst>
          </a:custGeom>
          <a:noFill/>
          <a:ln w="31680">
            <a:solidFill>
              <a:srgbClr val="f07f09"/>
            </a:solidFill>
            <a:round/>
          </a:ln>
          <a:effectLst>
            <a:outerShdw dist="2556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2500200" y="2214720"/>
            <a:ext cx="2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Чи паралельні прямі</a:t>
            </a:r>
            <a:r>
              <a:rPr b="0" lang="en-US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</a:t>
            </a:r>
            <a:r>
              <a:rPr b="0" i="1" lang="en-US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n</a:t>
            </a:r>
            <a:r>
              <a:rPr b="0" lang="en-US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i </a:t>
            </a:r>
            <a:r>
              <a:rPr b="0" i="1" lang="en-US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m</a:t>
            </a:r>
            <a:r>
              <a:rPr b="0" i="1" lang="uk-UA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, </a:t>
            </a:r>
            <a:r>
              <a:rPr b="0" lang="uk-UA" sz="4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якщо </a:t>
            </a:r>
            <a:br>
              <a:rPr sz="4000"/>
            </a:b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71468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d 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;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2)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=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;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1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+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  6           3   2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5)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uk-UA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?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Прямая соединительная линия 4"/>
          <p:cNvSpPr/>
          <p:nvPr/>
        </p:nvSpPr>
        <p:spPr>
          <a:xfrm>
            <a:off x="714240" y="3214800"/>
            <a:ext cx="3357720" cy="1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5"/>
          <p:cNvSpPr/>
          <p:nvPr/>
        </p:nvSpPr>
        <p:spPr>
          <a:xfrm>
            <a:off x="785880" y="4643280"/>
            <a:ext cx="3214800" cy="18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6"/>
          <p:cNvSpPr/>
          <p:nvPr/>
        </p:nvSpPr>
        <p:spPr>
          <a:xfrm>
            <a:off x="1428840" y="2071800"/>
            <a:ext cx="0" cy="335736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 flipV="1">
            <a:off x="2714760" y="2071440"/>
            <a:ext cx="1428480" cy="32144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"/>
          <p:cNvPicPr/>
          <p:nvPr/>
        </p:nvPicPr>
        <p:blipFill>
          <a:blip r:embed="rId1"/>
          <a:srcRect l="0" t="0" r="-56" b="0"/>
          <a:stretch/>
        </p:blipFill>
        <p:spPr>
          <a:xfrm>
            <a:off x="1857240" y="642960"/>
            <a:ext cx="5500800" cy="271476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sp>
        <p:nvSpPr>
          <p:cNvPr id="496" name=""/>
          <p:cNvSpPr txBox="1"/>
          <p:nvPr/>
        </p:nvSpPr>
        <p:spPr>
          <a:xfrm>
            <a:off x="428760" y="2220840"/>
            <a:ext cx="822960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1b587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buClr>
                <a:srgbClr val="1b587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50141b"/>
                </a:solidFill>
                <a:latin typeface="Monotype Corsiva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50141b"/>
                </a:solidFill>
                <a:latin typeface="Monotype Corsiva"/>
              </a:rPr>
              <a:t>           </a:t>
            </a:r>
            <a:endParaRPr b="0" lang="en-US" sz="2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50141b"/>
                </a:solidFill>
                <a:latin typeface="Monotype Corsiva"/>
              </a:rPr>
              <a:t>      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Там лес и дол видений полны;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  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Там о заре прихлынут волны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 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На брег песчаный и пустой,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 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И тридцать витязей прекрасных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Чредой из вод выходят ясных,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                       </a:t>
            </a:r>
            <a:r>
              <a:rPr b="0" i="1" lang="ru-RU" sz="2700" spc="-1" strike="noStrike">
                <a:solidFill>
                  <a:srgbClr val="50141b"/>
                </a:solidFill>
                <a:latin typeface="Monotype Corsiva"/>
              </a:rPr>
              <a:t>И с ними дядька их морской.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0141b"/>
                </a:solidFill>
                <a:latin typeface="Cambri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mbria"/>
              </a:rPr>
              <a:t>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mbria"/>
              </a:rPr>
              <a:t>А.С. Пушкин «Руслан и Людмила»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9:12:01Z</dcterms:created>
  <dc:creator>rabbit</dc:creator>
  <dc:description/>
  <dc:language>en-US</dc:language>
  <cp:lastModifiedBy>rabbit</cp:lastModifiedBy>
  <dcterms:modified xsi:type="dcterms:W3CDTF">2012-02-01T05:07:44Z</dcterms:modified>
  <cp:revision>138</cp:revision>
  <dc:subject/>
  <dc:title>ОЗНАКИ ПАРАЛЕЛЬНОСТІ ПРЯМИ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81a000000000001024140</vt:lpwstr>
  </property>
</Properties>
</file>