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9F7-73C0-4995-829E-0CDD58B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EC1-3161-4B32-A77C-D8CD6FC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8C6-3975-4748-9F86-E99155B4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6FA-B478-4B05-A7C9-E3657814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D15-B573-4947-A5F7-82819BF6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0BB-BCA2-45DE-BFEC-513C3E9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C0C-1BF9-4194-B7C3-0C35D4C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CA6-92CE-4CA2-85C2-1FA78B4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1AC-99B1-42DF-8101-C8E77CD8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9955-66A9-45C0-AE0B-B12A2DEF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4A8C-03CA-4115-AF2E-8981BF4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90A-9F2A-4CF6-8B52-7651D77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41B-AADC-4990-96E6-305B64D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B862-D272-401E-8FEB-3BD85CC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AF56-4DB7-4D12-A2D5-0B9C1C8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4B5-3751-4DF1-9A92-B8391F4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43A-6D9F-4CA7-8772-C14E6B4F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E52F-AB61-466F-94FD-A5BE06D2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F2EB-7BA3-420C-8539-2B8AE1B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9177-7EA8-4083-AC38-A10EAF0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E94F-079B-49F4-A969-3854F3FB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E0D8-A399-44B2-89E0-B5DEA5B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35D-3EFD-42AF-8C7F-3BBEF6F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FBE2-046F-4F56-913E-3701114E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7961-6FC2-41A2-A492-27DA29B9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92AA-4D0A-47EF-9C97-C429F1B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A719-A87A-4CD4-B7E1-05888F21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9D24-753C-4B73-A700-920C645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F4FA-D319-44DB-910E-D884145B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6529-C5A4-4E96-BA37-C265D73C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7DD2-30C8-4470-BBA0-2463FC34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BA8D-9A71-41B6-97B3-F1057A5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EA3D-CEBF-4339-85D1-915E9B31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5F9-2293-43E3-AF81-792C623C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2A9C-D60D-4EDC-9948-2EA503E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D93F-7712-41A1-9268-2F363E2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1D2A-B572-4894-9E07-6170FD6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0F9F-C223-4D58-860F-A1EBAAB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7CAB-BF27-4F8B-943E-1CAE8AE7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3FB5-E45A-44BD-99E8-5FB11B1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B658-A18F-48FE-AD7D-B001BED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2478-D05A-4145-88BA-CD393352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771D-A73D-482C-BB1D-36754BFC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F28-193E-466E-BCA4-7E50E07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839-C33D-4AEB-A1F9-1E87E38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E5C-F988-4D69-8FB8-524C37F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FF3-B085-4C8D-9123-126A4C6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336-368E-4C44-A3F2-4CBEE95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9A9-AF4E-46E9-8A4E-B4D50DA4CE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79E-063E-4F7D-BB09-892A1093A5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D6E-EC96-4DE5-A4ED-F33AC3896E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664-AC48-450F-90B1-03C1FD0E4F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uk-UA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Constantia"/>
              </a:rPr>
              <a:t>Степінь з цілим показником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83016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</a:t>
            </a:r>
            <a:r>
              <a:rPr b="1" i="1" lang="en-US" sz="3200" spc="-1" strike="noStrike">
                <a:solidFill>
                  <a:srgbClr val="04617b"/>
                </a:solidFill>
                <a:latin typeface="Calibri"/>
              </a:rPr>
              <a:t>4</a:t>
            </a: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 хто вперше з вчених запропонував символ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ⁿ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для довільного чис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92852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4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Скоротіть дрі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5072040"/>
          <a:ext cx="8715600" cy="150192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511280" cy="963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1440000" cy="100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637000"/>
            <a:ext cx="1439640" cy="91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172872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76720" y="3789360"/>
            <a:ext cx="1800000" cy="90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588000" y="3716280"/>
            <a:ext cx="1584360" cy="80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имвол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для довільного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запропонував англійський учен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Ісак Ньютон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643-1727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213840"/>
            <a:ext cx="761832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Завдання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 в якій країні було введене позначення а⁰=1, а≠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 Подайте у стандартному вигляді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. 50 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. 5 3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. 0,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. (1,5·10³)·(2·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). (1,2·10⁸):(0,4· 10³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). 1,4·10⁻⁵+3,6·10⁻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5129280"/>
            <a:ext cx="30243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4000" y="3068640"/>
          <a:ext cx="7488000" cy="250200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224000"/>
                <a:gridCol w="1295280"/>
                <a:gridCol w="1297080"/>
                <a:gridCol w="129528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914400" cy="419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547640" y="4653000"/>
            <a:ext cx="1008360" cy="42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771640" y="4653000"/>
            <a:ext cx="936720" cy="41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140360" y="4653000"/>
            <a:ext cx="792000" cy="41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659640" y="4581360"/>
            <a:ext cx="865080" cy="44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662440" y="4724280"/>
            <a:ext cx="2048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імецький математик М.Штіфел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87-1567) дав позначення 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⁰=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, якщо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≠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і ввів назву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оказник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від німецького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ponent)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а.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Розширити знання учнів з теми “Степінь з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цілим показником”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навчити застосовувати набуті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знання,вміння та навички до роз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зуванн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пра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розвивати увагу,логічне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мислення,пам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ть,пізнаваль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інтере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иховувати вміння працювати 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колективі, охайність, працьовитість, культур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спілкува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Експрес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Arial"/>
              </a:rPr>
              <a:t>-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опитування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Що називається степенем числа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з натуральним показником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¹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Не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Як називаються два дійсних числа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ма яких дорівнює нул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О²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7.Чому дорівнює 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 ≠ 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8.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≠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туральне число,то 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he-IL" sz="2400" spc="-1" strike="noStrike">
                <a:solidFill>
                  <a:srgbClr val="ff0000"/>
                </a:solidFill>
                <a:latin typeface="Constantia"/>
              </a:rPr>
              <a:t>־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41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Arial"/>
              </a:rPr>
              <a:t>Робота в парах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вдання 1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конай вправу і ти дізнаєшся в якому році до н.е.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никло поняття степен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№</a:t>
            </a: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1 Обчисліт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(-5)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7)⁻¹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8·2⁻³+3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3)⁻²-(1/9)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⁻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0" y="1071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тя степеня виникло в далекій давнині. Збереглися глиняні плитки стародавніх вавилонян (близько 1700 років до н.е.), які містять записи таблиць квадратів і кубів та їх обернених значень. До множення рівних множників приводить роз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ування багатьох задач. Вираз «квадрат числа» виник унаслідок обчислення площі квадрата,а «куб числа» – унаслідок  знаходження 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єму куб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213840"/>
            <a:ext cx="88930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авдання 2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,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вчений застосував символ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²,</a:t>
            </a:r>
            <a:r>
              <a:rPr b="0" lang="uk-UA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³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ощ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йте вираз у вигляді степеня з основою 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). 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³·a⁻¹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⁻¹²·a⁶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³)⁻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). 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a⁻³·a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6)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¹·a⁻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7120" y="4786200"/>
          <a:ext cx="8215560" cy="164484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1368360"/>
                <a:gridCol w="1370160"/>
                <a:gridCol w="1369800"/>
                <a:gridCol w="136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78920" y="691920"/>
            <a:ext cx="7618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ільки починаючи із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. поступово до математики почали вводити сучасні позначення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а²,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а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ощо вперше застосував французький учений Рене Декар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596-1650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Инна\Desktop\nb_pinacoteca_unknown_flemish_or_french_xvii-xviii_after_hals_rene_descartes_louvre.jpg"/>
          <p:cNvPicPr/>
          <p:nvPr/>
        </p:nvPicPr>
        <p:blipFill>
          <a:blip r:embed="rId2"/>
          <a:stretch/>
        </p:blipFill>
        <p:spPr>
          <a:xfrm>
            <a:off x="7072200" y="4500720"/>
            <a:ext cx="183384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3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хто 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з вчених вперше розглядав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степені з від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'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ємними показниками.</a:t>
            </a:r>
            <a:br>
              <a:rPr sz="3200"/>
            </a:br>
            <a:r>
              <a:rPr b="0" lang="uk-UA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№3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Arial"/>
              </a:rPr>
              <a:t>.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 Спростіть вираз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2857320"/>
            <a:ext cx="82296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2 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·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а⁶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¹) ⁻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⁻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⁵· 2а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5072040"/>
          <a:ext cx="7715160" cy="1285920"/>
        </p:xfrm>
        <a:graphic>
          <a:graphicData uri="http://schemas.openxmlformats.org/drawingml/2006/table">
            <a:tbl>
              <a:tblPr/>
              <a:tblGrid>
                <a:gridCol w="1928520"/>
                <a:gridCol w="1928880"/>
                <a:gridCol w="1928880"/>
                <a:gridCol w="19288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²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.Шюк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45-1500) розглядав степені з від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'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ємними і нульовими показникам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4:32:31Z</dcterms:created>
  <dc:creator>Инесса</dc:creator>
  <dc:description/>
  <dc:language>en-US</dc:language>
  <cp:lastModifiedBy>Admin</cp:lastModifiedBy>
  <dcterms:modified xsi:type="dcterms:W3CDTF">2011-12-20T11:46:3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6000000000001024140</vt:lpwstr>
  </property>
</Properties>
</file>