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11.wmf" ContentType="image/x-wmf"/>
  <Override PartName="/ppt/media/image3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6.gif" ContentType="image/gif"/>
  <Override PartName="/ppt/media/image17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9613-1150-40BB-8CD3-45348849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02A-6B72-44E5-974E-ECC95A24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EE3-2F92-4DA0-9B02-7C34C5C8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C8D-F47D-4368-ACC9-3148BEB3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68F0-1391-4AB8-93C8-736CDD48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BBAF-C8CA-43FF-BE54-93D4AC14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BA87-8FBE-438A-92CF-57561997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E633-8A6D-4BC9-959F-871D2AC7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0C09-EF3A-4EED-8EA0-C5E4B92E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11D1-291C-43F8-8F65-24377EF7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E864-4091-4B49-926E-D15A1875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D3AF-CF86-47D2-9955-21B647C2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6D75-E364-4DDC-882A-F9DDD4C4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A9E5-E57B-4E40-8042-CEEF563B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EA39-B480-49F0-B082-C0119687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6E57-11C2-43C1-9067-B145CC8A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6B03-122B-4EA5-8D7F-AF88F3EB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250F9-D1A5-4CF5-A37B-7E9D852D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3494D-589F-4F3A-B2C3-CA93355C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3D95-A703-4089-9F94-B37CE8E6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E761C-5A19-4311-B052-EB6DD4F9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FF856-F95F-4E86-B908-A7BF31AB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BB7-2792-442C-A7E8-FB3D2D6C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8D3E6-5BBF-4ABE-B933-29437288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26A4-8825-4D17-8193-00EF8F38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B774B-76A7-4470-BFD4-28C8B490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C06BA-B262-4572-A826-E584AE21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3796C-FFBE-4B74-A1BE-A513F20F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4F7DA-F57B-4D6B-B1E8-8529D29A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9BCEA-7635-43DF-982B-55646C3D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9E934-D9F0-4251-9B37-61A08FA0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016FD-4551-4F0A-B109-458AD91A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9A9CE-75FD-4CC0-BAB0-23773F91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36F-E4AD-4BCF-B549-21878263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03C3D-A195-4450-B1E0-86C38D59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7D667-8226-4F5C-8B14-D93298B0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906C2-F184-498A-B5FB-C715D260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11767-F990-4E5A-9432-4E10FD68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4A934-13B9-4462-BF2F-DA37F3E9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2E886-B608-4778-9650-075EC570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E3EF0-DCCC-401D-BCFC-E268E9CA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8AABD-CB9D-4798-9280-07DB0D9C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F91BC-3838-49C5-9808-47A4D1D8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1512-E53B-4E52-9785-5F84C5AA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C4B-03A7-4961-8C51-682261A1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AD6-69B7-4329-874D-D6954785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8DD-FFA3-43C2-8C55-06976524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E857-2143-4C9F-A494-BE7006A5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3078-8C97-4ED4-BD2B-750868BBB36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4853-256D-43E8-AFC4-C8BA359E542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3854-CC28-4BE1-A3B4-4F279FE7BC2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6106-9905-45B5-BC1A-C105754BE1E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2803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Arial"/>
              </a:rPr>
              <a:t>Тема.</a:t>
            </a:r>
            <a:r>
              <a:rPr b="0" lang="uk-UA" sz="3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7200" spc="-1" strike="noStrike">
                <a:solidFill>
                  <a:srgbClr val="ffffff"/>
                </a:solidFill>
                <a:latin typeface="Constantia"/>
              </a:rPr>
              <a:t>Степінь з цілим показником.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77080" y="4581360"/>
            <a:ext cx="830160" cy="8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30124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4617b"/>
                </a:solidFill>
                <a:latin typeface="Calibri"/>
              </a:rPr>
              <a:t>Завдання </a:t>
            </a:r>
            <a:r>
              <a:rPr b="1" i="1" lang="en-US" sz="3200" spc="-1" strike="noStrike">
                <a:solidFill>
                  <a:srgbClr val="04617b"/>
                </a:solidFill>
                <a:latin typeface="Calibri"/>
              </a:rPr>
              <a:t>4</a:t>
            </a:r>
            <a:r>
              <a:rPr b="1" i="1" lang="uk-UA" sz="3200" spc="-1" strike="noStrike">
                <a:solidFill>
                  <a:srgbClr val="04617b"/>
                </a:solidFill>
                <a:latin typeface="Calibri"/>
              </a:rPr>
              <a:t>. 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Виконай вправу і ти дізнаєшся хто вперше з вчених запропонував символ 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ⁿ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 для довільного числа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192852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№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4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 Скоротіть дрі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14200" y="5072040"/>
          <a:ext cx="8715600" cy="150192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1743120"/>
                <a:gridCol w="1743120"/>
                <a:gridCol w="174312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/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1511280" cy="963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3492360" y="2565360"/>
            <a:ext cx="1440000" cy="1004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6659640" y="2637000"/>
            <a:ext cx="1439640" cy="917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539640" y="3573360"/>
            <a:ext cx="1728720" cy="836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3276720" y="3789360"/>
            <a:ext cx="1800000" cy="900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6588000" y="3716280"/>
            <a:ext cx="1584360" cy="801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имвол </a:t>
            </a:r>
            <a:r>
              <a:rPr b="0" lang="uk-UA" sz="44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ⁿ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 для довільного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числа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 запропонував англійський учений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Ісак Ньютон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(1643-1727)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11280" y="213840"/>
            <a:ext cx="761832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Завдання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конай вправу і ти дізнаєшся в якій країні було введене позначення а⁰=1, а≠1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Constantia"/>
              </a:rPr>
              <a:t>№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5.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Constantia"/>
              </a:rPr>
              <a:t> Подайте у стандартному вигляді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). 50 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). 5 3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). 0,4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). (1,5·10³)·(2·1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⁻³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). (1,2·10⁸):(0,4· 10³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6). 1,4·10⁻⁵+3,6·10⁻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7)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187280" y="5129280"/>
            <a:ext cx="302436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24000" y="3068640"/>
          <a:ext cx="7488000" cy="2502000"/>
        </p:xfrm>
        <a:graphic>
          <a:graphicData uri="http://schemas.openxmlformats.org/drawingml/2006/table">
            <a:tbl>
              <a:tblPr/>
              <a:tblGrid>
                <a:gridCol w="1152360"/>
                <a:gridCol w="1224000"/>
                <a:gridCol w="1224000"/>
                <a:gridCol w="1295280"/>
                <a:gridCol w="1297080"/>
                <a:gridCol w="1295280"/>
              </a:tblGrid>
              <a:tr h="12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914400" cy="419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547640" y="4653000"/>
            <a:ext cx="1008360" cy="423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771640" y="4653000"/>
            <a:ext cx="936720" cy="4190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4140360" y="4653000"/>
            <a:ext cx="792000" cy="415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6659640" y="4581360"/>
            <a:ext cx="865080" cy="4431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5662440" y="4724280"/>
            <a:ext cx="2048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Німецький математик М.Штіфель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(1487-1567) дав позначення  </a:t>
            </a:r>
            <a:r>
              <a:rPr b="0" lang="uk-UA" sz="4400" spc="-1" strike="noStrike">
                <a:solidFill>
                  <a:srgbClr val="ff0000"/>
                </a:solidFill>
                <a:latin typeface="Constantia"/>
              </a:rPr>
              <a:t>а⁰=1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, якщо </a:t>
            </a:r>
            <a:r>
              <a:rPr b="0" lang="uk-UA" sz="4400" spc="-1" strike="noStrike">
                <a:solidFill>
                  <a:srgbClr val="ff0000"/>
                </a:solidFill>
                <a:latin typeface="Constantia"/>
              </a:rPr>
              <a:t>а≠1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 і ввів назву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показник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(від німецького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exponent)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та.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Розширити знання учнів з теми “Степінь з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цілим показником”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навчити застосовувати набуті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знання,вміння та навички до розв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'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язуванн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вправ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розвивати увагу,логічне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мислення,пам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'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ять,пізнавальни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інтерес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виховувати вміння працювати в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колективі, охайність, працьовитість, культуру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спілкува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6913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04617b"/>
                </a:solidFill>
                <a:uFillTx/>
                <a:latin typeface="Calibri"/>
              </a:rPr>
              <a:t>Експрес</a:t>
            </a:r>
            <a:r>
              <a:rPr b="0" lang="uk-UA" sz="3600" spc="-1" strike="noStrike" u="sng">
                <a:solidFill>
                  <a:srgbClr val="04617b"/>
                </a:solidFill>
                <a:uFillTx/>
                <a:latin typeface="Arial"/>
              </a:rPr>
              <a:t>-</a:t>
            </a:r>
            <a:r>
              <a:rPr b="0" lang="uk-UA" sz="3600" spc="-1" strike="noStrike" u="sng">
                <a:solidFill>
                  <a:srgbClr val="04617b"/>
                </a:solidFill>
                <a:uFillTx/>
                <a:latin typeface="Calibri"/>
              </a:rPr>
              <a:t>опитування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Що називається степенем числа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 з натуральним показником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Чому дорівнює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а¹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Парна степінь від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'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ємного числ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вжд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ке число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Непарна степінь від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'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ємного числ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вжди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ке число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Як називаються два дійсних числа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ма яких дорівнює нулю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Чому дорівнює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О²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7.Чому дорівнює 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а⁰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кщо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а ≠ о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8.Якщо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а≠о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туральне число,то чому дорівнює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0" lang="he-IL" sz="2400" spc="-1" strike="noStrike">
                <a:solidFill>
                  <a:srgbClr val="ff0000"/>
                </a:solidFill>
                <a:latin typeface="Constantia"/>
              </a:rPr>
              <a:t>־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ⁿ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41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4617b"/>
                </a:solidFill>
                <a:latin typeface="Arial"/>
              </a:rPr>
              <a:t>Робота в парах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Завдання 1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onstantia"/>
              </a:rPr>
              <a:t>Виконай вправу і ти дізнаєшся в якому році до н.е.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onstantia"/>
              </a:rPr>
              <a:t>виникло поняття степен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f6fc6"/>
                </a:solidFill>
                <a:latin typeface="Arial"/>
              </a:rPr>
              <a:t>№</a:t>
            </a:r>
            <a:r>
              <a:rPr b="0" i="1" lang="uk-UA" sz="2400" spc="-1" strike="noStrike">
                <a:solidFill>
                  <a:srgbClr val="0f6fc6"/>
                </a:solidFill>
                <a:latin typeface="Arial"/>
              </a:rPr>
              <a:t>1 Обчисліть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1)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 (-5)⁰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2)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(1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7)⁻¹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-8·2⁻³+3⁰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4)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(1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/3)⁻²-(1/9)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⁻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0000"/>
                </a:solidFill>
                <a:uFillTx/>
                <a:latin typeface="Constanti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0" y="107172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яття степеня виникло в далекій давнині. Збереглися глиняні плитки стародавніх вавилонян (близько 1700 років до н.е.), які містять записи таблиць квадратів і кубів та їх обернених значень. До множення рівних множників приводить роз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ування багатьох задач. Вираз «квадрат числа» виник унаслідок обчислення площі квадрата,а «куб числа» – унаслідок  знаходження о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єму куб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50560" y="213840"/>
            <a:ext cx="88930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авдання 2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конай вправу і ти дізнаєшся,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кий вчений застосував символ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а²,</a:t>
            </a:r>
            <a:r>
              <a:rPr b="0" lang="uk-UA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а³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тощо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дайте вираз у вигляді степеня з основою 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1). 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⁷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:а³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⁻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⁻⁵)⁻³·a⁻¹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⁻¹²·a⁶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³)⁻²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:а³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5). а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˚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a⁻³·a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6)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⁻⁵)⁻¹·a⁻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57120" y="4786200"/>
          <a:ext cx="8215560" cy="1644840"/>
        </p:xfrm>
        <a:graphic>
          <a:graphicData uri="http://schemas.openxmlformats.org/drawingml/2006/table">
            <a:tbl>
              <a:tblPr/>
              <a:tblGrid>
                <a:gridCol w="1368360"/>
                <a:gridCol w="1370160"/>
                <a:gridCol w="1368360"/>
                <a:gridCol w="1370160"/>
                <a:gridCol w="1369800"/>
                <a:gridCol w="136872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78920" y="691920"/>
            <a:ext cx="76186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ільки починаючи із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. поступово до математики почали вводити сучасні позначення.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мволи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а², </a:t>
            </a: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а³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тощо вперше застосував французький учений Рене Декар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596-1650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Users\Инна\Desktop\nb_pinacoteca_unknown_flemish_or_french_xvii-xviii_after_hals_rene_descartes_louvre.jpg"/>
          <p:cNvPicPr/>
          <p:nvPr/>
        </p:nvPicPr>
        <p:blipFill>
          <a:blip r:embed="rId2"/>
          <a:stretch/>
        </p:blipFill>
        <p:spPr>
          <a:xfrm>
            <a:off x="7072200" y="4500720"/>
            <a:ext cx="1833840" cy="21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uk-UA" sz="3200" spc="-1" strike="noStrike">
                <a:solidFill>
                  <a:srgbClr val="04617b"/>
                </a:solidFill>
                <a:latin typeface="Calibri"/>
              </a:rPr>
              <a:t>Завдання 3. 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Виконай вправу і ти дізнаєшся</a:t>
            </a:r>
            <a:r>
              <a:rPr b="0" lang="uk-UA" sz="3200" spc="-1" strike="noStrike">
                <a:solidFill>
                  <a:srgbClr val="04617b"/>
                </a:solidFill>
                <a:latin typeface="Arial"/>
              </a:rPr>
              <a:t>,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 хто </a:t>
            </a:r>
            <a:r>
              <a:rPr b="0" lang="uk-UA" sz="3200" spc="-1" strike="noStrike">
                <a:solidFill>
                  <a:srgbClr val="04617b"/>
                </a:solidFill>
                <a:latin typeface="Arial"/>
              </a:rPr>
              <a:t>з вчених вперше розглядав 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степені з від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'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ємними показниками.</a:t>
            </a:r>
            <a:br>
              <a:rPr sz="3200"/>
            </a:br>
            <a:r>
              <a:rPr b="0" lang="uk-UA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lang="uk-UA" sz="2400" spc="-1" strike="noStrike" u="sng">
                <a:solidFill>
                  <a:srgbClr val="04617b"/>
                </a:solidFill>
                <a:uFillTx/>
                <a:latin typeface="Calibri"/>
              </a:rPr>
              <a:t>№3</a:t>
            </a:r>
            <a:r>
              <a:rPr b="0" lang="uk-UA" sz="2400" spc="-1" strike="noStrike" u="sng">
                <a:solidFill>
                  <a:srgbClr val="04617b"/>
                </a:solidFill>
                <a:uFillTx/>
                <a:latin typeface="Arial"/>
              </a:rPr>
              <a:t>.</a:t>
            </a:r>
            <a:r>
              <a:rPr b="0" lang="uk-UA" sz="2400" spc="-1" strike="noStrike" u="sng">
                <a:solidFill>
                  <a:srgbClr val="04617b"/>
                </a:solidFill>
                <a:uFillTx/>
                <a:latin typeface="Calibri"/>
              </a:rPr>
              <a:t> Спростіть вираз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14200" y="2857320"/>
            <a:ext cx="82296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2 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⁻³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⁵·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а⁶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⁻⁵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0,1а⁻²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⁻¹) ⁻¹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5 а⁻³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⁵· 2а⁵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⁻²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5 а³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⁷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0,1а⁻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⁵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28760" y="5072040"/>
          <a:ext cx="7715160" cy="1285920"/>
        </p:xfrm>
        <a:graphic>
          <a:graphicData uri="http://schemas.openxmlformats.org/drawingml/2006/table">
            <a:tbl>
              <a:tblPr/>
              <a:tblGrid>
                <a:gridCol w="1928520"/>
                <a:gridCol w="1928880"/>
                <a:gridCol w="1928880"/>
                <a:gridCol w="19288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а²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а³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²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420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Н.Шюке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(1445-1500) розглядав степені з від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'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ємними і нульовими показниками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4:32:31Z</dcterms:created>
  <dc:creator>Инесса</dc:creator>
  <dc:description/>
  <dc:language>en-US</dc:language>
  <cp:lastModifiedBy>Admin</cp:lastModifiedBy>
  <dcterms:modified xsi:type="dcterms:W3CDTF">2011-12-20T11:46:32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06000000000001024140</vt:lpwstr>
  </property>
</Properties>
</file>