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11.wmf" ContentType="image/x-wmf"/>
  <Override PartName="/ppt/media/image3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6.gif" ContentType="image/gif"/>
  <Override PartName="/ppt/media/image17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7DA-EAF3-4DD5-AE7F-A4C7D77F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D84-E640-4F8A-958E-B586DE08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7A6C-3E62-4B82-A16D-F9FE182E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1BBB-9476-4E69-922C-22949C3A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0F70-EEC1-4A2D-8DD1-B6EFB9E5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5540-2CAD-47B7-BD02-2F025585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B4D4-FF7D-46B9-93F8-5412419A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7864-D5B8-412D-B1AE-9E45B3F0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DA95-B40F-40C9-A585-541F4AC7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81B8-BA29-4703-9658-56F32D5F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6F4D-4FDC-4AB4-BA93-1D0D4F25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B78-089A-4151-89BE-FD9473FB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633F-1D9D-49A2-A88C-29F98F52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B70A-A8D3-48E4-BE8C-A861FAE6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E238-E6CB-4B9F-B192-CF52A76B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DD75-C6D9-4F81-BC67-73F55056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5327-21DD-4219-B956-4E081BA0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2280C-69A5-48BB-9653-FF3F2214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2E630-EDEE-49DC-B528-F2E9ED77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FBDD9-50FA-4938-BF26-2C8E1CDF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34855-93BF-4CCA-9AB8-F75C7730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E32A0-0705-4A66-9076-81B24E35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5F5-9EB5-4277-BCC3-96E94891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4D58D-7C52-459D-849D-B1211DDE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0FC23-61BB-41BD-B609-791C9F79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7B095-A06E-4310-B5E9-C6AB1DF7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4E1A3-72ED-40B8-A32D-9E3136BC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F605C-D8F7-4D43-A4ED-CD07E0C1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819C3-CE07-4B32-8824-B9B00296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4F8E4-0518-483E-A697-827B3900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8C356-D692-4229-B522-04E3D266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E4DFF-0E4A-4AF6-B0BF-FBBF84B4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86158-DB26-453C-A663-27E0F2AE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CE55-F99A-48E6-9B54-3F08D27D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8E8F2-82EC-4BB2-B305-123B75E1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91AF0-12F0-44AF-B8EC-C65D11E3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95452-C51B-482D-87AF-081E2944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201E6-1B2A-4EB2-9F5D-62D57788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B59BC-697A-410D-B10B-CC815521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0B844-11BA-4D2B-A483-CC2DD66F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FFACE-613B-417F-9376-F76736A6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9BBC3-9861-4595-A7DA-E5DFB6C6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E875B-2875-411E-9192-F0D7EBD7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63D0-7379-4955-BA2D-9C08581F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798-9250-41AE-9723-5AD203D7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1EC3-5C8C-4898-9823-708BA35E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8A27-F7D5-4F3E-8547-1B9D287F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835-7B94-4961-9F6F-CC0D558D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9CB5-4555-46E1-8F72-2742EA0329B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683D-3A0F-4320-9CBD-DB319A28D19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53E8-2D64-4FC2-BB07-477E913D16D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921E-4769-4D88-AF80-FFD084B9FCD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2803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Arial"/>
              </a:rPr>
              <a:t>Тема.</a:t>
            </a:r>
            <a:r>
              <a:rPr b="0" lang="uk-UA" sz="3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7200" spc="-1" strike="noStrike">
                <a:solidFill>
                  <a:srgbClr val="ffffff"/>
                </a:solidFill>
                <a:latin typeface="Constantia"/>
              </a:rPr>
              <a:t>Степінь з цілим показником.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877080" y="4581360"/>
            <a:ext cx="830160" cy="8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830124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4617b"/>
                </a:solidFill>
                <a:latin typeface="Calibri"/>
              </a:rPr>
              <a:t>Завдання </a:t>
            </a:r>
            <a:r>
              <a:rPr b="1" i="1" lang="en-US" sz="3200" spc="-1" strike="noStrike">
                <a:solidFill>
                  <a:srgbClr val="04617b"/>
                </a:solidFill>
                <a:latin typeface="Calibri"/>
              </a:rPr>
              <a:t>4</a:t>
            </a:r>
            <a:r>
              <a:rPr b="1" i="1" lang="uk-UA" sz="3200" spc="-1" strike="noStrike">
                <a:solidFill>
                  <a:srgbClr val="04617b"/>
                </a:solidFill>
                <a:latin typeface="Calibri"/>
              </a:rPr>
              <a:t>. 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Виконай вправу і ти дізнаєшся хто вперше з вчених запропонував символ 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ⁿ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 для довільного числа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192852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№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4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 Скоротіть дрі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14200" y="5072040"/>
          <a:ext cx="8715600" cy="150192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1743120"/>
                <a:gridCol w="1743120"/>
                <a:gridCol w="1743120"/>
              </a:tblGrid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/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1511280" cy="963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3492360" y="2565360"/>
            <a:ext cx="1440000" cy="1004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6659640" y="2637000"/>
            <a:ext cx="1439640" cy="917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539640" y="3573360"/>
            <a:ext cx="1728720" cy="836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3276720" y="3789360"/>
            <a:ext cx="1800000" cy="900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6588000" y="3716280"/>
            <a:ext cx="1584360" cy="801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имвол </a:t>
            </a:r>
            <a:r>
              <a:rPr b="0" lang="uk-UA" sz="4400" spc="-1" strike="noStrike">
                <a:solidFill>
                  <a:srgbClr val="ff0000"/>
                </a:solidFill>
                <a:latin typeface="Constantia"/>
              </a:rPr>
              <a:t>а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ⁿ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 для довільного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числа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 запропонував англійський учений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Ісак Ньютон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(1643-1727)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11280" y="213840"/>
            <a:ext cx="7618320" cy="66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Завдання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конай вправу і ти дізнаєшся в якій країні було введене позначення а⁰=1, а≠1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Constantia"/>
              </a:rPr>
              <a:t>№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5.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Constantia"/>
              </a:rPr>
              <a:t> Подайте у стандартному вигляді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). 50 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). 5 3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). 0,4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). (1,5·10³)·(2·1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⁻³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). (1,2·10⁸):(0,4· 10³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6). 1,4·10⁻⁵+3,6·10⁻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7)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187280" y="5129280"/>
            <a:ext cx="302436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24000" y="3068640"/>
          <a:ext cx="7488000" cy="2502000"/>
        </p:xfrm>
        <a:graphic>
          <a:graphicData uri="http://schemas.openxmlformats.org/drawingml/2006/table">
            <a:tbl>
              <a:tblPr/>
              <a:tblGrid>
                <a:gridCol w="1152360"/>
                <a:gridCol w="1224000"/>
                <a:gridCol w="1224000"/>
                <a:gridCol w="1295280"/>
                <a:gridCol w="1297080"/>
                <a:gridCol w="1295280"/>
              </a:tblGrid>
              <a:tr h="12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914400" cy="419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547640" y="4653000"/>
            <a:ext cx="1008360" cy="423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771640" y="4653000"/>
            <a:ext cx="936720" cy="4190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4140360" y="4653000"/>
            <a:ext cx="792000" cy="415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6659640" y="4581360"/>
            <a:ext cx="865080" cy="4431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5662440" y="4724280"/>
            <a:ext cx="2048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Німецький математик М.Штіфель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(1487-1567) дав позначення  </a:t>
            </a:r>
            <a:r>
              <a:rPr b="0" lang="uk-UA" sz="4400" spc="-1" strike="noStrike">
                <a:solidFill>
                  <a:srgbClr val="ff0000"/>
                </a:solidFill>
                <a:latin typeface="Constantia"/>
              </a:rPr>
              <a:t>а⁰=1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, якщо </a:t>
            </a:r>
            <a:r>
              <a:rPr b="0" lang="uk-UA" sz="4400" spc="-1" strike="noStrike">
                <a:solidFill>
                  <a:srgbClr val="ff0000"/>
                </a:solidFill>
                <a:latin typeface="Constantia"/>
              </a:rPr>
              <a:t>а≠1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 і ввів назву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показник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(від німецького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exponent)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та.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Розширити знання учнів з теми “Степінь з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цілим показником”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навчити застосовувати набуті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знання,вміння та навички до розв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'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язуванн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вправ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розвивати увагу,логічне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мислення,пам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'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ять,пізнавальни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інтерес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виховувати вміння працювати в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колективі, охайність, працьовитість, культуру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спілкуванн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6913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04617b"/>
                </a:solidFill>
                <a:uFillTx/>
                <a:latin typeface="Calibri"/>
              </a:rPr>
              <a:t>Експрес</a:t>
            </a:r>
            <a:r>
              <a:rPr b="0" lang="uk-UA" sz="3600" spc="-1" strike="noStrike" u="sng">
                <a:solidFill>
                  <a:srgbClr val="04617b"/>
                </a:solidFill>
                <a:uFillTx/>
                <a:latin typeface="Arial"/>
              </a:rPr>
              <a:t>-</a:t>
            </a:r>
            <a:r>
              <a:rPr b="0" lang="uk-UA" sz="3600" spc="-1" strike="noStrike" u="sng">
                <a:solidFill>
                  <a:srgbClr val="04617b"/>
                </a:solidFill>
                <a:uFillTx/>
                <a:latin typeface="Calibri"/>
              </a:rPr>
              <a:t>опитування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1.Що називається степенем числа 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а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 з натуральним показником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Чому дорівнює 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а¹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3.Парна степінь від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'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ємного числ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вжд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яке число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4.Непарна степінь від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'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ємного числ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вжди,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яке число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5.Як називаються два дійсних числа,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ума яких дорівнює нулю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6.Чому дорівнює 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О²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7.Чому дорівнює  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а⁰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якщо 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а ≠ о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8.Якщо 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а≠о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 і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атуральне число,то чому дорівнює </a:t>
            </a:r>
            <a:r>
              <a:rPr b="1" lang="uk-UA" sz="2400" spc="-1" strike="noStrike">
                <a:solidFill>
                  <a:srgbClr val="ff0000"/>
                </a:solidFill>
                <a:latin typeface="Constantia"/>
              </a:rPr>
              <a:t>а</a:t>
            </a:r>
            <a:r>
              <a:rPr b="0" lang="he-IL" sz="2400" spc="-1" strike="noStrike">
                <a:solidFill>
                  <a:srgbClr val="ff0000"/>
                </a:solidFill>
                <a:latin typeface="Constantia"/>
              </a:rPr>
              <a:t>־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ⁿ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41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4617b"/>
                </a:solidFill>
                <a:latin typeface="Arial"/>
              </a:rPr>
              <a:t>Робота в парах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Завдання 1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onstantia"/>
              </a:rPr>
              <a:t>Виконай вправу і ти дізнаєшся в якому році до н.е.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Constantia"/>
              </a:rPr>
              <a:t>виникло поняття степен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f6fc6"/>
                </a:solidFill>
                <a:latin typeface="Arial"/>
              </a:rPr>
              <a:t>№</a:t>
            </a:r>
            <a:r>
              <a:rPr b="0" i="1" lang="uk-UA" sz="2400" spc="-1" strike="noStrike">
                <a:solidFill>
                  <a:srgbClr val="0f6fc6"/>
                </a:solidFill>
                <a:latin typeface="Arial"/>
              </a:rPr>
              <a:t>1 Обчисліть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1)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 (-5)⁰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2)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(1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7)⁻¹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-8·2⁻³+3⁰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4)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(1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/3)⁻²-(1/9)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⁻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000000"/>
                </a:solidFill>
                <a:uFillTx/>
                <a:latin typeface="Constanti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0" y="107172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яття степеня виникло в далекій давнині. Збереглися глиняні плитки стародавніх вавилонян (близько 1700 років до н.е.), які містять записи таблиць квадратів і кубів та їх обернених значень. До множення рівних множників приводить роз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ування багатьох задач. Вираз «квадрат числа» виник унаслідок обчислення площі квадрата,а «куб числа» – унаслідок  знаходження о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єму куб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50560" y="213840"/>
            <a:ext cx="88930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Завдання 2.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конай вправу і ти дізнаєшся,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який вчений застосував символи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а²,</a:t>
            </a:r>
            <a:r>
              <a:rPr b="0" lang="uk-UA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ff0000"/>
                </a:solidFill>
                <a:latin typeface="Constantia"/>
              </a:rPr>
              <a:t>а³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тощо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№</a:t>
            </a:r>
            <a:r>
              <a:rPr b="1" i="1" lang="uk-UA" sz="26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дайте вираз у вигляді степеня з основою 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1). 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⁷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:а³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⁻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⁻⁵)⁻³·a⁻¹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⁻¹²·a⁶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³)⁻²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:а³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5). а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˚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a⁻³·a⁵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6)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⁻⁵)⁻¹·a⁻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57120" y="4786200"/>
          <a:ext cx="8215560" cy="1644840"/>
        </p:xfrm>
        <a:graphic>
          <a:graphicData uri="http://schemas.openxmlformats.org/drawingml/2006/table">
            <a:tbl>
              <a:tblPr/>
              <a:tblGrid>
                <a:gridCol w="1368360"/>
                <a:gridCol w="1370160"/>
                <a:gridCol w="1368360"/>
                <a:gridCol w="1370160"/>
                <a:gridCol w="1369800"/>
                <a:gridCol w="136872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78920" y="691920"/>
            <a:ext cx="76186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ільки починаючи із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І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. поступово до математики почали вводити сучасні позначення.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мволи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а², </a:t>
            </a: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а³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тощо вперше застосував французький учений Рене Декар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596-1650)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C:\Users\Инна\Desktop\nb_pinacoteca_unknown_flemish_or_french_xvii-xviii_after_hals_rene_descartes_louvre.jpg"/>
          <p:cNvPicPr/>
          <p:nvPr/>
        </p:nvPicPr>
        <p:blipFill>
          <a:blip r:embed="rId2"/>
          <a:stretch/>
        </p:blipFill>
        <p:spPr>
          <a:xfrm>
            <a:off x="7072200" y="4500720"/>
            <a:ext cx="1833840" cy="21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uk-UA" sz="3200" spc="-1" strike="noStrike">
                <a:solidFill>
                  <a:srgbClr val="04617b"/>
                </a:solidFill>
                <a:latin typeface="Calibri"/>
              </a:rPr>
              <a:t>Завдання 3. 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Виконай вправу і ти дізнаєшся</a:t>
            </a:r>
            <a:r>
              <a:rPr b="0" lang="uk-UA" sz="3200" spc="-1" strike="noStrike">
                <a:solidFill>
                  <a:srgbClr val="04617b"/>
                </a:solidFill>
                <a:latin typeface="Arial"/>
              </a:rPr>
              <a:t>,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 хто </a:t>
            </a:r>
            <a:r>
              <a:rPr b="0" lang="uk-UA" sz="3200" spc="-1" strike="noStrike">
                <a:solidFill>
                  <a:srgbClr val="04617b"/>
                </a:solidFill>
                <a:latin typeface="Arial"/>
              </a:rPr>
              <a:t>з вчених вперше розглядав 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степені з від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'</a:t>
            </a: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ємними показниками.</a:t>
            </a:r>
            <a:br>
              <a:rPr sz="3200"/>
            </a:br>
            <a:r>
              <a:rPr b="0" lang="uk-UA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lang="uk-UA" sz="2400" spc="-1" strike="noStrike" u="sng">
                <a:solidFill>
                  <a:srgbClr val="04617b"/>
                </a:solidFill>
                <a:uFillTx/>
                <a:latin typeface="Calibri"/>
              </a:rPr>
              <a:t>№3</a:t>
            </a:r>
            <a:r>
              <a:rPr b="0" lang="uk-UA" sz="2400" spc="-1" strike="noStrike" u="sng">
                <a:solidFill>
                  <a:srgbClr val="04617b"/>
                </a:solidFill>
                <a:uFillTx/>
                <a:latin typeface="Arial"/>
              </a:rPr>
              <a:t>.</a:t>
            </a:r>
            <a:r>
              <a:rPr b="0" lang="uk-UA" sz="2400" spc="-1" strike="noStrike" u="sng">
                <a:solidFill>
                  <a:srgbClr val="04617b"/>
                </a:solidFill>
                <a:uFillTx/>
                <a:latin typeface="Calibri"/>
              </a:rPr>
              <a:t> Спростіть вираз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14200" y="2857320"/>
            <a:ext cx="82296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2 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⁻³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⁵·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а⁶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⁻⁵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0,1а⁻²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⁻¹) ⁻¹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)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5 а⁻³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⁵· 2а⁵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⁻²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)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5 а³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⁷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0,1а⁻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⁵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28760" y="5072040"/>
          <a:ext cx="7715160" cy="1285920"/>
        </p:xfrm>
        <a:graphic>
          <a:graphicData uri="http://schemas.openxmlformats.org/drawingml/2006/table">
            <a:tbl>
              <a:tblPr/>
              <a:tblGrid>
                <a:gridCol w="1928520"/>
                <a:gridCol w="1928880"/>
                <a:gridCol w="1928880"/>
                <a:gridCol w="19288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а²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а³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²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420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Н.Шюке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(1445-1500) розглядав степені з від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'</a:t>
            </a: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ємними і нульовими показниками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4:32:31Z</dcterms:created>
  <dc:creator>Инесса</dc:creator>
  <dc:description/>
  <dc:language>en-US</dc:language>
  <cp:lastModifiedBy>Admin</cp:lastModifiedBy>
  <dcterms:modified xsi:type="dcterms:W3CDTF">2011-12-20T11:46:32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06000000000001024140</vt:lpwstr>
  </property>
</Properties>
</file>