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556-BFE3-42D6-B381-C5279891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D8D-AE1A-433B-A6AD-3025695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814-A7D2-4834-9E26-8DA207C5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43C-7385-49B8-A1C8-787CC12D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4E68-D6EA-4F55-8D00-D38BB4A7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6A0-B46D-4082-8D35-E81AB83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2F7D-264E-4794-8626-DD695C21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7653-2B97-4F2D-BC60-BF07A8A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57FE-CDA8-48E5-94B3-92E3463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638-1DCB-4AE7-8857-32464BC4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D1D3-6E28-4EE0-BD08-6C5FFA4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339-5512-4A7D-91EA-11BB86BD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60DD-8042-42A2-B556-BBB3DB7D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1C60-1AC0-4836-B0F2-B39FA10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B074-C07A-482F-98F9-A703CE44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61E9-301E-463A-A9BB-FD1D8513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6F1C-5CF1-431E-A2F9-2551A6C5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A43-5D62-4541-A7AA-9AFA4E6F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38F-76F5-426F-8E5B-110412D7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036-7038-47FA-9ED4-9C8468FC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501-8968-46FE-8E90-D5F40A1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7DE-02D9-45D0-AD96-783A5E2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209-E0E5-4B3F-B78D-EE4C7BA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4D6-3290-471C-84BD-6C1147F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9464-42F2-4809-840E-10CD8619B9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0619-C385-449E-B410-C9066BC43D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0066"/>
                </a:solidFill>
                <a:latin typeface="Arial"/>
              </a:rPr>
              <a:t>Трикутник. </a:t>
            </a:r>
            <a:br>
              <a:rPr sz="4400"/>
            </a:br>
            <a:r>
              <a:rPr b="1" lang="uk-UA" sz="4400" spc="-1" strike="noStrike">
                <a:solidFill>
                  <a:srgbClr val="330066"/>
                </a:solidFill>
                <a:latin typeface="Arial"/>
              </a:rPr>
              <a:t>Види трикутників. Периметр трикутника</a:t>
            </a:r>
            <a:r>
              <a:rPr b="1" lang="ru-RU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будова трику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1760" cy="654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на побудову №676(1)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допомогою лінійки та транспортира побудуйте трикутник та вкажіть його вид, якщо дві сторони дорівнюють 3см і 6 см, кут між ними 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1760" cy="654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на побудову №676(2)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допомогою лінійки та транспортира побудуйте трикутник та вкажіть його вид, якщо дві сторони дорівнюють 2 см 5 мм і 5 см, кут між ними 1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1760" cy="65451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на побудову №676(6)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допомогою лінійки та транспортира побудуйте трикутник та вкажіть його вид, якщо одна сторона дорівнює 5 см, а кути, що прилягають до неї - 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 і 6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1760" cy="65451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532080"/>
            <a:ext cx="914400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на побудову №676(8)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90792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 допомогою лінійки та транспортира побудуйте трикутник та вкажіть його вид, якщо одна сторона дорівнює 5 см, а кути, що прилягають до неї – по 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51760" cy="654516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№3(додаткова):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126828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ві сторони трикутника рівні і кожна з них удвічі довша від третьої сторони. Знайдіть сторони цього трикутника, якщо його периметр дорівнює 75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50920" y="270828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озв'яз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ехай третя сторона трикутника -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см. То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ерша сторон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руга сторон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“Дослідження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71516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Сума кутів в будь-якому трикутнику близька до 18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07. Оркестр Поля Мориа - Токата.mp3" descr=""/>
          <p:cNvPicPr/>
          <p:nvPr/>
        </p:nvPicPr>
        <p:blipFill>
          <a:blip r:embed="rId1"/>
          <a:stretch/>
        </p:blipFill>
        <p:spPr>
          <a:xfrm>
            <a:off x="8175600" y="1987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8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58776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е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звіть вид трикутн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л) Гостр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) Туп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) Прям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5940360" y="1989000"/>
            <a:ext cx="2102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е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звіть вид трикутн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л) Гостр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д) Туп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) Прям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5292720" y="2647800"/>
            <a:ext cx="3270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е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звіть вид трикутни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) Рів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) Рівнобедр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) Різ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796000" y="1557360"/>
            <a:ext cx="2529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е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кий вигляд має трикутник зі сторонами 14 см, 17 см і 17 см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)  Рів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щ) Рівнобедрений з основою 14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о)  Рівнобедрений з основою 17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лан урок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рганізаційний е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1" action="ppaction://hlinksldjump"/>
              </a:rPr>
              <a:t>Перевірка домашнього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ктуалізація опорних з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2" action="ppaction://hlinksldjump"/>
              </a:rPr>
              <a:t>Гра “ Знайди трикутник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1800" spc="-1" strike="noStrike" u="sng">
                <a:solidFill>
                  <a:srgbClr val="7e9ce8"/>
                </a:solidFill>
                <a:uFillTx/>
                <a:latin typeface="Arial"/>
                <a:hlinkClick r:id="rId3" action="ppaction://hlinksldjump"/>
              </a:rPr>
              <a:t>Занайди пери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4" action="ppaction://hlinksldjump"/>
              </a:rPr>
              <a:t>Задача “ Подорож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вчення нового матеріа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5" action="ppaction://hlinksldjump"/>
              </a:rPr>
              <a:t>Побудова трикутника за двома сторонами та кутом між н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6" action="ppaction://hlinksldjump"/>
              </a:rPr>
              <a:t>Побудова трикутника за кутом та двома прилеглими сторо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ріплення матеріа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7" action="ppaction://hlinksldjump"/>
              </a:rPr>
              <a:t>Задача “ Дослідження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сумок у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8" action="ppaction://hlinksldjump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spcBef>
                <a:spcPts val="451"/>
              </a:spcBef>
              <a:buClr>
                <a:srgbClr val="330066"/>
              </a:buClr>
              <a:buSzPct val="70000"/>
              <a:buFont typeface="Arial"/>
              <a:buAutoNum type="roman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7e9ce8"/>
                </a:solidFill>
                <a:uFillTx/>
                <a:latin typeface="Arial"/>
                <a:hlinkClick r:id="rId9" action="ppaction://hlinksldjump"/>
              </a:rPr>
              <a:t>Домашнє 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Тес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Р = а +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+ с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найдіть значення с, якщ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Р =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м; </a:t>
            </a:r>
            <a:r>
              <a:rPr b="0" i="1" lang="uk-UA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= 3 м;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=4 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) 16 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) 2 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ц) 2 с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ідповідь на тестові пита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На рисунку зображений рівнобедрений трикутник 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ABC</a:t>
            </a:r>
            <a:r>
              <a:rPr b="1" i="1" lang="uk-UA" sz="3500" spc="-1" strike="noStrike">
                <a:solidFill>
                  <a:srgbClr val="330066"/>
                </a:solidFill>
                <a:latin typeface="Arial"/>
              </a:rPr>
              <a:t>.</a:t>
            </a: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421080" cy="2625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звіть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) основ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) бічні сторони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) кути при основі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) кут, протилежний основі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Визначте вид трикутника за його кутами: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) 34°, 127°, 19°;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в) 45°, 60°, 75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) 40°, 50°, 90°;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) 95°, 85°, 5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Дріт завдовжки 15 см зігнули так, що отримали рівносторонній трикутник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кий периметр цього трикутника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Яка довжина сторон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Взяли дріт завдовжки 19 см і з нього зробили трикутник, дві сторони якого дорівнюють 5 см і 7 см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2445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Що ви можете сказати про цей трикутник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330066"/>
                </a:solidFill>
                <a:latin typeface="Arial"/>
              </a:rPr>
              <a:t>У рівнобедреному трикутнику периметр дорівнює 28 см, а бічна сторона — 10 см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Знайдіть основу трикутни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Домашнє завданн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. 14 повтори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377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330066"/>
                </a:solidFill>
                <a:latin typeface="Arial"/>
              </a:rPr>
              <a:t>Вправа на повторення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 №392(1,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0066"/>
                </a:solidFill>
                <a:latin typeface="Arial"/>
              </a:rPr>
              <a:t>Додаткова 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№ 38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-112680" y="-1971720"/>
            <a:ext cx="9256680" cy="10144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cc0099"/>
                </a:solidFill>
                <a:latin typeface="Arial"/>
              </a:rPr>
              <a:t>Дякую за урок</a:t>
            </a: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cc0099"/>
                </a:solidFill>
                <a:latin typeface="Arial"/>
              </a:rPr>
              <a:t>Бажаю успіхів у навчанні!!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еревірка домашнього завданн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№37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рівнобед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=2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=10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-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озв'яз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в=Р-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а=28-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10=28-20=8 (с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66"/>
                </a:solidFill>
                <a:latin typeface="Arial"/>
                <a:ea typeface="Arial"/>
              </a:rPr>
              <a:t>Відповід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:основа трикутника дорівнює 8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6237360" y="2276640"/>
            <a:ext cx="2340000" cy="2976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6227640" y="2349360"/>
            <a:ext cx="18813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еревірка домашнього завдання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№37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=97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сторона =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І сторона =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класти вираз для знаходження третьої сторо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бчислити довжину третьої сторони, якщо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2см, 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в=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26см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зв'яз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хай ІІІ сторона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= с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м. Тод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с=Р-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а-в=97-32-26=65-26=39 (с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0066"/>
                </a:solidFill>
                <a:latin typeface="Arial"/>
                <a:ea typeface="Arial"/>
              </a:rPr>
              <a:t>Відповід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:Третя сторона трикутника дорівнює 39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580000" y="1700280"/>
            <a:ext cx="2279880" cy="13032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8">
            <a:hlinkClick r:id="rId2" action="ppaction://hlinksldjump"/>
          </p:cNvPr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Питання для гр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рямокутний різ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Гострокутний різ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Тупокутний різ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носторонні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нобедрений гострокут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Рівнобедрений прямокут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найдіть периметр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остороннього 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внобедреного 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ностороннього 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572000" y="1989000"/>
            <a:ext cx="4335480" cy="36370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5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26700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296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1"/>
          <p:cNvSpPr/>
          <p:nvPr/>
        </p:nvSpPr>
        <p:spPr>
          <a:xfrm>
            <a:off x="250920" y="1052640"/>
            <a:ext cx="36716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иїв-Харків             470 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сього проїде       148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253800" y="2421000"/>
            <a:ext cx="275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иїв Донецьк - ?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79280" y="2852640"/>
            <a:ext cx="4969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) З якою швидкістю  потрібно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їха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щоб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тратити на подорож 15 годи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250920" y="4019400"/>
            <a:ext cx="6481800" cy="31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в'яз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5148360" y="3068640"/>
            <a:ext cx="302400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5076720" y="2997360"/>
            <a:ext cx="3024360" cy="1295280"/>
          </a:xfrm>
          <a:prstGeom prst="line">
            <a:avLst/>
          </a:prstGeom>
          <a:ln w="5724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7236000" y="3068640"/>
            <a:ext cx="86508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5076720" y="2997360"/>
            <a:ext cx="2232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4" descr=""/>
          <p:cNvPicPr/>
          <p:nvPr/>
        </p:nvPicPr>
        <p:blipFill>
          <a:blip r:embed="rId1"/>
          <a:stretch/>
        </p:blipFill>
        <p:spPr>
          <a:xfrm>
            <a:off x="1476360" y="1571760"/>
            <a:ext cx="7667640" cy="52862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-2433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330066"/>
                </a:solidFill>
                <a:latin typeface="Arial"/>
              </a:rPr>
              <a:t>Задача “Подорож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802800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7236000" y="3068640"/>
            <a:ext cx="865080" cy="12240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7164360" y="29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5003640" y="2997360"/>
            <a:ext cx="2232360" cy="71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5003640" y="2997360"/>
            <a:ext cx="3024360" cy="1295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5003640" y="2924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613440" y="148428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Харків-Донецьк     295 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"/>
          <p:cNvPicPr/>
          <p:nvPr/>
        </p:nvPicPr>
        <p:blipFill>
          <a:blip r:embed="rId2"/>
          <a:stretch/>
        </p:blipFill>
        <p:spPr>
          <a:xfrm>
            <a:off x="4932360" y="1019160"/>
            <a:ext cx="4211640" cy="58388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23"/>
          <p:cNvSpPr/>
          <p:nvPr/>
        </p:nvSpPr>
        <p:spPr>
          <a:xfrm>
            <a:off x="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4:38:16Z</dcterms:created>
  <dc:creator>Глеб Андреевич Дериенко</dc:creator>
  <dc:description/>
  <dc:language>en-US</dc:language>
  <cp:lastModifiedBy>Admin</cp:lastModifiedBy>
  <dcterms:modified xsi:type="dcterms:W3CDTF">2012-01-23T15:52:45Z</dcterms:modified>
  <cp:revision>28</cp:revision>
  <dc:subject/>
  <dc:title>Трикутник. Види трикутників. Периметр трикутник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8000000000001024140</vt:lpwstr>
  </property>
</Properties>
</file>