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54.wmf" ContentType="image/x-wmf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7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20.jpeg" ContentType="image/jpeg"/>
  <Override PartName="/ppt/media/image46.jpeg" ContentType="image/jpeg"/>
  <Override PartName="/ppt/media/image49.jpeg" ContentType="image/jpeg"/>
  <Override PartName="/ppt/media/image56.wmf" ContentType="image/x-wmf"/>
  <Override PartName="/ppt/media/image5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3.wmf" ContentType="image/x-wmf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51.wmf" ContentType="image/x-wmf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7D-65A9-4F0D-9584-9915AE95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906-06C2-487E-A5D9-5C50388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91D-7DC3-4B05-9062-49FE0E26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954-14EA-4D76-8A5A-CF44A31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870-D300-4166-A17B-13DD6DA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AD7-D98D-42D1-975D-B6D46B0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D8E-A472-47A1-86B0-0B59A738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A24-34A8-4138-85ED-1B7DA913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BA7-E044-426D-9DFF-3CC9F3A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D0B-C07F-41A7-9FAA-70CEA2B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599-86FD-4EC5-A0CE-2B3E496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AC0-98A7-4124-AFB3-7E605405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E18-E721-4347-A1A9-F5378A099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80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м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060280"/>
            <a:ext cx="8569080" cy="4321080"/>
          </a:xfrm>
          <a:prstGeom prst="rect">
            <a:avLst/>
          </a:prstGeom>
          <a:solidFill>
            <a:srgbClr val="00b3b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Перетворення виразів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що містять степен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з цілим показником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хідна мудрість говор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рік вперед-посади н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десятиліття вперед-посади 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століття вперед-виховай людин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же людина-це досконалість в природ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Людина – це досконалість </a:t>
            </a:r>
            <a:br>
              <a:rPr sz="4400"/>
            </a:b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в природ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116160" cy="208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02400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648320" y="1773360"/>
            <a:ext cx="4038480" cy="46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Arial"/>
              </a:rPr>
              <a:t>Інформація про вітам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98064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тамін 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регулює обмінні процеси в шкірі, слизових оболонках очей, дихальних та сечових шляхів, травного каналу. Він підвищує опірність організму до інфекційних хво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ін містить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в риб'ячому жирі, печінці, нирках, молочних продуктах, курячих яйцях, ікрі осетрових р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ітамін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ідповідає за імунітет,цілісність стінок  су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лимонах,шипшині,червоному перці, смородині, цибу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00720" y="907560"/>
            <a:ext cx="453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ітамін В6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егулює стан нервової системи, попереджує запалення шкіри, підтримує здоров'я зубів та я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м'ясі тварин, птахів, рибі, гречаній, перловій і ячмінній крупах, пшоні, хлібі з борошна грубого помо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Дефіцит вітаміну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 призводить до зниження міцності кіс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тамін Е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необхідний для нормального фізичного і психологічного розви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маслі, зелені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оці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, яйцях , печінці , м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ясі, а також в зародках</a:t>
            </a:r>
            <a:r>
              <a:rPr b="1" lang="uk-UA" sz="2000" spc="-1" strike="noStrike">
                <a:solidFill>
                  <a:srgbClr val="0d0d0d"/>
                </a:solidFill>
                <a:latin typeface="Arial"/>
              </a:rPr>
              <a:t> злаков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0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Arial"/>
              </a:rPr>
              <a:t>ВІТАМ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948360" y="5013360"/>
            <a:ext cx="1943280" cy="120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46836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2340000" y="3284640"/>
            <a:ext cx="1781280" cy="13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3419640" y="4221000"/>
            <a:ext cx="3333600" cy="249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324000" y="4941720"/>
            <a:ext cx="2705040" cy="168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7020000" y="3500280"/>
            <a:ext cx="186696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6991200" y="69228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58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Мікроелементи та міне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47640" y="2349360"/>
            <a:ext cx="50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319640" cy="5025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4319640" cy="5025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5364000" y="19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кутник 8"/>
          <p:cNvSpPr/>
          <p:nvPr/>
        </p:nvSpPr>
        <p:spPr>
          <a:xfrm>
            <a:off x="5364000" y="1916280"/>
            <a:ext cx="11527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292720" y="1797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Інформація про мікроелементи та міне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КАЛ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прияє виведенню рідини із органі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КАЛЬЦ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ий для побудови і формування костей і зуб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ЗАЛІЗ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е для утворення гемоглобіну – переносника кисню до всіх органів організму люд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ФТО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ий для утворення емалі на зу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273528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3166920" cy="2519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07332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024360" cy="25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292720" y="162864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3300480" y="2349360"/>
            <a:ext cx="2543040" cy="2519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921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иток алгебраїчної символі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гебра розвивалась ще у Стародавній Індії і Вавілоні понад 4000 років тому. Багатьма алгебраїчними формулами і прийомами володіли також учені Стародавньої Греції. Спадкоємцями як грецької, так і індійської математичної культури стали народи, об’єднані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столітті арабським халіф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 урок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еревірити сформованість нави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користання властивостей степен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уванні впр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ивати правильну математич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ву, пізнавальну активність, мислен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вагу, па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ть, вміння слухати товари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ховувати інтерес до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ерез міжпредметні 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ховувати цілеспрямованість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дбання системи цінностей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ийняття афоризмів і крилатих ф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Стародавня Інді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476360" y="404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cc99"/>
                </a:solidFill>
                <a:latin typeface="Arial"/>
              </a:rPr>
              <a:t>Стародавня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cc99"/>
                </a:solidFill>
                <a:latin typeface="Arial"/>
              </a:rPr>
              <a:t>Інді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Стародавіній Вавілон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403280" y="404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4360" y="26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давній Ваві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Стародавня Греція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245960" y="-19080"/>
            <a:ext cx="59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Стародавня Греці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давні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Ал Хорезмі"/>
          <p:cNvPicPr/>
          <p:nvPr/>
        </p:nvPicPr>
        <p:blipFill>
          <a:blip r:embed="rId1"/>
          <a:stretch/>
        </p:blipFill>
        <p:spPr>
          <a:xfrm>
            <a:off x="250920" y="1052640"/>
            <a:ext cx="4464000" cy="5543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5003640" y="112536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292720" y="1268280"/>
            <a:ext cx="358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003640" y="981000"/>
            <a:ext cx="381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 важливих і оригінальних робіт того часу відносяться твори знаменитого хорезмського математика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ухаммеда бен -Муси ал-Хорезмі (1783 - 850)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ід назви його роботи “Кітаб ал Джебр ал Мукабала” походить назва науки алгеб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няття степе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няття степеня виникло більш, ніж два з половиною тисячоліття тому. Відомий грецький математик Піфагор кожному числу надавав назву за властив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52908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няття степе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сла 1,4,9,… і т. д. він називав квадратними, оскільки, якщо взяти 1,4,9,… точок, то з них можна побудувати квадрати. Цією назвою ми користуємося і дони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. Вієт (1540 – 1603)-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Франсуа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4911840" y="1216080"/>
            <a:ext cx="39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003640" y="134136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прикінц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ст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чений, спираючись на вже розроблену до цього символіку, став позначати буквами не тільки невідомі, а й коефіцієнти при них, проте в запису рівнянь було ще багато с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. Гарріот (1560 – 1621)-англійський мате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Т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518472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13" descr=""/>
          <p:cNvPicPr/>
          <p:nvPr/>
        </p:nvPicPr>
        <p:blipFill>
          <a:blip r:embed="rId2"/>
          <a:stretch/>
        </p:blipFill>
        <p:spPr>
          <a:xfrm>
            <a:off x="5003640" y="3605040"/>
            <a:ext cx="720720" cy="58896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9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3887640" cy="606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148360" y="1557360"/>
            <a:ext cx="338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859280" y="1700280"/>
            <a:ext cx="403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чений удосконалив символіку Вієта, ввів знаки дій, знаки нерівностей. Позначення для показників степен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ще не застосовував, а виписував усі множники, які входили в одночлен, тобто записув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. Декарт (1596 – 1650) -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і філос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Рене Декарт"/>
          <p:cNvPicPr/>
          <p:nvPr/>
        </p:nvPicPr>
        <p:blipFill>
          <a:blip r:embed="rId1"/>
          <a:stretch/>
        </p:blipFill>
        <p:spPr>
          <a:xfrm>
            <a:off x="395280" y="1413000"/>
            <a:ext cx="4392720" cy="525600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8" descr=""/>
          <p:cNvPicPr/>
          <p:nvPr/>
        </p:nvPicPr>
        <p:blipFill>
          <a:blip r:embed="rId2"/>
          <a:stretch/>
        </p:blipFill>
        <p:spPr>
          <a:xfrm>
            <a:off x="6610320" y="25844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9482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003640" y="1413000"/>
            <a:ext cx="39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часний вигляд алгебраїчних рівнянь  в основному належить Р. Декарту. У своїй “Геометрії” (1634) він став позначати і записувати степені з натуральним показником так, як це ми робимо теп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10" descr=""/>
          <p:cNvPicPr/>
          <p:nvPr/>
        </p:nvPicPr>
        <p:blipFill>
          <a:blip r:embed="rId3"/>
          <a:stretch/>
        </p:blipFill>
        <p:spPr>
          <a:xfrm>
            <a:off x="5724360" y="5776920"/>
            <a:ext cx="1800360" cy="8366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. Ньютон (1643 – 1717) –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глійський математик і фіз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І"/>
          <p:cNvPicPr/>
          <p:nvPr/>
        </p:nvPicPr>
        <p:blipFill>
          <a:blip r:embed="rId1"/>
          <a:stretch/>
        </p:blipFill>
        <p:spPr>
          <a:xfrm>
            <a:off x="250920" y="1484280"/>
            <a:ext cx="3384360" cy="5040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708360" y="1557360"/>
            <a:ext cx="49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писи степенів з цілими показниками у сучасному вигля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чав застосовувати І.Ньютон. Закони механіки і всесвітнього тяжіння носять його і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 Він створив водяний і сонячний годинники, самохідну карету і оригінальний млин, який обертала миша, спеціально цього навче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ject 7" descr=""/>
          <p:cNvPicPr/>
          <p:nvPr/>
        </p:nvPicPr>
        <p:blipFill>
          <a:blip r:embed="rId2"/>
          <a:stretch/>
        </p:blipFill>
        <p:spPr>
          <a:xfrm>
            <a:off x="5148360" y="2281320"/>
            <a:ext cx="1008000" cy="500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піграф: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3333cc"/>
                </a:solidFill>
                <a:latin typeface="Arial"/>
              </a:rPr>
              <a:t>” Нехай хтось спробує викреслити з математики степені, і він побачить, що без них далеко не поїдеш”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4400" spc="-1" strike="noStrike">
                <a:solidFill>
                  <a:srgbClr val="3333cc"/>
                </a:solidFill>
                <a:latin typeface="Arial"/>
              </a:rPr>
              <a:t>М. В. 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4000" y="189000"/>
          <a:ext cx="8353440" cy="5883120"/>
        </p:xfrm>
        <a:graphic>
          <a:graphicData uri="http://schemas.openxmlformats.org/drawingml/2006/table">
            <a:tbl>
              <a:tblPr/>
              <a:tblGrid>
                <a:gridCol w="226800"/>
                <a:gridCol w="3176640"/>
                <a:gridCol w="536760"/>
                <a:gridCol w="4413240"/>
              </a:tblGrid>
              <a:tr h="2872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и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/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пові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визначення степеня з натуральним показни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додат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о числа отримуємо додатнє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називається число, яке ми підносимо до степеня?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, до якого ми підносимо основу степеня, називається показником степ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називається число, до якого ми підносимо основу степен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, яке ми підносимо до степеня,називається осново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додатнього числ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від’ємного числа  з непарним показником отримуємо від'ємне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від’ємного числа  з непарним показник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ен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а а з натуральним показником п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им з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називається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уток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 множників, кожен з яких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рівнює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від’ємного числа  з парним показник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діленні степенів з однаковими основами, основу залишаємо ту саму, а від показника степеня діленого віднімаємо показник степеня дільн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а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множення степенів з однаковими осно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інь числа ɑ, яке не дорівнює 0, з показником 0, дорівнює 1. а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 при 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ділення степенів з однаковими осно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степеня до степеня, основу залишаємо ту саму,а показники степенів перемножуємо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ому дорівнює степінь числа а з показником 0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від’ємного числа  з парним показником отримуємо додатнє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піднести степінь до степен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множенні степенів з однаковими основами, основу залишаємо ту саму, а показники степенів додаютьс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а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піднесення до степеня добу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-ий степінь добутку, дорівнює добутку п-их степенів множників (а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а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8280" y="-108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ідповіді до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991280" cy="4104000"/>
          </a:xfrm>
          <a:prstGeom prst="rect">
            <a:avLst/>
          </a:prstGeom>
          <a:solidFill>
            <a:srgbClr val="00b3b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-5       8-6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-3       9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10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-1      1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ро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к називається вира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ник степеня        число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 степеня             чис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кий показник степен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ишіть замість х показник степе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•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꞊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7.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=        .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ку дію треба виконати над показником, щоб піднести степінь до степен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•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ишіть замість х показник степен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 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          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исло ɑ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 степені 3. А як ще можна назвати цей вираз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00160" cy="237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287280" cy="23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247680" cy="23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132000" y="2565360"/>
            <a:ext cx="324000" cy="238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900000" y="2852640"/>
            <a:ext cx="181080" cy="2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6"/>
          <a:stretch/>
        </p:blipFill>
        <p:spPr>
          <a:xfrm>
            <a:off x="826920" y="3357720"/>
            <a:ext cx="352440" cy="237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7"/>
          <a:stretch/>
        </p:blipFill>
        <p:spPr>
          <a:xfrm>
            <a:off x="1403280" y="335772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"/>
          <p:cNvPicPr/>
          <p:nvPr/>
        </p:nvPicPr>
        <p:blipFill>
          <a:blip r:embed="rId8"/>
          <a:stretch/>
        </p:blipFill>
        <p:spPr>
          <a:xfrm>
            <a:off x="1979640" y="3357720"/>
            <a:ext cx="276120" cy="237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9"/>
          <a:stretch/>
        </p:blipFill>
        <p:spPr>
          <a:xfrm>
            <a:off x="1476360" y="3573360"/>
            <a:ext cx="647640" cy="247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9"/>
          <p:cNvSpPr/>
          <p:nvPr/>
        </p:nvSpPr>
        <p:spPr>
          <a:xfrm>
            <a:off x="45720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0" descr=""/>
          <p:cNvPicPr/>
          <p:nvPr/>
        </p:nvPicPr>
        <p:blipFill>
          <a:blip r:embed="rId10"/>
          <a:stretch/>
        </p:blipFill>
        <p:spPr>
          <a:xfrm>
            <a:off x="2411280" y="3573360"/>
            <a:ext cx="304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2"/>
          <p:cNvSpPr/>
          <p:nvPr/>
        </p:nvSpPr>
        <p:spPr>
          <a:xfrm>
            <a:off x="45720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"/>
          <p:cNvPicPr/>
          <p:nvPr/>
        </p:nvPicPr>
        <p:blipFill>
          <a:blip r:embed="rId11"/>
          <a:stretch/>
        </p:blipFill>
        <p:spPr>
          <a:xfrm>
            <a:off x="1258920" y="4292640"/>
            <a:ext cx="285840" cy="237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"/>
          <p:cNvPicPr/>
          <p:nvPr/>
        </p:nvPicPr>
        <p:blipFill>
          <a:blip r:embed="rId12"/>
          <a:stretch/>
        </p:blipFill>
        <p:spPr>
          <a:xfrm>
            <a:off x="1835280" y="4292640"/>
            <a:ext cx="199800" cy="237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13"/>
          <a:stretch/>
        </p:blipFill>
        <p:spPr>
          <a:xfrm>
            <a:off x="1332000" y="4797360"/>
            <a:ext cx="237960" cy="238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9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0" descr=""/>
          <p:cNvPicPr/>
          <p:nvPr/>
        </p:nvPicPr>
        <p:blipFill>
          <a:blip r:embed="rId14"/>
          <a:stretch/>
        </p:blipFill>
        <p:spPr>
          <a:xfrm>
            <a:off x="1908000" y="4797360"/>
            <a:ext cx="171720" cy="238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2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5"/>
          <a:stretch/>
        </p:blipFill>
        <p:spPr>
          <a:xfrm>
            <a:off x="2411280" y="4797360"/>
            <a:ext cx="181080" cy="238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5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6" descr=""/>
          <p:cNvPicPr/>
          <p:nvPr/>
        </p:nvPicPr>
        <p:blipFill>
          <a:blip r:embed="rId16"/>
          <a:stretch/>
        </p:blipFill>
        <p:spPr>
          <a:xfrm>
            <a:off x="1258920" y="5013360"/>
            <a:ext cx="181080" cy="237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29708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слини Червоної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e5"/>
                </a:solidFill>
                <a:latin typeface="Arial"/>
              </a:rPr>
              <a:t>Підсні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4249800" cy="217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3600360" cy="2016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варини Червоної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Arial"/>
              </a:rPr>
              <a:t>Боб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808360" cy="282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362400" y="2610000"/>
            <a:ext cx="4089240" cy="261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01:10:06Z</dcterms:created>
  <dc:creator>l</dc:creator>
  <dc:description/>
  <dc:language>en-US</dc:language>
  <cp:lastModifiedBy>Admin</cp:lastModifiedBy>
  <dcterms:modified xsi:type="dcterms:W3CDTF">2012-01-22T17:09:24Z</dcterms:modified>
  <cp:revision>278</cp:revision>
  <dc:subject/>
  <dc:title>Від атома до Галак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b000000000001024140</vt:lpwstr>
  </property>
</Properties>
</file>