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54.wmf" ContentType="image/x-wmf"/>
  <Override PartName="/ppt/media/image29.jpeg" ContentType="image/jpeg"/>
  <Override PartName="/ppt/media/image52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50.wmf" ContentType="image/x-wmf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37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20.jpeg" ContentType="image/jpeg"/>
  <Override PartName="/ppt/media/image46.jpeg" ContentType="image/jpeg"/>
  <Override PartName="/ppt/media/image49.jpeg" ContentType="image/jpeg"/>
  <Override PartName="/ppt/media/image56.wmf" ContentType="image/x-wmf"/>
  <Override PartName="/ppt/media/image55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3.wmf" ContentType="image/x-wmf"/>
  <Override PartName="/ppt/media/image39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51.wmf" ContentType="image/x-wmf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253-B26E-4AF6-AF1F-37D2D970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A05A-080F-4CC8-9E92-FE9A0576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9D8-6526-45D3-8894-BF568209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816-BBD9-4479-AF70-31401A0D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E4C-4E39-4A81-A499-C41307A8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71B-2ECF-40C2-987E-C6EAFB1B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348-E980-4B95-A164-132CA5FC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9B6-7C8C-442A-94F8-3735D0A5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846-43EA-4FD1-A473-F9E667F6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0A48-74B9-472E-8CF3-1ADAE229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DA8-3265-4A5A-A15C-016B0300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7E7-F3B4-4020-B82B-BFA9EA52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3785-D6C0-4FFB-9498-3C0E560644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2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1800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Тема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2060280"/>
            <a:ext cx="8569080" cy="4321080"/>
          </a:xfrm>
          <a:prstGeom prst="rect">
            <a:avLst/>
          </a:prstGeom>
          <a:solidFill>
            <a:srgbClr val="00b3b3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4800" spc="-1" strike="noStrike">
                <a:solidFill>
                  <a:srgbClr val="c00000"/>
                </a:solidFill>
                <a:latin typeface="Arial"/>
              </a:rPr>
              <a:t>Перетворення виразів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uk-UA" sz="4800" spc="-1" strike="noStrike">
                <a:solidFill>
                  <a:srgbClr val="c00000"/>
                </a:solidFill>
                <a:latin typeface="Arial"/>
              </a:rPr>
              <a:t>що містять степені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uk-UA" sz="4800" spc="-1" strike="noStrike">
                <a:solidFill>
                  <a:srgbClr val="c00000"/>
                </a:solidFill>
                <a:latin typeface="Arial"/>
              </a:rPr>
              <a:t>з цілим показником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Східна мудрість говори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ти думаєш на рік вперед-посади н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ти думаєш на десятиліття вперед-посади дер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ти думаєш на століття вперед-виховай людину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дже людина-це досконалість в природ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"/>
              </a:rPr>
              <a:t>Людина – це досконалість </a:t>
            </a:r>
            <a:br>
              <a:rPr sz="4400"/>
            </a:br>
            <a:r>
              <a:rPr b="1" lang="uk-UA" sz="4400" spc="-1" strike="noStrike">
                <a:solidFill>
                  <a:srgbClr val="ff3300"/>
                </a:solidFill>
                <a:latin typeface="Arial"/>
              </a:rPr>
              <a:t>в природі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116160" cy="208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3024000" cy="2305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4648320" y="1773360"/>
            <a:ext cx="4038480" cy="4680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Arial"/>
              </a:rPr>
              <a:t>Інформація про вітамі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560" y="980640"/>
            <a:ext cx="4321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Вітамін А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регулює обмінні процеси в шкірі, слизових оболонках очей, дихальних та сечових шляхів, травного каналу. Він підвищує опірність організму до інфекційних хворо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Він містить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в риб'ячому жирі, печінці, нирках, молочних продуктах, курячих яйцях, ікрі осетрових ри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ітамін 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ідповідає за імунітет,цілісність стінок  суд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Містить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лимонах,шипшині,червоному перці, смородині, цибул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00720" y="907560"/>
            <a:ext cx="45352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ітамін В6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регулює стан нервової системи, попереджує запалення шкіри, підтримує здоров'я зубів та я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e5"/>
                </a:solidFill>
                <a:latin typeface="Arial"/>
              </a:rPr>
              <a:t>Міститьс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у м'ясі тварин, птахів, рибі, гречаній, перловій і ячмінній крупах, пшоні, хлібі з борошна грубого помол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Дефіцит вітаміну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 призводить до зниження міцності кіс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Вітамін Е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необхідний для нормального фізичного і психологічного розви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Arial"/>
              </a:rPr>
              <a:t>Містить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маслі, зелені,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олоці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, яйцях , печінці , м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’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ясі, а також в зародках</a:t>
            </a:r>
            <a:r>
              <a:rPr b="1" lang="uk-UA" sz="2000" spc="-1" strike="noStrike">
                <a:solidFill>
                  <a:srgbClr val="0d0d0d"/>
                </a:solidFill>
                <a:latin typeface="Arial"/>
              </a:rPr>
              <a:t> злаков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70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Arial"/>
              </a:rPr>
              <a:t>ВІТАМІ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51928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2556000" y="1413000"/>
            <a:ext cx="252072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4716360" y="1916280"/>
            <a:ext cx="2600280" cy="1752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6948360" y="5013360"/>
            <a:ext cx="1943280" cy="120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5"/>
          <a:stretch/>
        </p:blipFill>
        <p:spPr>
          <a:xfrm>
            <a:off x="468360" y="3357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6"/>
          <a:stretch/>
        </p:blipFill>
        <p:spPr>
          <a:xfrm>
            <a:off x="2340000" y="3284640"/>
            <a:ext cx="1781280" cy="1323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7"/>
          <a:stretch/>
        </p:blipFill>
        <p:spPr>
          <a:xfrm>
            <a:off x="3419640" y="4221000"/>
            <a:ext cx="3333600" cy="2495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8"/>
          <a:stretch/>
        </p:blipFill>
        <p:spPr>
          <a:xfrm>
            <a:off x="324000" y="4941720"/>
            <a:ext cx="2705040" cy="168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9"/>
          <a:stretch/>
        </p:blipFill>
        <p:spPr>
          <a:xfrm>
            <a:off x="7020000" y="3500280"/>
            <a:ext cx="1866960" cy="130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10"/>
          <a:stretch/>
        </p:blipFill>
        <p:spPr>
          <a:xfrm>
            <a:off x="6991200" y="692280"/>
            <a:ext cx="2152800" cy="2124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solidFill>
            <a:srgbClr val="58a3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Мікроелементи та мінер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547640" y="2349360"/>
            <a:ext cx="50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4319640" cy="5025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2"/>
          <a:stretch/>
        </p:blipFill>
        <p:spPr>
          <a:xfrm>
            <a:off x="2556000" y="1484280"/>
            <a:ext cx="4319640" cy="50259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7"/>
          <p:cNvSpPr/>
          <p:nvPr/>
        </p:nvSpPr>
        <p:spPr>
          <a:xfrm>
            <a:off x="5364000" y="19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л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кутник 8"/>
          <p:cNvSpPr/>
          <p:nvPr/>
        </p:nvSpPr>
        <p:spPr>
          <a:xfrm>
            <a:off x="5364000" y="1916280"/>
            <a:ext cx="1152720" cy="3603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292720" y="17971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хл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Інформація про мікроелементи та мінер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КАЛІЙ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сприяє виведенню рідини із організ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КАЛЬЦІЙ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необхідний для побудови і формування костей і зуб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ЗАЛІЗ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необхідне для утворення гемоглобіну – переносника кисню до всіх органів організму люд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ФТОР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необхідний для утворення емалі на зуб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2735280" cy="208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5508720" y="3933720"/>
            <a:ext cx="3166920" cy="2519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роду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073320" cy="1871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3024360" cy="2520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5292720" y="1628640"/>
            <a:ext cx="3095640" cy="180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5292720" y="3573360"/>
            <a:ext cx="3166920" cy="244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5"/>
          <a:stretch/>
        </p:blipFill>
        <p:spPr>
          <a:xfrm>
            <a:off x="3300480" y="2349360"/>
            <a:ext cx="2543040" cy="25196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0000"/>
                </a:solidFill>
                <a:latin typeface="Arial"/>
              </a:rPr>
              <a:t>Дякую за ува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921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Розвиток алгебраїчної символі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лгебра розвивалась ще у Стародавній Індії і Вавілоні понад 4000 років тому. Багатьма алгебраїчними формулами і прийомами володіли також учені Стародавньої Греції. Спадкоємцями як грецької, так і індійської математичної культури стали народи, об’єднані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столітті арабським халіфа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Мета уроку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0920" y="105228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еревірити сформованість нави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користання властивостей степеня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зуванні впра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ивати правильну математич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ову, пізнавальну активність, мислен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вагу, па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ть, вміння слухати товариш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ховувати інтерес до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через міжпредметні 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з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ховувати цілеспрямованість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дбання системи цінностей чере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прийняття афоризмів і крилатих ф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Стародавня Інді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476360" y="40464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cc99"/>
                </a:solidFill>
                <a:latin typeface="Arial"/>
              </a:rPr>
              <a:t>Стародавня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5400" spc="-1" strike="noStrike">
                <a:solidFill>
                  <a:srgbClr val="ffcc99"/>
                </a:solidFill>
                <a:latin typeface="Arial"/>
              </a:rPr>
              <a:t>Інді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Стародавіній Вавілон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1403280" y="404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84360" y="260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тародавній Вавіл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Стародавня Греція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245960" y="-19080"/>
            <a:ext cx="595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Стародавня Греці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тародавні матема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Ал Хорезмі"/>
          <p:cNvPicPr/>
          <p:nvPr/>
        </p:nvPicPr>
        <p:blipFill>
          <a:blip r:embed="rId1"/>
          <a:stretch/>
        </p:blipFill>
        <p:spPr>
          <a:xfrm>
            <a:off x="250920" y="1052640"/>
            <a:ext cx="4464000" cy="55432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9"/>
          <p:cNvSpPr/>
          <p:nvPr/>
        </p:nvSpPr>
        <p:spPr>
          <a:xfrm>
            <a:off x="5003640" y="112536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5292720" y="1268280"/>
            <a:ext cx="358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003640" y="981000"/>
            <a:ext cx="3816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 важливих і оригінальних робіт того часу відносяться твори знаменитого хорезмського математика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ухаммеда бен -Муси ал-Хорезмі (1783 - 850)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Від назви його роботи “Кітаб ал Джебр ал Мукабала” походить назва науки алгеб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оняття степе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няття степеня виникло більш, ніж два з половиною тисячоліття тому. Відомий грецький математик Піфагор кожному числу надавав назву за властивост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529080" cy="45370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оняття степе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сла 1,4,9,… і т. д. він називав квадратними, оскільки, якщо взяти 1,4,9,… точок, то з них можна побудувати квадрати. Цією назвою ми користуємося і дони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816360" cy="46083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921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. Вієт (1540 – 1603)-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ранцузький математик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Франсуа"/>
          <p:cNvPicPr/>
          <p:nvPr/>
        </p:nvPicPr>
        <p:blipFill>
          <a:blip r:embed="rId1"/>
          <a:stretch/>
        </p:blipFill>
        <p:spPr>
          <a:xfrm>
            <a:off x="324000" y="1197000"/>
            <a:ext cx="4319280" cy="5661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4911840" y="1216080"/>
            <a:ext cx="39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5003640" y="1341360"/>
            <a:ext cx="381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прикінц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ст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чений, спираючись на вже розроблену до цього символіку, став позначати буквами не тільки невідомі, а й коефіцієнти при них, проте в запису рівнянь було ще багато сл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Г. Гарріот (1560 – 1621)-англійський матема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Т"/>
          <p:cNvPicPr/>
          <p:nvPr/>
        </p:nvPicPr>
        <p:blipFill>
          <a:blip r:embed="rId1"/>
          <a:stretch/>
        </p:blipFill>
        <p:spPr>
          <a:xfrm>
            <a:off x="324000" y="1484280"/>
            <a:ext cx="4032000" cy="5184720"/>
          </a:xfrm>
          <a:prstGeom prst="rect">
            <a:avLst/>
          </a:prstGeom>
          <a:ln w="0">
            <a:noFill/>
          </a:ln>
        </p:spPr>
      </p:pic>
      <p:pic>
        <p:nvPicPr>
          <p:cNvPr id="169" name="Object 13" descr=""/>
          <p:cNvPicPr/>
          <p:nvPr/>
        </p:nvPicPr>
        <p:blipFill>
          <a:blip r:embed="rId2"/>
          <a:stretch/>
        </p:blipFill>
        <p:spPr>
          <a:xfrm>
            <a:off x="5003640" y="3605040"/>
            <a:ext cx="720720" cy="588960"/>
          </a:xfrm>
          <a:prstGeom prst="rect">
            <a:avLst/>
          </a:prstGeom>
          <a:ln w="0">
            <a:noFill/>
          </a:ln>
        </p:spPr>
      </p:pic>
      <p:pic>
        <p:nvPicPr>
          <p:cNvPr id="170" name="Object 9" descr=""/>
          <p:cNvPicPr/>
          <p:nvPr/>
        </p:nvPicPr>
        <p:blipFill>
          <a:blip r:embed="rId3"/>
          <a:stretch/>
        </p:blipFill>
        <p:spPr>
          <a:xfrm>
            <a:off x="4788000" y="5661000"/>
            <a:ext cx="3887640" cy="6066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5148360" y="1557360"/>
            <a:ext cx="338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859280" y="1700280"/>
            <a:ext cx="40338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чений удосконалив символіку Вієта, ввів знаки дій, знаки нерівностей. Позначення для показників степен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ще не застосовував, а виписував усі множники, які входили в одночлен, тобто записув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. Декарт (1596 – 1650) -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французький математик і філосо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Рене Декарт"/>
          <p:cNvPicPr/>
          <p:nvPr/>
        </p:nvPicPr>
        <p:blipFill>
          <a:blip r:embed="rId1"/>
          <a:stretch/>
        </p:blipFill>
        <p:spPr>
          <a:xfrm>
            <a:off x="395280" y="1413000"/>
            <a:ext cx="4392720" cy="5256000"/>
          </a:xfrm>
          <a:prstGeom prst="rect">
            <a:avLst/>
          </a:prstGeom>
          <a:ln w="0">
            <a:noFill/>
          </a:ln>
        </p:spPr>
      </p:pic>
      <p:pic>
        <p:nvPicPr>
          <p:cNvPr id="175" name="Object 8" descr=""/>
          <p:cNvPicPr/>
          <p:nvPr/>
        </p:nvPicPr>
        <p:blipFill>
          <a:blip r:embed="rId2"/>
          <a:stretch/>
        </p:blipFill>
        <p:spPr>
          <a:xfrm>
            <a:off x="6610320" y="258444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4948200" y="141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003640" y="1413000"/>
            <a:ext cx="396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часний вигляд алгебраїчних рівнянь  в основному належить Р. Декарту. У своїй “Геометрії” (1634) він став позначати і записувати степені з натуральним показником так, як це ми робимо теп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ject 10" descr=""/>
          <p:cNvPicPr/>
          <p:nvPr/>
        </p:nvPicPr>
        <p:blipFill>
          <a:blip r:embed="rId3"/>
          <a:stretch/>
        </p:blipFill>
        <p:spPr>
          <a:xfrm>
            <a:off x="5724360" y="5776920"/>
            <a:ext cx="1800360" cy="8366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І. Ньютон (1643 – 1717) –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англійський математик і фіз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І"/>
          <p:cNvPicPr/>
          <p:nvPr/>
        </p:nvPicPr>
        <p:blipFill>
          <a:blip r:embed="rId1"/>
          <a:stretch/>
        </p:blipFill>
        <p:spPr>
          <a:xfrm>
            <a:off x="250920" y="1484280"/>
            <a:ext cx="3384360" cy="5040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3708360" y="1557360"/>
            <a:ext cx="496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писи степенів з цілими показниками у сучасному вигляд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чав застосовувати І.Ньютон. Закони механіки і всесвітнього тяжіння носять його і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. Він створив водяний і сонячний годинники, самохідну карету і оригінальний млин, який обертала миша, спеціально цього навчен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Object 7" descr=""/>
          <p:cNvPicPr/>
          <p:nvPr/>
        </p:nvPicPr>
        <p:blipFill>
          <a:blip r:embed="rId2"/>
          <a:stretch/>
        </p:blipFill>
        <p:spPr>
          <a:xfrm>
            <a:off x="5148360" y="2281320"/>
            <a:ext cx="1008000" cy="5000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Епіграф: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3333cc"/>
                </a:solidFill>
                <a:latin typeface="Arial"/>
              </a:rPr>
              <a:t>” Нехай хтось спробує викреслити з математики степені, і він побачить, що без них далеко не поїдеш”</a:t>
            </a:r>
            <a:br>
              <a:rPr sz="4400"/>
            </a:b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uk-UA" sz="4400" spc="-1" strike="noStrike">
                <a:solidFill>
                  <a:srgbClr val="3333cc"/>
                </a:solidFill>
                <a:latin typeface="Arial"/>
              </a:rPr>
              <a:t>М. В. 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24000" y="189000"/>
          <a:ext cx="8353440" cy="5883120"/>
        </p:xfrm>
        <a:graphic>
          <a:graphicData uri="http://schemas.openxmlformats.org/drawingml/2006/table">
            <a:tbl>
              <a:tblPr/>
              <a:tblGrid>
                <a:gridCol w="226800"/>
                <a:gridCol w="3176640"/>
                <a:gridCol w="536760"/>
                <a:gridCol w="4413240"/>
              </a:tblGrid>
              <a:tr h="28728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пит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/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ідповід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йте визначення степеня з натуральним показник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піднесенні до степеня додатн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го числа отримуємо додатнє 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к називається число, яке ми підносимо до степеня?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, до якого ми підносимо основу степеня, називається показником степе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к називається число, до якого ми підносимо основу степен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о, яке ми підносимо до степеня,називається осново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ке число ми отримуємо при піднесенні до степеня додатнього числ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піднесенні до степеня від’ємного числа  з непарним показником отримуємо від'ємне 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ке число ми отримуємо при піднесенні до степеня від’ємного числа  з непарним показнико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пенем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ла а з натуральним показником п,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ільшим з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 називається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буток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 множників, кожен з яких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рівнює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ке число ми отримуємо при піднесенні до степеня від’ємного числа  з парним показнико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діленні степенів з однаковими основами, основу залишаємо ту саму, а від показника степеня діленого віднімаємо показник степеня дільн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m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а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m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формулюйте правило множення степенів з однаковими осно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пінь числа ɑ, яке не дорівнює 0, з показником 0, дорівнює 1. а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, при 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формулюйте правило ділення степенів з однаковими осно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піднесенні степеня до степеня, основу залишаємо ту саму,а показники степенів перемножуємо 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m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m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·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ому дорівнює степінь числа а з показником 0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піднесенні до степеня від’ємного числа  з парним показником отримуємо додатнє 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к піднести степінь до степен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множенні степенів з однаковими основами, основу залишаємо ту саму, а показники степенів додаютьс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m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а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m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формулюйте правило піднесення до степеня добут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-ий степінь добутку, дорівнює добутку п-их степенів множників (а·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а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·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n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·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Rectangle 1"/>
          <p:cNvSpPr/>
          <p:nvPr/>
        </p:nvSpPr>
        <p:spPr>
          <a:xfrm>
            <a:off x="8280" y="-1080"/>
            <a:ext cx="111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Відповіді до те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991280" cy="4104000"/>
          </a:xfrm>
          <a:prstGeom prst="rect">
            <a:avLst/>
          </a:prstGeom>
          <a:solidFill>
            <a:srgbClr val="00b3b3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-5       8-6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-3       9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-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10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-1      1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6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7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Червона книга Украї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392720" cy="4680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Кро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28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к називається вира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азник степеня        число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а степеня             числ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кий показник степен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=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ишіть замість х показник степен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•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꞊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7. 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    =        .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Яку дію треба виконати над показником, щоб піднести степінь до степеня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      • 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=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Напишіть замість х показник степеня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       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            -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исло ɑ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в степені 3. А як ще можна назвати цей вираз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788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348000" y="1773360"/>
            <a:ext cx="200160" cy="237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2627280" y="2060640"/>
            <a:ext cx="287280" cy="237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2556000" y="2276640"/>
            <a:ext cx="247680" cy="237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3132000" y="2565360"/>
            <a:ext cx="324000" cy="2383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5"/>
          <a:stretch/>
        </p:blipFill>
        <p:spPr>
          <a:xfrm>
            <a:off x="900000" y="2852640"/>
            <a:ext cx="181080" cy="238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6"/>
          <a:stretch/>
        </p:blipFill>
        <p:spPr>
          <a:xfrm>
            <a:off x="826920" y="3357720"/>
            <a:ext cx="352440" cy="2379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7"/>
          <a:stretch/>
        </p:blipFill>
        <p:spPr>
          <a:xfrm>
            <a:off x="1403280" y="3357720"/>
            <a:ext cx="190440" cy="237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5" descr=""/>
          <p:cNvPicPr/>
          <p:nvPr/>
        </p:nvPicPr>
        <p:blipFill>
          <a:blip r:embed="rId8"/>
          <a:stretch/>
        </p:blipFill>
        <p:spPr>
          <a:xfrm>
            <a:off x="1979640" y="3357720"/>
            <a:ext cx="276120" cy="2379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"/>
          <p:cNvPicPr/>
          <p:nvPr/>
        </p:nvPicPr>
        <p:blipFill>
          <a:blip r:embed="rId9"/>
          <a:stretch/>
        </p:blipFill>
        <p:spPr>
          <a:xfrm>
            <a:off x="1476360" y="3573360"/>
            <a:ext cx="647640" cy="2476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9"/>
          <p:cNvSpPr/>
          <p:nvPr/>
        </p:nvSpPr>
        <p:spPr>
          <a:xfrm>
            <a:off x="45720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0" descr=""/>
          <p:cNvPicPr/>
          <p:nvPr/>
        </p:nvPicPr>
        <p:blipFill>
          <a:blip r:embed="rId10"/>
          <a:stretch/>
        </p:blipFill>
        <p:spPr>
          <a:xfrm>
            <a:off x="2411280" y="3573360"/>
            <a:ext cx="304920" cy="2476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2"/>
          <p:cNvSpPr/>
          <p:nvPr/>
        </p:nvSpPr>
        <p:spPr>
          <a:xfrm>
            <a:off x="457200" y="7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3" descr=""/>
          <p:cNvPicPr/>
          <p:nvPr/>
        </p:nvPicPr>
        <p:blipFill>
          <a:blip r:embed="rId11"/>
          <a:stretch/>
        </p:blipFill>
        <p:spPr>
          <a:xfrm>
            <a:off x="1258920" y="4292640"/>
            <a:ext cx="285840" cy="2379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5" descr=""/>
          <p:cNvPicPr/>
          <p:nvPr/>
        </p:nvPicPr>
        <p:blipFill>
          <a:blip r:embed="rId12"/>
          <a:stretch/>
        </p:blipFill>
        <p:spPr>
          <a:xfrm>
            <a:off x="1835280" y="4292640"/>
            <a:ext cx="199800" cy="2379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7" descr=""/>
          <p:cNvPicPr/>
          <p:nvPr/>
        </p:nvPicPr>
        <p:blipFill>
          <a:blip r:embed="rId13"/>
          <a:stretch/>
        </p:blipFill>
        <p:spPr>
          <a:xfrm>
            <a:off x="1332000" y="4797360"/>
            <a:ext cx="237960" cy="238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9"/>
          <p:cNvSpPr/>
          <p:nvPr/>
        </p:nvSpPr>
        <p:spPr>
          <a:xfrm>
            <a:off x="45720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0" descr=""/>
          <p:cNvPicPr/>
          <p:nvPr/>
        </p:nvPicPr>
        <p:blipFill>
          <a:blip r:embed="rId14"/>
          <a:stretch/>
        </p:blipFill>
        <p:spPr>
          <a:xfrm>
            <a:off x="1908000" y="4797360"/>
            <a:ext cx="171720" cy="238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2"/>
          <p:cNvSpPr/>
          <p:nvPr/>
        </p:nvSpPr>
        <p:spPr>
          <a:xfrm>
            <a:off x="45720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3" descr=""/>
          <p:cNvPicPr/>
          <p:nvPr/>
        </p:nvPicPr>
        <p:blipFill>
          <a:blip r:embed="rId15"/>
          <a:stretch/>
        </p:blipFill>
        <p:spPr>
          <a:xfrm>
            <a:off x="2411280" y="4797360"/>
            <a:ext cx="181080" cy="2383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5"/>
          <p:cNvSpPr/>
          <p:nvPr/>
        </p:nvSpPr>
        <p:spPr>
          <a:xfrm>
            <a:off x="45720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6" descr=""/>
          <p:cNvPicPr/>
          <p:nvPr/>
        </p:nvPicPr>
        <p:blipFill>
          <a:blip r:embed="rId16"/>
          <a:stretch/>
        </p:blipFill>
        <p:spPr>
          <a:xfrm>
            <a:off x="1258920" y="5013360"/>
            <a:ext cx="181080" cy="237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297080"/>
          </a:xfrm>
          <a:prstGeom prst="rect">
            <a:avLst/>
          </a:prstGeom>
          <a:solidFill>
            <a:srgbClr val="595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Рослини Червоної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7775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e5"/>
                </a:solidFill>
                <a:latin typeface="Arial"/>
              </a:rPr>
              <a:t>Підсні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4249800" cy="2174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5651640" y="2565360"/>
            <a:ext cx="2736720" cy="259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1835280" y="4221000"/>
            <a:ext cx="3600360" cy="2016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Тварини Червоної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04040"/>
                </a:solidFill>
                <a:latin typeface="Arial"/>
              </a:rPr>
              <a:t>Боб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2808360" cy="2829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3362400" y="2610000"/>
            <a:ext cx="4089240" cy="261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9T01:10:06Z</dcterms:created>
  <dc:creator>l</dc:creator>
  <dc:description/>
  <dc:language>en-US</dc:language>
  <cp:lastModifiedBy>Admin</cp:lastModifiedBy>
  <dcterms:modified xsi:type="dcterms:W3CDTF">2012-01-22T17:09:24Z</dcterms:modified>
  <cp:revision>278</cp:revision>
  <dc:subject/>
  <dc:title>Від атома до Галакт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b000000000001024140</vt:lpwstr>
  </property>
</Properties>
</file>