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30.png" ContentType="image/png"/>
  <Override PartName="/ppt/media/image13.wmf" ContentType="image/x-wmf"/>
  <Override PartName="/ppt/media/image34.wmf" ContentType="image/x-wmf"/>
  <Override PartName="/ppt/media/image9.wmf" ContentType="image/x-wmf"/>
  <Override PartName="/ppt/media/image12.png" ContentType="image/png"/>
  <Override PartName="/ppt/media/image35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39.jpeg" ContentType="image/jpeg"/>
  <Override PartName="/ppt/media/image28.png" ContentType="image/png"/>
  <Override PartName="/ppt/media/image31.wmf" ContentType="image/x-wmf"/>
  <Override PartName="/ppt/media/image29.jpeg" ContentType="image/jpeg"/>
  <Override PartName="/ppt/media/image33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11.jpeg" ContentType="image/jpeg"/>
  <Override PartName="/ppt/media/image23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.png" ContentType="image/png"/>
  <Override PartName="/ppt/media/image26.png" ContentType="image/png"/>
  <Override PartName="/ppt/media/image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012-45A6-458C-BEB7-A4CEB721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DD5-9550-4FA2-AA84-9B74190E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57B0E-DB24-4189-9B38-8079ABA1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59BAB-EB4F-4A07-AAD9-1191C9A1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67062-9EA4-4280-9AFF-D5BC5A70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36C85-758C-4091-B80C-F6E5D0E1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0D559-E87F-4909-95CA-341DE3CA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BEEF7-A1C6-4AFB-9C08-DCEFCEEA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091E3-F93C-4236-B1D2-F64CFB11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BEA90-BE09-4581-9A36-2E80B772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C9B95-0B3F-47C5-972F-BF2374FC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B80-E750-4B0A-926F-A7F4DDBA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42E-E2DD-4833-8EF7-E81C86E7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07F2-A93F-45F5-BD37-EC748803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E555-C5A0-42B3-8BFD-035E72AC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8107-C868-4E46-A4E4-524C18A6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B571-6AC9-4E7D-94D6-D6BBF714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6CF5-8161-4482-BB10-EE56C42D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8A68-B2CB-4AF2-ACFB-46A7202E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29BC-D50A-4056-9257-D8E23377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D26-498C-4E28-B56E-8D916CE3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A4DA-FB48-4D18-8D4F-A4C2CB04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6BD0-6875-473D-9D5C-C2071BD9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0D9A-40F2-4F50-8D05-11252EB8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4148-FB65-4884-9496-7B4EEEE1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C623-4279-49A0-86DB-BFE9E8B0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1784E-DBBD-4894-AF4C-D75ACC04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1AEDB-674F-4EE5-9C6E-6314DFEB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C741-D3DE-4C78-ACC6-05CC6167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CED0B-087C-414F-B11C-1C112277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93735-2DDC-4CBE-9680-BBB42ADF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34F-FD9F-4D0A-A14B-26A316BC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DCF0E-BF78-4541-A805-525D228F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6BF78-689A-49A1-A72D-BBBD20AD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80F65-4F1E-495A-941C-421513F8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358FA-4FB4-44E3-B5B6-76A717F7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986CB-9A85-421D-9990-2D9F5EF0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5C69A-9F7A-46E7-AEA7-8EA58B55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0391D-B195-4054-A15F-38981A05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54891-1993-4B4B-85A8-FCE79B52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4C238-AF89-42E9-8312-06BDAD61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E8BF5-403A-4B79-8A36-6BAFFDC2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E2D-3C59-4FE9-BBC9-8E2A3359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4AF51-CEE8-4584-9943-7DA2B8E2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8357F-5770-46A5-AA30-13CA3ADB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3E66E-69F9-44EB-857F-9D4BD3E6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0FAA4-D0AD-44EF-B371-C190A29F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44FEC-7E62-4B06-B8B1-80DEE334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A0A2D-80B2-460C-9742-3569805E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7B3FA-5C9C-42C3-83C5-AA0705B9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FDD84-99F6-491F-8E8F-E302E561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E9550-2D0C-4D9C-9BBC-93BC1C63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5C993-1BB0-4CCE-829A-8FB69368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971-59B6-4FFC-AB63-66A09E58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2E6E0-ADCA-4EDB-BEE0-2B57A4B8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ACB5A-FB4D-4073-831B-A7C986B6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3A894-0A72-47F2-BF0D-48CF53BA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DE980-881D-4773-B16C-A1420FAD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72CCD-D9B4-4C01-9A2E-0B7E32BA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ED13C-5A9C-445E-A832-6CBF4136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6599E-80D4-4B58-9E30-4BFB437E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77F73-2CC0-43F2-9E96-C6ADC019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70A88-53E2-483C-BF2F-5D49A27D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40B6F-6B33-4DE8-94A2-9F4CA355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CCB-43F6-4696-A600-B7A66073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8B562-1988-48B1-9843-49CD3EB3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E4CA2-BF72-40C0-9538-87E43FB5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05A96-E358-4C83-8858-D4C34E13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E37E8-848F-4727-9C1E-0025232D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F33BE-8FA2-4611-9C65-D41B0CD1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FE62C-B84B-474C-BB97-850204B3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27FA5-5DE3-432A-B623-4E7E0BF0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7594C-C8EA-416B-A3E7-8F87C037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6C753-3E63-478A-A8DF-FA08FCAB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9D529-7803-4825-BD61-5A684AB8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B32-89B9-4012-9E1D-E0FCE22C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A1952-9584-4958-99A3-3B980CD9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9CC99-F336-49F0-806B-5D9D4168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B3307-74C1-4741-8954-E8DB6C88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6CB5A-65DB-4DEF-B2AE-4BAEEFB2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B0AB4-5511-42ED-AF37-B4FD4741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26681-3DF2-4290-911F-A7E65638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E6E30-7099-491A-8DF2-78438E35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39927-0DF2-4186-9CCC-ECBD13FE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0F09C-2D2E-478B-A12A-44CC1E62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72A47-2942-4A0D-8205-4E0AC904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F2A-642B-452D-B51B-88D49505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CBB64-CE3F-4D50-BAC9-9650D33B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75735-2BCB-48EE-84ED-26E7A7DA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79944-7650-40B9-927C-2142632B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34EFF-EF5A-42FF-BB92-987A0693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E8FD9-5F92-44DE-9BF2-B363F646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C684C-B57D-4FAF-B3C9-A42BD792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0DCDB-05A7-4F14-B7C6-4FCA514C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22B27-637B-4B82-A529-2ECCABA4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FA9DE-2466-4E5A-90FD-66D568D2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41776-274F-4141-A9BD-4C2D01CD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40F-4C3E-4FEC-8702-D6F8DF0A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38946-8E22-46E6-B0AB-2A0AB1FC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A09F3-5005-4B21-BED8-5E220C4A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79EED-1E2F-41FC-986B-84180848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43C1E-200C-4832-99CE-443C861B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65C18-8C1C-4176-8B4D-4008E53D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26BD5-BB1E-417D-B69F-9F307AE2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020F9-2B39-4A69-8247-755910B1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6554A-8A87-4830-8662-1CB1AC44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1F0ED-0D0F-4EB0-8D37-CC75A80A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DF649-27D4-4E1B-8814-6DE7EE92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21D8-F635-4F96-BD8D-A6819170723D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6FCA-6856-4A81-B88E-AEC9BEFE1330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16EF-42F3-4C02-A23F-F38E5BF340C0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89D8-970E-4E41-AF45-F14B83C41D72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160B-9D5E-45E4-947E-D696325ADC37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Ільюх С. 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C54D-C3AD-41AB-8D52-770AC1FEF153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Ільюх С. 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A69F-3D60-4068-8625-5E722B6CC23F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Ільюх С. 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5F15-09FC-4C9F-A868-7B05CEB6EC11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Ільюх С. 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D14E-614B-4024-A0BA-7EEF3CF98026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56760" y="2356920"/>
            <a:ext cx="8077320" cy="238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d75b7e"/>
                </a:solidFill>
                <a:latin typeface="Verdana"/>
              </a:rPr>
              <a:t>Похідна </a:t>
            </a:r>
            <a:br>
              <a:rPr sz="6600"/>
            </a:br>
            <a:r>
              <a:rPr b="1" lang="uk-UA" sz="6600" spc="-1" strike="noStrike">
                <a:solidFill>
                  <a:srgbClr val="d75b7e"/>
                </a:solidFill>
                <a:latin typeface="Verdana"/>
              </a:rPr>
              <a:t>та її застосування</a:t>
            </a:r>
            <a:endParaRPr b="1" lang="en-US" sz="6600" spc="-1" strike="noStrike">
              <a:solidFill>
                <a:srgbClr val="d75b7e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0000"/>
                </a:solidFill>
                <a:latin typeface="Verdana"/>
              </a:rPr>
              <a:t>Задача про миттєву швидкість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500120" y="4143240"/>
            <a:ext cx="5558040" cy="13575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3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822132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7" name="Picture 6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816360" cy="1224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"/>
          <p:cNvPicPr/>
          <p:nvPr/>
        </p:nvPicPr>
        <p:blipFill>
          <a:blip r:embed="rId2"/>
          <a:stretch/>
        </p:blipFill>
        <p:spPr>
          <a:xfrm>
            <a:off x="2050920" y="2924280"/>
            <a:ext cx="3635640" cy="1152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"/>
          <p:cNvPicPr/>
          <p:nvPr/>
        </p:nvPicPr>
        <p:blipFill>
          <a:blip r:embed="rId3"/>
          <a:stretch/>
        </p:blipFill>
        <p:spPr>
          <a:xfrm>
            <a:off x="2050920" y="4653000"/>
            <a:ext cx="4321440" cy="10080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1"/>
          <p:cNvSpPr/>
          <p:nvPr/>
        </p:nvSpPr>
        <p:spPr>
          <a:xfrm>
            <a:off x="5449320" y="2996280"/>
            <a:ext cx="87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Verdana"/>
                <a:ea typeface="Times New Roman"/>
              </a:rPr>
              <a:t>(t)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G:\Карфаген.bmp"/>
          <p:cNvPicPr/>
          <p:nvPr/>
        </p:nvPicPr>
        <p:blipFill>
          <a:blip r:embed="rId1"/>
          <a:srcRect l="0" t="0" r="-52" b="8"/>
          <a:stretch/>
        </p:blipFill>
        <p:spPr>
          <a:xfrm>
            <a:off x="357120" y="285840"/>
            <a:ext cx="8429760" cy="6286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під редакцією М.І.Сканаві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WordArt 4"/>
          <p:cNvSpPr txBox="1"/>
          <p:nvPr/>
        </p:nvSpPr>
        <p:spPr>
          <a:xfrm>
            <a:off x="785880" y="642960"/>
            <a:ext cx="7358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”</a:t>
            </a: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бірник   конкурсних    задач“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5" name="Picture 5" descr="008"/>
          <p:cNvPicPr/>
          <p:nvPr/>
        </p:nvPicPr>
        <p:blipFill>
          <a:blip r:embed="rId1"/>
          <a:stretch/>
        </p:blipFill>
        <p:spPr>
          <a:xfrm>
            <a:off x="2666880" y="3573360"/>
            <a:ext cx="3057480" cy="2232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008"/>
          <p:cNvPicPr/>
          <p:nvPr/>
        </p:nvPicPr>
        <p:blipFill>
          <a:blip r:embed="rId2"/>
          <a:stretch/>
        </p:blipFill>
        <p:spPr>
          <a:xfrm>
            <a:off x="2714760" y="3571920"/>
            <a:ext cx="305748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4240" y="-35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Verdana"/>
              </a:rPr>
              <a:t>Задача 15.121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85840" y="1071360"/>
            <a:ext cx="8424720" cy="5516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іло масою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рухається прямолінійно за зако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вести,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щ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сила, яка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діє на тіло,        пропорційна кубу пройденого шлях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714680" y="3857760"/>
            <a:ext cx="4357440" cy="2131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WordArt 4"/>
          <p:cNvSpPr txBox="1"/>
          <p:nvPr/>
        </p:nvSpPr>
        <p:spPr>
          <a:xfrm>
            <a:off x="1187280" y="1484280"/>
            <a:ext cx="69138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вдання  ЗН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28760" y="500040"/>
            <a:ext cx="8183520" cy="4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-720" bIns="-45360"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0000"/>
                </a:solidFill>
                <a:latin typeface="Monotype Corsiva"/>
              </a:rPr>
              <a:t>         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3" name="Picture 10" descr="031"/>
          <p:cNvPicPr/>
          <p:nvPr/>
        </p:nvPicPr>
        <p:blipFill>
          <a:blip r:embed="rId1"/>
          <a:stretch/>
        </p:blipFill>
        <p:spPr>
          <a:xfrm>
            <a:off x="6858000" y="4876920"/>
            <a:ext cx="1663560" cy="11826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0" descr="031"/>
          <p:cNvPicPr/>
          <p:nvPr/>
        </p:nvPicPr>
        <p:blipFill>
          <a:blip r:embed="rId2"/>
          <a:stretch/>
        </p:blipFill>
        <p:spPr>
          <a:xfrm>
            <a:off x="6858000" y="4929120"/>
            <a:ext cx="1663560" cy="1182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ижний колонтитул 6"/>
          <p:cNvSpPr/>
          <p:nvPr/>
        </p:nvSpPr>
        <p:spPr>
          <a:xfrm flipV="1">
            <a:off x="3124080" y="6720840"/>
            <a:ext cx="28958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Знайдіть, при яких значеннях параметра а дотична до графіка функції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у точці з абсцисою               проходить через точку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(3;4).</a:t>
            </a: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7" name="Текст 3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4000320" cy="85716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715000" y="2786040"/>
            <a:ext cx="1897200" cy="898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80520" y="1428480"/>
            <a:ext cx="8153640" cy="4629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)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бчисліть       , якщо кут між дотичною проведеної до графіка функції              у точці з абсцисою          і додатнім напрямом осі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X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дорівнює  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Д)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Записати рівняння дотичної до графіка функції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= 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uk-UA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4,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яка перпендикулярна до прямої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2=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парабол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 4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ибрано дві точки з абсцисам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 -1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3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ерез ці точки проведено січну. Знайти рівняння дотичної до параболи, яка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паралельна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ічні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5024520" y="1599840"/>
            <a:ext cx="3286080" cy="2187720"/>
          </a:xfrm>
          <a:prstGeom prst="rect">
            <a:avLst/>
          </a:prstGeom>
          <a:ln w="0">
            <a:noFill/>
          </a:ln>
        </p:spPr>
      </p:pic>
      <p:pic>
        <p:nvPicPr>
          <p:cNvPr id="532" name="Текст 3" descr=""/>
          <p:cNvPicPr/>
          <p:nvPr/>
        </p:nvPicPr>
        <p:blipFill>
          <a:blip r:embed="rId2"/>
          <a:stretch/>
        </p:blipFill>
        <p:spPr>
          <a:xfrm>
            <a:off x="3071880" y="1500120"/>
            <a:ext cx="761760" cy="4348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5786280" y="1857240"/>
            <a:ext cx="1150920" cy="4892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2786040" y="22860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2286000" y="2714760"/>
            <a:ext cx="533520" cy="4492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Домашн</a:t>
            </a:r>
            <a:r>
              <a:rPr b="1" lang="uk-UA" sz="3600" spc="-1" strike="noStrike">
                <a:solidFill>
                  <a:srgbClr val="d75b7e"/>
                </a:solidFill>
                <a:latin typeface="Verdana"/>
              </a:rPr>
              <a:t>є</a:t>
            </a: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 завдання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Доска"/>
          <p:cNvPicPr/>
          <p:nvPr/>
        </p:nvPicPr>
        <p:blipFill>
          <a:blip r:embed="rId1"/>
          <a:stretch/>
        </p:blipFill>
        <p:spPr>
          <a:xfrm>
            <a:off x="0" y="-16020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5"/>
          <p:cNvSpPr/>
          <p:nvPr/>
        </p:nvSpPr>
        <p:spPr>
          <a:xfrm rot="3964200">
            <a:off x="1127520" y="-265680"/>
            <a:ext cx="4411800" cy="7680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« НЕ МАХАЙ НА ВСЕ РУКОЮ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НЕ ЛІНУЙСЯ,А УЧИСЬ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БО ЧОГО НАВЧИШ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В ШКОЛІ, ЗНАДОБИТЬ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ЩЕ КОЛИСЬ</a:t>
            </a: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!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5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837b7f"/>
              </a:solidFill>
              <a:latin typeface="Verdana"/>
            </a:endParaRPr>
          </a:p>
        </p:txBody>
      </p:sp>
      <p:pic>
        <p:nvPicPr>
          <p:cNvPr id="403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2920" y="1071360"/>
            <a:ext cx="8501040" cy="53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uk-UA" sz="5400" spc="-1" strike="noStrike">
                <a:solidFill>
                  <a:srgbClr val="000000"/>
                </a:solidFill>
                <a:latin typeface="Verdana"/>
              </a:rPr>
              <a:t>Розум людський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Verdana"/>
              </a:rPr>
              <a:t>має три ключі, які все відкривають: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772754"/>
                </a:solidFill>
                <a:latin typeface="Verdana"/>
              </a:rPr>
              <a:t>знання, думка, уява</a:t>
            </a:r>
            <a:r>
              <a:rPr b="0" lang="uk-UA" sz="5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Verdana"/>
              </a:rPr>
              <a:t>Віктор Гюг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868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80000"/>
                </a:solidFill>
                <a:latin typeface="Verdana"/>
              </a:rPr>
              <a:t>До відкриття похідної незалежно один від одного прийшли два  відомих учених І.Ньютон</a:t>
            </a:r>
            <a:r>
              <a:rPr b="1" lang="ru-RU" sz="2800" spc="-1" strike="noStrike">
                <a:solidFill>
                  <a:srgbClr val="a80000"/>
                </a:solidFill>
                <a:latin typeface="Verdana"/>
              </a:rPr>
              <a:t>  і Г. Лейбніц</a:t>
            </a:r>
            <a:endParaRPr b="1" lang="en-US" sz="28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673200" y="1773360"/>
            <a:ext cx="8435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12" descr="nyuton_big"/>
          <p:cNvPicPr/>
          <p:nvPr/>
        </p:nvPicPr>
        <p:blipFill>
          <a:blip r:embed="rId1"/>
          <a:stretch/>
        </p:blipFill>
        <p:spPr>
          <a:xfrm>
            <a:off x="4643280" y="2214720"/>
            <a:ext cx="2791080" cy="3474720"/>
          </a:xfrm>
          <a:prstGeom prst="rect">
            <a:avLst/>
          </a:prstGeom>
          <a:ln w="57240">
            <a:solidFill>
              <a:srgbClr val="ffc197"/>
            </a:solidFill>
            <a:miter/>
          </a:ln>
        </p:spPr>
      </p:pic>
      <p:pic>
        <p:nvPicPr>
          <p:cNvPr id="408" name="Picture 13" descr="480px-Лейбниц_цитата_"/>
          <p:cNvPicPr/>
          <p:nvPr/>
        </p:nvPicPr>
        <p:blipFill>
          <a:blip r:embed="rId2"/>
          <a:stretch/>
        </p:blipFill>
        <p:spPr>
          <a:xfrm>
            <a:off x="1822320" y="2286000"/>
            <a:ext cx="2678400" cy="3375000"/>
          </a:xfrm>
          <a:prstGeom prst="rect">
            <a:avLst/>
          </a:prstGeom>
          <a:ln w="76320">
            <a:solidFill>
              <a:srgbClr val="ffc197"/>
            </a:solidFill>
            <a:miter/>
          </a:ln>
        </p:spPr>
      </p:pic>
      <p:sp>
        <p:nvSpPr>
          <p:cNvPr id="409" name="Rectangle 14"/>
          <p:cNvSpPr/>
          <p:nvPr/>
        </p:nvSpPr>
        <p:spPr>
          <a:xfrm>
            <a:off x="7429680" y="34290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аа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ьюто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1642-172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15"/>
          <p:cNvSpPr/>
          <p:nvPr/>
        </p:nvSpPr>
        <p:spPr>
          <a:xfrm>
            <a:off x="285840" y="3500280"/>
            <a:ext cx="1439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ильгель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йбни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1646-171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6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6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9720" y="1000080"/>
            <a:ext cx="70722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c0000"/>
                </a:solidFill>
                <a:latin typeface="Verdana"/>
              </a:rPr>
              <a:t>Похідна та її зміст</a:t>
            </a:r>
            <a:endParaRPr b="1" lang="en-US" sz="54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412" name="Текст 3" descr=""/>
          <p:cNvPicPr/>
          <p:nvPr/>
        </p:nvPicPr>
        <p:blipFill>
          <a:blip r:embed="rId1"/>
          <a:stretch/>
        </p:blipFill>
        <p:spPr>
          <a:xfrm>
            <a:off x="2125800" y="4470480"/>
            <a:ext cx="141120" cy="25236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4"/>
          <p:cNvSpPr/>
          <p:nvPr/>
        </p:nvSpPr>
        <p:spPr>
          <a:xfrm>
            <a:off x="2143080" y="1785960"/>
            <a:ext cx="4572000" cy="11095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Функція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має в точці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охідн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714240" y="3714840"/>
            <a:ext cx="3286440" cy="17859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Фізичний зміст похідної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4500720" y="3786120"/>
            <a:ext cx="3786120" cy="1714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еометричний зміст похідної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Текст 3" descr=""/>
          <p:cNvPicPr/>
          <p:nvPr/>
        </p:nvPicPr>
        <p:blipFill>
          <a:blip r:embed="rId2"/>
          <a:stretch/>
        </p:blipFill>
        <p:spPr>
          <a:xfrm>
            <a:off x="2346480" y="2071800"/>
            <a:ext cx="4082760" cy="779400"/>
          </a:xfrm>
          <a:prstGeom prst="rect">
            <a:avLst/>
          </a:prstGeom>
          <a:ln w="0">
            <a:noFill/>
          </a:ln>
        </p:spPr>
      </p:pic>
      <p:pic>
        <p:nvPicPr>
          <p:cNvPr id="417" name="Текст 3" descr=""/>
          <p:cNvPicPr/>
          <p:nvPr/>
        </p:nvPicPr>
        <p:blipFill>
          <a:blip r:embed="rId3"/>
          <a:stretch/>
        </p:blipFill>
        <p:spPr>
          <a:xfrm>
            <a:off x="928800" y="4572000"/>
            <a:ext cx="2928960" cy="10717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572000" y="4500720"/>
            <a:ext cx="3429000" cy="890280"/>
          </a:xfrm>
          <a:prstGeom prst="rect">
            <a:avLst/>
          </a:prstGeom>
          <a:ln w="0">
            <a:noFill/>
          </a:ln>
        </p:spPr>
      </p:pic>
      <p:sp>
        <p:nvSpPr>
          <p:cNvPr id="419" name="Line 24"/>
          <p:cNvSpPr/>
          <p:nvPr/>
        </p:nvSpPr>
        <p:spPr>
          <a:xfrm flipH="1">
            <a:off x="2785680" y="2895480"/>
            <a:ext cx="142884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25"/>
          <p:cNvSpPr/>
          <p:nvPr/>
        </p:nvSpPr>
        <p:spPr>
          <a:xfrm>
            <a:off x="4214880" y="2895480"/>
            <a:ext cx="128592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6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WordArt 4"/>
          <p:cNvSpPr txBox="1"/>
          <p:nvPr/>
        </p:nvSpPr>
        <p:spPr>
          <a:xfrm>
            <a:off x="826920" y="2708280"/>
            <a:ext cx="6696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еометричний зміст похідної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AutoShape 6"/>
          <p:cNvSpPr/>
          <p:nvPr/>
        </p:nvSpPr>
        <p:spPr>
          <a:xfrm>
            <a:off x="1763640" y="620640"/>
            <a:ext cx="1152720" cy="1871640"/>
          </a:xfrm>
          <a:prstGeom prst="can">
            <a:avLst>
              <a:gd name="adj" fmla="val 25000"/>
            </a:avLst>
          </a:prstGeom>
          <a:solidFill>
            <a:srgbClr val="b83d68"/>
          </a:solidFill>
          <a:ln w="9360">
            <a:solidFill>
              <a:srgbClr val="339966"/>
            </a:solidFill>
            <a:miter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7667640" y="2205000"/>
            <a:ext cx="1008000" cy="208764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83d6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AutoShape 14"/>
          <p:cNvSpPr/>
          <p:nvPr/>
        </p:nvSpPr>
        <p:spPr>
          <a:xfrm>
            <a:off x="3348000" y="4221000"/>
            <a:ext cx="2160720" cy="1079640"/>
          </a:xfrm>
          <a:prstGeom prst="cube">
            <a:avLst>
              <a:gd name="adj" fmla="val 25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Arc 3"/>
          <p:cNvSpPr/>
          <p:nvPr/>
        </p:nvSpPr>
        <p:spPr>
          <a:xfrm flipH="1">
            <a:off x="913680" y="2666880"/>
            <a:ext cx="2133720" cy="1905120"/>
          </a:xfrm>
          <a:custGeom>
            <a:avLst/>
            <a:gdLst>
              <a:gd name="textAreaLeft" fmla="*/ -360 w 2133720"/>
              <a:gd name="textAreaRight" fmla="*/ 2133720 w 21337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4"/>
          <p:cNvSpPr/>
          <p:nvPr/>
        </p:nvSpPr>
        <p:spPr>
          <a:xfrm flipH="1">
            <a:off x="380880" y="2133720"/>
            <a:ext cx="28195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Arc 5"/>
          <p:cNvSpPr/>
          <p:nvPr/>
        </p:nvSpPr>
        <p:spPr>
          <a:xfrm>
            <a:off x="3048120" y="2666880"/>
            <a:ext cx="990360" cy="533520"/>
          </a:xfrm>
          <a:custGeom>
            <a:avLst/>
            <a:gdLst>
              <a:gd name="textAreaLeft" fmla="*/ 0 w 990360"/>
              <a:gd name="textAreaRight" fmla="*/ 990720 w 990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4038480" y="2971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31" name="AutoShape 7"/>
          <p:cNvCxnSpPr>
            <a:stCxn id="428" idx="0"/>
            <a:endCxn id="428" idx="1"/>
          </p:cNvCxnSpPr>
          <p:nvPr/>
        </p:nvCxnSpPr>
        <p:spPr>
          <a:xfrm>
            <a:off x="379080" y="3885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2" name="Oval 8"/>
          <p:cNvSpPr/>
          <p:nvPr/>
        </p:nvSpPr>
        <p:spPr>
          <a:xfrm>
            <a:off x="3962520" y="3048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Oval 9"/>
          <p:cNvSpPr/>
          <p:nvPr/>
        </p:nvSpPr>
        <p:spPr>
          <a:xfrm>
            <a:off x="358128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Oval 11"/>
          <p:cNvSpPr/>
          <p:nvPr/>
        </p:nvSpPr>
        <p:spPr>
          <a:xfrm>
            <a:off x="1752480" y="29718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36" name="AutoShape 12"/>
          <p:cNvCxnSpPr>
            <a:stCxn id="435" idx="2"/>
            <a:endCxn id="434" idx="5"/>
          </p:cNvCxnSpPr>
          <p:nvPr/>
        </p:nvCxnSpPr>
        <p:spPr>
          <a:xfrm flipV="1">
            <a:off x="1752120" y="2732040"/>
            <a:ext cx="1437480" cy="27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7" name="AutoShape 13"/>
          <p:cNvCxnSpPr>
            <a:stCxn id="435" idx="5"/>
            <a:endCxn id="433" idx="2"/>
          </p:cNvCxnSpPr>
          <p:nvPr/>
        </p:nvCxnSpPr>
        <p:spPr>
          <a:xfrm flipV="1">
            <a:off x="1817280" y="2781360"/>
            <a:ext cx="1764360" cy="25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8" name="AutoShape 14"/>
          <p:cNvCxnSpPr>
            <a:stCxn id="435" idx="3"/>
            <a:endCxn id="432" idx="3"/>
          </p:cNvCxnSpPr>
          <p:nvPr/>
        </p:nvCxnSpPr>
        <p:spPr>
          <a:xfrm>
            <a:off x="1763280" y="3036600"/>
            <a:ext cx="22107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Text Box 15"/>
          <p:cNvSpPr/>
          <p:nvPr/>
        </p:nvSpPr>
        <p:spPr>
          <a:xfrm>
            <a:off x="304920" y="3124080"/>
            <a:ext cx="95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Tahoma"/>
              </a:rPr>
              <a:t>дотич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2556000" y="30686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Tahoma"/>
              </a:rPr>
              <a:t>січ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1676520" y="3124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Oval 18"/>
          <p:cNvSpPr/>
          <p:nvPr/>
        </p:nvSpPr>
        <p:spPr>
          <a:xfrm>
            <a:off x="175248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4648320" y="1916280"/>
            <a:ext cx="41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Verdana"/>
              </a:rPr>
              <a:t>Дотичн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до кривої в даній точці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називається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аничне положення січної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N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коли точка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рямує вздовж кривої до точки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2"/>
          <p:cNvSpPr/>
          <p:nvPr/>
        </p:nvSpPr>
        <p:spPr>
          <a:xfrm>
            <a:off x="541008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Line 3"/>
          <p:cNvSpPr/>
          <p:nvPr/>
        </p:nvSpPr>
        <p:spPr>
          <a:xfrm flipV="1">
            <a:off x="5257800" y="304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Line 4"/>
          <p:cNvSpPr/>
          <p:nvPr/>
        </p:nvSpPr>
        <p:spPr>
          <a:xfrm>
            <a:off x="495288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rc 5"/>
          <p:cNvSpPr/>
          <p:nvPr/>
        </p:nvSpPr>
        <p:spPr>
          <a:xfrm flipH="1">
            <a:off x="6553080" y="1676520"/>
            <a:ext cx="1524240" cy="685800"/>
          </a:xfrm>
          <a:custGeom>
            <a:avLst/>
            <a:gdLst>
              <a:gd name="textAreaLeft" fmla="*/ 360 w 1524240"/>
              <a:gd name="textAreaRight" fmla="*/ 1524960 w 15242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6"/>
          <p:cNvSpPr/>
          <p:nvPr/>
        </p:nvSpPr>
        <p:spPr>
          <a:xfrm flipH="1">
            <a:off x="5562720" y="1219320"/>
            <a:ext cx="2286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Oval 7"/>
          <p:cNvSpPr/>
          <p:nvPr/>
        </p:nvSpPr>
        <p:spPr>
          <a:xfrm>
            <a:off x="685800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Oval 8"/>
          <p:cNvSpPr/>
          <p:nvPr/>
        </p:nvSpPr>
        <p:spPr>
          <a:xfrm>
            <a:off x="7620120" y="1676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Oval 9"/>
          <p:cNvSpPr/>
          <p:nvPr/>
        </p:nvSpPr>
        <p:spPr>
          <a:xfrm flipV="1">
            <a:off x="68580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Oval 10"/>
          <p:cNvSpPr/>
          <p:nvPr/>
        </p:nvSpPr>
        <p:spPr>
          <a:xfrm flipV="1">
            <a:off x="76201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Arc 11"/>
          <p:cNvSpPr/>
          <p:nvPr/>
        </p:nvSpPr>
        <p:spPr>
          <a:xfrm>
            <a:off x="5867280" y="2666880"/>
            <a:ext cx="7632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Line 12"/>
          <p:cNvSpPr/>
          <p:nvPr/>
        </p:nvSpPr>
        <p:spPr>
          <a:xfrm>
            <a:off x="56386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Line 13"/>
          <p:cNvSpPr/>
          <p:nvPr/>
        </p:nvSpPr>
        <p:spPr>
          <a:xfrm>
            <a:off x="58672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14"/>
          <p:cNvSpPr/>
          <p:nvPr/>
        </p:nvSpPr>
        <p:spPr>
          <a:xfrm>
            <a:off x="60958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Line 15"/>
          <p:cNvSpPr/>
          <p:nvPr/>
        </p:nvSpPr>
        <p:spPr>
          <a:xfrm>
            <a:off x="63244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16"/>
          <p:cNvSpPr/>
          <p:nvPr/>
        </p:nvSpPr>
        <p:spPr>
          <a:xfrm>
            <a:off x="65530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Line 17"/>
          <p:cNvSpPr/>
          <p:nvPr/>
        </p:nvSpPr>
        <p:spPr>
          <a:xfrm>
            <a:off x="6858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18"/>
          <p:cNvSpPr/>
          <p:nvPr/>
        </p:nvSpPr>
        <p:spPr>
          <a:xfrm>
            <a:off x="6858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Line 19"/>
          <p:cNvSpPr/>
          <p:nvPr/>
        </p:nvSpPr>
        <p:spPr>
          <a:xfrm>
            <a:off x="54100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Line 20"/>
          <p:cNvSpPr/>
          <p:nvPr/>
        </p:nvSpPr>
        <p:spPr>
          <a:xfrm>
            <a:off x="56386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21"/>
          <p:cNvSpPr/>
          <p:nvPr/>
        </p:nvSpPr>
        <p:spPr>
          <a:xfrm>
            <a:off x="58672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22"/>
          <p:cNvSpPr/>
          <p:nvPr/>
        </p:nvSpPr>
        <p:spPr>
          <a:xfrm>
            <a:off x="60958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23"/>
          <p:cNvSpPr/>
          <p:nvPr/>
        </p:nvSpPr>
        <p:spPr>
          <a:xfrm>
            <a:off x="6324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Line 24"/>
          <p:cNvSpPr/>
          <p:nvPr/>
        </p:nvSpPr>
        <p:spPr>
          <a:xfrm>
            <a:off x="65530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Line 25"/>
          <p:cNvSpPr/>
          <p:nvPr/>
        </p:nvSpPr>
        <p:spPr>
          <a:xfrm>
            <a:off x="54100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Line 26"/>
          <p:cNvSpPr/>
          <p:nvPr/>
        </p:nvSpPr>
        <p:spPr>
          <a:xfrm>
            <a:off x="70102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27"/>
          <p:cNvSpPr/>
          <p:nvPr/>
        </p:nvSpPr>
        <p:spPr>
          <a:xfrm>
            <a:off x="67816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Line 28"/>
          <p:cNvSpPr/>
          <p:nvPr/>
        </p:nvSpPr>
        <p:spPr>
          <a:xfrm>
            <a:off x="7620120" y="2133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29"/>
          <p:cNvSpPr/>
          <p:nvPr/>
        </p:nvSpPr>
        <p:spPr>
          <a:xfrm>
            <a:off x="762012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30"/>
          <p:cNvSpPr/>
          <p:nvPr/>
        </p:nvSpPr>
        <p:spPr>
          <a:xfrm>
            <a:off x="76201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31"/>
          <p:cNvSpPr/>
          <p:nvPr/>
        </p:nvSpPr>
        <p:spPr>
          <a:xfrm>
            <a:off x="5334120" y="304920"/>
            <a:ext cx="20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32"/>
          <p:cNvSpPr/>
          <p:nvPr/>
        </p:nvSpPr>
        <p:spPr>
          <a:xfrm>
            <a:off x="8001000" y="2819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6667200" y="26935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7164360" y="2819520"/>
            <a:ext cx="785880" cy="371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6732720" y="2708280"/>
            <a:ext cx="417240" cy="576360"/>
          </a:xfrm>
          <a:prstGeom prst="rect">
            <a:avLst/>
          </a:prstGeom>
          <a:ln w="0">
            <a:noFill/>
          </a:ln>
        </p:spPr>
      </p:pic>
      <p:sp>
        <p:nvSpPr>
          <p:cNvPr id="479" name="Oval 36"/>
          <p:cNvSpPr/>
          <p:nvPr/>
        </p:nvSpPr>
        <p:spPr>
          <a:xfrm flipH="1" flipV="1">
            <a:off x="5257800" y="19044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Oval 37"/>
          <p:cNvSpPr/>
          <p:nvPr/>
        </p:nvSpPr>
        <p:spPr>
          <a:xfrm>
            <a:off x="5257800" y="1676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3995640" y="1484280"/>
            <a:ext cx="1270080" cy="4143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5"/>
          <a:stretch/>
        </p:blipFill>
        <p:spPr>
          <a:xfrm>
            <a:off x="4356000" y="184464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6"/>
          <a:stretch/>
        </p:blipFill>
        <p:spPr>
          <a:xfrm>
            <a:off x="7696080" y="1676520"/>
            <a:ext cx="405000" cy="3808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7"/>
          <a:stretch/>
        </p:blipFill>
        <p:spPr>
          <a:xfrm>
            <a:off x="7020000" y="1989000"/>
            <a:ext cx="361800" cy="2984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8"/>
          <a:stretch/>
        </p:blipFill>
        <p:spPr>
          <a:xfrm>
            <a:off x="7020000" y="23493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486" name="Line 43"/>
          <p:cNvSpPr/>
          <p:nvPr/>
        </p:nvSpPr>
        <p:spPr>
          <a:xfrm>
            <a:off x="7315200" y="1981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Line 44"/>
          <p:cNvSpPr/>
          <p:nvPr/>
        </p:nvSpPr>
        <p:spPr>
          <a:xfrm>
            <a:off x="7086600" y="1981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9"/>
          <a:stretch/>
        </p:blipFill>
        <p:spPr>
          <a:xfrm>
            <a:off x="324000" y="620640"/>
            <a:ext cx="2531880" cy="7938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0"/>
          <a:stretch/>
        </p:blipFill>
        <p:spPr>
          <a:xfrm>
            <a:off x="500040" y="2286000"/>
            <a:ext cx="3205080" cy="66348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47"/>
          <p:cNvSpPr/>
          <p:nvPr/>
        </p:nvSpPr>
        <p:spPr>
          <a:xfrm>
            <a:off x="357120" y="1428840"/>
            <a:ext cx="35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k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0" lang="uk-UA" sz="2000" spc="-1" strike="noStrike">
                <a:solidFill>
                  <a:srgbClr val="ff0000"/>
                </a:solidFill>
                <a:latin typeface="Verdana"/>
              </a:rPr>
              <a:t>кутовий коефіцієнт</a:t>
            </a:r>
            <a:r>
              <a:rPr b="0" lang="uk-UA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Rectangle 48"/>
          <p:cNvSpPr/>
          <p:nvPr/>
        </p:nvSpPr>
        <p:spPr>
          <a:xfrm>
            <a:off x="826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1"/>
          <a:stretch/>
        </p:blipFill>
        <p:spPr>
          <a:xfrm>
            <a:off x="428760" y="2928960"/>
            <a:ext cx="3744720" cy="7192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50"/>
          <p:cNvSpPr/>
          <p:nvPr/>
        </p:nvSpPr>
        <p:spPr>
          <a:xfrm>
            <a:off x="327672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 Box 51"/>
          <p:cNvSpPr/>
          <p:nvPr/>
        </p:nvSpPr>
        <p:spPr>
          <a:xfrm>
            <a:off x="357120" y="371484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Verdana"/>
              </a:rPr>
              <a:t>рівняння дотичної до графіка функції                 в точці з абсцисою     .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2"/>
          <a:stretch/>
        </p:blipFill>
        <p:spPr>
          <a:xfrm>
            <a:off x="6732720" y="3141720"/>
            <a:ext cx="1944720" cy="676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3"/>
          <a:stretch/>
        </p:blipFill>
        <p:spPr>
          <a:xfrm>
            <a:off x="4000680" y="3857760"/>
            <a:ext cx="68580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WordArt 6"/>
          <p:cNvSpPr txBox="1"/>
          <p:nvPr/>
        </p:nvSpPr>
        <p:spPr>
          <a:xfrm>
            <a:off x="1187280" y="1197000"/>
            <a:ext cx="6697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ізичний зміст похідної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3:16:12Z</dcterms:created>
  <dc:creator>Школа</dc:creator>
  <dc:description/>
  <dc:language>en-US</dc:language>
  <cp:lastModifiedBy>Admin</cp:lastModifiedBy>
  <dcterms:modified xsi:type="dcterms:W3CDTF">2012-01-18T09:44:00Z</dcterms:modified>
  <cp:revision>18</cp:revision>
  <dc:subject/>
  <dc:title>Похідна та її застосуванн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0f000000000001024140</vt:lpwstr>
  </property>
</Properties>
</file>