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13.wmf" ContentType="image/x-wmf"/>
  <Override PartName="/ppt/media/image34.wmf" ContentType="image/x-wmf"/>
  <Override PartName="/ppt/media/image9.wmf" ContentType="image/x-wmf"/>
  <Override PartName="/ppt/media/image12.png" ContentType="image/png"/>
  <Override PartName="/ppt/media/image35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39.jpeg" ContentType="image/jpeg"/>
  <Override PartName="/ppt/media/image28.png" ContentType="image/png"/>
  <Override PartName="/ppt/media/image31.wmf" ContentType="image/x-wmf"/>
  <Override PartName="/ppt/media/image29.jpeg" ContentType="image/jpeg"/>
  <Override PartName="/ppt/media/image33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11.jpeg" ContentType="image/jpeg"/>
  <Override PartName="/ppt/media/image23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png" ContentType="image/png"/>
  <Override PartName="/ppt/media/image26.png" ContentType="image/png"/>
  <Override PartName="/ppt/media/image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8E9-0C71-4EE9-92D7-6E2DDF95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EBD-0332-4FDD-9CEE-A3AD7C32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983CE-92BB-4968-8375-9BBF14A6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2E97C-922D-459C-B227-F0A1132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2729D-A8CA-4807-B2E4-056DC460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80D28-6FDA-476A-BCB5-0A1F2258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5ABE-9796-41B4-A935-5F7FD581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93FD8-C131-4D15-A0D1-2AACB39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25BEA-C921-4B55-A41B-40BC6424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A9FBF-988D-48E0-8D62-00540868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ABC7B-22F6-46C8-995C-DA700912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CD2-E888-4591-8281-95C8C22B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8A9-7910-43A6-B894-963F237F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35C4-152D-4E6F-9DDC-251FC5FA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BE65-F2CF-4045-93A6-386CBC01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F11E-22D0-491F-A118-E106E903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A603-4BDE-4A74-8A62-0CAF10EF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A1FA-92E0-4C98-8D8F-E80E4526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E320-2215-4440-9D09-CD231D1B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EB4-C457-49B4-A8B2-640FAF0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B1B-25D6-4609-972C-2805521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8F40-EDB6-4834-83F9-F1F4BEE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258B-21F2-4FF1-8EB5-F1E230D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BA9-51CB-471D-94C7-FAFAFDE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F652-D09B-405C-B5BC-34FFEA77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319B-BFD6-4CA0-BB6C-009BF3FE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A567-9243-4669-A854-9773C953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D068-22F1-48F4-BFAC-1AD23185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E8CD-AE0B-4528-80A4-A90B862A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FF8F-6659-4471-B2C1-3AC2BA2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9C9A-881C-4D4A-9CB9-0C5F67ED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B87-DE15-4162-BEB8-20C356B5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4C02-F578-4B9C-84FE-D74F3190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D1D7-185C-46AD-A5C2-CF33775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D96C-4D73-42C3-9872-38F0F418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3F6C-C3E4-4EBB-A26A-ED47DC3C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EB9E-FD9E-4F00-AE82-4389E8EA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A1E1-087A-4F5F-87F3-391743EB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A941-1185-4B53-A0A4-1B5D634E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E259-1C85-46E9-8DB4-DB47D875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9CCF-A97B-402D-B9BC-D8ADA13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AF20-D525-4564-A804-1B06FC6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7DC-5A17-454C-B155-E7BC3675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1017-892D-461C-A1A7-EF0F10A9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4090-0BC2-4162-8C86-A9D3F59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C4AF-3852-4EA0-869C-0B987CF7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A819-1804-4277-932E-F9E35F3D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3B096-BBB0-4376-B6A7-57326698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50DB-2BF0-4F46-BD61-B9FBC2A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633D5-2762-497A-A443-C5C02B1F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4486E-7FD4-40C1-BCF9-8033DD06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3A19-5E7B-435B-ADA3-CA2836D7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9E82-F56A-433A-8AB5-38282C5C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9AA-BCC5-4AB0-86FF-008A2ECB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92D45-6396-40BA-850A-304A761D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41E0A-16F0-4A85-B3B9-01DB37C4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EE79-C09C-41E9-A602-9675FB44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564F-F4C2-4168-AF5E-7DD1AAF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65E27-6E70-460A-8066-BEC8010E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F5D67-6730-45C1-AF1E-6092C24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88489-BDF5-4749-A168-5D0B8C9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2FEA-206C-432D-86B4-FC56201A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35A8-2EA8-4D09-8629-5E7EB65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93DFD-54E3-4996-A141-A6657B39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0A2-953F-46FE-BBE6-2FDEBB0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7780-FF11-4EE1-9D8F-18764EA5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87F9B-C397-40AC-87EA-59FB183F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771ED-2D25-4CDC-B0C0-0BBBCC02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76607-F90A-40D0-ADF1-0F77A02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1C2BC-F3C8-4C17-847D-2D96A44D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9521-2459-4226-8130-A1562E0B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C7E1-5355-4994-94F6-47E72EF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3C02B-8DE9-449E-9C4D-A0E8BFC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1802-D242-42F4-B26C-8C0EA43E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DD4FC-148C-4499-AC8F-3E573E8B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78B-D30C-4EEF-B458-762B10C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E8098-A3A7-417F-920C-1A4B014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5745-714A-47AE-8586-E86F5465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B49F-0B04-41E8-B53C-169D542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23005-817B-481C-A46D-48E88536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A579F-7BAC-4F2F-9C1B-876673C9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88ED-066A-4856-8862-60223E5E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F0AE-8EE4-462A-A63C-0CF93AE8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F267F-72BD-4EA1-8344-F08B5FF6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B668-B6CA-48FA-9101-08BBB70D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2E49-CD80-4425-A693-120C157D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FF5-E273-46E0-B799-39F1251A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43CA-039F-4A62-BE36-4E0E6B7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865E0-A406-49E6-B0DE-A03D8C3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B42FF-2606-459A-B64D-ED49C248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436A-9757-4917-A604-4471F131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BE1FE-7BA2-43B3-A823-54096C65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F1967-F3B4-4823-83F2-2B88456F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A367C-E599-4FE4-9135-49F11C63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01CBE-BED8-4CAF-857C-56D5500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771E-0518-4B41-94EF-06EAD1D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49908-DFC8-4871-A2A1-7E9382FD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5C8-01A1-4B1B-AFE7-A069231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61F87-1648-4956-A333-D506AB27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295F-FC15-49AA-9CC6-30C42EE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CDD9-3742-4D28-A09F-48FD5C07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A57FF-BC8D-4D7A-8DCC-3EF7C35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F8EB8-4B36-42AC-B8F4-05C58D30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4314A-5820-435E-B469-54A49304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AC2A-B4F7-4704-9B0B-5C5B84AC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1FBEF-01E9-4986-9B0B-9639AA47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ADC6E-618D-4850-A5C4-80F4DB0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49F23-BB5A-44BD-878F-82CB5E6A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FA6-A5BE-421E-99E8-35E11A29FF6D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15AD-6F52-479D-807A-823063CF9E74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4BB-AC3B-4822-8C01-3970B808C5AA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9C89-01A2-4C6E-9543-A3DC850A864E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2685-EECC-4E5F-912E-A57971987600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937E-908E-44C8-88D9-697977A4D929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54E-EBB3-4EF4-8E52-41D57E2C43CF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32F4-B134-48B2-8538-22E6478454A9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Ільюх С. М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B56B-1C88-4582-A463-42AC3F22A019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6760" y="2356920"/>
            <a:ext cx="8077320" cy="23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d75b7e"/>
                </a:solidFill>
                <a:latin typeface="Verdana"/>
              </a:rPr>
              <a:t>Похідна </a:t>
            </a:r>
            <a:br>
              <a:rPr sz="6600"/>
            </a:br>
            <a:r>
              <a:rPr b="1" lang="uk-UA" sz="6600" spc="-1" strike="noStrike">
                <a:solidFill>
                  <a:srgbClr val="d75b7e"/>
                </a:solidFill>
                <a:latin typeface="Verdana"/>
              </a:rPr>
              <a:t>та її застосування</a:t>
            </a:r>
            <a:endParaRPr b="1" lang="en-US" sz="6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0000"/>
                </a:solidFill>
                <a:latin typeface="Verdana"/>
              </a:rPr>
              <a:t>Задача про миттєву швидкість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00120" y="4143240"/>
            <a:ext cx="5558040" cy="1357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3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22132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Picture 6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816360" cy="1224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3635640" cy="1152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3"/>
          <a:stretch/>
        </p:blipFill>
        <p:spPr>
          <a:xfrm>
            <a:off x="2050920" y="4653000"/>
            <a:ext cx="4321440" cy="1008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1"/>
          <p:cNvSpPr/>
          <p:nvPr/>
        </p:nvSpPr>
        <p:spPr>
          <a:xfrm>
            <a:off x="5449320" y="2996280"/>
            <a:ext cx="87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Verdana"/>
                <a:ea typeface="Times New Roman"/>
              </a:rPr>
              <a:t>(t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G:\Карфаген.bmp"/>
          <p:cNvPicPr/>
          <p:nvPr/>
        </p:nvPicPr>
        <p:blipFill>
          <a:blip r:embed="rId1"/>
          <a:srcRect l="0" t="0" r="-52" b="8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Verdana"/>
              </a:rPr>
              <a:t>під редакцією М.І.Сканаві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WordArt 4"/>
          <p:cNvSpPr txBox="1"/>
          <p:nvPr/>
        </p:nvSpPr>
        <p:spPr>
          <a:xfrm>
            <a:off x="785880" y="642960"/>
            <a:ext cx="7358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”</a:t>
            </a: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бірник   конкурсних    задач“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Picture 5" descr="008"/>
          <p:cNvPicPr/>
          <p:nvPr/>
        </p:nvPicPr>
        <p:blipFill>
          <a:blip r:embed="rId1"/>
          <a:stretch/>
        </p:blipFill>
        <p:spPr>
          <a:xfrm>
            <a:off x="2666880" y="3573360"/>
            <a:ext cx="3057480" cy="2232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008"/>
          <p:cNvPicPr/>
          <p:nvPr/>
        </p:nvPicPr>
        <p:blipFill>
          <a:blip r:embed="rId2"/>
          <a:stretch/>
        </p:blipFill>
        <p:spPr>
          <a:xfrm>
            <a:off x="2714760" y="3571920"/>
            <a:ext cx="305748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4240" y="-3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Verdana"/>
              </a:rPr>
              <a:t>Задача 15.121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1071360"/>
            <a:ext cx="8424720" cy="5516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Тіло масою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рухається прямолінійно за зако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вести,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щ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сила, яка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іє на тіло,        пропорційна кубу пройденого шлях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714680" y="3857760"/>
            <a:ext cx="4357440" cy="213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WordArt 4"/>
          <p:cNvSpPr txBox="1"/>
          <p:nvPr/>
        </p:nvSpPr>
        <p:spPr>
          <a:xfrm>
            <a:off x="1187280" y="1484280"/>
            <a:ext cx="6913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вдання  ЗН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18352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-4536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0000"/>
                </a:solidFill>
                <a:latin typeface="Monotype Corsiva"/>
              </a:rPr>
              <a:t>       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Picture 10" descr="031"/>
          <p:cNvPicPr/>
          <p:nvPr/>
        </p:nvPicPr>
        <p:blipFill>
          <a:blip r:embed="rId1"/>
          <a:stretch/>
        </p:blipFill>
        <p:spPr>
          <a:xfrm>
            <a:off x="6858000" y="4876920"/>
            <a:ext cx="1663560" cy="1182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031"/>
          <p:cNvPicPr/>
          <p:nvPr/>
        </p:nvPicPr>
        <p:blipFill>
          <a:blip r:embed="rId2"/>
          <a:stretch/>
        </p:blipFill>
        <p:spPr>
          <a:xfrm>
            <a:off x="6858000" y="4929120"/>
            <a:ext cx="1663560" cy="118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ижний колонтитул 6"/>
          <p:cNvSpPr/>
          <p:nvPr/>
        </p:nvSpPr>
        <p:spPr>
          <a:xfrm flipV="1">
            <a:off x="3124080" y="6720840"/>
            <a:ext cx="28958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Знайдіть, при яких значеннях параметра а дотична до графіка функції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у точці з абсцисою               проходить через точк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(3;4).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Текст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4000320" cy="8571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715000" y="2786040"/>
            <a:ext cx="1897200" cy="89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80520" y="1428480"/>
            <a:ext cx="8153640" cy="4629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)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бчисліть       , якщо кут між дотичною проведеної до графіка функції              у точці з абсцисою          і додатнім напрямом ос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X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дорівнює  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Д)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Записати рівняння дотичної до графіка функції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= 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uk-UA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4,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яка перпендикулярна до прямої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2=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арабол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4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ибрано дві точки з абсцисам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-1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3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Через ці точки проведено січну. Знайти рівняння дотичної до параболи, яка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паралельна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ічні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024520" y="1599840"/>
            <a:ext cx="3286080" cy="2187720"/>
          </a:xfrm>
          <a:prstGeom prst="rect">
            <a:avLst/>
          </a:prstGeom>
          <a:ln w="0">
            <a:noFill/>
          </a:ln>
        </p:spPr>
      </p:pic>
      <p:pic>
        <p:nvPicPr>
          <p:cNvPr id="532" name="Текст 3" descr=""/>
          <p:cNvPicPr/>
          <p:nvPr/>
        </p:nvPicPr>
        <p:blipFill>
          <a:blip r:embed="rId2"/>
          <a:stretch/>
        </p:blipFill>
        <p:spPr>
          <a:xfrm>
            <a:off x="3071880" y="1500120"/>
            <a:ext cx="761760" cy="4348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786280" y="1857240"/>
            <a:ext cx="1150920" cy="4892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86040" y="2286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2286000" y="2714760"/>
            <a:ext cx="533520" cy="4492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омашн</a:t>
            </a:r>
            <a:r>
              <a:rPr b="1" lang="uk-UA" sz="3600" spc="-1" strike="noStrike">
                <a:solidFill>
                  <a:srgbClr val="d75b7e"/>
                </a:solidFill>
                <a:latin typeface="Verdana"/>
              </a:rPr>
              <a:t>є</a:t>
            </a: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 завдання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Доска"/>
          <p:cNvPicPr/>
          <p:nvPr/>
        </p:nvPicPr>
        <p:blipFill>
          <a:blip r:embed="rId1"/>
          <a:stretch/>
        </p:blipFill>
        <p:spPr>
          <a:xfrm>
            <a:off x="0" y="-16020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5"/>
          <p:cNvSpPr/>
          <p:nvPr/>
        </p:nvSpPr>
        <p:spPr>
          <a:xfrm rot="3964200">
            <a:off x="1127520" y="-265680"/>
            <a:ext cx="4411800" cy="768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« НЕ МАХАЙ НА ВСЕ РУКОЮ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НЕ ЛІНУЙСЯ,А УЧИСЬ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БО ЧОГО НАВЧИШ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В ШКОЛІ, ЗНАДОБИТЬ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ЩЕ КОЛИСЬ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!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40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2920" y="1071360"/>
            <a:ext cx="8501040" cy="532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Розум людський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має три ключі, які все відкривають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72754"/>
                </a:solidFill>
                <a:latin typeface="Verdana"/>
              </a:rPr>
              <a:t>знання, думка, уява</a:t>
            </a: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Verdana"/>
              </a:rPr>
              <a:t>Віктор Гюг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80000"/>
                </a:solidFill>
                <a:latin typeface="Verdana"/>
              </a:rPr>
              <a:t>До відкриття похідної незалежно один від одного прийшли два  відомих учених І.Ньютон</a:t>
            </a:r>
            <a:r>
              <a:rPr b="1" lang="ru-RU" sz="2800" spc="-1" strike="noStrike">
                <a:solidFill>
                  <a:srgbClr val="a80000"/>
                </a:solidFill>
                <a:latin typeface="Verdana"/>
              </a:rPr>
              <a:t>  і Г. Лейбніц</a:t>
            </a:r>
            <a:endParaRPr b="1" lang="en-US" sz="2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673200" y="1773360"/>
            <a:ext cx="8435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12" descr="nyuton_big"/>
          <p:cNvPicPr/>
          <p:nvPr/>
        </p:nvPicPr>
        <p:blipFill>
          <a:blip r:embed="rId1"/>
          <a:stretch/>
        </p:blipFill>
        <p:spPr>
          <a:xfrm>
            <a:off x="4643280" y="2214720"/>
            <a:ext cx="2791080" cy="3474720"/>
          </a:xfrm>
          <a:prstGeom prst="rect">
            <a:avLst/>
          </a:prstGeom>
          <a:ln w="57240">
            <a:solidFill>
              <a:srgbClr val="ffc197"/>
            </a:solidFill>
            <a:miter/>
          </a:ln>
        </p:spPr>
      </p:pic>
      <p:pic>
        <p:nvPicPr>
          <p:cNvPr id="408" name="Picture 13" descr="480px-Лейбниц_цитата_"/>
          <p:cNvPicPr/>
          <p:nvPr/>
        </p:nvPicPr>
        <p:blipFill>
          <a:blip r:embed="rId2"/>
          <a:stretch/>
        </p:blipFill>
        <p:spPr>
          <a:xfrm>
            <a:off x="1822320" y="2286000"/>
            <a:ext cx="2678400" cy="3375000"/>
          </a:xfrm>
          <a:prstGeom prst="rect">
            <a:avLst/>
          </a:prstGeom>
          <a:ln w="76320">
            <a:solidFill>
              <a:srgbClr val="ffc197"/>
            </a:solidFill>
            <a:miter/>
          </a:ln>
        </p:spPr>
      </p:pic>
      <p:sp>
        <p:nvSpPr>
          <p:cNvPr id="409" name="Rectangle 14"/>
          <p:cNvSpPr/>
          <p:nvPr/>
        </p:nvSpPr>
        <p:spPr>
          <a:xfrm>
            <a:off x="7429680" y="3429000"/>
            <a:ext cx="143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аа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ьют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1642-172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285840" y="3500280"/>
            <a:ext cx="143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льгель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1646-171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9720" y="1000080"/>
            <a:ext cx="7072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0000"/>
                </a:solidFill>
                <a:latin typeface="Verdana"/>
              </a:rPr>
              <a:t>Похідна та її зміст</a:t>
            </a:r>
            <a:endParaRPr b="1" lang="en-US" sz="54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412" name="Текст 3" descr=""/>
          <p:cNvPicPr/>
          <p:nvPr/>
        </p:nvPicPr>
        <p:blipFill>
          <a:blip r:embed="rId1"/>
          <a:stretch/>
        </p:blipFill>
        <p:spPr>
          <a:xfrm>
            <a:off x="2125800" y="4470480"/>
            <a:ext cx="141120" cy="25236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4"/>
          <p:cNvSpPr/>
          <p:nvPr/>
        </p:nvSpPr>
        <p:spPr>
          <a:xfrm>
            <a:off x="2143080" y="1785960"/>
            <a:ext cx="4572000" cy="1109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ункці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має в точці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охідн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714240" y="3714840"/>
            <a:ext cx="3286440" cy="17859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ізичний зміст похідної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4500720" y="3786120"/>
            <a:ext cx="3786120" cy="1714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еометричний зміст похідної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Текст 3" descr=""/>
          <p:cNvPicPr/>
          <p:nvPr/>
        </p:nvPicPr>
        <p:blipFill>
          <a:blip r:embed="rId2"/>
          <a:stretch/>
        </p:blipFill>
        <p:spPr>
          <a:xfrm>
            <a:off x="2346480" y="2071800"/>
            <a:ext cx="4082760" cy="779400"/>
          </a:xfrm>
          <a:prstGeom prst="rect">
            <a:avLst/>
          </a:prstGeom>
          <a:ln w="0">
            <a:noFill/>
          </a:ln>
        </p:spPr>
      </p:pic>
      <p:pic>
        <p:nvPicPr>
          <p:cNvPr id="417" name="Текст 3" descr=""/>
          <p:cNvPicPr/>
          <p:nvPr/>
        </p:nvPicPr>
        <p:blipFill>
          <a:blip r:embed="rId3"/>
          <a:stretch/>
        </p:blipFill>
        <p:spPr>
          <a:xfrm>
            <a:off x="928800" y="4572000"/>
            <a:ext cx="2928960" cy="10717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0" y="4500720"/>
            <a:ext cx="3429000" cy="890280"/>
          </a:xfrm>
          <a:prstGeom prst="rect">
            <a:avLst/>
          </a:prstGeom>
          <a:ln w="0">
            <a:noFill/>
          </a:ln>
        </p:spPr>
      </p:pic>
      <p:sp>
        <p:nvSpPr>
          <p:cNvPr id="419" name="Line 24"/>
          <p:cNvSpPr/>
          <p:nvPr/>
        </p:nvSpPr>
        <p:spPr>
          <a:xfrm flipH="1">
            <a:off x="2785680" y="2895480"/>
            <a:ext cx="142884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4214880" y="2895480"/>
            <a:ext cx="128592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6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4"/>
          <p:cNvSpPr txBox="1"/>
          <p:nvPr/>
        </p:nvSpPr>
        <p:spPr>
          <a:xfrm>
            <a:off x="826920" y="2708280"/>
            <a:ext cx="669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ометричний зміст похідної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1763640" y="620640"/>
            <a:ext cx="1152720" cy="1871640"/>
          </a:xfrm>
          <a:prstGeom prst="can">
            <a:avLst>
              <a:gd name="adj" fmla="val 25000"/>
            </a:avLst>
          </a:prstGeom>
          <a:solidFill>
            <a:srgbClr val="b83d68"/>
          </a:solidFill>
          <a:ln w="9360">
            <a:solidFill>
              <a:srgbClr val="339966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7667640" y="2205000"/>
            <a:ext cx="1008000" cy="2087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14"/>
          <p:cNvSpPr/>
          <p:nvPr/>
        </p:nvSpPr>
        <p:spPr>
          <a:xfrm>
            <a:off x="3348000" y="4221000"/>
            <a:ext cx="2160720" cy="1079640"/>
          </a:xfrm>
          <a:prstGeom prst="cube">
            <a:avLst>
              <a:gd name="adj" fmla="val 25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Arc 3"/>
          <p:cNvSpPr/>
          <p:nvPr/>
        </p:nvSpPr>
        <p:spPr>
          <a:xfrm flipH="1">
            <a:off x="913680" y="2666880"/>
            <a:ext cx="2133720" cy="1905120"/>
          </a:xfrm>
          <a:custGeom>
            <a:avLst/>
            <a:gdLst>
              <a:gd name="textAreaLeft" fmla="*/ -360 w 2133720"/>
              <a:gd name="textAreaRight" fmla="*/ 2133720 w 21337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4"/>
          <p:cNvSpPr/>
          <p:nvPr/>
        </p:nvSpPr>
        <p:spPr>
          <a:xfrm flipH="1">
            <a:off x="380880" y="2133720"/>
            <a:ext cx="28195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Arc 5"/>
          <p:cNvSpPr/>
          <p:nvPr/>
        </p:nvSpPr>
        <p:spPr>
          <a:xfrm>
            <a:off x="3048120" y="2666880"/>
            <a:ext cx="990360" cy="533520"/>
          </a:xfrm>
          <a:custGeom>
            <a:avLst/>
            <a:gdLst>
              <a:gd name="textAreaLeft" fmla="*/ 0 w 990360"/>
              <a:gd name="textAreaRight" fmla="*/ 990720 w 990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4038480" y="2971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1" name="AutoShape 7"/>
          <p:cNvCxnSpPr>
            <a:stCxn id="428" idx="0"/>
            <a:endCxn id="428" idx="1"/>
          </p:cNvCxnSpPr>
          <p:nvPr/>
        </p:nvCxnSpPr>
        <p:spPr>
          <a:xfrm>
            <a:off x="37908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2" name="Oval 8"/>
          <p:cNvSpPr/>
          <p:nvPr/>
        </p:nvSpPr>
        <p:spPr>
          <a:xfrm>
            <a:off x="39625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35812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6" name="AutoShape 12"/>
          <p:cNvCxnSpPr>
            <a:stCxn id="435" idx="2"/>
            <a:endCxn id="434" idx="5"/>
          </p:cNvCxnSpPr>
          <p:nvPr/>
        </p:nvCxnSpPr>
        <p:spPr>
          <a:xfrm flipV="1">
            <a:off x="1752120" y="2732040"/>
            <a:ext cx="143748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7" name="AutoShape 13"/>
          <p:cNvCxnSpPr>
            <a:stCxn id="435" idx="5"/>
            <a:endCxn id="433" idx="2"/>
          </p:cNvCxnSpPr>
          <p:nvPr/>
        </p:nvCxnSpPr>
        <p:spPr>
          <a:xfrm flipV="1">
            <a:off x="1817280" y="2781360"/>
            <a:ext cx="176436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AutoShape 14"/>
          <p:cNvCxnSpPr>
            <a:stCxn id="435" idx="3"/>
            <a:endCxn id="432" idx="3"/>
          </p:cNvCxnSpPr>
          <p:nvPr/>
        </p:nvCxnSpPr>
        <p:spPr>
          <a:xfrm>
            <a:off x="1763280" y="3036600"/>
            <a:ext cx="22107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Text Box 15"/>
          <p:cNvSpPr/>
          <p:nvPr/>
        </p:nvSpPr>
        <p:spPr>
          <a:xfrm>
            <a:off x="304920" y="3124080"/>
            <a:ext cx="9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ahoma"/>
              </a:rPr>
              <a:t>дотич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2556000" y="30686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ahoma"/>
              </a:rPr>
              <a:t>січ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1676520" y="3124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Oval 18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4648320" y="1916280"/>
            <a:ext cx="41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Verdana"/>
              </a:rPr>
              <a:t>Дотичн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до кривої в даній точці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називається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аничне положення січної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коли точк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рямує вздовж кривої до точк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2"/>
          <p:cNvSpPr/>
          <p:nvPr/>
        </p:nvSpPr>
        <p:spPr>
          <a:xfrm>
            <a:off x="54100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5257800" y="304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4"/>
          <p:cNvSpPr/>
          <p:nvPr/>
        </p:nvSpPr>
        <p:spPr>
          <a:xfrm>
            <a:off x="495288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rc 5"/>
          <p:cNvSpPr/>
          <p:nvPr/>
        </p:nvSpPr>
        <p:spPr>
          <a:xfrm flipH="1">
            <a:off x="6553080" y="1676520"/>
            <a:ext cx="1524240" cy="685800"/>
          </a:xfrm>
          <a:custGeom>
            <a:avLst/>
            <a:gdLst>
              <a:gd name="textAreaLeft" fmla="*/ 360 w 1524240"/>
              <a:gd name="textAreaRight" fmla="*/ 1524960 w 1524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6"/>
          <p:cNvSpPr/>
          <p:nvPr/>
        </p:nvSpPr>
        <p:spPr>
          <a:xfrm flipH="1">
            <a:off x="5562720" y="1219320"/>
            <a:ext cx="2286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Oval 7"/>
          <p:cNvSpPr/>
          <p:nvPr/>
        </p:nvSpPr>
        <p:spPr>
          <a:xfrm>
            <a:off x="685800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Oval 8"/>
          <p:cNvSpPr/>
          <p:nvPr/>
        </p:nvSpPr>
        <p:spPr>
          <a:xfrm>
            <a:off x="7620120" y="1676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Oval 9"/>
          <p:cNvSpPr/>
          <p:nvPr/>
        </p:nvSpPr>
        <p:spPr>
          <a:xfrm flipV="1">
            <a:off x="6858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Oval 10"/>
          <p:cNvSpPr/>
          <p:nvPr/>
        </p:nvSpPr>
        <p:spPr>
          <a:xfrm flipV="1">
            <a:off x="7620120" y="2666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Arc 11"/>
          <p:cNvSpPr/>
          <p:nvPr/>
        </p:nvSpPr>
        <p:spPr>
          <a:xfrm>
            <a:off x="5867280" y="2666880"/>
            <a:ext cx="763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Line 12"/>
          <p:cNvSpPr/>
          <p:nvPr/>
        </p:nvSpPr>
        <p:spPr>
          <a:xfrm>
            <a:off x="56386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13"/>
          <p:cNvSpPr/>
          <p:nvPr/>
        </p:nvSpPr>
        <p:spPr>
          <a:xfrm>
            <a:off x="58672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4"/>
          <p:cNvSpPr/>
          <p:nvPr/>
        </p:nvSpPr>
        <p:spPr>
          <a:xfrm>
            <a:off x="60958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15"/>
          <p:cNvSpPr/>
          <p:nvPr/>
        </p:nvSpPr>
        <p:spPr>
          <a:xfrm>
            <a:off x="63244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16"/>
          <p:cNvSpPr/>
          <p:nvPr/>
        </p:nvSpPr>
        <p:spPr>
          <a:xfrm>
            <a:off x="65530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Line 17"/>
          <p:cNvSpPr/>
          <p:nvPr/>
        </p:nvSpPr>
        <p:spPr>
          <a:xfrm>
            <a:off x="6858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18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19"/>
          <p:cNvSpPr/>
          <p:nvPr/>
        </p:nvSpPr>
        <p:spPr>
          <a:xfrm>
            <a:off x="54100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Line 20"/>
          <p:cNvSpPr/>
          <p:nvPr/>
        </p:nvSpPr>
        <p:spPr>
          <a:xfrm>
            <a:off x="56386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21"/>
          <p:cNvSpPr/>
          <p:nvPr/>
        </p:nvSpPr>
        <p:spPr>
          <a:xfrm>
            <a:off x="58672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22"/>
          <p:cNvSpPr/>
          <p:nvPr/>
        </p:nvSpPr>
        <p:spPr>
          <a:xfrm>
            <a:off x="60958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3"/>
          <p:cNvSpPr/>
          <p:nvPr/>
        </p:nvSpPr>
        <p:spPr>
          <a:xfrm>
            <a:off x="6324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24"/>
          <p:cNvSpPr/>
          <p:nvPr/>
        </p:nvSpPr>
        <p:spPr>
          <a:xfrm>
            <a:off x="65530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25"/>
          <p:cNvSpPr/>
          <p:nvPr/>
        </p:nvSpPr>
        <p:spPr>
          <a:xfrm>
            <a:off x="54100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26"/>
          <p:cNvSpPr/>
          <p:nvPr/>
        </p:nvSpPr>
        <p:spPr>
          <a:xfrm>
            <a:off x="70102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27"/>
          <p:cNvSpPr/>
          <p:nvPr/>
        </p:nvSpPr>
        <p:spPr>
          <a:xfrm>
            <a:off x="67816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28"/>
          <p:cNvSpPr/>
          <p:nvPr/>
        </p:nvSpPr>
        <p:spPr>
          <a:xfrm>
            <a:off x="762012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29"/>
          <p:cNvSpPr/>
          <p:nvPr/>
        </p:nvSpPr>
        <p:spPr>
          <a:xfrm>
            <a:off x="76201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30"/>
          <p:cNvSpPr/>
          <p:nvPr/>
        </p:nvSpPr>
        <p:spPr>
          <a:xfrm>
            <a:off x="76201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5334120" y="304920"/>
            <a:ext cx="2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800100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667200" y="26935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7164360" y="2819520"/>
            <a:ext cx="785880" cy="37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417240" cy="576360"/>
          </a:xfrm>
          <a:prstGeom prst="rect">
            <a:avLst/>
          </a:prstGeom>
          <a:ln w="0">
            <a:noFill/>
          </a:ln>
        </p:spPr>
      </p:pic>
      <p:sp>
        <p:nvSpPr>
          <p:cNvPr id="479" name="Oval 36"/>
          <p:cNvSpPr/>
          <p:nvPr/>
        </p:nvSpPr>
        <p:spPr>
          <a:xfrm flipH="1" flipV="1">
            <a:off x="5257800" y="19044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Oval 37"/>
          <p:cNvSpPr/>
          <p:nvPr/>
        </p:nvSpPr>
        <p:spPr>
          <a:xfrm>
            <a:off x="52578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3995640" y="1484280"/>
            <a:ext cx="1270080" cy="414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4356000" y="184464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7696080" y="1676520"/>
            <a:ext cx="405000" cy="3808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7020000" y="1989000"/>
            <a:ext cx="361800" cy="298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8"/>
          <a:stretch/>
        </p:blipFill>
        <p:spPr>
          <a:xfrm>
            <a:off x="7020000" y="23493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486" name="Line 43"/>
          <p:cNvSpPr/>
          <p:nvPr/>
        </p:nvSpPr>
        <p:spPr>
          <a:xfrm>
            <a:off x="73152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44"/>
          <p:cNvSpPr/>
          <p:nvPr/>
        </p:nvSpPr>
        <p:spPr>
          <a:xfrm>
            <a:off x="70866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324000" y="620640"/>
            <a:ext cx="2531880" cy="793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00040" y="2286000"/>
            <a:ext cx="3205080" cy="6634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7"/>
          <p:cNvSpPr/>
          <p:nvPr/>
        </p:nvSpPr>
        <p:spPr>
          <a:xfrm>
            <a:off x="357120" y="1428840"/>
            <a:ext cx="35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k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кутовий коефіцієнт</a:t>
            </a:r>
            <a:r>
              <a:rPr b="0" lang="uk-UA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48"/>
          <p:cNvSpPr/>
          <p:nvPr/>
        </p:nvSpPr>
        <p:spPr>
          <a:xfrm>
            <a:off x="826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1"/>
          <a:stretch/>
        </p:blipFill>
        <p:spPr>
          <a:xfrm>
            <a:off x="428760" y="2928960"/>
            <a:ext cx="3744720" cy="7192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50"/>
          <p:cNvSpPr/>
          <p:nvPr/>
        </p:nvSpPr>
        <p:spPr>
          <a:xfrm>
            <a:off x="3276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51"/>
          <p:cNvSpPr/>
          <p:nvPr/>
        </p:nvSpPr>
        <p:spPr>
          <a:xfrm>
            <a:off x="357120" y="371484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Verdana"/>
              </a:rPr>
              <a:t>рівняння дотичної до графіка функції                 в точці з абсцисою     .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2"/>
          <a:stretch/>
        </p:blipFill>
        <p:spPr>
          <a:xfrm>
            <a:off x="6732720" y="3141720"/>
            <a:ext cx="1944720" cy="676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3"/>
          <a:stretch/>
        </p:blipFill>
        <p:spPr>
          <a:xfrm>
            <a:off x="4000680" y="3857760"/>
            <a:ext cx="6858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8e94"/>
            </a:gs>
            <a:gs pos="100000">
              <a:srgbClr val="fbeb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Нижний колонтитул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WordArt 6"/>
          <p:cNvSpPr txBox="1"/>
          <p:nvPr/>
        </p:nvSpPr>
        <p:spPr>
          <a:xfrm>
            <a:off x="1187280" y="1197000"/>
            <a:ext cx="6697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ізичний зміст похідної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3:16:12Z</dcterms:created>
  <dc:creator>Школа</dc:creator>
  <dc:description/>
  <dc:language>en-US</dc:language>
  <cp:lastModifiedBy>Admin</cp:lastModifiedBy>
  <dcterms:modified xsi:type="dcterms:W3CDTF">2012-01-18T09:44:00Z</dcterms:modified>
  <cp:revision>18</cp:revision>
  <dc:subject/>
  <dc:title>Похідна та її застосува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f000000000001024140</vt:lpwstr>
  </property>
</Properties>
</file>