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13.wmf" ContentType="image/x-wmf"/>
  <Override PartName="/ppt/media/image34.wmf" ContentType="image/x-wmf"/>
  <Override PartName="/ppt/media/image9.wmf" ContentType="image/x-wmf"/>
  <Override PartName="/ppt/media/image12.png" ContentType="image/png"/>
  <Override PartName="/ppt/media/image35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39.jpeg" ContentType="image/jpeg"/>
  <Override PartName="/ppt/media/image28.png" ContentType="image/png"/>
  <Override PartName="/ppt/media/image31.wmf" ContentType="image/x-wmf"/>
  <Override PartName="/ppt/media/image29.jpeg" ContentType="image/jpeg"/>
  <Override PartName="/ppt/media/image33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11.jpeg" ContentType="image/jpeg"/>
  <Override PartName="/ppt/media/image23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png" ContentType="image/png"/>
  <Override PartName="/ppt/media/image26.png" ContentType="image/png"/>
  <Override PartName="/ppt/media/image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D3F-AB19-40D0-AC1D-F5231E3F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EC7-CF4F-4691-A4D5-E2116920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A91AB-7B0D-42D6-884D-8AC71B39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41867-B4EA-4ED5-B58A-8FF4ECD7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9D311-4E9D-4F1B-9D46-8C9A4DE9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7A148-76CB-4775-8B70-3283232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A97C0-C122-4D9C-A813-309E70F4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E9B76-1279-47EB-BCDC-0EC7A0D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785EA-2F34-4FDC-A998-0E2F06E9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DEB2A-25BF-4FE9-8903-FE09254E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5493D-F5AE-48AB-AB0D-239C45E8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2E2-9748-4095-8B11-B400E9CB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39B-1932-4CE6-B562-DFA7F927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5833-15FA-41F6-8E89-658BBBAC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9A64-3F4C-4ABC-B16D-C853C3F6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37BF-A6C5-4481-8D68-655889C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1AA2-F36A-4505-A699-2D7FCE57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C15B-98BD-4543-B867-FBE760F9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18AC-1A4F-468B-B895-FCECB016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B521-2041-49EB-AE08-9457D0C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850-8E30-4582-92E2-53AF0C2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5A8F-04DA-4BEC-B7E9-D64BA349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8CD3-977D-4481-82D9-B59C3AA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B478-38EB-4E67-ACAF-869CC90B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3570-45BB-4F0D-BCA7-D5834D34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8C2F-5398-4E29-B8F4-103E3821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DA37-99B6-4BBE-B3D3-16E5A4E6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589F-96FD-4BE9-A53D-E704181E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3297-783A-4D7D-A2D4-B23CDD18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0D53-B9D2-46D5-A647-BECF252A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22F3A-BB13-45FA-B684-F514A880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B89-70E5-4125-984C-4DA20016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B976-1309-4FB1-B517-763F5350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4BC7-E410-467B-BCFD-CB800884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AABA-8FD1-4277-9FDD-A881F56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5176-A4BA-4AD2-B9F1-D27C5EB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D954-C052-40F0-8E5D-4D5ADDEF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D102-006A-4F04-A520-B3A9E519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2918-1714-4F12-8BB4-DB0CD459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228E-1697-4A29-8743-E73820EB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9494C-01B9-4CC6-A0BF-E80B4DA4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9317-65B3-475C-B5C4-14914950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180-BDE0-428F-AB98-5DC6BE05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BDAC-B346-427E-A78F-454F7D78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EC92-2A13-49A7-96FE-20CE4FC7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9C07-E777-4D9B-AAED-2E80A072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7B14-F831-4811-B9B2-D0DBB28A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782C4-430A-4357-AE14-2E72CAA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C3D1-8DC7-4B63-B494-9066A827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391F-4526-496F-AD86-45242EE4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F019-1283-4048-B2B4-7143A04D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7655-FACF-4A56-9CF6-F42F4A7D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CB8E4-5125-4F84-9513-5E22D407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1A4-645E-4D2F-B44F-ECEC326F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8C632-A303-4025-B9A4-19788027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E5248-BB75-4F64-8196-262DF0D5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7B114-BD40-42FB-BB64-26DAA110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4DDB-9C85-4BAB-9667-A9C2A769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CDC5-4BB3-4715-80A7-F04E70D6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B6B0-D2AA-4A35-B206-D2C9C539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8F82-7344-4E28-9085-F58B940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3C96D-FB9F-49E5-9664-D999EAC3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2415B-982B-40CF-9F0E-CD62BA90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3D72-9BA3-488D-A938-E368CB88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28E-CEB7-44B9-A8D8-9D167D3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C4408-3DEB-46DD-B68A-530C5958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2A279-1A37-4CDD-A205-D8B23027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A78B-22F5-4BA9-8E20-B196DDCD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D26D-9BF8-433D-A36D-C661D0CF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D14B2-4D99-4370-90A0-5F8B596C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EE94-7412-4F35-9695-C63223C3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9ABC7-BCD5-4EB4-8AEB-D1FE0CFC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8F761-1CCD-455E-BE7D-4382F3BD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FC48-5B71-440F-B9E8-D36912A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54341-5320-4252-AF97-9B283D5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B97-2D90-4DFB-9C2E-02D6A74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D550-2672-426A-8821-F199B4F0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4B750-6990-4501-8BA6-2874CA49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1D3ED-8A0D-46B4-B155-ADA006CE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B4DC9-3091-45C1-90FE-325109DB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81B7-0960-4648-8CCA-51AB56AB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D4329-8330-4C2B-8EB6-214FB7F2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1B40-45FB-4683-82EC-9756B019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674B3-26BE-4FEA-A8CA-080CE76E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87904-1089-4439-B6EF-07A81723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F360A-3409-4D7C-98F5-C423CB84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FE8-1922-49CA-83ED-4793876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D5E3E-D519-4EF7-8452-5D8025A2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3D611-4EA4-40AD-897A-EDA1D65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4F017-3988-471C-8B82-1F7F04ED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916B-546B-41DF-B248-E7E0F507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315F0-2CD6-4AB7-ACA5-8495F11E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8B89-5328-4230-9E24-2AB87497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F363-682D-4F83-B2A8-B3E5061F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ECAB3-8F2A-465E-A8B6-2AE2E5C3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A3812-FD90-4A8C-AFB9-208189CE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62185-5779-483B-80D8-B6E9BE97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91B-FE9F-423E-984E-75029D34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2AB7A-C79F-43EE-9336-A6693F3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27A55-CE98-45AB-B382-74DC642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22E1-BECC-4161-AE84-2E80389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EB6B3-96CE-4553-B7F7-73C77103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4CBA7-A1E0-496A-9E38-D5D432B2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63103-39BA-4342-8761-BF595B45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6B3A0-CB75-4A31-9643-556C0F4E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6BC80-948D-41BD-92ED-DEAD1253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D9D9C-51B5-427F-9D69-85362113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3CD5B-9180-4A66-9832-064F17A8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F732-1544-49E8-808E-92B0D550194D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87D2-D37E-4528-8CD2-E5A5D7415EE0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9F5-5662-45E3-BADE-ED52C5776F24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1C66-60A3-4635-8402-30B56C06ED17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9C72-1BA7-48F4-8905-89408ABA0D1E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E390-45F6-4696-A44E-0D9C94746563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FA69-0664-4B89-B26B-1045BCA5696C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D0A1-6B97-4047-BE2F-097121537970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F114-DEE0-44E2-B598-DD87AA09F6F9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6760" y="2356920"/>
            <a:ext cx="8077320" cy="23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d75b7e"/>
                </a:solidFill>
                <a:latin typeface="Verdana"/>
              </a:rPr>
              <a:t>Похідна </a:t>
            </a:r>
            <a:br>
              <a:rPr sz="6600"/>
            </a:br>
            <a:r>
              <a:rPr b="1" lang="uk-UA" sz="6600" spc="-1" strike="noStrike">
                <a:solidFill>
                  <a:srgbClr val="d75b7e"/>
                </a:solidFill>
                <a:latin typeface="Verdana"/>
              </a:rPr>
              <a:t>та її застосування</a:t>
            </a:r>
            <a:endParaRPr b="1" lang="en-US" sz="6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0000"/>
                </a:solidFill>
                <a:latin typeface="Verdana"/>
              </a:rPr>
              <a:t>Задача про миттєву швидкість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500120" y="4143240"/>
            <a:ext cx="5558040" cy="1357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3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22132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7" name="Picture 6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816360" cy="1224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3635640" cy="1152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3"/>
          <a:stretch/>
        </p:blipFill>
        <p:spPr>
          <a:xfrm>
            <a:off x="2050920" y="4653000"/>
            <a:ext cx="4321440" cy="1008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1"/>
          <p:cNvSpPr/>
          <p:nvPr/>
        </p:nvSpPr>
        <p:spPr>
          <a:xfrm>
            <a:off x="5449320" y="2996280"/>
            <a:ext cx="8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Verdana"/>
                <a:ea typeface="Times New Roman"/>
              </a:rPr>
              <a:t>(t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G:\Карфаген.bmp"/>
          <p:cNvPicPr/>
          <p:nvPr/>
        </p:nvPicPr>
        <p:blipFill>
          <a:blip r:embed="rId1"/>
          <a:srcRect l="0" t="0" r="-52" b="8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під редакцією М.І.Сканаві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WordArt 4"/>
          <p:cNvSpPr txBox="1"/>
          <p:nvPr/>
        </p:nvSpPr>
        <p:spPr>
          <a:xfrm>
            <a:off x="785880" y="642960"/>
            <a:ext cx="7358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”</a:t>
            </a: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бірник   конкурсних    задач“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5" name="Picture 5" descr="008"/>
          <p:cNvPicPr/>
          <p:nvPr/>
        </p:nvPicPr>
        <p:blipFill>
          <a:blip r:embed="rId1"/>
          <a:stretch/>
        </p:blipFill>
        <p:spPr>
          <a:xfrm>
            <a:off x="2666880" y="3573360"/>
            <a:ext cx="3057480" cy="2232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008"/>
          <p:cNvPicPr/>
          <p:nvPr/>
        </p:nvPicPr>
        <p:blipFill>
          <a:blip r:embed="rId2"/>
          <a:stretch/>
        </p:blipFill>
        <p:spPr>
          <a:xfrm>
            <a:off x="2714760" y="3571920"/>
            <a:ext cx="305748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4240" y="-3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Verdana"/>
              </a:rPr>
              <a:t>Задача 15.121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1071360"/>
            <a:ext cx="8424720" cy="5516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іло масою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рухається прямолінійно за зако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вести,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щ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сила, яка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діє на тіло,        пропорційна кубу пройденого шлях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714680" y="3857760"/>
            <a:ext cx="4357440" cy="213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WordArt 4"/>
          <p:cNvSpPr txBox="1"/>
          <p:nvPr/>
        </p:nvSpPr>
        <p:spPr>
          <a:xfrm>
            <a:off x="1187280" y="1484280"/>
            <a:ext cx="6913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вдання  ЗН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183520" cy="4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-720" bIns="-4536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0000"/>
                </a:solidFill>
                <a:latin typeface="Monotype Corsiva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3" name="Picture 10" descr="031"/>
          <p:cNvPicPr/>
          <p:nvPr/>
        </p:nvPicPr>
        <p:blipFill>
          <a:blip r:embed="rId1"/>
          <a:stretch/>
        </p:blipFill>
        <p:spPr>
          <a:xfrm>
            <a:off x="6858000" y="4876920"/>
            <a:ext cx="1663560" cy="1182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031"/>
          <p:cNvPicPr/>
          <p:nvPr/>
        </p:nvPicPr>
        <p:blipFill>
          <a:blip r:embed="rId2"/>
          <a:stretch/>
        </p:blipFill>
        <p:spPr>
          <a:xfrm>
            <a:off x="6858000" y="4929120"/>
            <a:ext cx="1663560" cy="118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ижний колонтитул 6"/>
          <p:cNvSpPr/>
          <p:nvPr/>
        </p:nvSpPr>
        <p:spPr>
          <a:xfrm flipV="1">
            <a:off x="3124080" y="6720840"/>
            <a:ext cx="28958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Знайдіть, при яких значеннях параметра а дотична до графіка функції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у точці з абсцисою               проходить через точку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(3;4).</a:t>
            </a: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Текст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4000320" cy="8571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715000" y="2786040"/>
            <a:ext cx="1897200" cy="898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80520" y="1428480"/>
            <a:ext cx="8153640" cy="4629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)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бчисліть       , якщо кут між дотичною проведеної до графіка функції              у точці з абсцисою          і додатнім напрямом осі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X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дорівнює  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Д)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аписати рівняння дотичної до графіка функції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= 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uk-UA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4,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яка перпендикулярна до прямої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2=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арабол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4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ибрано дві точки з абсцисам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-1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3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ерез ці точки проведено січну. Знайти рівняння дотичної до параболи, яка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паралельна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ічні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5024520" y="1599840"/>
            <a:ext cx="3286080" cy="2187720"/>
          </a:xfrm>
          <a:prstGeom prst="rect">
            <a:avLst/>
          </a:prstGeom>
          <a:ln w="0">
            <a:noFill/>
          </a:ln>
        </p:spPr>
      </p:pic>
      <p:pic>
        <p:nvPicPr>
          <p:cNvPr id="532" name="Текст 3" descr=""/>
          <p:cNvPicPr/>
          <p:nvPr/>
        </p:nvPicPr>
        <p:blipFill>
          <a:blip r:embed="rId2"/>
          <a:stretch/>
        </p:blipFill>
        <p:spPr>
          <a:xfrm>
            <a:off x="3071880" y="1500120"/>
            <a:ext cx="761760" cy="4348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786280" y="1857240"/>
            <a:ext cx="1150920" cy="4892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2786040" y="2286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2286000" y="2714760"/>
            <a:ext cx="533520" cy="4492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Домашн</a:t>
            </a:r>
            <a:r>
              <a:rPr b="1" lang="uk-UA" sz="3600" spc="-1" strike="noStrike">
                <a:solidFill>
                  <a:srgbClr val="d75b7e"/>
                </a:solidFill>
                <a:latin typeface="Verdana"/>
              </a:rPr>
              <a:t>є</a:t>
            </a: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 завдання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Доска"/>
          <p:cNvPicPr/>
          <p:nvPr/>
        </p:nvPicPr>
        <p:blipFill>
          <a:blip r:embed="rId1"/>
          <a:stretch/>
        </p:blipFill>
        <p:spPr>
          <a:xfrm>
            <a:off x="0" y="-16020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5"/>
          <p:cNvSpPr/>
          <p:nvPr/>
        </p:nvSpPr>
        <p:spPr>
          <a:xfrm rot="3964200">
            <a:off x="1127520" y="-265680"/>
            <a:ext cx="4411800" cy="768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« НЕ МАХАЙ НА ВСЕ РУКОЮ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НЕ ЛІНУЙСЯ,А УЧИСЬ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БО ЧОГО НАВЧИШ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В ШКОЛІ, ЗНАДОБИТЬ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ЩЕ КОЛИСЬ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!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5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837b7f"/>
              </a:solidFill>
              <a:latin typeface="Verdana"/>
            </a:endParaRPr>
          </a:p>
        </p:txBody>
      </p:sp>
      <p:pic>
        <p:nvPicPr>
          <p:cNvPr id="40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2920" y="1071360"/>
            <a:ext cx="8501040" cy="53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Розум людський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має три ключі, які все відкривають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72754"/>
                </a:solidFill>
                <a:latin typeface="Verdana"/>
              </a:rPr>
              <a:t>знання, думка, уява</a:t>
            </a: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Verdana"/>
              </a:rPr>
              <a:t>Віктор Гюг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80000"/>
                </a:solidFill>
                <a:latin typeface="Verdana"/>
              </a:rPr>
              <a:t>До відкриття похідної незалежно один від одного прийшли два  відомих учених І.Ньютон</a:t>
            </a:r>
            <a:r>
              <a:rPr b="1" lang="ru-RU" sz="2800" spc="-1" strike="noStrike">
                <a:solidFill>
                  <a:srgbClr val="a80000"/>
                </a:solidFill>
                <a:latin typeface="Verdana"/>
              </a:rPr>
              <a:t>  і Г. Лейбніц</a:t>
            </a:r>
            <a:endParaRPr b="1" lang="en-US" sz="2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673200" y="1773360"/>
            <a:ext cx="8435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12" descr="nyuton_big"/>
          <p:cNvPicPr/>
          <p:nvPr/>
        </p:nvPicPr>
        <p:blipFill>
          <a:blip r:embed="rId1"/>
          <a:stretch/>
        </p:blipFill>
        <p:spPr>
          <a:xfrm>
            <a:off x="4643280" y="2214720"/>
            <a:ext cx="2791080" cy="3474720"/>
          </a:xfrm>
          <a:prstGeom prst="rect">
            <a:avLst/>
          </a:prstGeom>
          <a:ln w="57240">
            <a:solidFill>
              <a:srgbClr val="ffc197"/>
            </a:solidFill>
            <a:miter/>
          </a:ln>
        </p:spPr>
      </p:pic>
      <p:pic>
        <p:nvPicPr>
          <p:cNvPr id="408" name="Picture 13" descr="480px-Лейбниц_цитата_"/>
          <p:cNvPicPr/>
          <p:nvPr/>
        </p:nvPicPr>
        <p:blipFill>
          <a:blip r:embed="rId2"/>
          <a:stretch/>
        </p:blipFill>
        <p:spPr>
          <a:xfrm>
            <a:off x="1822320" y="2286000"/>
            <a:ext cx="2678400" cy="3375000"/>
          </a:xfrm>
          <a:prstGeom prst="rect">
            <a:avLst/>
          </a:prstGeom>
          <a:ln w="76320">
            <a:solidFill>
              <a:srgbClr val="ffc197"/>
            </a:solidFill>
            <a:miter/>
          </a:ln>
        </p:spPr>
      </p:pic>
      <p:sp>
        <p:nvSpPr>
          <p:cNvPr id="409" name="Rectangle 14"/>
          <p:cNvSpPr/>
          <p:nvPr/>
        </p:nvSpPr>
        <p:spPr>
          <a:xfrm>
            <a:off x="7429680" y="34290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аа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ьют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1642-172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285840" y="3500280"/>
            <a:ext cx="1439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льгель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1646-171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9720" y="1000080"/>
            <a:ext cx="7072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0000"/>
                </a:solidFill>
                <a:latin typeface="Verdana"/>
              </a:rPr>
              <a:t>Похідна та її зміст</a:t>
            </a:r>
            <a:endParaRPr b="1" lang="en-US" sz="54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412" name="Текст 3" descr=""/>
          <p:cNvPicPr/>
          <p:nvPr/>
        </p:nvPicPr>
        <p:blipFill>
          <a:blip r:embed="rId1"/>
          <a:stretch/>
        </p:blipFill>
        <p:spPr>
          <a:xfrm>
            <a:off x="2125800" y="4470480"/>
            <a:ext cx="141120" cy="25236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4"/>
          <p:cNvSpPr/>
          <p:nvPr/>
        </p:nvSpPr>
        <p:spPr>
          <a:xfrm>
            <a:off x="2143080" y="1785960"/>
            <a:ext cx="4572000" cy="1109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ункція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має в точці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охідн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714240" y="3714840"/>
            <a:ext cx="3286440" cy="1785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ізичний зміст похідної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4500720" y="3786120"/>
            <a:ext cx="3786120" cy="1714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еометричний зміст похідної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Текст 3" descr=""/>
          <p:cNvPicPr/>
          <p:nvPr/>
        </p:nvPicPr>
        <p:blipFill>
          <a:blip r:embed="rId2"/>
          <a:stretch/>
        </p:blipFill>
        <p:spPr>
          <a:xfrm>
            <a:off x="2346480" y="2071800"/>
            <a:ext cx="4082760" cy="779400"/>
          </a:xfrm>
          <a:prstGeom prst="rect">
            <a:avLst/>
          </a:prstGeom>
          <a:ln w="0">
            <a:noFill/>
          </a:ln>
        </p:spPr>
      </p:pic>
      <p:pic>
        <p:nvPicPr>
          <p:cNvPr id="417" name="Текст 3" descr=""/>
          <p:cNvPicPr/>
          <p:nvPr/>
        </p:nvPicPr>
        <p:blipFill>
          <a:blip r:embed="rId3"/>
          <a:stretch/>
        </p:blipFill>
        <p:spPr>
          <a:xfrm>
            <a:off x="928800" y="4572000"/>
            <a:ext cx="2928960" cy="10717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0" y="4500720"/>
            <a:ext cx="3429000" cy="890280"/>
          </a:xfrm>
          <a:prstGeom prst="rect">
            <a:avLst/>
          </a:prstGeom>
          <a:ln w="0">
            <a:noFill/>
          </a:ln>
        </p:spPr>
      </p:pic>
      <p:sp>
        <p:nvSpPr>
          <p:cNvPr id="419" name="Line 24"/>
          <p:cNvSpPr/>
          <p:nvPr/>
        </p:nvSpPr>
        <p:spPr>
          <a:xfrm flipH="1">
            <a:off x="2785680" y="2895480"/>
            <a:ext cx="142884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4214880" y="2895480"/>
            <a:ext cx="128592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6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WordArt 4"/>
          <p:cNvSpPr txBox="1"/>
          <p:nvPr/>
        </p:nvSpPr>
        <p:spPr>
          <a:xfrm>
            <a:off x="826920" y="2708280"/>
            <a:ext cx="669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ометричний зміст похідної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1763640" y="620640"/>
            <a:ext cx="1152720" cy="1871640"/>
          </a:xfrm>
          <a:prstGeom prst="can">
            <a:avLst>
              <a:gd name="adj" fmla="val 25000"/>
            </a:avLst>
          </a:prstGeom>
          <a:solidFill>
            <a:srgbClr val="b83d68"/>
          </a:solidFill>
          <a:ln w="9360">
            <a:solidFill>
              <a:srgbClr val="339966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7667640" y="2205000"/>
            <a:ext cx="1008000" cy="2087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14"/>
          <p:cNvSpPr/>
          <p:nvPr/>
        </p:nvSpPr>
        <p:spPr>
          <a:xfrm>
            <a:off x="3348000" y="4221000"/>
            <a:ext cx="2160720" cy="1079640"/>
          </a:xfrm>
          <a:prstGeom prst="cube">
            <a:avLst>
              <a:gd name="adj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Arc 3"/>
          <p:cNvSpPr/>
          <p:nvPr/>
        </p:nvSpPr>
        <p:spPr>
          <a:xfrm flipH="1">
            <a:off x="913680" y="2666880"/>
            <a:ext cx="2133720" cy="1905120"/>
          </a:xfrm>
          <a:custGeom>
            <a:avLst/>
            <a:gdLst>
              <a:gd name="textAreaLeft" fmla="*/ -360 w 2133720"/>
              <a:gd name="textAreaRight" fmla="*/ 2133720 w 21337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4"/>
          <p:cNvSpPr/>
          <p:nvPr/>
        </p:nvSpPr>
        <p:spPr>
          <a:xfrm flipH="1">
            <a:off x="380880" y="2133720"/>
            <a:ext cx="28195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Arc 5"/>
          <p:cNvSpPr/>
          <p:nvPr/>
        </p:nvSpPr>
        <p:spPr>
          <a:xfrm>
            <a:off x="3048120" y="2666880"/>
            <a:ext cx="990360" cy="533520"/>
          </a:xfrm>
          <a:custGeom>
            <a:avLst/>
            <a:gdLst>
              <a:gd name="textAreaLeft" fmla="*/ 0 w 990360"/>
              <a:gd name="textAreaRight" fmla="*/ 990720 w 990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4038480" y="2971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1" name="AutoShape 7"/>
          <p:cNvCxnSpPr>
            <a:stCxn id="428" idx="0"/>
            <a:endCxn id="428" idx="1"/>
          </p:cNvCxnSpPr>
          <p:nvPr/>
        </p:nvCxnSpPr>
        <p:spPr>
          <a:xfrm>
            <a:off x="37908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2" name="Oval 8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35812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6" name="AutoShape 12"/>
          <p:cNvCxnSpPr>
            <a:stCxn id="435" idx="2"/>
            <a:endCxn id="434" idx="5"/>
          </p:cNvCxnSpPr>
          <p:nvPr/>
        </p:nvCxnSpPr>
        <p:spPr>
          <a:xfrm flipV="1">
            <a:off x="1752120" y="2732040"/>
            <a:ext cx="143748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7" name="AutoShape 13"/>
          <p:cNvCxnSpPr>
            <a:stCxn id="435" idx="5"/>
            <a:endCxn id="433" idx="2"/>
          </p:cNvCxnSpPr>
          <p:nvPr/>
        </p:nvCxnSpPr>
        <p:spPr>
          <a:xfrm flipV="1">
            <a:off x="1817280" y="2781360"/>
            <a:ext cx="176436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8" name="AutoShape 14"/>
          <p:cNvCxnSpPr>
            <a:stCxn id="435" idx="3"/>
            <a:endCxn id="432" idx="3"/>
          </p:cNvCxnSpPr>
          <p:nvPr/>
        </p:nvCxnSpPr>
        <p:spPr>
          <a:xfrm>
            <a:off x="1763280" y="3036600"/>
            <a:ext cx="22107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Text Box 15"/>
          <p:cNvSpPr/>
          <p:nvPr/>
        </p:nvSpPr>
        <p:spPr>
          <a:xfrm>
            <a:off x="304920" y="3124080"/>
            <a:ext cx="9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ahoma"/>
              </a:rPr>
              <a:t>дотич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2556000" y="30686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ahoma"/>
              </a:rPr>
              <a:t>січ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1676520" y="3124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Oval 18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4648320" y="1916280"/>
            <a:ext cx="41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Verdana"/>
              </a:rPr>
              <a:t>Дотичн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до кривої в даній точці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називається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аничне положення січної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коли точк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рямує вздовж кривої до точк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2"/>
          <p:cNvSpPr/>
          <p:nvPr/>
        </p:nvSpPr>
        <p:spPr>
          <a:xfrm>
            <a:off x="54100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5257800" y="304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4"/>
          <p:cNvSpPr/>
          <p:nvPr/>
        </p:nvSpPr>
        <p:spPr>
          <a:xfrm>
            <a:off x="495288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rc 5"/>
          <p:cNvSpPr/>
          <p:nvPr/>
        </p:nvSpPr>
        <p:spPr>
          <a:xfrm flipH="1">
            <a:off x="6553080" y="1676520"/>
            <a:ext cx="1524240" cy="685800"/>
          </a:xfrm>
          <a:custGeom>
            <a:avLst/>
            <a:gdLst>
              <a:gd name="textAreaLeft" fmla="*/ 360 w 1524240"/>
              <a:gd name="textAreaRight" fmla="*/ 1524960 w 15242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6"/>
          <p:cNvSpPr/>
          <p:nvPr/>
        </p:nvSpPr>
        <p:spPr>
          <a:xfrm flipH="1">
            <a:off x="5562720" y="1219320"/>
            <a:ext cx="2286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Oval 7"/>
          <p:cNvSpPr/>
          <p:nvPr/>
        </p:nvSpPr>
        <p:spPr>
          <a:xfrm>
            <a:off x="685800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Oval 8"/>
          <p:cNvSpPr/>
          <p:nvPr/>
        </p:nvSpPr>
        <p:spPr>
          <a:xfrm>
            <a:off x="7620120" y="1676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Oval 9"/>
          <p:cNvSpPr/>
          <p:nvPr/>
        </p:nvSpPr>
        <p:spPr>
          <a:xfrm flipV="1">
            <a:off x="68580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Oval 10"/>
          <p:cNvSpPr/>
          <p:nvPr/>
        </p:nvSpPr>
        <p:spPr>
          <a:xfrm flipV="1">
            <a:off x="76201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Arc 11"/>
          <p:cNvSpPr/>
          <p:nvPr/>
        </p:nvSpPr>
        <p:spPr>
          <a:xfrm>
            <a:off x="5867280" y="2666880"/>
            <a:ext cx="763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Line 12"/>
          <p:cNvSpPr/>
          <p:nvPr/>
        </p:nvSpPr>
        <p:spPr>
          <a:xfrm>
            <a:off x="56386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Line 13"/>
          <p:cNvSpPr/>
          <p:nvPr/>
        </p:nvSpPr>
        <p:spPr>
          <a:xfrm>
            <a:off x="58672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4"/>
          <p:cNvSpPr/>
          <p:nvPr/>
        </p:nvSpPr>
        <p:spPr>
          <a:xfrm>
            <a:off x="60958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Line 15"/>
          <p:cNvSpPr/>
          <p:nvPr/>
        </p:nvSpPr>
        <p:spPr>
          <a:xfrm>
            <a:off x="63244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16"/>
          <p:cNvSpPr/>
          <p:nvPr/>
        </p:nvSpPr>
        <p:spPr>
          <a:xfrm>
            <a:off x="65530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Line 17"/>
          <p:cNvSpPr/>
          <p:nvPr/>
        </p:nvSpPr>
        <p:spPr>
          <a:xfrm>
            <a:off x="6858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18"/>
          <p:cNvSpPr/>
          <p:nvPr/>
        </p:nvSpPr>
        <p:spPr>
          <a:xfrm>
            <a:off x="6858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19"/>
          <p:cNvSpPr/>
          <p:nvPr/>
        </p:nvSpPr>
        <p:spPr>
          <a:xfrm>
            <a:off x="54100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Line 20"/>
          <p:cNvSpPr/>
          <p:nvPr/>
        </p:nvSpPr>
        <p:spPr>
          <a:xfrm>
            <a:off x="56386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21"/>
          <p:cNvSpPr/>
          <p:nvPr/>
        </p:nvSpPr>
        <p:spPr>
          <a:xfrm>
            <a:off x="58672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22"/>
          <p:cNvSpPr/>
          <p:nvPr/>
        </p:nvSpPr>
        <p:spPr>
          <a:xfrm>
            <a:off x="60958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3"/>
          <p:cNvSpPr/>
          <p:nvPr/>
        </p:nvSpPr>
        <p:spPr>
          <a:xfrm>
            <a:off x="6324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24"/>
          <p:cNvSpPr/>
          <p:nvPr/>
        </p:nvSpPr>
        <p:spPr>
          <a:xfrm>
            <a:off x="65530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25"/>
          <p:cNvSpPr/>
          <p:nvPr/>
        </p:nvSpPr>
        <p:spPr>
          <a:xfrm>
            <a:off x="54100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26"/>
          <p:cNvSpPr/>
          <p:nvPr/>
        </p:nvSpPr>
        <p:spPr>
          <a:xfrm>
            <a:off x="70102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27"/>
          <p:cNvSpPr/>
          <p:nvPr/>
        </p:nvSpPr>
        <p:spPr>
          <a:xfrm>
            <a:off x="67816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28"/>
          <p:cNvSpPr/>
          <p:nvPr/>
        </p:nvSpPr>
        <p:spPr>
          <a:xfrm>
            <a:off x="762012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29"/>
          <p:cNvSpPr/>
          <p:nvPr/>
        </p:nvSpPr>
        <p:spPr>
          <a:xfrm>
            <a:off x="76201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30"/>
          <p:cNvSpPr/>
          <p:nvPr/>
        </p:nvSpPr>
        <p:spPr>
          <a:xfrm>
            <a:off x="76201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5334120" y="304920"/>
            <a:ext cx="20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32"/>
          <p:cNvSpPr/>
          <p:nvPr/>
        </p:nvSpPr>
        <p:spPr>
          <a:xfrm>
            <a:off x="800100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667200" y="26935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7164360" y="2819520"/>
            <a:ext cx="785880" cy="37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6732720" y="2708280"/>
            <a:ext cx="417240" cy="576360"/>
          </a:xfrm>
          <a:prstGeom prst="rect">
            <a:avLst/>
          </a:prstGeom>
          <a:ln w="0">
            <a:noFill/>
          </a:ln>
        </p:spPr>
      </p:pic>
      <p:sp>
        <p:nvSpPr>
          <p:cNvPr id="479" name="Oval 36"/>
          <p:cNvSpPr/>
          <p:nvPr/>
        </p:nvSpPr>
        <p:spPr>
          <a:xfrm flipH="1" flipV="1">
            <a:off x="5257800" y="19044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Oval 37"/>
          <p:cNvSpPr/>
          <p:nvPr/>
        </p:nvSpPr>
        <p:spPr>
          <a:xfrm>
            <a:off x="52578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3995640" y="1484280"/>
            <a:ext cx="1270080" cy="4143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4356000" y="184464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7696080" y="1676520"/>
            <a:ext cx="405000" cy="3808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7"/>
          <a:stretch/>
        </p:blipFill>
        <p:spPr>
          <a:xfrm>
            <a:off x="7020000" y="1989000"/>
            <a:ext cx="361800" cy="298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8"/>
          <a:stretch/>
        </p:blipFill>
        <p:spPr>
          <a:xfrm>
            <a:off x="7020000" y="23493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486" name="Line 43"/>
          <p:cNvSpPr/>
          <p:nvPr/>
        </p:nvSpPr>
        <p:spPr>
          <a:xfrm>
            <a:off x="731520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44"/>
          <p:cNvSpPr/>
          <p:nvPr/>
        </p:nvSpPr>
        <p:spPr>
          <a:xfrm>
            <a:off x="708660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324000" y="620640"/>
            <a:ext cx="2531880" cy="7938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00040" y="2286000"/>
            <a:ext cx="3205080" cy="6634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47"/>
          <p:cNvSpPr/>
          <p:nvPr/>
        </p:nvSpPr>
        <p:spPr>
          <a:xfrm>
            <a:off x="357120" y="1428840"/>
            <a:ext cx="35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k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кутовий коефіцієнт</a:t>
            </a: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48"/>
          <p:cNvSpPr/>
          <p:nvPr/>
        </p:nvSpPr>
        <p:spPr>
          <a:xfrm>
            <a:off x="826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1"/>
          <a:stretch/>
        </p:blipFill>
        <p:spPr>
          <a:xfrm>
            <a:off x="428760" y="2928960"/>
            <a:ext cx="3744720" cy="7192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50"/>
          <p:cNvSpPr/>
          <p:nvPr/>
        </p:nvSpPr>
        <p:spPr>
          <a:xfrm>
            <a:off x="3276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51"/>
          <p:cNvSpPr/>
          <p:nvPr/>
        </p:nvSpPr>
        <p:spPr>
          <a:xfrm>
            <a:off x="357120" y="371484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Verdana"/>
              </a:rPr>
              <a:t>рівняння дотичної до графіка функції                 в точці з абсцисою     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2"/>
          <a:stretch/>
        </p:blipFill>
        <p:spPr>
          <a:xfrm>
            <a:off x="6732720" y="3141720"/>
            <a:ext cx="1944720" cy="676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3"/>
          <a:stretch/>
        </p:blipFill>
        <p:spPr>
          <a:xfrm>
            <a:off x="4000680" y="3857760"/>
            <a:ext cx="68580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WordArt 6"/>
          <p:cNvSpPr txBox="1"/>
          <p:nvPr/>
        </p:nvSpPr>
        <p:spPr>
          <a:xfrm>
            <a:off x="1187280" y="1197000"/>
            <a:ext cx="6697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ізичний зміст похідної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3:16:12Z</dcterms:created>
  <dc:creator>Школа</dc:creator>
  <dc:description/>
  <dc:language>en-US</dc:language>
  <cp:lastModifiedBy>Admin</cp:lastModifiedBy>
  <dcterms:modified xsi:type="dcterms:W3CDTF">2012-01-18T09:44:00Z</dcterms:modified>
  <cp:revision>18</cp:revision>
  <dc:subject/>
  <dc:title>Похідна та її застосува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f000000000001024140</vt:lpwstr>
  </property>
</Properties>
</file>