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AB1-359C-4E7A-B36D-5968BAA3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641-8253-435E-98C1-409C7711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11D-A820-4D36-9B23-60F3CF97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D6C-3EF7-4476-A669-8AE0BE5F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265-F217-4E9F-8397-6D769E41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ECD-FEEB-428E-9C1E-89850C84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848-F2D4-449D-84FF-A071D1D6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F3B-765D-48AE-8E87-CBA2CC3E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F1C-9F95-435E-9242-7EE6BC75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A6D-0C12-47F4-9F5A-EF7DA69A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846-9906-4BDD-96A7-F3AED83A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640-5397-477F-9F9E-F04E20A6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2A21-CAD4-43CA-8549-8A89C5972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lang="uk-UA" sz="4400" spc="-1" strike="noStrike">
                <a:solidFill>
                  <a:srgbClr val="008000"/>
                </a:solidFill>
                <a:latin typeface="Arial"/>
              </a:rPr>
              <a:t>Застосування визначеного інтеграла. </a:t>
            </a:r>
            <a:r>
              <a:rPr b="0" i="1" lang="uk-UA" sz="4400" spc="-1" strike="noStrike">
                <a:solidFill>
                  <a:srgbClr val="008000"/>
                </a:solidFill>
                <a:latin typeface="Arial"/>
              </a:rPr>
              <a:t>Знаходження площі криволінійної трапеції.</a:t>
            </a:r>
            <a:br>
              <a:rPr sz="4400"/>
            </a:br>
            <a:r>
              <a:rPr b="0" i="1" lang="uk-UA" sz="4400" spc="-1" strike="noStrike">
                <a:solidFill>
                  <a:srgbClr val="008000"/>
                </a:solidFill>
                <a:latin typeface="Arial"/>
              </a:rPr>
              <a:t>Обчислення об</a:t>
            </a:r>
            <a:r>
              <a:rPr b="0" i="1" lang="en-US" sz="4400" spc="-1" strike="noStrike">
                <a:solidFill>
                  <a:srgbClr val="008000"/>
                </a:solidFill>
                <a:latin typeface="Arial"/>
              </a:rPr>
              <a:t>`</a:t>
            </a:r>
            <a:r>
              <a:rPr b="0" i="1" lang="uk-UA" sz="4400" spc="-1" strike="noStrike">
                <a:solidFill>
                  <a:srgbClr val="008000"/>
                </a:solidFill>
                <a:latin typeface="Arial"/>
              </a:rPr>
              <a:t>ємів тіл.</a:t>
            </a:r>
            <a:r>
              <a:rPr b="1" lang="uk-UA" sz="4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11600" y="3428640"/>
            <a:ext cx="543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00"/>
                </a:solidFill>
                <a:latin typeface="Arial"/>
              </a:rPr>
              <a:t>Хто хоче обмежитися теперішнім, має зна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00"/>
                </a:solidFill>
                <a:latin typeface="Arial"/>
              </a:rPr>
              <a:t>без знання минулого, не зрозуміє й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9900"/>
                </a:solidFill>
                <a:latin typeface="Arial"/>
              </a:rPr>
              <a:t>Лейбні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123640" y="4941360"/>
            <a:ext cx="1584360" cy="1295640"/>
          </a:xfrm>
          <a:prstGeom prst="flowChartDocument">
            <a:avLst/>
          </a:prstGeom>
          <a:solidFill>
            <a:srgbClr val="aef0b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623736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623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4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332000" y="342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3141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Сторінка розрахунків.</a:t>
            </a:r>
            <a:br>
              <a:rPr sz="2000"/>
            </a:b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Знаходження об</a:t>
            </a: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`</a:t>
            </a: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ємів фі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Об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`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єм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4076640"/>
            <a:ext cx="1368360" cy="1224000"/>
          </a:xfrm>
          <a:prstGeom prst="rtTriangl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530064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55640" y="3716280"/>
            <a:ext cx="0" cy="187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4076640"/>
            <a:ext cx="71280" cy="2376720"/>
          </a:xfrm>
          <a:prstGeom prst="ellipse">
            <a:avLst/>
          </a:prstGeom>
          <a:solidFill>
            <a:srgbClr val="bbe0e3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4076640"/>
            <a:ext cx="0" cy="23767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5640" y="5300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iner Hand IT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708360" y="3429000"/>
            <a:ext cx="5257800" cy="2592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564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M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372360" y="1160280"/>
            <a:ext cx="1187280" cy="1908000"/>
          </a:xfrm>
          <a:prstGeom prst="flowChartExtract">
            <a:avLst/>
          </a:prstGeom>
          <a:gradFill rotWithShape="0">
            <a:gsLst>
              <a:gs pos="0">
                <a:srgbClr val="ff0000"/>
              </a:gs>
              <a:gs pos="5000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12000" y="1484280"/>
            <a:ext cx="72720" cy="1224000"/>
          </a:xfrm>
          <a:prstGeom prst="ellipse">
            <a:avLst/>
          </a:prstGeom>
          <a:solidFill>
            <a:srgbClr val="eab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xit" presetID="17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Сторінка розрахунків.</a:t>
            </a:r>
            <a:br>
              <a:rPr sz="2000"/>
            </a:b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Знаходження об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`</a:t>
            </a: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ємів фіг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Об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`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єм           цилі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11640" y="2276280"/>
            <a:ext cx="40384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0;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 межі              інтегр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=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5013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26920" y="3715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43280" y="537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4365720"/>
            <a:ext cx="2016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4365720"/>
            <a:ext cx="7128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41480" y="-1925280"/>
            <a:ext cx="2410920" cy="2460600"/>
            <a:chOff x="141480" y="-1925280"/>
            <a:chExt cx="2410920" cy="2460600"/>
          </a:xfrm>
        </p:grpSpPr>
        <p:sp>
          <p:nvSpPr>
            <p:cNvPr id="202" name=""/>
            <p:cNvSpPr/>
            <p:nvPr/>
          </p:nvSpPr>
          <p:spPr>
            <a:xfrm flipH="1" rot="1052400">
              <a:off x="394920" y="-1684440"/>
              <a:ext cx="1902960" cy="1979280"/>
            </a:xfrm>
            <a:custGeom>
              <a:avLst/>
              <a:gdLst/>
              <a:ahLst/>
              <a:rect l="l" t="t" r="r" b="b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1052400">
              <a:off x="1583280" y="44640"/>
              <a:ext cx="440280" cy="420120"/>
            </a:xfrm>
            <a:custGeom>
              <a:avLst/>
              <a:gdLst/>
              <a:ahLst/>
              <a:rect l="l" t="t" r="r" b="b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rot="1052400">
              <a:off x="1791000" y="313920"/>
              <a:ext cx="191880" cy="17676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rot="1052400">
              <a:off x="568080" y="-1663560"/>
              <a:ext cx="1473120" cy="1545480"/>
            </a:xfrm>
            <a:custGeom>
              <a:avLst/>
              <a:gdLst/>
              <a:ahLst/>
              <a:rect l="l" t="t" r="r" b="b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rot="1052400">
              <a:off x="500040" y="-1628280"/>
              <a:ext cx="1473120" cy="1539000"/>
            </a:xfrm>
            <a:custGeom>
              <a:avLst/>
              <a:gdLst/>
              <a:ahLst/>
              <a:rect l="l" t="t" r="r" b="b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292720" y="4365720"/>
            <a:ext cx="1943280" cy="1368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19640" y="4365720"/>
            <a:ext cx="7164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73 0.64028 C -0.1276 0.64306 0.02934 0.63982 0.06181 0.63658 C 0.09445 0.6338 0.10087 0.62269 0.06841 0.62222 C 0.03663 0.62222 -0.12569 0.6375 -0.12673 0.64028 Z">
                                      <p:cBhvr>
                                        <p:cTn id="115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Сторінка розрахунків.</a:t>
            </a:r>
            <a:br>
              <a:rPr sz="2000"/>
            </a:b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Знаходження об</a:t>
            </a:r>
            <a:r>
              <a:rPr b="0" lang="en-US" sz="3200" spc="-1" strike="noStrike">
                <a:solidFill>
                  <a:srgbClr val="336600"/>
                </a:solidFill>
                <a:latin typeface="Arial"/>
              </a:rPr>
              <a:t>`</a:t>
            </a: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ємів фігур оберт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132000" y="1166760"/>
            <a:ext cx="5832720" cy="3456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Загаль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формула об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`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єму           цилінд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конуса, ку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0" y="2565000"/>
            <a:ext cx="179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26920" y="4653000"/>
            <a:ext cx="6193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00"/>
                </a:solidFill>
                <a:latin typeface="Arial"/>
              </a:rPr>
              <a:t>Практичні спостере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Обчислення об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`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єму ку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670000">
            <a:off x="1148400" y="3210480"/>
            <a:ext cx="2233800" cy="16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407664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68360" y="2276640"/>
            <a:ext cx="0" cy="352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211640" y="4437000"/>
            <a:ext cx="4753080" cy="1871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572000" y="2781360"/>
            <a:ext cx="2521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580000" y="1196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1844640"/>
            <a:ext cx="1657080" cy="2160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Евристична сторінка.</a:t>
            </a: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6600"/>
                </a:solidFill>
                <a:latin typeface="Arial"/>
              </a:rPr>
              <a:t>Застосування визначеного інтеграла в розрахунках з економіки виробництв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84360" y="2106720"/>
            <a:ext cx="8135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0920" y="274680"/>
            <a:ext cx="84978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900000" y="2247840"/>
            <a:ext cx="755964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Теоретична сторінка.</a:t>
            </a:r>
            <a:br>
              <a:rPr sz="2000"/>
            </a:br>
            <a:r>
              <a:rPr b="0" i="1" lang="uk-UA" sz="40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Формула   Ньютона - Лейбні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527280" cy="316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262728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43640" y="4221000"/>
            <a:ext cx="27003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Arial"/>
              </a:rPr>
              <a:t>Знаходження площі криволінійної трапеції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11600" y="3428640"/>
            <a:ext cx="543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2123640" y="4941360"/>
            <a:ext cx="1584360" cy="1295640"/>
          </a:xfrm>
          <a:prstGeom prst="flowChartDocument">
            <a:avLst/>
          </a:prstGeom>
          <a:solidFill>
            <a:srgbClr val="aef0b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623736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623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332000" y="342864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0760" y="3141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1480" y="-1925280"/>
            <a:ext cx="2410920" cy="2460600"/>
            <a:chOff x="141480" y="-1925280"/>
            <a:chExt cx="2410920" cy="2460600"/>
          </a:xfrm>
        </p:grpSpPr>
        <p:sp>
          <p:nvSpPr>
            <p:cNvPr id="61" name=""/>
            <p:cNvSpPr/>
            <p:nvPr/>
          </p:nvSpPr>
          <p:spPr>
            <a:xfrm flipH="1" rot="1052400">
              <a:off x="394920" y="-1684440"/>
              <a:ext cx="1902960" cy="1979280"/>
            </a:xfrm>
            <a:custGeom>
              <a:avLst/>
              <a:gdLst/>
              <a:ahLst/>
              <a:rect l="l" t="t" r="r" b="b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52400">
              <a:off x="1583280" y="44640"/>
              <a:ext cx="440280" cy="420120"/>
            </a:xfrm>
            <a:custGeom>
              <a:avLst/>
              <a:gdLst/>
              <a:ahLst/>
              <a:rect l="l" t="t" r="r" b="b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052400">
              <a:off x="1791000" y="313920"/>
              <a:ext cx="191880" cy="17676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052400">
              <a:off x="568080" y="-1663560"/>
              <a:ext cx="1473120" cy="1545480"/>
            </a:xfrm>
            <a:custGeom>
              <a:avLst/>
              <a:gdLst/>
              <a:ahLst/>
              <a:rect l="l" t="t" r="r" b="b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052400">
              <a:off x="500040" y="-1628280"/>
              <a:ext cx="1473120" cy="1539000"/>
            </a:xfrm>
            <a:custGeom>
              <a:avLst/>
              <a:gdLst/>
              <a:ahLst/>
              <a:rect l="l" t="t" r="r" b="b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527640" cy="316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11280" y="45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6400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Brush Script M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6491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iner Hand IT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33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434 0.64954 C 0.1967 0.65278 0.18941 0.64815 0.18177 0.64514 C 0.17847 0.64375 0.17205 0.64097 0.17205 0.64097 C 0.15868 0.64167 0.14514 0.64121 0.13177 0.64306 C 0.12986 0.64329 0.12865 0.6463 0.12691 0.64746 C 0.11979 0.65162 0.11198 0.65417 0.10434 0.65602 C 0.09271 0.66644 0.08368 0.67153 0.07049 0.67755 C 0.05677 0.6838 0.0415 0.67755 0.02691 0.67755 E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тосування інтеграла для знаходження площ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стове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4360" y="1757520"/>
            <a:ext cx="792000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uk-UA" sz="3200" spc="-1" strike="noStrike">
                <a:solidFill>
                  <a:srgbClr val="009999"/>
                </a:solidFill>
                <a:latin typeface="Arial"/>
              </a:rPr>
              <a:t>Фігура, що не є криволінійною трапецією.</a:t>
            </a:r>
            <a:br>
              <a:rPr sz="3200"/>
            </a:br>
            <a:r>
              <a:rPr b="0" i="1" lang="uk-UA" sz="3200" spc="-1" strike="noStrike">
                <a:solidFill>
                  <a:srgbClr val="009999"/>
                </a:solidFill>
                <a:latin typeface="Arial"/>
              </a:rPr>
              <a:t>Площа фігури буде доповнена площею фігури Ф до площі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r>
              <a:rPr b="0" i="1" lang="uk-UA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39640" y="3789360"/>
            <a:ext cx="1656000" cy="1440000"/>
          </a:xfrm>
          <a:prstGeom prst="flowChart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5227560"/>
            <a:ext cx="38084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5280" y="2565000"/>
            <a:ext cx="3240" cy="321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445000"/>
            <a:ext cx="43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544500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5445000"/>
            <a:ext cx="4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5373720"/>
            <a:ext cx="3808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716360" y="2711160"/>
            <a:ext cx="3240" cy="321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5589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5591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41497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92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5292360" y="4724280"/>
            <a:ext cx="158292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780000" cy="1187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44360" y="314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9080" y="4149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1273 L -0.5158 -0.01273 E">
                                      <p:cBhvr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Нехай пряма у=с розбиває криволінійну трапецію</a:t>
            </a:r>
            <a:r>
              <a:rPr b="0" i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площі </a:t>
            </a: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1" i="1" lang="uk-UA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на прямокутник і фігуру </a:t>
            </a: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F</a:t>
            </a: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. Площа фігури буде доповнена площею прямокутника до площі</a:t>
            </a:r>
            <a:r>
              <a:rPr b="0" i="1" lang="en-US" sz="3200" spc="-1" strike="noStrike">
                <a:solidFill>
                  <a:srgbClr val="808080"/>
                </a:solidFill>
                <a:latin typeface="Arial"/>
              </a:rPr>
              <a:t> S</a:t>
            </a: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2232360" cy="110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0800000">
            <a:off x="539640" y="3789360"/>
            <a:ext cx="1728720" cy="14400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5227560"/>
            <a:ext cx="38084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5280" y="2565000"/>
            <a:ext cx="3240" cy="321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445000"/>
            <a:ext cx="43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544500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5445000"/>
            <a:ext cx="4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508640"/>
            <a:ext cx="172872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5373720"/>
            <a:ext cx="3808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11160"/>
            <a:ext cx="3240" cy="321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55911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5080" y="5591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6720" y="5591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4653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3141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400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=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50864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41497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492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759120" cy="1298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8728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3.7037E-006 L -0.4724 -0.02106 E">
                                      <p:cBhvr>
                                        <p:cTn id="5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47257 0.02106 E">
                                      <p:cBhvr>
                                        <p:cTn id="5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336600"/>
                </a:solidFill>
                <a:latin typeface="Arial"/>
              </a:rPr>
              <a:t>Дослідницька сторінка1.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Нехай криволінійна трапеція розділена прямою х=с. ЇЇ площа буде дорівнювати сумі площ двох криволінійних трапец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611280" y="3860640"/>
            <a:ext cx="1728720" cy="1440000"/>
          </a:xfrm>
          <a:prstGeom prst="flowChartDocument">
            <a:avLst/>
          </a:prstGeom>
          <a:solidFill>
            <a:srgbClr val="aef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530064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54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50920" y="256500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2340000" y="3644640"/>
            <a:ext cx="1224000" cy="1655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5640" y="5516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5128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4716360" y="4762440"/>
            <a:ext cx="1728720" cy="1440000"/>
          </a:xfrm>
          <a:prstGeom prst="flowChartDocument">
            <a:avLst/>
          </a:prstGeom>
          <a:solidFill>
            <a:srgbClr val="aef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620244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6346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3440" y="64184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356000" y="3467160"/>
            <a:ext cx="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6418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56720" y="64911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141720"/>
            <a:ext cx="2800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093080" y="1412640"/>
            <a:ext cx="1224000" cy="1655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29527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55 L -0.07083 0.44652 E">
                                      <p:cBhvr>
                                        <p:cTn id="7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rot="10800000">
            <a:off x="611280" y="3860640"/>
            <a:ext cx="1728720" cy="1440000"/>
          </a:xfrm>
          <a:prstGeom prst="flowChartDocument">
            <a:avLst/>
          </a:prstGeom>
          <a:solidFill>
            <a:srgbClr val="aef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530064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4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0920" y="256500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2340000" y="3644640"/>
            <a:ext cx="1224000" cy="1655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5516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42100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246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050920" y="4292640"/>
            <a:ext cx="615960" cy="792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rot="10800000">
            <a:off x="5148360" y="4363920"/>
            <a:ext cx="1728720" cy="1440000"/>
          </a:xfrm>
          <a:prstGeom prst="flowChartDocument">
            <a:avLst/>
          </a:prstGeom>
          <a:solidFill>
            <a:srgbClr val="aef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5803920"/>
            <a:ext cx="38084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594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85080" y="601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88000" y="3068280"/>
            <a:ext cx="0" cy="302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6877080" y="4147920"/>
            <a:ext cx="1224000" cy="1655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6019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29440" y="3787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609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486900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4797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486900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012000" y="4797360"/>
            <a:ext cx="1944720" cy="792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9900"/>
                </a:solidFill>
                <a:latin typeface="Arial"/>
              </a:rPr>
              <a:t>Дослідницька сторінка 2.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стосуємо властивість адитивності площ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6600"/>
                </a:solidFill>
                <a:latin typeface="Arial"/>
              </a:rPr>
              <a:t>Сторінка розрахунків.</a:t>
            </a:r>
            <a:br>
              <a:rPr sz="2000"/>
            </a:b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Знаходження об</a:t>
            </a: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`</a:t>
            </a:r>
            <a:r>
              <a:rPr b="0" lang="uk-UA" sz="4000" spc="-1" strike="noStrike">
                <a:solidFill>
                  <a:srgbClr val="336600"/>
                </a:solidFill>
                <a:latin typeface="Arial"/>
              </a:rPr>
              <a:t>ємів фі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Об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`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єм кон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700360" y="2997000"/>
            <a:ext cx="0" cy="309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465300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4437000"/>
            <a:ext cx="1368360" cy="863640"/>
          </a:xfrm>
          <a:prstGeom prst="rtTriangle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5300640"/>
            <a:ext cx="20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55640" y="3716280"/>
            <a:ext cx="0" cy="187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2663280" y="3970080"/>
            <a:ext cx="1440000" cy="1366920"/>
          </a:xfrm>
          <a:prstGeom prst="triangle">
            <a:avLst>
              <a:gd name="adj" fmla="val 49759"/>
            </a:avLst>
          </a:prstGeom>
          <a:gradFill rotWithShape="0">
            <a:gsLst>
              <a:gs pos="0">
                <a:srgbClr val="ff9900"/>
              </a:gs>
              <a:gs pos="5000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427640" cy="4360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87280" y="551664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0:19:09Z</dcterms:created>
  <dc:creator>Windows XP</dc:creator>
  <dc:description/>
  <dc:language>en-US</dc:language>
  <cp:lastModifiedBy>Windows XP</cp:lastModifiedBy>
  <dcterms:modified xsi:type="dcterms:W3CDTF">2011-11-23T18:47:01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13000000000001024140</vt:lpwstr>
  </property>
</Properties>
</file>