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3B1-BBC1-4B26-BCA9-A23CC608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82C-B54F-4055-BC7D-02EDCD6A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F74-566D-4698-BCCF-5BC18EEE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470-991A-45CE-98D2-A26CD0AB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0F1-E3C7-4D6E-BBAE-40F2477D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434-8C06-4F8C-86C1-134C96D3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04F-E6C1-4AD3-AF09-BB9AB57E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100-285D-4373-ABA0-F7261C66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091-BC7E-44FF-AFA9-3F4846B8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36C-4B82-4187-BB49-18A0098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9B6-62FC-4B78-BD78-18939392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7FF-101C-4E96-B6AD-48B8CECB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41CF-34C9-4AC0-9336-8E529D02EF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ТЕМА УРОКУ: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 “ПРОПОРЦІ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ета урок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 створення проекту      “ Пропорція. Розв'язування задач за допомогою пропорції 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3 Обернена пропорційна залежність велич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ві величини називають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бернен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опорційним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 якщо при збільшенні однієї в декілька разів друга зменшується у стільки ж разі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ва прямокутники мають однакову площу. Довжина першого прямокутника 3,6 м, а ширина – 2,4 м, довжина другого прямокутника 4,8 м. Знайдіть ширину другого прямокут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вжина        шир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 прямокутник -  3,6 м              2,4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 прямокутник -  4,8 м               х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скільки площа прямокутників однакова, то при збільшенні довжини прямокутника його ширина зменшиться у стільки ж разів. Залежність між довжиною і шириною обернена пропорційна. Стрілки в умові направляємо в протилежні сторони (від меншої до більшої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кладаємо пропорці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,6 : 4,8 = х : 2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Х = (3,6 * 2,4) : 4,8 = 1,8 (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повідь: ширина другого прямокутника 1,8 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4419720" y="2633760"/>
            <a:ext cx="158760" cy="6030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2273400" y="2687760"/>
            <a:ext cx="15876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4 Поділ числа на пропорційні част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дача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исло 138 поділіть на дві частини у відношенні 18 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хай х – коефіцієнт пропорційності (х – одна частина), тоді перше число 18х, а друге число 5х. За умовою задач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8х + 5х = 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3х = 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= 138 :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тже, перше число 18 * 6 = 108, а друге число 5 * 6 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дповідь: 108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дачі на пропорційний поділ величин є важливими. Ці задачі знаходять застосування в інших науках і житті, наприкла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Щоб виготовити замазку для дерева, беруть вапно, житнє борошно та олійний лак у відношенні 3 : 2 :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виготовлення фарфору беруть 25 частин білої глини, 2 частини піску і 1 частину гіпс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Група 5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Задачі на відс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42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исло відсотків деякої величини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ямо пропорційн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значенню цією величи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дача 1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лоща поля 400 га. Пшеницею засіяли 24% площі. Скільки гектарів землі засіяли пшенице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'язанн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хай засіяли пшеницею х га. Запишемо коротку умову задач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00 га – 100 %        напрям стрілок в одну сторону ві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га – 24 %              меншої величини до більшо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оді можна записати пропорці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: 400 = 24 : 100;  х = (400 * 24) : 100 =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дповідь: 96 га засіяли пшенице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дача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 першу годину автомобіль проїхав70 км, що становило 14 % усього шляху. Скільки кілометрів мав проїхати автомобіль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ехай автомобіль мав проїхати х 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весь шлях     х км – 10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їхав           70 км – 1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Х : 70 = 100 : 14; х = (70 * 100) : 14 = 500 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ідповідь: автомобіль мав проїхати 500 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дача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сіяли 240 насінин, з яких зійшло 200. Знайдіть відсоток схожості насін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сіяли 240 – 10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ійшло 200 – х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00 : 240 = х : 100    х = (100 * 20  ) : 240 = 9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ідповідь: 9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роект “ Пропорція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390600" y="1206360"/>
            <a:ext cx="83628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а “ Математичне лото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1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 2 л розчину міститься 10 г солі. Скільки солі у 7 л цього розчин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2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 муляри можуть закінчити роботу за 8 днів. За який час 6 мулярів закінчать цю робот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3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асштаб креслення деталі 10 : 1. Якою буде довжина цієї деталі, якщо на кресленні вона дорівнює 120 м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дача 4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 яблуках накопичується до 10 % цукру. Скільки кілограмів цукру містять 350 кг таких яблу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Відповіді показали, що всі учні молодці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Гасло уро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Думаємо колективно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рацюємо оперативно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сперечаємося доказово 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це для всіх обов’язко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УР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– успі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– раді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– обдаровані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– кмітливі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Ми створимо проект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“ Пропорція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Щоб вирішити важливі справ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 знати в житті невдач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и створимо проект на сла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 цікавих і складних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1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РОПОРЦІЯ. ВЛАСТИВОСТІ ПРОПОРЦІЇ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івність двох відношень називають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опорціє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ередн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 :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райн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ідноситься д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я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відноситься д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новна властивість пропорції: добуток крайніх членів пропорції дорівнює добутку її середніх членів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4687920" y="3633840"/>
            <a:ext cx="603360" cy="461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3492360" y="3633840"/>
            <a:ext cx="603360" cy="4618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ая со стрелкой 8" descr=""/>
          <p:cNvPicPr/>
          <p:nvPr/>
        </p:nvPicPr>
        <p:blipFill>
          <a:blip r:embed="rId3"/>
          <a:stretch/>
        </p:blipFill>
        <p:spPr>
          <a:xfrm>
            <a:off x="3919680" y="3048120"/>
            <a:ext cx="15876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ая со стрелкой 10" descr=""/>
          <p:cNvPicPr/>
          <p:nvPr/>
        </p:nvPicPr>
        <p:blipFill>
          <a:blip r:embed="rId4"/>
          <a:stretch/>
        </p:blipFill>
        <p:spPr>
          <a:xfrm>
            <a:off x="4559400" y="3048120"/>
            <a:ext cx="1587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Алгоритм знаходження невідомого члена пропорці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значити крайні і середні члени пропор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щоб знайти невідомий член, треба добуток пари відомих членів поділити на відомий член, який не має пар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вдання 1. Знайдіть невідомий член пропорці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еред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рай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х= (2 * 3) : 11 = 6 /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3486240" y="5048280"/>
            <a:ext cx="15876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4059360" y="5048280"/>
            <a:ext cx="158760" cy="243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ая со стрелкой 5" descr=""/>
          <p:cNvPicPr/>
          <p:nvPr/>
        </p:nvPicPr>
        <p:blipFill>
          <a:blip r:embed="rId3"/>
          <a:stretch/>
        </p:blipFill>
        <p:spPr>
          <a:xfrm>
            <a:off x="3060720" y="5492880"/>
            <a:ext cx="463680" cy="5299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4254480" y="5492880"/>
            <a:ext cx="463680" cy="52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вдання 2. Розв'яжіть рівня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 : 5 = 12 : 3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івняння записано у вигляді пропор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 = (5 * 12) : 3 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повідь: 20 – корінь рівня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2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ряма пропорційна залежні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ві величини називають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ямо пропорційним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якщо при збільшенні однієї у декілька разів друга збільшується у стільки ж раз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клади таких величин ми зустрічаємо у повсякденному житті та під час вивчення шкільних предметі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вартість покупки і кількі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час і відстань при сталій швидкості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відстань на карті і відстань на місцевості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) маса і об'є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Група 2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алева кулька об'ємом 6 см має масу 46,8 г. якою буде маса кульки з тією самої сталі, якщо її об'єм 2,5 с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'яз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б'єм               ма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 кулька –  6 см                  46,8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 кулька –  2,5 см                х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лежність між об'ємом і масою кулі прямо пропорційна. Зменшення об'єму і маси відмічаємо в умові стрілками в одну сторону. Напрям стрілок – від меншої величини до більшої. Складаємо пропорці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6 : 2,5 = 46,8 : 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 = (2,5 * 46,8) : 6 = 19,5 (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дповідь: маса кульки 19,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1847880" y="3060720"/>
            <a:ext cx="156960" cy="6760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ая со стрелкой 17" descr=""/>
          <p:cNvPicPr/>
          <p:nvPr/>
        </p:nvPicPr>
        <p:blipFill>
          <a:blip r:embed="rId2"/>
          <a:stretch/>
        </p:blipFill>
        <p:spPr>
          <a:xfrm>
            <a:off x="4705200" y="3060720"/>
            <a:ext cx="1526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6-15T17:59:55Z</dcterms:modified>
  <cp:revision>18</cp:revision>
  <dc:subject/>
  <dc:title>ТЕМА УРОКУ:  “ПРОПОРЦІЯ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4000000000001024140</vt:lpwstr>
  </property>
</Properties>
</file>