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4.jpeg" ContentType="image/jpeg"/>
  <Override PartName="/ppt/media/image23.wmf" ContentType="image/x-wmf"/>
  <Override PartName="/ppt/media/image20.wmf" ContentType="image/x-wmf"/>
  <Override PartName="/ppt/media/image21.wmf" ContentType="image/x-wmf"/>
  <Override PartName="/ppt/media/image19.wmf" ContentType="image/x-wmf"/>
  <Override PartName="/ppt/media/image18.jpeg" ContentType="image/jpeg"/>
  <Override PartName="/ppt/media/image55.wmf" ContentType="image/x-wmf"/>
  <Override PartName="/ppt/media/image16.wmf" ContentType="image/x-wmf"/>
  <Override PartName="/ppt/media/image14.wmf" ContentType="image/x-wmf"/>
  <Override PartName="/ppt/media/image22.jpeg" ContentType="image/jpeg"/>
  <Override PartName="/ppt/media/image42.wmf" ContentType="image/x-wmf"/>
  <Override PartName="/ppt/media/image15.wmf" ContentType="image/x-wmf"/>
  <Override PartName="/ppt/media/image1.jpeg" ContentType="image/jpeg"/>
  <Override PartName="/ppt/media/image50.wmf" ContentType="image/x-wmf"/>
  <Override PartName="/ppt/media/image27.wmf" ContentType="image/x-wmf"/>
  <Override PartName="/ppt/media/image4.wmf" ContentType="image/x-wmf"/>
  <Override PartName="/ppt/media/image34.wmf" ContentType="image/x-wmf"/>
  <Override PartName="/ppt/media/image25.wmf" ContentType="image/x-wmf"/>
  <Override PartName="/ppt/media/image2.jpeg" ContentType="image/jpeg"/>
  <Override PartName="/ppt/media/image26.wmf" ContentType="image/x-wmf"/>
  <Override PartName="/ppt/media/image3.wmf" ContentType="image/x-wmf"/>
  <Override PartName="/ppt/media/image33.wmf" ContentType="image/x-wmf"/>
  <Override PartName="/ppt/media/image5.wmf" ContentType="image/x-wmf"/>
  <Override PartName="/ppt/media/image35.wmf" ContentType="image/x-wmf"/>
  <Override PartName="/ppt/media/image10.wmf" ContentType="image/x-wmf"/>
  <Override PartName="/ppt/media/image47.wmf" ContentType="image/x-wmf"/>
  <Override PartName="/ppt/media/image29.wmf" ContentType="image/x-wmf"/>
  <Override PartName="/ppt/media/image41.wmf" ContentType="image/x-wmf"/>
  <Override PartName="/ppt/media/image43.jpeg" ContentType="image/jpeg"/>
  <Override PartName="/ppt/media/image44.wmf" ContentType="image/x-wmf"/>
  <Override PartName="/ppt/media/image46.wmf" ContentType="image/x-wmf"/>
  <Override PartName="/ppt/media/image40.wmf" ContentType="image/x-wmf"/>
  <Override PartName="/ppt/media/image52.wmf" ContentType="image/x-wmf"/>
  <Override PartName="/ppt/media/image53.wmf" ContentType="image/x-wmf"/>
  <Override PartName="/ppt/media/image30.wmf" ContentType="image/x-wmf"/>
  <Override PartName="/ppt/media/image51.gif" ContentType="image/gif"/>
  <Override PartName="/ppt/media/image54.wmf" ContentType="image/x-wmf"/>
  <Override PartName="/ppt/media/image32.wmf" ContentType="image/x-wmf"/>
  <Override PartName="/ppt/media/image37.wmf" ContentType="image/x-wmf"/>
  <Override PartName="/ppt/media/image7.wmf" ContentType="image/x-wmf"/>
  <Override PartName="/ppt/media/image56.wmf" ContentType="image/x-wmf"/>
  <Override PartName="/ppt/media/image39.wmf" ContentType="image/x-wmf"/>
  <Override PartName="/ppt/media/image9.wmf" ContentType="image/x-wmf"/>
  <Override PartName="/ppt/media/image13.wmf" ContentType="image/x-wmf"/>
  <Override PartName="/ppt/media/image11.wmf" ContentType="image/x-wmf"/>
  <Override PartName="/ppt/media/image48.wmf" ContentType="image/x-wmf"/>
  <Override PartName="/ppt/media/image28.png" ContentType="image/png"/>
  <Override PartName="/ppt/media/image31.wmf" ContentType="image/x-wmf"/>
  <Override PartName="/ppt/media/image38.wmf" ContentType="image/x-wmf"/>
  <Override PartName="/ppt/media/image8.wmf" ContentType="image/x-wmf"/>
  <Override PartName="/ppt/media/image49.wmf" ContentType="image/x-wmf"/>
  <Override PartName="/ppt/media/image12.wmf" ContentType="image/x-wmf"/>
  <Override PartName="/ppt/media/image17.jpeg" ContentType="image/jpeg"/>
  <Override PartName="/ppt/media/image45.wmf" ContentType="image/x-wmf"/>
  <Override PartName="/ppt/media/image6.wmf" ContentType="image/x-wmf"/>
  <Override PartName="/ppt/media/image36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53D1-7B01-4EF5-B7D4-AD27559891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648B9-DA24-45B9-8C96-5FCF32A3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9872-73DB-4D8B-9301-75A88CCE4A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2A63A-5AF9-423E-B81E-0D59CB3501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1FBC4-036A-4967-810F-DDF1F1884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9E49-B03C-4134-A241-6A0BE75DA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F870-437B-46BB-BB65-69272302F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541F8-2D74-4B1A-ADF9-8A7791D63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3729-195A-4766-A268-C42CE625DE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3308-6461-437F-BCC1-71FE325D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3EE47-1777-4D5F-AC56-D306212F7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976A3-C051-4FA1-8C77-6377CD60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9292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9292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92929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9292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7AD6B-2082-4C1F-ACF5-2F5FFDA43455}" type="slidenum">
              <a:rPr b="0" lang="en-US" sz="1400" spc="-1" strike="noStrike">
                <a:solidFill>
                  <a:srgbClr val="29292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hyperlink" Target="http://ru.wikipedia.org/wiki/&#1060;&#1072;&#1081;&#1083;:ThomasHarriot.jpg" TargetMode="External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upload.wikimedia.org/wikipedia/commons/0/0c/Augustin_Louis_Cauchy.JPG" TargetMode="External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27.wmf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30.wmf"/><Relationship Id="rId3" Type="http://schemas.openxmlformats.org/officeDocument/2006/relationships/image" Target="../media/image31.wmf"/><Relationship Id="rId4" Type="http://schemas.openxmlformats.org/officeDocument/2006/relationships/image" Target="../media/image32.wmf"/><Relationship Id="rId5" Type="http://schemas.openxmlformats.org/officeDocument/2006/relationships/image" Target="../media/image33.wmf"/><Relationship Id="rId6" Type="http://schemas.openxmlformats.org/officeDocument/2006/relationships/image" Target="../media/image34.wmf"/><Relationship Id="rId7" Type="http://schemas.openxmlformats.org/officeDocument/2006/relationships/image" Target="../media/image35.wmf"/><Relationship Id="rId8" Type="http://schemas.openxmlformats.org/officeDocument/2006/relationships/image" Target="../media/image36.wmf"/><Relationship Id="rId9" Type="http://schemas.openxmlformats.org/officeDocument/2006/relationships/image" Target="../media/image37.wmf"/><Relationship Id="rId10" Type="http://schemas.openxmlformats.org/officeDocument/2006/relationships/image" Target="../media/image38.wmf"/><Relationship Id="rId11" Type="http://schemas.openxmlformats.org/officeDocument/2006/relationships/image" Target="../media/image39.wmf"/><Relationship Id="rId1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41.wmf"/><Relationship Id="rId3" Type="http://schemas.openxmlformats.org/officeDocument/2006/relationships/image" Target="../media/image42.wmf"/><Relationship Id="rId4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44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45.wm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47.wmf"/><Relationship Id="rId3" Type="http://schemas.openxmlformats.org/officeDocument/2006/relationships/image" Target="../media/image48.wmf"/><Relationship Id="rId4" Type="http://schemas.openxmlformats.org/officeDocument/2006/relationships/image" Target="../media/image49.wmf"/><Relationship Id="rId5" Type="http://schemas.openxmlformats.org/officeDocument/2006/relationships/image" Target="../media/image50.wmf"/><Relationship Id="rId6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1.gif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3.wmf"/><Relationship Id="rId2" Type="http://schemas.openxmlformats.org/officeDocument/2006/relationships/image" Target="../media/image54.wmf"/><Relationship Id="rId3" Type="http://schemas.openxmlformats.org/officeDocument/2006/relationships/image" Target="../media/image55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6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image" Target="../media/image9.wmf"/><Relationship Id="rId6" Type="http://schemas.openxmlformats.org/officeDocument/2006/relationships/image" Target="../media/image10.wmf"/><Relationship Id="rId7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3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3.wmf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15.wmf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1426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6000" spc="-1" strike="noStrike">
                <a:solidFill>
                  <a:srgbClr val="660033"/>
                </a:solidFill>
                <a:latin typeface="Arial"/>
              </a:rPr>
              <a:t>Нерівності</a:t>
            </a:r>
            <a:r>
              <a:rPr b="1" lang="ru-RU" sz="6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343040" y="4114800"/>
            <a:ext cx="426708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Презентацію підготувала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вчитель математики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ЗШ </a:t>
            </a:r>
            <a:r>
              <a:rPr b="0" lang="en-US" sz="2400" spc="-1" strike="noStrike">
                <a:solidFill>
                  <a:srgbClr val="660033"/>
                </a:solidFill>
                <a:latin typeface="Arial"/>
              </a:rPr>
              <a:t>I-III </a:t>
            </a: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ступенів №11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м. Білої Церкви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33"/>
                </a:solidFill>
                <a:latin typeface="Arial"/>
              </a:rPr>
              <a:t>Ільніцька Л.В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43" name="" descr="Уравнения и неравенства с модулями (учебное пособие для подготовки к ЕГЭ и ГИА)"/>
          <p:cNvPicPr/>
          <p:nvPr/>
        </p:nvPicPr>
        <p:blipFill>
          <a:blip r:embed="rId1"/>
          <a:stretch/>
        </p:blipFill>
        <p:spPr>
          <a:xfrm>
            <a:off x="304920" y="2895480"/>
            <a:ext cx="324792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20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457200" y="53316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орівнювати яке з двох чисел більше, а яке менше, люди вміли багато тисячоліть тому. В «Началах» Евкліда доведено нерівність, яку прийнято записувати                                          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ільки тоді під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зуміли не довільні додатні числа, а довжини відрізків; доведення чисто геометричне і без знаків нерівності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1219320" y="2514600"/>
            <a:ext cx="2133360" cy="106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0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animClr clrSpc="rgb">
                                      <p:cBhvr>
                                        <p:cTn id="181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cc66ff"/>
                                      </p:to>
                                    </p:animClr>
                                    <p:set>
                                      <p:cBhvr>
                                        <p:cTn id="182" dur="1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  <p:animRot by="120000">
                                      <p:cBhvr>
                                        <p:cTn id="183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4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185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186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18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/>
          </p:nvPr>
        </p:nvSpPr>
        <p:spPr>
          <a:xfrm>
            <a:off x="4114800" y="1828800"/>
            <a:ext cx="45720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ки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перше запровадив англійський математик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. Гарріот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 1631 році, знаки     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і      введено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VIII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ст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7772400" y="4343400"/>
            <a:ext cx="309600" cy="38088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4419720" y="4876920"/>
            <a:ext cx="309600" cy="3808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ThomasHarriot.jpg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228600" y="1295280"/>
            <a:ext cx="3660840" cy="4648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4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609120"/>
            <a:ext cx="8229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ерівність 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осить назву у математиці </a:t>
            </a:r>
            <a:r>
              <a:rPr b="1" lang="uk-UA" sz="3200" spc="-1" strike="noStrike">
                <a:solidFill>
                  <a:srgbClr val="292929"/>
                </a:solidFill>
                <a:latin typeface="Arial"/>
              </a:rPr>
              <a:t>нерівність Коші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для трьох доданків. Коші довів справедливість нерівності для будь-якої кількості  доданків.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Оґюстен-Луї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Коші – французький математик (1789-1854), що  багато написав наукових праць, які використовують в різних галузях науки і технік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2666880" y="565200"/>
            <a:ext cx="6096240" cy="87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Оґюстен-Луї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Коші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Файл:Augustin Louis Cauchy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666880" y="1523880"/>
            <a:ext cx="377676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01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Довести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ідносимо ліву і праву нерівності до квадрата 5 разів. Дістанемо нерівність 6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9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(скористалися числовою нерівністю: якщо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то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en-US" sz="3200" spc="-1" strike="noStrike" baseline="30000">
                <a:solidFill>
                  <a:srgbClr val="292929"/>
                </a:solidFill>
                <a:latin typeface="Arial"/>
              </a:rPr>
              <a:t>n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2971800" y="312840"/>
            <a:ext cx="4343400" cy="96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" dur="2000"/>
                                        <p:tgtEl>
                                          <p:spTgt spid="1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05920" cy="16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Дати оцінку периметру рівностороннього трикутника із стороною 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а 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(в мм), де 54,2&lt;</a:t>
            </a:r>
            <a:r>
              <a:rPr b="0" i="1" lang="ru-RU" sz="3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&lt;54,3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25146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ериметр рівностороннього трикутника із стороною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обчислимо за формулою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P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= 3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a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Помножимо кожну частину подвійної нерівності на 3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162,6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3а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162,9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0" dur="500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Довести нерівність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а цей вираз 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евід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ємний при будь-яких  значеннях  </a:t>
            </a:r>
            <a:r>
              <a:rPr b="0" i="1" lang="uk-UA" sz="3200" spc="-1" strike="noStrike">
                <a:solidFill>
                  <a:srgbClr val="292929"/>
                </a:solidFill>
                <a:latin typeface="Arial"/>
              </a:rPr>
              <a:t>а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і  </a:t>
            </a:r>
            <a:r>
              <a:rPr b="0" i="1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i="1" lang="ru-RU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4952880" y="1600200"/>
            <a:ext cx="2425680" cy="4888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2"/>
          <a:stretch/>
        </p:blipFill>
        <p:spPr>
          <a:xfrm>
            <a:off x="1192320" y="2819520"/>
            <a:ext cx="4243320" cy="57312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3"/>
          <a:stretch/>
        </p:blipFill>
        <p:spPr>
          <a:xfrm>
            <a:off x="5200560" y="3905280"/>
            <a:ext cx="3943440" cy="295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ри яких значеннях змінної має зміст вираз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а)   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б)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Функція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визначена тільки для     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тому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а)          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              </a:t>
            </a:r>
            <a:r>
              <a:rPr b="0" i="1" lang="uk-UA" sz="3200" spc="-1" strike="noStrike">
                <a:solidFill>
                  <a:srgbClr val="292929"/>
                </a:solidFill>
                <a:latin typeface="Arial"/>
              </a:rPr>
              <a:t>х  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[2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      );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11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б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600200" y="2754360"/>
            <a:ext cx="1219320" cy="52236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029200" y="2514600"/>
            <a:ext cx="1230480" cy="95868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3"/>
          <a:stretch/>
        </p:blipFill>
        <p:spPr>
          <a:xfrm>
            <a:off x="2133720" y="3276720"/>
            <a:ext cx="1295280" cy="62208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4"/>
          <a:stretch/>
        </p:blipFill>
        <p:spPr>
          <a:xfrm>
            <a:off x="533520" y="4040280"/>
            <a:ext cx="990360" cy="509400"/>
          </a:xfrm>
          <a:prstGeom prst="rect">
            <a:avLst/>
          </a:prstGeom>
          <a:ln w="0">
            <a:noFill/>
          </a:ln>
        </p:spPr>
      </p:pic>
      <p:sp>
        <p:nvSpPr>
          <p:cNvPr id="17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5"/>
          <a:stretch/>
        </p:blipFill>
        <p:spPr>
          <a:xfrm>
            <a:off x="1066680" y="4626000"/>
            <a:ext cx="1219320" cy="5223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6"/>
          <a:stretch/>
        </p:blipFill>
        <p:spPr>
          <a:xfrm>
            <a:off x="2514600" y="4648320"/>
            <a:ext cx="1752480" cy="50616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7"/>
          <a:stretch/>
        </p:blipFill>
        <p:spPr>
          <a:xfrm>
            <a:off x="4800600" y="4724280"/>
            <a:ext cx="247680" cy="30492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8"/>
          <a:stretch/>
        </p:blipFill>
        <p:spPr>
          <a:xfrm>
            <a:off x="6095880" y="4724280"/>
            <a:ext cx="609840" cy="31608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9"/>
          <a:stretch/>
        </p:blipFill>
        <p:spPr>
          <a:xfrm>
            <a:off x="1039680" y="5562720"/>
            <a:ext cx="1273320" cy="97308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0"/>
          <a:stretch/>
        </p:blipFill>
        <p:spPr>
          <a:xfrm>
            <a:off x="2624040" y="5540400"/>
            <a:ext cx="1109880" cy="10126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1"/>
          <a:stretch/>
        </p:blipFill>
        <p:spPr>
          <a:xfrm>
            <a:off x="3949560" y="5638680"/>
            <a:ext cx="1398600" cy="9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534520" cy="495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496080" indent="-49608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arenR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Розв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язати нерівність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1)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– 1| &gt; -1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2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+6|   -2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3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|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4|&lt;5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є               .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є    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            -5 &lt;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– 4&lt;5;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1&lt; 2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&lt;9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-0,5&lt;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&lt;4,5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;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                                                    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є </a:t>
            </a:r>
            <a:r>
              <a:rPr b="0" lang="en-US" sz="2800" spc="-1" strike="noStrike">
                <a:solidFill>
                  <a:srgbClr val="292929"/>
                </a:solidFill>
                <a:latin typeface="Arial"/>
              </a:rPr>
              <a:t>(-0,5; 4,5)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496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4" name="" descr=""/>
          <p:cNvPicPr/>
          <p:nvPr/>
        </p:nvPicPr>
        <p:blipFill>
          <a:blip r:embed="rId1"/>
          <a:stretch/>
        </p:blipFill>
        <p:spPr>
          <a:xfrm>
            <a:off x="990720" y="2971800"/>
            <a:ext cx="1371600" cy="5126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tretch/>
        </p:blipFill>
        <p:spPr>
          <a:xfrm>
            <a:off x="4267080" y="3048120"/>
            <a:ext cx="298440" cy="3333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3"/>
          <a:stretch/>
        </p:blipFill>
        <p:spPr>
          <a:xfrm>
            <a:off x="4800600" y="2514600"/>
            <a:ext cx="24768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7" dur="500"/>
                                        <p:tgtEl>
                                          <p:spTgt spid="1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2" dur="500"/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5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0" dur="500"/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3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500"/>
                                        <p:tgtEl>
                                          <p:spTgt spid="1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3" dur="500"/>
                                        <p:tgtEl>
                                          <p:spTgt spid="1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7" dur="500"/>
                                        <p:tgtEl>
                                          <p:spTgt spid="1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304920" y="837720"/>
            <a:ext cx="853416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arenR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оясніть, що зображено на малюнку: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533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0" y="3352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grpSp>
        <p:nvGrpSpPr>
          <p:cNvPr id="226" name=""/>
          <p:cNvGrpSpPr/>
          <p:nvPr/>
        </p:nvGrpSpPr>
        <p:grpSpPr>
          <a:xfrm>
            <a:off x="1066680" y="1371600"/>
            <a:ext cx="7086240" cy="5486040"/>
            <a:chOff x="1066680" y="1371600"/>
            <a:chExt cx="7086240" cy="5486040"/>
          </a:xfrm>
        </p:grpSpPr>
        <p:pic>
          <p:nvPicPr>
            <p:cNvPr id="227" name="" descr=""/>
            <p:cNvPicPr/>
            <p:nvPr/>
          </p:nvPicPr>
          <p:blipFill>
            <a:blip r:embed="rId1"/>
            <a:stretch/>
          </p:blipFill>
          <p:spPr>
            <a:xfrm>
              <a:off x="1066680" y="1371600"/>
              <a:ext cx="7086240" cy="5486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" name=""/>
            <p:cNvSpPr/>
            <p:nvPr/>
          </p:nvSpPr>
          <p:spPr>
            <a:xfrm>
              <a:off x="1783800" y="4916520"/>
              <a:ext cx="8071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29"/>
                  </a:solidFill>
                  <a:latin typeface="Arial"/>
                </a:rPr>
                <a:t>y=x/2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770920" y="2608200"/>
              <a:ext cx="80712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92929"/>
                  </a:solidFill>
                  <a:latin typeface="Arial"/>
                </a:rPr>
                <a:t>y=3-x</a:t>
              </a:r>
              <a:endParaRPr b="0" lang="en-US" sz="1400" spc="-1" strike="noStrike">
                <a:solidFill>
                  <a:srgbClr val="292929"/>
                </a:solidFill>
                <a:latin typeface="Arial"/>
              </a:endParaRPr>
            </a:p>
          </p:txBody>
        </p:sp>
        <p:pic>
          <p:nvPicPr>
            <p:cNvPr id="230" name="" descr=""/>
            <p:cNvPicPr/>
            <p:nvPr/>
          </p:nvPicPr>
          <p:blipFill>
            <a:blip r:embed="rId2"/>
            <a:stretch/>
          </p:blipFill>
          <p:spPr>
            <a:xfrm>
              <a:off x="4385520" y="1838520"/>
              <a:ext cx="717120" cy="439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4744080" y="3679920"/>
              <a:ext cx="4035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D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717600" y="2690280"/>
              <a:ext cx="403560" cy="36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B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448680" y="5824080"/>
              <a:ext cx="4035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292929"/>
                  </a:solidFill>
                  <a:latin typeface="Arial"/>
                </a:rPr>
                <a:t>C</a:t>
              </a:r>
              <a:endParaRPr b="0" lang="en-US" sz="1600" spc="-1" strike="noStrike">
                <a:solidFill>
                  <a:srgbClr val="29292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Булева алгебра"/>
          <p:cNvPicPr/>
          <p:nvPr/>
        </p:nvPicPr>
        <p:blipFill>
          <a:blip r:embed="rId1"/>
          <a:stretch/>
        </p:blipFill>
        <p:spPr>
          <a:xfrm>
            <a:off x="0" y="12600"/>
            <a:ext cx="9144000" cy="68454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990360" y="1676520"/>
            <a:ext cx="7848360" cy="26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ff9900"/>
                </a:solidFill>
                <a:latin typeface="Arial"/>
              </a:rPr>
              <a:t>У математиці є своя краса, як у поезії і музиці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4647960"/>
            <a:ext cx="8229600" cy="92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ff9900"/>
                </a:solidFill>
                <a:latin typeface="Arial"/>
              </a:rPr>
              <a:t>М.Є.Жуковський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4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-52)"/>
                                          </p:val>
                                        </p:tav>
                                        <p:tav tm="50000">
                                          <p:val>
                                            <p:strVal val="rgb(51,-103,-103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500"/>
                                        <p:tgtEl>
                                          <p:spTgt spid="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9750"/>
                            </p:stCondLst>
                            <p:childTnLst>
                              <p:par>
                                <p:cTn id="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Усні впра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зв’язати нерівність з параметром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-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x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=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,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то х∙0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7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,  х – будь-яке число;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&gt; 1,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то х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&lt;  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;</a:t>
            </a:r>
            <a:br>
              <a:rPr sz="3200"/>
            </a:b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m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l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,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то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х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  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1"/>
          <a:stretch/>
        </p:blipFill>
        <p:spPr>
          <a:xfrm>
            <a:off x="3657600" y="4267080"/>
            <a:ext cx="817560" cy="838440"/>
          </a:xfrm>
          <a:prstGeom prst="rect">
            <a:avLst/>
          </a:prstGeom>
          <a:ln w="0">
            <a:noFill/>
          </a:ln>
        </p:spPr>
      </p:pic>
      <p:pic>
        <p:nvPicPr>
          <p:cNvPr id="240" name="" descr=""/>
          <p:cNvPicPr/>
          <p:nvPr/>
        </p:nvPicPr>
        <p:blipFill>
          <a:blip r:embed="rId2"/>
          <a:stretch/>
        </p:blipFill>
        <p:spPr>
          <a:xfrm>
            <a:off x="3657600" y="5334120"/>
            <a:ext cx="81756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4" dur="500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9" dur="500"/>
                                        <p:tgtEl>
                                          <p:spTgt spid="23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4" dur="500"/>
                                        <p:tgtEl>
                                          <p:spTgt spid="2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2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2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Софізм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«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Додатне число менше 0</a:t>
            </a: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»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Дано: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омножимо обидві частини нерівності на      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     .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292929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Перетворимо даний вираз так, щоб у лівій частині був 0: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3309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1600200" y="1600200"/>
            <a:ext cx="1371600" cy="41760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6" name="" descr=""/>
          <p:cNvPicPr/>
          <p:nvPr/>
        </p:nvPicPr>
        <p:blipFill>
          <a:blip r:embed="rId2"/>
          <a:stretch/>
        </p:blipFill>
        <p:spPr>
          <a:xfrm>
            <a:off x="1219320" y="2362320"/>
            <a:ext cx="838080" cy="44748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1219320" y="2819520"/>
            <a:ext cx="5638680" cy="54612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0" y="3305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4"/>
          <a:stretch/>
        </p:blipFill>
        <p:spPr>
          <a:xfrm>
            <a:off x="1206360" y="4392720"/>
            <a:ext cx="2389320" cy="48096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0" y="329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5"/>
          <a:stretch/>
        </p:blipFill>
        <p:spPr>
          <a:xfrm>
            <a:off x="1282680" y="5105520"/>
            <a:ext cx="1627200" cy="4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500"/>
                                        <p:tgtEl>
                                          <p:spTgt spid="2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8" dur="500"/>
                                        <p:tgtEl>
                                          <p:spTgt spid="2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1600200"/>
            <a:ext cx="82296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5400" spc="-1" strike="noStrike">
                <a:solidFill>
                  <a:srgbClr val="000000"/>
                </a:solidFill>
                <a:latin typeface="Arial"/>
              </a:rPr>
              <a:t>Розв’язати нерівність: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5400"/>
            </a:b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-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х+1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|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&lt;</a:t>
            </a:r>
            <a:r>
              <a:rPr b="0" lang="uk-UA" sz="54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Метод інтервалів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йти нулі підмодульних виразів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Знайденими точками розбити координатну пряму на числові проміжки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Ро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зв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язати нерівність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на кожному з проміжків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120000"/>
              </a:lnSpc>
              <a:spcBef>
                <a:spcPts val="799"/>
              </a:spcBef>
              <a:buClr>
                <a:srgbClr val="29292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Об’єднати одержані результати.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5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5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5" dur="5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0" dur="5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33520" y="1371600"/>
            <a:ext cx="815328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Всередині трикутника взято точку. Порівняти суму відстаней від цієї точки до вершин трикутника з його периметром. Або довести,  що сума відстаней від будь-якої точки  всередині трикутника до його вершин менша периметра трикутник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457200"/>
            <a:ext cx="762012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292929"/>
                </a:solidFill>
                <a:latin typeface="Arial"/>
              </a:rPr>
              <a:t>Задача</a:t>
            </a:r>
            <a:endParaRPr b="0" lang="en-US" sz="4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7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20760" y="482760"/>
            <a:ext cx="3854520" cy="2085840"/>
          </a:xfrm>
          <a:prstGeom prst="triangle">
            <a:avLst>
              <a:gd name="adj" fmla="val 21190"/>
            </a:avLst>
          </a:prstGeom>
          <a:solidFill>
            <a:srgbClr val="ffdbb7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2568600" y="1123920"/>
            <a:ext cx="480960" cy="3207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92929"/>
                </a:solidFill>
                <a:latin typeface="Arial"/>
              </a:rPr>
              <a:t>D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03160" y="160200"/>
            <a:ext cx="480960" cy="31932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В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0" y="2570040"/>
            <a:ext cx="320760" cy="3207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175280" y="2409840"/>
            <a:ext cx="320400" cy="318960"/>
          </a:xfrm>
          <a:prstGeom prst="rect">
            <a:avLst/>
          </a:prstGeom>
          <a:solidFill>
            <a:srgbClr val="ffdbb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320760" y="1446120"/>
            <a:ext cx="2247840" cy="11239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23920" y="482760"/>
            <a:ext cx="482760" cy="144432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1604880" y="1927080"/>
            <a:ext cx="2570400" cy="642960"/>
          </a:xfrm>
          <a:prstGeom prst="line">
            <a:avLst/>
          </a:prstGeom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1123920" y="1689120"/>
            <a:ext cx="47952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000" spc="-1" strike="noStrike">
                <a:solidFill>
                  <a:srgbClr val="292929"/>
                </a:solidFill>
                <a:latin typeface="Arial"/>
              </a:rPr>
              <a:t>М</a:t>
            </a:r>
            <a:endParaRPr b="0" lang="en-US" sz="20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380520" y="3809880"/>
            <a:ext cx="84582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Розглянем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∆ADC: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D + DC &gt; AM + MC.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З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нерівності трикутника випливає, що 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+BC &gt; AM+MC.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нолог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чно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 + AC &gt; BM + MC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 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BC + AC &gt; AM + MB.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даємо останні 3 нерівності, одержимо: </a:t>
            </a:r>
            <a:br>
              <a:rPr sz="2400"/>
            </a:b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AB + BC + AC) &gt;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(MA + MB + MC)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б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MA+MB+MC &lt; P</a:t>
            </a:r>
            <a:r>
              <a:rPr b="0" lang="en-US" sz="2400" spc="-1" strike="noStrike" baseline="-25000">
                <a:solidFill>
                  <a:srgbClr val="292929"/>
                </a:solidFill>
                <a:latin typeface="Arial"/>
              </a:rPr>
              <a:t>∆ABC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8320" y="380880"/>
            <a:ext cx="4343400" cy="32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Продовжимо АМ до перет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ину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з ВС в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т.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Із нерівності. трикутника випливає, що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АВ+В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&gt;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А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 обох частин нерівності додамо 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D</a:t>
            </a: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С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AB + (BD + DC) &gt; AD + DC, 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або</a:t>
            </a:r>
            <a:r>
              <a:rPr b="0" lang="en-US" sz="2400" spc="-1" strike="noStrike">
                <a:solidFill>
                  <a:srgbClr val="292929"/>
                </a:solidFill>
                <a:latin typeface="Arial"/>
              </a:rPr>
              <a:t> AB + BC &gt; AD + DC. 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2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2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2362320" y="3238560"/>
            <a:ext cx="4524120" cy="3619440"/>
          </a:xfrm>
          <a:prstGeom prst="rect">
            <a:avLst/>
          </a:prstGeom>
          <a:ln w="0">
            <a:noFill/>
          </a:ln>
        </p:spPr>
      </p:pic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304920" y="304560"/>
            <a:ext cx="8229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Розв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яжіть нерівність </a:t>
            </a:r>
            <a:br>
              <a:rPr sz="4000"/>
            </a:br>
            <a:r>
              <a:rPr b="1" lang="uk-UA" sz="4000" spc="-1" strike="noStrike">
                <a:solidFill>
                  <a:srgbClr val="000000"/>
                </a:solidFill>
                <a:latin typeface="Arial"/>
              </a:rPr>
              <a:t>з параметр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2841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4016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2057400" y="1523880"/>
            <a:ext cx="5181480" cy="162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Працюємо самостійно, </a:t>
            </a:r>
            <a:br>
              <a:rPr sz="4000"/>
            </a:br>
            <a:r>
              <a:rPr b="0" lang="uk-UA" sz="4000" spc="-1" strike="noStrike">
                <a:solidFill>
                  <a:srgbClr val="000000"/>
                </a:solidFill>
                <a:latin typeface="Arial"/>
              </a:rPr>
              <a:t>обравши завдання певного рівня</a:t>
            </a: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6600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6600cc"/>
                </a:solidFill>
                <a:uFillTx/>
                <a:latin typeface="Arial"/>
              </a:rPr>
              <a:t>Середні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Довести нерівність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 u="sng">
                <a:solidFill>
                  <a:srgbClr val="990033"/>
                </a:solidFill>
                <a:uFillTx/>
                <a:latin typeface="Arial"/>
              </a:rPr>
              <a:t>Достатні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Застосувати метод інтервалів: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br>
              <a:rPr sz="3200"/>
            </a:b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29292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2800" spc="-1" strike="noStrike" u="sng">
                <a:solidFill>
                  <a:srgbClr val="008000"/>
                </a:solidFill>
                <a:uFillTx/>
                <a:latin typeface="Arial"/>
              </a:rPr>
              <a:t>Високий рівень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292929"/>
                </a:solidFill>
                <a:latin typeface="Arial"/>
              </a:rPr>
              <a:t>Розв’язати нерівність: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50760" y="2666880"/>
            <a:ext cx="7393320" cy="58428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0" y="32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5029200" y="3681360"/>
            <a:ext cx="2286000" cy="96696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3886200" y="5410080"/>
            <a:ext cx="335268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0000"/>
                </a:solidFill>
                <a:latin typeface="Arial"/>
              </a:rPr>
              <a:t>Завдання додому:</a:t>
            </a: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3059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1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озв’язати графічним способом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| x - 1| + |x + 1|&lt;4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2)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Розв’язати графічно систему нерівностей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Повторити графічний спосіб розв’язування нерівностей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286" name="" descr=""/>
          <p:cNvPicPr/>
          <p:nvPr/>
        </p:nvPicPr>
        <p:blipFill>
          <a:blip r:embed="rId1"/>
          <a:stretch/>
        </p:blipFill>
        <p:spPr>
          <a:xfrm>
            <a:off x="3124080" y="4191120"/>
            <a:ext cx="2438640" cy="1117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1)  Яке найбільше натуральне </a:t>
            </a:r>
            <a:r>
              <a:rPr b="0" i="1" lang="en-US" sz="2800" spc="-1" strike="noStrike">
                <a:solidFill>
                  <a:srgbClr val="292929"/>
                </a:solidFill>
                <a:latin typeface="Arial"/>
              </a:rPr>
              <a:t>n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задовольняє нерівність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28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2819520" y="3124080"/>
            <a:ext cx="3376440" cy="352764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2895480" y="2171880"/>
            <a:ext cx="2743200" cy="57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1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" dur="5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2)  Розв’язати подвійну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ідповідь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[3;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9]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br>
              <a:rPr sz="3200"/>
            </a:b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81160" y="1828800"/>
            <a:ext cx="2733840" cy="9907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3"/>
          <a:stretch/>
        </p:blipFill>
        <p:spPr>
          <a:xfrm>
            <a:off x="533520" y="2743200"/>
            <a:ext cx="1668240" cy="17524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4"/>
          <a:stretch/>
        </p:blipFill>
        <p:spPr>
          <a:xfrm>
            <a:off x="2590920" y="2971800"/>
            <a:ext cx="1981080" cy="119556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5"/>
          <a:stretch/>
        </p:blipFill>
        <p:spPr>
          <a:xfrm>
            <a:off x="4952880" y="3048120"/>
            <a:ext cx="2133720" cy="1149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6"/>
          <a:stretch/>
        </p:blipFill>
        <p:spPr>
          <a:xfrm>
            <a:off x="7331040" y="2971800"/>
            <a:ext cx="1187640" cy="119844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" dur="1000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1000"/>
                            </p:stCondLst>
                            <p:childTnLst>
                              <p:par>
                                <p:cTn id="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1000"/>
                                        <p:tgtEl>
                                          <p:spTgt spid="5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2)  Розв’язати подвійну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Відповідь: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7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7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09680" y="2027160"/>
            <a:ext cx="53352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800" spc="-1" strike="noStrike">
                <a:solidFill>
                  <a:srgbClr val="292929"/>
                </a:solidFill>
                <a:latin typeface="Arial"/>
                <a:ea typeface="Times New Roman"/>
              </a:rPr>
              <a:t>б) </a:t>
            </a:r>
            <a:endParaRPr b="0" lang="en-US" sz="2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19520" y="1828800"/>
            <a:ext cx="2332080" cy="290196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2819520" y="5249880"/>
            <a:ext cx="1218960" cy="853920"/>
          </a:xfrm>
          <a:prstGeom prst="rect">
            <a:avLst/>
          </a:prstGeom>
          <a:ln w="0">
            <a:noFill/>
          </a:ln>
        </p:spPr>
      </p:pic>
      <p:sp>
        <p:nvSpPr>
          <p:cNvPr id="86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7" dur="5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3520" y="121932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3)  Довести нерівність: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  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(а+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)(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+1)  4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ab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, 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якщо а  0; 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b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 </a:t>
            </a: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0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Доведення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92929"/>
                </a:solidFill>
                <a:latin typeface="Arial"/>
              </a:rPr>
              <a:t>(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середнє арифметичне не перевищує середнє геометричне)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Перемножимо нерівності і одержимо результат.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5867280" y="1905120"/>
            <a:ext cx="185760" cy="22860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6858000" y="1905120"/>
            <a:ext cx="185760" cy="22860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4"/>
          <a:stretch/>
        </p:blipFill>
        <p:spPr>
          <a:xfrm>
            <a:off x="1828800" y="2827440"/>
            <a:ext cx="4572000" cy="10191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5"/>
          <a:stretch/>
        </p:blipFill>
        <p:spPr>
          <a:xfrm>
            <a:off x="3352680" y="1905120"/>
            <a:ext cx="185760" cy="22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2860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 u="sng">
                <a:solidFill>
                  <a:srgbClr val="000000"/>
                </a:solidFill>
                <a:uFillTx/>
                <a:latin typeface="Arial"/>
              </a:rPr>
              <a:t>Домашнє завдання: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33520" y="137124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4)  Розв</a:t>
            </a:r>
            <a:r>
              <a:rPr b="0" lang="en-US" sz="3200" spc="-1" strike="noStrike">
                <a:solidFill>
                  <a:srgbClr val="292929"/>
                </a:solidFill>
                <a:latin typeface="Arial"/>
              </a:rPr>
              <a:t>’</a:t>
            </a:r>
            <a:r>
              <a:rPr b="0" lang="uk-UA" sz="3200" spc="-1" strike="noStrike">
                <a:solidFill>
                  <a:srgbClr val="292929"/>
                </a:solidFill>
                <a:latin typeface="Arial"/>
              </a:rPr>
              <a:t>язати  нерівність: 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292929"/>
                </a:solidFill>
                <a:latin typeface="Arial"/>
              </a:rPr>
              <a:t>Доведення.</a:t>
            </a: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14480" cy="219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219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0" y="1219320"/>
            <a:ext cx="2570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0" y="1963800"/>
            <a:ext cx="1717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2679840"/>
            <a:ext cx="2142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    </a:t>
            </a:r>
            <a:endParaRPr b="0" lang="en-US" sz="12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080" y="3414600"/>
            <a:ext cx="8316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292929"/>
                </a:solidFill>
                <a:latin typeface="Arial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11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0" y="37544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0" y="5335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3247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5715000" y="1219320"/>
            <a:ext cx="1905120" cy="82872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0" y="3090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endParaRPr b="0" lang="en-US" sz="1800" spc="-1" strike="noStrike">
              <a:solidFill>
                <a:srgbClr val="292929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762120" y="3200400"/>
            <a:ext cx="7543800" cy="159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1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5" dur="1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Експрес-опитування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кий спосіб використовують в математиці для порівняння чисел?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Сформулювати властивості числових нерівностей.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Дії з нерівностями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Числові проміжки (інтервали, відрізки, півінтервал)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Що значить розв’язати нерівність? Розв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зок  нерівності.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кі нерівності називаються рівносильними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Сформулювати властивості нерівностей, які використовують при розв</a:t>
            </a:r>
            <a:r>
              <a:rPr b="0" lang="ru-RU" sz="2400" spc="-1" strike="noStrike">
                <a:solidFill>
                  <a:srgbClr val="660066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язуванні нерівностей.</a:t>
            </a:r>
            <a:r>
              <a:rPr b="0" lang="ru-RU" sz="2400" spc="-1" strike="noStrike">
                <a:solidFill>
                  <a:srgbClr val="292929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Розв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зок системи. Що означає розв</a:t>
            </a:r>
            <a:r>
              <a:rPr b="0" lang="ru-RU" sz="2400" spc="-1" strike="noStrike">
                <a:solidFill>
                  <a:srgbClr val="006600"/>
                </a:solidFill>
                <a:latin typeface="Arial"/>
              </a:rPr>
              <a:t>’</a:t>
            </a: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язати систему?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66006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660066"/>
                </a:solidFill>
                <a:latin typeface="Arial"/>
              </a:rPr>
              <a:t>Сформулюйте означення модуля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  <a:p>
            <a:pPr marL="609480" indent="-609480">
              <a:lnSpc>
                <a:spcPct val="85000"/>
              </a:lnSpc>
              <a:spcBef>
                <a:spcPts val="601"/>
              </a:spcBef>
              <a:buClr>
                <a:srgbClr val="0066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2400" spc="-1" strike="noStrike">
                <a:solidFill>
                  <a:srgbClr val="006600"/>
                </a:solidFill>
                <a:latin typeface="Arial"/>
              </a:rPr>
              <a:t>Записати на дошці три класичні нерівності.</a:t>
            </a:r>
            <a:endParaRPr b="0" lang="en-US" sz="2400" spc="-1" strike="noStrike">
              <a:solidFill>
                <a:srgbClr val="29292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b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4343400" y="838080"/>
            <a:ext cx="4070520" cy="495324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3009960" cy="498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69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74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школа</cp:lastModifiedBy>
  <dcterms:modified xsi:type="dcterms:W3CDTF">2011-04-11T09:09:52Z</dcterms:modified>
  <cp:revision>106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800a000000000001024140</vt:lpwstr>
  </property>
  <property fmtid="{D5CDD505-2E9C-101B-9397-08002B2CF9AE}" pid="3" name="Version">
    <vt:r8>1</vt:r8>
  </property>
</Properties>
</file>