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3.jpeg" ContentType="image/jpeg"/>
  <Override PartName="/ppt/media/image44.wmf" ContentType="image/x-wmf"/>
  <Override PartName="/ppt/media/image46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0.wmf" ContentType="image/x-wmf"/>
  <Override PartName="/ppt/media/image51.gif" ContentType="image/gif"/>
  <Override PartName="/ppt/media/image54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5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7.jpeg" ContentType="image/jpeg"/>
  <Override PartName="/ppt/media/image45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549-F371-458B-A12F-456FCC1C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E43-3D03-4CF6-9699-1E60255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BA1-F40A-43DE-9580-3930A8D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E7D-F19C-4EB4-954D-E2FFFD55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086-DB22-4C99-BB8E-7CBC3E7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BF2-715D-4A36-97ED-03458FD3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513-1AF2-464F-93D4-7576FE00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645-9206-4597-B198-816D2C7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79C-2A92-43C3-BFC2-04500C2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A7D-830C-41EE-AF5F-3343427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29D-2E94-4860-A696-1698CD24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F04-A3D5-4CC0-BAAA-704DD72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221-6D05-45CC-98F8-D7DD69273B36}" type="slidenum">
              <a:rPr b="0" lang="en-US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hyperlink" Target="http://ru.wikipedia.org/wiki/&#1060;&#1072;&#1081;&#1083;:ThomasHarriot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Augustin_Louis_Cauchy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33"/>
                </a:solidFill>
                <a:latin typeface="Arial"/>
              </a:rPr>
              <a:t>Нерівності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-III </a:t>
            </a: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" descr="Уравнения и неравенства с модулями (учебное пособие для подготовки к ЕГЭ и ГИА)"/>
          <p:cNvPicPr/>
          <p:nvPr/>
        </p:nvPicPr>
        <p:blipFill>
          <a:blip r:embed="rId1"/>
          <a:stretch/>
        </p:blipFill>
        <p:spPr>
          <a:xfrm>
            <a:off x="304920" y="2895480"/>
            <a:ext cx="3247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орівнювати яке з двох чисел більше, а яке менше, люди вміли багато тисячоліть тому. В «Началах» Евкліда доведено нерівність, яку прийнято записувати                              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ільки тоді під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уміли не довільні додатні числа, а довжини відрізків; доведення чисто геометричне і без знаків нерівності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133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14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ки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перше запровадив англійський математик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. Гарріот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1631 році, знаки    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     введено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VIII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4343400"/>
            <a:ext cx="30960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096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homasHarrio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95280"/>
            <a:ext cx="3660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рівність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осить назву у математиці </a:t>
            </a:r>
            <a:r>
              <a:rPr b="1" lang="uk-UA" sz="3200" spc="-1" strike="noStrike">
                <a:solidFill>
                  <a:srgbClr val="292929"/>
                </a:solidFill>
                <a:latin typeface="Arial"/>
              </a:rPr>
              <a:t>нерівність Коші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для трьох доданків. Коші довів справедливість нерівності для будь-якої кількості  доданків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ґюстен-Луї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Коші – французький математик (1789-1854), що  багато написав наукових праць, які використовують в різних галузях науки і техні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66880" y="565200"/>
            <a:ext cx="60962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ґюстен-Лу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ш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Файл:Augustin Louis Cauc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776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ідносимо ліву і праву нерівності до квадрата 5 разів. Дістанемо нерівність 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(скористалися числовою нерівністю: якщ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12840"/>
            <a:ext cx="4343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ти оцінку периметру рівностороннього трикутника із стороною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 мм), де 54,2&lt;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lt;54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иметр рівностороннього трикутника із стороною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числимо за формулою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 3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Помножимо кожну частину подвійної нерівності на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162,6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3а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162,9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а цей вираз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від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ємний при будь-яких  значеннях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і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425680" cy="488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92320" y="2819520"/>
            <a:ext cx="4243320" cy="573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200560" y="3905280"/>
            <a:ext cx="394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ри яких значеннях змінної має зміст вираз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б)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Функція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визначена тільки для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тому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х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[2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      )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75436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1230480" cy="95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1295280" cy="622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4040280"/>
            <a:ext cx="990360" cy="50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066680" y="462600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4600" y="4648320"/>
            <a:ext cx="1752480" cy="50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4768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609840" cy="31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039680" y="5562720"/>
            <a:ext cx="1273320" cy="97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2624040" y="5540400"/>
            <a:ext cx="1109880" cy="101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3949560" y="5638680"/>
            <a:ext cx="13986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Розв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язати нерівність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1| &gt; -1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2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6|   -2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3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4|&lt;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              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є    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   -5 &lt;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4&lt;5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1&lt;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0,5&lt;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4,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-0,5; 4,5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371600" cy="51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298440" cy="333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247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ясніть, що зображено на малюнку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1371600"/>
            <a:ext cx="7086240" cy="5486040"/>
            <a:chOff x="1066680" y="1371600"/>
            <a:chExt cx="7086240" cy="54860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066680" y="1371600"/>
              <a:ext cx="708624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83800" y="491652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x/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0920" y="260820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3-x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4385520" y="1838520"/>
              <a:ext cx="717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744080" y="367992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7600" y="269028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8680" y="5824080"/>
              <a:ext cx="40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Булева алгебра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Arial"/>
              </a:rPr>
              <a:t>У математиці є своя краса, як у поезії і музиц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rial"/>
              </a:rPr>
              <a:t>М.Є.Жуковський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75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в’язати нерівність з параметром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то х∙0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 х – будь-яке число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&gt; 1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о х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х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81756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5334120"/>
            <a:ext cx="817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офізм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датне число менше 0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Дано: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множимо обидві частини нерівності на    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еретворимо даний вираз так, щоб у лівій частині був 0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371600" cy="417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83808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5638680" cy="54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206360" y="4392720"/>
            <a:ext cx="2389320" cy="480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282680" y="5105520"/>
            <a:ext cx="162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озв’язати нерівність: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-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+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од інтервал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ти нулі підмодульних вираз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деними точками розбити координатну пряму на числові проміж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в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нерівність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а кожному з проміжк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’єднати одержані результати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редині трикутника взято точку. Порівняти суму відстаней від цієї точки до вершин трикутника з його периметром. Або довести,  що сума відстаней від будь-якої точки  всередині трикутника до його вершин менша периметра трикут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57200"/>
            <a:ext cx="7620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9292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0760" y="482760"/>
            <a:ext cx="3854520" cy="2085840"/>
          </a:xfrm>
          <a:prstGeom prst="triangle">
            <a:avLst>
              <a:gd name="adj" fmla="val 21190"/>
            </a:avLst>
          </a:prstGeom>
          <a:solidFill>
            <a:srgbClr val="ffdb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8600" y="1123920"/>
            <a:ext cx="4809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3160" y="160200"/>
            <a:ext cx="480960" cy="31932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570040"/>
            <a:ext cx="3207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75280" y="2409840"/>
            <a:ext cx="320400" cy="3189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760" y="1446120"/>
            <a:ext cx="2247840" cy="112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482760"/>
            <a:ext cx="482760" cy="1444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4880" y="1927080"/>
            <a:ext cx="257040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3920" y="1689120"/>
            <a:ext cx="47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Розглянем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∆ADC: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 + DC &gt; AM + 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нерівності трикутника випливає, що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+BC &gt; AM+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олог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чн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AC &gt; BM + MC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 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C + AC &gt; AM + MB.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даємо останні 3 нерівності, одержимо: </a:t>
            </a:r>
            <a:br>
              <a:rPr sz="2400"/>
            </a:b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AB + BC + AC) 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 + MB + MC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+MB+MC &lt; P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∆AB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380880"/>
            <a:ext cx="4343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довжимо АМ до перет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ину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 ВС в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.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з нерівності. трикутника випливає, щ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В+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 обох частин нерівності додам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(BD + DC) &gt; AD + DC,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B + BC &gt; AD + DC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4524120" cy="361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жіть нерівність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4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18148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цюємо самостійно,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равши завдання певного рів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Серед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990033"/>
                </a:solidFill>
                <a:uFillTx/>
                <a:latin typeface="Arial"/>
              </a:rPr>
              <a:t>Достат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Застосувати метод інтервалів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8000"/>
                </a:solidFill>
                <a:uFillTx/>
                <a:latin typeface="Arial"/>
              </a:rPr>
              <a:t>Високи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Розв’язати нерівність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50760" y="2666880"/>
            <a:ext cx="7393320" cy="584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029200" y="3681360"/>
            <a:ext cx="2286000" cy="966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886200" y="5410080"/>
            <a:ext cx="33526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им способом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| x - 1| + |x + 1|&lt;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о систему нерівностей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вторити графічний спосіб розв’язування нерівносте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438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 Яке найбільше натуральне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задовольняє нерівніст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76440" cy="352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17188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[3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9]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1160" y="1828800"/>
            <a:ext cx="273384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6682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2971800"/>
            <a:ext cx="1981080" cy="119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3048120"/>
            <a:ext cx="2133720" cy="11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31040" y="2971800"/>
            <a:ext cx="1187640" cy="119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27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  <a:ea typeface="Times New Roman"/>
              </a:rPr>
              <a:t>б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332080" cy="290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5249880"/>
            <a:ext cx="1218960" cy="85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3)  Довести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1)  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якщо а  0;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ереднє арифметичне не перевищує середнє геометричне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емножимо нерівності і одержимо результа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1905120"/>
            <a:ext cx="18576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2827440"/>
            <a:ext cx="457200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352680" y="1905120"/>
            <a:ext cx="1857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4)  Розв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 нерівність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190512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5438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спрес-опиту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кий спосіб використовують в математиці для порівняння чисел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Сформулювати властивості числових нерівностей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Дії з нерівностями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Числові проміжки (інтервали, відрізки, півінтервал)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Що значить розв’язати нерівність?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ок  нерівності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кі нерівності називаються рівносильними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вати властивості нерівностей, які використовують при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уванні нерівностей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ок системи. Що означає 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ати систему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йте означення модул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писати на дошці три класичні нерів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070520" cy="495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009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11T09:09:5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  <property fmtid="{D5CDD505-2E9C-101B-9397-08002B2CF9AE}" pid="3" name="Version">
    <vt:r8>1</vt:r8>
  </property>
</Properties>
</file>