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wmf" ContentType="image/x-wmf"/>
  <Override PartName="/ppt/media/image14.wmf" ContentType="image/x-wmf"/>
  <Override PartName="/ppt/media/image22.jpeg" ContentType="image/jpeg"/>
  <Override PartName="/ppt/media/image42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jpeg" ContentType="image/jpeg"/>
  <Override PartName="/ppt/media/image26.wmf" ContentType="image/x-wmf"/>
  <Override PartName="/ppt/media/image3.wmf" ContentType="image/x-wmf"/>
  <Override PartName="/ppt/media/image33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41.wmf" ContentType="image/x-wmf"/>
  <Override PartName="/ppt/media/image43.jpeg" ContentType="image/jpeg"/>
  <Override PartName="/ppt/media/image44.wmf" ContentType="image/x-wmf"/>
  <Override PartName="/ppt/media/image46.wmf" ContentType="image/x-wmf"/>
  <Override PartName="/ppt/media/image40.wmf" ContentType="image/x-wmf"/>
  <Override PartName="/ppt/media/image52.wmf" ContentType="image/x-wmf"/>
  <Override PartName="/ppt/media/image53.wmf" ContentType="image/x-wmf"/>
  <Override PartName="/ppt/media/image30.wmf" ContentType="image/x-wmf"/>
  <Override PartName="/ppt/media/image51.gif" ContentType="image/gif"/>
  <Override PartName="/ppt/media/image54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56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28.png" ContentType="image/png"/>
  <Override PartName="/ppt/media/image3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7.jpeg" ContentType="image/jpeg"/>
  <Override PartName="/ppt/media/image45.wmf" ContentType="image/x-wmf"/>
  <Override PartName="/ppt/media/image6.wmf" ContentType="image/x-wmf"/>
  <Override PartName="/ppt/media/image3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941-F9C2-4520-8033-D72615A7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2D3A-73F5-4336-B35F-230466B3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6FE-6691-47ED-B024-04512945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ACF-FB96-4A3C-B6C6-F4703FE6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0EAA-DF7F-4F13-B945-FDE29D4A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11C9-FB5C-4544-BA46-B14512BF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9B22-D792-4700-B300-3575FC36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06F8-8A32-46A7-832F-5AA8FECB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E831-13CE-4C68-9C98-A2648182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5411-8C0C-4BC2-A795-493127C8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441-11D0-4E01-9A45-3DB78B4C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72CE-0561-49DC-AA17-AFEE11EE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EFAB-44FF-4A45-A9FC-BA4113B544F1}" type="slidenum">
              <a:rPr b="0" lang="en-US" sz="14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hyperlink" Target="http://ru.wikipedia.org/wiki/&#1060;&#1072;&#1081;&#1083;:ThomasHarriot.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c/Augustin_Louis_Cauchy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660033"/>
                </a:solidFill>
                <a:latin typeface="Arial"/>
              </a:rPr>
              <a:t>Нерівності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43040" y="411480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Презентацію підготувала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вчитель математики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ЗШ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I-III </a:t>
            </a: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ступенів №1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м. Білої Церкв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Ільніцька Л.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3" name="" descr="Уравнения и неравенства с модулями (учебное пособие для подготовки к ЕГЭ и ГИА)"/>
          <p:cNvPicPr/>
          <p:nvPr/>
        </p:nvPicPr>
        <p:blipFill>
          <a:blip r:embed="rId1"/>
          <a:stretch/>
        </p:blipFill>
        <p:spPr>
          <a:xfrm>
            <a:off x="304920" y="2895480"/>
            <a:ext cx="3247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Порівнювати яке з двох чисел більше, а яке менше, люди вміли багато тисячоліть тому. В «Началах» Евкліда доведено нерівність, яку прийнято записувати                                              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Тільки тоді під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a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і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розуміли не довільні додатні числа, а довжини відрізків; доведення чисто геометричне і без знаків нерівності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213336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182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114800" y="18288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Знаки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і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gt;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вперше запровадив англійський математик 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Т. Гарріот 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в 1631 році, знаки      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і      введено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в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XVIII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ст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772400" y="4343400"/>
            <a:ext cx="309600" cy="380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4876920"/>
            <a:ext cx="309600" cy="380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ThomasHarrio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95280"/>
            <a:ext cx="3660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Нерівність  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носить назву у математиці </a:t>
            </a:r>
            <a:r>
              <a:rPr b="1" lang="uk-UA" sz="3200" spc="-1" strike="noStrike">
                <a:solidFill>
                  <a:srgbClr val="292929"/>
                </a:solidFill>
                <a:latin typeface="Arial"/>
              </a:rPr>
              <a:t>нерівність Коші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для трьох доданків. Коші довів справедливість нерівності для будь-якої кількості  доданків.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Оґюстен-Луї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Коші – французький математик (1789-1854), що  багато написав наукових праць, які використовують в різних галузях науки і техніки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666880" y="565200"/>
            <a:ext cx="609624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ґюстен-Лу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ош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Файл:Augustin Louis Cauch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523880"/>
            <a:ext cx="37767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вест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Підносимо ліву і праву нерівності до квадрата 5 разів. Дістанемо нерівність 6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9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(скористалися числовою нерівністю: якщо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, то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971800" y="312840"/>
            <a:ext cx="43434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ти оцінку периметру рівностороннього трикутника із стороною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в мм), де 54,2&lt;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&lt;54,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Периметр рівностороннього трикутника із стороною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обчислимо за формулою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= 3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Помножимо кожну частину подвійної нерівності на 3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162,6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3а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162,9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ні впра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Довести нерівність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, а цей вираз 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невід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ємний при будь-яких  значеннях  </a:t>
            </a:r>
            <a:r>
              <a:rPr b="0" i="1" lang="uk-UA" sz="3200" spc="-1" strike="noStrike">
                <a:solidFill>
                  <a:srgbClr val="292929"/>
                </a:solidFill>
                <a:latin typeface="Arial"/>
              </a:rPr>
              <a:t>а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і 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2425680" cy="488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192320" y="2819520"/>
            <a:ext cx="4243320" cy="573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200560" y="3905280"/>
            <a:ext cx="3943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ні впра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При яких значеннях змінної має зміст вираз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а)         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       б)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Функція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        визначена тільки для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, тому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а)        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              </a:t>
            </a:r>
            <a:r>
              <a:rPr b="0" i="1" lang="uk-UA" sz="3200" spc="-1" strike="noStrike">
                <a:solidFill>
                  <a:srgbClr val="292929"/>
                </a:solidFill>
                <a:latin typeface="Arial"/>
              </a:rPr>
              <a:t>х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;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[2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;      );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б)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00200" y="2754360"/>
            <a:ext cx="1219320" cy="522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029200" y="2514600"/>
            <a:ext cx="1230480" cy="958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2133720" y="3276720"/>
            <a:ext cx="1295280" cy="622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33520" y="4040280"/>
            <a:ext cx="990360" cy="509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1066680" y="4626000"/>
            <a:ext cx="1219320" cy="522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2514600" y="4648320"/>
            <a:ext cx="1752480" cy="506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4800600" y="4724280"/>
            <a:ext cx="247680" cy="304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6095880" y="4724280"/>
            <a:ext cx="609840" cy="316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9"/>
          <a:stretch/>
        </p:blipFill>
        <p:spPr>
          <a:xfrm>
            <a:off x="1039680" y="5562720"/>
            <a:ext cx="1273320" cy="973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2624040" y="5540400"/>
            <a:ext cx="1109880" cy="1012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1"/>
          <a:stretch/>
        </p:blipFill>
        <p:spPr>
          <a:xfrm>
            <a:off x="3949560" y="5638680"/>
            <a:ext cx="13986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ні впра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Розв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язати нерівність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| 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– 1| &gt; -1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2)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| 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+6|   -2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3)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|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4|&lt;5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є               .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є    .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            -5 &lt;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– 4&lt;5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-1&lt; 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&lt;9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-0,5&lt;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&lt;4,5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                                           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є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-0,5; 4,5)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1371600" cy="512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267080" y="3048120"/>
            <a:ext cx="298440" cy="333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800600" y="2514600"/>
            <a:ext cx="2476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ні впра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Поясніть, що зображено на малюнку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066680" y="1371600"/>
            <a:ext cx="7086240" cy="5486040"/>
            <a:chOff x="1066680" y="1371600"/>
            <a:chExt cx="7086240" cy="548604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1066680" y="1371600"/>
              <a:ext cx="7086240" cy="54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783800" y="4916520"/>
              <a:ext cx="8071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92929"/>
                  </a:solidFill>
                  <a:latin typeface="Arial"/>
                </a:rPr>
                <a:t>y=x/2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70920" y="2608200"/>
              <a:ext cx="8071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92929"/>
                  </a:solidFill>
                  <a:latin typeface="Arial"/>
                </a:rPr>
                <a:t>y=3-x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4385520" y="1838520"/>
              <a:ext cx="71712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744080" y="3679920"/>
              <a:ext cx="4035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17600" y="2690280"/>
              <a:ext cx="4035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48680" y="5824080"/>
              <a:ext cx="4035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Булева алгебра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78483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9900"/>
                </a:solidFill>
                <a:latin typeface="Arial"/>
              </a:rPr>
              <a:t>У математиці є своя краса, як у поезії і музиц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9900"/>
                </a:solidFill>
                <a:latin typeface="Arial"/>
              </a:rPr>
              <a:t>М.Є.Жуковський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75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ні впра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Розв’язати нерівність з параметром: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x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=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,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то х∙0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7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,  х – будь-яке число;</a:t>
            </a:r>
            <a:br>
              <a:rPr sz="3200"/>
            </a:b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 &gt; 1,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то х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&lt;    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;</a:t>
            </a:r>
            <a:br>
              <a:rPr sz="3200"/>
            </a:b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,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о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х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657600" y="4267080"/>
            <a:ext cx="817560" cy="838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657600" y="5334120"/>
            <a:ext cx="817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офізм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датне число менше 0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Дано: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Помножимо обидві частини нерівності на      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    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Перетворимо даний вираз так, щоб у лівій частині був 0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1371600" cy="417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838080" cy="447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219320" y="2819520"/>
            <a:ext cx="5638680" cy="5461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1206360" y="4392720"/>
            <a:ext cx="2389320" cy="480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1282680" y="5105520"/>
            <a:ext cx="162720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Розв’язати нерівність: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х-1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х+1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Метод інтервалів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Знайти нулі підмодульних виразів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Знайденими точками розбити координатну пряму на числові проміжки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Ро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зв’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язати нерівність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на кожному з проміжків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Об’єднати одержані результати.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редині трикутника взято точку. Порівняти суму відстаней від цієї точки до вершин трикутника з його периметром. Або довести,  що сума відстаней від будь-якої точки  всередині трикутника до його вершин менша периметра трикут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457200"/>
            <a:ext cx="7620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9292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20760" y="482760"/>
            <a:ext cx="3854520" cy="2085840"/>
          </a:xfrm>
          <a:prstGeom prst="triangle">
            <a:avLst>
              <a:gd name="adj" fmla="val 21190"/>
            </a:avLst>
          </a:prstGeom>
          <a:solidFill>
            <a:srgbClr val="ffdbb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68600" y="1123920"/>
            <a:ext cx="480960" cy="32076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3160" y="160200"/>
            <a:ext cx="480960" cy="31932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9292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2570040"/>
            <a:ext cx="320760" cy="32076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92929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75280" y="2409840"/>
            <a:ext cx="320400" cy="31896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9292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20760" y="1446120"/>
            <a:ext cx="2247840" cy="1123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23920" y="482760"/>
            <a:ext cx="482760" cy="1444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04880" y="1927080"/>
            <a:ext cx="2570400" cy="64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23920" y="1689120"/>
            <a:ext cx="47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92929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38098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Розглянемо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∆ADC: 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D + DC &gt; AM + MC.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З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нерівності трикутника випливає, що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B+BC &gt; AM+MC.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нолог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ічно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B + AC &gt; BM + MC 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і  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C + AC &gt; AM + MB. 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Додаємо останні 3 нерівності, одержимо: </a:t>
            </a:r>
            <a:br>
              <a:rPr sz="2400"/>
            </a:b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AB + BC + AC) &gt;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MA + MB + MC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бо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A+MB+MC &lt; P</a:t>
            </a:r>
            <a:r>
              <a:rPr b="0" lang="en-US" sz="2400" spc="-1" strike="noStrike" baseline="-25000">
                <a:solidFill>
                  <a:srgbClr val="292929"/>
                </a:solidFill>
                <a:latin typeface="Arial"/>
              </a:rPr>
              <a:t>∆ABC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8320" y="380880"/>
            <a:ext cx="43434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одовжимо АМ до перет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ину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з ВС в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т.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Із нерівності. трикутника випливає, що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АВ+В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До обох частин нерівності додамо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B + (BD + DC) &gt; AD + DC,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бо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B + BC &gt; AD + DC.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362320" y="3238560"/>
            <a:ext cx="4524120" cy="36194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яжіть нерівність 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 парамет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84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01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518148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ацюємо самостійно,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бравши завдання певного рівн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Середній рівень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Довести нерівніст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990033"/>
                </a:solidFill>
                <a:uFillTx/>
                <a:latin typeface="Arial"/>
              </a:rPr>
              <a:t>Достатній рівень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Застосувати метод інтервалів: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 u="sng">
                <a:solidFill>
                  <a:srgbClr val="008000"/>
                </a:solidFill>
                <a:uFillTx/>
                <a:latin typeface="Arial"/>
              </a:rPr>
              <a:t>Високий рівень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Розв’язати нерівність: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50760" y="2666880"/>
            <a:ext cx="7393320" cy="584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029200" y="3681360"/>
            <a:ext cx="2286000" cy="9669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3886200" y="5410080"/>
            <a:ext cx="335268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Завдання додому: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озв’язати графічним способом нерівність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| x - 1| + |x + 1|&lt;4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озв’язати графічно систему нерівностей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овторити графічний спосіб розв’язування нерівностей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124080" y="4191120"/>
            <a:ext cx="24386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Домашнє завданн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1)  Яке найбільше натуральне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n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задовольняє нерівність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3376440" cy="352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95480" y="2171880"/>
            <a:ext cx="27432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Домашнє завданн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2)  Розв’язати подвійну нерівність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Відповідь: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[3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9]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81160" y="1828800"/>
            <a:ext cx="2733840" cy="990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480" cy="219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3520" y="2743200"/>
            <a:ext cx="1668240" cy="1752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590920" y="2971800"/>
            <a:ext cx="1981080" cy="1195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952880" y="3048120"/>
            <a:ext cx="2133720" cy="1149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7331040" y="2971800"/>
            <a:ext cx="1187640" cy="1198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219320"/>
            <a:ext cx="25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96380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6798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1080" y="3414600"/>
            <a:ext cx="8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Домашнє завданн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2)  Розв’язати подвійну нерівність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Відповідь: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480" cy="219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219320"/>
            <a:ext cx="25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96380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6798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080" y="3414600"/>
            <a:ext cx="8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02716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  <a:ea typeface="Times New Roman"/>
              </a:rPr>
              <a:t>б)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19520" y="1828800"/>
            <a:ext cx="2332080" cy="2901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37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819520" y="5249880"/>
            <a:ext cx="1218960" cy="85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Домашнє завданн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3)  Довести нерівність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(а+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+1)  4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якщо а  0;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Доведення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середнє арифметичне не перевищує середнє геометричне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Перемножимо нерівності і одержимо результат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480" cy="219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219320"/>
            <a:ext cx="25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6380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6798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080" y="3414600"/>
            <a:ext cx="8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7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85760" cy="228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58000" y="1905120"/>
            <a:ext cx="185760" cy="22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828800" y="2827440"/>
            <a:ext cx="4572000" cy="1019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352680" y="1905120"/>
            <a:ext cx="1857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Домашнє завданн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4)  Розв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язати  нерівність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Доведення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480" cy="219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219320"/>
            <a:ext cx="25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96380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6798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080" y="3414600"/>
            <a:ext cx="8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7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15000" y="1219320"/>
            <a:ext cx="1905120" cy="828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754380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Експрес-опитуванн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Який спосіб використовують в математиці для порівняння чисел?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Сформулювати властивості числових нерівностей.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Дії з нерівностями.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Числові проміжки (інтервали, відрізки, півінтервал).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Що значить розв’язати нерівність? Розв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язок  нерівності.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Які нерівності називаються рівносильними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Сформулювати властивості нерівностей, які використовують при розв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язуванні нерівностей.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Розв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язок системи. Що означає розв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язати систему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Сформулюйте означення модуля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Записати на дошці три класичні нерівності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43400" y="838080"/>
            <a:ext cx="4070520" cy="4953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300996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1-04-11T09:09:52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a000000000001024140</vt:lpwstr>
  </property>
  <property fmtid="{D5CDD505-2E9C-101B-9397-08002B2CF9AE}" pid="3" name="Version">
    <vt:r8>1</vt:r8>
  </property>
</Properties>
</file>