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23.wmf" ContentType="image/x-wmf"/>
  <Override PartName="/ppt/media/image6.jpeg" ContentType="image/jpeg"/>
  <Override PartName="/ppt/media/image5.jpeg" ContentType="image/jpeg"/>
  <Override PartName="/ppt/media/image18.wmf" ContentType="image/x-wmf"/>
  <Override PartName="/ppt/media/image20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17.wmf" ContentType="image/x-wmf"/>
  <Override PartName="/ppt/media/image16.wmf" ContentType="image/x-wmf"/>
  <Override PartName="/ppt/media/image4.jpeg" ContentType="image/jpeg"/>
  <Override PartName="/ppt/media/image15.wmf" ContentType="image/x-wmf"/>
  <Override PartName="/ppt/media/image14.wmf" ContentType="image/x-wmf"/>
  <Override PartName="/ppt/media/image1.wmf" ContentType="image/x-wmf"/>
  <Override PartName="/ppt/media/image24.wmf" ContentType="image/x-wmf"/>
  <Override PartName="/ppt/media/image25.wmf" ContentType="image/x-wmf"/>
  <Override PartName="/ppt/media/image2.wmf" ContentType="image/x-wmf"/>
  <Override PartName="/ppt/media/image3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A90C7-792E-44CA-99C3-18EEE17F0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13D12-C3CC-47E1-846E-CE16A1FE9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2002C-886D-4B24-BBF7-694C8FEA4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EC43E-6D8E-457F-9E30-5D3589F55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73507-6F02-4A42-BC8D-A92E5CF54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B30A0-72EE-41F8-907A-17C05F14D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2643D-15F0-43D8-8388-5F207120A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F7070-18C7-46DA-9633-13F4DC48D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7F30C-1DEB-40BA-9C08-442A3E043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EB7A4-7920-44B0-A29A-53A783E03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E3540-7123-4707-9810-06496BD28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87A8A-CB8A-441E-9F34-856B843D7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36859-DFC1-4191-9AD8-EF06AA1FC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47AA8-C67E-4341-BBA1-DA9C18DAA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9F8BC-B969-4704-AC5C-6F3442D3A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C9D62-121F-4679-8708-2BF1D833F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87CE6-2DF5-4B53-BCE1-AF01AD060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F2B321-C904-4B24-9224-05FDCF1D3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DD4B5B-7156-4BD3-AB20-6D740875B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C18513-3179-499E-84E0-37BB4D6E9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C02151-8C66-4AEB-87CC-04A66DA3F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17771F-590B-49E0-A917-1877316AA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39894-CDDC-4BB9-98C8-91E092CCA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AB234B-C2FB-486B-88F2-4703BA98E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F3CC51-CA77-4CF2-88DB-F0D0BDC5C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E611F3-DF07-4D39-853D-77A31DD86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E18454-6FDB-4CC4-8C2A-9C8B7C572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F2A58B-7C68-4A15-970F-BA2C45E8D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726325-B6DA-4400-BAD5-F4FDE5CA6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6F9472-7CC8-4F48-A41A-B71E8E3EA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C582E-513F-4A16-86E0-F8FAB5216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B0BBC-B29A-479B-BC37-D76F9A6D4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B97C5-2C1F-4D5D-AEBC-9E3013616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58757-2A09-431D-83D4-55E6936E9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AB9DE-1787-455D-8E9D-8459D2D7B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72E45-3319-4FA9-B4B5-99AAB9CCD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5FA15-4321-4590-8EBB-19A27DB118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ff99ff"/>
              </a:gs>
              <a:gs pos="100000">
                <a:srgbClr val="ff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ff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ff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ff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BB739-2F1B-4665-850A-944B815F898D}" type="slidenum"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38080" y="561960"/>
            <a:ext cx="152640" cy="10666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8263080" y="270000"/>
            <a:ext cx="152280" cy="10731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8C4AD-AA98-427E-A2B4-1B0506CE0182}" type="slidenum"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90" name="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ff99ff"/>
                </a:gs>
                <a:gs pos="100000">
                  <a:srgbClr val="ff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PlaceHolder 4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4492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2" marL="890640" algn="ctr">
              <a:spcBef>
                <a:spcPts val="601"/>
              </a:spcBef>
              <a:buClr>
                <a:srgbClr val="ffccff"/>
              </a:buClr>
              <a:buSzPct val="7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3" marL="1295280" algn="ctr">
              <a:spcBef>
                <a:spcPts val="4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4" marL="1682640" algn="ctr">
              <a:spcBef>
                <a:spcPts val="499"/>
              </a:spcBef>
              <a:buClr>
                <a:srgbClr val="ffcc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5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6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4.wmf"/><Relationship Id="rId3" Type="http://schemas.openxmlformats.org/officeDocument/2006/relationships/image" Target="../media/image14.wmf"/><Relationship Id="rId4" Type="http://schemas.openxmlformats.org/officeDocument/2006/relationships/image" Target="../media/image15.wmf"/><Relationship Id="rId5" Type="http://schemas.openxmlformats.org/officeDocument/2006/relationships/image" Target="../media/image14.wmf"/><Relationship Id="rId6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7.wmf"/><Relationship Id="rId3" Type="http://schemas.openxmlformats.org/officeDocument/2006/relationships/image" Target="../media/image17.wmf"/><Relationship Id="rId4" Type="http://schemas.openxmlformats.org/officeDocument/2006/relationships/image" Target="../media/image17.wmf"/><Relationship Id="rId5" Type="http://schemas.openxmlformats.org/officeDocument/2006/relationships/image" Target="../media/image17.wmf"/><Relationship Id="rId6" Type="http://schemas.openxmlformats.org/officeDocument/2006/relationships/image" Target="../media/image17.wmf"/><Relationship Id="rId7" Type="http://schemas.openxmlformats.org/officeDocument/2006/relationships/image" Target="../media/image17.wmf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7.wmf"/><Relationship Id="rId3" Type="http://schemas.openxmlformats.org/officeDocument/2006/relationships/image" Target="../media/image17.wmf"/><Relationship Id="rId4" Type="http://schemas.openxmlformats.org/officeDocument/2006/relationships/image" Target="../media/image17.wmf"/><Relationship Id="rId5" Type="http://schemas.openxmlformats.org/officeDocument/2006/relationships/image" Target="../media/image17.wmf"/><Relationship Id="rId6" Type="http://schemas.openxmlformats.org/officeDocument/2006/relationships/image" Target="../media/image17.wmf"/><Relationship Id="rId7" Type="http://schemas.openxmlformats.org/officeDocument/2006/relationships/image" Target="../media/image17.wmf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7.wmf"/><Relationship Id="rId3" Type="http://schemas.openxmlformats.org/officeDocument/2006/relationships/image" Target="../media/image17.wmf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image" Target="../media/image22.wmf"/><Relationship Id="rId4" Type="http://schemas.openxmlformats.org/officeDocument/2006/relationships/image" Target="../media/image23.wmf"/><Relationship Id="rId5" Type="http://schemas.openxmlformats.org/officeDocument/2006/relationships/image" Target="../media/image24.wmf"/><Relationship Id="rId6" Type="http://schemas.openxmlformats.org/officeDocument/2006/relationships/image" Target="../media/image25.wmf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400" spc="-1" strike="noStrike">
                <a:solidFill>
                  <a:srgbClr val="000000"/>
                </a:solidFill>
                <a:latin typeface="Comic Sans MS"/>
              </a:rPr>
              <a:t>Чотирикутники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2361960" y="4114800"/>
            <a:ext cx="56386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292929"/>
                </a:solidFill>
                <a:latin typeface="Comic Sans MS"/>
              </a:rPr>
              <a:t>Презентацію підготувала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292929"/>
                </a:solidFill>
                <a:latin typeface="Comic Sans MS"/>
              </a:rPr>
              <a:t>вчитель математики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292929"/>
                </a:solidFill>
                <a:latin typeface="Comic Sans MS"/>
              </a:rPr>
              <a:t>ЗШ </a:t>
            </a:r>
            <a:r>
              <a:rPr b="0" lang="en-US" sz="2400" spc="-1" strike="noStrike">
                <a:solidFill>
                  <a:srgbClr val="292929"/>
                </a:solidFill>
                <a:latin typeface="Comic Sans MS"/>
              </a:rPr>
              <a:t>I-III </a:t>
            </a:r>
            <a:r>
              <a:rPr b="0" lang="uk-UA" sz="2400" spc="-1" strike="noStrike">
                <a:solidFill>
                  <a:srgbClr val="292929"/>
                </a:solidFill>
                <a:latin typeface="Comic Sans MS"/>
              </a:rPr>
              <a:t>ступенів №11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292929"/>
                </a:solidFill>
                <a:latin typeface="Comic Sans MS"/>
              </a:rPr>
              <a:t>м. Білої Церкви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292929"/>
                </a:solidFill>
                <a:latin typeface="Comic Sans MS"/>
              </a:rPr>
              <a:t>Ільніцька Л.В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380880" y="533520"/>
            <a:ext cx="3810240" cy="314316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2743200" y="3581280"/>
            <a:ext cx="3886200" cy="298152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3"/>
          <a:stretch/>
        </p:blipFill>
        <p:spPr>
          <a:xfrm>
            <a:off x="6477120" y="380880"/>
            <a:ext cx="2361960" cy="35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228600" y="2716200"/>
            <a:ext cx="5257800" cy="395136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2"/>
          <a:stretch/>
        </p:blipFill>
        <p:spPr>
          <a:xfrm>
            <a:off x="5257800" y="228600"/>
            <a:ext cx="3657600" cy="32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Чотирикутники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Опорні задачі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1792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324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Якщо в паралелограмі діагоналі взаємно-перпендикулярні, то він є ромб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324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Якщо в паралелограмі всі кути прямі, то це буде прямокутни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324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Середини сторін чотирикутника є вершинами паралелограма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324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У рівнобедреній трапеції кути при основі рівні і діагоналі рівні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324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У чотирикутника, вписаного в коло, сума протилежних кутів дорівнює 180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3240">
              <a:spcBef>
                <a:spcPts val="249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У чотирикутника, описаного навколо кола, суми довжин протилежних сторін однакові.</a:t>
            </a:r>
            <a:br>
              <a:rPr sz="2400"/>
            </a:br>
            <a:br>
              <a:rPr sz="1000"/>
            </a:b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1" dur="2000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20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1" dur="2000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" dur="2000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2000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6" dur="2000"/>
                                        <p:tgtEl>
                                          <p:spTgt spid="2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Чи правильні твердження?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89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89120" indent="-60660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Якщо в паралелограмі діагоналі не рівні,то він не може бути прямокутнико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89120" indent="-60660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Кожний квадрат є прямокутнико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89120" indent="-60660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Існує ромб, який є прямокутнико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89120" indent="-60660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Ніякий прямокутник не є ромбо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89120" indent="-60660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Існує квадрат, який не є ромбо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" dur="2000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" dur="2000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" dur="2000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8" dur="2000"/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" dur="2000"/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Дайте відповідь на запитання: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89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89120" indent="-60660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Назвіть спільні властивості трапеції і ромб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89120" indent="-60660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Чому теорему про середню лінію трапеції можна перенести на довільний паралелограм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89120" indent="-60660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Чи існує трапеція, у якої два протилежні кути гострі? У якої два протилежні кути прямі?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89120" indent="-60660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Чи можна побудувати трапецію  з трьома прямими кутами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0" dur="2000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5" dur="2000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0" dur="2000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5" dur="2000"/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7" name=""/>
          <p:cNvGraphicFramePr/>
          <p:nvPr/>
        </p:nvGraphicFramePr>
        <p:xfrm>
          <a:off x="228600" y="838080"/>
          <a:ext cx="8686800" cy="4624560"/>
        </p:xfrm>
        <a:graphic>
          <a:graphicData uri="http://schemas.openxmlformats.org/drawingml/2006/table">
            <a:tbl>
              <a:tblPr/>
              <a:tblGrid>
                <a:gridCol w="528480"/>
                <a:gridCol w="3667320"/>
                <a:gridCol w="1108080"/>
                <a:gridCol w="1173240"/>
                <a:gridCol w="1104840"/>
                <a:gridCol w="1104840"/>
              </a:tblGrid>
              <a:tr h="456840">
                <a:tc rowSpan="2"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ластивост</a:t>
                      </a: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</a:t>
                      </a: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ди фігу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90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паралел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гра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прямоку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ни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ром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квадра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0" rIns="0" tIns="0" bIns="0" anchor="t">
                      <a:noAutofit/>
                    </a:bodyPr>
                    <a:p>
                      <a:pPr marL="351000" indent="-16848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отирикутни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0200">
                <a:tc>
                  <a:txBody>
                    <a:bodyPr lIns="0" rIns="0" tIns="0" bIns="0" anchor="t">
                      <a:noAutofit/>
                    </a:bodyPr>
                    <a:p>
                      <a:pPr marL="533520" indent="-35100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тилежні сторони попарно паралельн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0" rIns="0" tIns="0" bIns="0" anchor="t">
                      <a:noAutofit/>
                    </a:bodyPr>
                    <a:p>
                      <a:pPr marL="533520" indent="-35100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і кути прям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0" rIns="0" tIns="0" bIns="0" anchor="t">
                      <a:noAutofit/>
                    </a:bodyPr>
                    <a:p>
                      <a:pPr marL="533520" indent="-35100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і сторони рівн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0200">
                <a:tc>
                  <a:txBody>
                    <a:bodyPr lIns="0" rIns="0" tIns="0" bIns="0" anchor="t">
                      <a:noAutofit/>
                    </a:bodyPr>
                    <a:p>
                      <a:pPr marL="533520" indent="-35100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іагональ ділить на два рівні трикутни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0200">
                <a:tc>
                  <a:txBody>
                    <a:bodyPr lIns="0" rIns="0" tIns="0" bIns="0" anchor="t">
                      <a:noAutofit/>
                    </a:bodyPr>
                    <a:p>
                      <a:pPr marL="533520" indent="-35100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тилежні сторони рівні між собою, протилежні кути рівн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8" name=""/>
          <p:cNvGraphicFramePr/>
          <p:nvPr/>
        </p:nvGraphicFramePr>
        <p:xfrm>
          <a:off x="228600" y="990720"/>
          <a:ext cx="8686800" cy="3998880"/>
        </p:xfrm>
        <a:graphic>
          <a:graphicData uri="http://schemas.openxmlformats.org/drawingml/2006/table">
            <a:tbl>
              <a:tblPr/>
              <a:tblGrid>
                <a:gridCol w="528480"/>
                <a:gridCol w="3667320"/>
                <a:gridCol w="1108080"/>
                <a:gridCol w="1173240"/>
                <a:gridCol w="1104840"/>
                <a:gridCol w="1104840"/>
              </a:tblGrid>
              <a:tr h="380160">
                <a:tc rowSpan="2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ластивост</a:t>
                      </a: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</a:t>
                      </a: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ди фігу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88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паралел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гра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прямоку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ни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ром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квадра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0200">
                <a:tc>
                  <a:txBody>
                    <a:bodyPr lIns="0" rIns="0" tIns="0" bIns="0" anchor="t">
                      <a:noAutofit/>
                    </a:bodyPr>
                    <a:p>
                      <a:pPr marL="351000" indent="-16848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іагональ в точці їх перетину діляться попола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0200">
                <a:tc>
                  <a:txBody>
                    <a:bodyPr lIns="0" rIns="0" tIns="0" bIns="0" anchor="t">
                      <a:noAutofit/>
                    </a:bodyPr>
                    <a:p>
                      <a:pPr marL="533520" indent="-35100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ма кутів,прилеглих до однієї сторони, дорівнює180</a:t>
                      </a: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°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0" rIns="0" tIns="0" bIns="0" anchor="t">
                      <a:noAutofit/>
                    </a:bodyPr>
                    <a:p>
                      <a:pPr marL="533520" indent="-35100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іагоналі рівн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0200">
                <a:tc>
                  <a:txBody>
                    <a:bodyPr lIns="0" rIns="0" tIns="0" bIns="0" anchor="t">
                      <a:noAutofit/>
                    </a:bodyPr>
                    <a:p>
                      <a:pPr marL="533520" indent="-35100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іагоналі взаємно перпендикулярн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0" rIns="0" tIns="0" bIns="0" anchor="t">
                      <a:noAutofit/>
                    </a:bodyPr>
                    <a:p>
                      <a:pPr marL="533520" indent="-35100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іагоналі є бісектрисами куті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Arial"/>
              </a:rPr>
              <a:t>Розв’яжіть задачі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89120" indent="-60660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Якщо в означенні поняття «квадрат» не брати до уваги ознаку 4, то яке ми одержимо поняття? </a:t>
            </a:r>
            <a:br>
              <a:rPr sz="3200"/>
            </a:b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89120" indent="-60660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Які ознаки включити в паралелограм, щоб отримати поняття «квадрат».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br>
              <a:rPr sz="2800"/>
            </a:b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7" dur="1000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Усно.</a:t>
            </a: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Задача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264600" y="1109160"/>
            <a:ext cx="3411000" cy="2652840"/>
            <a:chOff x="264600" y="1109160"/>
            <a:chExt cx="3411000" cy="2652840"/>
          </a:xfrm>
        </p:grpSpPr>
        <p:sp>
          <p:nvSpPr>
            <p:cNvPr id="253" name=""/>
            <p:cNvSpPr/>
            <p:nvPr/>
          </p:nvSpPr>
          <p:spPr>
            <a:xfrm rot="187800">
              <a:off x="273240" y="1415880"/>
              <a:ext cx="194760" cy="33804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 rot="187800">
              <a:off x="570960" y="3087360"/>
              <a:ext cx="194760" cy="33624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 rot="15410400">
              <a:off x="909000" y="1301040"/>
              <a:ext cx="2193840" cy="2269080"/>
            </a:xfrm>
            <a:prstGeom prst="parallelogram">
              <a:avLst>
                <a:gd name="adj" fmla="val 26949"/>
              </a:avLst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 flipV="1">
              <a:off x="1067040" y="1697040"/>
              <a:ext cx="1334880" cy="1448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61320" y="1603080"/>
              <a:ext cx="2430720" cy="165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 rot="187800">
              <a:off x="3174840" y="1574640"/>
              <a:ext cx="194760" cy="33804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rot="187800">
              <a:off x="3471840" y="3263400"/>
              <a:ext cx="194760" cy="33660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rot="187800">
              <a:off x="3083400" y="3344040"/>
              <a:ext cx="194760" cy="33840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rot="187800">
              <a:off x="1761120" y="2584800"/>
              <a:ext cx="196920" cy="33840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rot="187800">
              <a:off x="375120" y="1440720"/>
              <a:ext cx="194760" cy="33660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rot="187800">
              <a:off x="2257200" y="1314720"/>
              <a:ext cx="194760" cy="33660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" name=""/>
          <p:cNvSpPr/>
          <p:nvPr/>
        </p:nvSpPr>
        <p:spPr>
          <a:xfrm>
            <a:off x="4343400" y="1447920"/>
            <a:ext cx="3962520" cy="22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Times New Roman"/>
              </a:rPr>
              <a:t>Дано: АВС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uk-UA" sz="2200" spc="-1" strike="noStrike">
                <a:solidFill>
                  <a:srgbClr val="000000"/>
                </a:solidFill>
                <a:latin typeface="Times New Roman"/>
              </a:rPr>
              <a:t> – паралелограм,          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AM</a:t>
            </a:r>
            <a:r>
              <a:rPr b="1" lang="uk-UA" sz="22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бі</a:t>
            </a:r>
            <a:r>
              <a:rPr b="1" lang="uk-UA" sz="2200" spc="-1" strike="noStrike">
                <a:solidFill>
                  <a:srgbClr val="000000"/>
                </a:solidFill>
                <a:latin typeface="Times New Roman"/>
              </a:rPr>
              <a:t>сектриса   А,  BN – бісектриса    В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Times New Roman"/>
              </a:rPr>
              <a:t>Довести: BN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AM</a:t>
            </a:r>
            <a:r>
              <a:rPr b="1" lang="uk-UA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000000"/>
                </a:solidFill>
                <a:latin typeface="Times New Roman"/>
              </a:rPr>
              <a:t>Розв’язування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OB</a:t>
            </a:r>
            <a:r>
              <a:rPr b="0" lang="uk-UA" sz="2200" spc="-1" strike="noStrike">
                <a:solidFill>
                  <a:srgbClr val="000000"/>
                </a:solidFill>
                <a:latin typeface="Times New Roman"/>
              </a:rPr>
              <a:t> = 90º, 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ON</a:t>
            </a:r>
            <a:r>
              <a:rPr b="0" lang="uk-UA" sz="2200" spc="-1" strike="noStrike">
                <a:solidFill>
                  <a:srgbClr val="000000"/>
                </a:solidFill>
                <a:latin typeface="Times New Roman"/>
              </a:rPr>
              <a:t> = 90º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4419720" y="3500280"/>
            <a:ext cx="161640" cy="15264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2"/>
          <a:stretch/>
        </p:blipFill>
        <p:spPr>
          <a:xfrm>
            <a:off x="5791320" y="2286000"/>
            <a:ext cx="161640" cy="15228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3"/>
          <a:stretch/>
        </p:blipFill>
        <p:spPr>
          <a:xfrm>
            <a:off x="6477120" y="1946160"/>
            <a:ext cx="161640" cy="15264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4"/>
          <a:stretch/>
        </p:blipFill>
        <p:spPr>
          <a:xfrm>
            <a:off x="5867280" y="2514600"/>
            <a:ext cx="223920" cy="23796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/>
          <p:cNvPicPr/>
          <p:nvPr/>
        </p:nvPicPr>
        <p:blipFill>
          <a:blip r:embed="rId5"/>
          <a:stretch/>
        </p:blipFill>
        <p:spPr>
          <a:xfrm>
            <a:off x="6019920" y="3540240"/>
            <a:ext cx="161640" cy="15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4" dur="1000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2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5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Усно.</a:t>
            </a: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Задача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343400" y="1447920"/>
            <a:ext cx="3962520" cy="463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Times New Roman"/>
              </a:rPr>
              <a:t>Дано: АВС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uk-UA" sz="2200" spc="-1" strike="noStrike">
                <a:solidFill>
                  <a:srgbClr val="000000"/>
                </a:solidFill>
                <a:latin typeface="Times New Roman"/>
              </a:rPr>
              <a:t> – прямокутник. Довести: АЕ = СК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000000"/>
                </a:solidFill>
                <a:latin typeface="Times New Roman"/>
              </a:rPr>
              <a:t>Розв’язування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EO</a:t>
            </a: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=∆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KO</a:t>
            </a: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, бо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O</a:t>
            </a: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 =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K</a:t>
            </a: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, як відрізки між паралельними сторонами і проходять через точку перетину діагоналей.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O</a:t>
            </a: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C</a:t>
            </a: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, як діагоналі прямокутника і в точці перетину діляться по полам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як вертикальні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отже,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E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K</a:t>
            </a: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228600" y="1219320"/>
            <a:ext cx="3649320" cy="1898280"/>
            <a:chOff x="228600" y="1219320"/>
            <a:chExt cx="3649320" cy="1898280"/>
          </a:xfrm>
        </p:grpSpPr>
        <p:grpSp>
          <p:nvGrpSpPr>
            <p:cNvPr id="281" name=""/>
            <p:cNvGrpSpPr/>
            <p:nvPr/>
          </p:nvGrpSpPr>
          <p:grpSpPr>
            <a:xfrm>
              <a:off x="565200" y="1408320"/>
              <a:ext cx="2850840" cy="1516320"/>
              <a:chOff x="565200" y="1408320"/>
              <a:chExt cx="2850840" cy="1516320"/>
            </a:xfrm>
          </p:grpSpPr>
          <p:sp>
            <p:nvSpPr>
              <p:cNvPr id="282" name=""/>
              <p:cNvSpPr/>
              <p:nvPr/>
            </p:nvSpPr>
            <p:spPr>
              <a:xfrm>
                <a:off x="565200" y="1408320"/>
                <a:ext cx="2850840" cy="1516320"/>
              </a:xfrm>
              <a:prstGeom prst="rect">
                <a:avLst/>
              </a:prstGeom>
              <a:solidFill>
                <a:srgbClr val="ff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565200" y="1408320"/>
                <a:ext cx="2850840" cy="1516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flipV="1">
                <a:off x="565200" y="1408320"/>
                <a:ext cx="2850840" cy="1516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flipV="1">
                <a:off x="565200" y="1785960"/>
                <a:ext cx="2850840" cy="758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6" name=""/>
            <p:cNvSpPr/>
            <p:nvPr/>
          </p:nvSpPr>
          <p:spPr>
            <a:xfrm>
              <a:off x="1903680" y="2357280"/>
              <a:ext cx="168480" cy="38016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" y="2735640"/>
              <a:ext cx="168840" cy="37800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" y="1219320"/>
              <a:ext cx="168840" cy="37800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579840" y="1221120"/>
              <a:ext cx="170280" cy="37980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579840" y="2737800"/>
              <a:ext cx="168840" cy="37980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28600" y="2166840"/>
              <a:ext cx="168840" cy="37980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79840" y="1601280"/>
              <a:ext cx="298080" cy="68904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4343400" y="5105520"/>
            <a:ext cx="2052720" cy="39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2" dur="1000"/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7" dur="1000"/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2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7" dur="1000"/>
                                        <p:tgtEl>
                                          <p:spTgt spid="2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2" dur="1000"/>
                                        <p:tgtEl>
                                          <p:spTgt spid="2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Задача № 64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343040" y="1143000"/>
            <a:ext cx="4800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Дано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BCD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 – трапеція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C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, </a:t>
            </a:r>
            <a:br>
              <a:rPr sz="2000"/>
            </a:b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Знайти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A,       B,      C,      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Arial"/>
              </a:rPr>
              <a:t>Розв’язуванн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C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=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A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як кути при основі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рівнобедреного трикутник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C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A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=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D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, як внутрішн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різносторонні при паралельних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і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та січній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Отже,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C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=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D= x°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x°.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D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+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= 9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°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.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0" y="1905120"/>
            <a:ext cx="4419360" cy="2430720"/>
            <a:chOff x="0" y="1905120"/>
            <a:chExt cx="4419360" cy="2430720"/>
          </a:xfrm>
        </p:grpSpPr>
        <p:sp>
          <p:nvSpPr>
            <p:cNvPr id="138" name=""/>
            <p:cNvSpPr/>
            <p:nvPr/>
          </p:nvSpPr>
          <p:spPr>
            <a:xfrm rot="10800000">
              <a:off x="441360" y="2345040"/>
              <a:ext cx="3531960" cy="1769400"/>
            </a:xfrm>
            <a:custGeom>
              <a:avLst/>
              <a:gdLst>
                <a:gd name="textAreaLeft" fmla="*/ 776520 w 3531960"/>
                <a:gd name="textAreaRight" fmla="*/ 2755440 w 3531960"/>
                <a:gd name="textAreaTop" fmla="*/ 389160 h 1769400"/>
                <a:gd name="textAreaBottom" fmla="*/ 1380240 h 1769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flipV="1">
              <a:off x="441720" y="2345400"/>
              <a:ext cx="2651040" cy="1769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987920" y="234576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987920" y="234576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882360" y="3009240"/>
              <a:ext cx="2196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312360" y="3009240"/>
              <a:ext cx="2196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0" y="3893760"/>
              <a:ext cx="441720" cy="44208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82360" y="1905120"/>
              <a:ext cx="443880" cy="44244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093120" y="1905120"/>
              <a:ext cx="222480" cy="44064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975480" y="3893760"/>
              <a:ext cx="443880" cy="44208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5562360" y="1828800"/>
            <a:ext cx="114480" cy="114480"/>
            <a:chOff x="5562360" y="1828800"/>
            <a:chExt cx="114480" cy="114480"/>
          </a:xfrm>
        </p:grpSpPr>
        <p:sp>
          <p:nvSpPr>
            <p:cNvPr id="149" name=""/>
            <p:cNvSpPr/>
            <p:nvPr/>
          </p:nvSpPr>
          <p:spPr>
            <a:xfrm flipH="1">
              <a:off x="5562360" y="1828800"/>
              <a:ext cx="114120" cy="114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562720" y="1943280"/>
              <a:ext cx="11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6324480" y="1828800"/>
            <a:ext cx="114480" cy="114480"/>
            <a:chOff x="6324480" y="1828800"/>
            <a:chExt cx="114480" cy="114480"/>
          </a:xfrm>
        </p:grpSpPr>
        <p:sp>
          <p:nvSpPr>
            <p:cNvPr id="152" name=""/>
            <p:cNvSpPr/>
            <p:nvPr/>
          </p:nvSpPr>
          <p:spPr>
            <a:xfrm flipH="1">
              <a:off x="6324480" y="1828800"/>
              <a:ext cx="114480" cy="114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324480" y="1943280"/>
              <a:ext cx="114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7010280" y="1828800"/>
            <a:ext cx="114480" cy="114480"/>
            <a:chOff x="7010280" y="1828800"/>
            <a:chExt cx="114480" cy="114480"/>
          </a:xfrm>
        </p:grpSpPr>
        <p:sp>
          <p:nvSpPr>
            <p:cNvPr id="155" name=""/>
            <p:cNvSpPr/>
            <p:nvPr/>
          </p:nvSpPr>
          <p:spPr>
            <a:xfrm flipH="1">
              <a:off x="7010280" y="1828800"/>
              <a:ext cx="114480" cy="114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010280" y="1943280"/>
              <a:ext cx="114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7696080" y="1828800"/>
            <a:ext cx="114480" cy="114480"/>
            <a:chOff x="7696080" y="1828800"/>
            <a:chExt cx="114480" cy="114480"/>
          </a:xfrm>
        </p:grpSpPr>
        <p:sp>
          <p:nvSpPr>
            <p:cNvPr id="158" name=""/>
            <p:cNvSpPr/>
            <p:nvPr/>
          </p:nvSpPr>
          <p:spPr>
            <a:xfrm flipH="1">
              <a:off x="7696080" y="1828800"/>
              <a:ext cx="114480" cy="114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696080" y="1943280"/>
              <a:ext cx="114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4495680" y="2743200"/>
            <a:ext cx="114480" cy="114480"/>
            <a:chOff x="4495680" y="2743200"/>
            <a:chExt cx="114480" cy="114480"/>
          </a:xfrm>
        </p:grpSpPr>
        <p:sp>
          <p:nvSpPr>
            <p:cNvPr id="161" name=""/>
            <p:cNvSpPr/>
            <p:nvPr/>
          </p:nvSpPr>
          <p:spPr>
            <a:xfrm flipH="1">
              <a:off x="4495680" y="2743200"/>
              <a:ext cx="114480" cy="114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495680" y="2857680"/>
              <a:ext cx="114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5486400" y="2743200"/>
            <a:ext cx="114480" cy="114480"/>
            <a:chOff x="5486400" y="2743200"/>
            <a:chExt cx="114480" cy="114480"/>
          </a:xfrm>
        </p:grpSpPr>
        <p:sp>
          <p:nvSpPr>
            <p:cNvPr id="164" name=""/>
            <p:cNvSpPr/>
            <p:nvPr/>
          </p:nvSpPr>
          <p:spPr>
            <a:xfrm flipH="1">
              <a:off x="5486400" y="2743200"/>
              <a:ext cx="114480" cy="114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486400" y="2857680"/>
              <a:ext cx="114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4495680" y="3352680"/>
            <a:ext cx="114480" cy="114480"/>
            <a:chOff x="4495680" y="3352680"/>
            <a:chExt cx="114480" cy="114480"/>
          </a:xfrm>
        </p:grpSpPr>
        <p:sp>
          <p:nvSpPr>
            <p:cNvPr id="167" name=""/>
            <p:cNvSpPr/>
            <p:nvPr/>
          </p:nvSpPr>
          <p:spPr>
            <a:xfrm flipH="1">
              <a:off x="4495680" y="3352680"/>
              <a:ext cx="114480" cy="114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495680" y="3467160"/>
              <a:ext cx="114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" name=""/>
          <p:cNvGrpSpPr/>
          <p:nvPr/>
        </p:nvGrpSpPr>
        <p:grpSpPr>
          <a:xfrm>
            <a:off x="5562360" y="3352680"/>
            <a:ext cx="114480" cy="114480"/>
            <a:chOff x="5562360" y="3352680"/>
            <a:chExt cx="114480" cy="114480"/>
          </a:xfrm>
        </p:grpSpPr>
        <p:sp>
          <p:nvSpPr>
            <p:cNvPr id="170" name=""/>
            <p:cNvSpPr/>
            <p:nvPr/>
          </p:nvSpPr>
          <p:spPr>
            <a:xfrm flipH="1">
              <a:off x="5562360" y="3352680"/>
              <a:ext cx="114120" cy="114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562720" y="3467160"/>
              <a:ext cx="11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4495680" y="4572000"/>
            <a:ext cx="114480" cy="114480"/>
            <a:chOff x="4495680" y="4572000"/>
            <a:chExt cx="114480" cy="114480"/>
          </a:xfrm>
        </p:grpSpPr>
        <p:sp>
          <p:nvSpPr>
            <p:cNvPr id="173" name=""/>
            <p:cNvSpPr/>
            <p:nvPr/>
          </p:nvSpPr>
          <p:spPr>
            <a:xfrm flipH="1">
              <a:off x="4495680" y="4572000"/>
              <a:ext cx="114480" cy="114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495680" y="4686480"/>
              <a:ext cx="114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257800" y="4267080"/>
            <a:ext cx="114480" cy="114480"/>
            <a:chOff x="5257800" y="4267080"/>
            <a:chExt cx="114480" cy="114480"/>
          </a:xfrm>
        </p:grpSpPr>
        <p:sp>
          <p:nvSpPr>
            <p:cNvPr id="176" name=""/>
            <p:cNvSpPr/>
            <p:nvPr/>
          </p:nvSpPr>
          <p:spPr>
            <a:xfrm flipH="1">
              <a:off x="5257800" y="4267080"/>
              <a:ext cx="114480" cy="114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257800" y="4381560"/>
              <a:ext cx="114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248160" y="4267080"/>
            <a:ext cx="114480" cy="114480"/>
            <a:chOff x="6248160" y="4267080"/>
            <a:chExt cx="114480" cy="114480"/>
          </a:xfrm>
        </p:grpSpPr>
        <p:sp>
          <p:nvSpPr>
            <p:cNvPr id="179" name=""/>
            <p:cNvSpPr/>
            <p:nvPr/>
          </p:nvSpPr>
          <p:spPr>
            <a:xfrm flipH="1">
              <a:off x="6248160" y="4267080"/>
              <a:ext cx="114120" cy="114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4381560"/>
              <a:ext cx="11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1" name=""/>
          <p:cNvSpPr/>
          <p:nvPr/>
        </p:nvSpPr>
        <p:spPr>
          <a:xfrm>
            <a:off x="304920" y="4648320"/>
            <a:ext cx="8153280" cy="162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Отже,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°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 x°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=9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°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=3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°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А=2*30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°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=60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°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.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=60°, 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=180° - 60°=120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А і   В – внутрішні односторонні кути.   С= 9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0°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+ 3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0°=120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5105160" y="4572000"/>
            <a:ext cx="114480" cy="114480"/>
            <a:chOff x="5105160" y="4572000"/>
            <a:chExt cx="114480" cy="114480"/>
          </a:xfrm>
        </p:grpSpPr>
        <p:sp>
          <p:nvSpPr>
            <p:cNvPr id="183" name=""/>
            <p:cNvSpPr/>
            <p:nvPr/>
          </p:nvSpPr>
          <p:spPr>
            <a:xfrm flipH="1">
              <a:off x="5105160" y="4572000"/>
              <a:ext cx="114120" cy="114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105520" y="4686480"/>
              <a:ext cx="11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7010280" y="4572000"/>
            <a:ext cx="114480" cy="114480"/>
            <a:chOff x="7010280" y="4572000"/>
            <a:chExt cx="114480" cy="114480"/>
          </a:xfrm>
        </p:grpSpPr>
        <p:sp>
          <p:nvSpPr>
            <p:cNvPr id="186" name=""/>
            <p:cNvSpPr/>
            <p:nvPr/>
          </p:nvSpPr>
          <p:spPr>
            <a:xfrm flipH="1">
              <a:off x="7010280" y="4572000"/>
              <a:ext cx="114480" cy="114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010280" y="4686480"/>
              <a:ext cx="114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228600" y="5410080"/>
            <a:ext cx="114480" cy="114480"/>
            <a:chOff x="228600" y="5410080"/>
            <a:chExt cx="114480" cy="114480"/>
          </a:xfrm>
        </p:grpSpPr>
        <p:sp>
          <p:nvSpPr>
            <p:cNvPr id="189" name=""/>
            <p:cNvSpPr/>
            <p:nvPr/>
          </p:nvSpPr>
          <p:spPr>
            <a:xfrm flipH="1">
              <a:off x="228600" y="5410080"/>
              <a:ext cx="114480" cy="114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28600" y="5524560"/>
              <a:ext cx="114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2286000" y="5410080"/>
            <a:ext cx="114480" cy="114480"/>
            <a:chOff x="2286000" y="5410080"/>
            <a:chExt cx="114480" cy="114480"/>
          </a:xfrm>
        </p:grpSpPr>
        <p:sp>
          <p:nvSpPr>
            <p:cNvPr id="192" name=""/>
            <p:cNvSpPr/>
            <p:nvPr/>
          </p:nvSpPr>
          <p:spPr>
            <a:xfrm flipH="1">
              <a:off x="2286000" y="5410080"/>
              <a:ext cx="114480" cy="114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286000" y="5524560"/>
              <a:ext cx="114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" name=""/>
          <p:cNvGrpSpPr/>
          <p:nvPr/>
        </p:nvGrpSpPr>
        <p:grpSpPr>
          <a:xfrm>
            <a:off x="3504960" y="5410080"/>
            <a:ext cx="114480" cy="114480"/>
            <a:chOff x="3504960" y="5410080"/>
            <a:chExt cx="114480" cy="114480"/>
          </a:xfrm>
        </p:grpSpPr>
        <p:sp>
          <p:nvSpPr>
            <p:cNvPr id="195" name=""/>
            <p:cNvSpPr/>
            <p:nvPr/>
          </p:nvSpPr>
          <p:spPr>
            <a:xfrm flipH="1">
              <a:off x="3504960" y="5410080"/>
              <a:ext cx="114120" cy="114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505320" y="5524560"/>
              <a:ext cx="11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04560" y="6019920"/>
            <a:ext cx="114480" cy="114120"/>
            <a:chOff x="304560" y="6019920"/>
            <a:chExt cx="114480" cy="114120"/>
          </a:xfrm>
        </p:grpSpPr>
        <p:sp>
          <p:nvSpPr>
            <p:cNvPr id="198" name=""/>
            <p:cNvSpPr/>
            <p:nvPr/>
          </p:nvSpPr>
          <p:spPr>
            <a:xfrm flipH="1">
              <a:off x="304560" y="6019920"/>
              <a:ext cx="114120" cy="11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04920" y="6134040"/>
              <a:ext cx="11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" name=""/>
          <p:cNvGrpSpPr/>
          <p:nvPr/>
        </p:nvGrpSpPr>
        <p:grpSpPr>
          <a:xfrm>
            <a:off x="838080" y="6019920"/>
            <a:ext cx="114480" cy="114120"/>
            <a:chOff x="838080" y="6019920"/>
            <a:chExt cx="114480" cy="114120"/>
          </a:xfrm>
        </p:grpSpPr>
        <p:sp>
          <p:nvSpPr>
            <p:cNvPr id="201" name=""/>
            <p:cNvSpPr/>
            <p:nvPr/>
          </p:nvSpPr>
          <p:spPr>
            <a:xfrm flipH="1">
              <a:off x="838080" y="6019920"/>
              <a:ext cx="114480" cy="11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38080" y="6134040"/>
              <a:ext cx="114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4876560" y="6019920"/>
            <a:ext cx="114480" cy="114120"/>
            <a:chOff x="4876560" y="6019920"/>
            <a:chExt cx="114480" cy="114120"/>
          </a:xfrm>
        </p:grpSpPr>
        <p:sp>
          <p:nvSpPr>
            <p:cNvPr id="204" name=""/>
            <p:cNvSpPr/>
            <p:nvPr/>
          </p:nvSpPr>
          <p:spPr>
            <a:xfrm flipH="1">
              <a:off x="4876560" y="6019920"/>
              <a:ext cx="114120" cy="11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876920" y="6134040"/>
              <a:ext cx="11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6095880" y="4572000"/>
            <a:ext cx="114480" cy="114480"/>
            <a:chOff x="6095880" y="4572000"/>
            <a:chExt cx="114480" cy="114480"/>
          </a:xfrm>
        </p:grpSpPr>
        <p:sp>
          <p:nvSpPr>
            <p:cNvPr id="207" name=""/>
            <p:cNvSpPr/>
            <p:nvPr/>
          </p:nvSpPr>
          <p:spPr>
            <a:xfrm flipH="1">
              <a:off x="6095880" y="4572000"/>
              <a:ext cx="114480" cy="114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095880" y="4686480"/>
              <a:ext cx="114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6248520" y="1371600"/>
            <a:ext cx="295200" cy="31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2000"/>
                            </p:stCondLst>
                            <p:childTnLst>
                              <p:par>
                                <p:cTn id="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Усно.</a:t>
            </a: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Задача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4343400" y="1447920"/>
            <a:ext cx="4572000" cy="39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Times New Roman"/>
              </a:rPr>
              <a:t>Дано: АВС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uk-UA" sz="2200" spc="-1" strike="noStrike">
                <a:solidFill>
                  <a:srgbClr val="000000"/>
                </a:solidFill>
                <a:latin typeface="Times New Roman"/>
              </a:rPr>
              <a:t> – паралелограм,            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uk-UA" sz="22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uk-UA" sz="2200" spc="-1" strike="noStrike">
                <a:solidFill>
                  <a:srgbClr val="000000"/>
                </a:solidFill>
                <a:latin typeface="Times New Roman"/>
              </a:rPr>
              <a:t>К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Times New Roman"/>
              </a:rPr>
              <a:t>Довести: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uk-UA" sz="2200" spc="-1" strike="noStrike">
                <a:solidFill>
                  <a:srgbClr val="000000"/>
                </a:solidFill>
                <a:latin typeface="Times New Roman"/>
              </a:rPr>
              <a:t>К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BM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 – паралелограм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uk-UA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000000"/>
                </a:solidFill>
                <a:latin typeface="Times New Roman"/>
              </a:rPr>
              <a:t>Розв’язування: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</a:rPr>
              <a:t>∆</a:t>
            </a:r>
            <a:r>
              <a:rPr b="0" lang="uk-UA" sz="22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KB</a:t>
            </a:r>
            <a:r>
              <a:rPr b="0" lang="uk-UA" sz="2200" spc="-1" strike="noStrike">
                <a:solidFill>
                  <a:srgbClr val="000000"/>
                </a:solidFill>
                <a:latin typeface="Times New Roman"/>
              </a:rPr>
              <a:t>=∆А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D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за двома сторонами і кутом між ними</a:t>
            </a:r>
            <a:r>
              <a:rPr b="0" lang="uk-UA" sz="2200" spc="-1" strike="noStrike">
                <a:solidFill>
                  <a:srgbClr val="000000"/>
                </a:solidFill>
                <a:latin typeface="Times New Roman"/>
              </a:rPr>
              <a:t>. Аналогічно ∆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uk-UA" sz="22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uk-UA" sz="2200" spc="-1" strike="noStrike">
                <a:solidFill>
                  <a:srgbClr val="000000"/>
                </a:solidFill>
                <a:latin typeface="Times New Roman"/>
              </a:rPr>
              <a:t>=∆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uk-UA" sz="2200" spc="-1" strike="noStrike">
                <a:solidFill>
                  <a:srgbClr val="000000"/>
                </a:solidFill>
                <a:latin typeface="Times New Roman"/>
              </a:rPr>
              <a:t>К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uk-UA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</a:rPr>
              <a:t>Якщо сторони чотирикутника попарно рівні, то це паралелограм.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228600" y="1662480"/>
            <a:ext cx="3885840" cy="1941120"/>
            <a:chOff x="228600" y="1662480"/>
            <a:chExt cx="3885840" cy="1941120"/>
          </a:xfrm>
        </p:grpSpPr>
        <p:grpSp>
          <p:nvGrpSpPr>
            <p:cNvPr id="303" name=""/>
            <p:cNvGrpSpPr/>
            <p:nvPr/>
          </p:nvGrpSpPr>
          <p:grpSpPr>
            <a:xfrm>
              <a:off x="506160" y="1982880"/>
              <a:ext cx="3466440" cy="1387440"/>
              <a:chOff x="506160" y="1982880"/>
              <a:chExt cx="3466440" cy="1387440"/>
            </a:xfrm>
          </p:grpSpPr>
          <p:sp>
            <p:nvSpPr>
              <p:cNvPr id="304" name=""/>
              <p:cNvSpPr/>
              <p:nvPr/>
            </p:nvSpPr>
            <p:spPr>
              <a:xfrm>
                <a:off x="506160" y="1983240"/>
                <a:ext cx="3466440" cy="1385640"/>
              </a:xfrm>
              <a:prstGeom prst="parallelogram">
                <a:avLst>
                  <a:gd name="adj" fmla="val 62542"/>
                </a:avLst>
              </a:prstGeom>
              <a:solidFill>
                <a:srgbClr val="ff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flipV="1">
                <a:off x="506160" y="1982880"/>
                <a:ext cx="3466440" cy="1385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1337400" y="1983240"/>
                <a:ext cx="138600" cy="96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002040" y="2398320"/>
                <a:ext cx="139680" cy="972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1476360" y="2953080"/>
                <a:ext cx="1664280" cy="415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1337400" y="1983240"/>
                <a:ext cx="1664280" cy="415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0" name=""/>
            <p:cNvSpPr/>
            <p:nvPr/>
          </p:nvSpPr>
          <p:spPr>
            <a:xfrm>
              <a:off x="3972600" y="1662480"/>
              <a:ext cx="141840" cy="27720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28600" y="3187440"/>
              <a:ext cx="140760" cy="27720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199160" y="1662480"/>
              <a:ext cx="140760" cy="27720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141000" y="3326040"/>
              <a:ext cx="140760" cy="27756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3141000" y="2355120"/>
              <a:ext cx="140760" cy="27720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199160" y="2632320"/>
              <a:ext cx="140760" cy="27720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9" dur="1000"/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4" dur="10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9" dur="10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Усно.</a:t>
            </a: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Задача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4343400" y="1447920"/>
            <a:ext cx="4572000" cy="516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Times New Roman"/>
              </a:rPr>
              <a:t>Дано: АВСD – трапеція,    АО = О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Times New Roman"/>
              </a:rPr>
              <a:t>Довести: АВ=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uk-UA" sz="2200" spc="-1" strike="noStrike">
                <a:solidFill>
                  <a:srgbClr val="000000"/>
                </a:solidFill>
                <a:latin typeface="Times New Roman"/>
              </a:rPr>
              <a:t>С.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000000"/>
                </a:solidFill>
                <a:latin typeface="Times New Roman"/>
              </a:rPr>
              <a:t>Розв’язування: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DA</a:t>
            </a: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lang="uk-UA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AD </a:t>
            </a: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бо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= О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C </a:t>
            </a: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0" lang="uk-UA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CA</a:t>
            </a: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як внутрішні різносторонні при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//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B </a:t>
            </a: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і січній СА. </a:t>
            </a:r>
            <a:r>
              <a:rPr b="0" lang="uk-UA" sz="2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DA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BC</a:t>
            </a: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як внутрішні різносторонні при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</a:t>
            </a: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//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B </a:t>
            </a: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 січній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B</a:t>
            </a: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бо в трикутнику кути при основі рівні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же, в трикутниках  DOC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а </a:t>
            </a: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OB: DO = OA; CO = OB;  </a:t>
            </a:r>
            <a:r>
              <a:rPr b="0" lang="uk-UA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C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OB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як вертикальні. </a:t>
            </a: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же, AB = DC.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"/>
          <p:cNvGrpSpPr/>
          <p:nvPr/>
        </p:nvGrpSpPr>
        <p:grpSpPr>
          <a:xfrm>
            <a:off x="541800" y="1712880"/>
            <a:ext cx="3155760" cy="2090520"/>
            <a:chOff x="541800" y="1712880"/>
            <a:chExt cx="3155760" cy="2090520"/>
          </a:xfrm>
        </p:grpSpPr>
        <p:grpSp>
          <p:nvGrpSpPr>
            <p:cNvPr id="324" name=""/>
            <p:cNvGrpSpPr/>
            <p:nvPr/>
          </p:nvGrpSpPr>
          <p:grpSpPr>
            <a:xfrm>
              <a:off x="788760" y="2179800"/>
              <a:ext cx="2765880" cy="1245600"/>
              <a:chOff x="788760" y="2179800"/>
              <a:chExt cx="2765880" cy="1245600"/>
            </a:xfrm>
          </p:grpSpPr>
          <p:sp>
            <p:nvSpPr>
              <p:cNvPr id="325" name=""/>
              <p:cNvSpPr/>
              <p:nvPr/>
            </p:nvSpPr>
            <p:spPr>
              <a:xfrm>
                <a:off x="788760" y="2179800"/>
                <a:ext cx="2764800" cy="1245600"/>
              </a:xfrm>
              <a:custGeom>
                <a:avLst/>
                <a:gdLst>
                  <a:gd name="textAreaLeft" fmla="*/ 608040 w 2764800"/>
                  <a:gd name="textAreaRight" fmla="*/ 2156760 w 2764800"/>
                  <a:gd name="textAreaTop" fmla="*/ 273960 h 1245600"/>
                  <a:gd name="textAreaBottom" fmla="*/ 971640 h 1245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ff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flipV="1">
                <a:off x="1479240" y="2179800"/>
                <a:ext cx="2075400" cy="1245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flipH="1" flipV="1">
                <a:off x="788760" y="2179800"/>
                <a:ext cx="2072160" cy="1245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8" name=""/>
            <p:cNvSpPr/>
            <p:nvPr/>
          </p:nvSpPr>
          <p:spPr>
            <a:xfrm>
              <a:off x="1232280" y="249120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41800" y="1712880"/>
              <a:ext cx="492840" cy="31140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3303360" y="1712880"/>
              <a:ext cx="394200" cy="31140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802240" y="3492000"/>
              <a:ext cx="395640" cy="31140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45960" y="3492000"/>
              <a:ext cx="323640" cy="31140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023560" y="2517840"/>
              <a:ext cx="394200" cy="31140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4" name="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4307040" y="3083040"/>
            <a:ext cx="161640" cy="152280"/>
          </a:xfrm>
          <a:prstGeom prst="rect">
            <a:avLst/>
          </a:prstGeom>
          <a:ln w="0">
            <a:noFill/>
          </a:ln>
        </p:spPr>
      </p:pic>
      <p:pic>
        <p:nvPicPr>
          <p:cNvPr id="336" name="" descr=""/>
          <p:cNvPicPr/>
          <p:nvPr/>
        </p:nvPicPr>
        <p:blipFill>
          <a:blip r:embed="rId2"/>
          <a:stretch/>
        </p:blipFill>
        <p:spPr>
          <a:xfrm>
            <a:off x="5372280" y="3083040"/>
            <a:ext cx="161640" cy="152280"/>
          </a:xfrm>
          <a:prstGeom prst="rect">
            <a:avLst/>
          </a:prstGeom>
          <a:ln w="0">
            <a:noFill/>
          </a:ln>
        </p:spPr>
      </p:pic>
      <p:sp>
        <p:nvSpPr>
          <p:cNvPr id="337" name="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" descr=""/>
          <p:cNvPicPr/>
          <p:nvPr/>
        </p:nvPicPr>
        <p:blipFill>
          <a:blip r:embed="rId3"/>
          <a:stretch/>
        </p:blipFill>
        <p:spPr>
          <a:xfrm>
            <a:off x="5410080" y="3465360"/>
            <a:ext cx="162000" cy="15264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" descr=""/>
          <p:cNvPicPr/>
          <p:nvPr/>
        </p:nvPicPr>
        <p:blipFill>
          <a:blip r:embed="rId4"/>
          <a:stretch/>
        </p:blipFill>
        <p:spPr>
          <a:xfrm>
            <a:off x="4383000" y="3465360"/>
            <a:ext cx="162000" cy="15264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5"/>
          <a:stretch/>
        </p:blipFill>
        <p:spPr>
          <a:xfrm>
            <a:off x="4876920" y="4184640"/>
            <a:ext cx="161640" cy="152280"/>
          </a:xfrm>
          <a:prstGeom prst="rect">
            <a:avLst/>
          </a:prstGeom>
          <a:ln w="0">
            <a:noFill/>
          </a:ln>
        </p:spPr>
      </p:pic>
      <p:pic>
        <p:nvPicPr>
          <p:cNvPr id="343" name="" descr=""/>
          <p:cNvPicPr/>
          <p:nvPr/>
        </p:nvPicPr>
        <p:blipFill>
          <a:blip r:embed="rId6"/>
          <a:stretch/>
        </p:blipFill>
        <p:spPr>
          <a:xfrm>
            <a:off x="5943600" y="4191120"/>
            <a:ext cx="162000" cy="152280"/>
          </a:xfrm>
          <a:prstGeom prst="rect">
            <a:avLst/>
          </a:prstGeom>
          <a:ln w="0">
            <a:noFill/>
          </a:ln>
        </p:spPr>
      </p:pic>
      <p:sp>
        <p:nvSpPr>
          <p:cNvPr id="344" name="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7"/>
          <a:stretch/>
        </p:blipFill>
        <p:spPr>
          <a:xfrm>
            <a:off x="6858000" y="6019920"/>
            <a:ext cx="162000" cy="152280"/>
          </a:xfrm>
          <a:prstGeom prst="rect">
            <a:avLst/>
          </a:prstGeom>
          <a:ln w="0">
            <a:noFill/>
          </a:ln>
        </p:spPr>
      </p:pic>
      <p:sp>
        <p:nvSpPr>
          <p:cNvPr id="346" name="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8"/>
          <a:stretch/>
        </p:blipFill>
        <p:spPr>
          <a:xfrm>
            <a:off x="7848720" y="6019920"/>
            <a:ext cx="161640" cy="15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3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9" dur="2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2" dur="2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5" dur="1000"/>
                                        <p:tgtEl>
                                          <p:spTgt spid="3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0" dur="1000"/>
                                        <p:tgtEl>
                                          <p:spTgt spid="3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6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9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2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7" dur="1000"/>
                                        <p:tgtEl>
                                          <p:spTgt spid="3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3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Усно.</a:t>
            </a: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Задача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962520" y="1447920"/>
            <a:ext cx="4952880" cy="44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Times New Roman"/>
              </a:rPr>
              <a:t>Дано: ABCD – рівнобічна трапеці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Times New Roman"/>
              </a:rPr>
              <a:t>Довести: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uk-UA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000000"/>
                </a:solidFill>
                <a:latin typeface="Times New Roman"/>
              </a:rPr>
              <a:t>Розв’язування: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AB = CD за умовою. CK = AB за побудовою, бо ABCK – паралелограм. Отже, CK = CD та    D =   CKD. Але    A та    CKD відповідні  кути при AB//CK та січній AK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Отже,    A =   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6248520" y="3809880"/>
            <a:ext cx="161640" cy="152640"/>
          </a:xfrm>
          <a:prstGeom prst="rect">
            <a:avLst/>
          </a:prstGeom>
          <a:ln w="0">
            <a:noFill/>
          </a:ln>
        </p:spPr>
      </p:pic>
      <p:sp>
        <p:nvSpPr>
          <p:cNvPr id="361" name="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228600" y="1371600"/>
            <a:ext cx="3505320" cy="2473200"/>
            <a:chOff x="228600" y="1371600"/>
            <a:chExt cx="3505320" cy="2473200"/>
          </a:xfrm>
        </p:grpSpPr>
        <p:sp>
          <p:nvSpPr>
            <p:cNvPr id="363" name=""/>
            <p:cNvSpPr/>
            <p:nvPr/>
          </p:nvSpPr>
          <p:spPr>
            <a:xfrm>
              <a:off x="2743200" y="1523880"/>
              <a:ext cx="412920" cy="41292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4" name=""/>
            <p:cNvGrpSpPr/>
            <p:nvPr/>
          </p:nvGrpSpPr>
          <p:grpSpPr>
            <a:xfrm>
              <a:off x="228600" y="1371600"/>
              <a:ext cx="3505320" cy="2473200"/>
              <a:chOff x="228600" y="1371600"/>
              <a:chExt cx="3505320" cy="2473200"/>
            </a:xfrm>
          </p:grpSpPr>
          <p:grpSp>
            <p:nvGrpSpPr>
              <p:cNvPr id="365" name=""/>
              <p:cNvGrpSpPr/>
              <p:nvPr/>
            </p:nvGrpSpPr>
            <p:grpSpPr>
              <a:xfrm>
                <a:off x="641160" y="1782720"/>
                <a:ext cx="2681640" cy="1444320"/>
                <a:chOff x="641160" y="1782720"/>
                <a:chExt cx="2681640" cy="1444320"/>
              </a:xfrm>
            </p:grpSpPr>
            <p:sp>
              <p:nvSpPr>
                <p:cNvPr id="366" name=""/>
                <p:cNvSpPr/>
                <p:nvPr/>
              </p:nvSpPr>
              <p:spPr>
                <a:xfrm>
                  <a:off x="1259640" y="1782720"/>
                  <a:ext cx="1443240" cy="4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>
                  <a:off x="641520" y="3225960"/>
                  <a:ext cx="2681280" cy="1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 flipH="1">
                  <a:off x="641160" y="1782720"/>
                  <a:ext cx="618120" cy="1443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>
                  <a:off x="2702880" y="1782720"/>
                  <a:ext cx="619560" cy="1443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 flipH="1">
                  <a:off x="2085120" y="1782720"/>
                  <a:ext cx="617760" cy="1443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71" name=""/>
              <p:cNvSpPr/>
              <p:nvPr/>
            </p:nvSpPr>
            <p:spPr>
              <a:xfrm>
                <a:off x="639720" y="1371600"/>
                <a:ext cx="414360" cy="411120"/>
              </a:xfrm>
              <a:prstGeom prst="rect">
                <a:avLst/>
              </a:prstGeom>
              <a:solidFill>
                <a:srgbClr val="ff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228600" y="3019320"/>
                <a:ext cx="412920" cy="414360"/>
              </a:xfrm>
              <a:prstGeom prst="rect">
                <a:avLst/>
              </a:prstGeom>
              <a:solidFill>
                <a:srgbClr val="ff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1878120" y="3432240"/>
                <a:ext cx="407880" cy="412560"/>
              </a:xfrm>
              <a:prstGeom prst="rect">
                <a:avLst/>
              </a:prstGeom>
              <a:solidFill>
                <a:srgbClr val="ff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K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3321000" y="3019320"/>
                <a:ext cx="412920" cy="412920"/>
              </a:xfrm>
              <a:prstGeom prst="rect">
                <a:avLst/>
              </a:prstGeom>
              <a:solidFill>
                <a:srgbClr val="ff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375" name="" descr=""/>
          <p:cNvPicPr/>
          <p:nvPr/>
        </p:nvPicPr>
        <p:blipFill>
          <a:blip r:embed="rId2"/>
          <a:stretch/>
        </p:blipFill>
        <p:spPr>
          <a:xfrm>
            <a:off x="5145120" y="1981080"/>
            <a:ext cx="165240" cy="152640"/>
          </a:xfrm>
          <a:prstGeom prst="rect">
            <a:avLst/>
          </a:prstGeom>
          <a:ln w="0">
            <a:noFill/>
          </a:ln>
        </p:spPr>
      </p:pic>
      <p:pic>
        <p:nvPicPr>
          <p:cNvPr id="376" name="" descr=""/>
          <p:cNvPicPr/>
          <p:nvPr/>
        </p:nvPicPr>
        <p:blipFill>
          <a:blip r:embed="rId3"/>
          <a:stretch/>
        </p:blipFill>
        <p:spPr>
          <a:xfrm>
            <a:off x="5753160" y="1981080"/>
            <a:ext cx="164880" cy="152640"/>
          </a:xfrm>
          <a:prstGeom prst="rect">
            <a:avLst/>
          </a:prstGeom>
          <a:ln w="0">
            <a:noFill/>
          </a:ln>
        </p:spPr>
      </p:pic>
      <p:pic>
        <p:nvPicPr>
          <p:cNvPr id="377" name="" descr=""/>
          <p:cNvPicPr/>
          <p:nvPr/>
        </p:nvPicPr>
        <p:blipFill>
          <a:blip r:embed="rId4"/>
          <a:stretch/>
        </p:blipFill>
        <p:spPr>
          <a:xfrm>
            <a:off x="6897600" y="3809880"/>
            <a:ext cx="162000" cy="152640"/>
          </a:xfrm>
          <a:prstGeom prst="rect">
            <a:avLst/>
          </a:prstGeom>
          <a:ln w="0">
            <a:noFill/>
          </a:ln>
        </p:spPr>
      </p:pic>
      <p:pic>
        <p:nvPicPr>
          <p:cNvPr id="378" name="" descr=""/>
          <p:cNvPicPr/>
          <p:nvPr/>
        </p:nvPicPr>
        <p:blipFill>
          <a:blip r:embed="rId5"/>
          <a:stretch/>
        </p:blipFill>
        <p:spPr>
          <a:xfrm>
            <a:off x="8381880" y="3809880"/>
            <a:ext cx="162000" cy="152640"/>
          </a:xfrm>
          <a:prstGeom prst="rect">
            <a:avLst/>
          </a:prstGeom>
          <a:ln w="0">
            <a:noFill/>
          </a:ln>
        </p:spPr>
      </p:pic>
      <p:pic>
        <p:nvPicPr>
          <p:cNvPr id="379" name="" descr=""/>
          <p:cNvPicPr/>
          <p:nvPr/>
        </p:nvPicPr>
        <p:blipFill>
          <a:blip r:embed="rId6"/>
          <a:stretch/>
        </p:blipFill>
        <p:spPr>
          <a:xfrm>
            <a:off x="4343400" y="4191120"/>
            <a:ext cx="162000" cy="152280"/>
          </a:xfrm>
          <a:prstGeom prst="rect">
            <a:avLst/>
          </a:prstGeom>
          <a:ln w="0">
            <a:noFill/>
          </a:ln>
        </p:spPr>
      </p:pic>
      <p:pic>
        <p:nvPicPr>
          <p:cNvPr id="380" name="" descr=""/>
          <p:cNvPicPr/>
          <p:nvPr/>
        </p:nvPicPr>
        <p:blipFill>
          <a:blip r:embed="rId7"/>
          <a:stretch/>
        </p:blipFill>
        <p:spPr>
          <a:xfrm>
            <a:off x="4800600" y="4911840"/>
            <a:ext cx="165240" cy="152280"/>
          </a:xfrm>
          <a:prstGeom prst="rect">
            <a:avLst/>
          </a:prstGeom>
          <a:ln w="0">
            <a:noFill/>
          </a:ln>
        </p:spPr>
      </p:pic>
      <p:pic>
        <p:nvPicPr>
          <p:cNvPr id="381" name="" descr=""/>
          <p:cNvPicPr/>
          <p:nvPr/>
        </p:nvPicPr>
        <p:blipFill>
          <a:blip r:embed="rId8"/>
          <a:stretch/>
        </p:blipFill>
        <p:spPr>
          <a:xfrm>
            <a:off x="5410080" y="4911840"/>
            <a:ext cx="165240" cy="15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0" dur="1000"/>
                                        <p:tgtEl>
                                          <p:spTgt spid="3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5" dur="1000"/>
                                        <p:tgtEl>
                                          <p:spTgt spid="3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8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4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2" dur="1000"/>
                                        <p:tgtEl>
                                          <p:spTgt spid="3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5" dur="1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8" dur="1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/>
          <p:nvPr/>
        </p:nvSpPr>
        <p:spPr>
          <a:xfrm>
            <a:off x="2286000" y="2438280"/>
            <a:ext cx="333360" cy="3384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33520" y="1905120"/>
            <a:ext cx="338040" cy="3366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1981080" y="1905120"/>
            <a:ext cx="509760" cy="3366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Усно.</a:t>
            </a: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Задача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4191120" y="1447920"/>
            <a:ext cx="4724280" cy="44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Times New Roman"/>
              </a:rPr>
              <a:t>Дано: ABCD – трапеція, CK = K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Times New Roman"/>
              </a:rPr>
              <a:t>Довести: BC = DM.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000000"/>
                </a:solidFill>
                <a:latin typeface="Times New Roman"/>
              </a:rPr>
              <a:t>Розв’язування: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CKB =   DKM, як вертикальні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СК = КD – за умовою.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ВСК =    КDМ, як внутрішні різносторонні при  паралельних ВС і АМ та січній С 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44560" y="2106720"/>
            <a:ext cx="1182600" cy="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338040" y="3290760"/>
            <a:ext cx="21970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37680" y="2106720"/>
            <a:ext cx="506520" cy="1184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2027160" y="2106720"/>
            <a:ext cx="507960" cy="1182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" y="3429000"/>
            <a:ext cx="338040" cy="33984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2438280" y="3352680"/>
            <a:ext cx="338400" cy="33984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44560" y="2106720"/>
            <a:ext cx="2873520" cy="1182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2535120" y="3289320"/>
            <a:ext cx="11829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429000" y="3352680"/>
            <a:ext cx="333360" cy="33984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8" name="" descr=""/>
          <p:cNvPicPr/>
          <p:nvPr/>
        </p:nvPicPr>
        <p:blipFill>
          <a:blip r:embed="rId1"/>
          <a:stretch/>
        </p:blipFill>
        <p:spPr>
          <a:xfrm>
            <a:off x="4191120" y="3083040"/>
            <a:ext cx="161640" cy="152280"/>
          </a:xfrm>
          <a:prstGeom prst="rect">
            <a:avLst/>
          </a:prstGeom>
          <a:ln w="0">
            <a:noFill/>
          </a:ln>
        </p:spPr>
      </p:pic>
      <p:pic>
        <p:nvPicPr>
          <p:cNvPr id="409" name="" descr=""/>
          <p:cNvPicPr/>
          <p:nvPr/>
        </p:nvPicPr>
        <p:blipFill>
          <a:blip r:embed="rId2"/>
          <a:stretch/>
        </p:blipFill>
        <p:spPr>
          <a:xfrm>
            <a:off x="5257800" y="3083040"/>
            <a:ext cx="162000" cy="152280"/>
          </a:xfrm>
          <a:prstGeom prst="rect">
            <a:avLst/>
          </a:prstGeom>
          <a:ln w="0">
            <a:noFill/>
          </a:ln>
        </p:spPr>
      </p:pic>
      <p:pic>
        <p:nvPicPr>
          <p:cNvPr id="410" name="" descr=""/>
          <p:cNvPicPr/>
          <p:nvPr/>
        </p:nvPicPr>
        <p:blipFill>
          <a:blip r:embed="rId3"/>
          <a:stretch/>
        </p:blipFill>
        <p:spPr>
          <a:xfrm>
            <a:off x="4191120" y="3809880"/>
            <a:ext cx="161640" cy="152640"/>
          </a:xfrm>
          <a:prstGeom prst="rect">
            <a:avLst/>
          </a:prstGeom>
          <a:ln w="0">
            <a:noFill/>
          </a:ln>
        </p:spPr>
      </p:pic>
      <p:pic>
        <p:nvPicPr>
          <p:cNvPr id="411" name="" descr=""/>
          <p:cNvPicPr/>
          <p:nvPr/>
        </p:nvPicPr>
        <p:blipFill>
          <a:blip r:embed="rId4"/>
          <a:stretch/>
        </p:blipFill>
        <p:spPr>
          <a:xfrm>
            <a:off x="5257800" y="3809880"/>
            <a:ext cx="162000" cy="1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5" dur="1000"/>
                                        <p:tgtEl>
                                          <p:spTgt spid="3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0" dur="1000"/>
                                        <p:tgtEl>
                                          <p:spTgt spid="3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3" dur="1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6" dur="1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1" dur="1000"/>
                                        <p:tgtEl>
                                          <p:spTgt spid="3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6" dur="1000"/>
                                        <p:tgtEl>
                                          <p:spTgt spid="3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9" dur="1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2" dur="1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891540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Задача 1.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овести, що середини сторін рівнобедреного трикутника разом з його вершиною, що лежить проти основи, є вершинами ромб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4724280" y="2057400"/>
            <a:ext cx="4191120" cy="45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000000"/>
                </a:solidFill>
                <a:latin typeface="Times New Roman"/>
              </a:rPr>
              <a:t>Розв’язування: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NP =     AB, бо NP – середня лінія </a:t>
            </a:r>
            <a:br>
              <a:rPr sz="2200"/>
            </a:b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трикутника. МN =    BС, отже, 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МN = NP = МВ = ВР. 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А чотирикутник, у якого всі </a:t>
            </a:r>
            <a:br>
              <a:rPr sz="2200"/>
            </a:b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сторони рівні – є ромб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5" name=""/>
          <p:cNvGrpSpPr/>
          <p:nvPr/>
        </p:nvGrpSpPr>
        <p:grpSpPr>
          <a:xfrm>
            <a:off x="533160" y="2057400"/>
            <a:ext cx="3354840" cy="2590560"/>
            <a:chOff x="533160" y="2057400"/>
            <a:chExt cx="3354840" cy="2590560"/>
          </a:xfrm>
        </p:grpSpPr>
        <p:grpSp>
          <p:nvGrpSpPr>
            <p:cNvPr id="426" name=""/>
            <p:cNvGrpSpPr/>
            <p:nvPr/>
          </p:nvGrpSpPr>
          <p:grpSpPr>
            <a:xfrm>
              <a:off x="533160" y="2210040"/>
              <a:ext cx="3353400" cy="1981440"/>
              <a:chOff x="533160" y="2210040"/>
              <a:chExt cx="3353400" cy="1981440"/>
            </a:xfrm>
          </p:grpSpPr>
          <p:sp>
            <p:nvSpPr>
              <p:cNvPr id="427" name=""/>
              <p:cNvSpPr/>
              <p:nvPr/>
            </p:nvSpPr>
            <p:spPr>
              <a:xfrm>
                <a:off x="533160" y="2210040"/>
                <a:ext cx="3353400" cy="1981440"/>
              </a:xfrm>
              <a:prstGeom prst="triangle">
                <a:avLst>
                  <a:gd name="adj" fmla="val 50000"/>
                </a:avLst>
              </a:prstGeom>
              <a:solidFill>
                <a:srgbClr val="ff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 flipH="1" flipV="1">
                <a:off x="1427040" y="3147840"/>
                <a:ext cx="782640" cy="1042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 flipV="1">
                <a:off x="2210040" y="3147840"/>
                <a:ext cx="782280" cy="1042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0" name=""/>
            <p:cNvSpPr/>
            <p:nvPr/>
          </p:nvSpPr>
          <p:spPr>
            <a:xfrm>
              <a:off x="533160" y="4343040"/>
              <a:ext cx="153720" cy="30492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2362680" y="2057400"/>
              <a:ext cx="153360" cy="30492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1142280" y="2819160"/>
              <a:ext cx="154440" cy="30492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124080" y="2819160"/>
              <a:ext cx="153360" cy="30492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Р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3733200" y="4343040"/>
              <a:ext cx="154800" cy="30492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2210040" y="4344480"/>
              <a:ext cx="153720" cy="30240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7" name="" descr=""/>
          <p:cNvPicPr/>
          <p:nvPr/>
        </p:nvPicPr>
        <p:blipFill>
          <a:blip r:embed="rId1"/>
          <a:stretch/>
        </p:blipFill>
        <p:spPr>
          <a:xfrm>
            <a:off x="5410080" y="2362320"/>
            <a:ext cx="238320" cy="609480"/>
          </a:xfrm>
          <a:prstGeom prst="rect">
            <a:avLst/>
          </a:prstGeom>
          <a:ln w="0">
            <a:noFill/>
          </a:ln>
        </p:spPr>
      </p:pic>
      <p:pic>
        <p:nvPicPr>
          <p:cNvPr id="438" name="" descr=""/>
          <p:cNvPicPr/>
          <p:nvPr/>
        </p:nvPicPr>
        <p:blipFill>
          <a:blip r:embed="rId2"/>
          <a:stretch/>
        </p:blipFill>
        <p:spPr>
          <a:xfrm>
            <a:off x="6934320" y="3124080"/>
            <a:ext cx="23796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9" dur="1000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4" dur="1000"/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7" dur="1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0" dur="1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5" dur="1000"/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0" dur="1000"/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Задача 2.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 паралелограмі  ABCD протилежні сторони BC і AD розділені точками L та  M відповідно пополам і ці точки з’єднані відрізками з кінцями сторін AD і BC. Довести, що утворений при перетині проведених відрізків чотирикутник – паралелогра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4343400" y="2743200"/>
            <a:ext cx="4572000" cy="38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000000"/>
                </a:solidFill>
                <a:latin typeface="Times New Roman"/>
              </a:rPr>
              <a:t>Розв’язування: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LC//AM та LC = AM – за умовою. За відповідністю чотирикутник, у якого дві сторони рівні й паралельні – паралелограм. LCMA – паралелог- рам. Отже, LK//MP. Аналогічно, LP//КM. Чотирикутник, у якого сторони лежать на  паралельних прямих, паралелограм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138960" y="3200400"/>
            <a:ext cx="3762000" cy="2784240"/>
            <a:chOff x="138960" y="3200400"/>
            <a:chExt cx="3762000" cy="2784240"/>
          </a:xfrm>
        </p:grpSpPr>
        <p:grpSp>
          <p:nvGrpSpPr>
            <p:cNvPr id="454" name=""/>
            <p:cNvGrpSpPr/>
            <p:nvPr/>
          </p:nvGrpSpPr>
          <p:grpSpPr>
            <a:xfrm>
              <a:off x="138960" y="3618360"/>
              <a:ext cx="3759840" cy="1948680"/>
              <a:chOff x="138960" y="3618360"/>
              <a:chExt cx="3759840" cy="1948680"/>
            </a:xfrm>
          </p:grpSpPr>
          <p:grpSp>
            <p:nvGrpSpPr>
              <p:cNvPr id="455" name=""/>
              <p:cNvGrpSpPr/>
              <p:nvPr/>
            </p:nvGrpSpPr>
            <p:grpSpPr>
              <a:xfrm>
                <a:off x="138960" y="3618360"/>
                <a:ext cx="3759840" cy="1948680"/>
                <a:chOff x="138960" y="3618360"/>
                <a:chExt cx="3759840" cy="1948680"/>
              </a:xfrm>
            </p:grpSpPr>
            <p:sp>
              <p:nvSpPr>
                <p:cNvPr id="456" name=""/>
                <p:cNvSpPr/>
                <p:nvPr/>
              </p:nvSpPr>
              <p:spPr>
                <a:xfrm>
                  <a:off x="138960" y="3618360"/>
                  <a:ext cx="3759840" cy="1948680"/>
                </a:xfrm>
                <a:prstGeom prst="parallelogram">
                  <a:avLst>
                    <a:gd name="adj" fmla="val 46771"/>
                  </a:avLst>
                </a:prstGeom>
                <a:solidFill>
                  <a:srgbClr val="ff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7" name=""/>
                <p:cNvSpPr/>
                <p:nvPr/>
              </p:nvSpPr>
              <p:spPr>
                <a:xfrm>
                  <a:off x="1078560" y="3618360"/>
                  <a:ext cx="586800" cy="1948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8" name=""/>
                <p:cNvSpPr/>
                <p:nvPr/>
              </p:nvSpPr>
              <p:spPr>
                <a:xfrm>
                  <a:off x="2370960" y="3618360"/>
                  <a:ext cx="586800" cy="1948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9" name=""/>
                <p:cNvSpPr/>
                <p:nvPr/>
              </p:nvSpPr>
              <p:spPr>
                <a:xfrm flipH="1">
                  <a:off x="138960" y="3618360"/>
                  <a:ext cx="2232000" cy="1948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60" name=""/>
              <p:cNvSpPr/>
              <p:nvPr/>
            </p:nvSpPr>
            <p:spPr>
              <a:xfrm flipH="1">
                <a:off x="1665360" y="3618360"/>
                <a:ext cx="2231280" cy="1948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1" name=""/>
            <p:cNvSpPr/>
            <p:nvPr/>
          </p:nvSpPr>
          <p:spPr>
            <a:xfrm>
              <a:off x="138960" y="5706360"/>
              <a:ext cx="139320" cy="27756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974160" y="3200400"/>
              <a:ext cx="140400" cy="27864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367000" y="3200400"/>
              <a:ext cx="141480" cy="27864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59840" y="3200400"/>
              <a:ext cx="141120" cy="27864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2924640" y="5706360"/>
              <a:ext cx="140400" cy="27828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531800" y="5706360"/>
              <a:ext cx="140400" cy="27828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74160" y="4313880"/>
              <a:ext cx="140400" cy="27864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2924640" y="4592880"/>
              <a:ext cx="140400" cy="27828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7" dur="1000"/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2" dur="5000"/>
                                        <p:tgtEl>
                                          <p:spTgt spid="4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380880" y="3886200"/>
            <a:ext cx="424080" cy="3888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3048120" y="3809880"/>
            <a:ext cx="426960" cy="3924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Задача 3.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вколо кола описана  рівнобічна трапеція, основи якої відносяться, як 2:3, а середня лінія 10 см. Знайти всі сторони трапеції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и говорили, що в трапецію можна  вписати коло, сума бічних сторін дорівнює сумі її основ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3886200" y="2514600"/>
            <a:ext cx="5029200" cy="368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000000"/>
                </a:solidFill>
                <a:latin typeface="Times New Roman"/>
              </a:rPr>
              <a:t>Розв’язування: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АВ + СD =ВС + АD. Нехай ВС = 2х см, АД =3х см. За теоремою про середню лінію трапеції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10 см, 5х = 20, х = 4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ВС = 2*4= 8 см,    АD= 3*4= 12 см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5" name=""/>
          <p:cNvGrpSpPr/>
          <p:nvPr/>
        </p:nvGrpSpPr>
        <p:grpSpPr>
          <a:xfrm>
            <a:off x="425520" y="3135240"/>
            <a:ext cx="2975040" cy="2028960"/>
            <a:chOff x="425520" y="3135240"/>
            <a:chExt cx="2975040" cy="2028960"/>
          </a:xfrm>
        </p:grpSpPr>
        <p:sp>
          <p:nvSpPr>
            <p:cNvPr id="486" name=""/>
            <p:cNvSpPr/>
            <p:nvPr/>
          </p:nvSpPr>
          <p:spPr>
            <a:xfrm rot="10800000">
              <a:off x="425520" y="3135240"/>
              <a:ext cx="2975040" cy="2028960"/>
            </a:xfrm>
            <a:custGeom>
              <a:avLst/>
              <a:gdLst>
                <a:gd name="textAreaLeft" fmla="*/ 654120 w 2975040"/>
                <a:gd name="textAreaRight" fmla="*/ 2320920 w 2975040"/>
                <a:gd name="textAreaTop" fmla="*/ 446040 h 2028960"/>
                <a:gd name="textAreaBottom" fmla="*/ 1582920 h 2028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849960" y="4118760"/>
              <a:ext cx="212544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8" name=""/>
          <p:cNvSpPr/>
          <p:nvPr/>
        </p:nvSpPr>
        <p:spPr>
          <a:xfrm>
            <a:off x="228600" y="5257800"/>
            <a:ext cx="638280" cy="39384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3124080" y="5257800"/>
            <a:ext cx="636840" cy="39384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1700280" y="4179960"/>
            <a:ext cx="638280" cy="39348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851040" y="2940120"/>
            <a:ext cx="210960" cy="39204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2763720" y="2940120"/>
            <a:ext cx="212760" cy="39204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4" name="" descr=""/>
          <p:cNvPicPr/>
          <p:nvPr/>
        </p:nvPicPr>
        <p:blipFill>
          <a:blip r:embed="rId1"/>
          <a:stretch/>
        </p:blipFill>
        <p:spPr>
          <a:xfrm>
            <a:off x="4430880" y="4572000"/>
            <a:ext cx="1195200" cy="7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1000"/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1000"/>
                                        <p:tgtEl>
                                          <p:spTgt spid="4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9" dur="1000"/>
                                        <p:tgtEl>
                                          <p:spTgt spid="4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2" dur="10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7" dur="1000"/>
                                        <p:tgtEl>
                                          <p:spTgt spid="4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2" dur="1000"/>
                                        <p:tgtEl>
                                          <p:spTgt spid="4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5" name=""/>
          <p:cNvGrpSpPr/>
          <p:nvPr/>
        </p:nvGrpSpPr>
        <p:grpSpPr>
          <a:xfrm>
            <a:off x="136440" y="1371600"/>
            <a:ext cx="3622680" cy="2438280"/>
            <a:chOff x="136440" y="1371600"/>
            <a:chExt cx="3622680" cy="2438280"/>
          </a:xfrm>
        </p:grpSpPr>
        <p:sp>
          <p:nvSpPr>
            <p:cNvPr id="496" name=""/>
            <p:cNvSpPr/>
            <p:nvPr/>
          </p:nvSpPr>
          <p:spPr>
            <a:xfrm>
              <a:off x="2971800" y="1371600"/>
              <a:ext cx="166680" cy="34308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7" name=""/>
            <p:cNvGrpSpPr/>
            <p:nvPr/>
          </p:nvGrpSpPr>
          <p:grpSpPr>
            <a:xfrm>
              <a:off x="171360" y="1485720"/>
              <a:ext cx="3587760" cy="1879920"/>
              <a:chOff x="171360" y="1485720"/>
              <a:chExt cx="3587760" cy="1879920"/>
            </a:xfrm>
          </p:grpSpPr>
          <p:sp>
            <p:nvSpPr>
              <p:cNvPr id="498" name=""/>
              <p:cNvSpPr/>
              <p:nvPr/>
            </p:nvSpPr>
            <p:spPr>
              <a:xfrm rot="10800000">
                <a:off x="171360" y="1485360"/>
                <a:ext cx="3587760" cy="1879560"/>
              </a:xfrm>
              <a:custGeom>
                <a:avLst/>
                <a:gdLst>
                  <a:gd name="textAreaLeft" fmla="*/ 769680 w 3587760"/>
                  <a:gd name="textAreaRight" fmla="*/ 2818080 w 3587760"/>
                  <a:gd name="textAreaTop" fmla="*/ 403200 h 1879560"/>
                  <a:gd name="textAreaBottom" fmla="*/ 1476360 h 1879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407" y="21600"/>
                    </a:lnTo>
                    <a:lnTo>
                      <a:pt x="5193" y="21600"/>
                    </a:lnTo>
                    <a:close/>
                  </a:path>
                </a:pathLst>
              </a:custGeom>
              <a:solidFill>
                <a:srgbClr val="ff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 flipH="1">
                <a:off x="2050560" y="1486080"/>
                <a:ext cx="853200" cy="1879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0" name=""/>
            <p:cNvSpPr/>
            <p:nvPr/>
          </p:nvSpPr>
          <p:spPr>
            <a:xfrm>
              <a:off x="762120" y="1371600"/>
              <a:ext cx="169920" cy="34128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136440" y="3467160"/>
              <a:ext cx="168480" cy="34272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3552840" y="3467160"/>
              <a:ext cx="168120" cy="34272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2050920" y="3467160"/>
              <a:ext cx="168480" cy="34272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341280" y="2168640"/>
              <a:ext cx="168480" cy="34128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2219400" y="2168640"/>
              <a:ext cx="169920" cy="34272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3416400" y="2168640"/>
              <a:ext cx="168120" cy="34272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2733840" y="2852640"/>
              <a:ext cx="341280" cy="34128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-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28600" y="3808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Задача 4.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будувати трапецію за основами і бічними сторонами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3733920" y="1600200"/>
            <a:ext cx="5410080" cy="368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000000"/>
                </a:solidFill>
                <a:latin typeface="Times New Roman"/>
              </a:rPr>
              <a:t>Розв’язування: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363600">
              <a:lnSpc>
                <a:spcPct val="11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дуємо              за трьома сторонами.</a:t>
            </a:r>
            <a:br>
              <a:rPr sz="2200"/>
            </a:br>
            <a:r>
              <a:rPr b="0" lang="uk-UA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363600">
              <a:lnSpc>
                <a:spcPct val="11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демо пряму                 та               .</a:t>
            </a:r>
            <a:br>
              <a:rPr sz="2200"/>
            </a:br>
            <a:r>
              <a:rPr b="0" lang="uk-UA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363600">
              <a:lnSpc>
                <a:spcPct val="11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ведення:                 та  </a:t>
            </a:r>
            <a:br>
              <a:rPr sz="2200"/>
            </a:b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як протилежні сторони паралелограма).</a:t>
            </a:r>
            <a:br>
              <a:rPr sz="2200"/>
            </a:br>
            <a:r>
              <a:rPr b="0" lang="uk-UA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363600">
              <a:lnSpc>
                <a:spcPct val="11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</a:rPr>
              <a:t>Трапецію                </a:t>
            </a: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побудовано.</a:t>
            </a:r>
            <a:br>
              <a:rPr sz="2200"/>
            </a:br>
            <a:r>
              <a:rPr b="0" lang="uk-UA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135000" y="4114800"/>
            <a:ext cx="3522600" cy="2440080"/>
            <a:chOff x="135000" y="4114800"/>
            <a:chExt cx="3522600" cy="2440080"/>
          </a:xfrm>
        </p:grpSpPr>
        <p:sp>
          <p:nvSpPr>
            <p:cNvPr id="524" name=""/>
            <p:cNvSpPr/>
            <p:nvPr/>
          </p:nvSpPr>
          <p:spPr>
            <a:xfrm>
              <a:off x="135000" y="6282000"/>
              <a:ext cx="271440" cy="27288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3386160" y="6282000"/>
              <a:ext cx="271440" cy="27288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760400" y="6282000"/>
              <a:ext cx="271440" cy="27288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7" name=""/>
            <p:cNvGrpSpPr/>
            <p:nvPr/>
          </p:nvGrpSpPr>
          <p:grpSpPr>
            <a:xfrm>
              <a:off x="135000" y="4114800"/>
              <a:ext cx="3387600" cy="2033640"/>
              <a:chOff x="135000" y="4114800"/>
              <a:chExt cx="3387600" cy="2033640"/>
            </a:xfrm>
          </p:grpSpPr>
          <p:grpSp>
            <p:nvGrpSpPr>
              <p:cNvPr id="528" name=""/>
              <p:cNvGrpSpPr/>
              <p:nvPr/>
            </p:nvGrpSpPr>
            <p:grpSpPr>
              <a:xfrm>
                <a:off x="135000" y="4385880"/>
                <a:ext cx="3387600" cy="1762560"/>
                <a:chOff x="135000" y="4385880"/>
                <a:chExt cx="3387600" cy="1762560"/>
              </a:xfrm>
            </p:grpSpPr>
            <p:sp>
              <p:nvSpPr>
                <p:cNvPr id="529" name=""/>
                <p:cNvSpPr/>
                <p:nvPr/>
              </p:nvSpPr>
              <p:spPr>
                <a:xfrm rot="10800000">
                  <a:off x="135000" y="4385880"/>
                  <a:ext cx="3387600" cy="1762200"/>
                </a:xfrm>
                <a:custGeom>
                  <a:avLst/>
                  <a:gdLst>
                    <a:gd name="textAreaLeft" fmla="*/ 726840 w 3387600"/>
                    <a:gd name="textAreaRight" fmla="*/ 2660760 w 3387600"/>
                    <a:gd name="textAreaTop" fmla="*/ 378000 h 1762200"/>
                    <a:gd name="textAreaBottom" fmla="*/ 1384200 h 17622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407" y="21600"/>
                      </a:lnTo>
                      <a:lnTo>
                        <a:pt x="5193" y="21600"/>
                      </a:lnTo>
                      <a:close/>
                    </a:path>
                  </a:pathLst>
                </a:custGeom>
                <a:solidFill>
                  <a:srgbClr val="ff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0" name=""/>
                <p:cNvSpPr/>
                <p:nvPr/>
              </p:nvSpPr>
              <p:spPr>
                <a:xfrm flipH="1">
                  <a:off x="1909440" y="4386240"/>
                  <a:ext cx="805680" cy="1762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31" name=""/>
              <p:cNvSpPr/>
              <p:nvPr/>
            </p:nvSpPr>
            <p:spPr>
              <a:xfrm>
                <a:off x="2844720" y="4114800"/>
                <a:ext cx="270000" cy="271440"/>
              </a:xfrm>
              <a:prstGeom prst="rect">
                <a:avLst/>
              </a:prstGeom>
              <a:solidFill>
                <a:srgbClr val="ff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676440" y="4114800"/>
                <a:ext cx="271440" cy="271440"/>
              </a:xfrm>
              <a:prstGeom prst="rect">
                <a:avLst/>
              </a:prstGeom>
              <a:solidFill>
                <a:srgbClr val="ff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uk-UA" sz="1800" spc="-1" strike="noStrike">
                    <a:solidFill>
                      <a:srgbClr val="000000"/>
                    </a:solidFill>
                    <a:latin typeface="Arial"/>
                  </a:rPr>
                  <a:t>В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676440" y="5199120"/>
                <a:ext cx="134640" cy="271440"/>
              </a:xfrm>
              <a:prstGeom prst="rect">
                <a:avLst/>
              </a:prstGeom>
              <a:solidFill>
                <a:srgbClr val="ff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2438280" y="5062680"/>
                <a:ext cx="133560" cy="272880"/>
              </a:xfrm>
              <a:prstGeom prst="rect">
                <a:avLst/>
              </a:prstGeom>
              <a:solidFill>
                <a:srgbClr val="ff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3251160" y="5062680"/>
                <a:ext cx="133560" cy="272880"/>
              </a:xfrm>
              <a:prstGeom prst="rect">
                <a:avLst/>
              </a:prstGeom>
              <a:solidFill>
                <a:srgbClr val="ff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2573280" y="5716800"/>
                <a:ext cx="474840" cy="295200"/>
              </a:xfrm>
              <a:prstGeom prst="rect">
                <a:avLst/>
              </a:prstGeom>
              <a:solidFill>
                <a:srgbClr val="ff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a-b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3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8" name="" descr=""/>
          <p:cNvPicPr/>
          <p:nvPr/>
        </p:nvPicPr>
        <p:blipFill>
          <a:blip r:embed="rId1"/>
          <a:stretch/>
        </p:blipFill>
        <p:spPr>
          <a:xfrm>
            <a:off x="5334120" y="2017800"/>
            <a:ext cx="914400" cy="344520"/>
          </a:xfrm>
          <a:prstGeom prst="rect">
            <a:avLst/>
          </a:prstGeom>
          <a:ln w="0">
            <a:noFill/>
          </a:ln>
        </p:spPr>
      </p:pic>
      <p:sp>
        <p:nvSpPr>
          <p:cNvPr id="539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0" name="" descr=""/>
          <p:cNvPicPr/>
          <p:nvPr/>
        </p:nvPicPr>
        <p:blipFill>
          <a:blip r:embed="rId2"/>
          <a:stretch/>
        </p:blipFill>
        <p:spPr>
          <a:xfrm>
            <a:off x="6485040" y="2778120"/>
            <a:ext cx="1049400" cy="306360"/>
          </a:xfrm>
          <a:prstGeom prst="rect">
            <a:avLst/>
          </a:prstGeom>
          <a:ln w="0">
            <a:noFill/>
          </a:ln>
        </p:spPr>
      </p:pic>
      <p:sp>
        <p:nvSpPr>
          <p:cNvPr id="541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" descr=""/>
          <p:cNvPicPr/>
          <p:nvPr/>
        </p:nvPicPr>
        <p:blipFill>
          <a:blip r:embed="rId3"/>
          <a:stretch/>
        </p:blipFill>
        <p:spPr>
          <a:xfrm>
            <a:off x="7924680" y="2819520"/>
            <a:ext cx="990720" cy="284040"/>
          </a:xfrm>
          <a:prstGeom prst="rect">
            <a:avLst/>
          </a:prstGeom>
          <a:ln w="0">
            <a:noFill/>
          </a:ln>
        </p:spPr>
      </p:pic>
      <p:sp>
        <p:nvSpPr>
          <p:cNvPr id="54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4" name="" descr=""/>
          <p:cNvPicPr/>
          <p:nvPr/>
        </p:nvPicPr>
        <p:blipFill>
          <a:blip r:embed="rId4"/>
          <a:stretch/>
        </p:blipFill>
        <p:spPr>
          <a:xfrm>
            <a:off x="5715000" y="3540240"/>
            <a:ext cx="1066680" cy="291960"/>
          </a:xfrm>
          <a:prstGeom prst="rect">
            <a:avLst/>
          </a:prstGeom>
          <a:ln w="0">
            <a:noFill/>
          </a:ln>
        </p:spPr>
      </p:pic>
      <p:sp>
        <p:nvSpPr>
          <p:cNvPr id="54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6" name="" descr=""/>
          <p:cNvPicPr/>
          <p:nvPr/>
        </p:nvPicPr>
        <p:blipFill>
          <a:blip r:embed="rId5"/>
          <a:stretch/>
        </p:blipFill>
        <p:spPr>
          <a:xfrm>
            <a:off x="7238880" y="3540240"/>
            <a:ext cx="1067040" cy="291960"/>
          </a:xfrm>
          <a:prstGeom prst="rect">
            <a:avLst/>
          </a:prstGeom>
          <a:ln w="0">
            <a:noFill/>
          </a:ln>
        </p:spPr>
      </p:pic>
      <p:sp>
        <p:nvSpPr>
          <p:cNvPr id="547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8" name="" descr=""/>
          <p:cNvPicPr/>
          <p:nvPr/>
        </p:nvPicPr>
        <p:blipFill>
          <a:blip r:embed="rId6"/>
          <a:stretch/>
        </p:blipFill>
        <p:spPr>
          <a:xfrm>
            <a:off x="5486400" y="4572000"/>
            <a:ext cx="914400" cy="3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9" dur="1000"/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4" dur="1000"/>
                                        <p:tgtEl>
                                          <p:spTgt spid="5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7" dur="1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2" dur="1000"/>
                                        <p:tgtEl>
                                          <p:spTgt spid="5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5" dur="1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8" dur="10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3" dur="1000"/>
                                        <p:tgtEl>
                                          <p:spTgt spid="5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8" dur="1000"/>
                                        <p:tgtEl>
                                          <p:spTgt spid="5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1" dur="10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4" dur="10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7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2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Arial"/>
              </a:rPr>
              <a:t>Самостійна робота</a:t>
            </a: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 u="sng">
                <a:solidFill>
                  <a:srgbClr val="000000"/>
                </a:solidFill>
                <a:uFillTx/>
                <a:latin typeface="Arial"/>
              </a:rPr>
              <a:t>1 варіант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У прямокутнику кут між діагоналями становить 120°. Обчисліть кут між діагоналлю прямокутника і меншою стороною прямокутника.</a:t>
            </a:r>
            <a:br>
              <a:rPr sz="2800"/>
            </a:b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 u="sng">
                <a:solidFill>
                  <a:srgbClr val="000000"/>
                </a:solidFill>
                <a:uFillTx/>
                <a:latin typeface="Arial"/>
              </a:rPr>
              <a:t>2 варіант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У рівнобедреній трапецій більша основа дорівнює 3,7 дм, бічна сторона дорівнює </a:t>
            </a:r>
            <a:br>
              <a:rPr sz="2800"/>
            </a:b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1,5 дм, а кут між ними 60°. Обчисліть середню лінію трапеції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Arial"/>
              </a:rPr>
              <a:t>Завдання додому:</a:t>
            </a: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Повторити пункти 50-60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Скласти 2 задачі за таблицею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Точка перетину діагоналей чотирикутника рівновіддалена від його сторін. Довести, що цей чотирикутник ромб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72 (на побудову трапеції за основами і діагоналями)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Задача № 69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190760" y="1294920"/>
            <a:ext cx="4724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601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Дано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BCD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 – трапеція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N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 – середня  лінія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N 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= 7см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1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 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C 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= 4 см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1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Знайти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основи  трапеції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1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1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Arial"/>
              </a:rPr>
              <a:t>Розв’язуванн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1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= х см, тоді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= (х + 4) см. За теоремою про середню лінію трапеції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1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1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(см)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1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1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C 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= 5 см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1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 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= 9 с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0" y="1790640"/>
            <a:ext cx="4003200" cy="2477880"/>
            <a:chOff x="0" y="1790640"/>
            <a:chExt cx="4003200" cy="2477880"/>
          </a:xfrm>
        </p:grpSpPr>
        <p:grpSp>
          <p:nvGrpSpPr>
            <p:cNvPr id="214" name=""/>
            <p:cNvGrpSpPr/>
            <p:nvPr/>
          </p:nvGrpSpPr>
          <p:grpSpPr>
            <a:xfrm>
              <a:off x="380880" y="2171880"/>
              <a:ext cx="3428640" cy="1905480"/>
              <a:chOff x="380880" y="2171880"/>
              <a:chExt cx="3428640" cy="1905480"/>
            </a:xfrm>
          </p:grpSpPr>
          <p:sp>
            <p:nvSpPr>
              <p:cNvPr id="215" name=""/>
              <p:cNvSpPr/>
              <p:nvPr/>
            </p:nvSpPr>
            <p:spPr>
              <a:xfrm rot="10800000">
                <a:off x="380880" y="2171520"/>
                <a:ext cx="3428640" cy="1905480"/>
              </a:xfrm>
              <a:prstGeom prst="flowChartManualOperation">
                <a:avLst/>
              </a:prstGeom>
              <a:solidFill>
                <a:srgbClr val="ff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761760" y="3124080"/>
                <a:ext cx="2666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0" y="3886920"/>
              <a:ext cx="380880" cy="38160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90440" y="2933640"/>
              <a:ext cx="380880" cy="38124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60680" y="1790640"/>
              <a:ext cx="191880" cy="38160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237840" y="1790640"/>
              <a:ext cx="193320" cy="38160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619080" y="2933640"/>
              <a:ext cx="193680" cy="38412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809880" y="3886920"/>
              <a:ext cx="193320" cy="38160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4876920" y="4495680"/>
            <a:ext cx="3276360" cy="69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1143000" y="1371600"/>
            <a:ext cx="6883560" cy="516240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304920" y="228600"/>
            <a:ext cx="8534160" cy="1676520"/>
          </a:xfrm>
          <a:prstGeom prst="rect">
            <a:avLst/>
          </a:prstGeom>
        </p:spPr>
        <p:txBody>
          <a:bodyPr wrap="none" lIns="0" rIns="0" tIns="0" bIns="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Геометрія допомагає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будувати і жити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2057400" y="0"/>
            <a:ext cx="5372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4000680" cy="449568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2"/>
          <a:srcRect l="0" t="0" r="139" b="0"/>
          <a:stretch/>
        </p:blipFill>
        <p:spPr>
          <a:xfrm>
            <a:off x="4343400" y="1143000"/>
            <a:ext cx="4476600" cy="551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0" y="2666880"/>
            <a:ext cx="4952880" cy="400392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2666880" y="228600"/>
            <a:ext cx="647712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Повторюємо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Що таке чотирикутник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Назвати види чотирикутників, які ми вивчи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Дати означення паралелограма і сформулювати його властивості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Дати означення прямокутника і сформулювати його властивості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Дати означення ромба і сформулювати його властивості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Означення і властивості квадра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Квадрат має властивості прямокутника і ромб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Який чотирикутник називається трапецією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Сформулювати теорему про середню лінію трапеції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Сформулювати теорему Фалеса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20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20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20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20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20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20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20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20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20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Чотирикутники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Опорні задачі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179280" indent="3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Якщо в чотирикутнику дві сторони рівні і паралельні, то він є паралелограмом.</a:t>
            </a:r>
            <a:br>
              <a:rPr sz="2800"/>
            </a:b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3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Якщо протилежні сторони чотирикутника попарно рівні, то цей чотирикутник паралелограм.</a:t>
            </a:r>
            <a:br>
              <a:rPr sz="2800"/>
            </a:b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3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Чотирикутник, в якого всі сторони рівні, є ромбом.</a:t>
            </a:r>
            <a:br>
              <a:rPr sz="2800"/>
            </a:b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3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Якщо в паралелограма діагоналі рівні, то він є прямокутником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" dur="20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" dur="2000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" dur="2000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" dur="2000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школа</cp:lastModifiedBy>
  <dcterms:modified xsi:type="dcterms:W3CDTF">2011-03-22T10:05:32Z</dcterms:modified>
  <cp:revision>5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d408000000000001024140</vt:lpwstr>
  </property>
  <property fmtid="{D5CDD505-2E9C-101B-9397-08002B2CF9AE}" pid="3" name="Version">
    <vt:r8>1</vt:r8>
  </property>
</Properties>
</file>