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3.wmf" ContentType="image/x-wmf"/>
  <Override PartName="/ppt/media/image6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6C5B-1014-4526-9072-500BA007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0C9F-A538-4FAD-8657-ACA011E2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12C-AC6F-498B-BC3C-76586C3D1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3EA-FD07-4985-AEA5-D777D965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0459-8107-48E9-A8EC-FE6B7D84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3629-EB54-48B1-B5C7-67915FDB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E65F-E4B3-4335-9CD4-79186B7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8C9A-546D-4ABF-8BC2-E34FEE2D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F6BB-BA05-4E4E-BF5C-FB37C5A9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0563-1D62-4ABF-AF3D-649E1E43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A2C7-8501-4E88-B9DA-4578B6FB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925-CA7C-4656-B564-4B9618AF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D57F-AFBB-41F5-B419-815AE080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89F0-C02D-4FC1-94A8-83242FCD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3B5FA-975D-4A20-8389-7B440D0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A8D2-4FD5-425D-B1E3-FFE8C221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F590C-08AC-45BB-BE97-61B16EB4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5C3D1-98F2-4E0B-88C1-75DE8CA3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7F1F-B886-497E-8BFC-E81A8FA2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C1D1A-28A1-4FDD-BC48-3805BD71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85B14-457C-426E-9799-70BC5BA7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C75AE-B2A0-45E7-8C5B-6BACEA06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D92-2D72-43D9-A702-CEF736A7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3D666-D641-4F2B-BF9D-03C46E18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38C58-9E6A-42AD-A153-B701AB8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2C43-1436-443A-B9C5-8E55390C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4E90-0103-48AF-A23D-8EEB33521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3AA9-3EC0-4358-9FEB-00B46934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E4BAD-38E8-4B52-96B5-64D8BF27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C6C6B-85FF-45E6-B06E-C23BAB67E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5D1-1277-4D1C-B9E5-5FD1A8E6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92C-0EC6-4884-AE27-B56D9967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916-3338-451A-BB86-7ABD7865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2A3-D153-4541-B9A8-927AE30D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AB3-66AF-48BA-80C4-AAAE797F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B77C-B843-4D2F-911D-1A8E403B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1226-9BE8-4E1C-ADF6-CDF80FC83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ff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5FC2-1269-4DDB-B95B-4CFAAF63B42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6839-1299-4519-9B35-B8769B878FD2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90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99ff"/>
                </a:gs>
                <a:gs pos="100000">
                  <a:srgbClr val="ff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ffcc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7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omic Sans MS"/>
              </a:rPr>
              <a:t>Чотирикутники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61960" y="411480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Презентацію підготувал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вчитель математик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ЗШ </a:t>
            </a:r>
            <a:r>
              <a:rPr b="0" lang="en-US" sz="2400" spc="-1" strike="noStrike">
                <a:solidFill>
                  <a:srgbClr val="292929"/>
                </a:solidFill>
                <a:latin typeface="Comic Sans MS"/>
              </a:rPr>
              <a:t>I-III </a:t>
            </a: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ступенів №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м. Білої Церкв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Comic Sans MS"/>
              </a:rPr>
              <a:t>Ільніцька Л.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3810240" cy="31431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43200" y="3581280"/>
            <a:ext cx="3886200" cy="298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6477120" y="380880"/>
            <a:ext cx="236196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28600" y="2716200"/>
            <a:ext cx="5257800" cy="3951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5257800" y="228600"/>
            <a:ext cx="3657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взаємно-перпендикулярні, то він є ром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що в паралелограмі всі кути прямі, то це буде прямокут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ередини сторін чотирикутника є вершинами паралелограм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івнобедреній трапеції кути при основі рівні і діагоналі рівні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вписаного в коло, сума протилежних кутів дорівнює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spcBef>
                <a:spcPts val="24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чотирикутника, описаного навколо кола, суми довжин протилежних сторін однакові.</a:t>
            </a:r>
            <a:br>
              <a:rPr sz="2400"/>
            </a:br>
            <a:br>
              <a:rPr sz="1000"/>
            </a:b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2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и правильні твердження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паралелограмі діагоналі не рівні,то він не може бути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Кожний квадрат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ромб, який є прямокутник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Ніякий прямокутник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Існує квадрат, який не є ромб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Дайте відповідь на запитання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Назвіть спільні властивості трапеції і ромб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му теорему про середню лінію трапеції можна перенести на довільний паралелогра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існує трапеція, у якої два протилежні кути гострі? У якої два протилежні кути прямі?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и можна побудувати трапецію  з трьома прямими кутам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2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838080"/>
          <a:ext cx="8686800" cy="462456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456840">
                <a:tc rowSpan="2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отирикут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попарно паралель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кути прям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і сторон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ділить на два рівні трику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лежні сторони рівні між собою, протилежні кути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228600" y="990720"/>
          <a:ext cx="8686800" cy="3998880"/>
        </p:xfrm>
        <a:graphic>
          <a:graphicData uri="http://schemas.openxmlformats.org/drawingml/2006/table">
            <a:tbl>
              <a:tblPr/>
              <a:tblGrid>
                <a:gridCol w="528480"/>
                <a:gridCol w="3667320"/>
                <a:gridCol w="1108080"/>
                <a:gridCol w="1173240"/>
                <a:gridCol w="1104840"/>
                <a:gridCol w="1104840"/>
              </a:tblGrid>
              <a:tr h="380160"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ластивост</a:t>
                      </a: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</a:t>
                      </a: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и фігу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парале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990033"/>
                          </a:solidFill>
                          <a:latin typeface="Times New Roman"/>
                          <a:ea typeface="Times New Roman"/>
                        </a:rPr>
                        <a:t>гр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ямоку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ром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квадр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351000" indent="-1684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ь в точці їх перетину діляться попол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а кутів,прилеглих до однієї сторони, дорівнює180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рів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взаємно перпендикулярн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0" rIns="0" tIns="0" bIns="0" anchor="t">
                      <a:noAutofit/>
                    </a:bodyPr>
                    <a:p>
                      <a:pPr marL="533520" indent="-3510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іагоналі є бісектрисами куті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Розв’яжіть задачі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89120" indent="-6066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що в означенні поняття «квадрат» не брати до уваги ознаку 4, то яке ми одержимо поняття? 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9120" indent="-60660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Які ознаки включити в паралелограм, щоб отримати поняття «квадрат».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64600" y="1109160"/>
            <a:ext cx="3411000" cy="2652840"/>
            <a:chOff x="264600" y="1109160"/>
            <a:chExt cx="3411000" cy="2652840"/>
          </a:xfrm>
        </p:grpSpPr>
        <p:sp>
          <p:nvSpPr>
            <p:cNvPr id="253" name=""/>
            <p:cNvSpPr/>
            <p:nvPr/>
          </p:nvSpPr>
          <p:spPr>
            <a:xfrm rot="187800">
              <a:off x="273240" y="141588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7800">
              <a:off x="570960" y="3087360"/>
              <a:ext cx="194760" cy="336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5410400">
              <a:off x="909000" y="1301040"/>
              <a:ext cx="2193840" cy="2269080"/>
            </a:xfrm>
            <a:prstGeom prst="parallelogram">
              <a:avLst>
                <a:gd name="adj" fmla="val 26949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1067040" y="1697040"/>
              <a:ext cx="1334880" cy="144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1320" y="1603080"/>
              <a:ext cx="2430720" cy="165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7800">
              <a:off x="3174840" y="1574640"/>
              <a:ext cx="194760" cy="338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7800">
              <a:off x="3471840" y="326340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7800">
              <a:off x="3083400" y="3344040"/>
              <a:ext cx="19476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7800">
              <a:off x="1761120" y="2584800"/>
              <a:ext cx="196920" cy="338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7800">
              <a:off x="375120" y="1440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187800">
              <a:off x="2257200" y="1314720"/>
              <a:ext cx="194760" cy="336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343400" y="1447920"/>
            <a:ext cx="396252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бі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ектриса   А,  BN – бісектриса    В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N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M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,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ON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= 90º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419720" y="35002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791320" y="228600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6477120" y="194616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867280" y="2514600"/>
            <a:ext cx="223920" cy="237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6019920" y="354024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10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1447920"/>
            <a:ext cx="3962520" cy="46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рямокутник. Довести: АЕ = С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відрізки між паралельними сторонами і проходять через точку перетину діагоналей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, як діагоналі прямокутника і в точці перетину діляться по пол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як вертикальні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отже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K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228600" y="1219320"/>
            <a:ext cx="3649320" cy="1898280"/>
            <a:chOff x="228600" y="1219320"/>
            <a:chExt cx="3649320" cy="1898280"/>
          </a:xfrm>
        </p:grpSpPr>
        <p:grpSp>
          <p:nvGrpSpPr>
            <p:cNvPr id="281" name=""/>
            <p:cNvGrpSpPr/>
            <p:nvPr/>
          </p:nvGrpSpPr>
          <p:grpSpPr>
            <a:xfrm>
              <a:off x="565200" y="1408320"/>
              <a:ext cx="2850840" cy="1516320"/>
              <a:chOff x="565200" y="1408320"/>
              <a:chExt cx="2850840" cy="1516320"/>
            </a:xfrm>
          </p:grpSpPr>
          <p:sp>
            <p:nvSpPr>
              <p:cNvPr id="282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65200" y="1408320"/>
                <a:ext cx="2850840" cy="151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565200" y="1785960"/>
                <a:ext cx="2850840" cy="75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>
              <a:off x="1903680" y="2357280"/>
              <a:ext cx="168480" cy="3801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" y="273564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" y="1219320"/>
              <a:ext cx="168840" cy="37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579840" y="1221120"/>
              <a:ext cx="17028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579840" y="273780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8600" y="2166840"/>
              <a:ext cx="168840" cy="3798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9840" y="1601280"/>
              <a:ext cx="298080" cy="6890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2052720" cy="39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1000"/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4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A,       B,      C,     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як кути при основ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внобедреного трикутни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як внутрішн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різносторонні при паралельних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і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та січні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=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=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°.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+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0" y="1905120"/>
            <a:ext cx="4419360" cy="2430720"/>
            <a:chOff x="0" y="1905120"/>
            <a:chExt cx="4419360" cy="2430720"/>
          </a:xfrm>
        </p:grpSpPr>
        <p:sp>
          <p:nvSpPr>
            <p:cNvPr id="138" name=""/>
            <p:cNvSpPr/>
            <p:nvPr/>
          </p:nvSpPr>
          <p:spPr>
            <a:xfrm rot="10800000">
              <a:off x="441360" y="2345040"/>
              <a:ext cx="3531960" cy="1769400"/>
            </a:xfrm>
            <a:custGeom>
              <a:avLst/>
              <a:gdLst>
                <a:gd name="textAreaLeft" fmla="*/ 776520 w 3531960"/>
                <a:gd name="textAreaRight" fmla="*/ 2755440 w 3531960"/>
                <a:gd name="textAreaTop" fmla="*/ 389160 h 1769400"/>
                <a:gd name="textAreaBottom" fmla="*/ 1380240 h 176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41720" y="2345400"/>
              <a:ext cx="2651040" cy="176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7920" y="234576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8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12360" y="3009240"/>
              <a:ext cx="219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3893760"/>
              <a:ext cx="44172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82360" y="1905120"/>
              <a:ext cx="443880" cy="4424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93120" y="1905120"/>
              <a:ext cx="222480" cy="440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75480" y="3893760"/>
              <a:ext cx="443880" cy="442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562360" y="1828800"/>
            <a:ext cx="114480" cy="114480"/>
            <a:chOff x="5562360" y="1828800"/>
            <a:chExt cx="114480" cy="114480"/>
          </a:xfrm>
        </p:grpSpPr>
        <p:sp>
          <p:nvSpPr>
            <p:cNvPr id="149" name=""/>
            <p:cNvSpPr/>
            <p:nvPr/>
          </p:nvSpPr>
          <p:spPr>
            <a:xfrm flipH="1">
              <a:off x="5562360" y="18288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62720" y="19432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324480" y="1828800"/>
            <a:ext cx="114480" cy="114480"/>
            <a:chOff x="6324480" y="1828800"/>
            <a:chExt cx="114480" cy="114480"/>
          </a:xfrm>
        </p:grpSpPr>
        <p:sp>
          <p:nvSpPr>
            <p:cNvPr id="152" name=""/>
            <p:cNvSpPr/>
            <p:nvPr/>
          </p:nvSpPr>
          <p:spPr>
            <a:xfrm flipH="1">
              <a:off x="63244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010280" y="1828800"/>
            <a:ext cx="114480" cy="114480"/>
            <a:chOff x="7010280" y="1828800"/>
            <a:chExt cx="114480" cy="114480"/>
          </a:xfrm>
        </p:grpSpPr>
        <p:sp>
          <p:nvSpPr>
            <p:cNvPr id="155" name=""/>
            <p:cNvSpPr/>
            <p:nvPr/>
          </p:nvSpPr>
          <p:spPr>
            <a:xfrm flipH="1">
              <a:off x="70102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102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696080" y="1828800"/>
            <a:ext cx="114480" cy="114480"/>
            <a:chOff x="7696080" y="1828800"/>
            <a:chExt cx="114480" cy="114480"/>
          </a:xfrm>
        </p:grpSpPr>
        <p:sp>
          <p:nvSpPr>
            <p:cNvPr id="158" name=""/>
            <p:cNvSpPr/>
            <p:nvPr/>
          </p:nvSpPr>
          <p:spPr>
            <a:xfrm flipH="1">
              <a:off x="7696080" y="18288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96080" y="19432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495680" y="2743200"/>
            <a:ext cx="114480" cy="114480"/>
            <a:chOff x="4495680" y="2743200"/>
            <a:chExt cx="114480" cy="114480"/>
          </a:xfrm>
        </p:grpSpPr>
        <p:sp>
          <p:nvSpPr>
            <p:cNvPr id="161" name=""/>
            <p:cNvSpPr/>
            <p:nvPr/>
          </p:nvSpPr>
          <p:spPr>
            <a:xfrm flipH="1">
              <a:off x="449568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9568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486400" y="2743200"/>
            <a:ext cx="114480" cy="114480"/>
            <a:chOff x="5486400" y="2743200"/>
            <a:chExt cx="114480" cy="114480"/>
          </a:xfrm>
        </p:grpSpPr>
        <p:sp>
          <p:nvSpPr>
            <p:cNvPr id="164" name=""/>
            <p:cNvSpPr/>
            <p:nvPr/>
          </p:nvSpPr>
          <p:spPr>
            <a:xfrm flipH="1">
              <a:off x="5486400" y="27432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86400" y="28576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495680" y="3352680"/>
            <a:ext cx="114480" cy="114480"/>
            <a:chOff x="4495680" y="3352680"/>
            <a:chExt cx="114480" cy="114480"/>
          </a:xfrm>
        </p:grpSpPr>
        <p:sp>
          <p:nvSpPr>
            <p:cNvPr id="167" name=""/>
            <p:cNvSpPr/>
            <p:nvPr/>
          </p:nvSpPr>
          <p:spPr>
            <a:xfrm flipH="1">
              <a:off x="4495680" y="33526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95680" y="34671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5562360" y="3352680"/>
            <a:ext cx="114480" cy="114480"/>
            <a:chOff x="5562360" y="3352680"/>
            <a:chExt cx="114480" cy="114480"/>
          </a:xfrm>
        </p:grpSpPr>
        <p:sp>
          <p:nvSpPr>
            <p:cNvPr id="170" name=""/>
            <p:cNvSpPr/>
            <p:nvPr/>
          </p:nvSpPr>
          <p:spPr>
            <a:xfrm flipH="1">
              <a:off x="5562360" y="33526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34671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495680" y="4572000"/>
            <a:ext cx="114480" cy="114480"/>
            <a:chOff x="4495680" y="4572000"/>
            <a:chExt cx="114480" cy="114480"/>
          </a:xfrm>
        </p:grpSpPr>
        <p:sp>
          <p:nvSpPr>
            <p:cNvPr id="173" name=""/>
            <p:cNvSpPr/>
            <p:nvPr/>
          </p:nvSpPr>
          <p:spPr>
            <a:xfrm flipH="1">
              <a:off x="44956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956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257800" y="4267080"/>
            <a:ext cx="114480" cy="114480"/>
            <a:chOff x="5257800" y="4267080"/>
            <a:chExt cx="114480" cy="114480"/>
          </a:xfrm>
        </p:grpSpPr>
        <p:sp>
          <p:nvSpPr>
            <p:cNvPr id="176" name=""/>
            <p:cNvSpPr/>
            <p:nvPr/>
          </p:nvSpPr>
          <p:spPr>
            <a:xfrm flipH="1">
              <a:off x="5257800" y="4267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57800" y="4381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248160" y="4267080"/>
            <a:ext cx="114480" cy="114480"/>
            <a:chOff x="6248160" y="4267080"/>
            <a:chExt cx="114480" cy="114480"/>
          </a:xfrm>
        </p:grpSpPr>
        <p:sp>
          <p:nvSpPr>
            <p:cNvPr id="179" name=""/>
            <p:cNvSpPr/>
            <p:nvPr/>
          </p:nvSpPr>
          <p:spPr>
            <a:xfrm flipH="1">
              <a:off x="6248160" y="4267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4381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920" y="4648320"/>
            <a:ext cx="81532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Отже,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x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=2*3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6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60°,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180° - 6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А і   В – внутрішні односторонні кути.   С= 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+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°=120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05160" y="4572000"/>
            <a:ext cx="114480" cy="114480"/>
            <a:chOff x="5105160" y="4572000"/>
            <a:chExt cx="114480" cy="114480"/>
          </a:xfrm>
        </p:grpSpPr>
        <p:sp>
          <p:nvSpPr>
            <p:cNvPr id="183" name=""/>
            <p:cNvSpPr/>
            <p:nvPr/>
          </p:nvSpPr>
          <p:spPr>
            <a:xfrm flipH="1">
              <a:off x="5105160" y="457200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5520" y="468648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10280" y="4572000"/>
            <a:ext cx="114480" cy="114480"/>
            <a:chOff x="7010280" y="4572000"/>
            <a:chExt cx="114480" cy="114480"/>
          </a:xfrm>
        </p:grpSpPr>
        <p:sp>
          <p:nvSpPr>
            <p:cNvPr id="186" name=""/>
            <p:cNvSpPr/>
            <p:nvPr/>
          </p:nvSpPr>
          <p:spPr>
            <a:xfrm flipH="1">
              <a:off x="70102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0102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8600" y="5410080"/>
            <a:ext cx="114480" cy="114480"/>
            <a:chOff x="228600" y="5410080"/>
            <a:chExt cx="114480" cy="114480"/>
          </a:xfrm>
        </p:grpSpPr>
        <p:sp>
          <p:nvSpPr>
            <p:cNvPr id="189" name=""/>
            <p:cNvSpPr/>
            <p:nvPr/>
          </p:nvSpPr>
          <p:spPr>
            <a:xfrm flipH="1">
              <a:off x="2286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286000" y="5410080"/>
            <a:ext cx="114480" cy="114480"/>
            <a:chOff x="2286000" y="5410080"/>
            <a:chExt cx="114480" cy="114480"/>
          </a:xfrm>
        </p:grpSpPr>
        <p:sp>
          <p:nvSpPr>
            <p:cNvPr id="192" name=""/>
            <p:cNvSpPr/>
            <p:nvPr/>
          </p:nvSpPr>
          <p:spPr>
            <a:xfrm flipH="1">
              <a:off x="2286000" y="541008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86000" y="552456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504960" y="5410080"/>
            <a:ext cx="114480" cy="114480"/>
            <a:chOff x="3504960" y="5410080"/>
            <a:chExt cx="114480" cy="114480"/>
          </a:xfrm>
        </p:grpSpPr>
        <p:sp>
          <p:nvSpPr>
            <p:cNvPr id="195" name=""/>
            <p:cNvSpPr/>
            <p:nvPr/>
          </p:nvSpPr>
          <p:spPr>
            <a:xfrm flipH="1">
              <a:off x="3504960" y="5410080"/>
              <a:ext cx="11412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05320" y="552456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04560" y="6019920"/>
            <a:ext cx="114480" cy="114120"/>
            <a:chOff x="304560" y="6019920"/>
            <a:chExt cx="114480" cy="114120"/>
          </a:xfrm>
        </p:grpSpPr>
        <p:sp>
          <p:nvSpPr>
            <p:cNvPr id="198" name=""/>
            <p:cNvSpPr/>
            <p:nvPr/>
          </p:nvSpPr>
          <p:spPr>
            <a:xfrm flipH="1">
              <a:off x="304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838080" y="6019920"/>
            <a:ext cx="114480" cy="114120"/>
            <a:chOff x="838080" y="6019920"/>
            <a:chExt cx="114480" cy="114120"/>
          </a:xfrm>
        </p:grpSpPr>
        <p:sp>
          <p:nvSpPr>
            <p:cNvPr id="201" name=""/>
            <p:cNvSpPr/>
            <p:nvPr/>
          </p:nvSpPr>
          <p:spPr>
            <a:xfrm flipH="1">
              <a:off x="838080" y="6019920"/>
              <a:ext cx="11448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8080" y="613404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4876560" y="6019920"/>
            <a:ext cx="114480" cy="114120"/>
            <a:chOff x="4876560" y="6019920"/>
            <a:chExt cx="114480" cy="114120"/>
          </a:xfrm>
        </p:grpSpPr>
        <p:sp>
          <p:nvSpPr>
            <p:cNvPr id="204" name=""/>
            <p:cNvSpPr/>
            <p:nvPr/>
          </p:nvSpPr>
          <p:spPr>
            <a:xfrm flipH="1">
              <a:off x="4876560" y="60199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76920" y="61340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095880" y="4572000"/>
            <a:ext cx="114480" cy="114480"/>
            <a:chOff x="6095880" y="4572000"/>
            <a:chExt cx="114480" cy="114480"/>
          </a:xfrm>
        </p:grpSpPr>
        <p:sp>
          <p:nvSpPr>
            <p:cNvPr id="207" name=""/>
            <p:cNvSpPr/>
            <p:nvPr/>
          </p:nvSpPr>
          <p:spPr>
            <a:xfrm flipH="1">
              <a:off x="6095880" y="4572000"/>
              <a:ext cx="114480" cy="11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95880" y="4686480"/>
              <a:ext cx="11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9520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144792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 – паралелограм,            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BM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– паралелогра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D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 двома сторонами і кутом між ними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 Аналогічно 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=∆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Якщо сторони чотирикутника попарно рівні, то це паралелограм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228600" y="1662480"/>
            <a:ext cx="3885840" cy="1941120"/>
            <a:chOff x="228600" y="1662480"/>
            <a:chExt cx="3885840" cy="1941120"/>
          </a:xfrm>
        </p:grpSpPr>
        <p:grpSp>
          <p:nvGrpSpPr>
            <p:cNvPr id="303" name=""/>
            <p:cNvGrpSpPr/>
            <p:nvPr/>
          </p:nvGrpSpPr>
          <p:grpSpPr>
            <a:xfrm>
              <a:off x="506160" y="1982880"/>
              <a:ext cx="3466440" cy="1387440"/>
              <a:chOff x="506160" y="1982880"/>
              <a:chExt cx="3466440" cy="1387440"/>
            </a:xfrm>
          </p:grpSpPr>
          <p:sp>
            <p:nvSpPr>
              <p:cNvPr id="304" name=""/>
              <p:cNvSpPr/>
              <p:nvPr/>
            </p:nvSpPr>
            <p:spPr>
              <a:xfrm>
                <a:off x="506160" y="1983240"/>
                <a:ext cx="3466440" cy="1385640"/>
              </a:xfrm>
              <a:prstGeom prst="parallelogram">
                <a:avLst>
                  <a:gd name="adj" fmla="val 62542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506160" y="1982880"/>
                <a:ext cx="3466440" cy="13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37400" y="1983240"/>
                <a:ext cx="138600" cy="96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002040" y="2398320"/>
                <a:ext cx="139680" cy="9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476360" y="2953080"/>
                <a:ext cx="166428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337400" y="1983240"/>
                <a:ext cx="1664280" cy="41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3972600" y="1662480"/>
              <a:ext cx="14184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18744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9160" y="166248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41000" y="3326040"/>
              <a:ext cx="14076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41000" y="23551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99160" y="2632320"/>
              <a:ext cx="140760" cy="2772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43400" y="1447920"/>
            <a:ext cx="4572000" cy="51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АВСD – трапеція,    АО = О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АВ=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С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AD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= О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січній СА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D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C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нутрішні різносторонні пр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/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січній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о в трикутнику кути при основі рівні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в трикутниках  DOC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: DO = OA; CO = OB;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OB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 вертикальні.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же, AB = DC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541800" y="1712880"/>
            <a:ext cx="3155760" cy="2090520"/>
            <a:chOff x="541800" y="1712880"/>
            <a:chExt cx="3155760" cy="2090520"/>
          </a:xfrm>
        </p:grpSpPr>
        <p:grpSp>
          <p:nvGrpSpPr>
            <p:cNvPr id="324" name=""/>
            <p:cNvGrpSpPr/>
            <p:nvPr/>
          </p:nvGrpSpPr>
          <p:grpSpPr>
            <a:xfrm>
              <a:off x="788760" y="2179800"/>
              <a:ext cx="2765880" cy="1245600"/>
              <a:chOff x="788760" y="2179800"/>
              <a:chExt cx="2765880" cy="1245600"/>
            </a:xfrm>
          </p:grpSpPr>
          <p:sp>
            <p:nvSpPr>
              <p:cNvPr id="325" name=""/>
              <p:cNvSpPr/>
              <p:nvPr/>
            </p:nvSpPr>
            <p:spPr>
              <a:xfrm>
                <a:off x="788760" y="2179800"/>
                <a:ext cx="2764800" cy="1245600"/>
              </a:xfrm>
              <a:custGeom>
                <a:avLst/>
                <a:gdLst>
                  <a:gd name="textAreaLeft" fmla="*/ 608040 w 2764800"/>
                  <a:gd name="textAreaRight" fmla="*/ 2156760 w 2764800"/>
                  <a:gd name="textAreaTop" fmla="*/ 273960 h 1245600"/>
                  <a:gd name="textAreaBottom" fmla="*/ 971640 h 124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1479240" y="2179800"/>
                <a:ext cx="207540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788760" y="2179800"/>
                <a:ext cx="2072160" cy="124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232280" y="24912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41800" y="1712880"/>
              <a:ext cx="4928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3360" y="171288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02240" y="3492000"/>
              <a:ext cx="395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45960" y="3492000"/>
              <a:ext cx="32364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23560" y="2517840"/>
              <a:ext cx="394200" cy="311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30704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372280" y="3083040"/>
            <a:ext cx="161640" cy="1522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41008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4383000" y="3465360"/>
            <a:ext cx="162000" cy="1526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5"/>
          <a:stretch/>
        </p:blipFill>
        <p:spPr>
          <a:xfrm>
            <a:off x="4876920" y="41846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6"/>
          <a:stretch/>
        </p:blipFill>
        <p:spPr>
          <a:xfrm>
            <a:off x="5943600" y="41911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7"/>
          <a:stretch/>
        </p:blipFill>
        <p:spPr>
          <a:xfrm>
            <a:off x="6858000" y="6019920"/>
            <a:ext cx="162000" cy="1522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8"/>
          <a:stretch/>
        </p:blipFill>
        <p:spPr>
          <a:xfrm>
            <a:off x="7848720" y="6019920"/>
            <a:ext cx="1616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1000"/>
                                        <p:tgtEl>
                                          <p:spTgt spid="3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962520" y="1447920"/>
            <a:ext cx="49528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рівнобічна трапеці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AB = CD за умовою. CK = AB за побудовою, бо ABCK – паралелограм. Отже, CK = CD та    D =   CKD. Але    A та    CKD відповідні  кути при AB//CK та січній A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же,    A =  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161640" cy="152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28600" y="1371600"/>
            <a:ext cx="3505320" cy="2473200"/>
            <a:chOff x="228600" y="1371600"/>
            <a:chExt cx="3505320" cy="2473200"/>
          </a:xfrm>
        </p:grpSpPr>
        <p:sp>
          <p:nvSpPr>
            <p:cNvPr id="363" name=""/>
            <p:cNvSpPr/>
            <p:nvPr/>
          </p:nvSpPr>
          <p:spPr>
            <a:xfrm>
              <a:off x="2743200" y="1523880"/>
              <a:ext cx="412920" cy="412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228600" y="1371600"/>
              <a:ext cx="3505320" cy="2473200"/>
              <a:chOff x="228600" y="1371600"/>
              <a:chExt cx="3505320" cy="2473200"/>
            </a:xfrm>
          </p:grpSpPr>
          <p:grpSp>
            <p:nvGrpSpPr>
              <p:cNvPr id="365" name=""/>
              <p:cNvGrpSpPr/>
              <p:nvPr/>
            </p:nvGrpSpPr>
            <p:grpSpPr>
              <a:xfrm>
                <a:off x="641160" y="1782720"/>
                <a:ext cx="2681640" cy="1444320"/>
                <a:chOff x="641160" y="1782720"/>
                <a:chExt cx="2681640" cy="144432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1259640" y="1782720"/>
                  <a:ext cx="1443240" cy="4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41520" y="3225960"/>
                  <a:ext cx="2681280" cy="1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 flipH="1">
                  <a:off x="641160" y="1782720"/>
                  <a:ext cx="61812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702880" y="1782720"/>
                  <a:ext cx="6195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H="1">
                  <a:off x="2085120" y="1782720"/>
                  <a:ext cx="617760" cy="144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1" name=""/>
              <p:cNvSpPr/>
              <p:nvPr/>
            </p:nvSpPr>
            <p:spPr>
              <a:xfrm>
                <a:off x="639720" y="1371600"/>
                <a:ext cx="414360" cy="4111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28600" y="3019320"/>
                <a:ext cx="412920" cy="4143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878120" y="3432240"/>
                <a:ext cx="407880" cy="41256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21000" y="3019320"/>
                <a:ext cx="412920" cy="41292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5145120" y="1981080"/>
            <a:ext cx="165240" cy="1526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5753160" y="1981080"/>
            <a:ext cx="164880" cy="1526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"/>
          <a:stretch/>
        </p:blipFill>
        <p:spPr>
          <a:xfrm>
            <a:off x="689760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5"/>
          <a:stretch/>
        </p:blipFill>
        <p:spPr>
          <a:xfrm>
            <a:off x="8381880" y="3809880"/>
            <a:ext cx="162000" cy="1526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6"/>
          <a:stretch/>
        </p:blipFill>
        <p:spPr>
          <a:xfrm>
            <a:off x="4343400" y="419112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7"/>
          <a:stretch/>
        </p:blipFill>
        <p:spPr>
          <a:xfrm>
            <a:off x="4800600" y="4911840"/>
            <a:ext cx="165240" cy="152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8"/>
          <a:stretch/>
        </p:blipFill>
        <p:spPr>
          <a:xfrm>
            <a:off x="5410080" y="4911840"/>
            <a:ext cx="16524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0" y="2438280"/>
            <a:ext cx="333360" cy="338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3520" y="1905120"/>
            <a:ext cx="33804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1905120"/>
            <a:ext cx="509760" cy="336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Усно.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дача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1447920"/>
            <a:ext cx="472428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ано: ABCD – трапеція, CK = K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</a:rPr>
              <a:t>Довести: BC = DM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CKB =   DKM, як вертикальні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К = КD – за умовою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К =    КDМ, як внутрішні різносторонні при  паралельних ВС і АМ та січній С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44560" y="2106720"/>
            <a:ext cx="1182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38040" y="3290760"/>
            <a:ext cx="21970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37680" y="2106720"/>
            <a:ext cx="506520" cy="11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27160" y="2106720"/>
            <a:ext cx="50796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" y="3429000"/>
            <a:ext cx="33804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3352680"/>
            <a:ext cx="33840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44560" y="2106720"/>
            <a:ext cx="2873520" cy="11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535120" y="3289320"/>
            <a:ext cx="118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3352680"/>
            <a:ext cx="333360" cy="339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191120" y="3083040"/>
            <a:ext cx="161640" cy="15228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5257800" y="3083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4191120" y="3809880"/>
            <a:ext cx="161640" cy="1526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5257800" y="3809880"/>
            <a:ext cx="162000" cy="1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10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1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вести, що середини сторін рівнобедреного трикутника разом з його вершиною, що лежить проти основи, є вершинами ро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724280" y="2057400"/>
            <a:ext cx="419112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NP =     AB, бо NP – середня лінія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рикутника. МN =    BС, отже,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N = NP = МВ = ВР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 чотирикутник, у якого всі </a:t>
            </a:r>
            <a:br>
              <a:rPr sz="2200"/>
            </a:b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рони рівні – є ромб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33160" y="2057400"/>
            <a:ext cx="3354840" cy="2590560"/>
            <a:chOff x="533160" y="2057400"/>
            <a:chExt cx="3354840" cy="2590560"/>
          </a:xfrm>
        </p:grpSpPr>
        <p:grpSp>
          <p:nvGrpSpPr>
            <p:cNvPr id="426" name=""/>
            <p:cNvGrpSpPr/>
            <p:nvPr/>
          </p:nvGrpSpPr>
          <p:grpSpPr>
            <a:xfrm>
              <a:off x="533160" y="2210040"/>
              <a:ext cx="3353400" cy="1981440"/>
              <a:chOff x="533160" y="2210040"/>
              <a:chExt cx="3353400" cy="1981440"/>
            </a:xfrm>
          </p:grpSpPr>
          <p:sp>
            <p:nvSpPr>
              <p:cNvPr id="427" name=""/>
              <p:cNvSpPr/>
              <p:nvPr/>
            </p:nvSpPr>
            <p:spPr>
              <a:xfrm>
                <a:off x="533160" y="2210040"/>
                <a:ext cx="3353400" cy="1981440"/>
              </a:xfrm>
              <a:prstGeom prst="triangle">
                <a:avLst>
                  <a:gd name="adj" fmla="val 50000"/>
                </a:avLst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 flipV="1">
                <a:off x="1427040" y="3147840"/>
                <a:ext cx="78264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2210040" y="3147840"/>
                <a:ext cx="782280" cy="10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533160" y="4343040"/>
              <a:ext cx="15372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62680" y="205740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142280" y="2819160"/>
              <a:ext cx="15444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124080" y="2819160"/>
              <a:ext cx="15336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3200" y="4343040"/>
              <a:ext cx="154800" cy="3049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0040" y="4344480"/>
              <a:ext cx="153720" cy="3024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5410080" y="2362320"/>
            <a:ext cx="238320" cy="6094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6934320" y="3124080"/>
            <a:ext cx="2379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2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аралелограмі  ABCD протилежні сторони BC і AD розділені точками L та  M відповідно пополам і ці точки з’єднані відрізками з кінцями сторін AD і BC. Довести, що утворений при перетині проведених відрізків чотирикутник – паралелогр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3400" y="2743200"/>
            <a:ext cx="4572000" cy="38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LC//AM та LC = AM – за умовою. За відповідністю чотирикутник, у якого дві сторони рівні й паралельні – паралелограм. LCMA – паралелог- рам. Отже, LK//MP. Аналогічно, LP//КM. Чотирикутник, у якого сторони лежать на  паралельних прямих, паралелогра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38960" y="3200400"/>
            <a:ext cx="3762000" cy="2784240"/>
            <a:chOff x="138960" y="3200400"/>
            <a:chExt cx="3762000" cy="2784240"/>
          </a:xfrm>
        </p:grpSpPr>
        <p:grpSp>
          <p:nvGrpSpPr>
            <p:cNvPr id="454" name=""/>
            <p:cNvGrpSpPr/>
            <p:nvPr/>
          </p:nvGrpSpPr>
          <p:grpSpPr>
            <a:xfrm>
              <a:off x="138960" y="3618360"/>
              <a:ext cx="3759840" cy="1948680"/>
              <a:chOff x="138960" y="3618360"/>
              <a:chExt cx="3759840" cy="19486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138960" y="3618360"/>
                <a:ext cx="3759840" cy="1948680"/>
                <a:chOff x="138960" y="3618360"/>
                <a:chExt cx="3759840" cy="19486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138960" y="3618360"/>
                  <a:ext cx="3759840" cy="1948680"/>
                </a:xfrm>
                <a:prstGeom prst="parallelogram">
                  <a:avLst>
                    <a:gd name="adj" fmla="val 46771"/>
                  </a:avLst>
                </a:pr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10785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370960" y="3618360"/>
                  <a:ext cx="5868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138960" y="3618360"/>
                  <a:ext cx="2232000" cy="194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0" name=""/>
              <p:cNvSpPr/>
              <p:nvPr/>
            </p:nvSpPr>
            <p:spPr>
              <a:xfrm flipH="1">
                <a:off x="1665360" y="3618360"/>
                <a:ext cx="2231280" cy="194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138960" y="5706360"/>
              <a:ext cx="139320" cy="27756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974160" y="320040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7000" y="3200400"/>
              <a:ext cx="14148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9840" y="3200400"/>
              <a:ext cx="14112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2464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31800" y="570636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74160" y="4313880"/>
              <a:ext cx="140400" cy="2786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24640" y="4592880"/>
              <a:ext cx="140400" cy="278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380880" y="3886200"/>
            <a:ext cx="424080" cy="388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3809880"/>
            <a:ext cx="426960" cy="3924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3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вколо кола описана  рівнобічна трапеція, основи якої відносяться, як 2:3, а середня лінія 10 см. Знайти всі сторони трапеції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 говорили, що в трапецію можна  вписати коло, сума бічних сторін дорівнює сумі її осн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86200" y="2514600"/>
            <a:ext cx="502920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АВ + СD =ВС + АD. Нехай ВС = 2х см, АД =3х см. За теоремою про середню лінію трапеції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0 см, 5х = 20, х =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С = 2*4= 8 см,    АD= 3*4= 12 см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425520" y="3135240"/>
            <a:ext cx="2975040" cy="2028960"/>
            <a:chOff x="425520" y="3135240"/>
            <a:chExt cx="2975040" cy="2028960"/>
          </a:xfrm>
        </p:grpSpPr>
        <p:sp>
          <p:nvSpPr>
            <p:cNvPr id="486" name=""/>
            <p:cNvSpPr/>
            <p:nvPr/>
          </p:nvSpPr>
          <p:spPr>
            <a:xfrm rot="10800000">
              <a:off x="425520" y="3135240"/>
              <a:ext cx="2975040" cy="2028960"/>
            </a:xfrm>
            <a:custGeom>
              <a:avLst/>
              <a:gdLst>
                <a:gd name="textAreaLeft" fmla="*/ 654120 w 2975040"/>
                <a:gd name="textAreaRight" fmla="*/ 2320920 w 2975040"/>
                <a:gd name="textAreaTop" fmla="*/ 446040 h 2028960"/>
                <a:gd name="textAreaBottom" fmla="*/ 1582920 h 202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9960" y="4118760"/>
              <a:ext cx="2125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28600" y="5257800"/>
            <a:ext cx="63828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5257800"/>
            <a:ext cx="636840" cy="393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00280" y="4179960"/>
            <a:ext cx="638280" cy="3934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51040" y="2940120"/>
            <a:ext cx="2109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763720" y="2940120"/>
            <a:ext cx="212760" cy="392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4430880" y="4572000"/>
            <a:ext cx="119520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1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1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10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36440" y="1371600"/>
            <a:ext cx="3622680" cy="2438280"/>
            <a:chOff x="136440" y="1371600"/>
            <a:chExt cx="3622680" cy="2438280"/>
          </a:xfrm>
        </p:grpSpPr>
        <p:sp>
          <p:nvSpPr>
            <p:cNvPr id="496" name=""/>
            <p:cNvSpPr/>
            <p:nvPr/>
          </p:nvSpPr>
          <p:spPr>
            <a:xfrm>
              <a:off x="2971800" y="1371600"/>
              <a:ext cx="166680" cy="3430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171360" y="1485720"/>
              <a:ext cx="3587760" cy="1879920"/>
              <a:chOff x="171360" y="1485720"/>
              <a:chExt cx="3587760" cy="1879920"/>
            </a:xfrm>
          </p:grpSpPr>
          <p:sp>
            <p:nvSpPr>
              <p:cNvPr id="498" name=""/>
              <p:cNvSpPr/>
              <p:nvPr/>
            </p:nvSpPr>
            <p:spPr>
              <a:xfrm rot="10800000">
                <a:off x="171360" y="1485360"/>
                <a:ext cx="3587760" cy="1879560"/>
              </a:xfrm>
              <a:custGeom>
                <a:avLst/>
                <a:gdLst>
                  <a:gd name="textAreaLeft" fmla="*/ 769680 w 3587760"/>
                  <a:gd name="textAreaRight" fmla="*/ 2818080 w 3587760"/>
                  <a:gd name="textAreaTop" fmla="*/ 403200 h 1879560"/>
                  <a:gd name="textAreaBottom" fmla="*/ 1476360 h 1879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407" y="21600"/>
                    </a:lnTo>
                    <a:lnTo>
                      <a:pt x="5193" y="21600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2050560" y="1486080"/>
                <a:ext cx="853200" cy="18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762120" y="1371600"/>
              <a:ext cx="16992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3644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552840" y="346716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50920" y="3467160"/>
              <a:ext cx="16848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1280" y="2168640"/>
              <a:ext cx="1684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19400" y="2168640"/>
              <a:ext cx="1699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16400" y="2168640"/>
              <a:ext cx="168120" cy="3427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733840" y="2852640"/>
              <a:ext cx="341280" cy="3412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-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адача 4.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удувати трапецію за основами і бічними сторонам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733920" y="1600200"/>
            <a:ext cx="5410080" cy="36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imes New Roman"/>
              </a:rPr>
              <a:t>Розв’язування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ємо              за трьома сторонами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мо пряму                 та               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едення:                 та  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к протилежні сторони паралелограма)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363600">
              <a:lnSpc>
                <a:spcPct val="11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Трапецію                </a:t>
            </a:r>
            <a:r>
              <a:rPr b="0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будовано.</a:t>
            </a:r>
            <a:br>
              <a:rPr sz="2200"/>
            </a:br>
            <a:r>
              <a:rPr b="0" lang="uk-UA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35000" y="4114800"/>
            <a:ext cx="3522600" cy="2440080"/>
            <a:chOff x="135000" y="4114800"/>
            <a:chExt cx="3522600" cy="2440080"/>
          </a:xfrm>
        </p:grpSpPr>
        <p:sp>
          <p:nvSpPr>
            <p:cNvPr id="524" name=""/>
            <p:cNvSpPr/>
            <p:nvPr/>
          </p:nvSpPr>
          <p:spPr>
            <a:xfrm>
              <a:off x="1350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8616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760400" y="6282000"/>
              <a:ext cx="271440" cy="2728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135000" y="4114800"/>
              <a:ext cx="3387600" cy="2033640"/>
              <a:chOff x="135000" y="4114800"/>
              <a:chExt cx="3387600" cy="203364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135000" y="4385880"/>
                <a:ext cx="3387600" cy="1762560"/>
                <a:chOff x="135000" y="4385880"/>
                <a:chExt cx="3387600" cy="1762560"/>
              </a:xfrm>
            </p:grpSpPr>
            <p:sp>
              <p:nvSpPr>
                <p:cNvPr id="529" name=""/>
                <p:cNvSpPr/>
                <p:nvPr/>
              </p:nvSpPr>
              <p:spPr>
                <a:xfrm rot="10800000">
                  <a:off x="135000" y="4385880"/>
                  <a:ext cx="3387600" cy="1762200"/>
                </a:xfrm>
                <a:custGeom>
                  <a:avLst/>
                  <a:gdLst>
                    <a:gd name="textAreaLeft" fmla="*/ 726840 w 3387600"/>
                    <a:gd name="textAreaRight" fmla="*/ 2660760 w 3387600"/>
                    <a:gd name="textAreaTop" fmla="*/ 378000 h 1762200"/>
                    <a:gd name="textAreaBottom" fmla="*/ 1384200 h 1762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407" y="21600"/>
                      </a:lnTo>
                      <a:lnTo>
                        <a:pt x="5193" y="21600"/>
                      </a:lnTo>
                      <a:close/>
                    </a:path>
                  </a:pathLst>
                </a:custGeom>
                <a:solidFill>
                  <a:srgbClr val="ff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1909440" y="4386240"/>
                  <a:ext cx="805680" cy="176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2844720" y="4114800"/>
                <a:ext cx="27000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76440" y="4114800"/>
                <a:ext cx="2714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В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76440" y="5199120"/>
                <a:ext cx="134640" cy="27144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43828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251160" y="5062680"/>
                <a:ext cx="133560" cy="27288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573280" y="5716800"/>
                <a:ext cx="474840" cy="2952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-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5334120" y="2017800"/>
            <a:ext cx="914400" cy="34452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6485040" y="2778120"/>
            <a:ext cx="1049400" cy="3063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3"/>
          <a:stretch/>
        </p:blipFill>
        <p:spPr>
          <a:xfrm>
            <a:off x="7924680" y="2819520"/>
            <a:ext cx="990720" cy="28404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4"/>
          <a:stretch/>
        </p:blipFill>
        <p:spPr>
          <a:xfrm>
            <a:off x="5715000" y="3540240"/>
            <a:ext cx="1066680" cy="291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5"/>
          <a:stretch/>
        </p:blipFill>
        <p:spPr>
          <a:xfrm>
            <a:off x="7238880" y="3540240"/>
            <a:ext cx="1067040" cy="29196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6"/>
          <a:stretch/>
        </p:blipFill>
        <p:spPr>
          <a:xfrm>
            <a:off x="5486400" y="4572000"/>
            <a:ext cx="91440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1000"/>
                                        <p:tgtEl>
                                          <p:spTgt spid="5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1000"/>
                                        <p:tgtEl>
                                          <p:spTgt spid="5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1000"/>
                                        <p:tgtEl>
                                          <p:spTgt spid="5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Самостійна робота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1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прямокутнику кут між діагоналями становить 120°. Обчисліть кут між діагоналлю прямокутника і меншою стороною прямокутника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000000"/>
                </a:solidFill>
                <a:uFillTx/>
                <a:latin typeface="Arial"/>
              </a:rPr>
              <a:t>2 варіа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У рівнобедреній трапецій більша основа дорівнює 3,7 дм, бічна сторона дорівнює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1,5 дм, а кут між ними 60°. Обчисліть середню лінію трапеції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додом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Повторити пункти 50-6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Скласти 2 задачі за таблице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очка перетину діагоналей чотирикутника рівновіддалена від його сторін. Довести, що цей чотирикутник ромб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72 (на побудову трапеції за основами і діагоналями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Задача № 69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190760" y="1294920"/>
            <a:ext cx="4724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Дано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трапец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– середня  лінія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7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4 см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найти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основи  трапеції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Arial"/>
              </a:rPr>
              <a:t>Розв’язуванн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х см, тоді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= (х + 4) см. За теоремою про середню лінію трапеції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(см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5 с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1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= 9 с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0" y="1790640"/>
            <a:ext cx="4003200" cy="2477880"/>
            <a:chOff x="0" y="1790640"/>
            <a:chExt cx="4003200" cy="2477880"/>
          </a:xfrm>
        </p:grpSpPr>
        <p:grpSp>
          <p:nvGrpSpPr>
            <p:cNvPr id="214" name=""/>
            <p:cNvGrpSpPr/>
            <p:nvPr/>
          </p:nvGrpSpPr>
          <p:grpSpPr>
            <a:xfrm>
              <a:off x="380880" y="2171880"/>
              <a:ext cx="3428640" cy="1905480"/>
              <a:chOff x="380880" y="2171880"/>
              <a:chExt cx="3428640" cy="1905480"/>
            </a:xfrm>
          </p:grpSpPr>
          <p:sp>
            <p:nvSpPr>
              <p:cNvPr id="215" name=""/>
              <p:cNvSpPr/>
              <p:nvPr/>
            </p:nvSpPr>
            <p:spPr>
              <a:xfrm rot="10800000">
                <a:off x="380880" y="2171520"/>
                <a:ext cx="3428640" cy="1905480"/>
              </a:xfrm>
              <a:prstGeom prst="flowChartManualOperation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61760" y="3124080"/>
                <a:ext cx="266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0" y="3886920"/>
              <a:ext cx="380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0440" y="2933640"/>
              <a:ext cx="380880" cy="3812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0680" y="1790640"/>
              <a:ext cx="19188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37840" y="179064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19080" y="2933640"/>
              <a:ext cx="193680" cy="3841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3886920"/>
              <a:ext cx="193320" cy="3816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876920" y="4495680"/>
            <a:ext cx="3276360" cy="6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883560" cy="5162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304920" y="228600"/>
            <a:ext cx="8534160" cy="1676520"/>
          </a:xfrm>
          <a:prstGeom prst="rect">
            <a:avLst/>
          </a:prstGeom>
        </p:spPr>
        <p:txBody>
          <a:bodyPr wrap="none" lIns="0" rIns="0" tIns="0" bIns="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еометрія допомагає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увати і жи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372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000680" cy="4495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rcRect l="0" t="0" r="139" b="0"/>
          <a:stretch/>
        </p:blipFill>
        <p:spPr>
          <a:xfrm>
            <a:off x="4343400" y="1143000"/>
            <a:ext cx="44766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4952880" cy="4003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овторюєм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Що таке чотирикутни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звати види чотирикутників, які ми вивч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аралелограм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прямокутник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ати означення ромба і сформулювати його властивост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Означення і властивості квад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вадрат має властивості прямокутника і ром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Який чотирикутник називається трапеціє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про середню лінію трапеці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формулювати теорему Фалес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20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Чотирикутник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Опорні задач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чотирикутнику дві сторони рівні і паралельні, то він є паралелограм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протилежні сторони чотирикутника попарно рівні, то цей чотирикутник паралелогра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Чотирикутник, в якого всі сторони рівні, є ромбом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Якщо в паралелограма діагоналі рівні, то він є прямокутником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3-22T10:05:32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408000000000001024140</vt:lpwstr>
  </property>
  <property fmtid="{D5CDD505-2E9C-101B-9397-08002B2CF9AE}" pid="3" name="Version">
    <vt:r8>1</vt:r8>
  </property>
</Properties>
</file>