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74A-83F5-4FA0-A6DC-45B557DB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747-B4FD-417C-B31C-71C765FA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9454-EC7C-419A-8E45-A13A9C35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D9A-8AF7-4D61-8E21-6234F9B4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6E57-FF24-471E-B93A-F2ED1B57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DA5C-288E-41D9-8828-FCE3C423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40EB-7B16-418A-A2DE-4BD64CC5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433F-E8B2-43C2-A7E5-840582FB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31B6-1343-4453-93B4-7268A4FE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8396-6A7F-415F-803B-D2534129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A2C6-BFB8-4692-B138-92ABE4AF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71A-CD0C-4C68-B8B4-C7EE44E0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7B8B-133B-4FA5-9876-D0A907B2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FE2C-6E57-4895-ADE4-18644923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F649-E779-478D-8FC3-B7DF1F33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6032-0C12-4C16-A0CE-3BA2A522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9721-892D-49F3-8C17-1D4F3195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2F717-5C29-4A57-8153-B3AD64E4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7BA2B-C84C-4D4E-A844-4173037D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B68B7-D59F-4E52-A4A2-B79BFA92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F2338-679A-4F04-A31C-5073A10B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A3E3F-03AC-4B03-9B91-A8CBA344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CAD-89BD-4DB0-88FC-8E3EA830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6494B-AB4C-4AD4-876B-7B6A484D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A6CEA-D942-484A-ABC9-CFF62703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1BB64-26CC-4105-99BC-78121D48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0E12E-6FBA-4F91-9D2B-303D1B95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6C448-6B8D-40C0-A06D-50C1E406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106BB-904E-4B72-B493-5557BF74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15E59-2CD2-4E96-9DD3-52AC9450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79F9-0B8E-4314-90B7-5F1C914A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CA4-5DDE-45F1-B987-B904C014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6FB-5ADA-44E9-BD9E-65F54A7B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4DED-24C2-4F29-A63E-3EC626AA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CBCE-9012-4C01-A447-94F4019D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D95-648B-4ABC-8891-BF7DB638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DBA2-A4AC-445B-90DF-8E8156DEB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6332-0DC2-4C4A-9F2D-B9EF574BD6D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C835-269A-4F54-B993-19190738152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90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omic Sans MS"/>
              </a:rPr>
              <a:t>Чотирикутники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361960" y="411480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Презентацію підготувала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вчитель математики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ЗШ </a:t>
            </a:r>
            <a:r>
              <a:rPr b="0" lang="en-US" sz="2400" spc="-1" strike="noStrike">
                <a:solidFill>
                  <a:srgbClr val="292929"/>
                </a:solidFill>
                <a:latin typeface="Comic Sans MS"/>
              </a:rPr>
              <a:t>I-III </a:t>
            </a: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ступенів №1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м. Білої Церкв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Ільніцька Л.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810240" cy="3143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743200" y="3581280"/>
            <a:ext cx="3886200" cy="2981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6477120" y="380880"/>
            <a:ext cx="23619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600" y="2716200"/>
            <a:ext cx="5257800" cy="3951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257800" y="228600"/>
            <a:ext cx="3657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Чотирикутник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Опорні задач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що в паралелограмі діагоналі взаємно-перпендикулярні, то він є ром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що в паралелограмі всі кути прямі, то це буде прямокут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ередини сторін чотирикутника є вершинами паралелограм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рівнобедреній трапеції кути при основі рівні і діагоналі рівні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чотирикутника, вписаного в коло, сума протилежних кутів дорівнює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чотирикутника, описаного навколо кола, суми довжин протилежних сторін однакові.</a:t>
            </a:r>
            <a:br>
              <a:rPr sz="2400"/>
            </a:br>
            <a:br>
              <a:rPr sz="1000"/>
            </a:b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2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Чи правильні твердження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9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в паралелограмі діагоналі не рівні,то він не може бути прямокутн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жний квадрат є прямокутн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снує ромб, який є прямокутн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іякий прямокутник не є ромб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снує квадрат, який не є ромб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Дайте відповідь на запитанн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9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звіть спільні властивості трапеції і ромб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ому теорему про середню лінію трапеції можна перенести на довільний паралелогра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 існує трапеція, у якої два протилежні кути гострі? У якої два протилежні кути прямі?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 можна побудувати трапецію  з трьома прямими кута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838080"/>
          <a:ext cx="8686800" cy="4624560"/>
        </p:xfrm>
        <a:graphic>
          <a:graphicData uri="http://schemas.openxmlformats.org/drawingml/2006/table">
            <a:tbl>
              <a:tblPr/>
              <a:tblGrid>
                <a:gridCol w="528480"/>
                <a:gridCol w="3667320"/>
                <a:gridCol w="1108080"/>
                <a:gridCol w="1173240"/>
                <a:gridCol w="1104840"/>
                <a:gridCol w="1104840"/>
              </a:tblGrid>
              <a:tr h="456840"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ивост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 фігу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арал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г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ямок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351000" indent="-1684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отирикут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лежні сторони попарно паралель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кути прям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сторони рі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ь ділить на два рівні трику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лежні сторони рівні між собою, протилежні кути рі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990720"/>
          <a:ext cx="8686800" cy="3998880"/>
        </p:xfrm>
        <a:graphic>
          <a:graphicData uri="http://schemas.openxmlformats.org/drawingml/2006/table">
            <a:tbl>
              <a:tblPr/>
              <a:tblGrid>
                <a:gridCol w="528480"/>
                <a:gridCol w="3667320"/>
                <a:gridCol w="1108080"/>
                <a:gridCol w="1173240"/>
                <a:gridCol w="1104840"/>
                <a:gridCol w="1104840"/>
              </a:tblGrid>
              <a:tr h="38016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ивост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 фігу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арал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г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ямок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351000" indent="-1684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ь в точці їх перетину діляться попол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 кутів,прилеглих до однієї сторони, дорівнює180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і рі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і взаємно перпендикуляр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і є бісектрисами кут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Розв’яжіть задачі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в означенні поняття «квадрат» не брати до уваги ознаку 4, то яке ми одержимо поняття?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ознаки включити в паралелограм, щоб отримати поняття «квадрат»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64600" y="1109160"/>
            <a:ext cx="3411000" cy="2652840"/>
            <a:chOff x="264600" y="1109160"/>
            <a:chExt cx="3411000" cy="2652840"/>
          </a:xfrm>
        </p:grpSpPr>
        <p:sp>
          <p:nvSpPr>
            <p:cNvPr id="253" name=""/>
            <p:cNvSpPr/>
            <p:nvPr/>
          </p:nvSpPr>
          <p:spPr>
            <a:xfrm rot="187800">
              <a:off x="273240" y="1415880"/>
              <a:ext cx="194760" cy="338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7800">
              <a:off x="570960" y="3087360"/>
              <a:ext cx="194760" cy="33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5410400">
              <a:off x="909000" y="1301040"/>
              <a:ext cx="2193840" cy="2269080"/>
            </a:xfrm>
            <a:prstGeom prst="parallelogram">
              <a:avLst>
                <a:gd name="adj" fmla="val 2694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067040" y="1697040"/>
              <a:ext cx="1334880" cy="14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1320" y="1603080"/>
              <a:ext cx="2430720" cy="165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7800">
              <a:off x="3174840" y="1574640"/>
              <a:ext cx="194760" cy="338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7800">
              <a:off x="3471840" y="3263400"/>
              <a:ext cx="194760" cy="336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7800">
              <a:off x="3083400" y="3344040"/>
              <a:ext cx="194760" cy="338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7800">
              <a:off x="1761120" y="2584800"/>
              <a:ext cx="196920" cy="338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7800">
              <a:off x="375120" y="1440720"/>
              <a:ext cx="194760" cy="336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87800">
              <a:off x="2257200" y="1314720"/>
              <a:ext cx="194760" cy="336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343400" y="1447920"/>
            <a:ext cx="396252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АВ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 – паралелограм,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і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сектриса   А,  BN – бісектриса    В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BN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= 90º,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ON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= 90º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419720" y="3500280"/>
            <a:ext cx="161640" cy="152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791320" y="2286000"/>
            <a:ext cx="161640" cy="1522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477120" y="1946160"/>
            <a:ext cx="161640" cy="152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5867280" y="2514600"/>
            <a:ext cx="223920" cy="237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6019920" y="3540240"/>
            <a:ext cx="1616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1447920"/>
            <a:ext cx="3962520" cy="46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АВ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 – прямокутник. Довести: АЕ = С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EO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=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KO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, б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O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, як відрізки між паралельними сторонами і проходять через точку перетину діагоналей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, як діагоналі прямокутника і в точці перетину діляться по пол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як вертикальні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тже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28600" y="1219320"/>
            <a:ext cx="3649320" cy="1898280"/>
            <a:chOff x="228600" y="1219320"/>
            <a:chExt cx="3649320" cy="1898280"/>
          </a:xfrm>
        </p:grpSpPr>
        <p:grpSp>
          <p:nvGrpSpPr>
            <p:cNvPr id="281" name=""/>
            <p:cNvGrpSpPr/>
            <p:nvPr/>
          </p:nvGrpSpPr>
          <p:grpSpPr>
            <a:xfrm>
              <a:off x="565200" y="1408320"/>
              <a:ext cx="2850840" cy="1516320"/>
              <a:chOff x="565200" y="1408320"/>
              <a:chExt cx="2850840" cy="1516320"/>
            </a:xfrm>
          </p:grpSpPr>
          <p:sp>
            <p:nvSpPr>
              <p:cNvPr id="282" name=""/>
              <p:cNvSpPr/>
              <p:nvPr/>
            </p:nvSpPr>
            <p:spPr>
              <a:xfrm>
                <a:off x="565200" y="1408320"/>
                <a:ext cx="2850840" cy="1516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65200" y="1408320"/>
                <a:ext cx="2850840" cy="151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565200" y="1408320"/>
                <a:ext cx="2850840" cy="151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565200" y="1785960"/>
                <a:ext cx="285084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1903680" y="2357280"/>
              <a:ext cx="168480" cy="3801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" y="2735640"/>
              <a:ext cx="168840" cy="37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" y="1219320"/>
              <a:ext cx="168840" cy="37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79840" y="1221120"/>
              <a:ext cx="170280" cy="3798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79840" y="2737800"/>
              <a:ext cx="168840" cy="3798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8600" y="2166840"/>
              <a:ext cx="168840" cy="3798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9840" y="1601280"/>
              <a:ext cx="298080" cy="689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205272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адача № 64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43040" y="1143000"/>
            <a:ext cx="4800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трапеція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найти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A,       B,      C,     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Розв’язува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к кути при основ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івнобедреного трикутни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A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як внутріш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ізносторонні при паралельни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та січні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тже,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= x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x°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 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0" y="1905120"/>
            <a:ext cx="4419360" cy="2430720"/>
            <a:chOff x="0" y="1905120"/>
            <a:chExt cx="4419360" cy="2430720"/>
          </a:xfrm>
        </p:grpSpPr>
        <p:sp>
          <p:nvSpPr>
            <p:cNvPr id="138" name=""/>
            <p:cNvSpPr/>
            <p:nvPr/>
          </p:nvSpPr>
          <p:spPr>
            <a:xfrm rot="10800000">
              <a:off x="441360" y="2345040"/>
              <a:ext cx="3531960" cy="1769400"/>
            </a:xfrm>
            <a:custGeom>
              <a:avLst/>
              <a:gdLst>
                <a:gd name="textAreaLeft" fmla="*/ 776520 w 3531960"/>
                <a:gd name="textAreaRight" fmla="*/ 2755440 w 3531960"/>
                <a:gd name="textAreaTop" fmla="*/ 389160 h 1769400"/>
                <a:gd name="textAreaBottom" fmla="*/ 1380240 h 176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41720" y="2345400"/>
              <a:ext cx="2651040" cy="176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87920" y="2345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7920" y="2345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82360" y="3009240"/>
              <a:ext cx="219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12360" y="3009240"/>
              <a:ext cx="219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3893760"/>
              <a:ext cx="441720" cy="4420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82360" y="1905120"/>
              <a:ext cx="443880" cy="442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93120" y="1905120"/>
              <a:ext cx="222480" cy="440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75480" y="3893760"/>
              <a:ext cx="443880" cy="4420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562360" y="1828800"/>
            <a:ext cx="114480" cy="114480"/>
            <a:chOff x="5562360" y="1828800"/>
            <a:chExt cx="114480" cy="114480"/>
          </a:xfrm>
        </p:grpSpPr>
        <p:sp>
          <p:nvSpPr>
            <p:cNvPr id="149" name=""/>
            <p:cNvSpPr/>
            <p:nvPr/>
          </p:nvSpPr>
          <p:spPr>
            <a:xfrm flipH="1">
              <a:off x="5562360" y="182880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2720" y="19432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324480" y="1828800"/>
            <a:ext cx="114480" cy="114480"/>
            <a:chOff x="6324480" y="1828800"/>
            <a:chExt cx="114480" cy="114480"/>
          </a:xfrm>
        </p:grpSpPr>
        <p:sp>
          <p:nvSpPr>
            <p:cNvPr id="152" name=""/>
            <p:cNvSpPr/>
            <p:nvPr/>
          </p:nvSpPr>
          <p:spPr>
            <a:xfrm flipH="1">
              <a:off x="6324480" y="18288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24480" y="19432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010280" y="1828800"/>
            <a:ext cx="114480" cy="114480"/>
            <a:chOff x="7010280" y="1828800"/>
            <a:chExt cx="114480" cy="114480"/>
          </a:xfrm>
        </p:grpSpPr>
        <p:sp>
          <p:nvSpPr>
            <p:cNvPr id="155" name=""/>
            <p:cNvSpPr/>
            <p:nvPr/>
          </p:nvSpPr>
          <p:spPr>
            <a:xfrm flipH="1">
              <a:off x="7010280" y="18288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19432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696080" y="1828800"/>
            <a:ext cx="114480" cy="114480"/>
            <a:chOff x="7696080" y="1828800"/>
            <a:chExt cx="114480" cy="114480"/>
          </a:xfrm>
        </p:grpSpPr>
        <p:sp>
          <p:nvSpPr>
            <p:cNvPr id="158" name=""/>
            <p:cNvSpPr/>
            <p:nvPr/>
          </p:nvSpPr>
          <p:spPr>
            <a:xfrm flipH="1">
              <a:off x="7696080" y="18288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96080" y="19432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95680" y="2743200"/>
            <a:ext cx="114480" cy="114480"/>
            <a:chOff x="4495680" y="2743200"/>
            <a:chExt cx="114480" cy="114480"/>
          </a:xfrm>
        </p:grpSpPr>
        <p:sp>
          <p:nvSpPr>
            <p:cNvPr id="161" name=""/>
            <p:cNvSpPr/>
            <p:nvPr/>
          </p:nvSpPr>
          <p:spPr>
            <a:xfrm flipH="1">
              <a:off x="4495680" y="27432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28576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486400" y="2743200"/>
            <a:ext cx="114480" cy="114480"/>
            <a:chOff x="5486400" y="2743200"/>
            <a:chExt cx="114480" cy="114480"/>
          </a:xfrm>
        </p:grpSpPr>
        <p:sp>
          <p:nvSpPr>
            <p:cNvPr id="164" name=""/>
            <p:cNvSpPr/>
            <p:nvPr/>
          </p:nvSpPr>
          <p:spPr>
            <a:xfrm flipH="1">
              <a:off x="5486400" y="27432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86400" y="28576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495680" y="3352680"/>
            <a:ext cx="114480" cy="114480"/>
            <a:chOff x="4495680" y="3352680"/>
            <a:chExt cx="114480" cy="114480"/>
          </a:xfrm>
        </p:grpSpPr>
        <p:sp>
          <p:nvSpPr>
            <p:cNvPr id="167" name=""/>
            <p:cNvSpPr/>
            <p:nvPr/>
          </p:nvSpPr>
          <p:spPr>
            <a:xfrm flipH="1">
              <a:off x="4495680" y="335268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95680" y="346716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562360" y="3352680"/>
            <a:ext cx="114480" cy="114480"/>
            <a:chOff x="5562360" y="3352680"/>
            <a:chExt cx="114480" cy="114480"/>
          </a:xfrm>
        </p:grpSpPr>
        <p:sp>
          <p:nvSpPr>
            <p:cNvPr id="170" name=""/>
            <p:cNvSpPr/>
            <p:nvPr/>
          </p:nvSpPr>
          <p:spPr>
            <a:xfrm flipH="1">
              <a:off x="5562360" y="335268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62720" y="34671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495680" y="4572000"/>
            <a:ext cx="114480" cy="114480"/>
            <a:chOff x="4495680" y="4572000"/>
            <a:chExt cx="114480" cy="114480"/>
          </a:xfrm>
        </p:grpSpPr>
        <p:sp>
          <p:nvSpPr>
            <p:cNvPr id="173" name=""/>
            <p:cNvSpPr/>
            <p:nvPr/>
          </p:nvSpPr>
          <p:spPr>
            <a:xfrm flipH="1">
              <a:off x="4495680" y="45720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95680" y="46864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257800" y="4267080"/>
            <a:ext cx="114480" cy="114480"/>
            <a:chOff x="5257800" y="4267080"/>
            <a:chExt cx="114480" cy="114480"/>
          </a:xfrm>
        </p:grpSpPr>
        <p:sp>
          <p:nvSpPr>
            <p:cNvPr id="176" name=""/>
            <p:cNvSpPr/>
            <p:nvPr/>
          </p:nvSpPr>
          <p:spPr>
            <a:xfrm flipH="1">
              <a:off x="5257800" y="426708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57800" y="438156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248160" y="4267080"/>
            <a:ext cx="114480" cy="114480"/>
            <a:chOff x="6248160" y="4267080"/>
            <a:chExt cx="114480" cy="114480"/>
          </a:xfrm>
        </p:grpSpPr>
        <p:sp>
          <p:nvSpPr>
            <p:cNvPr id="179" name=""/>
            <p:cNvSpPr/>
            <p:nvPr/>
          </p:nvSpPr>
          <p:spPr>
            <a:xfrm flipH="1">
              <a:off x="6248160" y="426708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43815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04920" y="4648320"/>
            <a:ext cx="81532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тже,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x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=2*3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6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60°,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180° - 60°=120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 і   В – внутрішні односторонні кути.   С= 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°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+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°=120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105160" y="4572000"/>
            <a:ext cx="114480" cy="114480"/>
            <a:chOff x="5105160" y="4572000"/>
            <a:chExt cx="114480" cy="114480"/>
          </a:xfrm>
        </p:grpSpPr>
        <p:sp>
          <p:nvSpPr>
            <p:cNvPr id="183" name=""/>
            <p:cNvSpPr/>
            <p:nvPr/>
          </p:nvSpPr>
          <p:spPr>
            <a:xfrm flipH="1">
              <a:off x="5105160" y="457200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05520" y="46864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10280" y="4572000"/>
            <a:ext cx="114480" cy="114480"/>
            <a:chOff x="7010280" y="4572000"/>
            <a:chExt cx="114480" cy="114480"/>
          </a:xfrm>
        </p:grpSpPr>
        <p:sp>
          <p:nvSpPr>
            <p:cNvPr id="186" name=""/>
            <p:cNvSpPr/>
            <p:nvPr/>
          </p:nvSpPr>
          <p:spPr>
            <a:xfrm flipH="1">
              <a:off x="7010280" y="45720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10280" y="46864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28600" y="5410080"/>
            <a:ext cx="114480" cy="114480"/>
            <a:chOff x="228600" y="5410080"/>
            <a:chExt cx="114480" cy="114480"/>
          </a:xfrm>
        </p:grpSpPr>
        <p:sp>
          <p:nvSpPr>
            <p:cNvPr id="189" name=""/>
            <p:cNvSpPr/>
            <p:nvPr/>
          </p:nvSpPr>
          <p:spPr>
            <a:xfrm flipH="1">
              <a:off x="228600" y="541008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52456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286000" y="5410080"/>
            <a:ext cx="114480" cy="114480"/>
            <a:chOff x="2286000" y="5410080"/>
            <a:chExt cx="114480" cy="114480"/>
          </a:xfrm>
        </p:grpSpPr>
        <p:sp>
          <p:nvSpPr>
            <p:cNvPr id="192" name=""/>
            <p:cNvSpPr/>
            <p:nvPr/>
          </p:nvSpPr>
          <p:spPr>
            <a:xfrm flipH="1">
              <a:off x="2286000" y="541008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6000" y="552456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504960" y="5410080"/>
            <a:ext cx="114480" cy="114480"/>
            <a:chOff x="3504960" y="5410080"/>
            <a:chExt cx="114480" cy="114480"/>
          </a:xfrm>
        </p:grpSpPr>
        <p:sp>
          <p:nvSpPr>
            <p:cNvPr id="195" name=""/>
            <p:cNvSpPr/>
            <p:nvPr/>
          </p:nvSpPr>
          <p:spPr>
            <a:xfrm flipH="1">
              <a:off x="3504960" y="541008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05320" y="55245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04560" y="6019920"/>
            <a:ext cx="114480" cy="114120"/>
            <a:chOff x="304560" y="6019920"/>
            <a:chExt cx="114480" cy="114120"/>
          </a:xfrm>
        </p:grpSpPr>
        <p:sp>
          <p:nvSpPr>
            <p:cNvPr id="198" name=""/>
            <p:cNvSpPr/>
            <p:nvPr/>
          </p:nvSpPr>
          <p:spPr>
            <a:xfrm flipH="1">
              <a:off x="304560" y="601992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4920" y="61340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838080" y="6019920"/>
            <a:ext cx="114480" cy="114120"/>
            <a:chOff x="838080" y="6019920"/>
            <a:chExt cx="114480" cy="114120"/>
          </a:xfrm>
        </p:grpSpPr>
        <p:sp>
          <p:nvSpPr>
            <p:cNvPr id="201" name=""/>
            <p:cNvSpPr/>
            <p:nvPr/>
          </p:nvSpPr>
          <p:spPr>
            <a:xfrm flipH="1">
              <a:off x="838080" y="6019920"/>
              <a:ext cx="11448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080" y="613404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876560" y="6019920"/>
            <a:ext cx="114480" cy="114120"/>
            <a:chOff x="4876560" y="6019920"/>
            <a:chExt cx="114480" cy="114120"/>
          </a:xfrm>
        </p:grpSpPr>
        <p:sp>
          <p:nvSpPr>
            <p:cNvPr id="204" name=""/>
            <p:cNvSpPr/>
            <p:nvPr/>
          </p:nvSpPr>
          <p:spPr>
            <a:xfrm flipH="1">
              <a:off x="4876560" y="601992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76920" y="61340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095880" y="4572000"/>
            <a:ext cx="114480" cy="114480"/>
            <a:chOff x="6095880" y="4572000"/>
            <a:chExt cx="114480" cy="114480"/>
          </a:xfrm>
        </p:grpSpPr>
        <p:sp>
          <p:nvSpPr>
            <p:cNvPr id="207" name=""/>
            <p:cNvSpPr/>
            <p:nvPr/>
          </p:nvSpPr>
          <p:spPr>
            <a:xfrm flipH="1">
              <a:off x="6095880" y="45720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95880" y="46864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9520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144792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АВ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 – паралелограм,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M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– паралелогра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B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=∆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D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за двома сторонами і кутом між ними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. Аналогічно 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=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Якщо сторони чотирикутника попарно рівні, то це паралелограм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28600" y="1662480"/>
            <a:ext cx="3885840" cy="1941120"/>
            <a:chOff x="228600" y="1662480"/>
            <a:chExt cx="3885840" cy="1941120"/>
          </a:xfrm>
        </p:grpSpPr>
        <p:grpSp>
          <p:nvGrpSpPr>
            <p:cNvPr id="303" name=""/>
            <p:cNvGrpSpPr/>
            <p:nvPr/>
          </p:nvGrpSpPr>
          <p:grpSpPr>
            <a:xfrm>
              <a:off x="506160" y="1982880"/>
              <a:ext cx="3466440" cy="1387440"/>
              <a:chOff x="506160" y="1982880"/>
              <a:chExt cx="3466440" cy="1387440"/>
            </a:xfrm>
          </p:grpSpPr>
          <p:sp>
            <p:nvSpPr>
              <p:cNvPr id="304" name=""/>
              <p:cNvSpPr/>
              <p:nvPr/>
            </p:nvSpPr>
            <p:spPr>
              <a:xfrm>
                <a:off x="506160" y="1983240"/>
                <a:ext cx="3466440" cy="1385640"/>
              </a:xfrm>
              <a:prstGeom prst="parallelogram">
                <a:avLst>
                  <a:gd name="adj" fmla="val 62542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506160" y="1982880"/>
                <a:ext cx="3466440" cy="138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37400" y="1983240"/>
                <a:ext cx="138600" cy="9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002040" y="2398320"/>
                <a:ext cx="139680" cy="9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476360" y="2953080"/>
                <a:ext cx="166428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337400" y="1983240"/>
                <a:ext cx="1664280" cy="41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3972600" y="1662480"/>
              <a:ext cx="14184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" y="3187440"/>
              <a:ext cx="14076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99160" y="1662480"/>
              <a:ext cx="14076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41000" y="3326040"/>
              <a:ext cx="140760" cy="277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41000" y="2355120"/>
              <a:ext cx="14076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99160" y="2632320"/>
              <a:ext cx="14076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43400" y="1447920"/>
            <a:ext cx="4572000" cy="51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АВСD – трапеція,    АО = О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АВ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С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A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D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= О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A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 внутрішні різносторонні при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//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січній СА.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C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 внутрішні різносторонні пр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/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січній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о в трикутнику кути при основі рівн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в трикутниках  DOC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: DO = OA; CO = OB;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 вертикальні.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AB = DC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41800" y="1712880"/>
            <a:ext cx="3155760" cy="2090520"/>
            <a:chOff x="541800" y="1712880"/>
            <a:chExt cx="3155760" cy="2090520"/>
          </a:xfrm>
        </p:grpSpPr>
        <p:grpSp>
          <p:nvGrpSpPr>
            <p:cNvPr id="324" name=""/>
            <p:cNvGrpSpPr/>
            <p:nvPr/>
          </p:nvGrpSpPr>
          <p:grpSpPr>
            <a:xfrm>
              <a:off x="788760" y="2179800"/>
              <a:ext cx="2765880" cy="1245600"/>
              <a:chOff x="788760" y="2179800"/>
              <a:chExt cx="2765880" cy="1245600"/>
            </a:xfrm>
          </p:grpSpPr>
          <p:sp>
            <p:nvSpPr>
              <p:cNvPr id="325" name=""/>
              <p:cNvSpPr/>
              <p:nvPr/>
            </p:nvSpPr>
            <p:spPr>
              <a:xfrm>
                <a:off x="788760" y="2179800"/>
                <a:ext cx="2764800" cy="1245600"/>
              </a:xfrm>
              <a:custGeom>
                <a:avLst/>
                <a:gdLst>
                  <a:gd name="textAreaLeft" fmla="*/ 608040 w 2764800"/>
                  <a:gd name="textAreaRight" fmla="*/ 2156760 w 2764800"/>
                  <a:gd name="textAreaTop" fmla="*/ 273960 h 1245600"/>
                  <a:gd name="textAreaBottom" fmla="*/ 971640 h 124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1479240" y="2179800"/>
                <a:ext cx="2075400" cy="124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788760" y="2179800"/>
                <a:ext cx="2072160" cy="124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1232280" y="24912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1800" y="1712880"/>
              <a:ext cx="49284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3360" y="1712880"/>
              <a:ext cx="39420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02240" y="3492000"/>
              <a:ext cx="39564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45960" y="3492000"/>
              <a:ext cx="32364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23560" y="2517840"/>
              <a:ext cx="39420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307040" y="3083040"/>
            <a:ext cx="161640" cy="1522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5372280" y="3083040"/>
            <a:ext cx="161640" cy="1522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410080" y="3465360"/>
            <a:ext cx="162000" cy="152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4383000" y="3465360"/>
            <a:ext cx="162000" cy="1526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5"/>
          <a:stretch/>
        </p:blipFill>
        <p:spPr>
          <a:xfrm>
            <a:off x="4876920" y="4184640"/>
            <a:ext cx="161640" cy="152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6"/>
          <a:stretch/>
        </p:blipFill>
        <p:spPr>
          <a:xfrm>
            <a:off x="5943600" y="4191120"/>
            <a:ext cx="162000" cy="1522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6858000" y="6019920"/>
            <a:ext cx="162000" cy="152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7848720" y="6019920"/>
            <a:ext cx="1616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62520" y="1447920"/>
            <a:ext cx="495288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ABCD – рівнобічна трапеці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AB = CD за умовою. CK = AB за побудовою, бо ABCK – паралелограм. Отже, CK = CD та    D =   CKD. Але    A та    CKD відповідні  кути при AB//CK та січній A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же,    A =   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161640" cy="1526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28600" y="1371600"/>
            <a:ext cx="3505320" cy="2473200"/>
            <a:chOff x="228600" y="1371600"/>
            <a:chExt cx="3505320" cy="2473200"/>
          </a:xfrm>
        </p:grpSpPr>
        <p:sp>
          <p:nvSpPr>
            <p:cNvPr id="363" name=""/>
            <p:cNvSpPr/>
            <p:nvPr/>
          </p:nvSpPr>
          <p:spPr>
            <a:xfrm>
              <a:off x="2743200" y="1523880"/>
              <a:ext cx="412920" cy="412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228600" y="1371600"/>
              <a:ext cx="3505320" cy="2473200"/>
              <a:chOff x="228600" y="1371600"/>
              <a:chExt cx="3505320" cy="247320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641160" y="1782720"/>
                <a:ext cx="2681640" cy="1444320"/>
                <a:chOff x="641160" y="1782720"/>
                <a:chExt cx="2681640" cy="14443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259640" y="1782720"/>
                  <a:ext cx="144324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41520" y="3225960"/>
                  <a:ext cx="268128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>
                  <a:off x="641160" y="1782720"/>
                  <a:ext cx="618120" cy="144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702880" y="1782720"/>
                  <a:ext cx="619560" cy="144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>
                  <a:off x="2085120" y="1782720"/>
                  <a:ext cx="617760" cy="144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639720" y="1371600"/>
                <a:ext cx="414360" cy="4111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28600" y="3019320"/>
                <a:ext cx="412920" cy="4143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878120" y="3432240"/>
                <a:ext cx="407880" cy="4125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21000" y="3019320"/>
                <a:ext cx="412920" cy="4129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5145120" y="1981080"/>
            <a:ext cx="165240" cy="1526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5753160" y="1981080"/>
            <a:ext cx="164880" cy="1526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6897600" y="3809880"/>
            <a:ext cx="162000" cy="152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5"/>
          <a:stretch/>
        </p:blipFill>
        <p:spPr>
          <a:xfrm>
            <a:off x="8381880" y="3809880"/>
            <a:ext cx="162000" cy="1526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6"/>
          <a:stretch/>
        </p:blipFill>
        <p:spPr>
          <a:xfrm>
            <a:off x="4343400" y="4191120"/>
            <a:ext cx="162000" cy="1522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7"/>
          <a:stretch/>
        </p:blipFill>
        <p:spPr>
          <a:xfrm>
            <a:off x="4800600" y="4911840"/>
            <a:ext cx="165240" cy="152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8"/>
          <a:stretch/>
        </p:blipFill>
        <p:spPr>
          <a:xfrm>
            <a:off x="5410080" y="4911840"/>
            <a:ext cx="1652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286000" y="2438280"/>
            <a:ext cx="333360" cy="338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1905120"/>
            <a:ext cx="338040" cy="336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81080" y="1905120"/>
            <a:ext cx="509760" cy="336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191120" y="1447920"/>
            <a:ext cx="472428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ABCD – трапеція, CK = K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BC = DM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CKB =   DKM, як вертикальні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К = КD – за умовою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К =    КDМ, як внутрішні різносторонні при  паралельних ВС і АМ та січній С 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44560" y="2106720"/>
            <a:ext cx="1182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38040" y="3290760"/>
            <a:ext cx="2197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37680" y="2106720"/>
            <a:ext cx="506520" cy="11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27160" y="2106720"/>
            <a:ext cx="507960" cy="11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" y="3429000"/>
            <a:ext cx="338040" cy="33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3352680"/>
            <a:ext cx="338400" cy="33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44560" y="2106720"/>
            <a:ext cx="2873520" cy="11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35120" y="3289320"/>
            <a:ext cx="1182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3352680"/>
            <a:ext cx="333360" cy="33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191120" y="3083040"/>
            <a:ext cx="161640" cy="1522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257800" y="3083040"/>
            <a:ext cx="162000" cy="152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4191120" y="3809880"/>
            <a:ext cx="161640" cy="1526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5257800" y="3809880"/>
            <a:ext cx="1620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дача 1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вести, що середини сторін рівнобедреного трикутника разом з його вершиною, що лежить проти основи, є вершинами ром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724280" y="2057400"/>
            <a:ext cx="419112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NP =     AB, бо NP – середня лінія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рикутника. МN =    BС, отже,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N = NP = МВ = ВР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 чотирикутник, у якого всі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орони рівні – є ром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33160" y="2057400"/>
            <a:ext cx="3354840" cy="2590560"/>
            <a:chOff x="533160" y="2057400"/>
            <a:chExt cx="3354840" cy="2590560"/>
          </a:xfrm>
        </p:grpSpPr>
        <p:grpSp>
          <p:nvGrpSpPr>
            <p:cNvPr id="426" name=""/>
            <p:cNvGrpSpPr/>
            <p:nvPr/>
          </p:nvGrpSpPr>
          <p:grpSpPr>
            <a:xfrm>
              <a:off x="533160" y="2210040"/>
              <a:ext cx="3353400" cy="1981440"/>
              <a:chOff x="533160" y="2210040"/>
              <a:chExt cx="3353400" cy="1981440"/>
            </a:xfrm>
          </p:grpSpPr>
          <p:sp>
            <p:nvSpPr>
              <p:cNvPr id="427" name=""/>
              <p:cNvSpPr/>
              <p:nvPr/>
            </p:nvSpPr>
            <p:spPr>
              <a:xfrm>
                <a:off x="533160" y="2210040"/>
                <a:ext cx="3353400" cy="1981440"/>
              </a:xfrm>
              <a:prstGeom prst="triangle">
                <a:avLst>
                  <a:gd name="adj" fmla="val 50000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>
                <a:off x="1427040" y="3147840"/>
                <a:ext cx="78264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2210040" y="3147840"/>
                <a:ext cx="78228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33160" y="4343040"/>
              <a:ext cx="15372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62680" y="2057400"/>
              <a:ext cx="15336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42280" y="2819160"/>
              <a:ext cx="15444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24080" y="2819160"/>
              <a:ext cx="15336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33200" y="4343040"/>
              <a:ext cx="15480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10040" y="4344480"/>
              <a:ext cx="153720" cy="302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238320" cy="6094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934320" y="3124080"/>
            <a:ext cx="2379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дача 2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паралелограмі  ABCD протилежні сторони BC і AD розділені точками L та  M відповідно пополам і ці точки з’єднані відрізками з кінцями сторін AD і BC. Довести, що утворений при перетині проведених відрізків чотирикутник – паралелогр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43400" y="2743200"/>
            <a:ext cx="457200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LC//AM та LC = AM – за умовою. За відповідністю чотирикутник, у якого дві сторони рівні й паралельні – паралелограм. LCMA – паралелог- рам. Отже, LK//MP. Аналогічно, LP//КM. Чотирикутник, у якого сторони лежать на  паралельних прямих, паралелогр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8960" y="3200400"/>
            <a:ext cx="3762000" cy="2784240"/>
            <a:chOff x="138960" y="3200400"/>
            <a:chExt cx="3762000" cy="2784240"/>
          </a:xfrm>
        </p:grpSpPr>
        <p:grpSp>
          <p:nvGrpSpPr>
            <p:cNvPr id="454" name=""/>
            <p:cNvGrpSpPr/>
            <p:nvPr/>
          </p:nvGrpSpPr>
          <p:grpSpPr>
            <a:xfrm>
              <a:off x="138960" y="3618360"/>
              <a:ext cx="3759840" cy="1948680"/>
              <a:chOff x="138960" y="3618360"/>
              <a:chExt cx="3759840" cy="19486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138960" y="3618360"/>
                <a:ext cx="3759840" cy="1948680"/>
                <a:chOff x="138960" y="3618360"/>
                <a:chExt cx="3759840" cy="194868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138960" y="3618360"/>
                  <a:ext cx="3759840" cy="1948680"/>
                </a:xfrm>
                <a:prstGeom prst="parallelogram">
                  <a:avLst>
                    <a:gd name="adj" fmla="val 46771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078560" y="3618360"/>
                  <a:ext cx="586800" cy="19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370960" y="3618360"/>
                  <a:ext cx="586800" cy="19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138960" y="3618360"/>
                  <a:ext cx="2232000" cy="19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 flipH="1">
                <a:off x="1665360" y="3618360"/>
                <a:ext cx="2231280" cy="19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138960" y="5706360"/>
              <a:ext cx="139320" cy="277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74160" y="3200400"/>
              <a:ext cx="140400" cy="278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67000" y="3200400"/>
              <a:ext cx="141480" cy="278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59840" y="3200400"/>
              <a:ext cx="141120" cy="278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24640" y="5706360"/>
              <a:ext cx="140400" cy="278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31800" y="5706360"/>
              <a:ext cx="140400" cy="278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74160" y="4313880"/>
              <a:ext cx="140400" cy="278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24640" y="4592880"/>
              <a:ext cx="140400" cy="278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80880" y="3886200"/>
            <a:ext cx="424080" cy="388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3809880"/>
            <a:ext cx="426960" cy="392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дача 3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коло кола описана  рівнобічна трапеція, основи якої відносяться, як 2:3, а середня лінія 10 см. Знайти всі сторони трапеції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 говорили, що в трапецію можна  вписати коло, сума бічних сторін дорівнює сумі її осн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86200" y="2514600"/>
            <a:ext cx="5029200" cy="36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В + СD =ВС + АD. Нехай ВС = 2х см, АД =3х см. За теоремою про середню лінію трапеції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0 см, 5х = 20, х = 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 = 2*4= 8 см,    АD= 3*4= 12 см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25520" y="3135240"/>
            <a:ext cx="2975040" cy="2028960"/>
            <a:chOff x="425520" y="3135240"/>
            <a:chExt cx="2975040" cy="2028960"/>
          </a:xfrm>
        </p:grpSpPr>
        <p:sp>
          <p:nvSpPr>
            <p:cNvPr id="486" name=""/>
            <p:cNvSpPr/>
            <p:nvPr/>
          </p:nvSpPr>
          <p:spPr>
            <a:xfrm rot="10800000">
              <a:off x="425520" y="3135240"/>
              <a:ext cx="2975040" cy="2028960"/>
            </a:xfrm>
            <a:custGeom>
              <a:avLst/>
              <a:gdLst>
                <a:gd name="textAreaLeft" fmla="*/ 654120 w 2975040"/>
                <a:gd name="textAreaRight" fmla="*/ 2320920 w 2975040"/>
                <a:gd name="textAreaTop" fmla="*/ 446040 h 2028960"/>
                <a:gd name="textAreaBottom" fmla="*/ 1582920 h 202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9960" y="4118760"/>
              <a:ext cx="21254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228600" y="5257800"/>
            <a:ext cx="638280" cy="393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5257800"/>
            <a:ext cx="636840" cy="393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00280" y="4179960"/>
            <a:ext cx="638280" cy="393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51040" y="2940120"/>
            <a:ext cx="210960" cy="392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763720" y="2940120"/>
            <a:ext cx="212760" cy="392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4430880" y="4572000"/>
            <a:ext cx="119520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1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10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136440" y="1371600"/>
            <a:ext cx="3622680" cy="2438280"/>
            <a:chOff x="136440" y="1371600"/>
            <a:chExt cx="3622680" cy="2438280"/>
          </a:xfrm>
        </p:grpSpPr>
        <p:sp>
          <p:nvSpPr>
            <p:cNvPr id="496" name=""/>
            <p:cNvSpPr/>
            <p:nvPr/>
          </p:nvSpPr>
          <p:spPr>
            <a:xfrm>
              <a:off x="2971800" y="1371600"/>
              <a:ext cx="166680" cy="3430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171360" y="1485720"/>
              <a:ext cx="3587760" cy="1879920"/>
              <a:chOff x="171360" y="1485720"/>
              <a:chExt cx="3587760" cy="1879920"/>
            </a:xfrm>
          </p:grpSpPr>
          <p:sp>
            <p:nvSpPr>
              <p:cNvPr id="498" name=""/>
              <p:cNvSpPr/>
              <p:nvPr/>
            </p:nvSpPr>
            <p:spPr>
              <a:xfrm rot="10800000">
                <a:off x="171360" y="1485360"/>
                <a:ext cx="3587760" cy="1879560"/>
              </a:xfrm>
              <a:custGeom>
                <a:avLst/>
                <a:gdLst>
                  <a:gd name="textAreaLeft" fmla="*/ 769680 w 3587760"/>
                  <a:gd name="textAreaRight" fmla="*/ 2818080 w 3587760"/>
                  <a:gd name="textAreaTop" fmla="*/ 403200 h 1879560"/>
                  <a:gd name="textAreaBottom" fmla="*/ 1476360 h 187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407" y="21600"/>
                    </a:lnTo>
                    <a:lnTo>
                      <a:pt x="5193" y="2160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2050560" y="1486080"/>
                <a:ext cx="853200" cy="187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762120" y="1371600"/>
              <a:ext cx="169920" cy="341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6440" y="3467160"/>
              <a:ext cx="16848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52840" y="3467160"/>
              <a:ext cx="16812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50920" y="3467160"/>
              <a:ext cx="16848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1280" y="2168640"/>
              <a:ext cx="168480" cy="341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19400" y="2168640"/>
              <a:ext cx="16992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416400" y="2168640"/>
              <a:ext cx="16812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733840" y="2852640"/>
              <a:ext cx="341280" cy="341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дача 4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удувати трапецію за основами і бічними сторона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733920" y="1600200"/>
            <a:ext cx="5410080" cy="36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ємо              за трьома сторонами.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о пряму                 та               .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дення:                 та 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к протилежні сторони паралелограма).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Трапецію              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будовано.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35000" y="4114800"/>
            <a:ext cx="3522600" cy="2440080"/>
            <a:chOff x="135000" y="4114800"/>
            <a:chExt cx="3522600" cy="2440080"/>
          </a:xfrm>
        </p:grpSpPr>
        <p:sp>
          <p:nvSpPr>
            <p:cNvPr id="524" name=""/>
            <p:cNvSpPr/>
            <p:nvPr/>
          </p:nvSpPr>
          <p:spPr>
            <a:xfrm>
              <a:off x="135000" y="6282000"/>
              <a:ext cx="271440" cy="27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86160" y="6282000"/>
              <a:ext cx="271440" cy="27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60400" y="6282000"/>
              <a:ext cx="271440" cy="27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135000" y="4114800"/>
              <a:ext cx="3387600" cy="2033640"/>
              <a:chOff x="135000" y="4114800"/>
              <a:chExt cx="3387600" cy="203364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135000" y="4385880"/>
                <a:ext cx="3387600" cy="1762560"/>
                <a:chOff x="135000" y="4385880"/>
                <a:chExt cx="3387600" cy="1762560"/>
              </a:xfrm>
            </p:grpSpPr>
            <p:sp>
              <p:nvSpPr>
                <p:cNvPr id="529" name=""/>
                <p:cNvSpPr/>
                <p:nvPr/>
              </p:nvSpPr>
              <p:spPr>
                <a:xfrm rot="10800000">
                  <a:off x="135000" y="4385880"/>
                  <a:ext cx="3387600" cy="1762200"/>
                </a:xfrm>
                <a:custGeom>
                  <a:avLst/>
                  <a:gdLst>
                    <a:gd name="textAreaLeft" fmla="*/ 726840 w 3387600"/>
                    <a:gd name="textAreaRight" fmla="*/ 2660760 w 3387600"/>
                    <a:gd name="textAreaTop" fmla="*/ 378000 h 1762200"/>
                    <a:gd name="textAreaBottom" fmla="*/ 1384200 h 1762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407" y="21600"/>
                      </a:lnTo>
                      <a:lnTo>
                        <a:pt x="5193" y="21600"/>
                      </a:lnTo>
                      <a:close/>
                    </a:path>
                  </a:pathLst>
                </a:cu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1909440" y="4386240"/>
                  <a:ext cx="805680" cy="176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"/>
              <p:cNvSpPr/>
              <p:nvPr/>
            </p:nvSpPr>
            <p:spPr>
              <a:xfrm>
                <a:off x="2844720" y="4114800"/>
                <a:ext cx="270000" cy="2714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76440" y="4114800"/>
                <a:ext cx="271440" cy="2714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76440" y="5199120"/>
                <a:ext cx="134640" cy="2714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438280" y="5062680"/>
                <a:ext cx="133560" cy="27288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251160" y="5062680"/>
                <a:ext cx="133560" cy="27288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573280" y="5716800"/>
                <a:ext cx="474840" cy="2952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-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5334120" y="2017800"/>
            <a:ext cx="914400" cy="34452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6485040" y="2778120"/>
            <a:ext cx="1049400" cy="3063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7924680" y="2819520"/>
            <a:ext cx="990720" cy="28404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4"/>
          <a:stretch/>
        </p:blipFill>
        <p:spPr>
          <a:xfrm>
            <a:off x="5715000" y="3540240"/>
            <a:ext cx="1066680" cy="2919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5"/>
          <a:stretch/>
        </p:blipFill>
        <p:spPr>
          <a:xfrm>
            <a:off x="7238880" y="3540240"/>
            <a:ext cx="1067040" cy="2919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6"/>
          <a:stretch/>
        </p:blipFill>
        <p:spPr>
          <a:xfrm>
            <a:off x="5486400" y="4572000"/>
            <a:ext cx="9144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10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Самостійна робота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1 варіа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 прямокутнику кут між діагоналями становить 120°. Обчисліть кут між діагоналлю прямокутника і меншою стороною прямокутника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2 варіа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 рівнобедреній трапецій більша основа дорівнює 3,7 дм, бічна сторона дорівнює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,5 дм, а кут між ними 60°. Обчисліть середню лінію трапеції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Завдання додому: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вторити пункти 50-6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класти 2 задачі за таблице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очка перетину діагоналей чотирикутника рівновіддалена від його сторін. Довести, що цей чотирикутник ромб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72 (на побудову трапеції за основами і діагоналями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адача № 69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трапеція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середня  лінія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 7с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 4 с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найти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основи  трапеції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Розв’язува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 х см, тоді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 (х + 4) см. За теоремою про середню лінію трапеції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см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 5 с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 9 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0" y="1790640"/>
            <a:ext cx="4003200" cy="2477880"/>
            <a:chOff x="0" y="1790640"/>
            <a:chExt cx="4003200" cy="2477880"/>
          </a:xfrm>
        </p:grpSpPr>
        <p:grpSp>
          <p:nvGrpSpPr>
            <p:cNvPr id="214" name=""/>
            <p:cNvGrpSpPr/>
            <p:nvPr/>
          </p:nvGrpSpPr>
          <p:grpSpPr>
            <a:xfrm>
              <a:off x="380880" y="2171880"/>
              <a:ext cx="3428640" cy="1905480"/>
              <a:chOff x="380880" y="2171880"/>
              <a:chExt cx="3428640" cy="1905480"/>
            </a:xfrm>
          </p:grpSpPr>
          <p:sp>
            <p:nvSpPr>
              <p:cNvPr id="215" name=""/>
              <p:cNvSpPr/>
              <p:nvPr/>
            </p:nvSpPr>
            <p:spPr>
              <a:xfrm rot="10800000">
                <a:off x="380880" y="2171520"/>
                <a:ext cx="3428640" cy="1905480"/>
              </a:xfrm>
              <a:prstGeom prst="flowChartManualOperation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1760" y="3124080"/>
                <a:ext cx="266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0" y="3886920"/>
              <a:ext cx="380880" cy="381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0440" y="2933640"/>
              <a:ext cx="380880" cy="381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0680" y="1790640"/>
              <a:ext cx="191880" cy="381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37840" y="1790640"/>
              <a:ext cx="193320" cy="381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19080" y="2933640"/>
              <a:ext cx="193680" cy="384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09880" y="3886920"/>
              <a:ext cx="193320" cy="381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876920" y="4495680"/>
            <a:ext cx="327636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83560" cy="51624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304920" y="228600"/>
            <a:ext cx="8534160" cy="1676520"/>
          </a:xfrm>
          <a:prstGeom prst="rect">
            <a:avLst/>
          </a:prstGeom>
        </p:spPr>
        <p:txBody>
          <a:bodyPr wrap="none" lIns="0" rIns="0" tIns="0" bIns="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ометрія допомагає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увати і жи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37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00680" cy="4495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rcRect l="0" t="0" r="139" b="0"/>
          <a:stretch/>
        </p:blipFill>
        <p:spPr>
          <a:xfrm>
            <a:off x="4343400" y="1143000"/>
            <a:ext cx="44766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4952880" cy="4003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666880" y="228600"/>
            <a:ext cx="6477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овторюєм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Що таке чотирикутни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звати види чотирикутників, які ми вивч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ати означення паралелограма і сформулювати його властив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ати означення прямокутника і сформулювати його властив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ати означення ромба і сформулювати його властив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значення і властивості квад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вадрат має властивості прямокутника і ромб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ий чотирикутник називається трапеціє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формулювати теорему про середню лінію трапе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формулювати теорему Фалес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2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Чотирикутник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Опорні задач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що в чотирикутнику дві сторони рівні і паралельні, то він є паралелограмом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що протилежні сторони чотирикутника попарно рівні, то цей чотирикутник паралелограм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отирикутник, в якого всі сторони рівні, є ромбом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що в паралелограма діагоналі рівні, то він є прямокутнико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1-03-22T10:05:32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8000000000001024140</vt:lpwstr>
  </property>
  <property fmtid="{D5CDD505-2E9C-101B-9397-08002B2CF9AE}" pid="3" name="Version">
    <vt:r8>1</vt:r8>
  </property>
</Properties>
</file>