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8A7-FC25-4702-97CE-126D5299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39D-72B0-43B0-98F1-CBFCE4A8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ACC-E9A8-4F86-96E6-22CF8ECF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4CC-B919-4DF6-9396-0F2DA12D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C699-2E7C-42E8-9F30-21941CF0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523A-C361-4B45-8435-DC447716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C9B0-E48D-4075-B763-1818E846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D418-55DF-4645-AAFE-7E081ABD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D87A-9688-41F5-BE9B-04B750AE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BDF1-11D2-4F17-BD81-21BA5DF1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38B8-677C-4313-B90E-B0700101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F53-457C-48B0-A36C-8DEE127A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921C-1D48-422A-98EF-973BD658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6582-8B41-4198-88FE-7441FD36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C68-9F35-42D2-8B70-9867F5DA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8B9D-BC0D-415E-8FDF-7BC64C55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39E2-A785-4807-A8BF-9D8E907B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0535-3244-4D44-A49F-E49A07F4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FC068-00BE-47C2-98AC-319E16EB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C7C1-4B39-4758-8432-D427BBDB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5D50-356E-4F99-8A48-4068708E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A804-DCAB-4A67-A6E4-D3F1C1B3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24A-A619-4889-8929-BA872355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C348F-4582-4AD2-92C3-A321EC5F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E92E-BAD3-42E8-A8E2-FE157713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CA18-A2A6-4F61-B536-9EBFA07C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FCFE-D676-4A91-A4C2-C5EC643A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8EDA-BE0E-4215-B78C-9F504772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DD18-2A8C-4585-8E8A-893EE26A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F8F53-688E-4139-BD28-61561180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E1B-3F38-4F53-9320-2C725FF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56E-64E7-4DC4-9B46-94769F15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7F4-8E80-4B6B-948C-0A77A28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946-3695-41D6-8357-73CE06B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B11-C0A5-434C-B589-3DE6725C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311-18A7-453E-B34D-3ADA50D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0858-4F3D-4DBE-B373-4903BE06A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78BA-A29C-46A7-9C8F-F5C0C3DBD67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DB2F-2B56-494C-BE83-ADB3871E865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90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mic Sans MS"/>
              </a:rPr>
              <a:t>Чотирикутник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61960" y="411480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Презентацію підготувал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вчитель математик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ЗШ </a:t>
            </a: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I-III </a:t>
            </a: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ступенів №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м. Білої Церкв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Ільніцька Л.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810240" cy="3143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743200" y="3581280"/>
            <a:ext cx="3886200" cy="298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477120" y="380880"/>
            <a:ext cx="2361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2716200"/>
            <a:ext cx="5257800" cy="3951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57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отирикут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порні задач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в паралелограмі діагоналі взаємно-перпендикулярні, то він є ром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в паралелограмі всі кути прямі, то це буде прямокут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ини сторін чотирикутника є вершинами паралелогра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івнобедреній трапеції кути при основі рівні і діагоналі рівні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чотирикутника, вписаного в коло, сума протилежних кутів дорівнює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чотирикутника, описаного навколо кола, суми довжин протилежних сторін однакові.</a:t>
            </a:r>
            <a:br>
              <a:rPr sz="2400"/>
            </a:br>
            <a:br>
              <a:rPr sz="1000"/>
            </a:b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и правильні твердження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паралелограмі діагоналі не рівні,то він не може бути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жний квадрат є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нує ромб, який є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який прямокутник не є ром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нує квадрат, який не є ром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айте відповідь на запитанн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іть спільні властивості трапеції і ромб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му теорему про середню лінію трапеції можна перенести на довільний паралелогра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існує трапеція, у якої два протилежні кути гострі? У якої два протилежні кути прямі?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можна побудувати трапецію  з трьома прямими кут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838080"/>
          <a:ext cx="8686800" cy="4624560"/>
        </p:xfrm>
        <a:graphic>
          <a:graphicData uri="http://schemas.openxmlformats.org/drawingml/2006/table">
            <a:tbl>
              <a:tblPr/>
              <a:tblGrid>
                <a:gridCol w="528480"/>
                <a:gridCol w="3667320"/>
                <a:gridCol w="1108080"/>
                <a:gridCol w="1173240"/>
                <a:gridCol w="1104840"/>
                <a:gridCol w="1104840"/>
              </a:tblGrid>
              <a:tr h="45684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вост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фіг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арал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ямок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351000" indent="-1684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отирику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лежні сторони попарно паралель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кути прям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сторони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ь ділить на два рівні трику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лежні сторони рівні між собою, протилежні кути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990720"/>
          <a:ext cx="8686800" cy="3998880"/>
        </p:xfrm>
        <a:graphic>
          <a:graphicData uri="http://schemas.openxmlformats.org/drawingml/2006/table">
            <a:tbl>
              <a:tblPr/>
              <a:tblGrid>
                <a:gridCol w="528480"/>
                <a:gridCol w="3667320"/>
                <a:gridCol w="1108080"/>
                <a:gridCol w="1173240"/>
                <a:gridCol w="1104840"/>
                <a:gridCol w="1104840"/>
              </a:tblGrid>
              <a:tr h="3801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вост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фіг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арал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ямок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351000" indent="-1684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ь в точці їх перетину діляться попол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кутів,прилеглих до однієї сторони, дорівнює180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взаємно перпендикуляр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є бісектрисами кут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Розв’яжіть задач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означенні поняття «квадрат» не брати до уваги ознаку 4, то яке ми одержимо поняття?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ознаки включити в паралелограм, щоб отримати поняття «квадрат»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4600" y="1109160"/>
            <a:ext cx="3411000" cy="2652840"/>
            <a:chOff x="264600" y="1109160"/>
            <a:chExt cx="3411000" cy="2652840"/>
          </a:xfrm>
        </p:grpSpPr>
        <p:sp>
          <p:nvSpPr>
            <p:cNvPr id="253" name=""/>
            <p:cNvSpPr/>
            <p:nvPr/>
          </p:nvSpPr>
          <p:spPr>
            <a:xfrm rot="187800">
              <a:off x="273240" y="1415880"/>
              <a:ext cx="1947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7800">
              <a:off x="570960" y="3087360"/>
              <a:ext cx="194760" cy="33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5410400">
              <a:off x="909000" y="1301040"/>
              <a:ext cx="2193840" cy="2269080"/>
            </a:xfrm>
            <a:prstGeom prst="parallelogram">
              <a:avLst>
                <a:gd name="adj" fmla="val 2694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067040" y="1697040"/>
              <a:ext cx="1334880" cy="14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1320" y="1603080"/>
              <a:ext cx="2430720" cy="165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7800">
              <a:off x="3174840" y="1574640"/>
              <a:ext cx="1947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7800">
              <a:off x="3471840" y="326340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7800">
              <a:off x="3083400" y="3344040"/>
              <a:ext cx="194760" cy="338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7800">
              <a:off x="1761120" y="2584800"/>
              <a:ext cx="196920" cy="338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7800">
              <a:off x="375120" y="144072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7800">
              <a:off x="2257200" y="131472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343400" y="1447920"/>
            <a:ext cx="39625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аралелограм,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і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сектриса   А,  BN – бісектриса    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BN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= 90º,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ON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= 90º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419720" y="350028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161640" cy="152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477120" y="194616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867280" y="2514600"/>
            <a:ext cx="223920" cy="237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6019920" y="3540240"/>
            <a:ext cx="16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1447920"/>
            <a:ext cx="3962520" cy="46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рямокутник. Довести: АЕ = С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=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K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б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як відрізки між паралельними сторонами і проходять через точку перетину діагоналей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як діагоналі прямокутника і в точці перетину діляться по пол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 вертикальні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тже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19320"/>
            <a:ext cx="3649320" cy="1898280"/>
            <a:chOff x="228600" y="1219320"/>
            <a:chExt cx="3649320" cy="1898280"/>
          </a:xfrm>
        </p:grpSpPr>
        <p:grpSp>
          <p:nvGrpSpPr>
            <p:cNvPr id="281" name=""/>
            <p:cNvGrpSpPr/>
            <p:nvPr/>
          </p:nvGrpSpPr>
          <p:grpSpPr>
            <a:xfrm>
              <a:off x="565200" y="1408320"/>
              <a:ext cx="2850840" cy="1516320"/>
              <a:chOff x="565200" y="1408320"/>
              <a:chExt cx="2850840" cy="1516320"/>
            </a:xfrm>
          </p:grpSpPr>
          <p:sp>
            <p:nvSpPr>
              <p:cNvPr id="282" name=""/>
              <p:cNvSpPr/>
              <p:nvPr/>
            </p:nvSpPr>
            <p:spPr>
              <a:xfrm>
                <a:off x="565200" y="1408320"/>
                <a:ext cx="2850840" cy="151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5200" y="1408320"/>
                <a:ext cx="2850840" cy="15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65200" y="1408320"/>
                <a:ext cx="2850840" cy="15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65200" y="1785960"/>
                <a:ext cx="285084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903680" y="2357280"/>
              <a:ext cx="168480" cy="3801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" y="2735640"/>
              <a:ext cx="168840" cy="37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" y="1219320"/>
              <a:ext cx="168840" cy="37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79840" y="1221120"/>
              <a:ext cx="17028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79840" y="2737800"/>
              <a:ext cx="16884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2166840"/>
              <a:ext cx="16884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9840" y="1601280"/>
              <a:ext cx="298080" cy="689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20527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дача № 6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трапец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A,       B,      C,     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’яз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 кути при основ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внобедреного трикутн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як внутріш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зносторонні при паралельн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січні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же,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= 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°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1905120"/>
            <a:ext cx="4419360" cy="2430720"/>
            <a:chOff x="0" y="1905120"/>
            <a:chExt cx="4419360" cy="2430720"/>
          </a:xfrm>
        </p:grpSpPr>
        <p:sp>
          <p:nvSpPr>
            <p:cNvPr id="138" name=""/>
            <p:cNvSpPr/>
            <p:nvPr/>
          </p:nvSpPr>
          <p:spPr>
            <a:xfrm rot="10800000">
              <a:off x="441360" y="2345040"/>
              <a:ext cx="3531960" cy="1769400"/>
            </a:xfrm>
            <a:custGeom>
              <a:avLst/>
              <a:gdLst>
                <a:gd name="textAreaLeft" fmla="*/ 776520 w 3531960"/>
                <a:gd name="textAreaRight" fmla="*/ 2755440 w 3531960"/>
                <a:gd name="textAreaTop" fmla="*/ 389160 h 1769400"/>
                <a:gd name="textAreaBottom" fmla="*/ 1380240 h 176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41720" y="2345400"/>
              <a:ext cx="2651040" cy="176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7920" y="234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7920" y="234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2360" y="3009240"/>
              <a:ext cx="2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2360" y="3009240"/>
              <a:ext cx="2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893760"/>
              <a:ext cx="441720" cy="442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2360" y="1905120"/>
              <a:ext cx="443880" cy="442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93120" y="1905120"/>
              <a:ext cx="222480" cy="440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75480" y="3893760"/>
              <a:ext cx="443880" cy="442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2360" y="1828800"/>
            <a:ext cx="114480" cy="114480"/>
            <a:chOff x="5562360" y="1828800"/>
            <a:chExt cx="114480" cy="114480"/>
          </a:xfrm>
        </p:grpSpPr>
        <p:sp>
          <p:nvSpPr>
            <p:cNvPr id="149" name=""/>
            <p:cNvSpPr/>
            <p:nvPr/>
          </p:nvSpPr>
          <p:spPr>
            <a:xfrm flipH="1">
              <a:off x="5562360" y="18288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1943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324480" y="1828800"/>
            <a:ext cx="114480" cy="114480"/>
            <a:chOff x="6324480" y="1828800"/>
            <a:chExt cx="114480" cy="114480"/>
          </a:xfrm>
        </p:grpSpPr>
        <p:sp>
          <p:nvSpPr>
            <p:cNvPr id="152" name=""/>
            <p:cNvSpPr/>
            <p:nvPr/>
          </p:nvSpPr>
          <p:spPr>
            <a:xfrm flipH="1">
              <a:off x="63244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1828800"/>
            <a:ext cx="114480" cy="114480"/>
            <a:chOff x="7010280" y="1828800"/>
            <a:chExt cx="114480" cy="114480"/>
          </a:xfrm>
        </p:grpSpPr>
        <p:sp>
          <p:nvSpPr>
            <p:cNvPr id="155" name=""/>
            <p:cNvSpPr/>
            <p:nvPr/>
          </p:nvSpPr>
          <p:spPr>
            <a:xfrm flipH="1">
              <a:off x="70102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696080" y="1828800"/>
            <a:ext cx="114480" cy="114480"/>
            <a:chOff x="7696080" y="1828800"/>
            <a:chExt cx="114480" cy="114480"/>
          </a:xfrm>
        </p:grpSpPr>
        <p:sp>
          <p:nvSpPr>
            <p:cNvPr id="158" name=""/>
            <p:cNvSpPr/>
            <p:nvPr/>
          </p:nvSpPr>
          <p:spPr>
            <a:xfrm flipH="1">
              <a:off x="76960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960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95680" y="2743200"/>
            <a:ext cx="114480" cy="114480"/>
            <a:chOff x="4495680" y="2743200"/>
            <a:chExt cx="114480" cy="114480"/>
          </a:xfrm>
        </p:grpSpPr>
        <p:sp>
          <p:nvSpPr>
            <p:cNvPr id="161" name=""/>
            <p:cNvSpPr/>
            <p:nvPr/>
          </p:nvSpPr>
          <p:spPr>
            <a:xfrm flipH="1">
              <a:off x="4495680" y="27432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28576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86400" y="2743200"/>
            <a:ext cx="114480" cy="114480"/>
            <a:chOff x="5486400" y="2743200"/>
            <a:chExt cx="114480" cy="114480"/>
          </a:xfrm>
        </p:grpSpPr>
        <p:sp>
          <p:nvSpPr>
            <p:cNvPr id="164" name=""/>
            <p:cNvSpPr/>
            <p:nvPr/>
          </p:nvSpPr>
          <p:spPr>
            <a:xfrm flipH="1">
              <a:off x="5486400" y="27432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6400" y="28576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95680" y="3352680"/>
            <a:ext cx="114480" cy="114480"/>
            <a:chOff x="4495680" y="3352680"/>
            <a:chExt cx="114480" cy="114480"/>
          </a:xfrm>
        </p:grpSpPr>
        <p:sp>
          <p:nvSpPr>
            <p:cNvPr id="167" name=""/>
            <p:cNvSpPr/>
            <p:nvPr/>
          </p:nvSpPr>
          <p:spPr>
            <a:xfrm flipH="1">
              <a:off x="4495680" y="33526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95680" y="34671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562360" y="3352680"/>
            <a:ext cx="114480" cy="114480"/>
            <a:chOff x="5562360" y="3352680"/>
            <a:chExt cx="114480" cy="114480"/>
          </a:xfrm>
        </p:grpSpPr>
        <p:sp>
          <p:nvSpPr>
            <p:cNvPr id="170" name=""/>
            <p:cNvSpPr/>
            <p:nvPr/>
          </p:nvSpPr>
          <p:spPr>
            <a:xfrm flipH="1">
              <a:off x="5562360" y="33526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3467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495680" y="4572000"/>
            <a:ext cx="114480" cy="114480"/>
            <a:chOff x="4495680" y="4572000"/>
            <a:chExt cx="114480" cy="114480"/>
          </a:xfrm>
        </p:grpSpPr>
        <p:sp>
          <p:nvSpPr>
            <p:cNvPr id="173" name=""/>
            <p:cNvSpPr/>
            <p:nvPr/>
          </p:nvSpPr>
          <p:spPr>
            <a:xfrm flipH="1">
              <a:off x="44956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56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257800" y="4267080"/>
            <a:ext cx="114480" cy="114480"/>
            <a:chOff x="5257800" y="4267080"/>
            <a:chExt cx="114480" cy="114480"/>
          </a:xfrm>
        </p:grpSpPr>
        <p:sp>
          <p:nvSpPr>
            <p:cNvPr id="176" name=""/>
            <p:cNvSpPr/>
            <p:nvPr/>
          </p:nvSpPr>
          <p:spPr>
            <a:xfrm flipH="1">
              <a:off x="5257800" y="4267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4381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248160" y="4267080"/>
            <a:ext cx="114480" cy="114480"/>
            <a:chOff x="6248160" y="4267080"/>
            <a:chExt cx="114480" cy="114480"/>
          </a:xfrm>
        </p:grpSpPr>
        <p:sp>
          <p:nvSpPr>
            <p:cNvPr id="179" name=""/>
            <p:cNvSpPr/>
            <p:nvPr/>
          </p:nvSpPr>
          <p:spPr>
            <a:xfrm flipH="1">
              <a:off x="6248160" y="42670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4381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920" y="4648320"/>
            <a:ext cx="81532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же,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=2*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6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0°,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80° - 60°=12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і   В – внутрішні односторонні кути.   С=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+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°=12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05160" y="4572000"/>
            <a:ext cx="114480" cy="114480"/>
            <a:chOff x="5105160" y="4572000"/>
            <a:chExt cx="114480" cy="114480"/>
          </a:xfrm>
        </p:grpSpPr>
        <p:sp>
          <p:nvSpPr>
            <p:cNvPr id="183" name=""/>
            <p:cNvSpPr/>
            <p:nvPr/>
          </p:nvSpPr>
          <p:spPr>
            <a:xfrm flipH="1">
              <a:off x="5105160" y="457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686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10280" y="4572000"/>
            <a:ext cx="114480" cy="114480"/>
            <a:chOff x="7010280" y="4572000"/>
            <a:chExt cx="114480" cy="114480"/>
          </a:xfrm>
        </p:grpSpPr>
        <p:sp>
          <p:nvSpPr>
            <p:cNvPr id="186" name=""/>
            <p:cNvSpPr/>
            <p:nvPr/>
          </p:nvSpPr>
          <p:spPr>
            <a:xfrm flipH="1">
              <a:off x="70102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102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8600" y="5410080"/>
            <a:ext cx="114480" cy="114480"/>
            <a:chOff x="228600" y="5410080"/>
            <a:chExt cx="114480" cy="114480"/>
          </a:xfrm>
        </p:grpSpPr>
        <p:sp>
          <p:nvSpPr>
            <p:cNvPr id="189" name=""/>
            <p:cNvSpPr/>
            <p:nvPr/>
          </p:nvSpPr>
          <p:spPr>
            <a:xfrm flipH="1">
              <a:off x="228600" y="5410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524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86000" y="5410080"/>
            <a:ext cx="114480" cy="114480"/>
            <a:chOff x="2286000" y="5410080"/>
            <a:chExt cx="114480" cy="114480"/>
          </a:xfrm>
        </p:grpSpPr>
        <p:sp>
          <p:nvSpPr>
            <p:cNvPr id="192" name=""/>
            <p:cNvSpPr/>
            <p:nvPr/>
          </p:nvSpPr>
          <p:spPr>
            <a:xfrm flipH="1">
              <a:off x="2286000" y="5410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0" y="5524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504960" y="5410080"/>
            <a:ext cx="114480" cy="114480"/>
            <a:chOff x="3504960" y="5410080"/>
            <a:chExt cx="114480" cy="114480"/>
          </a:xfrm>
        </p:grpSpPr>
        <p:sp>
          <p:nvSpPr>
            <p:cNvPr id="195" name=""/>
            <p:cNvSpPr/>
            <p:nvPr/>
          </p:nvSpPr>
          <p:spPr>
            <a:xfrm flipH="1">
              <a:off x="3504960" y="54100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5320" y="5524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04560" y="6019920"/>
            <a:ext cx="114480" cy="114120"/>
            <a:chOff x="304560" y="6019920"/>
            <a:chExt cx="114480" cy="114120"/>
          </a:xfrm>
        </p:grpSpPr>
        <p:sp>
          <p:nvSpPr>
            <p:cNvPr id="198" name=""/>
            <p:cNvSpPr/>
            <p:nvPr/>
          </p:nvSpPr>
          <p:spPr>
            <a:xfrm flipH="1">
              <a:off x="304560" y="60199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920" y="61340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38080" y="6019920"/>
            <a:ext cx="114480" cy="114120"/>
            <a:chOff x="838080" y="6019920"/>
            <a:chExt cx="114480" cy="114120"/>
          </a:xfrm>
        </p:grpSpPr>
        <p:sp>
          <p:nvSpPr>
            <p:cNvPr id="201" name=""/>
            <p:cNvSpPr/>
            <p:nvPr/>
          </p:nvSpPr>
          <p:spPr>
            <a:xfrm flipH="1">
              <a:off x="838080" y="6019920"/>
              <a:ext cx="1144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61340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76560" y="6019920"/>
            <a:ext cx="114480" cy="114120"/>
            <a:chOff x="4876560" y="6019920"/>
            <a:chExt cx="114480" cy="114120"/>
          </a:xfrm>
        </p:grpSpPr>
        <p:sp>
          <p:nvSpPr>
            <p:cNvPr id="204" name=""/>
            <p:cNvSpPr/>
            <p:nvPr/>
          </p:nvSpPr>
          <p:spPr>
            <a:xfrm flipH="1">
              <a:off x="4876560" y="60199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6920" y="61340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5880" y="4572000"/>
            <a:ext cx="114480" cy="114480"/>
            <a:chOff x="6095880" y="4572000"/>
            <a:chExt cx="114480" cy="114480"/>
          </a:xfrm>
        </p:grpSpPr>
        <p:sp>
          <p:nvSpPr>
            <p:cNvPr id="207" name=""/>
            <p:cNvSpPr/>
            <p:nvPr/>
          </p:nvSpPr>
          <p:spPr>
            <a:xfrm flipH="1">
              <a:off x="60958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58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952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144792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аралелограм,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M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– паралелогра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=∆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 двома сторонами і кутом між ними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 Аналогічно 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=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Якщо сторони чотирикутника попарно рівні, то це паралелограм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662480"/>
            <a:ext cx="3885840" cy="1941120"/>
            <a:chOff x="228600" y="1662480"/>
            <a:chExt cx="3885840" cy="1941120"/>
          </a:xfrm>
        </p:grpSpPr>
        <p:grpSp>
          <p:nvGrpSpPr>
            <p:cNvPr id="303" name=""/>
            <p:cNvGrpSpPr/>
            <p:nvPr/>
          </p:nvGrpSpPr>
          <p:grpSpPr>
            <a:xfrm>
              <a:off x="506160" y="1982880"/>
              <a:ext cx="3466440" cy="1387440"/>
              <a:chOff x="506160" y="1982880"/>
              <a:chExt cx="3466440" cy="1387440"/>
            </a:xfrm>
          </p:grpSpPr>
          <p:sp>
            <p:nvSpPr>
              <p:cNvPr id="304" name=""/>
              <p:cNvSpPr/>
              <p:nvPr/>
            </p:nvSpPr>
            <p:spPr>
              <a:xfrm>
                <a:off x="506160" y="1983240"/>
                <a:ext cx="3466440" cy="1385640"/>
              </a:xfrm>
              <a:prstGeom prst="parallelogram">
                <a:avLst>
                  <a:gd name="adj" fmla="val 62542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506160" y="1982880"/>
                <a:ext cx="3466440" cy="13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37400" y="1983240"/>
                <a:ext cx="13860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002040" y="2398320"/>
                <a:ext cx="139680" cy="9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76360" y="2953080"/>
                <a:ext cx="166428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37400" y="1983240"/>
                <a:ext cx="1664280" cy="41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972600" y="1662480"/>
              <a:ext cx="14184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18744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9160" y="166248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41000" y="3326040"/>
              <a:ext cx="140760" cy="277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41000" y="235512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99160" y="263232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1447920"/>
            <a:ext cx="45720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D – трапеція,    АО = О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АВ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D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О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нутрішні різносторонні при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//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січній СА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нутрішні різносторонні п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січні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 в трикутнику кути при основі рівн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в трикутниках  DOC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: DO = OA; CO = OB;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ертикальні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AB = DC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41800" y="1712880"/>
            <a:ext cx="3155760" cy="2090520"/>
            <a:chOff x="541800" y="1712880"/>
            <a:chExt cx="3155760" cy="2090520"/>
          </a:xfrm>
        </p:grpSpPr>
        <p:grpSp>
          <p:nvGrpSpPr>
            <p:cNvPr id="324" name=""/>
            <p:cNvGrpSpPr/>
            <p:nvPr/>
          </p:nvGrpSpPr>
          <p:grpSpPr>
            <a:xfrm>
              <a:off x="788760" y="2179800"/>
              <a:ext cx="2765880" cy="1245600"/>
              <a:chOff x="788760" y="2179800"/>
              <a:chExt cx="2765880" cy="124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788760" y="2179800"/>
                <a:ext cx="2764800" cy="1245600"/>
              </a:xfrm>
              <a:custGeom>
                <a:avLst/>
                <a:gdLst>
                  <a:gd name="textAreaLeft" fmla="*/ 608040 w 2764800"/>
                  <a:gd name="textAreaRight" fmla="*/ 2156760 w 2764800"/>
                  <a:gd name="textAreaTop" fmla="*/ 273960 h 1245600"/>
                  <a:gd name="textAreaBottom" fmla="*/ 971640 h 124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479240" y="2179800"/>
                <a:ext cx="2075400" cy="12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88760" y="2179800"/>
                <a:ext cx="2072160" cy="12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232280" y="2491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800" y="1712880"/>
              <a:ext cx="4928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3360" y="1712880"/>
              <a:ext cx="39420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02240" y="3492000"/>
              <a:ext cx="3956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45960" y="3492000"/>
              <a:ext cx="3236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23560" y="2517840"/>
              <a:ext cx="39420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307040" y="30830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372280" y="3083040"/>
            <a:ext cx="161640" cy="152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410080" y="3465360"/>
            <a:ext cx="162000" cy="152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383000" y="3465360"/>
            <a:ext cx="162000" cy="152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4876920" y="41846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6"/>
          <a:stretch/>
        </p:blipFill>
        <p:spPr>
          <a:xfrm>
            <a:off x="5943600" y="419112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858000" y="601992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7848720" y="6019920"/>
            <a:ext cx="16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1447920"/>
            <a:ext cx="49528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ABCD – рівнобічна трапеці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AB = CD за умовою. CK = AB за побудовою, бо ABCK – паралелограм. Отже, CK = CD та    D =   CKD. Але    A та    CKD відповідні  кути при AB//CK та січній A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же,    A =  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28600" y="1371600"/>
            <a:ext cx="3505320" cy="2473200"/>
            <a:chOff x="228600" y="1371600"/>
            <a:chExt cx="3505320" cy="2473200"/>
          </a:xfrm>
        </p:grpSpPr>
        <p:sp>
          <p:nvSpPr>
            <p:cNvPr id="363" name=""/>
            <p:cNvSpPr/>
            <p:nvPr/>
          </p:nvSpPr>
          <p:spPr>
            <a:xfrm>
              <a:off x="2743200" y="1523880"/>
              <a:ext cx="412920" cy="412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28600" y="1371600"/>
              <a:ext cx="3505320" cy="2473200"/>
              <a:chOff x="228600" y="1371600"/>
              <a:chExt cx="3505320" cy="24732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641160" y="1782720"/>
                <a:ext cx="2681640" cy="1444320"/>
                <a:chOff x="641160" y="1782720"/>
                <a:chExt cx="2681640" cy="14443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259640" y="1782720"/>
                  <a:ext cx="144324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1520" y="3225960"/>
                  <a:ext cx="268128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641160" y="1782720"/>
                  <a:ext cx="61812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702880" y="1782720"/>
                  <a:ext cx="61956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2085120" y="1782720"/>
                  <a:ext cx="61776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639720" y="1371600"/>
                <a:ext cx="414360" cy="4111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28600" y="3019320"/>
                <a:ext cx="412920" cy="4143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78120" y="3432240"/>
                <a:ext cx="407880" cy="412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21000" y="3019320"/>
                <a:ext cx="412920" cy="412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145120" y="1981080"/>
            <a:ext cx="165240" cy="1526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753160" y="1981080"/>
            <a:ext cx="164880" cy="152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897600" y="3809880"/>
            <a:ext cx="162000" cy="152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8381880" y="3809880"/>
            <a:ext cx="162000" cy="152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4343400" y="419112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tretch/>
        </p:blipFill>
        <p:spPr>
          <a:xfrm>
            <a:off x="4800600" y="4911840"/>
            <a:ext cx="165240" cy="152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5410080" y="4911840"/>
            <a:ext cx="1652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0" y="2438280"/>
            <a:ext cx="333360" cy="338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1905120"/>
            <a:ext cx="33804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1905120"/>
            <a:ext cx="50976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1447920"/>
            <a:ext cx="47242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ABCD – трапеція, CK = K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BC = DM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CKB =   DKM, як вертикаль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К = КD – за умовою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К =    КDМ, як внутрішні різносторонні при  паралельних ВС і АМ та січній С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44560" y="2106720"/>
            <a:ext cx="1182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8040" y="3290760"/>
            <a:ext cx="219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37680" y="2106720"/>
            <a:ext cx="506520" cy="11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27160" y="2106720"/>
            <a:ext cx="507960" cy="11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3429000"/>
            <a:ext cx="33804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3352680"/>
            <a:ext cx="33840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44560" y="2106720"/>
            <a:ext cx="2873520" cy="11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35120" y="3289320"/>
            <a:ext cx="118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3352680"/>
            <a:ext cx="33336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191120" y="30830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257800" y="3083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4191120" y="3809880"/>
            <a:ext cx="161640" cy="152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257800" y="3809880"/>
            <a:ext cx="1620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вести, що середини сторін рівнобедреного трикутника разом з його вершиною, що лежить проти основи, є вершинами ро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2057400"/>
            <a:ext cx="419112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NP =     AB, бо NP – середня лінія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икутника. МN =    BС, отже,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N = NP = МВ = ВР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чотирикутник, у якого всі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рони рівні – є ром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33160" y="2057400"/>
            <a:ext cx="3354840" cy="2590560"/>
            <a:chOff x="533160" y="2057400"/>
            <a:chExt cx="3354840" cy="2590560"/>
          </a:xfrm>
        </p:grpSpPr>
        <p:grpSp>
          <p:nvGrpSpPr>
            <p:cNvPr id="426" name=""/>
            <p:cNvGrpSpPr/>
            <p:nvPr/>
          </p:nvGrpSpPr>
          <p:grpSpPr>
            <a:xfrm>
              <a:off x="533160" y="2210040"/>
              <a:ext cx="3353400" cy="1981440"/>
              <a:chOff x="533160" y="2210040"/>
              <a:chExt cx="3353400" cy="1981440"/>
            </a:xfrm>
          </p:grpSpPr>
          <p:sp>
            <p:nvSpPr>
              <p:cNvPr id="427" name=""/>
              <p:cNvSpPr/>
              <p:nvPr/>
            </p:nvSpPr>
            <p:spPr>
              <a:xfrm>
                <a:off x="533160" y="2210040"/>
                <a:ext cx="3353400" cy="1981440"/>
              </a:xfrm>
              <a:prstGeom prst="triangle">
                <a:avLst>
                  <a:gd name="adj" fmla="val 50000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1427040" y="3147840"/>
                <a:ext cx="78264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2210040" y="3147840"/>
                <a:ext cx="78228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33160" y="4343040"/>
              <a:ext cx="15372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680" y="2057400"/>
              <a:ext cx="15336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2280" y="2819160"/>
              <a:ext cx="15444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2819160"/>
              <a:ext cx="15336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3200" y="4343040"/>
              <a:ext cx="15480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0040" y="4344480"/>
              <a:ext cx="153720" cy="302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238320" cy="609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934320" y="3124080"/>
            <a:ext cx="2379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2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аралелограмі  ABCD протилежні сторони BC і AD розділені точками L та  M відповідно пополам і ці точки з’єднані відрізками з кінцями сторін AD і BC. Довести, що утворений при перетині проведених відрізків чотирикутник – паралелог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3400" y="2743200"/>
            <a:ext cx="457200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LC//AM та LC = AM – за умовою. За відповідністю чотирикутник, у якого дві сторони рівні й паралельні – паралелограм. LCMA – паралелог- рам. Отже, LK//MP. Аналогічно, LP//КM. Чотирикутник, у якого сторони лежать на  паралельних прямих, паралелог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8960" y="3200400"/>
            <a:ext cx="3762000" cy="2784240"/>
            <a:chOff x="138960" y="3200400"/>
            <a:chExt cx="3762000" cy="2784240"/>
          </a:xfrm>
        </p:grpSpPr>
        <p:grpSp>
          <p:nvGrpSpPr>
            <p:cNvPr id="454" name=""/>
            <p:cNvGrpSpPr/>
            <p:nvPr/>
          </p:nvGrpSpPr>
          <p:grpSpPr>
            <a:xfrm>
              <a:off x="138960" y="3618360"/>
              <a:ext cx="3759840" cy="1948680"/>
              <a:chOff x="138960" y="3618360"/>
              <a:chExt cx="3759840" cy="19486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138960" y="3618360"/>
                <a:ext cx="3759840" cy="1948680"/>
                <a:chOff x="138960" y="3618360"/>
                <a:chExt cx="3759840" cy="19486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38960" y="3618360"/>
                  <a:ext cx="3759840" cy="1948680"/>
                </a:xfrm>
                <a:prstGeom prst="parallelogram">
                  <a:avLst>
                    <a:gd name="adj" fmla="val 46771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078560" y="3618360"/>
                  <a:ext cx="5868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70960" y="3618360"/>
                  <a:ext cx="5868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38960" y="3618360"/>
                  <a:ext cx="22320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 flipH="1">
                <a:off x="1665360" y="3618360"/>
                <a:ext cx="2231280" cy="19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38960" y="5706360"/>
              <a:ext cx="139320" cy="277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74160" y="3200400"/>
              <a:ext cx="14040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7000" y="3200400"/>
              <a:ext cx="14148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9840" y="3200400"/>
              <a:ext cx="14112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24640" y="570636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31800" y="570636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74160" y="4313880"/>
              <a:ext cx="14040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24640" y="459288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80880" y="3886200"/>
            <a:ext cx="424080" cy="388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3809880"/>
            <a:ext cx="426960" cy="392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3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коло кола описана  рівнобічна трапеція, основи якої відносяться, як 2:3, а середня лінія 10 см. Знайти всі сторони трапеції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 говорили, що в трапецію можна  вписати коло, сума бічних сторін дорівнює сумі її осн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2514600"/>
            <a:ext cx="502920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 + СD =ВС + АD. Нехай ВС = 2х см, АД =3х см. За теоремою про середню лінію трапеції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 см, 5х = 20, х =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 = 2*4= 8 см,    АD= 3*4= 12 с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25520" y="3135240"/>
            <a:ext cx="2975040" cy="2028960"/>
            <a:chOff x="425520" y="3135240"/>
            <a:chExt cx="2975040" cy="2028960"/>
          </a:xfrm>
        </p:grpSpPr>
        <p:sp>
          <p:nvSpPr>
            <p:cNvPr id="486" name=""/>
            <p:cNvSpPr/>
            <p:nvPr/>
          </p:nvSpPr>
          <p:spPr>
            <a:xfrm rot="10800000">
              <a:off x="425520" y="3135240"/>
              <a:ext cx="2975040" cy="2028960"/>
            </a:xfrm>
            <a:custGeom>
              <a:avLst/>
              <a:gdLst>
                <a:gd name="textAreaLeft" fmla="*/ 654120 w 2975040"/>
                <a:gd name="textAreaRight" fmla="*/ 2320920 w 2975040"/>
                <a:gd name="textAreaTop" fmla="*/ 446040 h 2028960"/>
                <a:gd name="textAreaBottom" fmla="*/ 1582920 h 20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9960" y="4118760"/>
              <a:ext cx="2125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28600" y="5257800"/>
            <a:ext cx="638280" cy="39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5257800"/>
            <a:ext cx="636840" cy="39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00280" y="4179960"/>
            <a:ext cx="638280" cy="393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51040" y="2940120"/>
            <a:ext cx="210960" cy="39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63720" y="2940120"/>
            <a:ext cx="212760" cy="39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4430880" y="4572000"/>
            <a:ext cx="11952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136440" y="1371600"/>
            <a:ext cx="3622680" cy="2438280"/>
            <a:chOff x="136440" y="1371600"/>
            <a:chExt cx="3622680" cy="2438280"/>
          </a:xfrm>
        </p:grpSpPr>
        <p:sp>
          <p:nvSpPr>
            <p:cNvPr id="496" name=""/>
            <p:cNvSpPr/>
            <p:nvPr/>
          </p:nvSpPr>
          <p:spPr>
            <a:xfrm>
              <a:off x="2971800" y="1371600"/>
              <a:ext cx="166680" cy="343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171360" y="1485720"/>
              <a:ext cx="3587760" cy="1879920"/>
              <a:chOff x="171360" y="1485720"/>
              <a:chExt cx="3587760" cy="1879920"/>
            </a:xfrm>
          </p:grpSpPr>
          <p:sp>
            <p:nvSpPr>
              <p:cNvPr id="498" name=""/>
              <p:cNvSpPr/>
              <p:nvPr/>
            </p:nvSpPr>
            <p:spPr>
              <a:xfrm rot="10800000">
                <a:off x="171360" y="1485360"/>
                <a:ext cx="3587760" cy="1879560"/>
              </a:xfrm>
              <a:custGeom>
                <a:avLst/>
                <a:gdLst>
                  <a:gd name="textAreaLeft" fmla="*/ 769680 w 3587760"/>
                  <a:gd name="textAreaRight" fmla="*/ 2818080 w 3587760"/>
                  <a:gd name="textAreaTop" fmla="*/ 403200 h 1879560"/>
                  <a:gd name="textAreaBottom" fmla="*/ 1476360 h 18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407" y="21600"/>
                    </a:lnTo>
                    <a:lnTo>
                      <a:pt x="5193" y="216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2050560" y="1486080"/>
                <a:ext cx="853200" cy="18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762120" y="1371600"/>
              <a:ext cx="16992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6440" y="3467160"/>
              <a:ext cx="16848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52840" y="3467160"/>
              <a:ext cx="1681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50920" y="3467160"/>
              <a:ext cx="16848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1280" y="2168640"/>
              <a:ext cx="16848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19400" y="2168640"/>
              <a:ext cx="1699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16400" y="2168640"/>
              <a:ext cx="1681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3840" y="2852640"/>
              <a:ext cx="34128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4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удувати трапецію за основами і бічними сторон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33920" y="1600200"/>
            <a:ext cx="541008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ємо              за трьома сторонами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о пряму                 та               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ня:                 та 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к протилежні сторони паралелограма)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Трапецію         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будовано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5000" y="4114800"/>
            <a:ext cx="3522600" cy="2440080"/>
            <a:chOff x="135000" y="4114800"/>
            <a:chExt cx="3522600" cy="2440080"/>
          </a:xfrm>
        </p:grpSpPr>
        <p:sp>
          <p:nvSpPr>
            <p:cNvPr id="524" name=""/>
            <p:cNvSpPr/>
            <p:nvPr/>
          </p:nvSpPr>
          <p:spPr>
            <a:xfrm>
              <a:off x="13500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8616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6040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35000" y="4114800"/>
              <a:ext cx="3387600" cy="2033640"/>
              <a:chOff x="135000" y="4114800"/>
              <a:chExt cx="3387600" cy="203364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135000" y="4385880"/>
                <a:ext cx="3387600" cy="1762560"/>
                <a:chOff x="135000" y="4385880"/>
                <a:chExt cx="3387600" cy="1762560"/>
              </a:xfrm>
            </p:grpSpPr>
            <p:sp>
              <p:nvSpPr>
                <p:cNvPr id="529" name=""/>
                <p:cNvSpPr/>
                <p:nvPr/>
              </p:nvSpPr>
              <p:spPr>
                <a:xfrm rot="10800000">
                  <a:off x="135000" y="4385880"/>
                  <a:ext cx="3387600" cy="1762200"/>
                </a:xfrm>
                <a:custGeom>
                  <a:avLst/>
                  <a:gdLst>
                    <a:gd name="textAreaLeft" fmla="*/ 726840 w 3387600"/>
                    <a:gd name="textAreaRight" fmla="*/ 2660760 w 3387600"/>
                    <a:gd name="textAreaTop" fmla="*/ 378000 h 1762200"/>
                    <a:gd name="textAreaBottom" fmla="*/ 1384200 h 1762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407" y="21600"/>
                      </a:lnTo>
                      <a:lnTo>
                        <a:pt x="5193" y="21600"/>
                      </a:lnTo>
                      <a:close/>
                    </a:path>
                  </a:pathLst>
                </a:cu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909440" y="4386240"/>
                  <a:ext cx="805680" cy="176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2844720" y="4114800"/>
                <a:ext cx="27000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6440" y="4114800"/>
                <a:ext cx="27144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6440" y="5199120"/>
                <a:ext cx="13464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438280" y="5062680"/>
                <a:ext cx="133560" cy="272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51160" y="5062680"/>
                <a:ext cx="133560" cy="272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573280" y="5716800"/>
                <a:ext cx="474840" cy="2952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-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334120" y="2017800"/>
            <a:ext cx="914400" cy="3445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485040" y="2778120"/>
            <a:ext cx="1049400" cy="306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7924680" y="2819520"/>
            <a:ext cx="990720" cy="2840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5715000" y="3540240"/>
            <a:ext cx="1066680" cy="291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7238880" y="3540240"/>
            <a:ext cx="1067040" cy="2919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5486400" y="4572000"/>
            <a:ext cx="9144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амостійна робо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 варіа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прямокутнику кут між діагоналями становить 120°. Обчисліть кут між діагоналлю прямокутника і меншою стороною прямокутника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2 варіа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рівнобедреній трапецій більша основа дорівнює 3,7 дм, бічна сторона дорівнює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,5 дм, а кут між ними 60°. Обчисліть середню лінію трапеції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додом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торити пункти 50-6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ласти 2 задачі за таблице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чка перетину діагоналей чотирикутника рівновіддалена від його сторін. Довести, що цей чотирикутник ромб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2 (на побудову трапеції за основами і діагоналями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дача № 69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трапец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середня  лін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7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4 с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снови  трапеції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’яз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х см, тод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(х + 4) см. За теоремою про середню лінію трапеції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см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5 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9 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1790640"/>
            <a:ext cx="4003200" cy="2477880"/>
            <a:chOff x="0" y="1790640"/>
            <a:chExt cx="4003200" cy="2477880"/>
          </a:xfrm>
        </p:grpSpPr>
        <p:grpSp>
          <p:nvGrpSpPr>
            <p:cNvPr id="214" name=""/>
            <p:cNvGrpSpPr/>
            <p:nvPr/>
          </p:nvGrpSpPr>
          <p:grpSpPr>
            <a:xfrm>
              <a:off x="380880" y="2171880"/>
              <a:ext cx="3428640" cy="1905480"/>
              <a:chOff x="380880" y="2171880"/>
              <a:chExt cx="3428640" cy="1905480"/>
            </a:xfrm>
          </p:grpSpPr>
          <p:sp>
            <p:nvSpPr>
              <p:cNvPr id="215" name=""/>
              <p:cNvSpPr/>
              <p:nvPr/>
            </p:nvSpPr>
            <p:spPr>
              <a:xfrm rot="10800000">
                <a:off x="380880" y="2171520"/>
                <a:ext cx="3428640" cy="1905480"/>
              </a:xfrm>
              <a:prstGeom prst="flowChartManualOperation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1760" y="3124080"/>
                <a:ext cx="266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0" y="3886920"/>
              <a:ext cx="38088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440" y="2933640"/>
              <a:ext cx="380880" cy="381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0680" y="1790640"/>
              <a:ext cx="19188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37840" y="1790640"/>
              <a:ext cx="19332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19080" y="2933640"/>
              <a:ext cx="193680" cy="384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3886920"/>
              <a:ext cx="19332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76920" y="4495680"/>
            <a:ext cx="327636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83560" cy="5162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04920" y="228600"/>
            <a:ext cx="8534160" cy="167652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метрія допомагає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увати і жи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3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00680" cy="449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0" r="139" b="0"/>
          <a:stretch/>
        </p:blipFill>
        <p:spPr>
          <a:xfrm>
            <a:off x="4343400" y="1143000"/>
            <a:ext cx="44766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952880" cy="4003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вторюєм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 таке чотирикутн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звати види чотирикутників, які ми вивч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паралелограм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прямокутник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ромб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значення і властивості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вадрат має властивості прямокутника і ром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ий чотирикутник називається трапеціє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ормулювати теорему про середню лінію трапе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ормулювати теорему Фалес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отирикут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порні задач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в чотирикутнику дві сторони рівні і паралельні, то він є паралелограмо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протилежні сторони чотирикутника попарно рівні, то цей чотирикутник паралелогра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тирикутник, в якого всі сторони рівні, є ромбо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в паралелограма діагоналі рівні, то він є прямокутник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3-22T10:05:32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40</vt:lpwstr>
  </property>
  <property fmtid="{D5CDD505-2E9C-101B-9397-08002B2CF9AE}" pid="3" name="Version">
    <vt:r8>1</vt:r8>
  </property>
</Properties>
</file>