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wind.wav" ContentType="audio/x-wav"/>
  <Override PartName="/ppt/media/image13.gif" ContentType="image/gif"/>
  <Override PartName="/ppt/media/image15.gif" ContentType="image/gif"/>
  <Override PartName="/ppt/media/image3.jpeg" ContentType="image/jpeg"/>
  <Override PartName="/ppt/media/image14.wmf" ContentType="image/x-wmf"/>
  <Override PartName="/ppt/media/image6.gif" ContentType="image/gif"/>
  <Override PartName="/ppt/media/image11.gif" ContentType="image/gif"/>
  <Override PartName="/ppt/media/image5.png" ContentType="image/png"/>
  <Override PartName="/ppt/media/image4.gif" ContentType="image/gif"/>
  <Override PartName="/ppt/media/image8.png" ContentType="image/png"/>
  <Override PartName="/ppt/media/image1.gif" ContentType="image/gif"/>
  <Override PartName="/ppt/media/image12.wmf" ContentType="image/x-wmf"/>
  <Override PartName="/ppt/media/image7.gif" ContentType="image/gif"/>
  <Override PartName="/ppt/media/image9.gif" ContentType="image/gif"/>
  <Override PartName="/ppt/media/image10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B422B-17DB-459F-87F0-EE8ACD9EF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3F73C-8415-47BD-A3A2-ACA2E1DB2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3B340-636E-4AE7-AE7D-47B434500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F5B697-EEDB-4283-9EB0-923B23D3F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3C4CD-1B78-4237-94C9-555B0670D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FC8AE-9412-44B1-9D94-CA313C3E0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32E66-BE52-4EAD-8FA1-9D64420B5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CB526-245C-4DC6-A3BA-BBF1BBB3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0769-3B09-4CDD-805E-5EF3A10480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95F6C-88C0-4435-B739-ACE108FF7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49EFE-D5A7-4E6C-82AD-337EDBDD3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886C20-8466-44FB-8DA7-42AD5D8E6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116DD-54A5-45C7-98E8-68D30C11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BA672-6F56-4DA9-8922-B3A6C06E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AD3FC-8558-4814-BA00-951374435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230D-9B7A-4DDA-8871-6FBDA76A4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B15F5D-A2D3-434E-A9A1-BBF944047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E8DE9-6C7E-4493-94D9-CCB342291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033C8A-89F1-4FE1-A7C2-4DFBB753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C5EF3F-AC01-4F10-BC2E-77DB0F59D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1E5D71-BEC9-4B3F-9767-40CF3480A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5B4F2B-CD01-4563-BE45-B49E9965B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5CD93-EB0F-494A-AC0D-5F7A5EFE6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BC50FD-7756-4B1A-9B70-7D8FDF4C0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70650-8B2C-42F6-A1BA-B8A7F577C13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d0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ff"/>
                  </a:gs>
                  <a:gs pos="100000">
                    <a:srgbClr val="2c2c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333ff"/>
                </a:gs>
                <a:gs pos="100000">
                  <a:srgbClr val="2b2b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e2ee7"/>
                  </a:gs>
                  <a:gs pos="100000">
                    <a:srgbClr val="3333f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2929d0"/>
                  </a:gs>
                  <a:gs pos="100000">
                    <a:srgbClr val="3333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33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3333ff"/>
                  </a:gs>
                  <a:gs pos="100000">
                    <a:srgbClr val="2c2cdf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3333ff"/>
                </a:gs>
                <a:gs pos="100000">
                  <a:srgbClr val="2b2bd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1FDB0-4FAC-4DF0-A106-E291550A4D9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6.gif"/><Relationship Id="rId6" Type="http://schemas.openxmlformats.org/officeDocument/2006/relationships/image" Target="../media/image7.gif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9.gi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gif"/><Relationship Id="rId3" Type="http://schemas.openxmlformats.org/officeDocument/2006/relationships/audio" Target="../media/wind.wav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google.com/" TargetMode="External"/><Relationship Id="rId2" Type="http://schemas.openxmlformats.org/officeDocument/2006/relationships/hyperlink" Target="http://www.rambler.ru/" TargetMode="External"/><Relationship Id="rId3" Type="http://schemas.openxmlformats.org/officeDocument/2006/relationships/image" Target="../media/image12.wmf"/><Relationship Id="rId4" Type="http://schemas.openxmlformats.org/officeDocument/2006/relationships/image" Target="../media/image13.gif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547280" y="4436640"/>
            <a:ext cx="6985080" cy="18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Підготувала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вчитель ЗОШ №6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м. Сміли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9466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1cce20"/>
                </a:solidFill>
                <a:latin typeface="Arial"/>
              </a:rPr>
              <a:t>Білоконь Л.М.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432080" y="1494000"/>
            <a:ext cx="6524640" cy="1790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caf00a"/>
                    </a:gs>
                    <a:gs pos="100000">
                      <a:srgbClr val="000000"/>
                    </a:gs>
                  </a:gsLst>
                  <a:lin ang="5400000"/>
                </a:gradFill>
                <a:latin typeface="Impact"/>
              </a:rPr>
              <a:t>У світі синусоїд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0000"/>
                  </a:gs>
                  <a:gs pos="50000">
                    <a:srgbClr val="caf00a"/>
                  </a:gs>
                  <a:gs pos="100000">
                    <a:srgbClr val="000000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10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8712360" y="5994360"/>
            <a:ext cx="863280" cy="8636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500"/>
                            </p:stCondLst>
                            <p:childTnLst>
                              <p:par>
                                <p:cTn id="20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9250"/>
                            </p:stCondLst>
                            <p:childTnLst>
                              <p:par>
                                <p:cTn id="2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750"/>
                            </p:stCondLst>
                            <p:childTnLst>
                              <p:par>
                                <p:cTn id="3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5500"/>
                            </p:stCondLst>
                            <p:childTnLst>
                              <p:par>
                                <p:cTn id="38" nodeType="after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396360" cy="71010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8000" spc="-1" strike="noStrike">
                <a:solidFill>
                  <a:srgbClr val="ff66ff"/>
                </a:solidFill>
                <a:latin typeface="Lucida Console"/>
              </a:rPr>
              <a:t>Дорогі друзі!</a:t>
            </a:r>
            <a:endParaRPr b="1" lang="en-US" sz="8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920" y="2852640"/>
            <a:ext cx="822960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Чи помічали ви красу гармонії в нашому світі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Чи хотіли  б ви дослідити її разом з нами?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Якщо так, то запрошуємо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вас стати учасниками нашого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 </a:t>
            </a:r>
            <a:r>
              <a:rPr b="1" lang="uk-UA" sz="3600" spc="-1" strike="noStrike">
                <a:solidFill>
                  <a:srgbClr val="00cc00"/>
                </a:solidFill>
                <a:latin typeface="Garamond"/>
              </a:rPr>
              <a:t>проекту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381720" y="4643280"/>
            <a:ext cx="2952720" cy="22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200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3000"/>
                            </p:stCondLst>
                            <p:childTnLst>
                              <p:par>
                                <p:cTn id="57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7000"/>
                            </p:stCondLst>
                            <p:childTnLst>
                              <p:par>
                                <p:cTn id="7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20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9000"/>
                            </p:stCondLst>
                            <p:childTnLst>
                              <p:par>
                                <p:cTn id="9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01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20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95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cc00"/>
                </a:solidFill>
                <a:latin typeface="Comic Sans MS"/>
              </a:rPr>
              <a:t>Мета проекту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440" y="2287440"/>
            <a:ext cx="7931160" cy="31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Провести дослідження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Зібрати та представити результати досліджень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Проаналізуват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Застосувати знання до життєвих 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en-US" sz="3200" spc="-1" strike="noStrike">
                <a:solidFill>
                  <a:srgbClr val="ff66ff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ff66ff"/>
                </a:solidFill>
                <a:latin typeface="Garamond"/>
              </a:rPr>
              <a:t>ситуацій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5"/>
          <a:stretch/>
        </p:blipFill>
        <p:spPr>
          <a:xfrm>
            <a:off x="100080" y="4906800"/>
            <a:ext cx="2808360" cy="18720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6"/>
          <a:stretch/>
        </p:blipFill>
        <p:spPr>
          <a:xfrm>
            <a:off x="6372360" y="4797360"/>
            <a:ext cx="2447640" cy="183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4000"/>
                            </p:stCondLst>
                            <p:childTnLst>
                              <p:par>
                                <p:cTn id="12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6000"/>
                            </p:stCondLst>
                            <p:childTnLst>
                              <p:par>
                                <p:cTn id="13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8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1250"/>
                            </p:stCondLst>
                            <p:childTnLst>
                              <p:par>
                                <p:cTn id="14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4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5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1750"/>
                            </p:stCondLst>
                            <p:childTnLst>
                              <p:par>
                                <p:cTn id="14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0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2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25750"/>
                            </p:stCondLst>
                            <p:childTnLst>
                              <p:par>
                                <p:cTn id="15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6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32,-122,-88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18840" y="301680"/>
            <a:ext cx="7956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600" spc="-1" strike="noStrike" u="sng">
                <a:solidFill>
                  <a:srgbClr val="f34f4f"/>
                </a:solidFill>
                <a:uFillTx/>
                <a:latin typeface="Lucida Bright"/>
              </a:rPr>
              <a:t>Завдання</a:t>
            </a:r>
            <a:endParaRPr b="1" lang="en-US" sz="66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78920" y="1413000"/>
            <a:ext cx="851868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Прочитати запропоновану літературу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Об</a:t>
            </a:r>
            <a:r>
              <a:rPr b="1" lang="en-US" sz="3000" spc="-1" strike="noStrike">
                <a:solidFill>
                  <a:srgbClr val="ef1111"/>
                </a:solidFill>
                <a:latin typeface="Arial"/>
              </a:rPr>
              <a:t>’</a:t>
            </a: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єднатися в групи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У кожній групі 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виберіть інформатик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cc00ff"/>
                </a:solidFill>
                <a:latin typeface="Arial"/>
              </a:rPr>
              <a:t>та журналіста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Дослідіть, чи дійсно можна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спостерігати гармонічність синусоїди у кожному з видів наук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ef1111"/>
                </a:solidFill>
                <a:latin typeface="Arial"/>
              </a:rPr>
              <a:t>Результати оформіть у вигляді презентацій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14" name=""/>
          <p:cNvSpPr/>
          <p:nvPr/>
        </p:nvSpPr>
        <p:spPr>
          <a:xfrm>
            <a:off x="5780160" y="1979640"/>
            <a:ext cx="3384360" cy="2519280"/>
          </a:xfrm>
          <a:prstGeom prst="verticalScroll">
            <a:avLst>
              <a:gd name="adj" fmla="val 20328"/>
            </a:avLst>
          </a:prstGeom>
          <a:gradFill rotWithShape="0">
            <a:gsLst>
              <a:gs pos="0">
                <a:srgbClr val="e4df0b"/>
              </a:gs>
              <a:gs pos="100000">
                <a:srgbClr val="17ad1b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Техні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Фізи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Астроном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Медик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Garamond"/>
              </a:rPr>
              <a:t>Раціоналізаторі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6"/>
          <a:stretch/>
        </p:blipFill>
        <p:spPr>
          <a:xfrm>
            <a:off x="7267680" y="5268960"/>
            <a:ext cx="1439640" cy="14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3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3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2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0"/>
                            </p:stCondLst>
                            <p:childTnLst>
                              <p:par>
                                <p:cTn id="17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20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70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9000"/>
                            </p:stCondLst>
                            <p:childTnLst>
                              <p:par>
                                <p:cTn id="1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2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2000" fill="hold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5000"/>
                            </p:stCondLst>
                            <p:childTnLst>
                              <p:par>
                                <p:cTn id="20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2000" fill="hold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19000"/>
                            </p:stCondLst>
                            <p:childTnLst>
                              <p:par>
                                <p:cTn id="21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1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2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665280"/>
            <a:ext cx="82296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Чи математика безмежна як світ, присутня і міститься в усьому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Де в навколишньому світі ми можемо зустрітися з гармонією синусоїд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Чи підвладні законам синусоїди біоритми людини?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en-US" sz="4000" spc="-1" strike="noStrike">
                <a:solidFill>
                  <a:srgbClr val="ef1111"/>
                </a:solidFill>
                <a:latin typeface="Garamond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Якщо вас зацікавили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дані питання, то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вирушаймо в 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ef1111"/>
                </a:solidFill>
                <a:latin typeface="Arial"/>
              </a:rPr>
              <a:t>подорож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2011680" cy="30686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3924360" y="3141720"/>
            <a:ext cx="21906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20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2000"/>
                            </p:stCondLst>
                            <p:childTnLst>
                              <p:par>
                                <p:cTn id="23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20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0"/>
                            </p:stCondLst>
                            <p:childTnLst>
                              <p:par>
                                <p:cTn id="244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20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6000"/>
                            </p:stCondLst>
                            <p:childTnLst>
                              <p:par>
                                <p:cTn id="25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in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52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53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4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8000"/>
                            </p:stCondLst>
                            <p:childTnLst>
                              <p:par>
                                <p:cTn id="256" nodeType="after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2000" fill="hold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20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26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2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66ff"/>
                </a:solidFill>
                <a:latin typeface="Arial"/>
              </a:rPr>
              <a:t>Перші кроки найважчі, тому пропонуємо завітати до 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google.com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e4df0b"/>
                </a:solidFill>
                <a:latin typeface="Arial"/>
              </a:rPr>
              <a:t> </a:t>
            </a:r>
            <a:r>
              <a:rPr b="0" lang="en-US" sz="30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www.rambler.ru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ff66ff"/>
                </a:solidFill>
                <a:latin typeface="Arial"/>
              </a:rPr>
              <a:t>Використати літературу: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d0cb0a"/>
                </a:solidFill>
                <a:latin typeface="Arial"/>
              </a:rPr>
              <a:t>OXFORD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– велика енциклопедія школяра;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3 93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 </a:t>
            </a: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 3 89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caf00a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000" spc="-1" strike="noStrike">
                <a:solidFill>
                  <a:srgbClr val="d0cb0a"/>
                </a:solidFill>
                <a:latin typeface="Arial"/>
              </a:rPr>
              <a:t>журнал “Математика в школі” № 2 93р.</a:t>
            </a: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 flipH="1">
            <a:off x="5796000" y="1125360"/>
            <a:ext cx="1511280" cy="19432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7451640" y="3213000"/>
            <a:ext cx="1332000" cy="13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30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3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000"/>
                            </p:stCondLst>
                            <p:childTnLst>
                              <p:par>
                                <p:cTn id="28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30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3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6000"/>
                            </p:stCondLst>
                            <p:childTnLst>
                              <p:par>
                                <p:cTn id="28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30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4" dur="30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30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30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312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30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8" dur="3000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18000"/>
                            </p:stCondLst>
                            <p:childTnLst>
                              <p:par>
                                <p:cTn id="320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30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28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30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30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4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95280" y="333360"/>
            <a:ext cx="835344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f66ff"/>
                </a:solidFill>
                <a:latin typeface="Lucida Console"/>
              </a:rPr>
              <a:t>Учні, які виконають завдання, отримають приз – додатковий бал за тему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1" lang="uk-UA" sz="6600" spc="-1" strike="noStrike">
                <a:solidFill>
                  <a:srgbClr val="ffcc00"/>
                </a:solidFill>
                <a:latin typeface="Garamond"/>
              </a:rPr>
              <a:t>Бажаю успіхів у творчій роботі!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435640" y="4221000"/>
            <a:ext cx="35272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3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6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2000"/>
                            </p:stCondLst>
                            <p:childTnLst>
                              <p:par>
                                <p:cTn id="36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95280" y="3141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5600" spc="-1" strike="noStrike">
                <a:solidFill>
                  <a:srgbClr val="ef1111"/>
                </a:solidFill>
                <a:latin typeface="Comic Sans MS"/>
              </a:rPr>
              <a:t>КІНЕЦЬ</a:t>
            </a:r>
            <a:endParaRPr b="1" lang="en-US" sz="15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5" name="" descr="">
            <a:hlinkClick r:id="" action="ppaction://hlinkshowjump?jump=endshow"/>
          </p:cNvPr>
          <p:cNvPicPr/>
          <p:nvPr/>
        </p:nvPicPr>
        <p:blipFill>
          <a:blip r:embed="rId1"/>
          <a:stretch/>
        </p:blipFill>
        <p:spPr>
          <a:xfrm>
            <a:off x="2843280" y="2347920"/>
            <a:ext cx="273672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0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2000"/>
                            </p:stCondLst>
                            <p:childTnLst>
                              <p:par>
                                <p:cTn id="373" nodeType="afterEffect" fill="hold" presetClass="exit" presetID="40">
                                  <p:stCondLst>
                                    <p:cond delay="300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8000"/>
                            </p:stCondLst>
                            <p:childTnLst>
                              <p:par>
                                <p:cTn id="379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3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8T15:40:06Z</dcterms:created>
  <dc:creator>Белоконь Денис</dc:creator>
  <dc:description/>
  <dc:language>en-US</dc:language>
  <cp:lastModifiedBy>Admin</cp:lastModifiedBy>
  <dcterms:modified xsi:type="dcterms:W3CDTF">2011-03-01T10:14:48Z</dcterms:modified>
  <cp:revision>9</cp:revision>
  <dc:subject/>
  <dc:title>У світі гармонії і краси</dc:title>
</cp:coreProperties>
</file>