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gif" ContentType="image/gif"/>
  <Override PartName="/ppt/media/image9.gif" ContentType="image/gif"/>
  <Override PartName="/ppt/media/image8.gif" ContentType="image/gif"/>
  <Override PartName="/ppt/media/image17.wmf" ContentType="image/x-wmf"/>
  <Override PartName="/ppt/media/image16.wmf" ContentType="image/x-wmf"/>
  <Override PartName="/ppt/media/image15.wmf" ContentType="image/x-wmf"/>
  <Override PartName="/ppt/media/image7.gif" ContentType="image/gif"/>
  <Override PartName="/ppt/media/image12.gif" ContentType="image/gif"/>
  <Override PartName="/ppt/media/image14.wmf" ContentType="image/x-wmf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13.jpeg" ContentType="image/jpe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2B8A-6288-482E-B3E2-0A5F68767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0AB50-05C0-48D0-8234-2C191C3BD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6992-9F49-495B-A8C3-317BE70CB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19ED-B2C7-4A97-A57B-64B91D36AD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A90A-9468-4628-8C5C-FAEE50AF2C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9830-091C-44E8-A8EF-731A3B6E1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69D90-DED5-4920-B968-2D9DEA946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8298C-4451-4588-9AB9-3F066B7C5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35339-7EBE-4B94-962F-5ADE3E60C8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0274E-3BBF-46BB-973A-9A398AAEC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96A9-DFA5-47F7-B436-FB7D3F15B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55B2-3DDA-49B8-9BA0-C0A5E33C3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43EA0-4102-47C5-A9BA-D32EB44D4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35074-DD39-41D2-A278-CCDB1583D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CC6BF9-0F3D-48E4-9366-2C436A049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2C683-499F-4E10-8013-4EC3BDD23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E6BB7-B16C-429C-B4D1-EB3374A3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7BD8-ACC7-4418-ACD9-A31198C5D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F534-F4B3-4A24-A21D-40EFC10C5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07D6-B633-4AD1-BAEF-B90042C47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96DA-E7DE-4E4C-ACDE-D3C0A77E5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AE96-CC0B-4918-88C6-A96679D1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E950-40A0-4B07-87C7-BAC016D03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4321C-33A1-438D-B66C-663041EA2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818CB-687E-4CCA-A722-729A357C8C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53BAB-A4EE-440E-941D-8C1D54C81F3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" Target="slide2.xml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png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animationfactory.com/free/sports/basketball_variant_page_basketball_player_dribbling.html" TargetMode="External"/><Relationship Id="rId2" Type="http://schemas.openxmlformats.org/officeDocument/2006/relationships/image" Target="../media/image7.gif"/><Relationship Id="rId3" Type="http://schemas.openxmlformats.org/officeDocument/2006/relationships/image" Target="../media/image8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1547640" y="1916280"/>
            <a:ext cx="6193080" cy="21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c0808"/>
                    </a:gs>
                    <a:gs pos="50000">
                      <a:srgbClr val="ffcc00"/>
                    </a:gs>
                    <a:gs pos="100000">
                      <a:srgbClr val="fc0808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Висновок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c0808"/>
                  </a:gs>
                  <a:gs pos="50000">
                    <a:srgbClr val="ffcc00"/>
                  </a:gs>
                  <a:gs pos="100000">
                    <a:srgbClr val="fc0808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/>
          </p:nvPr>
        </p:nvSpPr>
        <p:spPr>
          <a:xfrm>
            <a:off x="899640" y="404280"/>
            <a:ext cx="7386840" cy="56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c0808"/>
                </a:solidFill>
                <a:latin typeface="Bodoni MT Black"/>
              </a:rPr>
              <a:t>ДЯКУЮ ЗА СПІВПРАЦЮ!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059280" y="3141720"/>
            <a:ext cx="2985840" cy="34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4" dur="20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7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0" dur="500" fill="hold"/>
                                        <p:tgtEl>
                                          <p:spTgt spid="2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3500"/>
                            </p:stCondLst>
                            <p:childTnLst>
                              <p:par>
                                <p:cTn id="5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91520" cy="1063440"/>
          </a:xfrm>
          <a:prstGeom prst="rect">
            <a:avLst/>
          </a:prstGeom>
          <a:gradFill rotWithShape="0">
            <a:gsLst>
              <a:gs pos="0">
                <a:srgbClr val="000000"/>
              </a:gs>
              <a:gs pos="50000">
                <a:srgbClr val="e0e008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400" spc="-1" strike="noStrike">
                <a:solidFill>
                  <a:srgbClr val="fc0808"/>
                </a:solidFill>
                <a:latin typeface="Arial"/>
              </a:rPr>
              <a:t>Результати досліджень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1628640"/>
            <a:ext cx="78487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36440" y="1327320"/>
            <a:ext cx="8950320" cy="3720960"/>
            <a:chOff x="136440" y="1327320"/>
            <a:chExt cx="8950320" cy="3720960"/>
          </a:xfrm>
        </p:grpSpPr>
        <p:sp>
          <p:nvSpPr>
            <p:cNvPr id="216" name=""/>
            <p:cNvSpPr/>
            <p:nvPr/>
          </p:nvSpPr>
          <p:spPr>
            <a:xfrm>
              <a:off x="13644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1" action="ppaction://hlinksldjump"/>
                </a:rPr>
                <a:t>Техні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52720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2" action="ppaction://hlinksldjump"/>
                </a:rPr>
                <a:t>Мед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68792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3" action="ppaction://hlinksldjump"/>
                </a:rPr>
                <a:t>З життя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068960" y="2760840"/>
              <a:ext cx="2017800" cy="84744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4" action="ppaction://hlinksldjump"/>
                </a:rPr>
                <a:t>Фізик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682560" y="4200480"/>
              <a:ext cx="345780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5" action="ppaction://hlinksldjump"/>
                </a:rPr>
                <a:t>Раціоналізатор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932360" y="4200480"/>
              <a:ext cx="3975120" cy="847800"/>
            </a:xfrm>
            <a:prstGeom prst="rect">
              <a:avLst/>
            </a:prstGeom>
            <a:gradFill rotWithShape="0">
              <a:gsLst>
                <a:gs pos="0">
                  <a:srgbClr val="9900ff"/>
                </a:gs>
                <a:gs pos="100000">
                  <a:srgbClr val="000000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 anchorCtr="1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2800" spc="-1" strike="noStrike" u="sng">
                  <a:solidFill>
                    <a:srgbClr val="99ff99"/>
                  </a:solidFill>
                  <a:uFillTx/>
                  <a:latin typeface="Arial"/>
                  <a:hlinkClick r:id="rId6" action="ppaction://hlinksldjump"/>
                </a:rPr>
                <a:t>Астрономі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04292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56400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65164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72360" y="1327320"/>
              <a:ext cx="0" cy="143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35440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905520" y="1327320"/>
              <a:ext cx="0" cy="2879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техні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8275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в літака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електростанціях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поршн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708360" y="3429000"/>
            <a:ext cx="4583160" cy="2695680"/>
          </a:xfrm>
          <a:prstGeom prst="rect">
            <a:avLst/>
          </a:prstGeom>
          <a:ln w="0">
            <a:noFill/>
          </a:ln>
        </p:spPr>
      </p:pic>
      <p:sp>
        <p:nvSpPr>
          <p:cNvPr id="231" name="">
            <a:hlinkClick r:id="rId2" action="ppaction://hlinksldjump"/>
          </p:cNvPr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медицин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97044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біоритми людин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диханн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сер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 flipH="1">
            <a:off x="5551200" y="1119240"/>
            <a:ext cx="2981160" cy="202248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2"/>
          <a:stretch/>
        </p:blipFill>
        <p:spPr>
          <a:xfrm>
            <a:off x="5076720" y="4371840"/>
            <a:ext cx="4067280" cy="248616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3"/>
          <a:stretch/>
        </p:blipFill>
        <p:spPr>
          <a:xfrm>
            <a:off x="3995640" y="2852640"/>
            <a:ext cx="1420920" cy="116856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4"/>
          <a:stretch/>
        </p:blipFill>
        <p:spPr>
          <a:xfrm>
            <a:off x="658800" y="3308400"/>
            <a:ext cx="3076560" cy="3549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З життя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коливання ниви на пол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скакання 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яч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підстрибування та ін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1" name="" descr="basketball_player_dribbling_md_wht.gi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755640" y="3860640"/>
            <a:ext cx="2519280" cy="25196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6588000" y="189000"/>
            <a:ext cx="2286000" cy="525780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4"/>
          <a:stretch/>
        </p:blipFill>
        <p:spPr>
          <a:xfrm>
            <a:off x="4067280" y="3860640"/>
            <a:ext cx="2376360" cy="1513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0" y="6021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В астрономії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3610080" cy="254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планет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Сонц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зміна дня і ночі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ух Місяц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5580000" y="1557360"/>
            <a:ext cx="2664000" cy="1990800"/>
          </a:xfrm>
          <a:prstGeom prst="rect">
            <a:avLst/>
          </a:prstGeom>
          <a:ln w="0">
            <a:noFill/>
          </a:ln>
        </p:spPr>
      </p:pic>
      <p:pic>
        <p:nvPicPr>
          <p:cNvPr id="248" name="" descr=""/>
          <p:cNvPicPr/>
          <p:nvPr/>
        </p:nvPicPr>
        <p:blipFill>
          <a:blip r:embed="rId2"/>
          <a:stretch/>
        </p:blipFill>
        <p:spPr>
          <a:xfrm>
            <a:off x="684360" y="4365720"/>
            <a:ext cx="2735280" cy="204624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6093000"/>
            <a:ext cx="539640" cy="404640"/>
          </a:xfrm>
          <a:custGeom>
            <a:avLst/>
            <a:gdLst>
              <a:gd name="textAreaLeft" fmla="*/ 25920 w 539640"/>
              <a:gd name="textAreaRight" fmla="*/ 513720 w 53964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00" h="21600">
                <a:moveTo>
                  <a:pt x="7394" y="3794"/>
                </a:moveTo>
                <a:lnTo>
                  <a:pt x="21406" y="10800"/>
                </a:lnTo>
                <a:lnTo>
                  <a:pt x="7394" y="17806"/>
                </a:ln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9900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фізиці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Робота маятник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Arial"/>
              </a:rPr>
              <a:t>Хвилі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508720" y="1341360"/>
            <a:ext cx="2735280" cy="205596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11280" y="3176640"/>
            <a:ext cx="4464000" cy="334800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0" y="6048360"/>
            <a:ext cx="539640" cy="47628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4471" h="21600">
                <a:moveTo>
                  <a:pt x="0" y="0"/>
                </a:moveTo>
                <a:lnTo>
                  <a:pt x="24471" y="0"/>
                </a:lnTo>
                <a:lnTo>
                  <a:pt x="24471" y="21600"/>
                </a:lnTo>
                <a:lnTo>
                  <a:pt x="0" y="21600"/>
                </a:lnTo>
                <a:close/>
              </a:path>
              <a:path fill="lightenLess" w="24471" h="21600">
                <a:moveTo>
                  <a:pt x="0" y="0"/>
                </a:moveTo>
                <a:lnTo>
                  <a:pt x="24471" y="0"/>
                </a:lnTo>
                <a:lnTo>
                  <a:pt x="23071" y="1400"/>
                </a:lnTo>
                <a:lnTo>
                  <a:pt x="1400" y="1400"/>
                </a:lnTo>
                <a:close/>
              </a:path>
              <a:path fill="darken" w="24471" h="21600">
                <a:moveTo>
                  <a:pt x="24471" y="0"/>
                </a:moveTo>
                <a:lnTo>
                  <a:pt x="24471" y="21600"/>
                </a:lnTo>
                <a:lnTo>
                  <a:pt x="23071" y="20200"/>
                </a:lnTo>
                <a:lnTo>
                  <a:pt x="23071" y="1400"/>
                </a:lnTo>
                <a:close/>
              </a:path>
              <a:path fill="darkenLess" w="24471" h="21600">
                <a:moveTo>
                  <a:pt x="244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71" y="20200"/>
                </a:lnTo>
                <a:close/>
              </a:path>
              <a:path fill="lighten" w="244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71" h="21600">
                <a:moveTo>
                  <a:pt x="5229" y="7493"/>
                </a:moveTo>
                <a:lnTo>
                  <a:pt x="8737" y="7493"/>
                </a:lnTo>
                <a:lnTo>
                  <a:pt x="8737" y="12828"/>
                </a:lnTo>
                <a:cubicBezTo>
                  <a:pt x="8737" y="13751"/>
                  <a:pt x="9538" y="14482"/>
                  <a:pt x="10573" y="14482"/>
                </a:cubicBezTo>
                <a:lnTo>
                  <a:pt x="12236" y="14482"/>
                </a:lnTo>
                <a:cubicBezTo>
                  <a:pt x="13271" y="14482"/>
                  <a:pt x="14072" y="13751"/>
                  <a:pt x="14072" y="12828"/>
                </a:cubicBezTo>
                <a:lnTo>
                  <a:pt x="14072" y="7493"/>
                </a:lnTo>
                <a:lnTo>
                  <a:pt x="12236" y="7493"/>
                </a:lnTo>
                <a:lnTo>
                  <a:pt x="15743" y="3985"/>
                </a:lnTo>
                <a:lnTo>
                  <a:pt x="19416" y="7493"/>
                </a:lnTo>
                <a:lnTo>
                  <a:pt x="17580" y="7493"/>
                </a:lnTo>
                <a:lnTo>
                  <a:pt x="17580" y="12828"/>
                </a:lnTo>
                <a:cubicBezTo>
                  <a:pt x="17580" y="15596"/>
                  <a:pt x="15003" y="18155"/>
                  <a:pt x="12236" y="18155"/>
                </a:cubicBezTo>
                <a:lnTo>
                  <a:pt x="10573" y="18155"/>
                </a:lnTo>
                <a:cubicBezTo>
                  <a:pt x="7805" y="18155"/>
                  <a:pt x="5229" y="15596"/>
                  <a:pt x="5229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ccecff"/>
                </a:solidFill>
                <a:latin typeface="Arial"/>
              </a:rPr>
              <a:t>У раціоналізаторів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5122800" cy="161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З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єднання труб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Arial"/>
              </a:rPr>
              <a:t>Обгортання циліндричних цукерок та і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971640" y="3357720"/>
            <a:ext cx="3024000" cy="24224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2"/>
          <a:stretch/>
        </p:blipFill>
        <p:spPr>
          <a:xfrm>
            <a:off x="5940360" y="1268280"/>
            <a:ext cx="2879640" cy="284652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3"/>
          <a:stretch/>
        </p:blipFill>
        <p:spPr>
          <a:xfrm>
            <a:off x="6372360" y="4437000"/>
            <a:ext cx="2212920" cy="215424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0" y="6093000"/>
            <a:ext cx="539640" cy="475920"/>
          </a:xfrm>
          <a:custGeom>
            <a:avLst/>
            <a:gdLst>
              <a:gd name="textAreaLeft" fmla="*/ 30600 w 539640"/>
              <a:gd name="textAreaRight" fmla="*/ 509040 w 53964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24490" h="21600">
                <a:moveTo>
                  <a:pt x="0" y="0"/>
                </a:moveTo>
                <a:lnTo>
                  <a:pt x="24490" y="0"/>
                </a:lnTo>
                <a:lnTo>
                  <a:pt x="24490" y="21600"/>
                </a:lnTo>
                <a:lnTo>
                  <a:pt x="0" y="21600"/>
                </a:lnTo>
                <a:close/>
              </a:path>
              <a:path fill="lightenLess" w="24490" h="21600">
                <a:moveTo>
                  <a:pt x="0" y="0"/>
                </a:moveTo>
                <a:lnTo>
                  <a:pt x="24490" y="0"/>
                </a:lnTo>
                <a:lnTo>
                  <a:pt x="23090" y="1400"/>
                </a:lnTo>
                <a:lnTo>
                  <a:pt x="1400" y="1400"/>
                </a:lnTo>
                <a:close/>
              </a:path>
              <a:path fill="darken" w="24490" h="21600">
                <a:moveTo>
                  <a:pt x="24490" y="0"/>
                </a:moveTo>
                <a:lnTo>
                  <a:pt x="24490" y="21600"/>
                </a:lnTo>
                <a:lnTo>
                  <a:pt x="23090" y="20200"/>
                </a:lnTo>
                <a:lnTo>
                  <a:pt x="23090" y="1400"/>
                </a:lnTo>
                <a:close/>
              </a:path>
              <a:path fill="darkenLess" w="24490" h="21600">
                <a:moveTo>
                  <a:pt x="244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90" y="20200"/>
                </a:lnTo>
                <a:close/>
              </a:path>
              <a:path fill="lighten" w="244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490" h="21600">
                <a:moveTo>
                  <a:pt x="5238" y="7493"/>
                </a:moveTo>
                <a:lnTo>
                  <a:pt x="8746" y="7493"/>
                </a:lnTo>
                <a:lnTo>
                  <a:pt x="8746" y="12828"/>
                </a:lnTo>
                <a:cubicBezTo>
                  <a:pt x="8746" y="13751"/>
                  <a:pt x="9547" y="14482"/>
                  <a:pt x="10582" y="14482"/>
                </a:cubicBezTo>
                <a:lnTo>
                  <a:pt x="12245" y="14482"/>
                </a:lnTo>
                <a:cubicBezTo>
                  <a:pt x="13281" y="14482"/>
                  <a:pt x="14081" y="13751"/>
                  <a:pt x="14081" y="12828"/>
                </a:cubicBezTo>
                <a:lnTo>
                  <a:pt x="14081" y="7493"/>
                </a:lnTo>
                <a:lnTo>
                  <a:pt x="12245" y="7493"/>
                </a:lnTo>
                <a:lnTo>
                  <a:pt x="15752" y="3985"/>
                </a:lnTo>
                <a:lnTo>
                  <a:pt x="19425" y="7493"/>
                </a:lnTo>
                <a:lnTo>
                  <a:pt x="17589" y="7493"/>
                </a:lnTo>
                <a:lnTo>
                  <a:pt x="17589" y="12828"/>
                </a:lnTo>
                <a:cubicBezTo>
                  <a:pt x="17589" y="15596"/>
                  <a:pt x="15013" y="18155"/>
                  <a:pt x="12245" y="18155"/>
                </a:cubicBezTo>
                <a:lnTo>
                  <a:pt x="10582" y="18155"/>
                </a:lnTo>
                <a:cubicBezTo>
                  <a:pt x="7815" y="18155"/>
                  <a:pt x="5238" y="15596"/>
                  <a:pt x="5238" y="12828"/>
                </a:cubicBezTo>
                <a:close/>
              </a:path>
            </a:pathLst>
          </a:custGeom>
          <a:gradFill rotWithShape="0">
            <a:gsLst>
              <a:gs pos="0">
                <a:srgbClr val="e0e008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826920" y="189000"/>
            <a:ext cx="7848720" cy="564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… </a:t>
            </a:r>
            <a:r>
              <a:rPr b="1" i="1" lang="uk-UA" sz="5400" spc="-1" strike="noStrike">
                <a:solidFill>
                  <a:srgbClr val="fd4949"/>
                </a:solidFill>
                <a:latin typeface="Arial"/>
              </a:rPr>
              <a:t>Математика безмежно різноманітна, як світ, і присутня, міститься в усьому.</a:t>
            </a:r>
            <a:br>
              <a:rPr sz="5400"/>
            </a:b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lang="uk-UA" sz="5400" spc="-1" strike="noStrike">
                <a:solidFill>
                  <a:srgbClr val="ccecff"/>
                </a:solidFill>
                <a:latin typeface="Arial"/>
              </a:rPr>
              <a:t>	</a:t>
            </a:r>
            <a:r>
              <a:rPr b="0" i="1" lang="uk-UA" sz="5400" spc="-1" strike="noStrike">
                <a:solidFill>
                  <a:srgbClr val="fc0808"/>
                </a:solidFill>
                <a:latin typeface="Arial"/>
              </a:rPr>
              <a:t>М.П. Єругін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mph" presetID="23" repeatCount="3000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3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3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25T16:36:06Z</dcterms:created>
  <dc:creator>ADMIN</dc:creator>
  <dc:description/>
  <dc:language>en-US</dc:language>
  <cp:lastModifiedBy>Admin</cp:lastModifiedBy>
  <dcterms:modified xsi:type="dcterms:W3CDTF">2011-03-01T10:14:29Z</dcterms:modified>
  <cp:revision>11</cp:revision>
  <dc:subject/>
  <dc:title>Слайд 1</dc:title>
</cp:coreProperties>
</file>