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3F95-D5C1-492A-ACF2-8F2AFA5CBA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28BA-C4DD-40B7-A963-784DC1DB8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1A3B-FA1C-4902-8690-A3255F6E8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58F98-B3A8-4B32-80C6-7C3335FC7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21A9-E6D4-4F44-85F3-A73C4B2AE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1903C-9847-472C-906C-11FBE98064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261DA-93CA-4593-AE31-85A638811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33454-A910-4A9F-BC70-9DF4EE5985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A71C19-5368-464F-BF2B-264BAECAA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648B6-DD23-46E6-8244-3AF373B2C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FB88-4050-490D-811E-7D489FD8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1D14-5258-4B6C-9718-07F7D8206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EEB2-1CCF-44D0-BD76-5910CCE2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2BC00-1BCF-447D-A802-35FC74EF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0179A-D116-46D0-926E-DAD980A67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9B861-92EC-46EA-A58E-69C1ED6D45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BBDCB-C855-440D-92CC-60920B946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11B1-DBED-44A9-82E2-1ABD7A58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EC3B-6394-43C8-B59C-FEBFA9070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27D2-BFBE-4FC8-81CA-0A297055D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8A2D0-EC8E-4729-B8F5-BFE9E4B1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5195C-6912-4B24-8E4D-9587A6A1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1A41D-5C1A-4532-AFD0-2B85B173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CE34F-BEC3-438F-8680-35AE42481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1187-ACD1-4D32-9545-610F3731B232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421E8-3C09-4463-B531-63A760BC3598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000000"/>
                </a:solidFill>
                <a:latin typeface="Arial"/>
              </a:rPr>
              <a:t>Біоритми у житті людини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200" spc="-1" strike="noStrike">
                <a:solidFill>
                  <a:srgbClr val="000000"/>
                </a:solidFill>
                <a:latin typeface="Arial"/>
              </a:rPr>
              <a:t>Дослідження виконала Юрченко Катери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000" spc="-1" strike="noStrike">
                <a:solidFill>
                  <a:srgbClr val="8c0039"/>
                </a:solidFill>
                <a:latin typeface="Arial"/>
              </a:rPr>
              <a:t>Мета роботи</a:t>
            </a:r>
            <a:endParaRPr b="0" lang="en-US" sz="6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Arial"/>
              </a:rPr>
              <a:t>Вивчення біоритмів та їхнього значення у житті людина. Як вони впливають на наш розумовий, фізичний та емоціональний ста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715000" y="2085840"/>
            <a:ext cx="3124080" cy="3522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5400" spc="-1" strike="noStrike">
                <a:solidFill>
                  <a:srgbClr val="8c0039"/>
                </a:solidFill>
                <a:latin typeface="Arial"/>
              </a:rPr>
              <a:t>Поділ біоритмів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2435400" y="1571760"/>
            <a:ext cx="6336720" cy="4462560"/>
            <a:chOff x="2435400" y="1571760"/>
            <a:chExt cx="6336720" cy="4462560"/>
          </a:xfrm>
        </p:grpSpPr>
        <p:cxnSp>
          <p:nvCxnSpPr>
            <p:cNvPr id="93" name="_s73751"/>
            <p:cNvCxnSpPr>
              <a:stCxn id="94" idx="0"/>
              <a:endCxn id="95" idx="2"/>
            </p:cNvCxnSpPr>
            <p:nvPr/>
          </p:nvCxnSpPr>
          <p:spPr>
            <a:xfrm flipH="1" flipV="1" rot="5400000">
              <a:off x="4746240" y="3391560"/>
              <a:ext cx="893160" cy="8218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6" name="_s73745"/>
            <p:cNvCxnSpPr>
              <a:stCxn id="97" idx="0"/>
              <a:endCxn id="95" idx="2"/>
            </p:cNvCxnSpPr>
            <p:nvPr/>
          </p:nvCxnSpPr>
          <p:spPr>
            <a:xfrm flipV="1" rot="16200000">
              <a:off x="6389640" y="2568960"/>
              <a:ext cx="893160" cy="24667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98" name="_s73744"/>
            <p:cNvCxnSpPr>
              <a:stCxn id="99" idx="0"/>
              <a:endCxn id="95" idx="2"/>
            </p:cNvCxnSpPr>
            <p:nvPr/>
          </p:nvCxnSpPr>
          <p:spPr>
            <a:xfrm flipV="1" rot="16200000">
              <a:off x="5568120" y="3390480"/>
              <a:ext cx="893160" cy="82368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0" name="_s73743"/>
            <p:cNvCxnSpPr>
              <a:stCxn id="101" idx="0"/>
              <a:endCxn id="95" idx="2"/>
            </p:cNvCxnSpPr>
            <p:nvPr/>
          </p:nvCxnSpPr>
          <p:spPr>
            <a:xfrm flipH="1" flipV="1" rot="5400000">
              <a:off x="3924360" y="2570400"/>
              <a:ext cx="893160" cy="24645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95" name="_s73739"/>
            <p:cNvSpPr/>
            <p:nvPr/>
          </p:nvSpPr>
          <p:spPr>
            <a:xfrm>
              <a:off x="4899600" y="157176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100" spc="-1" strike="noStrike">
                  <a:solidFill>
                    <a:srgbClr val="000000"/>
                  </a:solidFill>
                  <a:latin typeface="Arial"/>
                </a:rPr>
                <a:t>Біоритми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_s73740"/>
            <p:cNvSpPr/>
            <p:nvPr/>
          </p:nvSpPr>
          <p:spPr>
            <a:xfrm>
              <a:off x="2435400" y="424944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Фізич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73741"/>
            <p:cNvSpPr/>
            <p:nvPr/>
          </p:nvSpPr>
          <p:spPr>
            <a:xfrm>
              <a:off x="5721120" y="424944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Розумов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73742"/>
            <p:cNvSpPr/>
            <p:nvPr/>
          </p:nvSpPr>
          <p:spPr>
            <a:xfrm>
              <a:off x="7364160" y="424944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Інтуї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тив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73750"/>
            <p:cNvSpPr/>
            <p:nvPr/>
          </p:nvSpPr>
          <p:spPr>
            <a:xfrm>
              <a:off x="4078080" y="4249440"/>
              <a:ext cx="1407960" cy="1784880"/>
            </a:xfrm>
            <a:custGeom>
              <a:avLst/>
              <a:gdLst>
                <a:gd name="textAreaLeft" fmla="*/ 68400 w 1407960"/>
                <a:gd name="textAreaRight" fmla="*/ 1339560 w 1407960"/>
                <a:gd name="textAreaTop" fmla="*/ 68400 h 1784880"/>
                <a:gd name="textAreaBottom" fmla="*/ 1716480 h 1784880"/>
              </a:gdLst>
              <a:ahLst/>
              <a:rect l="textAreaLeft" t="textAreaTop" r="textAreaRight" b="textAreaBottom"/>
              <a:pathLst>
                <a:path w="21600" h="27381">
                  <a:moveTo>
                    <a:pt x="3600" y="0"/>
                  </a:moveTo>
                  <a:arcTo wR="3600" hR="3600" stAng="16200000" swAng="-5400000"/>
                  <a:lnTo>
                    <a:pt x="0" y="23781"/>
                  </a:lnTo>
                  <a:arcTo wR="3600" hR="3600" stAng="10800000" swAng="-5400000"/>
                  <a:lnTo>
                    <a:pt x="18000" y="2738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58bf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Емоціо-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uk-UA" sz="2400" spc="-1" strike="noStrike">
                  <a:solidFill>
                    <a:srgbClr val="000000"/>
                  </a:solidFill>
                  <a:latin typeface="Arial"/>
                </a:rPr>
                <a:t>нальні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r>
              <a:rPr b="1" i="1" lang="uk-UA" sz="5400" spc="-1" strike="noStrike">
                <a:solidFill>
                  <a:srgbClr val="8c0039"/>
                </a:solidFill>
                <a:latin typeface="Arial"/>
              </a:rPr>
              <a:t>Хід роботи</a:t>
            </a:r>
            <a:endParaRPr b="0" lang="en-US" sz="54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7920" y="1600200"/>
            <a:ext cx="3124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Я почала спостерігати за своїм емоціональним, розумовим та фізичним стано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400" spc="-1" strike="noStrike">
                <a:solidFill>
                  <a:srgbClr val="000000"/>
                </a:solidFill>
                <a:latin typeface="Arial"/>
              </a:rPr>
              <a:t>Потім, розробила графіки циклів і порівнювала з даними спостережен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6300720" y="2492280"/>
            <a:ext cx="2208240" cy="21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800" spc="-1" strike="noStrike">
                <a:solidFill>
                  <a:srgbClr val="8c0039"/>
                </a:solidFill>
                <a:latin typeface="Arial"/>
              </a:rPr>
              <a:t>Графіки біоритмів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2411280" y="2349360"/>
            <a:ext cx="6408720" cy="36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340000" y="33300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800" spc="-1" strike="noStrike">
                <a:solidFill>
                  <a:srgbClr val="e4005c"/>
                </a:solidFill>
                <a:latin typeface="Arial"/>
              </a:rPr>
              <a:t>Висновок</a:t>
            </a:r>
            <a:endParaRPr b="0" lang="en-US" sz="48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0000"/>
                </a:solidFill>
                <a:latin typeface="Arial"/>
              </a:rPr>
              <a:t>Графік біоритмів людини підлягає закону синусоїди. З його допомогою можна спланувати ефективну діяльність людини.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18T16:44:09Z</dcterms:created>
  <dc:creator>123</dc:creator>
  <dc:description/>
  <dc:language>en-US</dc:language>
  <cp:lastModifiedBy>Белоконь Денис</cp:lastModifiedBy>
  <dcterms:modified xsi:type="dcterms:W3CDTF">2008-01-07T11:11:44Z</dcterms:modified>
  <cp:revision>6</cp:revision>
  <dc:subject/>
  <dc:title>Біоритми у житті людини</dc:title>
</cp:coreProperties>
</file>