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7.gif" ContentType="image/gif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40605-85F8-4F0F-BABF-36804645D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7DEE-47F2-4BEA-A44A-6FF2D30AB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7D415-898C-4D36-A092-7E44DC2C8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7DFFF-A138-411B-804C-8A43B97CC9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DF44A6-9759-4CEC-AA45-27554ABE6C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28F5F1-6430-4CD9-A331-DFE44FC62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0605EC-5871-4D71-825F-6EFA58C9F1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A17F52-F0BA-449C-9E0B-CBBF70DA8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701E2F-79A4-4E47-8193-D8E0579418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CFDC8B-4729-4377-8152-F6BC5F33D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1B00C3-D0B1-4AE1-AC01-DB62B9505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C343-861F-4334-97C1-2122AAA78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C4F1C4-4196-4E11-9A07-423BD41E5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7995C6-E05E-4BE8-8A07-F85C68DC1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0661C3-FF92-475E-BBC7-3BCB4C34A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80BAE08-6E19-4FBF-90DD-BB9B85C72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6FAAE52-1461-4E9A-B5CF-EE6A9BE55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7E2D3-2C92-4B27-8C58-7B8E51F7A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B00F6-4A24-40C9-A856-EF802019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100-2BCD-4FFD-A956-7F5D830CF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0979-D923-41D4-BD16-5187315BC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437AA-76CF-490C-AF76-8B9B98D4D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6D25D-CA72-41F1-95A9-D647A9EF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849F-4189-4326-8406-7E209D324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9918E-F64B-4FA5-B3AA-3348D5B7910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31D4E3-C5B4-48E5-B37A-6A4B2874724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gi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492360" y="2838600"/>
            <a:ext cx="543564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ослідження виконув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Поліщук Олександ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Керівник: Білоконь Леся Михайлів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250920" y="404640"/>
            <a:ext cx="66974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ffff"/>
                </a:solidFill>
                <a:latin typeface="Arial"/>
              </a:rPr>
              <a:t>Що спільного між роботою маятника і графіком синусоїди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BS02064_" descr=""/>
          <p:cNvPicPr/>
          <p:nvPr/>
        </p:nvPicPr>
        <p:blipFill>
          <a:blip r:embed="rId1"/>
          <a:stretch/>
        </p:blipFill>
        <p:spPr>
          <a:xfrm>
            <a:off x="755640" y="2276640"/>
            <a:ext cx="2030400" cy="27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e3e3ff"/>
                </a:solidFill>
                <a:latin typeface="Arial"/>
              </a:rPr>
              <a:t>       </a:t>
            </a:r>
            <a:r>
              <a:rPr b="1" lang="uk-UA" sz="4800" spc="-1" strike="noStrike">
                <a:solidFill>
                  <a:srgbClr val="e3e3ff"/>
                </a:solidFill>
                <a:latin typeface="Arial"/>
              </a:rPr>
              <a:t>Завдання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492280"/>
            <a:ext cx="8229600" cy="360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ffff"/>
                </a:solidFill>
                <a:latin typeface="Arial"/>
              </a:rPr>
              <a:t>Дослідити рух маятника та описати залежність періоду коливань від довжини та ваги маятника, порівняти роботу маятника з функцією синус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5148360" y="4708440"/>
            <a:ext cx="3168720" cy="21495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324000" y="0"/>
            <a:ext cx="2205000" cy="249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324000" y="333360"/>
            <a:ext cx="59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ffcc"/>
                </a:solidFill>
                <a:latin typeface="Arial"/>
              </a:rPr>
              <a:t>Ох ці маятник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9640" y="1125360"/>
            <a:ext cx="59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Ми виготовили систему зв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язаних маятників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4000" y="1989000"/>
            <a:ext cx="676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Змінюючи відношення довжин маятників спостерігали як впливають коливання одного маятника на інші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3284640"/>
            <a:ext cx="741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Встановили за яких умов явище резонансу проявляється найяскраві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24000" y="4149720"/>
            <a:ext cx="69847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Досліджували як залежить період коливань     від довжини та ваги маятни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ffffff"/>
                </a:solidFill>
                <a:latin typeface="Arial"/>
              </a:rPr>
              <a:t>Графічно зобразили роботу маятник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732720" y="189000"/>
            <a:ext cx="2139840" cy="23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3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" dur="3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3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3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4" name=""/>
          <p:cNvGraphicFramePr/>
          <p:nvPr/>
        </p:nvGraphicFramePr>
        <p:xfrm>
          <a:off x="684360" y="1989000"/>
          <a:ext cx="4824360" cy="3754440"/>
        </p:xfrm>
        <a:graphic>
          <a:graphicData uri="http://schemas.openxmlformats.org/drawingml/2006/table">
            <a:tbl>
              <a:tblPr/>
              <a:tblGrid>
                <a:gridCol w="787320"/>
                <a:gridCol w="1493640"/>
                <a:gridCol w="1214640"/>
                <a:gridCol w="1328760"/>
              </a:tblGrid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№ 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з/п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Довжина маятн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Маса маятник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Період коливань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3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5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388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7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0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244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0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51360"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,5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10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 Cyr"/>
                        </a:rPr>
                        <a:t>2,4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5" name=""/>
          <p:cNvSpPr/>
          <p:nvPr/>
        </p:nvSpPr>
        <p:spPr>
          <a:xfrm>
            <a:off x="1187280" y="333360"/>
            <a:ext cx="705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4000" spc="-1" strike="noStrike">
                <a:solidFill>
                  <a:srgbClr val="00ffcc"/>
                </a:solidFill>
                <a:latin typeface="Arial"/>
              </a:rPr>
              <a:t>Ось вони - результати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5867280" y="3789360"/>
            <a:ext cx="2952720" cy="221472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"/>
              <p:cNvSpPr txBox="1"/>
              <p:nvPr/>
            </p:nvSpPr>
            <p:spPr>
              <a:xfrm>
                <a:off x="0" y="0"/>
                <a:ext cx="4572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3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0" y="0"/>
                <a:ext cx="457200" cy="466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3195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3" name=""/>
              <p:cNvSpPr txBox="1"/>
              <p:nvPr/>
            </p:nvSpPr>
            <p:spPr>
              <a:xfrm>
                <a:off x="6948360" y="2708280"/>
                <a:ext cx="121788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t xml:space="preserve">π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g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44" name=""/>
          <p:cNvSpPr/>
          <p:nvPr/>
        </p:nvSpPr>
        <p:spPr>
          <a:xfrm>
            <a:off x="6372360" y="1773360"/>
            <a:ext cx="223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Формула розрахунків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50920" y="260280"/>
            <a:ext cx="849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ffcc"/>
                </a:solidFill>
                <a:latin typeface="Arial"/>
              </a:rPr>
              <a:t>Маятник</a:t>
            </a:r>
            <a:r>
              <a:rPr b="0" i="1" lang="en-US" sz="4000" spc="-1" strike="noStrike">
                <a:solidFill>
                  <a:srgbClr val="00ffcc"/>
                </a:solidFill>
                <a:latin typeface="Arial"/>
              </a:rPr>
              <a:t> – </a:t>
            </a:r>
            <a:r>
              <a:rPr b="1" i="1" lang="en-US" sz="4000" spc="-1" strike="noStrike">
                <a:solidFill>
                  <a:srgbClr val="00ffcc"/>
                </a:solidFill>
                <a:latin typeface="Arial"/>
              </a:rPr>
              <a:t>це дуже просто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5280" y="1341360"/>
            <a:ext cx="4392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Маятники зв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язаної системи обмінюються енергіям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476360" y="2924280"/>
            <a:ext cx="4464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Обмін відбувається повніше при рівній довжині маятникі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564000" y="4653000"/>
            <a:ext cx="49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Період коливання маятника залежить лише від його довжин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539640" y="5018040"/>
            <a:ext cx="2448000" cy="18399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6084720" y="1484280"/>
            <a:ext cx="2808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987280" y="-360"/>
            <a:ext cx="525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ffcc"/>
                </a:solidFill>
                <a:latin typeface="Arial"/>
              </a:rPr>
              <a:t>Висновки</a:t>
            </a:r>
            <a:r>
              <a:rPr b="0" lang="uk-UA" sz="44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419640" y="907920"/>
            <a:ext cx="5122800" cy="16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Природа формує свої закони мовою математики.      </a:t>
            </a:r>
            <a:r>
              <a:rPr b="1" lang="uk-UA" sz="2000" spc="-1" strike="noStrike">
                <a:solidFill>
                  <a:srgbClr val="ffffff"/>
                </a:solidFill>
                <a:latin typeface="Arial"/>
              </a:rPr>
              <a:t>(Г. Галілей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4941720"/>
            <a:ext cx="2228760" cy="168624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0" y="2492280"/>
            <a:ext cx="4932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Всі коливні процеси математично можна виразити формулою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-973080" y="3284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5092560" y="2997360"/>
                <a:ext cx="4051440" cy="65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t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A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ωt</m:t>
                    </m:r>
                    <m:r>
                      <m:t xml:space="preserve">+</m:t>
                    </m:r>
                    <m:r>
                      <m:t xml:space="preserve">ϕ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2484360" y="4221000"/>
            <a:ext cx="496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Arial"/>
              </a:rPr>
              <a:t>І зобразити графічно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6443640" y="4869000"/>
            <a:ext cx="2354400" cy="175716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3"/>
          <a:stretch/>
        </p:blipFill>
        <p:spPr>
          <a:xfrm>
            <a:off x="468360" y="198360"/>
            <a:ext cx="2663640" cy="19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1" dur="2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1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2T18:05:58Z</dcterms:created>
  <dc:creator>Vladimir</dc:creator>
  <dc:description/>
  <dc:language>en-US</dc:language>
  <cp:lastModifiedBy>Белоконь Денис</cp:lastModifiedBy>
  <dcterms:modified xsi:type="dcterms:W3CDTF">2007-11-04T17:13:17Z</dcterms:modified>
  <cp:revision>11</cp:revision>
  <dc:subject/>
  <dc:title>Слайд 1</dc:title>
</cp:coreProperties>
</file>