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7F0C-08C3-46A9-BEA5-628C84CC7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A452-04EC-46E0-B76E-6B9ECE89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85BE-E3E8-441D-B8F3-7D07955AD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5BD3-4ACE-41FA-95CD-74CC41591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89A1-DF84-499E-A520-8663519D8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A6A9-5E9E-41DE-9A38-5F850E03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637F-BE4E-451B-B315-1E1D1B28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E1EE-08C7-4465-99F7-C032CFC3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6E9F1-45B3-4276-BE03-FB888117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5D71-F297-4CB6-B1A9-0695A00A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8937-09F5-4582-A656-6876283A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0464-E726-48C2-89F2-316C4F23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BC80-581C-40F9-8DAB-1B71ACED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872F0-F92B-49B4-BB3A-363A3EC0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8B3C-41B8-40CC-9AAD-F0A05D6F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F5713-B27B-41B3-8B40-24B7B9FFA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E1F1-574F-471A-BEB3-4B7699B02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A026-2B6E-4776-A8B2-9A4C8E16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EBC4-254B-4378-B23B-5A84158D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012A-5403-4A19-91AB-DDBFF063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8164-5EAC-4B76-BCF5-BBBCCDE3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E89C-20C2-4B96-BC76-4E149330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18E0-F043-4022-9D9C-E847293B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11C8-53EC-4B36-8D1C-2C03C156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1CAB-F313-453F-83A1-A456C115942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8B43-ABC4-40DE-A82C-178DA58EBAD0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00000" y="4653000"/>
            <a:ext cx="460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66cc"/>
                </a:solidFill>
                <a:latin typeface="Edwardian Script ITC"/>
              </a:rPr>
              <a:t>Дослідження прове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66cc"/>
                </a:solidFill>
                <a:latin typeface="Edwardian Script ITC"/>
              </a:rPr>
              <a:t>учениця </a:t>
            </a:r>
            <a:r>
              <a:rPr b="1" lang="uk-UA" sz="3200" spc="-1" strike="noStrike">
                <a:solidFill>
                  <a:srgbClr val="ff66cc"/>
                </a:solidFill>
                <a:latin typeface="Copperplate Gothic Light"/>
              </a:rPr>
              <a:t>10 </a:t>
            </a:r>
            <a:r>
              <a:rPr b="1" lang="uk-UA" sz="3200" spc="-1" strike="noStrike">
                <a:solidFill>
                  <a:srgbClr val="ff66cc"/>
                </a:solidFill>
                <a:latin typeface="Edwardian Script ITC"/>
              </a:rPr>
              <a:t> клас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66cc"/>
                </a:solidFill>
                <a:latin typeface="Edwardian Script ITC"/>
              </a:rPr>
              <a:t>Яйкун Інн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332000" y="620640"/>
            <a:ext cx="6480000" cy="28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Franklin Gothic Book"/>
              </a:rPr>
              <a:t>Незвичний спосіб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Franklin Gothic Book"/>
              <a:ea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Franklin Gothic Book"/>
              </a:rPr>
              <a:t>отримання синусоїд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Franklin Gothic Book"/>
              <a:ea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Задач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0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Доведіть, що при розрізі свічки, обгорнутої декілька раз листом паперу під кутом 45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  <a:ea typeface="Tahoma"/>
              </a:rPr>
              <a:t>˚ на краю паперу утвориться крива лінія – синусої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aeaea"/>
                </a:solidFill>
                <a:latin typeface="Tahoma"/>
              </a:rPr>
              <a:t>Дослід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5640" y="981000"/>
            <a:ext cx="75438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Обгорнути свічку декілька раз листом папер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Перерізати свічку похило гострим ноже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Роз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єднати обидві половинки свіч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Розгорнути папір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900000" y="4005360"/>
            <a:ext cx="75438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aeaea"/>
                </a:solidFill>
                <a:latin typeface="Tahoma"/>
              </a:rPr>
              <a:t>Наслід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76240" y="4897440"/>
            <a:ext cx="754380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Утворилася крива лінія. Порівнявши її з графіком функції синусів, можна стверджувати, що це – синусоїда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aeaea"/>
                </a:solidFill>
                <a:latin typeface="Tahoma"/>
              </a:rPr>
              <a:t>Чому отримана по краю паперу крива лінія дійсно синусоїда?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5280" y="1341000"/>
            <a:ext cx="8839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Побудуємо математичну модель цієї задачі. Для цього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Візьмемо лист паперу прямокутної форми і накреслимо на ньому осі координа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Згорнемо цей прямокутник в прямий круговий цилін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627280" y="3573000"/>
            <a:ext cx="3889440" cy="1368720"/>
            <a:chOff x="2627280" y="3573000"/>
            <a:chExt cx="3889440" cy="1368720"/>
          </a:xfrm>
        </p:grpSpPr>
        <p:sp>
          <p:nvSpPr>
            <p:cNvPr id="120" name=""/>
            <p:cNvSpPr/>
            <p:nvPr/>
          </p:nvSpPr>
          <p:spPr>
            <a:xfrm>
              <a:off x="2627280" y="3573360"/>
              <a:ext cx="3889440" cy="13683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627280" y="4276800"/>
              <a:ext cx="3888000" cy="15840"/>
            </a:xfrm>
            <a:custGeom>
              <a:avLst/>
              <a:gdLst/>
              <a:ahLst/>
              <a:rect l="l" t="t" r="r" b="b"/>
              <a:pathLst>
                <a:path w="2449" h="10">
                  <a:moveTo>
                    <a:pt x="0" y="10"/>
                  </a:moveTo>
                  <a:lnTo>
                    <a:pt x="2449" y="0"/>
                  </a:lnTo>
                </a:path>
              </a:pathLst>
            </a:custGeom>
            <a:noFill/>
            <a:ln w="507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572000" y="3573000"/>
              <a:ext cx="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40360" y="3573360"/>
              <a:ext cx="287280" cy="2872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000000"/>
                  </a:solidFill>
                  <a:latin typeface="MS Mincho"/>
                </a:rPr>
                <a:t>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211640" y="4365720"/>
              <a:ext cx="289080" cy="21564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MS Mincho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28000" y="4365720"/>
              <a:ext cx="287280" cy="2872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MS Mincho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5905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925880"/>
                <a:tab algn="l" pos="5648400"/>
                <a:tab algn="l" pos="5826240"/>
                <a:tab algn="l" pos="7078680"/>
                <a:tab algn="l" pos="76248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ffff"/>
                </a:solidFill>
                <a:uFillTx/>
                <a:latin typeface="Tahoma"/>
              </a:rPr>
              <a:t>Доведенн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925880"/>
                <a:tab algn="l" pos="5648400"/>
                <a:tab algn="l" pos="5826240"/>
                <a:tab algn="l" pos="7078680"/>
                <a:tab algn="l" pos="76248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Радіус основи приймемо за одиницю. Вісь 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Ох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згорнеться в коло радіусом 1, а вісь 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Оу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стане утворюючою циліндра. Через діаметр отриманого кола, який проходить через точку О, проведемо переріз під кутом 45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  <a:ea typeface="Tahoma"/>
              </a:rPr>
              <a:t>˚ до площини круга. В такому випадку перерізом буде еліпс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925880"/>
                <a:tab algn="l" pos="5648400"/>
                <a:tab algn="l" pos="5826240"/>
                <a:tab algn="l" pos="7078680"/>
                <a:tab algn="l" pos="76248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  <a:ea typeface="Tahoma"/>
              </a:rPr>
              <a:t>Візьмемо на еліпсі точку А. опустимо з неї перпендикуляри на площину круга і діаметр круга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OD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  <a:ea typeface="Tahoma"/>
              </a:rPr>
              <a:t>. Отримаємо відповідно точки В і С.   АВС – прямокутний і рівнобедрений; так як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&lt;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  <a:ea typeface="Tahoma"/>
              </a:rPr>
              <a:t>АВС=90˚, а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&lt;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  <a:ea typeface="Tahoma"/>
              </a:rPr>
              <a:t>АСВ=45˚. Відповідно АВ=ВС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924520" y="1981080"/>
                <a:ext cx="167652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6372360" y="2924280"/>
            <a:ext cx="142920" cy="288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32720" y="2781360"/>
            <a:ext cx="142920" cy="288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93080" y="2708280"/>
            <a:ext cx="142920" cy="289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451640" y="2708280"/>
            <a:ext cx="142920" cy="289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812000" y="2708280"/>
            <a:ext cx="142920" cy="289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172360" y="2781360"/>
            <a:ext cx="142920" cy="288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88360" y="2997360"/>
            <a:ext cx="142920" cy="288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00720" y="3645000"/>
            <a:ext cx="142920" cy="288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43640" y="3213000"/>
            <a:ext cx="142920" cy="289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32720" y="2997360"/>
            <a:ext cx="142920" cy="288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64360" y="2492280"/>
            <a:ext cx="142920" cy="289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24720" y="2421000"/>
            <a:ext cx="142920" cy="288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885080" y="2205000"/>
            <a:ext cx="142920" cy="289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44000" y="2133720"/>
            <a:ext cx="142920" cy="288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015960" y="836640"/>
            <a:ext cx="2799000" cy="4176720"/>
            <a:chOff x="6015960" y="836640"/>
            <a:chExt cx="2799000" cy="4176720"/>
          </a:xfrm>
        </p:grpSpPr>
        <p:sp>
          <p:nvSpPr>
            <p:cNvPr id="143" name=""/>
            <p:cNvSpPr/>
            <p:nvPr/>
          </p:nvSpPr>
          <p:spPr>
            <a:xfrm>
              <a:off x="6229440" y="836640"/>
              <a:ext cx="2374920" cy="4176720"/>
            </a:xfrm>
            <a:prstGeom prst="can">
              <a:avLst>
                <a:gd name="adj" fmla="val 25000"/>
              </a:avLst>
            </a:prstGeom>
            <a:solidFill>
              <a:srgbClr val="66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27640" y="2852640"/>
              <a:ext cx="2376720" cy="936720"/>
            </a:xfrm>
            <a:prstGeom prst="ellipse">
              <a:avLst/>
            </a:prstGeom>
            <a:solidFill>
              <a:srgbClr val="66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418520" y="1887480"/>
              <a:ext cx="1440" cy="3125880"/>
            </a:xfrm>
            <a:custGeom>
              <a:avLst/>
              <a:gdLst/>
              <a:ahLst/>
              <a:rect l="l" t="t" r="r" b="b"/>
              <a:pathLst>
                <a:path w="1" h="1969">
                  <a:moveTo>
                    <a:pt x="0" y="1969"/>
                  </a:moveTo>
                  <a:lnTo>
                    <a:pt x="0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93080" y="1989000"/>
              <a:ext cx="215640" cy="28764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000000"/>
                  </a:solidFill>
                  <a:latin typeface="MS Mincho"/>
                </a:rPr>
                <a:t>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93080" y="3860640"/>
              <a:ext cx="215640" cy="28764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000000"/>
                  </a:solidFill>
                  <a:latin typeface="MS Mincho"/>
                </a:rPr>
                <a:t>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9357200">
              <a:off x="6012000" y="2708280"/>
              <a:ext cx="2806560" cy="93672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388360" y="2852640"/>
              <a:ext cx="0" cy="7207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72360" y="2494080"/>
              <a:ext cx="216000" cy="2872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MS Mincho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244000" y="3716280"/>
              <a:ext cx="215640" cy="2872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MS Mincho"/>
                </a:rPr>
                <a:t>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04000" y="2492280"/>
              <a:ext cx="216000" cy="2872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Mincho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20000" y="2852640"/>
              <a:ext cx="431640" cy="9367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7308720" y="2852280"/>
              <a:ext cx="1079640" cy="5763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84960" y="3436920"/>
              <a:ext cx="1103400" cy="136440"/>
            </a:xfrm>
            <a:custGeom>
              <a:avLst/>
              <a:gdLst/>
              <a:ahLst/>
              <a:rect l="l" t="t" r="r" b="b"/>
              <a:pathLst>
                <a:path w="695" h="86">
                  <a:moveTo>
                    <a:pt x="0" y="0"/>
                  </a:moveTo>
                  <a:lnTo>
                    <a:pt x="695" y="8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948360" y="3429000"/>
              <a:ext cx="216000" cy="2872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MS Mincho"/>
                </a:rPr>
                <a:t>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3492360" y="4900680"/>
            <a:ext cx="144720" cy="1443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78920" y="549360"/>
            <a:ext cx="5040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За означенням синуса, ВС=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n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x,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де 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– довжина дуги ОВ, так як ВС=АВ, то АВ=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n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Згорнемо циліндр знову в прямокутник, при цьому отримаємо криву, де 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=ОВ, тобто ця крива є частиною синусоїд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219640" y="907920"/>
            <a:ext cx="3743280" cy="3241800"/>
            <a:chOff x="5219640" y="907920"/>
            <a:chExt cx="3743280" cy="3241800"/>
          </a:xfrm>
        </p:grpSpPr>
        <p:sp>
          <p:nvSpPr>
            <p:cNvPr id="160" name=""/>
            <p:cNvSpPr/>
            <p:nvPr/>
          </p:nvSpPr>
          <p:spPr>
            <a:xfrm>
              <a:off x="5506920" y="981000"/>
              <a:ext cx="3168720" cy="316872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83360" y="958680"/>
              <a:ext cx="7920" cy="3191040"/>
            </a:xfrm>
            <a:custGeom>
              <a:avLst/>
              <a:gdLst/>
              <a:ahLst/>
              <a:rect l="l" t="t" r="r" b="b"/>
              <a:pathLst>
                <a:path w="5" h="2010">
                  <a:moveTo>
                    <a:pt x="5" y="201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506920" y="2565360"/>
              <a:ext cx="316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7091280" y="1267920"/>
              <a:ext cx="865080" cy="129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56360" y="1268280"/>
              <a:ext cx="0" cy="129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956360" y="907920"/>
              <a:ext cx="21600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ffffff"/>
                  </a:solidFill>
                  <a:latin typeface="MS Mincho"/>
                </a:rPr>
                <a:t>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883280" y="2637000"/>
              <a:ext cx="216000" cy="2872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MS Mincho"/>
                </a:rPr>
                <a:t>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19640" y="2421000"/>
              <a:ext cx="216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MS Mincho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746920" y="2492280"/>
              <a:ext cx="216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MS Mincho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531280" y="1557360"/>
              <a:ext cx="215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MS Mincho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7885080" y="2637000"/>
            <a:ext cx="216000" cy="287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MS Mincho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79280" y="4049640"/>
            <a:ext cx="6193080" cy="2619360"/>
            <a:chOff x="179280" y="4049640"/>
            <a:chExt cx="6193080" cy="2619360"/>
          </a:xfrm>
        </p:grpSpPr>
        <p:grpSp>
          <p:nvGrpSpPr>
            <p:cNvPr id="172" name=""/>
            <p:cNvGrpSpPr/>
            <p:nvPr/>
          </p:nvGrpSpPr>
          <p:grpSpPr>
            <a:xfrm>
              <a:off x="179280" y="4049640"/>
              <a:ext cx="6193080" cy="2619360"/>
              <a:chOff x="179280" y="4049640"/>
              <a:chExt cx="6193080" cy="2619360"/>
            </a:xfrm>
          </p:grpSpPr>
          <p:sp>
            <p:nvSpPr>
              <p:cNvPr id="173" name=""/>
              <p:cNvSpPr/>
              <p:nvPr/>
            </p:nvSpPr>
            <p:spPr>
              <a:xfrm>
                <a:off x="179280" y="4076640"/>
                <a:ext cx="6193080" cy="25923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79280" y="5373720"/>
                <a:ext cx="6193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3132000" y="4076280"/>
                <a:ext cx="0" cy="259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002040" y="4581360"/>
                <a:ext cx="236520" cy="1800"/>
              </a:xfrm>
              <a:custGeom>
                <a:avLst/>
                <a:gdLst/>
                <a:ahLst/>
                <a:rect l="l" t="t" r="r" b="b"/>
                <a:pathLst>
                  <a:path w="149" h="1">
                    <a:moveTo>
                      <a:pt x="0" y="0"/>
                    </a:moveTo>
                    <a:lnTo>
                      <a:pt x="149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002040" y="6093000"/>
                <a:ext cx="236520" cy="1440"/>
              </a:xfrm>
              <a:custGeom>
                <a:avLst/>
                <a:gdLst/>
                <a:ahLst/>
                <a:rect l="l" t="t" r="r" b="b"/>
                <a:pathLst>
                  <a:path w="149" h="1">
                    <a:moveTo>
                      <a:pt x="0" y="0"/>
                    </a:moveTo>
                    <a:lnTo>
                      <a:pt x="149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435640" y="5257800"/>
                <a:ext cx="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26920" y="527220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708360" y="527220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012000" y="527220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03280" y="527220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203640" y="4437000"/>
                <a:ext cx="216000" cy="28728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MS Mincho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843280" y="4049640"/>
                <a:ext cx="21600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uk-UA" sz="1800" spc="-1" strike="noStrike">
                    <a:solidFill>
                      <a:srgbClr val="000000"/>
                    </a:solidFill>
                    <a:latin typeface="MS Mincho"/>
                  </a:rPr>
                  <a:t>у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276720" y="5950080"/>
                <a:ext cx="215640" cy="28728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MS Mincho"/>
                  </a:rPr>
                  <a:t>-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55640" y="5516640"/>
                <a:ext cx="216000" cy="28728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800" spc="-1" strike="noStrike">
                    <a:solidFill>
                      <a:srgbClr val="000000"/>
                    </a:solidFill>
                    <a:latin typeface="Monotype Corsiva"/>
                  </a:rPr>
                  <a:t>- П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258920" y="5516640"/>
                <a:ext cx="216000" cy="28728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800" spc="-1" strike="noStrike">
                    <a:solidFill>
                      <a:srgbClr val="000000"/>
                    </a:solidFill>
                    <a:latin typeface="Monotype Corsiva"/>
                  </a:rPr>
                  <a:t>-3/4П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564000" y="5516640"/>
                <a:ext cx="216000" cy="28728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800" spc="-1" strike="noStrike">
                    <a:solidFill>
                      <a:srgbClr val="000000"/>
                    </a:solidFill>
                    <a:latin typeface="Monotype Corsiva"/>
                  </a:rPr>
                  <a:t>П/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867280" y="5516640"/>
                <a:ext cx="216000" cy="28728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800" spc="-1" strike="noStrike">
                    <a:solidFill>
                      <a:srgbClr val="000000"/>
                    </a:solidFill>
                    <a:latin typeface="Monotype Corsiva"/>
                  </a:rPr>
                  <a:t>5П/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292720" y="5516640"/>
                <a:ext cx="216000" cy="28728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800" spc="-1" strike="noStrike">
                    <a:solidFill>
                      <a:srgbClr val="000000"/>
                    </a:solidFill>
                    <a:latin typeface="Monotype Corsiva"/>
                  </a:rPr>
                  <a:t>П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141960" y="5027760"/>
                <a:ext cx="21600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uk-UA" sz="1800" spc="-1" strike="noStrike">
                    <a:solidFill>
                      <a:srgbClr val="000000"/>
                    </a:solidFill>
                    <a:latin typeface="MS Mincho"/>
                  </a:rPr>
                  <a:t>х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843280" y="5445000"/>
                <a:ext cx="216000" cy="28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uk-UA" sz="1800" spc="-1" strike="noStrike">
                    <a:solidFill>
                      <a:srgbClr val="000000"/>
                    </a:solidFill>
                    <a:latin typeface="MS Mincho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1403280" y="4541760"/>
              <a:ext cx="4710240" cy="1562040"/>
            </a:xfrm>
            <a:custGeom>
              <a:avLst/>
              <a:gdLst/>
              <a:ahLst/>
              <a:rect l="l" t="t" r="r" b="b"/>
              <a:pathLst>
                <a:path w="2967" h="984">
                  <a:moveTo>
                    <a:pt x="0" y="524"/>
                  </a:moveTo>
                  <a:cubicBezTo>
                    <a:pt x="40" y="567"/>
                    <a:pt x="126" y="706"/>
                    <a:pt x="240" y="781"/>
                  </a:cubicBezTo>
                  <a:cubicBezTo>
                    <a:pt x="354" y="856"/>
                    <a:pt x="545" y="968"/>
                    <a:pt x="686" y="976"/>
                  </a:cubicBezTo>
                  <a:cubicBezTo>
                    <a:pt x="827" y="984"/>
                    <a:pt x="959" y="904"/>
                    <a:pt x="1086" y="827"/>
                  </a:cubicBezTo>
                  <a:cubicBezTo>
                    <a:pt x="1213" y="750"/>
                    <a:pt x="1330" y="627"/>
                    <a:pt x="1448" y="511"/>
                  </a:cubicBezTo>
                  <a:cubicBezTo>
                    <a:pt x="1566" y="395"/>
                    <a:pt x="1675" y="215"/>
                    <a:pt x="1792" y="130"/>
                  </a:cubicBezTo>
                  <a:cubicBezTo>
                    <a:pt x="1909" y="45"/>
                    <a:pt x="2030" y="0"/>
                    <a:pt x="2154" y="0"/>
                  </a:cubicBezTo>
                  <a:cubicBezTo>
                    <a:pt x="2278" y="0"/>
                    <a:pt x="2410" y="45"/>
                    <a:pt x="2535" y="130"/>
                  </a:cubicBezTo>
                  <a:cubicBezTo>
                    <a:pt x="2660" y="215"/>
                    <a:pt x="2845" y="445"/>
                    <a:pt x="2906" y="511"/>
                  </a:cubicBezTo>
                  <a:cubicBezTo>
                    <a:pt x="2967" y="577"/>
                    <a:pt x="2904" y="521"/>
                    <a:pt x="2903" y="52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9ed51"/>
                </a:solidFill>
                <a:latin typeface="Tahoma"/>
              </a:rPr>
              <a:t>Де застосовують лінію синусоїди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692360" y="3213000"/>
            <a:ext cx="496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По дузі синусоїди з'єднують циліндричні труби під кутом одну до одної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13:10:12Z</dcterms:created>
  <dc:creator>1</dc:creator>
  <dc:description/>
  <dc:language>en-US</dc:language>
  <cp:lastModifiedBy>Белоконь Денис</cp:lastModifiedBy>
  <dcterms:modified xsi:type="dcterms:W3CDTF">2007-10-25T19:46:06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