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340-2029-4C33-812C-0D7B6E42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9BB3-1ECB-4660-9D8E-1D7ED9E8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376-0E4C-409D-A440-40206613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788-0F89-4795-876F-E2F103125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A889-897D-40D2-802D-0398ABEA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9A94-3E3E-4F8D-8706-63278680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9CC4-2212-4257-BB51-F9F27D4E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486F-D5AC-4CB8-AE72-20171EFA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1311-7536-4514-8686-D0A50DF0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1652-0D25-4190-A43E-74F277A6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B66E-58B9-4583-89FD-0E593246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69A-C482-473A-B7A8-1E803FE5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A0D4-35D4-4C27-8392-C85868D8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874D-2733-477C-9EE7-F1D11B0C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4F1F-AC3B-472B-956F-0519F1A9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193F-D2F3-4E7B-B3CA-2F5F9EE7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E538-25A3-406B-AF3A-D7F7AA00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0B6-0E28-4D24-963D-1E0D1DA2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193-7DD9-4403-8781-8B53BB52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02D-1C8E-4B5D-A976-61D8D826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B52-EFAE-4F78-8D94-BE948693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C9C-756C-45C3-AB99-B0CA74E9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EF5-D503-40A6-8A03-52D61ABF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404-4485-4242-A108-425FF02E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10E4-1B4D-4EA1-A0A2-1BF5CBD05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5202-BD06-4F62-806C-C82A01A00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4208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осліджувал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Учениця 10 класу Козубенко Альон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42920" y="620640"/>
            <a:ext cx="6840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Як користують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у техніці функціє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сину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Які прилади існують в техніці для дослідження коливальних процесів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Осцилограф – для дослідження електромагнітних коливан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ейсмограф – для запису коливань земної кор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Наслідок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покій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емлетрус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ардіограф для запису роботи серця людин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дорової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хворої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вальний контур застосовується в радіоприймачах, телевізорах, мобільних телефонах, в супутниковому з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з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25720" y="3327480"/>
            <a:ext cx="1538280" cy="182520"/>
          </a:xfrm>
          <a:custGeom>
            <a:avLst/>
            <a:gdLst/>
            <a:ahLst/>
            <a:rect l="l" t="t" r="r" b="b"/>
            <a:pathLst>
              <a:path w="969" h="115">
                <a:moveTo>
                  <a:pt x="0" y="87"/>
                </a:moveTo>
                <a:cubicBezTo>
                  <a:pt x="27" y="59"/>
                  <a:pt x="39" y="55"/>
                  <a:pt x="76" y="67"/>
                </a:cubicBezTo>
                <a:cubicBezTo>
                  <a:pt x="110" y="101"/>
                  <a:pt x="82" y="87"/>
                  <a:pt x="115" y="67"/>
                </a:cubicBezTo>
                <a:cubicBezTo>
                  <a:pt x="124" y="62"/>
                  <a:pt x="134" y="61"/>
                  <a:pt x="144" y="58"/>
                </a:cubicBezTo>
                <a:cubicBezTo>
                  <a:pt x="150" y="67"/>
                  <a:pt x="173" y="110"/>
                  <a:pt x="192" y="106"/>
                </a:cubicBezTo>
                <a:cubicBezTo>
                  <a:pt x="203" y="104"/>
                  <a:pt x="202" y="84"/>
                  <a:pt x="211" y="77"/>
                </a:cubicBezTo>
                <a:cubicBezTo>
                  <a:pt x="219" y="71"/>
                  <a:pt x="230" y="70"/>
                  <a:pt x="240" y="67"/>
                </a:cubicBezTo>
                <a:cubicBezTo>
                  <a:pt x="243" y="77"/>
                  <a:pt x="240" y="91"/>
                  <a:pt x="249" y="96"/>
                </a:cubicBezTo>
                <a:cubicBezTo>
                  <a:pt x="278" y="111"/>
                  <a:pt x="284" y="69"/>
                  <a:pt x="288" y="58"/>
                </a:cubicBezTo>
                <a:cubicBezTo>
                  <a:pt x="349" y="78"/>
                  <a:pt x="289" y="50"/>
                  <a:pt x="326" y="96"/>
                </a:cubicBezTo>
                <a:cubicBezTo>
                  <a:pt x="333" y="105"/>
                  <a:pt x="345" y="109"/>
                  <a:pt x="355" y="115"/>
                </a:cubicBezTo>
                <a:cubicBezTo>
                  <a:pt x="380" y="79"/>
                  <a:pt x="390" y="73"/>
                  <a:pt x="432" y="87"/>
                </a:cubicBezTo>
                <a:cubicBezTo>
                  <a:pt x="459" y="59"/>
                  <a:pt x="471" y="55"/>
                  <a:pt x="508" y="67"/>
                </a:cubicBezTo>
                <a:cubicBezTo>
                  <a:pt x="536" y="95"/>
                  <a:pt x="547" y="99"/>
                  <a:pt x="585" y="87"/>
                </a:cubicBezTo>
                <a:cubicBezTo>
                  <a:pt x="632" y="40"/>
                  <a:pt x="609" y="38"/>
                  <a:pt x="652" y="67"/>
                </a:cubicBezTo>
                <a:cubicBezTo>
                  <a:pt x="702" y="52"/>
                  <a:pt x="693" y="35"/>
                  <a:pt x="748" y="48"/>
                </a:cubicBezTo>
                <a:cubicBezTo>
                  <a:pt x="798" y="37"/>
                  <a:pt x="801" y="19"/>
                  <a:pt x="844" y="48"/>
                </a:cubicBezTo>
                <a:cubicBezTo>
                  <a:pt x="854" y="45"/>
                  <a:pt x="864" y="44"/>
                  <a:pt x="873" y="39"/>
                </a:cubicBezTo>
                <a:cubicBezTo>
                  <a:pt x="902" y="21"/>
                  <a:pt x="885" y="0"/>
                  <a:pt x="902" y="48"/>
                </a:cubicBezTo>
                <a:cubicBezTo>
                  <a:pt x="921" y="45"/>
                  <a:pt x="944" y="50"/>
                  <a:pt x="960" y="39"/>
                </a:cubicBezTo>
                <a:cubicBezTo>
                  <a:pt x="969" y="33"/>
                  <a:pt x="941" y="29"/>
                  <a:pt x="931" y="29"/>
                </a:cubicBezTo>
                <a:cubicBezTo>
                  <a:pt x="927" y="29"/>
                  <a:pt x="937" y="36"/>
                  <a:pt x="940" y="3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3500280"/>
            <a:ext cx="1174680" cy="570240"/>
          </a:xfrm>
          <a:custGeom>
            <a:avLst/>
            <a:gdLst/>
            <a:ahLst/>
            <a:rect l="l" t="t" r="r" b="b"/>
            <a:pathLst>
              <a:path w="740" h="359">
                <a:moveTo>
                  <a:pt x="10" y="303"/>
                </a:moveTo>
                <a:cubicBezTo>
                  <a:pt x="34" y="234"/>
                  <a:pt x="0" y="318"/>
                  <a:pt x="48" y="245"/>
                </a:cubicBezTo>
                <a:cubicBezTo>
                  <a:pt x="71" y="210"/>
                  <a:pt x="86" y="116"/>
                  <a:pt x="96" y="72"/>
                </a:cubicBezTo>
                <a:cubicBezTo>
                  <a:pt x="155" y="131"/>
                  <a:pt x="105" y="225"/>
                  <a:pt x="164" y="284"/>
                </a:cubicBezTo>
                <a:cubicBezTo>
                  <a:pt x="195" y="251"/>
                  <a:pt x="208" y="221"/>
                  <a:pt x="221" y="178"/>
                </a:cubicBezTo>
                <a:cubicBezTo>
                  <a:pt x="228" y="125"/>
                  <a:pt x="233" y="92"/>
                  <a:pt x="250" y="44"/>
                </a:cubicBezTo>
                <a:cubicBezTo>
                  <a:pt x="266" y="77"/>
                  <a:pt x="286" y="105"/>
                  <a:pt x="298" y="140"/>
                </a:cubicBezTo>
                <a:cubicBezTo>
                  <a:pt x="306" y="193"/>
                  <a:pt x="308" y="244"/>
                  <a:pt x="346" y="284"/>
                </a:cubicBezTo>
                <a:cubicBezTo>
                  <a:pt x="373" y="359"/>
                  <a:pt x="375" y="254"/>
                  <a:pt x="384" y="226"/>
                </a:cubicBezTo>
                <a:cubicBezTo>
                  <a:pt x="392" y="171"/>
                  <a:pt x="394" y="145"/>
                  <a:pt x="423" y="101"/>
                </a:cubicBezTo>
                <a:cubicBezTo>
                  <a:pt x="437" y="56"/>
                  <a:pt x="426" y="66"/>
                  <a:pt x="452" y="111"/>
                </a:cubicBezTo>
                <a:cubicBezTo>
                  <a:pt x="458" y="121"/>
                  <a:pt x="465" y="130"/>
                  <a:pt x="471" y="140"/>
                </a:cubicBezTo>
                <a:cubicBezTo>
                  <a:pt x="474" y="149"/>
                  <a:pt x="475" y="160"/>
                  <a:pt x="480" y="168"/>
                </a:cubicBezTo>
                <a:cubicBezTo>
                  <a:pt x="485" y="176"/>
                  <a:pt x="496" y="180"/>
                  <a:pt x="500" y="188"/>
                </a:cubicBezTo>
                <a:cubicBezTo>
                  <a:pt x="531" y="250"/>
                  <a:pt x="481" y="208"/>
                  <a:pt x="538" y="245"/>
                </a:cubicBezTo>
                <a:cubicBezTo>
                  <a:pt x="541" y="255"/>
                  <a:pt x="538" y="274"/>
                  <a:pt x="548" y="274"/>
                </a:cubicBezTo>
                <a:cubicBezTo>
                  <a:pt x="558" y="274"/>
                  <a:pt x="555" y="255"/>
                  <a:pt x="557" y="245"/>
                </a:cubicBezTo>
                <a:cubicBezTo>
                  <a:pt x="561" y="223"/>
                  <a:pt x="562" y="200"/>
                  <a:pt x="567" y="178"/>
                </a:cubicBezTo>
                <a:cubicBezTo>
                  <a:pt x="580" y="124"/>
                  <a:pt x="580" y="129"/>
                  <a:pt x="605" y="92"/>
                </a:cubicBezTo>
                <a:cubicBezTo>
                  <a:pt x="621" y="0"/>
                  <a:pt x="602" y="31"/>
                  <a:pt x="634" y="63"/>
                </a:cubicBezTo>
                <a:cubicBezTo>
                  <a:pt x="642" y="71"/>
                  <a:pt x="653" y="76"/>
                  <a:pt x="663" y="82"/>
                </a:cubicBezTo>
                <a:cubicBezTo>
                  <a:pt x="677" y="128"/>
                  <a:pt x="696" y="171"/>
                  <a:pt x="711" y="216"/>
                </a:cubicBezTo>
                <a:cubicBezTo>
                  <a:pt x="732" y="279"/>
                  <a:pt x="715" y="259"/>
                  <a:pt x="740" y="28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4508640"/>
            <a:ext cx="1166760" cy="303120"/>
          </a:xfrm>
          <a:custGeom>
            <a:avLst/>
            <a:gdLst/>
            <a:ahLst/>
            <a:rect l="l" t="t" r="r" b="b"/>
            <a:pathLst>
              <a:path w="735" h="191">
                <a:moveTo>
                  <a:pt x="0" y="191"/>
                </a:moveTo>
                <a:cubicBezTo>
                  <a:pt x="6" y="173"/>
                  <a:pt x="15" y="150"/>
                  <a:pt x="30" y="140"/>
                </a:cubicBezTo>
                <a:cubicBezTo>
                  <a:pt x="50" y="153"/>
                  <a:pt x="48" y="176"/>
                  <a:pt x="66" y="188"/>
                </a:cubicBezTo>
                <a:cubicBezTo>
                  <a:pt x="83" y="176"/>
                  <a:pt x="81" y="150"/>
                  <a:pt x="102" y="143"/>
                </a:cubicBezTo>
                <a:cubicBezTo>
                  <a:pt x="112" y="150"/>
                  <a:pt x="111" y="161"/>
                  <a:pt x="120" y="167"/>
                </a:cubicBezTo>
                <a:cubicBezTo>
                  <a:pt x="125" y="170"/>
                  <a:pt x="138" y="173"/>
                  <a:pt x="138" y="173"/>
                </a:cubicBezTo>
                <a:cubicBezTo>
                  <a:pt x="148" y="188"/>
                  <a:pt x="149" y="174"/>
                  <a:pt x="159" y="164"/>
                </a:cubicBezTo>
                <a:cubicBezTo>
                  <a:pt x="170" y="132"/>
                  <a:pt x="190" y="85"/>
                  <a:pt x="201" y="53"/>
                </a:cubicBezTo>
                <a:cubicBezTo>
                  <a:pt x="207" y="9"/>
                  <a:pt x="198" y="50"/>
                  <a:pt x="204" y="65"/>
                </a:cubicBezTo>
                <a:cubicBezTo>
                  <a:pt x="206" y="69"/>
                  <a:pt x="208" y="73"/>
                  <a:pt x="210" y="77"/>
                </a:cubicBezTo>
                <a:cubicBezTo>
                  <a:pt x="211" y="80"/>
                  <a:pt x="212" y="83"/>
                  <a:pt x="213" y="86"/>
                </a:cubicBezTo>
                <a:cubicBezTo>
                  <a:pt x="217" y="113"/>
                  <a:pt x="209" y="151"/>
                  <a:pt x="234" y="167"/>
                </a:cubicBezTo>
                <a:cubicBezTo>
                  <a:pt x="250" y="191"/>
                  <a:pt x="254" y="156"/>
                  <a:pt x="264" y="146"/>
                </a:cubicBezTo>
                <a:cubicBezTo>
                  <a:pt x="270" y="140"/>
                  <a:pt x="275" y="139"/>
                  <a:pt x="282" y="137"/>
                </a:cubicBezTo>
                <a:cubicBezTo>
                  <a:pt x="294" y="145"/>
                  <a:pt x="304" y="153"/>
                  <a:pt x="318" y="158"/>
                </a:cubicBezTo>
                <a:cubicBezTo>
                  <a:pt x="332" y="179"/>
                  <a:pt x="323" y="178"/>
                  <a:pt x="339" y="173"/>
                </a:cubicBezTo>
                <a:cubicBezTo>
                  <a:pt x="349" y="158"/>
                  <a:pt x="343" y="143"/>
                  <a:pt x="360" y="137"/>
                </a:cubicBezTo>
                <a:cubicBezTo>
                  <a:pt x="369" y="143"/>
                  <a:pt x="379" y="144"/>
                  <a:pt x="384" y="155"/>
                </a:cubicBezTo>
                <a:cubicBezTo>
                  <a:pt x="387" y="161"/>
                  <a:pt x="390" y="173"/>
                  <a:pt x="390" y="173"/>
                </a:cubicBezTo>
                <a:cubicBezTo>
                  <a:pt x="406" y="168"/>
                  <a:pt x="415" y="150"/>
                  <a:pt x="420" y="134"/>
                </a:cubicBezTo>
                <a:cubicBezTo>
                  <a:pt x="435" y="145"/>
                  <a:pt x="447" y="161"/>
                  <a:pt x="465" y="167"/>
                </a:cubicBezTo>
                <a:cubicBezTo>
                  <a:pt x="486" y="146"/>
                  <a:pt x="482" y="111"/>
                  <a:pt x="504" y="89"/>
                </a:cubicBezTo>
                <a:cubicBezTo>
                  <a:pt x="507" y="78"/>
                  <a:pt x="512" y="70"/>
                  <a:pt x="516" y="59"/>
                </a:cubicBezTo>
                <a:cubicBezTo>
                  <a:pt x="517" y="49"/>
                  <a:pt x="515" y="13"/>
                  <a:pt x="521" y="5"/>
                </a:cubicBezTo>
                <a:cubicBezTo>
                  <a:pt x="525" y="0"/>
                  <a:pt x="523" y="41"/>
                  <a:pt x="525" y="47"/>
                </a:cubicBezTo>
                <a:cubicBezTo>
                  <a:pt x="531" y="64"/>
                  <a:pt x="525" y="59"/>
                  <a:pt x="531" y="74"/>
                </a:cubicBezTo>
                <a:cubicBezTo>
                  <a:pt x="535" y="85"/>
                  <a:pt x="541" y="94"/>
                  <a:pt x="546" y="104"/>
                </a:cubicBezTo>
                <a:cubicBezTo>
                  <a:pt x="552" y="115"/>
                  <a:pt x="551" y="129"/>
                  <a:pt x="555" y="140"/>
                </a:cubicBezTo>
                <a:cubicBezTo>
                  <a:pt x="558" y="149"/>
                  <a:pt x="567" y="167"/>
                  <a:pt x="567" y="167"/>
                </a:cubicBezTo>
                <a:cubicBezTo>
                  <a:pt x="589" y="160"/>
                  <a:pt x="595" y="157"/>
                  <a:pt x="603" y="134"/>
                </a:cubicBezTo>
                <a:cubicBezTo>
                  <a:pt x="621" y="138"/>
                  <a:pt x="622" y="138"/>
                  <a:pt x="636" y="149"/>
                </a:cubicBezTo>
                <a:cubicBezTo>
                  <a:pt x="642" y="153"/>
                  <a:pt x="654" y="161"/>
                  <a:pt x="654" y="161"/>
                </a:cubicBezTo>
                <a:cubicBezTo>
                  <a:pt x="667" y="180"/>
                  <a:pt x="656" y="161"/>
                  <a:pt x="675" y="155"/>
                </a:cubicBezTo>
                <a:cubicBezTo>
                  <a:pt x="682" y="144"/>
                  <a:pt x="681" y="138"/>
                  <a:pt x="693" y="134"/>
                </a:cubicBezTo>
                <a:cubicBezTo>
                  <a:pt x="702" y="140"/>
                  <a:pt x="709" y="153"/>
                  <a:pt x="717" y="158"/>
                </a:cubicBezTo>
                <a:cubicBezTo>
                  <a:pt x="722" y="161"/>
                  <a:pt x="735" y="164"/>
                  <a:pt x="735" y="1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51200" y="4826160"/>
            <a:ext cx="1785600" cy="430200"/>
          </a:xfrm>
          <a:custGeom>
            <a:avLst/>
            <a:gdLst/>
            <a:ahLst/>
            <a:rect l="l" t="t" r="r" b="b"/>
            <a:pathLst>
              <a:path w="1125" h="271">
                <a:moveTo>
                  <a:pt x="0" y="252"/>
                </a:moveTo>
                <a:cubicBezTo>
                  <a:pt x="13" y="239"/>
                  <a:pt x="19" y="235"/>
                  <a:pt x="36" y="228"/>
                </a:cubicBezTo>
                <a:cubicBezTo>
                  <a:pt x="46" y="218"/>
                  <a:pt x="57" y="206"/>
                  <a:pt x="69" y="198"/>
                </a:cubicBezTo>
                <a:cubicBezTo>
                  <a:pt x="74" y="190"/>
                  <a:pt x="81" y="171"/>
                  <a:pt x="81" y="171"/>
                </a:cubicBezTo>
                <a:cubicBezTo>
                  <a:pt x="96" y="176"/>
                  <a:pt x="106" y="198"/>
                  <a:pt x="117" y="210"/>
                </a:cubicBezTo>
                <a:cubicBezTo>
                  <a:pt x="128" y="223"/>
                  <a:pt x="149" y="238"/>
                  <a:pt x="165" y="243"/>
                </a:cubicBezTo>
                <a:cubicBezTo>
                  <a:pt x="193" y="271"/>
                  <a:pt x="185" y="240"/>
                  <a:pt x="192" y="219"/>
                </a:cubicBezTo>
                <a:cubicBezTo>
                  <a:pt x="195" y="197"/>
                  <a:pt x="194" y="184"/>
                  <a:pt x="213" y="171"/>
                </a:cubicBezTo>
                <a:cubicBezTo>
                  <a:pt x="226" y="175"/>
                  <a:pt x="227" y="181"/>
                  <a:pt x="237" y="189"/>
                </a:cubicBezTo>
                <a:cubicBezTo>
                  <a:pt x="251" y="201"/>
                  <a:pt x="246" y="189"/>
                  <a:pt x="258" y="201"/>
                </a:cubicBezTo>
                <a:cubicBezTo>
                  <a:pt x="267" y="210"/>
                  <a:pt x="273" y="222"/>
                  <a:pt x="282" y="231"/>
                </a:cubicBezTo>
                <a:cubicBezTo>
                  <a:pt x="284" y="237"/>
                  <a:pt x="284" y="253"/>
                  <a:pt x="288" y="249"/>
                </a:cubicBezTo>
                <a:cubicBezTo>
                  <a:pt x="299" y="238"/>
                  <a:pt x="307" y="225"/>
                  <a:pt x="312" y="210"/>
                </a:cubicBezTo>
                <a:cubicBezTo>
                  <a:pt x="321" y="182"/>
                  <a:pt x="324" y="153"/>
                  <a:pt x="336" y="126"/>
                </a:cubicBezTo>
                <a:cubicBezTo>
                  <a:pt x="340" y="117"/>
                  <a:pt x="340" y="107"/>
                  <a:pt x="345" y="99"/>
                </a:cubicBezTo>
                <a:cubicBezTo>
                  <a:pt x="355" y="85"/>
                  <a:pt x="350" y="93"/>
                  <a:pt x="357" y="72"/>
                </a:cubicBezTo>
                <a:cubicBezTo>
                  <a:pt x="359" y="66"/>
                  <a:pt x="363" y="54"/>
                  <a:pt x="363" y="54"/>
                </a:cubicBezTo>
                <a:cubicBezTo>
                  <a:pt x="389" y="63"/>
                  <a:pt x="400" y="110"/>
                  <a:pt x="414" y="132"/>
                </a:cubicBezTo>
                <a:cubicBezTo>
                  <a:pt x="439" y="172"/>
                  <a:pt x="475" y="204"/>
                  <a:pt x="501" y="243"/>
                </a:cubicBezTo>
                <a:cubicBezTo>
                  <a:pt x="502" y="247"/>
                  <a:pt x="500" y="255"/>
                  <a:pt x="504" y="255"/>
                </a:cubicBezTo>
                <a:cubicBezTo>
                  <a:pt x="509" y="255"/>
                  <a:pt x="510" y="247"/>
                  <a:pt x="513" y="243"/>
                </a:cubicBezTo>
                <a:cubicBezTo>
                  <a:pt x="522" y="232"/>
                  <a:pt x="527" y="225"/>
                  <a:pt x="534" y="213"/>
                </a:cubicBezTo>
                <a:cubicBezTo>
                  <a:pt x="538" y="207"/>
                  <a:pt x="546" y="195"/>
                  <a:pt x="546" y="195"/>
                </a:cubicBezTo>
                <a:cubicBezTo>
                  <a:pt x="547" y="190"/>
                  <a:pt x="544" y="179"/>
                  <a:pt x="549" y="180"/>
                </a:cubicBezTo>
                <a:cubicBezTo>
                  <a:pt x="557" y="181"/>
                  <a:pt x="567" y="198"/>
                  <a:pt x="567" y="198"/>
                </a:cubicBezTo>
                <a:cubicBezTo>
                  <a:pt x="576" y="224"/>
                  <a:pt x="588" y="242"/>
                  <a:pt x="615" y="249"/>
                </a:cubicBezTo>
                <a:cubicBezTo>
                  <a:pt x="620" y="235"/>
                  <a:pt x="636" y="190"/>
                  <a:pt x="645" y="180"/>
                </a:cubicBezTo>
                <a:cubicBezTo>
                  <a:pt x="648" y="176"/>
                  <a:pt x="653" y="175"/>
                  <a:pt x="657" y="171"/>
                </a:cubicBezTo>
                <a:cubicBezTo>
                  <a:pt x="660" y="168"/>
                  <a:pt x="661" y="165"/>
                  <a:pt x="663" y="162"/>
                </a:cubicBezTo>
                <a:cubicBezTo>
                  <a:pt x="664" y="158"/>
                  <a:pt x="662" y="152"/>
                  <a:pt x="666" y="150"/>
                </a:cubicBezTo>
                <a:cubicBezTo>
                  <a:pt x="674" y="145"/>
                  <a:pt x="683" y="159"/>
                  <a:pt x="687" y="162"/>
                </a:cubicBezTo>
                <a:cubicBezTo>
                  <a:pt x="703" y="174"/>
                  <a:pt x="723" y="189"/>
                  <a:pt x="741" y="198"/>
                </a:cubicBezTo>
                <a:cubicBezTo>
                  <a:pt x="751" y="213"/>
                  <a:pt x="758" y="228"/>
                  <a:pt x="768" y="243"/>
                </a:cubicBezTo>
                <a:cubicBezTo>
                  <a:pt x="772" y="216"/>
                  <a:pt x="784" y="196"/>
                  <a:pt x="795" y="171"/>
                </a:cubicBezTo>
                <a:cubicBezTo>
                  <a:pt x="801" y="157"/>
                  <a:pt x="802" y="141"/>
                  <a:pt x="807" y="126"/>
                </a:cubicBezTo>
                <a:cubicBezTo>
                  <a:pt x="810" y="95"/>
                  <a:pt x="815" y="48"/>
                  <a:pt x="825" y="18"/>
                </a:cubicBezTo>
                <a:cubicBezTo>
                  <a:pt x="860" y="53"/>
                  <a:pt x="808" y="0"/>
                  <a:pt x="840" y="39"/>
                </a:cubicBezTo>
                <a:cubicBezTo>
                  <a:pt x="845" y="46"/>
                  <a:pt x="858" y="57"/>
                  <a:pt x="858" y="57"/>
                </a:cubicBezTo>
                <a:cubicBezTo>
                  <a:pt x="865" y="73"/>
                  <a:pt x="872" y="76"/>
                  <a:pt x="882" y="90"/>
                </a:cubicBezTo>
                <a:cubicBezTo>
                  <a:pt x="888" y="107"/>
                  <a:pt x="908" y="127"/>
                  <a:pt x="918" y="141"/>
                </a:cubicBezTo>
                <a:cubicBezTo>
                  <a:pt x="931" y="158"/>
                  <a:pt x="919" y="147"/>
                  <a:pt x="927" y="162"/>
                </a:cubicBezTo>
                <a:cubicBezTo>
                  <a:pt x="934" y="175"/>
                  <a:pt x="943" y="188"/>
                  <a:pt x="951" y="201"/>
                </a:cubicBezTo>
                <a:cubicBezTo>
                  <a:pt x="959" y="214"/>
                  <a:pt x="966" y="227"/>
                  <a:pt x="975" y="240"/>
                </a:cubicBezTo>
                <a:cubicBezTo>
                  <a:pt x="979" y="246"/>
                  <a:pt x="987" y="258"/>
                  <a:pt x="987" y="258"/>
                </a:cubicBezTo>
                <a:cubicBezTo>
                  <a:pt x="997" y="217"/>
                  <a:pt x="1029" y="187"/>
                  <a:pt x="1047" y="150"/>
                </a:cubicBezTo>
                <a:cubicBezTo>
                  <a:pt x="1048" y="143"/>
                  <a:pt x="1044" y="133"/>
                  <a:pt x="1050" y="129"/>
                </a:cubicBezTo>
                <a:cubicBezTo>
                  <a:pt x="1054" y="126"/>
                  <a:pt x="1055" y="137"/>
                  <a:pt x="1059" y="141"/>
                </a:cubicBezTo>
                <a:cubicBezTo>
                  <a:pt x="1070" y="152"/>
                  <a:pt x="1082" y="169"/>
                  <a:pt x="1095" y="177"/>
                </a:cubicBezTo>
                <a:cubicBezTo>
                  <a:pt x="1101" y="187"/>
                  <a:pt x="1108" y="194"/>
                  <a:pt x="1113" y="204"/>
                </a:cubicBezTo>
                <a:cubicBezTo>
                  <a:pt x="1117" y="210"/>
                  <a:pt x="1125" y="222"/>
                  <a:pt x="1125" y="22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Що у фізиці змінюється по синусоїдальному закону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мінний струм синусоїдальний, тобто сила струму в кожній ділянці ланцюга змінюється по синусоїдальному закону </a:t>
            </a: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І=І</a:t>
            </a:r>
            <a:r>
              <a:rPr b="0" i="1" lang="uk-UA" sz="1400" spc="-1" strike="noStrike">
                <a:solidFill>
                  <a:srgbClr val="ffffff"/>
                </a:solidFill>
                <a:latin typeface="Monotype Corsiva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sin(wt+µ),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І</a:t>
            </a:r>
            <a:r>
              <a:rPr b="0" i="1" lang="uk-UA" sz="1400" spc="-1" strike="noStrike">
                <a:solidFill>
                  <a:srgbClr val="ffffff"/>
                </a:solidFill>
                <a:latin typeface="Monotype Corsiva"/>
              </a:rPr>
              <a:t>0</a:t>
            </a: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 –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амплітуда струм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w</a:t>
            </a: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 –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циклічна част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µ</a:t>
            </a: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очаткова фаз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ЕРС (електрорушійна сила) ланцюга також змінюється по синусоїдальному закон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9ed51"/>
                </a:solidFill>
                <a:latin typeface="Times New Roman"/>
              </a:rPr>
              <a:t>Значення синусоїдних коливань в літаку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ри русі літака потрібно стежити, щоб частота синусоїдних коливань літака, спричинена роботою мотора,  не збігались з частотою якою-небудь деталі літа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9ed51"/>
                </a:solidFill>
                <a:latin typeface="Times New Roman"/>
              </a:rPr>
              <a:t>До чого може призвести</a:t>
            </a:r>
            <a:br>
              <a:rPr sz="4800"/>
            </a:br>
            <a:r>
              <a:rPr b="1" lang="uk-UA" sz="4800" spc="-1" strike="noStrike">
                <a:solidFill>
                  <a:srgbClr val="e9ed51"/>
                </a:solidFill>
                <a:latin typeface="Times New Roman"/>
              </a:rPr>
              <a:t>збігання синусоїд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2997000"/>
            <a:ext cx="576108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Резонанс синусоїдних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коливань літака мож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призвести до аварії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исново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осить часто у технічних приладах використовують графік функції сину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3:56:22Z</dcterms:created>
  <dc:creator>1</dc:creator>
  <dc:description/>
  <dc:language>en-US</dc:language>
  <cp:lastModifiedBy>Белоконь Денис</cp:lastModifiedBy>
  <dcterms:modified xsi:type="dcterms:W3CDTF">2008-01-07T10:44:09Z</dcterms:modified>
  <cp:revision>5</cp:revision>
  <dc:subject/>
  <dc:title>Слайд 1</dc:title>
</cp:coreProperties>
</file>