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5.gif" ContentType="image/gif"/>
  <Override PartName="/ppt/media/image3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5.png" ContentType="image/png"/>
  <Override PartName="/ppt/media/image4.gif" ContentType="image/gif"/>
  <Override PartName="/ppt/media/image8.png" ContentType="image/png"/>
  <Override PartName="/ppt/media/image1.gif" ContentType="image/gif"/>
  <Override PartName="/ppt/media/image12.wmf" ContentType="image/x-wmf"/>
  <Override PartName="/ppt/media/image7.gif" ContentType="image/gif"/>
  <Override PartName="/ppt/media/image9.gif" ContentType="image/gi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E884-32DE-42C4-AC4D-B11B0DBF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7492-FF1D-4CD5-B2F8-5B22B66A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10AB-3AC5-478A-8FEB-23B64289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99AE-06ED-4BF0-BE04-F22D97FB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5C2-41BA-4FF1-81F1-0E8166A6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7DD5-2CBC-4608-B703-33CBFE1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3A8-625E-4DE9-A1B9-81B440F5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C0B5-4D34-4943-AE08-30987129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FF1-A1D2-4F4A-BA11-76EF544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9D88-7C21-4328-829A-2936D857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42FC-8501-4AE0-A3F4-76C53FA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1126-9151-4A7D-86E4-F6A03CE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76F9-036C-44A6-AC58-15DB2BE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DF90-80B6-46B7-99CD-405F259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9BE5-11EC-4F56-9F65-D976B696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E22A-A613-4636-B384-BDBCF46D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08A-9B6F-48B2-BF9C-441F2146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3973-AC20-4359-B01B-A7615F11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E720-26D7-4940-9CA1-4482B94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6893-4DB4-41E2-8B15-9B23DB5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26BF-89E6-4AA7-BF40-5DD1EDB0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9A0B-3E7F-4967-B4E5-25783CC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CF32-8944-4057-8FB7-5196FD6A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B2C8-E329-4D58-B4EB-6FCCFFD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FFA-6A3A-4571-8F18-75475D2C2A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d0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ff"/>
                  </a:gs>
                  <a:gs pos="100000">
                    <a:srgbClr val="2c2c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333ff"/>
                </a:gs>
                <a:gs pos="100000">
                  <a:srgbClr val="2b2b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d0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ff"/>
                  </a:gs>
                  <a:gs pos="100000">
                    <a:srgbClr val="2c2c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333ff"/>
                </a:gs>
                <a:gs pos="100000">
                  <a:srgbClr val="2b2b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50CC-C74B-4372-8F95-16B933B93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47280" y="4436640"/>
            <a:ext cx="6985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вчитель ЗОШ №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м. Смі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Білоконь Л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32080" y="1494000"/>
            <a:ext cx="65246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caf00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У світі синусої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caf00a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12360" y="59943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25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75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66ff"/>
                </a:solidFill>
                <a:latin typeface="Lucida Console"/>
              </a:rPr>
              <a:t>Дорогі друзі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920" y="28526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Чи помічали ви красу гармонії в нашому світі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Чи хотіли  б ви дослідити її разом з нами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Якщо так, то запрошуєм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вас стати учасниками наш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проект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81720" y="4643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cc00"/>
                </a:solidFill>
                <a:latin typeface="Comic Sans MS"/>
              </a:rPr>
              <a:t>Мета проекту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287440"/>
            <a:ext cx="79311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Провести дослідженн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Зібрати та представити результати досліджен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Проаналізува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Застосувати знання до життєвих 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ситуаці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00080" y="490680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372360" y="4797360"/>
            <a:ext cx="24476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25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75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8840" y="301680"/>
            <a:ext cx="7956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u="sng">
                <a:solidFill>
                  <a:srgbClr val="f34f4f"/>
                </a:solidFill>
                <a:uFillTx/>
                <a:latin typeface="Lucida Bright"/>
              </a:rPr>
              <a:t>Завданн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518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Прочитати запропоновану літературу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Об</a:t>
            </a:r>
            <a:r>
              <a:rPr b="1" lang="en-US" sz="3000" spc="-1" strike="noStrike">
                <a:solidFill>
                  <a:srgbClr val="ef1111"/>
                </a:solidFill>
                <a:latin typeface="Arial"/>
              </a:rPr>
              <a:t>’</a:t>
            </a: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єднатися в групи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У кожній групі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виберіть інформатик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та журналіст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Дослідіть, чи дійсно можн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спостерігати гармонічність синусоїди у кожному з видів наук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Результати оформіть у вигляді презентаці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780160" y="1979640"/>
            <a:ext cx="3384360" cy="2519280"/>
          </a:xfrm>
          <a:prstGeom prst="verticalScroll">
            <a:avLst>
              <a:gd name="adj" fmla="val 20328"/>
            </a:avLst>
          </a:prstGeom>
          <a:gradFill rotWithShape="0">
            <a:gsLst>
              <a:gs pos="0">
                <a:srgbClr val="e4df0b"/>
              </a:gs>
              <a:gs pos="100000">
                <a:srgbClr val="17ad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Техні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Фізи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строном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еди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аціоналізато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267680" y="5268960"/>
            <a:ext cx="14396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665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Чи математика безмежна як світ, присутня і міститься в усьом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 в навколишньому світі ми можемо зустрітися з гармонією синусоїд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Чи підвладні законам синусоїди біоритми людин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Якщо вас зацікавили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дані питання, то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вирушаймо в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подорож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2011680" cy="306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2190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66ff"/>
                </a:solidFill>
                <a:latin typeface="Arial"/>
              </a:rPr>
              <a:t>Перші кроки найважчі, тому пропонуємо завітати до 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df0b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rambler.r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66ff"/>
                </a:solidFill>
                <a:latin typeface="Arial"/>
              </a:rPr>
              <a:t>Використати літературу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0cb0a"/>
                </a:solidFill>
                <a:latin typeface="Arial"/>
              </a:rPr>
              <a:t>OXFORD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– велика енциклопедія школяр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3 93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 3 89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 2 93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5796000" y="1125360"/>
            <a:ext cx="1511280" cy="194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451640" y="3213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ff"/>
                </a:solidFill>
                <a:latin typeface="Lucida Console"/>
              </a:rPr>
              <a:t>Учні, які виконають завдання, отримають приз – додатковий бал за тем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uk-UA" sz="6600" spc="-1" strike="noStrike">
                <a:solidFill>
                  <a:srgbClr val="ffcc00"/>
                </a:solidFill>
                <a:latin typeface="Garamond"/>
              </a:rPr>
              <a:t>Бажаю успіхів у творчій роботі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352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ef1111"/>
                </a:solidFill>
                <a:latin typeface="Comic Sans MS"/>
              </a:rPr>
              <a:t>КІНЕЦЬ</a:t>
            </a:r>
            <a:endParaRPr b="1" lang="en-US" sz="15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843280" y="2347920"/>
            <a:ext cx="273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xit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5:40:06Z</dcterms:created>
  <dc:creator>Белоконь Денис</dc:creator>
  <dc:description/>
  <dc:language>en-US</dc:language>
  <cp:lastModifiedBy>Admin</cp:lastModifiedBy>
  <dcterms:modified xsi:type="dcterms:W3CDTF">2011-03-01T10:14:48Z</dcterms:modified>
  <cp:revision>9</cp:revision>
  <dc:subject/>
  <dc:title>У світі гармонії і краси</dc:title>
</cp:coreProperties>
</file>