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10.gif" ContentType="image/gif"/>
  <Override PartName="/ppt/media/image9.gif" ContentType="image/gif"/>
  <Override PartName="/ppt/media/image8.gif" ContentType="image/gif"/>
  <Override PartName="/ppt/media/image17.wmf" ContentType="image/x-wmf"/>
  <Override PartName="/ppt/media/image16.wmf" ContentType="image/x-wmf"/>
  <Override PartName="/ppt/media/image15.wmf" ContentType="image/x-wmf"/>
  <Override PartName="/ppt/media/image7.gif" ContentType="image/gif"/>
  <Override PartName="/ppt/media/image12.gif" ContentType="image/gif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13.jpeg" ContentType="image/jpeg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02A52-9E3B-4524-9AB7-2CDCA4EEB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F350E-DF72-40C9-85B7-9ED698F7C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C4CFA-8A5F-4746-8669-CBF661480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4AB0F-062C-4F82-8BCA-7051A69C4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581A7-FC97-4B77-B09A-C40198CC7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BB086-4199-4F95-9476-BFF6EF948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0AAF6-E012-4DC7-992A-F0950E33D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ABACA-7F86-4B06-83AC-980053EC5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063D3-649C-4A6E-B9BA-21A3135D1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4DBAA-CD2D-4E7C-926A-402F33E7C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D37FA-84DC-4EC6-9B8B-36BEA4532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E4ACD-D45D-4AC3-A811-5063EC2AB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78A4D-97B7-4FAA-8726-FF0FDE8AB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C08B5-33D9-4809-AED3-C5E4749E7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D6CD5-6396-4E79-98A1-39C98FA1C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873BE-28C4-41A4-B306-AC5D1BF51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2BD57-B1A3-42BC-BD54-27347C60F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62BA0-E00D-4290-BFBD-5125F9244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5C2ED-35B5-4C1D-8055-C93FEBD7E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278F1-9F32-4C51-A157-477F6FFEB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77CD7-53A0-4DE9-AD65-A9497913E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8F2BB-9198-4F86-B47C-EDEFF8473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7B688-46AC-4D1D-A69C-26EBA66B9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5AEFF-60ED-4DD5-9A04-F6064C291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33A56-EDA1-42B0-A596-F1EB87882C6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8E1F3-334D-4210-977F-CA29A1BE501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7.xml"/><Relationship Id="rId5" Type="http://schemas.openxmlformats.org/officeDocument/2006/relationships/slide" Target="slide8.xml"/><Relationship Id="rId6" Type="http://schemas.openxmlformats.org/officeDocument/2006/relationships/slide" Target="slide6.xml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animationfactory.com/free/sports/basketball_variant_page_basketball_player_dribbling.html" TargetMode="External"/><Relationship Id="rId2" Type="http://schemas.openxmlformats.org/officeDocument/2006/relationships/image" Target="../media/image7.gif"/><Relationship Id="rId3" Type="http://schemas.openxmlformats.org/officeDocument/2006/relationships/image" Target="../media/image8.gif"/><Relationship Id="rId4" Type="http://schemas.openxmlformats.org/officeDocument/2006/relationships/image" Target="../media/image9.gif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1547640" y="1916280"/>
            <a:ext cx="6193080" cy="213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c0808"/>
                    </a:gs>
                    <a:gs pos="50000">
                      <a:srgbClr val="ffcc00"/>
                    </a:gs>
                    <a:gs pos="100000">
                      <a:srgbClr val="fc0808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Висновок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c0808"/>
                  </a:gs>
                  <a:gs pos="50000">
                    <a:srgbClr val="ffcc00"/>
                  </a:gs>
                  <a:gs pos="100000">
                    <a:srgbClr val="fc0808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2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/>
          </p:nvPr>
        </p:nvSpPr>
        <p:spPr>
          <a:xfrm>
            <a:off x="899640" y="404280"/>
            <a:ext cx="7386840" cy="56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c0808"/>
                </a:solidFill>
                <a:latin typeface="Bodoni MT Black"/>
              </a:rPr>
              <a:t>ДЯКУЮ ЗА СПІВПРАЦЮ!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3059280" y="3141720"/>
            <a:ext cx="2985840" cy="34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4" dur="2000" fill="hold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000"/>
                            </p:stCondLst>
                            <p:childTnLst>
                              <p:par>
                                <p:cTn id="46" nodeType="afterEffect" fill="hold" presetClass="emph" presetID="23" repeatCount="300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7" dur="500" fill="hold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8" dur="500" fill="hold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9" dur="500" fill="hold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50" dur="500" fill="hold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3500"/>
                            </p:stCondLst>
                            <p:childTnLst>
                              <p:par>
                                <p:cTn id="5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91520" cy="106344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e0e008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fc0808"/>
                </a:solidFill>
                <a:latin typeface="Arial"/>
              </a:rPr>
              <a:t>Результати досліджень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68360" y="1628640"/>
            <a:ext cx="784872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136440" y="1327320"/>
            <a:ext cx="8950320" cy="3720960"/>
            <a:chOff x="136440" y="1327320"/>
            <a:chExt cx="8950320" cy="3720960"/>
          </a:xfrm>
        </p:grpSpPr>
        <p:sp>
          <p:nvSpPr>
            <p:cNvPr id="216" name=""/>
            <p:cNvSpPr/>
            <p:nvPr/>
          </p:nvSpPr>
          <p:spPr>
            <a:xfrm>
              <a:off x="136440" y="2760840"/>
              <a:ext cx="2017800" cy="847440"/>
            </a:xfrm>
            <a:prstGeom prst="rect">
              <a:avLst/>
            </a:prstGeom>
            <a:gradFill rotWithShape="0">
              <a:gsLst>
                <a:gs pos="0">
                  <a:srgbClr val="9900ff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800" spc="-1" strike="noStrike" u="sng">
                  <a:solidFill>
                    <a:srgbClr val="99ff99"/>
                  </a:solidFill>
                  <a:uFillTx/>
                  <a:latin typeface="Arial"/>
                  <a:hlinkClick r:id="rId1" action="ppaction://hlinksldjump"/>
                </a:rPr>
                <a:t>Техніків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527200" y="2760840"/>
              <a:ext cx="2017800" cy="847440"/>
            </a:xfrm>
            <a:prstGeom prst="rect">
              <a:avLst/>
            </a:prstGeom>
            <a:gradFill rotWithShape="0">
              <a:gsLst>
                <a:gs pos="0">
                  <a:srgbClr val="9900ff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800" spc="-1" strike="noStrike" u="sng">
                  <a:solidFill>
                    <a:srgbClr val="99ff99"/>
                  </a:solidFill>
                  <a:uFillTx/>
                  <a:latin typeface="Arial"/>
                  <a:hlinkClick r:id="rId2" action="ppaction://hlinksldjump"/>
                </a:rPr>
                <a:t>Медиків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687920" y="2760840"/>
              <a:ext cx="2017800" cy="847440"/>
            </a:xfrm>
            <a:prstGeom prst="rect">
              <a:avLst/>
            </a:prstGeom>
            <a:gradFill rotWithShape="0">
              <a:gsLst>
                <a:gs pos="0">
                  <a:srgbClr val="9900ff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800" spc="-1" strike="noStrike" u="sng">
                  <a:solidFill>
                    <a:srgbClr val="99ff99"/>
                  </a:solidFill>
                  <a:uFillTx/>
                  <a:latin typeface="Arial"/>
                  <a:hlinkClick r:id="rId3" action="ppaction://hlinksldjump"/>
                </a:rPr>
                <a:t>З життя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068960" y="2760840"/>
              <a:ext cx="2017800" cy="847440"/>
            </a:xfrm>
            <a:prstGeom prst="rect">
              <a:avLst/>
            </a:prstGeom>
            <a:gradFill rotWithShape="0">
              <a:gsLst>
                <a:gs pos="0">
                  <a:srgbClr val="9900ff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800" spc="-1" strike="noStrike" u="sng">
                  <a:solidFill>
                    <a:srgbClr val="99ff99"/>
                  </a:solidFill>
                  <a:uFillTx/>
                  <a:latin typeface="Arial"/>
                  <a:hlinkClick r:id="rId4" action="ppaction://hlinksldjump"/>
                </a:rPr>
                <a:t>Фізиків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82560" y="4200480"/>
              <a:ext cx="3457800" cy="847800"/>
            </a:xfrm>
            <a:prstGeom prst="rect">
              <a:avLst/>
            </a:prstGeom>
            <a:gradFill rotWithShape="0">
              <a:gsLst>
                <a:gs pos="0">
                  <a:srgbClr val="9900ff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800" spc="-1" strike="noStrike" u="sng">
                  <a:solidFill>
                    <a:srgbClr val="99ff99"/>
                  </a:solidFill>
                  <a:uFillTx/>
                  <a:latin typeface="Arial"/>
                  <a:hlinkClick r:id="rId5" action="ppaction://hlinksldjump"/>
                </a:rPr>
                <a:t>Раціоналізаторів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932360" y="4200480"/>
              <a:ext cx="3975120" cy="847800"/>
            </a:xfrm>
            <a:prstGeom prst="rect">
              <a:avLst/>
            </a:prstGeom>
            <a:gradFill rotWithShape="0">
              <a:gsLst>
                <a:gs pos="0">
                  <a:srgbClr val="9900ff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800" spc="-1" strike="noStrike" u="sng">
                  <a:solidFill>
                    <a:srgbClr val="99ff99"/>
                  </a:solidFill>
                  <a:uFillTx/>
                  <a:latin typeface="Arial"/>
                  <a:hlinkClick r:id="rId6" action="ppaction://hlinksldjump"/>
                </a:rPr>
                <a:t>Астрономів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042920" y="1327320"/>
              <a:ext cx="0" cy="1439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564000" y="1327320"/>
              <a:ext cx="0" cy="1439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651640" y="1327320"/>
              <a:ext cx="0" cy="1439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8172360" y="1327320"/>
              <a:ext cx="0" cy="1439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354400" y="1327320"/>
              <a:ext cx="0" cy="2879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905520" y="1327320"/>
              <a:ext cx="0" cy="2879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with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ccecff"/>
                </a:solidFill>
                <a:latin typeface="Arial"/>
              </a:rPr>
              <a:t>В техніці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2752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в літаках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електростанціях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робота поршн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708360" y="3429000"/>
            <a:ext cx="4583160" cy="2695680"/>
          </a:xfrm>
          <a:prstGeom prst="rect">
            <a:avLst/>
          </a:prstGeom>
          <a:ln w="0">
            <a:noFill/>
          </a:ln>
        </p:spPr>
      </p:pic>
      <p:sp>
        <p:nvSpPr>
          <p:cNvPr id="231" name="">
            <a:hlinkClick r:id="rId2" action="ppaction://hlinksldjump"/>
          </p:cNvPr>
          <p:cNvSpPr/>
          <p:nvPr/>
        </p:nvSpPr>
        <p:spPr>
          <a:xfrm>
            <a:off x="0" y="6093000"/>
            <a:ext cx="539640" cy="475920"/>
          </a:xfrm>
          <a:custGeom>
            <a:avLst/>
            <a:gdLst>
              <a:gd name="textAreaLeft" fmla="*/ 30600 w 539640"/>
              <a:gd name="textAreaRight" fmla="*/ 509040 w 539640"/>
              <a:gd name="textAreaTop" fmla="*/ 30600 h 475920"/>
              <a:gd name="textAreaBottom" fmla="*/ 445320 h 475920"/>
            </a:gdLst>
            <a:ahLst/>
            <a:rect l="textAreaLeft" t="textAreaTop" r="textAreaRight" b="textAreaBottom"/>
            <a:pathLst>
              <a:path w="24490" h="21600">
                <a:moveTo>
                  <a:pt x="0" y="0"/>
                </a:moveTo>
                <a:lnTo>
                  <a:pt x="24490" y="0"/>
                </a:lnTo>
                <a:lnTo>
                  <a:pt x="24490" y="21600"/>
                </a:lnTo>
                <a:lnTo>
                  <a:pt x="0" y="21600"/>
                </a:lnTo>
                <a:close/>
              </a:path>
              <a:path fill="lightenLess" w="24490" h="21600">
                <a:moveTo>
                  <a:pt x="0" y="0"/>
                </a:moveTo>
                <a:lnTo>
                  <a:pt x="24490" y="0"/>
                </a:lnTo>
                <a:lnTo>
                  <a:pt x="23090" y="1400"/>
                </a:lnTo>
                <a:lnTo>
                  <a:pt x="1400" y="1400"/>
                </a:lnTo>
                <a:close/>
              </a:path>
              <a:path fill="darken" w="24490" h="21600">
                <a:moveTo>
                  <a:pt x="24490" y="0"/>
                </a:moveTo>
                <a:lnTo>
                  <a:pt x="24490" y="21600"/>
                </a:lnTo>
                <a:lnTo>
                  <a:pt x="23090" y="20200"/>
                </a:lnTo>
                <a:lnTo>
                  <a:pt x="23090" y="1400"/>
                </a:lnTo>
                <a:close/>
              </a:path>
              <a:path fill="darkenLess" w="24490" h="21600">
                <a:moveTo>
                  <a:pt x="244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90" y="20200"/>
                </a:lnTo>
                <a:close/>
              </a:path>
              <a:path fill="lighten" w="244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90" h="21600">
                <a:moveTo>
                  <a:pt x="5238" y="7493"/>
                </a:moveTo>
                <a:lnTo>
                  <a:pt x="8746" y="7493"/>
                </a:lnTo>
                <a:lnTo>
                  <a:pt x="8746" y="12828"/>
                </a:lnTo>
                <a:cubicBezTo>
                  <a:pt x="8746" y="13751"/>
                  <a:pt x="9547" y="14482"/>
                  <a:pt x="10582" y="14482"/>
                </a:cubicBezTo>
                <a:lnTo>
                  <a:pt x="12245" y="14482"/>
                </a:lnTo>
                <a:cubicBezTo>
                  <a:pt x="13281" y="14482"/>
                  <a:pt x="14081" y="13751"/>
                  <a:pt x="14081" y="12828"/>
                </a:cubicBezTo>
                <a:lnTo>
                  <a:pt x="14081" y="7493"/>
                </a:lnTo>
                <a:lnTo>
                  <a:pt x="12245" y="7493"/>
                </a:lnTo>
                <a:lnTo>
                  <a:pt x="15752" y="3985"/>
                </a:lnTo>
                <a:lnTo>
                  <a:pt x="19425" y="7493"/>
                </a:lnTo>
                <a:lnTo>
                  <a:pt x="17589" y="7493"/>
                </a:lnTo>
                <a:lnTo>
                  <a:pt x="17589" y="12828"/>
                </a:lnTo>
                <a:cubicBezTo>
                  <a:pt x="17589" y="15596"/>
                  <a:pt x="15013" y="18155"/>
                  <a:pt x="12245" y="18155"/>
                </a:cubicBezTo>
                <a:lnTo>
                  <a:pt x="10582" y="18155"/>
                </a:lnTo>
                <a:cubicBezTo>
                  <a:pt x="7815" y="18155"/>
                  <a:pt x="5238" y="15596"/>
                  <a:pt x="5238" y="12828"/>
                </a:cubicBezTo>
                <a:close/>
              </a:path>
            </a:pathLst>
          </a:custGeom>
          <a:gradFill rotWithShape="0">
            <a:gsLst>
              <a:gs pos="0">
                <a:srgbClr val="e0e008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ccecff"/>
                </a:solidFill>
                <a:latin typeface="Arial"/>
              </a:rPr>
              <a:t>В медицині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70440" cy="19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біоритми людини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дихання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робота серця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 flipH="1">
            <a:off x="5551200" y="1119240"/>
            <a:ext cx="2981160" cy="202248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5076720" y="4371840"/>
            <a:ext cx="4067280" cy="24861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3995640" y="2852640"/>
            <a:ext cx="1420920" cy="116856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4"/>
          <a:stretch/>
        </p:blipFill>
        <p:spPr>
          <a:xfrm>
            <a:off x="658800" y="3308400"/>
            <a:ext cx="3076560" cy="3549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0" y="6021360"/>
            <a:ext cx="539640" cy="476280"/>
          </a:xfrm>
          <a:custGeom>
            <a:avLst/>
            <a:gdLst>
              <a:gd name="textAreaLeft" fmla="*/ 30600 w 539640"/>
              <a:gd name="textAreaRight" fmla="*/ 509040 w 53964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4471" h="21600">
                <a:moveTo>
                  <a:pt x="0" y="0"/>
                </a:moveTo>
                <a:lnTo>
                  <a:pt x="24471" y="0"/>
                </a:lnTo>
                <a:lnTo>
                  <a:pt x="24471" y="21600"/>
                </a:lnTo>
                <a:lnTo>
                  <a:pt x="0" y="21600"/>
                </a:lnTo>
                <a:close/>
              </a:path>
              <a:path fill="lightenLess" w="24471" h="21600">
                <a:moveTo>
                  <a:pt x="0" y="0"/>
                </a:moveTo>
                <a:lnTo>
                  <a:pt x="24471" y="0"/>
                </a:lnTo>
                <a:lnTo>
                  <a:pt x="23071" y="1400"/>
                </a:lnTo>
                <a:lnTo>
                  <a:pt x="1400" y="1400"/>
                </a:lnTo>
                <a:close/>
              </a:path>
              <a:path fill="darken" w="24471" h="21600">
                <a:moveTo>
                  <a:pt x="24471" y="0"/>
                </a:moveTo>
                <a:lnTo>
                  <a:pt x="24471" y="21600"/>
                </a:lnTo>
                <a:lnTo>
                  <a:pt x="23071" y="20200"/>
                </a:lnTo>
                <a:lnTo>
                  <a:pt x="23071" y="1400"/>
                </a:lnTo>
                <a:close/>
              </a:path>
              <a:path fill="darkenLess" w="24471" h="21600">
                <a:moveTo>
                  <a:pt x="244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1" y="20200"/>
                </a:lnTo>
                <a:close/>
              </a:path>
              <a:path fill="lighten" w="244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1" h="21600">
                <a:moveTo>
                  <a:pt x="5229" y="7493"/>
                </a:moveTo>
                <a:lnTo>
                  <a:pt x="8737" y="7493"/>
                </a:lnTo>
                <a:lnTo>
                  <a:pt x="8737" y="12828"/>
                </a:lnTo>
                <a:cubicBezTo>
                  <a:pt x="8737" y="13751"/>
                  <a:pt x="9538" y="14482"/>
                  <a:pt x="10573" y="14482"/>
                </a:cubicBezTo>
                <a:lnTo>
                  <a:pt x="12236" y="14482"/>
                </a:lnTo>
                <a:cubicBezTo>
                  <a:pt x="13271" y="14482"/>
                  <a:pt x="14072" y="13751"/>
                  <a:pt x="14072" y="12828"/>
                </a:cubicBezTo>
                <a:lnTo>
                  <a:pt x="14072" y="7493"/>
                </a:lnTo>
                <a:lnTo>
                  <a:pt x="12236" y="7493"/>
                </a:lnTo>
                <a:lnTo>
                  <a:pt x="15743" y="3985"/>
                </a:lnTo>
                <a:lnTo>
                  <a:pt x="19416" y="7493"/>
                </a:lnTo>
                <a:lnTo>
                  <a:pt x="17580" y="7493"/>
                </a:lnTo>
                <a:lnTo>
                  <a:pt x="17580" y="12828"/>
                </a:lnTo>
                <a:cubicBezTo>
                  <a:pt x="17580" y="15596"/>
                  <a:pt x="15003" y="18155"/>
                  <a:pt x="12236" y="18155"/>
                </a:cubicBezTo>
                <a:lnTo>
                  <a:pt x="10573" y="18155"/>
                </a:lnTo>
                <a:cubicBezTo>
                  <a:pt x="7805" y="18155"/>
                  <a:pt x="5229" y="15596"/>
                  <a:pt x="5229" y="12828"/>
                </a:cubicBezTo>
                <a:close/>
              </a:path>
            </a:pathLst>
          </a:custGeom>
          <a:gradFill rotWithShape="0">
            <a:gsLst>
              <a:gs pos="0">
                <a:srgbClr val="e0e008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ccecff"/>
                </a:solidFill>
                <a:latin typeface="Arial"/>
              </a:rPr>
              <a:t>З життя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коливання ниви на полі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скакання 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яча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підстрибування та ін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1" name="" descr="basketball_player_dribbling_md_wht.gi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55640" y="3860640"/>
            <a:ext cx="2519280" cy="251964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3"/>
          <a:stretch/>
        </p:blipFill>
        <p:spPr>
          <a:xfrm>
            <a:off x="6588000" y="189000"/>
            <a:ext cx="2286000" cy="525780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4"/>
          <a:stretch/>
        </p:blipFill>
        <p:spPr>
          <a:xfrm>
            <a:off x="4067280" y="3860640"/>
            <a:ext cx="2376360" cy="151308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0" y="6021360"/>
            <a:ext cx="539640" cy="476280"/>
          </a:xfrm>
          <a:custGeom>
            <a:avLst/>
            <a:gdLst>
              <a:gd name="textAreaLeft" fmla="*/ 30600 w 539640"/>
              <a:gd name="textAreaRight" fmla="*/ 509040 w 53964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4471" h="21600">
                <a:moveTo>
                  <a:pt x="0" y="0"/>
                </a:moveTo>
                <a:lnTo>
                  <a:pt x="24471" y="0"/>
                </a:lnTo>
                <a:lnTo>
                  <a:pt x="24471" y="21600"/>
                </a:lnTo>
                <a:lnTo>
                  <a:pt x="0" y="21600"/>
                </a:lnTo>
                <a:close/>
              </a:path>
              <a:path fill="lightenLess" w="24471" h="21600">
                <a:moveTo>
                  <a:pt x="0" y="0"/>
                </a:moveTo>
                <a:lnTo>
                  <a:pt x="24471" y="0"/>
                </a:lnTo>
                <a:lnTo>
                  <a:pt x="23071" y="1400"/>
                </a:lnTo>
                <a:lnTo>
                  <a:pt x="1400" y="1400"/>
                </a:lnTo>
                <a:close/>
              </a:path>
              <a:path fill="darken" w="24471" h="21600">
                <a:moveTo>
                  <a:pt x="24471" y="0"/>
                </a:moveTo>
                <a:lnTo>
                  <a:pt x="24471" y="21600"/>
                </a:lnTo>
                <a:lnTo>
                  <a:pt x="23071" y="20200"/>
                </a:lnTo>
                <a:lnTo>
                  <a:pt x="23071" y="1400"/>
                </a:lnTo>
                <a:close/>
              </a:path>
              <a:path fill="darkenLess" w="24471" h="21600">
                <a:moveTo>
                  <a:pt x="244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1" y="20200"/>
                </a:lnTo>
                <a:close/>
              </a:path>
              <a:path fill="lighten" w="244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1" h="21600">
                <a:moveTo>
                  <a:pt x="5229" y="7493"/>
                </a:moveTo>
                <a:lnTo>
                  <a:pt x="8737" y="7493"/>
                </a:lnTo>
                <a:lnTo>
                  <a:pt x="8737" y="12828"/>
                </a:lnTo>
                <a:cubicBezTo>
                  <a:pt x="8737" y="13751"/>
                  <a:pt x="9538" y="14482"/>
                  <a:pt x="10573" y="14482"/>
                </a:cubicBezTo>
                <a:lnTo>
                  <a:pt x="12236" y="14482"/>
                </a:lnTo>
                <a:cubicBezTo>
                  <a:pt x="13271" y="14482"/>
                  <a:pt x="14072" y="13751"/>
                  <a:pt x="14072" y="12828"/>
                </a:cubicBezTo>
                <a:lnTo>
                  <a:pt x="14072" y="7493"/>
                </a:lnTo>
                <a:lnTo>
                  <a:pt x="12236" y="7493"/>
                </a:lnTo>
                <a:lnTo>
                  <a:pt x="15743" y="3985"/>
                </a:lnTo>
                <a:lnTo>
                  <a:pt x="19416" y="7493"/>
                </a:lnTo>
                <a:lnTo>
                  <a:pt x="17580" y="7493"/>
                </a:lnTo>
                <a:lnTo>
                  <a:pt x="17580" y="12828"/>
                </a:lnTo>
                <a:cubicBezTo>
                  <a:pt x="17580" y="15596"/>
                  <a:pt x="15003" y="18155"/>
                  <a:pt x="12236" y="18155"/>
                </a:cubicBezTo>
                <a:lnTo>
                  <a:pt x="10573" y="18155"/>
                </a:lnTo>
                <a:cubicBezTo>
                  <a:pt x="7805" y="18155"/>
                  <a:pt x="5229" y="15596"/>
                  <a:pt x="5229" y="12828"/>
                </a:cubicBezTo>
                <a:close/>
              </a:path>
            </a:pathLst>
          </a:custGeom>
          <a:gradFill rotWithShape="0">
            <a:gsLst>
              <a:gs pos="0">
                <a:srgbClr val="e0e008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ccecff"/>
                </a:solidFill>
                <a:latin typeface="Arial"/>
              </a:rPr>
              <a:t>В астрономії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10080" cy="25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рух планет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рух Сонця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зміна дня і ночі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рух Місяц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5580000" y="1557360"/>
            <a:ext cx="2664000" cy="199080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2"/>
          <a:stretch/>
        </p:blipFill>
        <p:spPr>
          <a:xfrm>
            <a:off x="684360" y="4365720"/>
            <a:ext cx="2735280" cy="204624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>
            <a:off x="0" y="6093000"/>
            <a:ext cx="539640" cy="404640"/>
          </a:xfrm>
          <a:custGeom>
            <a:avLst/>
            <a:gdLst>
              <a:gd name="textAreaLeft" fmla="*/ 25920 w 539640"/>
              <a:gd name="textAreaRight" fmla="*/ 513720 w 53964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gradFill rotWithShape="0">
            <a:gsLst>
              <a:gs pos="0">
                <a:srgbClr val="e0e008"/>
              </a:gs>
              <a:gs pos="100000">
                <a:srgbClr val="9900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ccecff"/>
                </a:solidFill>
                <a:latin typeface="Arial"/>
              </a:rPr>
              <a:t>У фізиці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97844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Робота маятни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Хвилі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508720" y="1341360"/>
            <a:ext cx="2735280" cy="205596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611280" y="3176640"/>
            <a:ext cx="4464000" cy="334800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0" y="6048360"/>
            <a:ext cx="539640" cy="476280"/>
          </a:xfrm>
          <a:custGeom>
            <a:avLst/>
            <a:gdLst>
              <a:gd name="textAreaLeft" fmla="*/ 30600 w 539640"/>
              <a:gd name="textAreaRight" fmla="*/ 509040 w 53964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4471" h="21600">
                <a:moveTo>
                  <a:pt x="0" y="0"/>
                </a:moveTo>
                <a:lnTo>
                  <a:pt x="24471" y="0"/>
                </a:lnTo>
                <a:lnTo>
                  <a:pt x="24471" y="21600"/>
                </a:lnTo>
                <a:lnTo>
                  <a:pt x="0" y="21600"/>
                </a:lnTo>
                <a:close/>
              </a:path>
              <a:path fill="lightenLess" w="24471" h="21600">
                <a:moveTo>
                  <a:pt x="0" y="0"/>
                </a:moveTo>
                <a:lnTo>
                  <a:pt x="24471" y="0"/>
                </a:lnTo>
                <a:lnTo>
                  <a:pt x="23071" y="1400"/>
                </a:lnTo>
                <a:lnTo>
                  <a:pt x="1400" y="1400"/>
                </a:lnTo>
                <a:close/>
              </a:path>
              <a:path fill="darken" w="24471" h="21600">
                <a:moveTo>
                  <a:pt x="24471" y="0"/>
                </a:moveTo>
                <a:lnTo>
                  <a:pt x="24471" y="21600"/>
                </a:lnTo>
                <a:lnTo>
                  <a:pt x="23071" y="20200"/>
                </a:lnTo>
                <a:lnTo>
                  <a:pt x="23071" y="1400"/>
                </a:lnTo>
                <a:close/>
              </a:path>
              <a:path fill="darkenLess" w="24471" h="21600">
                <a:moveTo>
                  <a:pt x="244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1" y="20200"/>
                </a:lnTo>
                <a:close/>
              </a:path>
              <a:path fill="lighten" w="244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1" h="21600">
                <a:moveTo>
                  <a:pt x="5229" y="7493"/>
                </a:moveTo>
                <a:lnTo>
                  <a:pt x="8737" y="7493"/>
                </a:lnTo>
                <a:lnTo>
                  <a:pt x="8737" y="12828"/>
                </a:lnTo>
                <a:cubicBezTo>
                  <a:pt x="8737" y="13751"/>
                  <a:pt x="9538" y="14482"/>
                  <a:pt x="10573" y="14482"/>
                </a:cubicBezTo>
                <a:lnTo>
                  <a:pt x="12236" y="14482"/>
                </a:lnTo>
                <a:cubicBezTo>
                  <a:pt x="13271" y="14482"/>
                  <a:pt x="14072" y="13751"/>
                  <a:pt x="14072" y="12828"/>
                </a:cubicBezTo>
                <a:lnTo>
                  <a:pt x="14072" y="7493"/>
                </a:lnTo>
                <a:lnTo>
                  <a:pt x="12236" y="7493"/>
                </a:lnTo>
                <a:lnTo>
                  <a:pt x="15743" y="3985"/>
                </a:lnTo>
                <a:lnTo>
                  <a:pt x="19416" y="7493"/>
                </a:lnTo>
                <a:lnTo>
                  <a:pt x="17580" y="7493"/>
                </a:lnTo>
                <a:lnTo>
                  <a:pt x="17580" y="12828"/>
                </a:lnTo>
                <a:cubicBezTo>
                  <a:pt x="17580" y="15596"/>
                  <a:pt x="15003" y="18155"/>
                  <a:pt x="12236" y="18155"/>
                </a:cubicBezTo>
                <a:lnTo>
                  <a:pt x="10573" y="18155"/>
                </a:lnTo>
                <a:cubicBezTo>
                  <a:pt x="7805" y="18155"/>
                  <a:pt x="5229" y="15596"/>
                  <a:pt x="5229" y="12828"/>
                </a:cubicBezTo>
                <a:close/>
              </a:path>
            </a:pathLst>
          </a:custGeom>
          <a:gradFill rotWithShape="0">
            <a:gsLst>
              <a:gs pos="0">
                <a:srgbClr val="e0e008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ccecff"/>
                </a:solidFill>
                <a:latin typeface="Arial"/>
              </a:rPr>
              <a:t>У раціоналізаторів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122800" cy="16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З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єднання труб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Обгортання циліндричних цукерок та ін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971640" y="3357720"/>
            <a:ext cx="3024000" cy="242244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2"/>
          <a:stretch/>
        </p:blipFill>
        <p:spPr>
          <a:xfrm>
            <a:off x="5940360" y="1268280"/>
            <a:ext cx="2879640" cy="284652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3"/>
          <a:stretch/>
        </p:blipFill>
        <p:spPr>
          <a:xfrm>
            <a:off x="6372360" y="4437000"/>
            <a:ext cx="2212920" cy="215424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0" y="6093000"/>
            <a:ext cx="539640" cy="475920"/>
          </a:xfrm>
          <a:custGeom>
            <a:avLst/>
            <a:gdLst>
              <a:gd name="textAreaLeft" fmla="*/ 30600 w 539640"/>
              <a:gd name="textAreaRight" fmla="*/ 509040 w 539640"/>
              <a:gd name="textAreaTop" fmla="*/ 30600 h 475920"/>
              <a:gd name="textAreaBottom" fmla="*/ 445320 h 475920"/>
            </a:gdLst>
            <a:ahLst/>
            <a:rect l="textAreaLeft" t="textAreaTop" r="textAreaRight" b="textAreaBottom"/>
            <a:pathLst>
              <a:path w="24490" h="21600">
                <a:moveTo>
                  <a:pt x="0" y="0"/>
                </a:moveTo>
                <a:lnTo>
                  <a:pt x="24490" y="0"/>
                </a:lnTo>
                <a:lnTo>
                  <a:pt x="24490" y="21600"/>
                </a:lnTo>
                <a:lnTo>
                  <a:pt x="0" y="21600"/>
                </a:lnTo>
                <a:close/>
              </a:path>
              <a:path fill="lightenLess" w="24490" h="21600">
                <a:moveTo>
                  <a:pt x="0" y="0"/>
                </a:moveTo>
                <a:lnTo>
                  <a:pt x="24490" y="0"/>
                </a:lnTo>
                <a:lnTo>
                  <a:pt x="23090" y="1400"/>
                </a:lnTo>
                <a:lnTo>
                  <a:pt x="1400" y="1400"/>
                </a:lnTo>
                <a:close/>
              </a:path>
              <a:path fill="darken" w="24490" h="21600">
                <a:moveTo>
                  <a:pt x="24490" y="0"/>
                </a:moveTo>
                <a:lnTo>
                  <a:pt x="24490" y="21600"/>
                </a:lnTo>
                <a:lnTo>
                  <a:pt x="23090" y="20200"/>
                </a:lnTo>
                <a:lnTo>
                  <a:pt x="23090" y="1400"/>
                </a:lnTo>
                <a:close/>
              </a:path>
              <a:path fill="darkenLess" w="24490" h="21600">
                <a:moveTo>
                  <a:pt x="244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90" y="20200"/>
                </a:lnTo>
                <a:close/>
              </a:path>
              <a:path fill="lighten" w="244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90" h="21600">
                <a:moveTo>
                  <a:pt x="5238" y="7493"/>
                </a:moveTo>
                <a:lnTo>
                  <a:pt x="8746" y="7493"/>
                </a:lnTo>
                <a:lnTo>
                  <a:pt x="8746" y="12828"/>
                </a:lnTo>
                <a:cubicBezTo>
                  <a:pt x="8746" y="13751"/>
                  <a:pt x="9547" y="14482"/>
                  <a:pt x="10582" y="14482"/>
                </a:cubicBezTo>
                <a:lnTo>
                  <a:pt x="12245" y="14482"/>
                </a:lnTo>
                <a:cubicBezTo>
                  <a:pt x="13281" y="14482"/>
                  <a:pt x="14081" y="13751"/>
                  <a:pt x="14081" y="12828"/>
                </a:cubicBezTo>
                <a:lnTo>
                  <a:pt x="14081" y="7493"/>
                </a:lnTo>
                <a:lnTo>
                  <a:pt x="12245" y="7493"/>
                </a:lnTo>
                <a:lnTo>
                  <a:pt x="15752" y="3985"/>
                </a:lnTo>
                <a:lnTo>
                  <a:pt x="19425" y="7493"/>
                </a:lnTo>
                <a:lnTo>
                  <a:pt x="17589" y="7493"/>
                </a:lnTo>
                <a:lnTo>
                  <a:pt x="17589" y="12828"/>
                </a:lnTo>
                <a:cubicBezTo>
                  <a:pt x="17589" y="15596"/>
                  <a:pt x="15013" y="18155"/>
                  <a:pt x="12245" y="18155"/>
                </a:cubicBezTo>
                <a:lnTo>
                  <a:pt x="10582" y="18155"/>
                </a:lnTo>
                <a:cubicBezTo>
                  <a:pt x="7815" y="18155"/>
                  <a:pt x="5238" y="15596"/>
                  <a:pt x="5238" y="12828"/>
                </a:cubicBezTo>
                <a:close/>
              </a:path>
            </a:pathLst>
          </a:custGeom>
          <a:gradFill rotWithShape="0">
            <a:gsLst>
              <a:gs pos="0">
                <a:srgbClr val="e0e008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26920" y="189000"/>
            <a:ext cx="784872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5400" spc="-1" strike="noStrike">
                <a:solidFill>
                  <a:srgbClr val="fd4949"/>
                </a:solidFill>
                <a:latin typeface="Arial"/>
              </a:rPr>
              <a:t>… </a:t>
            </a:r>
            <a:r>
              <a:rPr b="1" i="1" lang="uk-UA" sz="5400" spc="-1" strike="noStrike">
                <a:solidFill>
                  <a:srgbClr val="fd4949"/>
                </a:solidFill>
                <a:latin typeface="Arial"/>
              </a:rPr>
              <a:t>Математика безмежно різноманітна, як світ, і присутня, міститься в усьому.</a:t>
            </a:r>
            <a:br>
              <a:rPr sz="5400"/>
            </a:br>
            <a:r>
              <a:rPr b="0" lang="uk-UA" sz="5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uk-UA" sz="5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uk-UA" sz="5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uk-UA" sz="5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i="1" lang="uk-UA" sz="5400" spc="-1" strike="noStrike">
                <a:solidFill>
                  <a:srgbClr val="fc0808"/>
                </a:solidFill>
                <a:latin typeface="Arial"/>
              </a:rPr>
              <a:t>М.П. Єругін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2000"/>
                            </p:stCondLst>
                            <p:childTnLst>
                              <p:par>
                                <p:cTn id="34" nodeType="afterEffect" fill="hold" presetClass="emph" presetID="23" repeatCount="300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5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6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7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38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25T16:36:06Z</dcterms:created>
  <dc:creator>ADMIN</dc:creator>
  <dc:description/>
  <dc:language>en-US</dc:language>
  <cp:lastModifiedBy>Admin</cp:lastModifiedBy>
  <dcterms:modified xsi:type="dcterms:W3CDTF">2011-03-01T10:14:29Z</dcterms:modified>
  <cp:revision>11</cp:revision>
  <dc:subject/>
  <dc:title>Слайд 1</dc:title>
</cp:coreProperties>
</file>