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C222-62E3-4CB2-84CA-D03D0B65D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F286-6AA8-4EAE-B0C8-93493D6EC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E328-9B51-4893-AE6B-A29C6A415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EB39-B593-4CEF-941D-2B0147640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087B2-21ED-465C-91A8-E998F1D02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88ABA-B784-4162-9F72-5AE796306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9EA82-4B52-4E9F-9E8F-EB7DC852D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97F55-4E84-40F5-B842-7506CB14E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97AA4-4070-426F-984D-C1E894EEA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79F58-D8E6-4D98-95BD-49EC257F6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E5F07-8560-42E1-8B28-9C108B6E0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1B20-0729-417B-B96E-1CF67FE91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83A18-7F9B-4204-A64B-184A17A70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7C95B-E402-4010-A862-A8FDF4C02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82614-6071-4478-929C-819DD7953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08F17-70D0-4D89-9A86-9502BB209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F86CD-EA43-45D5-9A1B-E152E73A8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EABC-E7C5-4A4F-A86B-953F45447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0DB2-89FC-460D-816C-87C5A50AE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F3A9-2868-4AFD-A6D8-1CE86732B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47C3-CE81-4134-850D-48AADDE5F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86C1-C79B-412B-954A-67090B0C1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1E5C-1D2A-4B99-8BD2-9CF1B6431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FD22-86EA-43D1-8919-8C76F17F1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D470B-E933-460A-8400-6B4BAB70F9F3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B9909-3DE3-476D-A49A-00EE7FF87105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00000" y="4653000"/>
            <a:ext cx="4608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66cc"/>
                </a:solidFill>
                <a:latin typeface="Edwardian Script ITC"/>
              </a:rPr>
              <a:t>Дослідження провел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66cc"/>
                </a:solidFill>
                <a:latin typeface="Edwardian Script ITC"/>
              </a:rPr>
              <a:t>учениця </a:t>
            </a:r>
            <a:r>
              <a:rPr b="1" lang="uk-UA" sz="3200" spc="-1" strike="noStrike">
                <a:solidFill>
                  <a:srgbClr val="ff66cc"/>
                </a:solidFill>
                <a:latin typeface="Copperplate Gothic Light"/>
              </a:rPr>
              <a:t>10 </a:t>
            </a:r>
            <a:r>
              <a:rPr b="1" lang="uk-UA" sz="3200" spc="-1" strike="noStrike">
                <a:solidFill>
                  <a:srgbClr val="ff66cc"/>
                </a:solidFill>
                <a:latin typeface="Edwardian Script ITC"/>
              </a:rPr>
              <a:t> клас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66cc"/>
                </a:solidFill>
                <a:latin typeface="Edwardian Script ITC"/>
              </a:rPr>
              <a:t>Яйкун Інн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332000" y="620640"/>
            <a:ext cx="6480000" cy="280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Franklin Gothic Book"/>
              </a:rPr>
              <a:t>Незвичний спосіб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Franklin Gothic Book"/>
              <a:ea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Franklin Gothic Book"/>
              </a:rPr>
              <a:t>отримання синусоїди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Franklin Gothic Book"/>
              <a:ea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Задач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02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Доведіть, що при розрізі свічки, обгорнутої декілька раз листом паперу під кутом 45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  <a:ea typeface="Tahoma"/>
              </a:rPr>
              <a:t>˚ на краю паперу утвориться крива лінія – синусоїд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60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eaeaea"/>
                </a:solidFill>
                <a:latin typeface="Tahoma"/>
              </a:rPr>
              <a:t>Дослід 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5640" y="981000"/>
            <a:ext cx="75438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Обгорнути свічку декілька раз листом паперу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Перерізати свічку похило гострим ножем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Роз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’</a:t>
            </a: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єднати обидві половинки свічк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Розгорнути папір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900000" y="4005360"/>
            <a:ext cx="754380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eaeaea"/>
                </a:solidFill>
                <a:latin typeface="Tahoma"/>
              </a:rPr>
              <a:t>Наслідок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76240" y="4897440"/>
            <a:ext cx="7543800" cy="15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Утворилася крива лінія. Порівнявши її з графіком функції синусів, можна стверджувати, що це – синусоїда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eaeaea"/>
                </a:solidFill>
                <a:latin typeface="Tahoma"/>
              </a:rPr>
              <a:t>Чому отримана по краю паперу крива лінія дійсно синусоїда?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5280" y="1341000"/>
            <a:ext cx="88394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Побудуємо математичну модель цієї задачі. Для цього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Візьмемо лист паперу прямокутної форми і накреслимо на ньому осі координат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Згорнемо цей прямокутник в прямий круговий циліндр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2627280" y="3573000"/>
            <a:ext cx="3889440" cy="1368720"/>
            <a:chOff x="2627280" y="3573000"/>
            <a:chExt cx="3889440" cy="1368720"/>
          </a:xfrm>
        </p:grpSpPr>
        <p:sp>
          <p:nvSpPr>
            <p:cNvPr id="120" name=""/>
            <p:cNvSpPr/>
            <p:nvPr/>
          </p:nvSpPr>
          <p:spPr>
            <a:xfrm>
              <a:off x="2627280" y="3573360"/>
              <a:ext cx="3889440" cy="136836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627280" y="4276800"/>
              <a:ext cx="3888000" cy="15840"/>
            </a:xfrm>
            <a:custGeom>
              <a:avLst/>
              <a:gdLst/>
              <a:ahLst/>
              <a:rect l="l" t="t" r="r" b="b"/>
              <a:pathLst>
                <a:path w="2449" h="10">
                  <a:moveTo>
                    <a:pt x="0" y="10"/>
                  </a:moveTo>
                  <a:lnTo>
                    <a:pt x="2449" y="0"/>
                  </a:lnTo>
                </a:path>
              </a:pathLst>
            </a:custGeom>
            <a:noFill/>
            <a:ln w="50760">
              <a:solidFill>
                <a:srgbClr val="00000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4572000" y="3573000"/>
              <a:ext cx="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140360" y="3573360"/>
              <a:ext cx="287280" cy="28728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uk-UA" sz="1800" spc="-1" strike="noStrike">
                  <a:solidFill>
                    <a:srgbClr val="000000"/>
                  </a:solidFill>
                  <a:latin typeface="MS Mincho"/>
                </a:rPr>
                <a:t>у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211640" y="4365720"/>
              <a:ext cx="289080" cy="21564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MS Mincho"/>
                </a:rPr>
                <a:t>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228000" y="4365720"/>
              <a:ext cx="287280" cy="28728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MS Mincho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179280" y="188640"/>
            <a:ext cx="590544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925880"/>
                <a:tab algn="l" pos="5648400"/>
                <a:tab algn="l" pos="5826240"/>
                <a:tab algn="l" pos="7078680"/>
                <a:tab algn="l" pos="76248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ffffff"/>
                </a:solidFill>
                <a:uFillTx/>
                <a:latin typeface="Tahoma"/>
              </a:rPr>
              <a:t>Доведенн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925880"/>
                <a:tab algn="l" pos="5648400"/>
                <a:tab algn="l" pos="5826240"/>
                <a:tab algn="l" pos="7078680"/>
                <a:tab algn="l" pos="76248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Радіус основи приймемо за одиницю. Вісь </a:t>
            </a:r>
            <a:r>
              <a:rPr b="0" i="1" lang="uk-UA" sz="2400" spc="-1" strike="noStrike">
                <a:solidFill>
                  <a:srgbClr val="ffffff"/>
                </a:solidFill>
                <a:latin typeface="Tahoma"/>
              </a:rPr>
              <a:t>Ох</a:t>
            </a: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 згорнеться в коло радіусом 1, а вісь </a:t>
            </a:r>
            <a:r>
              <a:rPr b="0" i="1" lang="uk-UA" sz="2400" spc="-1" strike="noStrike">
                <a:solidFill>
                  <a:srgbClr val="ffffff"/>
                </a:solidFill>
                <a:latin typeface="Tahoma"/>
              </a:rPr>
              <a:t>Оу</a:t>
            </a: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 стане утворюючою циліндра. Через діаметр отриманого кола, який проходить через точку О, проведемо переріз під кутом 45</a:t>
            </a:r>
            <a:r>
              <a:rPr b="0" lang="uk-UA" sz="2400" spc="-1" strike="noStrike">
                <a:solidFill>
                  <a:srgbClr val="ffffff"/>
                </a:solidFill>
                <a:latin typeface="Tahoma"/>
                <a:ea typeface="Tahoma"/>
              </a:rPr>
              <a:t>˚ до площини круга. В такому випадку перерізом буде еліпс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925880"/>
                <a:tab algn="l" pos="5648400"/>
                <a:tab algn="l" pos="5826240"/>
                <a:tab algn="l" pos="7078680"/>
                <a:tab algn="l" pos="76248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  <a:ea typeface="Tahoma"/>
              </a:rPr>
              <a:t>Візьмемо на еліпсі точку А. опустимо з неї перпендикуляри на площину круга і діаметр круга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OD</a:t>
            </a:r>
            <a:r>
              <a:rPr b="0" lang="uk-UA" sz="2400" spc="-1" strike="noStrike">
                <a:solidFill>
                  <a:srgbClr val="ffffff"/>
                </a:solidFill>
                <a:latin typeface="Tahoma"/>
                <a:ea typeface="Tahoma"/>
              </a:rPr>
              <a:t>. Отримаємо відповідно точки В і С.   АВС – прямокутний і рівнобедрений; так як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&lt;</a:t>
            </a:r>
            <a:r>
              <a:rPr b="0" lang="uk-UA" sz="2400" spc="-1" strike="noStrike">
                <a:solidFill>
                  <a:srgbClr val="ffffff"/>
                </a:solidFill>
                <a:latin typeface="Tahoma"/>
                <a:ea typeface="Tahoma"/>
              </a:rPr>
              <a:t>АВС=90˚, а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&lt;</a:t>
            </a:r>
            <a:r>
              <a:rPr b="0" lang="uk-UA" sz="2400" spc="-1" strike="noStrike">
                <a:solidFill>
                  <a:srgbClr val="ffffff"/>
                </a:solidFill>
                <a:latin typeface="Tahoma"/>
                <a:ea typeface="Tahoma"/>
              </a:rPr>
              <a:t>АСВ=45˚. Відповідно АВ=ВС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5924520" y="1981080"/>
                <a:ext cx="1676520" cy="198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8" name=""/>
          <p:cNvSpPr/>
          <p:nvPr/>
        </p:nvSpPr>
        <p:spPr>
          <a:xfrm>
            <a:off x="6372360" y="2924280"/>
            <a:ext cx="142920" cy="2887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32720" y="2781360"/>
            <a:ext cx="142920" cy="2887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093080" y="2708280"/>
            <a:ext cx="142920" cy="2890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451640" y="2708280"/>
            <a:ext cx="142920" cy="2890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812000" y="2708280"/>
            <a:ext cx="142920" cy="2890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172360" y="2781360"/>
            <a:ext cx="142920" cy="2887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388360" y="2997360"/>
            <a:ext cx="142920" cy="2887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300720" y="3645000"/>
            <a:ext cx="142920" cy="2887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443640" y="3213000"/>
            <a:ext cx="142920" cy="2890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732720" y="2997360"/>
            <a:ext cx="142920" cy="2887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164360" y="2492280"/>
            <a:ext cx="142920" cy="2890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524720" y="2421000"/>
            <a:ext cx="142920" cy="2887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885080" y="2205000"/>
            <a:ext cx="142920" cy="2890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244000" y="2133720"/>
            <a:ext cx="142920" cy="2887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6015960" y="836640"/>
            <a:ext cx="2799000" cy="4176720"/>
            <a:chOff x="6015960" y="836640"/>
            <a:chExt cx="2799000" cy="4176720"/>
          </a:xfrm>
        </p:grpSpPr>
        <p:sp>
          <p:nvSpPr>
            <p:cNvPr id="143" name=""/>
            <p:cNvSpPr/>
            <p:nvPr/>
          </p:nvSpPr>
          <p:spPr>
            <a:xfrm>
              <a:off x="6229440" y="836640"/>
              <a:ext cx="2374920" cy="4176720"/>
            </a:xfrm>
            <a:prstGeom prst="can">
              <a:avLst>
                <a:gd name="adj" fmla="val 25000"/>
              </a:avLst>
            </a:prstGeom>
            <a:solidFill>
              <a:srgbClr val="66cc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227640" y="2852640"/>
              <a:ext cx="2376720" cy="936720"/>
            </a:xfrm>
            <a:prstGeom prst="ellipse">
              <a:avLst/>
            </a:prstGeom>
            <a:solidFill>
              <a:srgbClr val="66cc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418520" y="1887480"/>
              <a:ext cx="1440" cy="3125880"/>
            </a:xfrm>
            <a:custGeom>
              <a:avLst/>
              <a:gdLst/>
              <a:ahLst/>
              <a:rect l="l" t="t" r="r" b="b"/>
              <a:pathLst>
                <a:path w="1" h="1969">
                  <a:moveTo>
                    <a:pt x="0" y="1969"/>
                  </a:moveTo>
                  <a:lnTo>
                    <a:pt x="0" y="0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093080" y="1989000"/>
              <a:ext cx="215640" cy="28764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uk-UA" sz="1800" spc="-1" strike="noStrike">
                  <a:solidFill>
                    <a:srgbClr val="000000"/>
                  </a:solidFill>
                  <a:latin typeface="MS Mincho"/>
                </a:rPr>
                <a:t>у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093080" y="3860640"/>
              <a:ext cx="215640" cy="28764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uk-UA" sz="1800" spc="-1" strike="noStrike">
                  <a:solidFill>
                    <a:srgbClr val="000000"/>
                  </a:solidFill>
                  <a:latin typeface="MS Mincho"/>
                </a:rPr>
                <a:t>О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rot="19357200">
              <a:off x="6012000" y="2708280"/>
              <a:ext cx="2806560" cy="936720"/>
            </a:xfrm>
            <a:prstGeom prst="ellipse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388360" y="2852640"/>
              <a:ext cx="0" cy="72072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72360" y="2494080"/>
              <a:ext cx="216000" cy="28728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MS Mincho"/>
                </a:rPr>
                <a:t>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244000" y="3716280"/>
              <a:ext cx="215640" cy="28728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MS Mincho"/>
                </a:rPr>
                <a:t>В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804000" y="2492280"/>
              <a:ext cx="216000" cy="28728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Mincho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020000" y="2852640"/>
              <a:ext cx="431640" cy="93672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flipV="1">
              <a:off x="7308720" y="2852280"/>
              <a:ext cx="1079640" cy="57636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284960" y="3436920"/>
              <a:ext cx="1103400" cy="136440"/>
            </a:xfrm>
            <a:custGeom>
              <a:avLst/>
              <a:gdLst/>
              <a:ahLst/>
              <a:rect l="l" t="t" r="r" b="b"/>
              <a:pathLst>
                <a:path w="695" h="86">
                  <a:moveTo>
                    <a:pt x="0" y="0"/>
                  </a:moveTo>
                  <a:lnTo>
                    <a:pt x="695" y="86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948360" y="3429000"/>
              <a:ext cx="216000" cy="28728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MS Mincho"/>
                </a:rPr>
                <a:t>С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3492360" y="4900680"/>
            <a:ext cx="144720" cy="14436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178920" y="549360"/>
            <a:ext cx="504036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За означенням синуса, ВС=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in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x, </a:t>
            </a: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де </a:t>
            </a:r>
            <a:r>
              <a:rPr b="0" i="1" lang="uk-UA" sz="2400" spc="-1" strike="noStrike">
                <a:solidFill>
                  <a:srgbClr val="ffffff"/>
                </a:solidFill>
                <a:latin typeface="Tahoma"/>
              </a:rPr>
              <a:t>х</a:t>
            </a: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 – довжина дуги ОВ, так як ВС=АВ, то АВ=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in</a:t>
            </a:r>
            <a:r>
              <a:rPr b="0" i="1" lang="uk-UA" sz="2400" spc="-1" strike="noStrike">
                <a:solidFill>
                  <a:srgbClr val="ffffff"/>
                </a:solidFill>
                <a:latin typeface="Tahoma"/>
              </a:rPr>
              <a:t>х</a:t>
            </a: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Згорнемо циліндр знову в прямокутник, при цьому отримаємо криву, де </a:t>
            </a:r>
            <a:r>
              <a:rPr b="0" i="1" lang="uk-UA" sz="2400" spc="-1" strike="noStrike">
                <a:solidFill>
                  <a:srgbClr val="ffffff"/>
                </a:solidFill>
                <a:latin typeface="Tahoma"/>
              </a:rPr>
              <a:t>х</a:t>
            </a: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=ОВ, тобто ця крива є частиною синусоїд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5219640" y="907920"/>
            <a:ext cx="3743280" cy="3241800"/>
            <a:chOff x="5219640" y="907920"/>
            <a:chExt cx="3743280" cy="3241800"/>
          </a:xfrm>
        </p:grpSpPr>
        <p:sp>
          <p:nvSpPr>
            <p:cNvPr id="160" name=""/>
            <p:cNvSpPr/>
            <p:nvPr/>
          </p:nvSpPr>
          <p:spPr>
            <a:xfrm>
              <a:off x="5506920" y="981000"/>
              <a:ext cx="3168720" cy="316872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083360" y="958680"/>
              <a:ext cx="7920" cy="3191040"/>
            </a:xfrm>
            <a:custGeom>
              <a:avLst/>
              <a:gdLst/>
              <a:ahLst/>
              <a:rect l="l" t="t" r="r" b="b"/>
              <a:pathLst>
                <a:path w="5" h="2010">
                  <a:moveTo>
                    <a:pt x="5" y="201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506920" y="2565360"/>
              <a:ext cx="316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7091280" y="1267920"/>
              <a:ext cx="865080" cy="1297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956360" y="1268280"/>
              <a:ext cx="0" cy="1297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956360" y="907920"/>
              <a:ext cx="216000" cy="2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ffffff"/>
                  </a:solidFill>
                  <a:latin typeface="MS Mincho"/>
                </a:rPr>
                <a:t>В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883280" y="2637000"/>
              <a:ext cx="216000" cy="28728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MS Mincho"/>
                </a:rPr>
                <a:t>С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219640" y="2421000"/>
              <a:ext cx="21600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MS Mincho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746920" y="2492280"/>
              <a:ext cx="21600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MS Mincho"/>
                </a:rPr>
                <a:t>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531280" y="1557360"/>
              <a:ext cx="21564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MS Mincho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7885080" y="2637000"/>
            <a:ext cx="216000" cy="2872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MS Mincho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179280" y="4049640"/>
            <a:ext cx="6193080" cy="2619360"/>
            <a:chOff x="179280" y="4049640"/>
            <a:chExt cx="6193080" cy="2619360"/>
          </a:xfrm>
        </p:grpSpPr>
        <p:grpSp>
          <p:nvGrpSpPr>
            <p:cNvPr id="172" name=""/>
            <p:cNvGrpSpPr/>
            <p:nvPr/>
          </p:nvGrpSpPr>
          <p:grpSpPr>
            <a:xfrm>
              <a:off x="179280" y="4049640"/>
              <a:ext cx="6193080" cy="2619360"/>
              <a:chOff x="179280" y="4049640"/>
              <a:chExt cx="6193080" cy="2619360"/>
            </a:xfrm>
          </p:grpSpPr>
          <p:sp>
            <p:nvSpPr>
              <p:cNvPr id="173" name=""/>
              <p:cNvSpPr/>
              <p:nvPr/>
            </p:nvSpPr>
            <p:spPr>
              <a:xfrm>
                <a:off x="179280" y="4076640"/>
                <a:ext cx="6193080" cy="25923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179280" y="5373720"/>
                <a:ext cx="6193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flipV="1">
                <a:off x="3132000" y="4076280"/>
                <a:ext cx="0" cy="2592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3002040" y="4581360"/>
                <a:ext cx="236520" cy="1800"/>
              </a:xfrm>
              <a:custGeom>
                <a:avLst/>
                <a:gdLst/>
                <a:ahLst/>
                <a:rect l="l" t="t" r="r" b="b"/>
                <a:pathLst>
                  <a:path w="149" h="1">
                    <a:moveTo>
                      <a:pt x="0" y="0"/>
                    </a:moveTo>
                    <a:lnTo>
                      <a:pt x="149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3002040" y="6093000"/>
                <a:ext cx="236520" cy="1440"/>
              </a:xfrm>
              <a:custGeom>
                <a:avLst/>
                <a:gdLst/>
                <a:ahLst/>
                <a:rect l="l" t="t" r="r" b="b"/>
                <a:pathLst>
                  <a:path w="149" h="1">
                    <a:moveTo>
                      <a:pt x="0" y="0"/>
                    </a:moveTo>
                    <a:lnTo>
                      <a:pt x="149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5435640" y="5257800"/>
                <a:ext cx="0" cy="216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826920" y="5272200"/>
                <a:ext cx="0" cy="215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3708360" y="5272200"/>
                <a:ext cx="0" cy="215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6012000" y="5272200"/>
                <a:ext cx="0" cy="215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403280" y="5272200"/>
                <a:ext cx="0" cy="215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3203640" y="4437000"/>
                <a:ext cx="216000" cy="287280"/>
              </a:xfrm>
              <a:prstGeom prst="rect">
                <a:avLst/>
              </a:pr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800" spc="-1" strike="noStrike">
                    <a:solidFill>
                      <a:srgbClr val="000000"/>
                    </a:solidFill>
                    <a:latin typeface="MS Mincho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2843280" y="4049640"/>
                <a:ext cx="21600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uk-UA" sz="1800" spc="-1" strike="noStrike">
                    <a:solidFill>
                      <a:srgbClr val="000000"/>
                    </a:solidFill>
                    <a:latin typeface="MS Mincho"/>
                  </a:rPr>
                  <a:t>у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3276720" y="5950080"/>
                <a:ext cx="215640" cy="287280"/>
              </a:xfrm>
              <a:prstGeom prst="rect">
                <a:avLst/>
              </a:pr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800" spc="-1" strike="noStrike">
                    <a:solidFill>
                      <a:srgbClr val="000000"/>
                    </a:solidFill>
                    <a:latin typeface="MS Mincho"/>
                  </a:rPr>
                  <a:t>-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755640" y="5516640"/>
                <a:ext cx="216000" cy="287280"/>
              </a:xfrm>
              <a:prstGeom prst="rect">
                <a:avLst/>
              </a:pr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ru-RU" sz="1800" spc="-1" strike="noStrike">
                    <a:solidFill>
                      <a:srgbClr val="000000"/>
                    </a:solidFill>
                    <a:latin typeface="Monotype Corsiva"/>
                  </a:rPr>
                  <a:t>- П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1258920" y="5516640"/>
                <a:ext cx="216000" cy="287280"/>
              </a:xfrm>
              <a:prstGeom prst="rect">
                <a:avLst/>
              </a:pr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ru-RU" sz="1800" spc="-1" strike="noStrike">
                    <a:solidFill>
                      <a:srgbClr val="000000"/>
                    </a:solidFill>
                    <a:latin typeface="Monotype Corsiva"/>
                  </a:rPr>
                  <a:t>-3/4П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564000" y="5516640"/>
                <a:ext cx="216000" cy="287280"/>
              </a:xfrm>
              <a:prstGeom prst="rect">
                <a:avLst/>
              </a:pr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ru-RU" sz="1800" spc="-1" strike="noStrike">
                    <a:solidFill>
                      <a:srgbClr val="000000"/>
                    </a:solidFill>
                    <a:latin typeface="Monotype Corsiva"/>
                  </a:rPr>
                  <a:t>П/4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867280" y="5516640"/>
                <a:ext cx="216000" cy="287280"/>
              </a:xfrm>
              <a:prstGeom prst="rect">
                <a:avLst/>
              </a:pr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ru-RU" sz="1800" spc="-1" strike="noStrike">
                    <a:solidFill>
                      <a:srgbClr val="000000"/>
                    </a:solidFill>
                    <a:latin typeface="Monotype Corsiva"/>
                  </a:rPr>
                  <a:t>5П/4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5292720" y="5516640"/>
                <a:ext cx="216000" cy="287280"/>
              </a:xfrm>
              <a:prstGeom prst="rect">
                <a:avLst/>
              </a:pr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ru-RU" sz="1800" spc="-1" strike="noStrike">
                    <a:solidFill>
                      <a:srgbClr val="000000"/>
                    </a:solidFill>
                    <a:latin typeface="Monotype Corsiva"/>
                  </a:rPr>
                  <a:t>П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6141960" y="5027760"/>
                <a:ext cx="21600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uk-UA" sz="1800" spc="-1" strike="noStrike">
                    <a:solidFill>
                      <a:srgbClr val="000000"/>
                    </a:solidFill>
                    <a:latin typeface="MS Mincho"/>
                  </a:rPr>
                  <a:t>х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2843280" y="5445000"/>
                <a:ext cx="216000" cy="28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uk-UA" sz="1800" spc="-1" strike="noStrike">
                    <a:solidFill>
                      <a:srgbClr val="000000"/>
                    </a:solidFill>
                    <a:latin typeface="MS Mincho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93" name=""/>
            <p:cNvSpPr/>
            <p:nvPr/>
          </p:nvSpPr>
          <p:spPr>
            <a:xfrm>
              <a:off x="1403280" y="4541760"/>
              <a:ext cx="4710240" cy="1562040"/>
            </a:xfrm>
            <a:custGeom>
              <a:avLst/>
              <a:gdLst/>
              <a:ahLst/>
              <a:rect l="l" t="t" r="r" b="b"/>
              <a:pathLst>
                <a:path w="2967" h="984">
                  <a:moveTo>
                    <a:pt x="0" y="524"/>
                  </a:moveTo>
                  <a:cubicBezTo>
                    <a:pt x="40" y="567"/>
                    <a:pt x="126" y="706"/>
                    <a:pt x="240" y="781"/>
                  </a:cubicBezTo>
                  <a:cubicBezTo>
                    <a:pt x="354" y="856"/>
                    <a:pt x="545" y="968"/>
                    <a:pt x="686" y="976"/>
                  </a:cubicBezTo>
                  <a:cubicBezTo>
                    <a:pt x="827" y="984"/>
                    <a:pt x="959" y="904"/>
                    <a:pt x="1086" y="827"/>
                  </a:cubicBezTo>
                  <a:cubicBezTo>
                    <a:pt x="1213" y="750"/>
                    <a:pt x="1330" y="627"/>
                    <a:pt x="1448" y="511"/>
                  </a:cubicBezTo>
                  <a:cubicBezTo>
                    <a:pt x="1566" y="395"/>
                    <a:pt x="1675" y="215"/>
                    <a:pt x="1792" y="130"/>
                  </a:cubicBezTo>
                  <a:cubicBezTo>
                    <a:pt x="1909" y="45"/>
                    <a:pt x="2030" y="0"/>
                    <a:pt x="2154" y="0"/>
                  </a:cubicBezTo>
                  <a:cubicBezTo>
                    <a:pt x="2278" y="0"/>
                    <a:pt x="2410" y="45"/>
                    <a:pt x="2535" y="130"/>
                  </a:cubicBezTo>
                  <a:cubicBezTo>
                    <a:pt x="2660" y="215"/>
                    <a:pt x="2845" y="445"/>
                    <a:pt x="2906" y="511"/>
                  </a:cubicBezTo>
                  <a:cubicBezTo>
                    <a:pt x="2967" y="577"/>
                    <a:pt x="2904" y="521"/>
                    <a:pt x="2903" y="524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e9ed51"/>
                </a:solidFill>
                <a:latin typeface="Tahoma"/>
              </a:rPr>
              <a:t>Де застосовують лінію синусоїди?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692360" y="3213000"/>
            <a:ext cx="496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По дузі синусоїди з'єднують циліндричні труби під кутом одну до одної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8T13:10:12Z</dcterms:created>
  <dc:creator>1</dc:creator>
  <dc:description/>
  <dc:language>en-US</dc:language>
  <cp:lastModifiedBy>Белоконь Денис</cp:lastModifiedBy>
  <dcterms:modified xsi:type="dcterms:W3CDTF">2007-10-25T19:46:06Z</dcterms:modified>
  <cp:revision>5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