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9.gif" ContentType="image/gif"/>
  <Override PartName="/ppt/media/image8.gif" ContentType="image/gif"/>
  <Override PartName="/ppt/media/image17.wmf" ContentType="image/x-wmf"/>
  <Override PartName="/ppt/media/image16.wmf" ContentType="image/x-wmf"/>
  <Override PartName="/ppt/media/image15.wmf" ContentType="image/x-wmf"/>
  <Override PartName="/ppt/media/image7.gif" ContentType="image/gif"/>
  <Override PartName="/ppt/media/image12.gif" ContentType="image/gi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E99-9B22-4657-8E7E-F5948B23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D8F-0876-4F74-850F-F3D84A1B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CE0-D4CA-41F7-97AC-28C40E03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FE8-036A-4BA1-BC11-45ADCEB5B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3054-60DE-4F7E-A0EC-4558D8F5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7205-E1EE-4E32-93A2-D0834F3E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76A3-AD15-4D62-B096-7CEE09FA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7674-CFD5-4617-8370-81C67B87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9997-0F35-469A-BDFC-1E2FBC53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643C-9211-4686-BA68-DA645146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1B2B-01AE-4B4D-A992-B6D7C815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2F7-7B9A-429E-B6FC-499EDD9D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BC5C-0E15-4AC8-AC5B-5E2755AE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ED1D-A747-4BDB-9C17-A703C95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D305-2724-4AA5-A35D-8E790DBF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D5CB-9668-4D9E-BC94-DDFD8A50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3022-C60D-4123-A858-B8191518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FD9-AE59-4FEC-82F3-51CF549A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B19-CD4D-4B8D-AEFD-C147F1F7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A4E-DDF3-4828-AB84-4D02F4D4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768-BCE9-45B6-9F08-9E6FE463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E38-2FF7-49CF-9351-9597C36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E90-EEB1-40BB-AD59-45F7A31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1CF-6ABF-49E0-9AAF-5D99B10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7809-8AE3-4239-976B-47844DD85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8DB2-02F5-47DB-AC26-5C2FFB7311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sports/basketball_variant_page_basketball_player_dribbling.html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547640" y="1916280"/>
            <a:ext cx="61930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c0808"/>
                    </a:gs>
                    <a:gs pos="50000">
                      <a:srgbClr val="ffcc00"/>
                    </a:gs>
                    <a:gs pos="100000">
                      <a:srgbClr val="fc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сново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c0808"/>
                  </a:gs>
                  <a:gs pos="50000">
                    <a:srgbClr val="ffcc00"/>
                  </a:gs>
                  <a:gs pos="100000">
                    <a:srgbClr val="fc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99640" y="404280"/>
            <a:ext cx="7386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c0808"/>
                </a:solidFill>
                <a:latin typeface="Bodoni MT Black"/>
              </a:rPr>
              <a:t>ДЯКУЮ ЗА СПІВПРАЦЮ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2985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mph" presetID="23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063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e0e00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c0808"/>
                </a:solidFill>
                <a:latin typeface="Arial"/>
              </a:rPr>
              <a:t>Результати дослідж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628640"/>
            <a:ext cx="784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36440" y="1327320"/>
            <a:ext cx="8950320" cy="3720960"/>
            <a:chOff x="136440" y="1327320"/>
            <a:chExt cx="8950320" cy="3720960"/>
          </a:xfrm>
        </p:grpSpPr>
        <p:sp>
          <p:nvSpPr>
            <p:cNvPr id="216" name=""/>
            <p:cNvSpPr/>
            <p:nvPr/>
          </p:nvSpPr>
          <p:spPr>
            <a:xfrm>
              <a:off x="13644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1" action="ppaction://hlinksldjump"/>
                </a:rPr>
                <a:t>Технік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2720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2" action="ppaction://hlinksldjump"/>
                </a:rPr>
                <a:t>Медик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8792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3" action="ppaction://hlinksldjump"/>
                </a:rPr>
                <a:t>З житт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6896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4" action="ppaction://hlinksldjump"/>
                </a:rPr>
                <a:t>Фізик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2560" y="4200480"/>
              <a:ext cx="3457800" cy="84780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5" action="ppaction://hlinksldjump"/>
                </a:rPr>
                <a:t>Раціоналізатор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32360" y="4200480"/>
              <a:ext cx="3975120" cy="84780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6" action="ppaction://hlinksldjump"/>
                </a:rPr>
                <a:t>Астроном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4292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6400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5164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7236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54400" y="1327320"/>
              <a:ext cx="0" cy="28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5520" y="1327320"/>
              <a:ext cx="0" cy="28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 техні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 літак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електростанці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порш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08360" y="3429000"/>
            <a:ext cx="4583160" cy="26956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0" y="6093000"/>
            <a:ext cx="539640" cy="47592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4490" h="21600">
                <a:moveTo>
                  <a:pt x="0" y="0"/>
                </a:moveTo>
                <a:lnTo>
                  <a:pt x="24490" y="0"/>
                </a:lnTo>
                <a:lnTo>
                  <a:pt x="24490" y="21600"/>
                </a:lnTo>
                <a:lnTo>
                  <a:pt x="0" y="21600"/>
                </a:lnTo>
                <a:close/>
              </a:path>
              <a:path fill="lightenLess" w="24490" h="21600">
                <a:moveTo>
                  <a:pt x="0" y="0"/>
                </a:moveTo>
                <a:lnTo>
                  <a:pt x="24490" y="0"/>
                </a:lnTo>
                <a:lnTo>
                  <a:pt x="23090" y="1400"/>
                </a:lnTo>
                <a:lnTo>
                  <a:pt x="1400" y="1400"/>
                </a:lnTo>
                <a:close/>
              </a:path>
              <a:path fill="darken" w="24490" h="21600">
                <a:moveTo>
                  <a:pt x="24490" y="0"/>
                </a:moveTo>
                <a:lnTo>
                  <a:pt x="24490" y="21600"/>
                </a:lnTo>
                <a:lnTo>
                  <a:pt x="23090" y="20200"/>
                </a:lnTo>
                <a:lnTo>
                  <a:pt x="23090" y="1400"/>
                </a:lnTo>
                <a:close/>
              </a:path>
              <a:path fill="darkenLess" w="24490" h="21600">
                <a:moveTo>
                  <a:pt x="24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0" y="20200"/>
                </a:lnTo>
                <a:close/>
              </a:path>
              <a:path fill="lighten" w="24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90" h="21600">
                <a:moveTo>
                  <a:pt x="5238" y="7493"/>
                </a:moveTo>
                <a:lnTo>
                  <a:pt x="8746" y="7493"/>
                </a:lnTo>
                <a:lnTo>
                  <a:pt x="8746" y="12828"/>
                </a:lnTo>
                <a:cubicBezTo>
                  <a:pt x="8746" y="13751"/>
                  <a:pt x="9547" y="14482"/>
                  <a:pt x="10582" y="14482"/>
                </a:cubicBezTo>
                <a:lnTo>
                  <a:pt x="12245" y="14482"/>
                </a:lnTo>
                <a:cubicBezTo>
                  <a:pt x="13281" y="14482"/>
                  <a:pt x="14081" y="13751"/>
                  <a:pt x="14081" y="12828"/>
                </a:cubicBezTo>
                <a:lnTo>
                  <a:pt x="14081" y="7493"/>
                </a:lnTo>
                <a:lnTo>
                  <a:pt x="12245" y="7493"/>
                </a:lnTo>
                <a:lnTo>
                  <a:pt x="15752" y="3985"/>
                </a:lnTo>
                <a:lnTo>
                  <a:pt x="19425" y="7493"/>
                </a:lnTo>
                <a:lnTo>
                  <a:pt x="17589" y="7493"/>
                </a:lnTo>
                <a:lnTo>
                  <a:pt x="17589" y="12828"/>
                </a:lnTo>
                <a:cubicBezTo>
                  <a:pt x="17589" y="15596"/>
                  <a:pt x="15013" y="18155"/>
                  <a:pt x="12245" y="18155"/>
                </a:cubicBezTo>
                <a:lnTo>
                  <a:pt x="10582" y="18155"/>
                </a:lnTo>
                <a:cubicBezTo>
                  <a:pt x="7815" y="18155"/>
                  <a:pt x="5238" y="15596"/>
                  <a:pt x="5238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 медицин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іоритми люди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их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серц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 flipH="1">
            <a:off x="5551200" y="1119240"/>
            <a:ext cx="2981160" cy="2022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4371840"/>
            <a:ext cx="4067280" cy="2486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95640" y="2852640"/>
            <a:ext cx="1420920" cy="1168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58800" y="3308400"/>
            <a:ext cx="3076560" cy="3549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6021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З житт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ливання ниви на полі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какання 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ч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стрибування та і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basketball_player_dribbling_md_wh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86064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86000" cy="5257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4067280" y="3860640"/>
            <a:ext cx="2376360" cy="1513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6021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 астрономі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план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Сонц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міна дня і ночі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Місяц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2664000" cy="1990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4365720"/>
            <a:ext cx="2735280" cy="2046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609300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99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У фізи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маят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ви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2735280" cy="2055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11280" y="317664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6048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У раціоналізатор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єднання труб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бгортання циліндричних цукерок та і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3024000" cy="2422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2879640" cy="2846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372360" y="4437000"/>
            <a:ext cx="2212920" cy="2154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6093000"/>
            <a:ext cx="539640" cy="47592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4490" h="21600">
                <a:moveTo>
                  <a:pt x="0" y="0"/>
                </a:moveTo>
                <a:lnTo>
                  <a:pt x="24490" y="0"/>
                </a:lnTo>
                <a:lnTo>
                  <a:pt x="24490" y="21600"/>
                </a:lnTo>
                <a:lnTo>
                  <a:pt x="0" y="21600"/>
                </a:lnTo>
                <a:close/>
              </a:path>
              <a:path fill="lightenLess" w="24490" h="21600">
                <a:moveTo>
                  <a:pt x="0" y="0"/>
                </a:moveTo>
                <a:lnTo>
                  <a:pt x="24490" y="0"/>
                </a:lnTo>
                <a:lnTo>
                  <a:pt x="23090" y="1400"/>
                </a:lnTo>
                <a:lnTo>
                  <a:pt x="1400" y="1400"/>
                </a:lnTo>
                <a:close/>
              </a:path>
              <a:path fill="darken" w="24490" h="21600">
                <a:moveTo>
                  <a:pt x="24490" y="0"/>
                </a:moveTo>
                <a:lnTo>
                  <a:pt x="24490" y="21600"/>
                </a:lnTo>
                <a:lnTo>
                  <a:pt x="23090" y="20200"/>
                </a:lnTo>
                <a:lnTo>
                  <a:pt x="23090" y="1400"/>
                </a:lnTo>
                <a:close/>
              </a:path>
              <a:path fill="darkenLess" w="24490" h="21600">
                <a:moveTo>
                  <a:pt x="24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0" y="20200"/>
                </a:lnTo>
                <a:close/>
              </a:path>
              <a:path fill="lighten" w="24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90" h="21600">
                <a:moveTo>
                  <a:pt x="5238" y="7493"/>
                </a:moveTo>
                <a:lnTo>
                  <a:pt x="8746" y="7493"/>
                </a:lnTo>
                <a:lnTo>
                  <a:pt x="8746" y="12828"/>
                </a:lnTo>
                <a:cubicBezTo>
                  <a:pt x="8746" y="13751"/>
                  <a:pt x="9547" y="14482"/>
                  <a:pt x="10582" y="14482"/>
                </a:cubicBezTo>
                <a:lnTo>
                  <a:pt x="12245" y="14482"/>
                </a:lnTo>
                <a:cubicBezTo>
                  <a:pt x="13281" y="14482"/>
                  <a:pt x="14081" y="13751"/>
                  <a:pt x="14081" y="12828"/>
                </a:cubicBezTo>
                <a:lnTo>
                  <a:pt x="14081" y="7493"/>
                </a:lnTo>
                <a:lnTo>
                  <a:pt x="12245" y="7493"/>
                </a:lnTo>
                <a:lnTo>
                  <a:pt x="15752" y="3985"/>
                </a:lnTo>
                <a:lnTo>
                  <a:pt x="19425" y="7493"/>
                </a:lnTo>
                <a:lnTo>
                  <a:pt x="17589" y="7493"/>
                </a:lnTo>
                <a:lnTo>
                  <a:pt x="17589" y="12828"/>
                </a:lnTo>
                <a:cubicBezTo>
                  <a:pt x="17589" y="15596"/>
                  <a:pt x="15013" y="18155"/>
                  <a:pt x="12245" y="18155"/>
                </a:cubicBezTo>
                <a:lnTo>
                  <a:pt x="10582" y="18155"/>
                </a:lnTo>
                <a:cubicBezTo>
                  <a:pt x="7815" y="18155"/>
                  <a:pt x="5238" y="15596"/>
                  <a:pt x="5238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d4949"/>
                </a:solidFill>
                <a:latin typeface="Arial"/>
              </a:rPr>
              <a:t>… </a:t>
            </a:r>
            <a:r>
              <a:rPr b="1" i="1" lang="uk-UA" sz="5400" spc="-1" strike="noStrike">
                <a:solidFill>
                  <a:srgbClr val="fd4949"/>
                </a:solidFill>
                <a:latin typeface="Arial"/>
              </a:rPr>
              <a:t>Математика безмежно різноманітна, як світ, і присутня, міститься в усьому.</a:t>
            </a:r>
            <a:br>
              <a:rPr sz="5400"/>
            </a:b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uk-UA" sz="5400" spc="-1" strike="noStrike">
                <a:solidFill>
                  <a:srgbClr val="fc0808"/>
                </a:solidFill>
                <a:latin typeface="Arial"/>
              </a:rPr>
              <a:t>М.П. Єруг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mph" presetID="23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6:36:06Z</dcterms:created>
  <dc:creator>ADMIN</dc:creator>
  <dc:description/>
  <dc:language>en-US</dc:language>
  <cp:lastModifiedBy>Admin</cp:lastModifiedBy>
  <dcterms:modified xsi:type="dcterms:W3CDTF">2011-03-01T10:14:29Z</dcterms:modified>
  <cp:revision>11</cp:revision>
  <dc:subject/>
  <dc:title>Слайд 1</dc:title>
</cp:coreProperties>
</file>