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05C-8C62-48B9-B103-908FB4D6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AC2-6A6A-4DB1-8C59-4121E28F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35C-ED39-4631-B12C-E891E36C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92C-0425-4D4E-90CD-2127FB11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B900-8A3B-4C61-A3B4-8951C21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F45-44EA-44DE-BD09-EB0DBF5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FA56-9C25-438A-BDFA-E748705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785F-7DDB-455D-94D9-711E9324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0C37-DDA9-4676-A389-7733F40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443-0DA6-4B27-B59E-3D0C43D9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BCE2-4007-49EF-BB78-22E67C66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CAA-2403-4681-97CE-5016812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182-27C4-46AC-9545-E91C1D0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93B-6DDB-4630-A0A9-A8D53B7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91A-0FB2-4F4E-B31D-C3FCBBE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0BAA-5384-425A-9E1E-95CF8E6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079-FBB6-4266-9E48-D75B3D73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C4D-E057-4E07-AF4D-6134A81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6DE-A42C-41DC-88B0-3359D47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843-3302-46EF-824A-FE6CF597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E19-4519-4AFC-A770-22161D4B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791-E20E-4BF1-B94E-EA02752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B82-3B8D-4C90-85ED-C3379AE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0AC-5912-41C6-A5C5-604E5CD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35F-000C-4987-996F-8748A37EA7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CC7-F1CA-4106-BAE3-46FA57B1C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Біоритми у житті люди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слідження виконала Юрченко 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c0039"/>
                </a:solidFill>
                <a:latin typeface="Arial"/>
              </a:rPr>
              <a:t>Мета роботи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біоритмів та їхнього значення у житті людина. Як вони впливають на наш розумовий, фізичний та емоціональний ст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085840"/>
            <a:ext cx="312408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Поділ біоритмів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5400" y="1571760"/>
            <a:ext cx="6336720" cy="4462560"/>
            <a:chOff x="2435400" y="1571760"/>
            <a:chExt cx="6336720" cy="4462560"/>
          </a:xfrm>
        </p:grpSpPr>
        <p:cxnSp>
          <p:nvCxnSpPr>
            <p:cNvPr id="93" name="_s73751"/>
            <p:cNvCxnSpPr>
              <a:stCxn id="94" idx="0"/>
              <a:endCxn id="95" idx="2"/>
            </p:cNvCxnSpPr>
            <p:nvPr/>
          </p:nvCxnSpPr>
          <p:spPr>
            <a:xfrm flipH="1" flipV="1" rot="5400000">
              <a:off x="4746240" y="3391560"/>
              <a:ext cx="893160" cy="821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73745"/>
            <p:cNvCxnSpPr>
              <a:stCxn id="97" idx="0"/>
              <a:endCxn id="95" idx="2"/>
            </p:cNvCxnSpPr>
            <p:nvPr/>
          </p:nvCxnSpPr>
          <p:spPr>
            <a:xfrm flipV="1" rot="16200000">
              <a:off x="6389640" y="2568960"/>
              <a:ext cx="893160" cy="2466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73744"/>
            <p:cNvCxnSpPr>
              <a:stCxn id="99" idx="0"/>
              <a:endCxn id="95" idx="2"/>
            </p:cNvCxnSpPr>
            <p:nvPr/>
          </p:nvCxnSpPr>
          <p:spPr>
            <a:xfrm flipV="1" rot="16200000">
              <a:off x="5568120" y="3390480"/>
              <a:ext cx="893160" cy="82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73743"/>
            <p:cNvCxnSpPr>
              <a:stCxn id="101" idx="0"/>
              <a:endCxn id="95" idx="2"/>
            </p:cNvCxnSpPr>
            <p:nvPr/>
          </p:nvCxnSpPr>
          <p:spPr>
            <a:xfrm flipH="1" flipV="1" rot="5400000">
              <a:off x="3924360" y="2570400"/>
              <a:ext cx="893160" cy="2464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73739"/>
            <p:cNvSpPr/>
            <p:nvPr/>
          </p:nvSpPr>
          <p:spPr>
            <a:xfrm>
              <a:off x="4899600" y="157176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>
                  <a:solidFill>
                    <a:srgbClr val="000000"/>
                  </a:solidFill>
                  <a:latin typeface="Arial"/>
                </a:rPr>
                <a:t>Біорит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73740"/>
            <p:cNvSpPr/>
            <p:nvPr/>
          </p:nvSpPr>
          <p:spPr>
            <a:xfrm>
              <a:off x="243540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Фізи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73741"/>
            <p:cNvSpPr/>
            <p:nvPr/>
          </p:nvSpPr>
          <p:spPr>
            <a:xfrm>
              <a:off x="572112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Розум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73742"/>
            <p:cNvSpPr/>
            <p:nvPr/>
          </p:nvSpPr>
          <p:spPr>
            <a:xfrm>
              <a:off x="736416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Інтуї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ти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73750"/>
            <p:cNvSpPr/>
            <p:nvPr/>
          </p:nvSpPr>
          <p:spPr>
            <a:xfrm>
              <a:off x="407808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Емоці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Хід робот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Я почала спостерігати за своїм емоціональним, розумовим та фізичним ста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тім, розробила графіки циклів і порівнювала з даними спостере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2082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8c0039"/>
                </a:solidFill>
                <a:latin typeface="Arial"/>
              </a:rPr>
              <a:t>Графіки біоритмів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6408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005c"/>
                </a:solidFill>
                <a:latin typeface="Arial"/>
              </a:rPr>
              <a:t>Висновок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рафік біоритмів людини підлягає закону синусоїди. З його допомогою можна спланувати ефективну діяльність людини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6:44:09Z</dcterms:created>
  <dc:creator>123</dc:creator>
  <dc:description/>
  <dc:language>en-US</dc:language>
  <cp:lastModifiedBy>Белоконь Денис</cp:lastModifiedBy>
  <dcterms:modified xsi:type="dcterms:W3CDTF">2008-01-07T11:11:44Z</dcterms:modified>
  <cp:revision>6</cp:revision>
  <dc:subject/>
  <dc:title>Біоритми у житті людини</dc:title>
</cp:coreProperties>
</file>