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056A-3EA8-44CE-AFBC-EC83F4CD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A5E-22D5-43CD-BB4A-DEBD77AE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5BC1-0A7F-4247-B2B2-854F813D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86A-1EB0-4A6D-AB9A-A4E06F22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035F7-41D7-4B29-8724-0A2D31A7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69FB5-7105-4725-9EB4-ECA49A2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EBD33-D992-4FB4-9A4A-E07F3FBD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40F56-45F4-4ADF-85CE-96A61E3E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8B93D-9D96-4C39-B905-4E21E5CE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9FE17-5090-4EBF-97E2-F3AA704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D47BE-0357-4C10-9BB4-008698B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1C3-0B2D-4064-9730-9AB4D50D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22E5-1DCD-44AA-BD89-173F0561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21AAB-F9A4-45BF-B84A-B8BB653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AF87B-AE0C-462A-A132-99D8B765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9357C-1BD5-40A4-8533-3AD38B90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4F543-CE16-47BA-B307-C9574278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462-6EE6-4753-B6C0-A2BF8897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FD7-EC93-4CB6-B444-D52EC10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405-DF9B-4831-9FF5-54FF2DCF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DE1-FE84-4762-89FC-6C0E93A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3C2-5B89-457C-9DE8-9CEB05F1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75E-1D8E-4D74-97B9-3C651467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DB9-6040-4DEA-9F39-8804153B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2E69-A589-4B40-AA42-5DFF0A8CC5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9EC7-73CA-4767-BC0E-36D9F6C31E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492360" y="2838600"/>
            <a:ext cx="543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лідження виконув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ліщук Олексан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ерівник: Білоконь Леся Михайлі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04640"/>
            <a:ext cx="66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о спільного між роботою маятника і графіком синусоїд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S02064_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03040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uk-UA" sz="4800" spc="-1" strike="noStrike">
                <a:solidFill>
                  <a:srgbClr val="e3e3ff"/>
                </a:solidFill>
                <a:latin typeface="Arial"/>
              </a:rPr>
              <a:t>Завданн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Дослідити рух маятника та описати залежність періоду коливань від довжини та ваги маятника, порівняти роботу маятника з функцією син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8360" y="470844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5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cc"/>
                </a:solidFill>
                <a:latin typeface="Arial"/>
              </a:rPr>
              <a:t>Ох ці маятни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25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и виготовили систему з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заних маятник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989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мінюючи відношення довжин маятників спостерігали як впливають коливання одного маятника на інш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284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или за яких умов явище резонансу проявляється найяскраві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149720"/>
            <a:ext cx="69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ліджували як залежить період коливань     від довжини та ваги маятн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рафічно зобразили роботу маят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139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1989000"/>
          <a:ext cx="4824360" cy="3754440"/>
        </p:xfrm>
        <a:graphic>
          <a:graphicData uri="http://schemas.openxmlformats.org/drawingml/2006/table">
            <a:tbl>
              <a:tblPr/>
              <a:tblGrid>
                <a:gridCol w="787320"/>
                <a:gridCol w="1493640"/>
                <a:gridCol w="1214640"/>
                <a:gridCol w="13287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вжина маят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са маят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еріод колив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187280" y="33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cc"/>
                </a:solidFill>
                <a:latin typeface="Arial"/>
              </a:rPr>
              <a:t>Ось вони - результат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457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0" y="0"/>
                <a:ext cx="457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948360" y="2708280"/>
                <a:ext cx="1217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372360" y="17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Формула розрахункі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cc"/>
                </a:solidFill>
                <a:latin typeface="Arial"/>
              </a:rPr>
              <a:t>Маятник</a:t>
            </a:r>
            <a:r>
              <a:rPr b="0" i="1" lang="en-US" sz="4000" spc="-1" strike="noStrike">
                <a:solidFill>
                  <a:srgbClr val="00ffcc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00ffcc"/>
                </a:solidFill>
                <a:latin typeface="Arial"/>
              </a:rPr>
              <a:t>це дуже прост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34136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ятники з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заної системи обмінюються енергі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924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бмін відбувається повніше при рівній довжині маятник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653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еріод коливання маятника залежить лише від його довж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5018040"/>
            <a:ext cx="2448000" cy="1839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08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cc"/>
                </a:solidFill>
                <a:latin typeface="Arial"/>
              </a:rPr>
              <a:t>Висновки</a:t>
            </a:r>
            <a:r>
              <a:rPr b="0" lang="uk-UA" sz="44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19640" y="907920"/>
            <a:ext cx="5122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рирода формує свої закони мовою математики.    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(Г. Галі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2228760" cy="1686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49228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Всі коливні процеси математично можна виразити формуло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973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92560" y="2997360"/>
                <a:ext cx="405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484360" y="4221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І зобразити графіч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354400" cy="17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198360"/>
            <a:ext cx="2663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8:05:58Z</dcterms:created>
  <dc:creator>Vladimir</dc:creator>
  <dc:description/>
  <dc:language>en-US</dc:language>
  <cp:lastModifiedBy>Белоконь Денис</cp:lastModifiedBy>
  <dcterms:modified xsi:type="dcterms:W3CDTF">2007-11-04T17:13:17Z</dcterms:modified>
  <cp:revision>11</cp:revision>
  <dc:subject/>
  <dc:title>Слайд 1</dc:title>
</cp:coreProperties>
</file>