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5.gif" ContentType="image/gif"/>
  <Override PartName="/ppt/media/image3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5.png" ContentType="image/png"/>
  <Override PartName="/ppt/media/image4.gif" ContentType="image/gif"/>
  <Override PartName="/ppt/media/image8.png" ContentType="image/png"/>
  <Override PartName="/ppt/media/image1.gif" ContentType="image/gif"/>
  <Override PartName="/ppt/media/image12.wmf" ContentType="image/x-wmf"/>
  <Override PartName="/ppt/media/image7.gif" ContentType="image/gif"/>
  <Override PartName="/ppt/media/image9.gif" ContentType="image/gi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58B2-ECCF-4E3F-9454-3D5D9422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39A9-D5CD-4231-81EB-7D29FCA1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83C4-30F1-4A5C-BC44-86789ABA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5706-1B55-4372-91E9-3D7A5214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E8EA-A4A5-41E8-B7CB-4450A478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C83-45F3-4D6F-B72F-FCFAAF6F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28D8-B84B-4D34-B694-D232A849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BBE4-A5A8-493D-BCA2-3159BDF5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FAA8-8BCD-4970-BA29-06E34FAD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7C83-FF8C-4767-B423-20AA331C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070A-A361-49BC-BC4F-DDFA32A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3F9F-9956-464B-B636-21CD7FE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1050-2FD8-45C2-BF35-49E1C00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BD63-A153-4F62-A44F-4DFA7D2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6D96-586D-45B4-A0A6-BCB2D872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5A66-964C-41D9-BA53-D5A4C9F2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1482-99A2-42B3-8948-AD4F0B34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6FA1-2A54-4760-BFBA-796A8BAC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9AD5-EE43-4F73-A2CA-26DB51BD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4F49-0393-463B-9B50-61D4F0A9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E163-091F-4ED7-9432-A3819C1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4899E-9A26-4051-A020-1FAA39F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18CC-8633-4BA9-A5DD-82570B20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E7F65-C05D-4480-A54B-8238C62C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2639-6B21-48AF-83BD-AF43A563D8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d0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ff"/>
                  </a:gs>
                  <a:gs pos="100000">
                    <a:srgbClr val="2c2c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333ff"/>
                </a:gs>
                <a:gs pos="100000">
                  <a:srgbClr val="2b2b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d0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ff"/>
                  </a:gs>
                  <a:gs pos="100000">
                    <a:srgbClr val="2c2c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333ff"/>
                </a:gs>
                <a:gs pos="100000">
                  <a:srgbClr val="2b2b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C36-19BF-4F37-A7CF-B8E1D7D29C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47280" y="4436640"/>
            <a:ext cx="6985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вчитель ЗОШ №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м. Смі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Білоконь Л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32080" y="1494000"/>
            <a:ext cx="65246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caf00a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У світі синусої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caf00a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12360" y="59943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25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75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66ff"/>
                </a:solidFill>
                <a:latin typeface="Lucida Console"/>
              </a:rPr>
              <a:t>Дорогі друзі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920" y="28526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Чи помічали ви красу гармонії в нашому світі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Чи хотіли  б ви дослідити її разом з нами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Якщо так, то запрошуємо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вас стати учасниками нашог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проект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81720" y="4643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cc00"/>
                </a:solidFill>
                <a:latin typeface="Comic Sans MS"/>
              </a:rPr>
              <a:t>Мета проекту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287440"/>
            <a:ext cx="79311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Провести дослідженн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Зібрати та представити результати досліджен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Проаналізува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Застосувати знання до життєвих 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ситуаці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00080" y="490680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372360" y="4797360"/>
            <a:ext cx="24476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25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75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75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8840" y="301680"/>
            <a:ext cx="7956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 u="sng">
                <a:solidFill>
                  <a:srgbClr val="f34f4f"/>
                </a:solidFill>
                <a:uFillTx/>
                <a:latin typeface="Lucida Bright"/>
              </a:rPr>
              <a:t>Завдання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518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Прочитати запропоновану літературу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Об</a:t>
            </a:r>
            <a:r>
              <a:rPr b="1" lang="en-US" sz="3000" spc="-1" strike="noStrike">
                <a:solidFill>
                  <a:srgbClr val="ef1111"/>
                </a:solidFill>
                <a:latin typeface="Arial"/>
              </a:rPr>
              <a:t>’</a:t>
            </a: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єднатися в групи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У кожній групі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виберіть інформатик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та журналіст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Дослідіть, чи дійсно можн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спостерігати гармонічність синусоїди у кожному з видів наук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Результати оформіть у вигляді презентаці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5780160" y="1979640"/>
            <a:ext cx="3384360" cy="2519280"/>
          </a:xfrm>
          <a:prstGeom prst="verticalScroll">
            <a:avLst>
              <a:gd name="adj" fmla="val 20328"/>
            </a:avLst>
          </a:prstGeom>
          <a:gradFill rotWithShape="0">
            <a:gsLst>
              <a:gs pos="0">
                <a:srgbClr val="e4df0b"/>
              </a:gs>
              <a:gs pos="100000">
                <a:srgbClr val="17ad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Техні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Фізи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строном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еди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Раціоналізато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267680" y="5268960"/>
            <a:ext cx="14396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665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Чи математика безмежна як світ, присутня і міститься в усьом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 в навколишньому світі ми можемо зустрітися з гармонією синусоїд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Чи підвладні законам синусоїди біоритми людин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Якщо вас зацікавили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дані питання, то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вирушаймо в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подорож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2011680" cy="306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2190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66ff"/>
                </a:solidFill>
                <a:latin typeface="Arial"/>
              </a:rPr>
              <a:t>Перші кроки найважчі, тому пропонуємо завітати до 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df0b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rambler.r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66ff"/>
                </a:solidFill>
                <a:latin typeface="Arial"/>
              </a:rPr>
              <a:t>Використати літературу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d0cb0a"/>
                </a:solidFill>
                <a:latin typeface="Arial"/>
              </a:rPr>
              <a:t>OXFORD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– велика енциклопедія школяра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3 93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 3 89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 2 93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flipH="1">
            <a:off x="5796000" y="1125360"/>
            <a:ext cx="1511280" cy="194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451640" y="321300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66ff"/>
                </a:solidFill>
                <a:latin typeface="Lucida Console"/>
              </a:rPr>
              <a:t>Учні, які виконають завдання, отримають приз – додатковий бал за тем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uk-UA" sz="6600" spc="-1" strike="noStrike">
                <a:solidFill>
                  <a:srgbClr val="ffcc00"/>
                </a:solidFill>
                <a:latin typeface="Garamond"/>
              </a:rPr>
              <a:t>Бажаю успіхів у творчій роботі!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3527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ef1111"/>
                </a:solidFill>
                <a:latin typeface="Comic Sans MS"/>
              </a:rPr>
              <a:t>КІНЕЦЬ</a:t>
            </a:r>
            <a:endParaRPr b="1" lang="en-US" sz="15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843280" y="2347920"/>
            <a:ext cx="273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xit" presetID="40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5:40:06Z</dcterms:created>
  <dc:creator>Белоконь Денис</dc:creator>
  <dc:description/>
  <dc:language>en-US</dc:language>
  <cp:lastModifiedBy>Admin</cp:lastModifiedBy>
  <dcterms:modified xsi:type="dcterms:W3CDTF">2011-03-01T10:14:48Z</dcterms:modified>
  <cp:revision>9</cp:revision>
  <dc:subject/>
  <dc:title>У світі гармонії і краси</dc:title>
</cp:coreProperties>
</file>