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0C7-6D86-4895-936A-9262D246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FBA-2D0F-4C0A-B37C-37AFB496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247-C4BF-4ECC-9ABE-4CE7DA92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603-C35B-4DDD-8517-3D805B4B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56890-B1A0-4445-858B-B9C697EA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5878C-4B55-49A3-B694-E28189A3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D49BC-C456-4162-AED7-5203EA7B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C3244-1B73-453F-AB16-B2F82D09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43117-C9CF-4A92-96B8-323D1210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E64B7-0EEC-4093-816A-BC47029D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DFC5D-5284-4188-B951-767062A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2CF-E042-4401-8D5F-791D11C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DE32D-6EA9-44F3-B605-F0E580E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BD369-1C97-4B98-9246-4571A68E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D6A01-7F36-4508-9B86-9BC2B88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18CA0-0AB3-4874-B205-E0800A25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58F10-AF5F-4BB1-AFF8-920255A3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B38-E477-4C1F-8A43-45FED0EB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DAA-D5A3-4E63-8639-4BC556A9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72C-992E-4ACD-A799-3276572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00C-9FB2-4D59-99A6-969A8926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166-8963-4B2D-B5F9-75C57AB8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300-E7D1-46F1-BE81-1145D9C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F01-E556-466C-94F3-1947E9DB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B08-A51C-4C00-830B-C620A08C4A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EFD4-E756-4C91-B220-3B5781C55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492360" y="2838600"/>
            <a:ext cx="543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слідження виконув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ліщук Олексан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ерівник: Білоконь Леся Михайлі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04640"/>
            <a:ext cx="66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Що спільного між роботою маятника і графіком синусоїд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BS02064_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03040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uk-UA" sz="4800" spc="-1" strike="noStrike">
                <a:solidFill>
                  <a:srgbClr val="e3e3ff"/>
                </a:solidFill>
                <a:latin typeface="Arial"/>
              </a:rPr>
              <a:t>Завдання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Дослідити рух маятника та описати залежність періоду коливань від довжини та ваги маятника, порівняти роботу маятника з функцією сину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48360" y="4708440"/>
            <a:ext cx="3168720" cy="2149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205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33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cc"/>
                </a:solidFill>
                <a:latin typeface="Arial"/>
              </a:rPr>
              <a:t>Ох ці маятни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25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и виготовили систему з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заних маятник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989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мінюючи відношення довжин маятників спостерігали як впливають коливання одного маятника на інш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284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тановили за яких умов явище резонансу проявляється найяскраві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4149720"/>
            <a:ext cx="69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сліджували як залежить період коливань     від довжини та ваги маятн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рафічно зобразили роботу маят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139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4360" y="1989000"/>
          <a:ext cx="4824360" cy="3754440"/>
        </p:xfrm>
        <a:graphic>
          <a:graphicData uri="http://schemas.openxmlformats.org/drawingml/2006/table">
            <a:tbl>
              <a:tblPr/>
              <a:tblGrid>
                <a:gridCol w="787320"/>
                <a:gridCol w="1493640"/>
                <a:gridCol w="1214640"/>
                <a:gridCol w="13287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вжина маят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аса маят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еріод колив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187280" y="33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cc"/>
                </a:solidFill>
                <a:latin typeface="Arial"/>
              </a:rPr>
              <a:t>Ось вони - результат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67280" y="378936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0"/>
                <a:ext cx="457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0" y="0"/>
                <a:ext cx="457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948360" y="2708280"/>
                <a:ext cx="12178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372360" y="1773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Формула розрахункі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260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cc"/>
                </a:solidFill>
                <a:latin typeface="Arial"/>
              </a:rPr>
              <a:t>Маятник</a:t>
            </a:r>
            <a:r>
              <a:rPr b="0" i="1" lang="en-US" sz="4000" spc="-1" strike="noStrike">
                <a:solidFill>
                  <a:srgbClr val="00ffcc"/>
                </a:solidFill>
                <a:latin typeface="Arial"/>
              </a:rPr>
              <a:t> – </a:t>
            </a:r>
            <a:r>
              <a:rPr b="1" i="1" lang="en-US" sz="4000" spc="-1" strike="noStrike">
                <a:solidFill>
                  <a:srgbClr val="00ffcc"/>
                </a:solidFill>
                <a:latin typeface="Arial"/>
              </a:rPr>
              <a:t>це дуже прост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34136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ятники з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язаної системи обмінюються енергі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292428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бмін відбувається повніше при рівній довжині маятник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65300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еріод коливання маятника залежить лише від його довж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5018040"/>
            <a:ext cx="2448000" cy="1839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08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87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cc"/>
                </a:solidFill>
                <a:latin typeface="Arial"/>
              </a:rPr>
              <a:t>Висновки</a:t>
            </a:r>
            <a:r>
              <a:rPr b="0" lang="uk-UA" sz="44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19640" y="907920"/>
            <a:ext cx="5122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рирода формує свої закони мовою математики.     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(Г. Галіл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4941720"/>
            <a:ext cx="2228760" cy="1686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49228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Всі коливні процеси математично можна виразити формуло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973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92560" y="2997360"/>
                <a:ext cx="4051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484360" y="4221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І зобразити графіч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443640" y="4869000"/>
            <a:ext cx="2354400" cy="1757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68360" y="198360"/>
            <a:ext cx="2663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8:05:58Z</dcterms:created>
  <dc:creator>Vladimir</dc:creator>
  <dc:description/>
  <dc:language>en-US</dc:language>
  <cp:lastModifiedBy>Белоконь Денис</cp:lastModifiedBy>
  <dcterms:modified xsi:type="dcterms:W3CDTF">2007-11-04T17:13:17Z</dcterms:modified>
  <cp:revision>11</cp:revision>
  <dc:subject/>
  <dc:title>Слайд 1</dc:title>
</cp:coreProperties>
</file>