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3F39-858B-40E5-87BA-A4B72CABD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BE00-0511-4640-B7C3-B200A53D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1FBA-5A17-4A40-8A93-0BE51B53F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C9C2-AE1B-40D7-BE6D-48A92EEF6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504A-C5AD-48CF-9EF2-9DCFA37DE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DB67-DD60-438E-A056-15A6710E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5848-7DF9-4E07-814A-B2A150F4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2F7F-D449-4715-8C2F-AAB264A9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B066-619A-4C75-A331-10B08DDC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D842-181B-4DE5-94A9-819582B9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C9C0-A32D-4C43-949A-C264F43A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5AF7-0E90-42AB-ABAD-6D7256ED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CC0B-43A1-49EC-AA89-03C64539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9BCF-FF8F-4496-AD1F-630635A7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6613-F882-4928-B316-39C2BB3B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D395-9CF2-49B9-A756-AA604AED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0DF8-1F76-41B8-8B84-03BEC049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BF0E-67A9-4875-BFDB-E079807A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97C3-C3A3-4DD3-8F61-E476E5A2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7362-1DF4-4D5E-8E98-9FB1D28F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94A7-4C71-4DD2-A4B5-E5F5A1EB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BD8D-5BD2-4928-879F-10D71152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BD9D-4FD0-4873-9305-5DEA8C35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54DD-8358-47C0-BAC6-C9F0D3EA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780A-0F57-4AD1-92C2-C193AFA4C1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3127-5468-476A-A4D6-7F9DC75150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000000"/>
                </a:solidFill>
                <a:latin typeface="Arial"/>
              </a:rPr>
              <a:t>Біоритми у житті людин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Дослідження виконала Юрченко Кате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8c0039"/>
                </a:solidFill>
                <a:latin typeface="Arial"/>
              </a:rPr>
              <a:t>Мета роботи</a:t>
            </a:r>
            <a:endParaRPr b="0" lang="en-US" sz="6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вчення біоритмів та їхнього значення у житті людина. Як вони впливають на наш розумовий, фізичний та емоціональний ста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15000" y="2085840"/>
            <a:ext cx="3124080" cy="352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8c0039"/>
                </a:solidFill>
                <a:latin typeface="Arial"/>
              </a:rPr>
              <a:t>Поділ біоритмів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435400" y="1571760"/>
            <a:ext cx="6336720" cy="4462560"/>
            <a:chOff x="2435400" y="1571760"/>
            <a:chExt cx="6336720" cy="4462560"/>
          </a:xfrm>
        </p:grpSpPr>
        <p:cxnSp>
          <p:nvCxnSpPr>
            <p:cNvPr id="93" name="_s73751"/>
            <p:cNvCxnSpPr>
              <a:stCxn id="94" idx="0"/>
              <a:endCxn id="95" idx="2"/>
            </p:cNvCxnSpPr>
            <p:nvPr/>
          </p:nvCxnSpPr>
          <p:spPr>
            <a:xfrm flipH="1" flipV="1" rot="5400000">
              <a:off x="4746240" y="3391560"/>
              <a:ext cx="893160" cy="82188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73745"/>
            <p:cNvCxnSpPr>
              <a:stCxn id="97" idx="0"/>
              <a:endCxn id="95" idx="2"/>
            </p:cNvCxnSpPr>
            <p:nvPr/>
          </p:nvCxnSpPr>
          <p:spPr>
            <a:xfrm flipV="1" rot="16200000">
              <a:off x="6389640" y="2568960"/>
              <a:ext cx="893160" cy="24667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73744"/>
            <p:cNvCxnSpPr>
              <a:stCxn id="99" idx="0"/>
              <a:endCxn id="95" idx="2"/>
            </p:cNvCxnSpPr>
            <p:nvPr/>
          </p:nvCxnSpPr>
          <p:spPr>
            <a:xfrm flipV="1" rot="16200000">
              <a:off x="5568120" y="3390480"/>
              <a:ext cx="893160" cy="82368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73743"/>
            <p:cNvCxnSpPr>
              <a:stCxn id="101" idx="0"/>
              <a:endCxn id="95" idx="2"/>
            </p:cNvCxnSpPr>
            <p:nvPr/>
          </p:nvCxnSpPr>
          <p:spPr>
            <a:xfrm flipH="1" flipV="1" rot="5400000">
              <a:off x="3924360" y="2570400"/>
              <a:ext cx="893160" cy="24645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5" name="_s73739"/>
            <p:cNvSpPr/>
            <p:nvPr/>
          </p:nvSpPr>
          <p:spPr>
            <a:xfrm>
              <a:off x="4899600" y="1571760"/>
              <a:ext cx="1407960" cy="1784880"/>
            </a:xfrm>
            <a:custGeom>
              <a:avLst/>
              <a:gdLst>
                <a:gd name="textAreaLeft" fmla="*/ 68400 w 1407960"/>
                <a:gd name="textAreaRight" fmla="*/ 1339560 w 1407960"/>
                <a:gd name="textAreaTop" fmla="*/ 68400 h 1784880"/>
                <a:gd name="textAreaBottom" fmla="*/ 1716480 h 1784880"/>
              </a:gdLst>
              <a:ahLst/>
              <a:rect l="textAreaLeft" t="textAreaTop" r="textAreaRight" b="textAreaBottom"/>
              <a:pathLst>
                <a:path w="21600" h="27381">
                  <a:moveTo>
                    <a:pt x="3600" y="0"/>
                  </a:moveTo>
                  <a:arcTo wR="3600" hR="3600" stAng="16200000" swAng="-5400000"/>
                  <a:lnTo>
                    <a:pt x="0" y="23781"/>
                  </a:lnTo>
                  <a:arcTo wR="3600" hR="3600" stAng="10800000" swAng="-5400000"/>
                  <a:lnTo>
                    <a:pt x="18000" y="273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100" spc="-1" strike="noStrike">
                  <a:solidFill>
                    <a:srgbClr val="000000"/>
                  </a:solidFill>
                  <a:latin typeface="Arial"/>
                </a:rPr>
                <a:t>Біоритм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73740"/>
            <p:cNvSpPr/>
            <p:nvPr/>
          </p:nvSpPr>
          <p:spPr>
            <a:xfrm>
              <a:off x="2435400" y="4249440"/>
              <a:ext cx="1407960" cy="1784880"/>
            </a:xfrm>
            <a:custGeom>
              <a:avLst/>
              <a:gdLst>
                <a:gd name="textAreaLeft" fmla="*/ 68400 w 1407960"/>
                <a:gd name="textAreaRight" fmla="*/ 1339560 w 1407960"/>
                <a:gd name="textAreaTop" fmla="*/ 68400 h 1784880"/>
                <a:gd name="textAreaBottom" fmla="*/ 1716480 h 1784880"/>
              </a:gdLst>
              <a:ahLst/>
              <a:rect l="textAreaLeft" t="textAreaTop" r="textAreaRight" b="textAreaBottom"/>
              <a:pathLst>
                <a:path w="21600" h="27381">
                  <a:moveTo>
                    <a:pt x="3600" y="0"/>
                  </a:moveTo>
                  <a:arcTo wR="3600" hR="3600" stAng="16200000" swAng="-5400000"/>
                  <a:lnTo>
                    <a:pt x="0" y="23781"/>
                  </a:lnTo>
                  <a:arcTo wR="3600" hR="3600" stAng="10800000" swAng="-5400000"/>
                  <a:lnTo>
                    <a:pt x="18000" y="273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000000"/>
                  </a:solidFill>
                  <a:latin typeface="Arial"/>
                </a:rPr>
                <a:t>Фізичн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73741"/>
            <p:cNvSpPr/>
            <p:nvPr/>
          </p:nvSpPr>
          <p:spPr>
            <a:xfrm>
              <a:off x="5721120" y="4249440"/>
              <a:ext cx="1407960" cy="1784880"/>
            </a:xfrm>
            <a:custGeom>
              <a:avLst/>
              <a:gdLst>
                <a:gd name="textAreaLeft" fmla="*/ 68400 w 1407960"/>
                <a:gd name="textAreaRight" fmla="*/ 1339560 w 1407960"/>
                <a:gd name="textAreaTop" fmla="*/ 68400 h 1784880"/>
                <a:gd name="textAreaBottom" fmla="*/ 1716480 h 1784880"/>
              </a:gdLst>
              <a:ahLst/>
              <a:rect l="textAreaLeft" t="textAreaTop" r="textAreaRight" b="textAreaBottom"/>
              <a:pathLst>
                <a:path w="21600" h="27381">
                  <a:moveTo>
                    <a:pt x="3600" y="0"/>
                  </a:moveTo>
                  <a:arcTo wR="3600" hR="3600" stAng="16200000" swAng="-5400000"/>
                  <a:lnTo>
                    <a:pt x="0" y="23781"/>
                  </a:lnTo>
                  <a:arcTo wR="3600" hR="3600" stAng="10800000" swAng="-5400000"/>
                  <a:lnTo>
                    <a:pt x="18000" y="273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000000"/>
                  </a:solidFill>
                  <a:latin typeface="Arial"/>
                </a:rPr>
                <a:t>Розумов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73742"/>
            <p:cNvSpPr/>
            <p:nvPr/>
          </p:nvSpPr>
          <p:spPr>
            <a:xfrm>
              <a:off x="7364160" y="4249440"/>
              <a:ext cx="1407960" cy="1784880"/>
            </a:xfrm>
            <a:custGeom>
              <a:avLst/>
              <a:gdLst>
                <a:gd name="textAreaLeft" fmla="*/ 68400 w 1407960"/>
                <a:gd name="textAreaRight" fmla="*/ 1339560 w 1407960"/>
                <a:gd name="textAreaTop" fmla="*/ 68400 h 1784880"/>
                <a:gd name="textAreaBottom" fmla="*/ 1716480 h 1784880"/>
              </a:gdLst>
              <a:ahLst/>
              <a:rect l="textAreaLeft" t="textAreaTop" r="textAreaRight" b="textAreaBottom"/>
              <a:pathLst>
                <a:path w="21600" h="27381">
                  <a:moveTo>
                    <a:pt x="3600" y="0"/>
                  </a:moveTo>
                  <a:arcTo wR="3600" hR="3600" stAng="16200000" swAng="-5400000"/>
                  <a:lnTo>
                    <a:pt x="0" y="23781"/>
                  </a:lnTo>
                  <a:arcTo wR="3600" hR="3600" stAng="10800000" swAng="-5400000"/>
                  <a:lnTo>
                    <a:pt x="18000" y="273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000000"/>
                  </a:solidFill>
                  <a:latin typeface="Arial"/>
                </a:rPr>
                <a:t>Інтуї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000000"/>
                  </a:solidFill>
                  <a:latin typeface="Arial"/>
                </a:rPr>
                <a:t>тивн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73750"/>
            <p:cNvSpPr/>
            <p:nvPr/>
          </p:nvSpPr>
          <p:spPr>
            <a:xfrm>
              <a:off x="4078080" y="4249440"/>
              <a:ext cx="1407960" cy="1784880"/>
            </a:xfrm>
            <a:custGeom>
              <a:avLst/>
              <a:gdLst>
                <a:gd name="textAreaLeft" fmla="*/ 68400 w 1407960"/>
                <a:gd name="textAreaRight" fmla="*/ 1339560 w 1407960"/>
                <a:gd name="textAreaTop" fmla="*/ 68400 h 1784880"/>
                <a:gd name="textAreaBottom" fmla="*/ 1716480 h 1784880"/>
              </a:gdLst>
              <a:ahLst/>
              <a:rect l="textAreaLeft" t="textAreaTop" r="textAreaRight" b="textAreaBottom"/>
              <a:pathLst>
                <a:path w="21600" h="27381">
                  <a:moveTo>
                    <a:pt x="3600" y="0"/>
                  </a:moveTo>
                  <a:arcTo wR="3600" hR="3600" stAng="16200000" swAng="-5400000"/>
                  <a:lnTo>
                    <a:pt x="0" y="23781"/>
                  </a:lnTo>
                  <a:arcTo wR="3600" hR="3600" stAng="10800000" swAng="-5400000"/>
                  <a:lnTo>
                    <a:pt x="18000" y="273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000000"/>
                  </a:solidFill>
                  <a:latin typeface="Arial"/>
                </a:rPr>
                <a:t>Емоціо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000000"/>
                  </a:solidFill>
                  <a:latin typeface="Arial"/>
                </a:rPr>
                <a:t>нальн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i="1" lang="uk-UA" sz="5400" spc="-1" strike="noStrike">
                <a:solidFill>
                  <a:srgbClr val="8c0039"/>
                </a:solidFill>
                <a:latin typeface="Arial"/>
              </a:rPr>
              <a:t>Хід роботи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Я почала спостерігати за своїм емоціональним, розумовим та фізичним стан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Потім, розробила графіки циклів і порівнювала з даними спостереж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300720" y="2492280"/>
            <a:ext cx="2208240" cy="21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8c0039"/>
                </a:solidFill>
                <a:latin typeface="Arial"/>
              </a:rPr>
              <a:t>Графіки біоритмів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411280" y="2349360"/>
            <a:ext cx="640872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e4005c"/>
                </a:solidFill>
                <a:latin typeface="Arial"/>
              </a:rPr>
              <a:t>Висновок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Графік біоритмів людини підлягає закону синусоїди. З його допомогою можна спланувати ефективну діяльність людини.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6:44:09Z</dcterms:created>
  <dc:creator>123</dc:creator>
  <dc:description/>
  <dc:language>en-US</dc:language>
  <cp:lastModifiedBy>Белоконь Денис</cp:lastModifiedBy>
  <dcterms:modified xsi:type="dcterms:W3CDTF">2008-01-07T11:11:44Z</dcterms:modified>
  <cp:revision>6</cp:revision>
  <dc:subject/>
  <dc:title>Біоритми у житті людини</dc:title>
</cp:coreProperties>
</file>