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BDA-899F-4246-A3BF-C17D31CE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4D3-1D6D-43F9-8939-8D62932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FEFDB-CEF8-4A63-BD77-9C1F185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261F0-6270-4FFA-ABED-8672613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E77C-F4E0-426D-8ED3-9A50FFB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5DA8D-8D08-43AF-99DF-6479410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F57F-497D-4D04-BFFE-F890D0E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B2748-C616-4348-90E3-300F0E0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DC00B-BF81-4740-94BB-F3F40F47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FA5E2-2DD8-4872-A8B2-48A4D913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30E3-26F0-451D-936C-BB3B1C42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474-19F2-4A7F-8B1A-0E831B17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953-018F-4E13-BC3B-D0E0037B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CE41-C28E-49D4-8C5E-33BA6054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532D-848A-400A-9EA0-CDCA2A7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D47D-4193-4C59-917A-C43897EA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DEB5-AB8D-47E9-9109-8BB652B8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FA2-A04B-40F5-8925-AE2CE79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1396-BF31-4BE8-A8B9-74A7C14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165F-CE40-4E3F-880B-07F0749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6EC-A8E0-44AE-84A2-FF869C7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4274-F827-4286-96F5-7DE8DEC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F2C-F21B-4A96-92D9-7A9E9EC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A8AD-AEAD-4F6E-BD25-E462A7E9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F85-88BF-48B0-95B3-813561BF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9F4-D978-4DB7-824F-158C206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30C8-F0A1-438A-A95F-B33110DA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34B3-1FB1-440F-9243-14ED9E6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B7AE-7F13-48E5-9DB3-6C8EECF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E4FF-2009-47B6-A9F5-BD86C41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6B34-65A5-4AAA-BCBA-0FDCF20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173-9239-4AA2-B053-43155EAD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D00A-A300-4080-8C5B-DE64096A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AB1A-AF06-4762-822D-07549D5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F4CB-4807-46AE-B2A7-D6AC557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03F3-CDA3-4DAA-B864-22CDE74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F5B8-3D8C-4464-8876-78E6515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38A0-8F90-4AB5-96BC-3B3AAD74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901F-FC67-47D5-BCBA-A4EF151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77F4-7EA3-4944-8F2F-5BAD050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7881-345C-431A-8C24-15FEFA7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2E23-35AE-4CF3-BA6B-EB3C50B5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CDD-4E38-4483-A94D-8B10C396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8584-3B81-472A-BFC0-33BF26C2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6B28-5594-4F9C-93E6-B80F4C2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827F6-B7EE-4AA3-BE73-038FB015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8B6F-E317-4F2A-9A86-B38DC0B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22C6-18BE-4891-AE39-40DC9216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E0DE-85DB-4679-8F7A-3DE889E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A436-A3DC-478D-83E6-F4C06C6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A43A-8814-4CA8-B437-0A4F6BE4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E363-B364-4180-86B8-914C4A78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4A4E-C040-4226-9A7A-0F25A1AB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489-BEE3-4E21-AB57-CA18C3F1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BE71-A0B8-4A13-B7EC-4FEBD5C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CFAC-4DC5-42D8-8FBF-4D1D083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5546-6249-4442-9EC4-01D8F59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0AD6-7B91-4DB2-AD94-C497C0B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E4A7-D9BB-4CDB-B886-2A395B2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7A65-BC7C-4EC2-8B0D-EE91486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2D6F-D277-4AA4-9CD9-30729076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ED6F-8E7F-461E-B843-DE1D100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0437-0315-4085-AEEC-9AE8CE8F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D5B5-93FF-4E12-91A0-3F0AF3D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368-8258-4200-BF88-676556E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1DF56-9E92-4F6E-B9AF-1AC9C767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A697-918F-4ACC-A042-F0477F6F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4D06-8391-426A-BBAC-06A710A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7ACF-E321-4A0C-9D57-56E0F2C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3C17-1EA4-4BBE-8CD7-3B13399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7BC1-6418-4B39-B2E2-004D1DBC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5694-4F03-40F4-BDA9-7DD5C711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6866-21CC-45E0-AB03-6B6CF95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7618-DDF9-4A24-8E7B-52474C4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AEBA-4A14-4452-85B6-01E165A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FC4-7C25-46E9-81A9-771AC9C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5AAA-F1F9-4324-B8EA-D14462F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EC54-7168-4756-A8C4-16DA08BE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7152-DFC5-413C-9EF6-D1F591D2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52B2-9AD2-48C0-8D55-A936CBFB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FED7-BEF5-4F30-A964-792379F5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FA13-ED91-473E-ADC9-4600604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A453-6AD1-4FD0-8511-83A9281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4AEF9-AABF-4DC3-A0E7-B403A8C1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B0D6-8EEA-45B7-8069-E7AB0FE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A539-D07D-404B-B78F-540EB1BB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9BC-EF87-48FE-8ADF-CE17254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1435-FE63-4A82-809C-64FF4C90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9532-F803-449C-8643-2D6F665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5F7C-96DB-4F86-B677-8ED392E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054A-A32D-44F4-916B-570570FF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4FF3-891E-4A00-A280-00035A7E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67D3-0468-40DE-A79B-EA05E45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93B6-2E54-436F-BF32-6FE7AF2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A7A03-4260-4B4F-AD39-CEA2388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A8685-06CA-4C16-AE3F-AED1FDF8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2356-868F-4EF4-9DD0-902653A3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CCD-C77A-4212-A102-6C7B2D9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2B51-3564-4823-BB12-64EEE3F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F918-990A-4092-8A39-0CED984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49452-FE05-4439-B9A1-D0ACAA1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5C47-63D7-47E8-A73A-16B0869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C889-C5ED-4D07-92BD-B838FEB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B8C8-F76E-4FB6-B611-AC981F46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57DB3-4B04-4DAB-8AFD-BB513D4E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82979-40A4-49AF-BC88-ED38522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95C3A-B5A2-497D-9F00-6806A34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CB785-CEB1-4BF0-A7D5-6275F86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5007-8483-4EBD-9234-66F0484397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05EC-3A60-4637-BEB6-6FF30CDEDE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12AF-B10F-4D72-A119-5D57FA4F5E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F3D2-96C2-4BD5-8F1F-D01128B1E5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B81-D726-4FB4-A1CA-2634CD923A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528-16A2-4CCD-81EC-BC9933C222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6604-1A1F-4E19-9F2D-5B29A1E3C6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4618-F861-47CF-B83E-5E2FC7C29E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531-54F8-4710-92EF-39DEAB6C66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01600" y="407880"/>
            <a:ext cx="8886960" cy="1328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ю, яку можна задати формулою у=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/x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, де k-число відмінне від нуля,а х- незалежна змінна називатимемо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оберненою</a:t>
            </a:r>
            <a:r>
              <a:rPr b="1" lang="en-US" sz="2000" spc="-1" strike="noStrike">
                <a:solidFill>
                  <a:srgbClr val="7c4b3b"/>
                </a:solidFill>
                <a:latin typeface="Franklin Gothic Book"/>
              </a:rPr>
              <a:t> 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пропорційніст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рафіком є крива, яка називається </a:t>
            </a:r>
            <a:r>
              <a:rPr b="1" i="1" lang="uk-UA" sz="2000" spc="-1" strike="noStrike">
                <a:solidFill>
                  <a:srgbClr val="7c4b3b"/>
                </a:solidFill>
                <a:latin typeface="Franklin Gothic Book"/>
              </a:rPr>
              <a:t>гіпербол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іпербола складається з двох віт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k&gt;0,то графік розташований у І і ІІІ координатних чвертя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&lt;0- у ІІ і ІV чверт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ернена функція має свої неабиякі властивості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визначення-всі дійсні числа,крім 0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значень-всі дійсні числа ,крім  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парна,отже графік симетричний відносно початку координат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 має нулів.Графік не перетинає осі координа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&lt;0 функція зростає на всій області визначенн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 &gt;0 –спадає на всій області визначенн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858080" y="64292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517680" y="139680"/>
            <a:ext cx="794988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4" name="Содержимое 3" descr="обернена.bmp"/>
          <p:cNvPicPr/>
          <p:nvPr/>
        </p:nvPicPr>
        <p:blipFill>
          <a:blip r:embed="rId3"/>
          <a:stretch/>
        </p:blipFill>
        <p:spPr>
          <a:xfrm>
            <a:off x="-23760" y="1268280"/>
            <a:ext cx="7289640" cy="51325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4618800" y="29289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Franklin Gothic Book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571840" y="3071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c4b3b"/>
                </a:solidFill>
                <a:latin typeface="Franklin Gothic Book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8358120" y="6357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27:15Z</dcterms:created>
  <dc:creator>Admin</dc:creator>
  <dc:description/>
  <dc:language>en-US</dc:language>
  <cp:lastModifiedBy>Admin</cp:lastModifiedBy>
  <dcterms:modified xsi:type="dcterms:W3CDTF">2011-01-10T10:43:17Z</dcterms:modified>
  <cp:revision>24</cp:revision>
  <dc:subject/>
  <dc:title>Обернена пропорційність</dc:title>
</cp:coreProperties>
</file>