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922-B576-47E5-B178-E87860C4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04D-2633-4026-A4E4-DE367A9E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BD0E-37E2-41BC-937B-6FE1E0A1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BCC-6E72-44A9-A32A-00F78AAB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F481-5B6B-4170-9FAA-4EAAD53A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71E0-2399-476A-B2D0-2F3E978B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CE33-22C3-4CBA-B076-6B2BF3E8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4EC5-E3E1-4402-BABF-EA6C9EB0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055D-E98E-4CC3-8C89-527C661F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F9F8-36C0-4C27-9A15-86E806E5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4E92-7C34-4EB9-81EF-ABD89F02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AA2-0E6C-4BF9-A32B-96E5044B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05CF-E5A7-4EC8-B176-D78C5075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1FDD-644A-45A7-AF05-52234D7C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8EF6-CEA0-479D-A6E9-CC239B55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7B41-7B0F-4062-AA86-5F700391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05D8-3F6C-4159-B39B-641E250A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C7C48-AB9C-44CF-A793-EDFE644E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B3CE8-F085-4702-B475-6A0EB911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05EA7-7905-4BDA-8A17-5A7D354D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5BDB1-1440-45D5-B722-881B6013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73E96-D33E-4641-BEAC-327E2910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00B-DBBE-4526-ACC0-A9E12A40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753D-AE7F-43B2-B7F5-D14D1823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0E8A2-A8C1-401B-B213-3AE2FC36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F743-5B5E-4C2C-94B4-5279B864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2073A-CC05-490F-BDBA-24C4C262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08AF-A4E9-4E62-933F-1D2A510A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2A4CC-A197-4CB4-9160-DFC956A6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C9313-CC92-484C-9532-9F9A47A2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A7BB2-3A92-488C-97CF-C89CA135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9A418-44B1-4516-B61A-4BE3AB8D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359E1-EC98-458F-B770-A9628507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CD5-848C-457A-A8A0-227F196A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3D7A8-9471-4DF1-A32F-FC6EC505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D267D-A1BA-4B1E-93C3-A7CEAD24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30A0E-D96E-4851-9970-9AC00CA6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0EDAC-DC98-4DBF-A7EB-4CF8FE1B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1F4B2-D7B3-4825-930C-FC900B77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76B96-A797-417F-A017-E2CD967F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268C2-F68C-43A3-B3EF-AD863575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9C374-BDBD-4E77-A6D3-7C2A1483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5D039-6FE9-4F22-98BD-5F0E6543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71049-9E39-4592-95E3-FF3AA92A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BC1-1086-4CC4-A6EF-74414B23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823F6-78A7-4A79-AE1E-AADB72D9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66782-35B1-4224-83A9-76406D2E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1908D-1AB2-4A49-9199-19D69FAD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42354-C760-4008-A5F1-528D5796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42EFD-209D-4E57-9713-B1895B6B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BAB88-7486-4CEB-ACD5-48D78F3C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2723E-132C-45AE-98FD-68BCC3B0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C5086-F3E4-4F11-8070-4C2F7D02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F81AC-BE3B-4105-850A-5D6D0303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FD7D2-976B-45D3-BE2D-91BF4B6D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950-CA02-4225-BF26-ED09ADE8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33CFB-DF66-4768-881A-251DB07E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EE7FB-4AED-4F1B-91DF-3D60C7A5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8C767-7261-4E07-A655-52BF96CC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23407-101F-443B-818D-278622E3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B2DEF-03D3-46A8-A70B-AAEBD362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CC44B-4E6D-437B-BADA-065F4381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68BD5-3F91-4D80-B39C-765C21B8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433F0-AEB5-4595-B83B-530551F1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EA974-8F09-45FF-9D44-E560F763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C89C5-18EE-444F-8B1B-66440103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FB3-D50A-4E40-AA26-C4D86220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5F7CB-56B2-445C-8A2F-C7C339D8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BF6F6-644F-4F8E-B368-CF6B1A73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694F4-7AAE-4DEF-9132-C8AE955F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3F89C-8E0D-4EA3-A55E-FCB7D791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03866-3203-4C1F-8044-2CEBE2FB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E3048-8BDC-4ADD-8FDC-8BCFC96D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0E81D-55BD-423C-98A6-6023C3E8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85E78-4D95-46C8-A0D9-91B8B96F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33D1D-690F-457E-8F1A-CBF96007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2E8F4-EAD7-415A-9E07-073CE8CD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15A-13EC-4164-B8AB-8170FA07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5B9C4-B6B4-48BB-86EE-D6E14794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8E822-A40B-4B26-B825-C815165E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0542C-D1CA-4427-91FF-C1C10D2D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934FE-F97C-4146-A7AB-4A2CAE00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95012-173C-476A-8E4F-A3EBF6CC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9A537-4A1E-4B87-AFB2-D2914773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9560E-929E-4635-A5FC-BB43BAD1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C817D-98BC-4762-959D-0AF056D8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F39C5-4E01-440B-971F-F25417CF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93FE4-A750-40A2-B869-B1DAAD2A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49F-0D9F-4068-8542-5F637CEA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E3233-398C-4A7A-A818-1173CFAF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D90E9-DB33-40E4-91A0-29BEE346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F931B-C8DC-4962-BCC9-C30F5358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65CE0-09B9-432C-8170-74D3307C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F09BA-93A9-4D06-A99B-8482DA6A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CF54B-14C0-4A56-B565-E71DD308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0B2F7-6452-42A3-B259-8D7D01DC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0BBB-F1B1-42E7-AE27-61DE6B6170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618A-218F-4A72-A7AD-EEFB81242DD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3A23-946B-4483-98FA-69DD419B792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0B7E-E333-4716-B678-FC832C184B2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82AA-78EC-4A6E-9F9B-68EE087147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CEA5-D2F5-46F9-B8F2-99F3CB026A2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741C-AE23-42A9-9ECF-6F8E77DEAF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7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8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EFD5-C94F-42E7-BEBB-A29982F1DB3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2359080" y="152280"/>
            <a:ext cx="6029280" cy="1090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371600" y="1642680"/>
            <a:ext cx="6400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2" descr="C:\Documents and Settings\Администратор\Мои документы\Мои рисунки\мод.bmp"/>
          <p:cNvPicPr/>
          <p:nvPr/>
        </p:nvPicPr>
        <p:blipFill>
          <a:blip r:embed="rId2"/>
          <a:stretch/>
        </p:blipFill>
        <p:spPr>
          <a:xfrm>
            <a:off x="500040" y="1285920"/>
            <a:ext cx="7500960" cy="492912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6000840" y="3000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y=</a:t>
            </a:r>
            <a:r>
              <a:rPr b="0" lang="uk-UA" sz="1800" spc="-1" strike="noStrike">
                <a:solidFill>
                  <a:srgbClr val="ff0000"/>
                </a:solidFill>
                <a:latin typeface="Lucida Sans Unicode"/>
              </a:rPr>
              <a:t>І</a:t>
            </a: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x</a:t>
            </a:r>
            <a:r>
              <a:rPr b="0" lang="uk-UA" sz="1800" spc="-1" strike="noStrike">
                <a:solidFill>
                  <a:srgbClr val="ff0000"/>
                </a:solidFill>
                <a:latin typeface="Lucida Sans Unicode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5236560" y="200016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Lucida Sans Unicode"/>
              </a:rPr>
              <a:t>у=І3хІ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Номер слайда 6"/>
          <p:cNvSpPr/>
          <p:nvPr/>
        </p:nvSpPr>
        <p:spPr>
          <a:xfrm>
            <a:off x="8358120" y="6408720"/>
            <a:ext cx="655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Lucida Sans Unicode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Documents and Settings\Администратор\Мои документы\Мои рисунки\моду.bmp"/>
          <p:cNvPicPr/>
          <p:nvPr/>
        </p:nvPicPr>
        <p:blipFill>
          <a:blip r:embed="rId1"/>
          <a:stretch/>
        </p:blipFill>
        <p:spPr>
          <a:xfrm>
            <a:off x="1060560" y="1481040"/>
            <a:ext cx="7022880" cy="4525920"/>
          </a:xfrm>
          <a:prstGeom prst="rect">
            <a:avLst/>
          </a:prstGeom>
          <a:ln w="0">
            <a:noFill/>
          </a:ln>
        </p:spPr>
      </p:pic>
      <p:pic>
        <p:nvPicPr>
          <p:cNvPr id="377" name="Заголовок 1" descr=""/>
          <p:cNvPicPr/>
          <p:nvPr/>
        </p:nvPicPr>
        <p:blipFill>
          <a:blip r:embed="rId2"/>
          <a:stretch/>
        </p:blipFill>
        <p:spPr>
          <a:xfrm>
            <a:off x="390600" y="244440"/>
            <a:ext cx="8362800" cy="1279440"/>
          </a:xfrm>
          <a:prstGeom prst="rect">
            <a:avLst/>
          </a:prstGeom>
          <a:ln w="0">
            <a:noFill/>
          </a:ln>
        </p:spPr>
      </p:pic>
      <p:sp>
        <p:nvSpPr>
          <p:cNvPr id="378" name="TextBox 7"/>
          <p:cNvSpPr/>
          <p:nvPr/>
        </p:nvSpPr>
        <p:spPr>
          <a:xfrm>
            <a:off x="6143760" y="31431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Lucida Sans Unicode"/>
              </a:rPr>
              <a:t>у=І- х</a:t>
            </a:r>
            <a:r>
              <a:rPr b="1" lang="uk-UA" sz="1800" spc="-1" strike="noStrike" baseline="30000">
                <a:solidFill>
                  <a:srgbClr val="0070c0"/>
                </a:solidFill>
                <a:latin typeface="Lucida Sans Unicode"/>
              </a:rPr>
              <a:t>2</a:t>
            </a:r>
            <a:r>
              <a:rPr b="1" lang="uk-UA" sz="1800" spc="-1" strike="noStrike">
                <a:solidFill>
                  <a:srgbClr val="0070c0"/>
                </a:solidFill>
                <a:latin typeface="Lucida Sans Unicode"/>
              </a:rPr>
              <a:t>+6х-8І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8215200" y="642924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3" descr="C:\Documents and Settings\Администратор\Мои документы\Мои рисунки\модпар.bmp"/>
          <p:cNvPicPr/>
          <p:nvPr/>
        </p:nvPicPr>
        <p:blipFill>
          <a:blip r:embed="rId1"/>
          <a:stretch/>
        </p:blipFill>
        <p:spPr>
          <a:xfrm>
            <a:off x="1060560" y="1481040"/>
            <a:ext cx="7022880" cy="4525920"/>
          </a:xfrm>
          <a:prstGeom prst="rect">
            <a:avLst/>
          </a:prstGeom>
          <a:ln w="0">
            <a:noFill/>
          </a:ln>
        </p:spPr>
      </p:pic>
      <p:pic>
        <p:nvPicPr>
          <p:cNvPr id="381" name="Заголовок 1" descr=""/>
          <p:cNvPicPr/>
          <p:nvPr/>
        </p:nvPicPr>
        <p:blipFill>
          <a:blip r:embed="rId2"/>
          <a:stretch/>
        </p:blipFill>
        <p:spPr>
          <a:xfrm>
            <a:off x="390600" y="244440"/>
            <a:ext cx="8362800" cy="127944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/>
          <p:cNvSpPr/>
          <p:nvPr/>
        </p:nvSpPr>
        <p:spPr>
          <a:xfrm>
            <a:off x="6131880" y="421488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Lucida Sans Unicode"/>
              </a:rPr>
              <a:t>у= - х</a:t>
            </a:r>
            <a:r>
              <a:rPr b="0" lang="uk-UA" sz="1800" spc="-1" strike="noStrike" baseline="30000">
                <a:solidFill>
                  <a:srgbClr val="ff0000"/>
                </a:solidFill>
                <a:latin typeface="Lucida Sans Unicode"/>
              </a:rPr>
              <a:t>2</a:t>
            </a:r>
            <a:r>
              <a:rPr b="0" lang="uk-UA" sz="1800" spc="-1" strike="noStrike">
                <a:solidFill>
                  <a:srgbClr val="ff0000"/>
                </a:solidFill>
                <a:latin typeface="Lucida Sans Unicode"/>
              </a:rPr>
              <a:t>+6ІхІ-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8160480" y="62150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C:\Documents and Settings\Администратор\Мои документы\Мои рисунки\м.bmp"/>
          <p:cNvPicPr/>
          <p:nvPr/>
        </p:nvPicPr>
        <p:blipFill>
          <a:blip r:embed="rId1"/>
          <a:stretch/>
        </p:blipFill>
        <p:spPr>
          <a:xfrm>
            <a:off x="1060560" y="1481040"/>
            <a:ext cx="7022880" cy="4525920"/>
          </a:xfrm>
          <a:prstGeom prst="rect">
            <a:avLst/>
          </a:prstGeom>
          <a:ln w="0">
            <a:noFill/>
          </a:ln>
        </p:spPr>
      </p:pic>
      <p:pic>
        <p:nvPicPr>
          <p:cNvPr id="385" name="Заголовок 1" descr=""/>
          <p:cNvPicPr/>
          <p:nvPr/>
        </p:nvPicPr>
        <p:blipFill>
          <a:blip r:embed="rId2"/>
          <a:stretch/>
        </p:blipFill>
        <p:spPr>
          <a:xfrm>
            <a:off x="237960" y="219240"/>
            <a:ext cx="8820360" cy="102384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5087880" y="3000240"/>
            <a:ext cx="8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Lucida Sans Unicode"/>
              </a:rPr>
              <a:t>у=Іх</a:t>
            </a:r>
            <a:r>
              <a:rPr b="1" lang="uk-UA" sz="1800" spc="-1" strike="noStrike" baseline="30000">
                <a:solidFill>
                  <a:srgbClr val="00b050"/>
                </a:solidFill>
                <a:latin typeface="Lucida Sans Unicode"/>
              </a:rPr>
              <a:t>3</a:t>
            </a:r>
            <a:r>
              <a:rPr b="1" lang="uk-UA" sz="1800" spc="-1" strike="noStrike">
                <a:solidFill>
                  <a:srgbClr val="00b050"/>
                </a:solidFill>
                <a:latin typeface="Lucida Sans Unicode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8143920" y="635796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7:54:04Z</dcterms:created>
  <dc:creator>Admin</dc:creator>
  <dc:description/>
  <dc:language>en-US</dc:language>
  <cp:lastModifiedBy>Admin</cp:lastModifiedBy>
  <dcterms:modified xsi:type="dcterms:W3CDTF">2011-01-10T10:43:01Z</dcterms:modified>
  <cp:revision>7</cp:revision>
  <dc:subject/>
  <dc:title> МОДУЛЬ</dc:title>
</cp:coreProperties>
</file>