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9CD-20E4-4DF0-B490-13D9E30A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636-3FD4-42B2-A4FA-8AF60C46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4DD-349D-41A1-8D7D-BFD05DD9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63C-52BE-40DC-9B2D-016586DE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36B-5FFD-4247-8857-8515DBD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0B2-2482-408B-9E9F-3BE06267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589-BFF5-42DF-B14A-C0B5D44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BB8-8F12-4D28-8AE4-A27B477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DBB-4733-46AF-82B8-076DCBE9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168-738F-4E98-870D-4E559C7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5B0-2530-4640-B6B8-D5DA4D9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9E8-1F42-49B9-BEB7-2CE98DF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F8B6-EB64-4D64-95A5-8F893130DF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EE05-E219-4726-9F23-AAA89C5F8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Квадратична функ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y=ax²+bx+c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  a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b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-числа (а≠0),х-незалежна змін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рафік-парабола,яка складається з двох віток,симетричних відносно прямої        у=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⁄2a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паралельно осі ордина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&gt;0,вітки параболи напрямлені вгору; а&lt;0-вни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очка(х₀;у₀)-вершина параболи. х₀=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⁄2a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у₀=у(х₀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ластивості фун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ласть визначення-множ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всіх дійсних чис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ласть значень-[у₀;∞),якщо а&gt;0; (-∞;у₀],якщо а&l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(0;с)-точка перетину з віссю ордин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=0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²+bx+c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=0,  х₁,х₂- нулі функції,  (х₁;0) і (х₂;0)-точки перетину з віссю абсци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 а&gt;0 функція спадає на проміжку (-∞;х₀), зростає на проміжку (х₀;∞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 а&lt;0  функція зростає на прміжку (-∞;х₀), спадає на проміжку (х₀;∞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Администратор\Мои документы\Мои рисунки\нова.bmp"/>
          <p:cNvPicPr/>
          <p:nvPr/>
        </p:nvPicPr>
        <p:blipFill>
          <a:blip r:embed="rId1"/>
          <a:stretch/>
        </p:blipFill>
        <p:spPr>
          <a:xfrm>
            <a:off x="6072120" y="4786200"/>
            <a:ext cx="2786040" cy="1857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7929720" y="52149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y=ax²+bx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a&g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504120" y="6143760"/>
            <a:ext cx="12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=ax²+bx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&l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7"/>
          <p:cNvSpPr/>
          <p:nvPr/>
        </p:nvSpPr>
        <p:spPr>
          <a:xfrm>
            <a:off x="1643040" y="635652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98989"/>
                </a:solidFill>
                <a:latin typeface="Calibri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Квадратична функ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4224240" cy="542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Администратор\Мои документы\Мои рисунки\49.bmp"/>
          <p:cNvPicPr/>
          <p:nvPr/>
        </p:nvPicPr>
        <p:blipFill>
          <a:blip r:embed="rId2"/>
          <a:stretch/>
        </p:blipFill>
        <p:spPr>
          <a:xfrm>
            <a:off x="428760" y="1143000"/>
            <a:ext cx="4000320" cy="442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863080" y="2286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У=4,9х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6"/>
          <p:cNvSpPr/>
          <p:nvPr/>
        </p:nvSpPr>
        <p:spPr>
          <a:xfrm>
            <a:off x="1357200" y="6356520"/>
            <a:ext cx="307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98989"/>
                </a:solidFill>
                <a:latin typeface="Calibri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47:37Z</dcterms:created>
  <dc:creator>Admin</dc:creator>
  <dc:description/>
  <dc:language>en-US</dc:language>
  <cp:lastModifiedBy>Admin</cp:lastModifiedBy>
  <dcterms:modified xsi:type="dcterms:W3CDTF">2011-01-10T10:42:47Z</dcterms:modified>
  <cp:revision>29</cp:revision>
  <dc:subject/>
  <dc:title>Квадратична функція</dc:title>
</cp:coreProperties>
</file>