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7DF-CB2E-4120-A5E4-F995E091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658-E9E1-439A-BEA8-1F59476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B7F-6720-4B74-8127-C1E90B48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D60-8638-4E1F-9C94-D753886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95FF-0AB6-461C-8705-D66715C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764-A7C1-4FF8-B6E4-68031E2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AA5-93B6-4BA9-81B7-0558260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9EB-39EF-4CBB-92B1-CFE7E42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9B91-930A-4A91-88FE-2E47805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6CB0-39FF-4162-96AA-1FC847D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6C9-417E-41AF-A1B0-3D97CD4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17C-9EDE-4296-90CD-F0FA48A8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22D-E724-44F3-A102-7E3E4F0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78B-F090-4477-B6FA-A632448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487-C26B-4E5D-B0D9-772FE16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7FD0-D76D-4E91-B13D-62847468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C6CD-6355-4D6E-972E-7783A64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97AF-740A-4B28-B126-2301E6AA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C960-0176-4363-9B74-5016E93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9EAD-01D6-4B63-BA0C-1B70353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EE94-A285-4BEA-BBB5-CC459DB5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6DDB-A603-4972-B6C8-BC3E059A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0A7-FBC5-4278-9A90-0CB0623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82A3-19BC-453F-AA52-A7454B2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78EE-C23C-47D8-88CB-84A77B74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3592-A3A9-4313-898F-DFE94DE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F327-ADB1-4C92-BCD7-CD7CBC1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F556-FECE-4338-B436-B4B737F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219B-5D56-484A-A0BD-BB55A953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A35D-C319-4403-AF20-86453A32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7A72-D446-4BF7-97B9-AF67F7CD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4350-92F6-4A99-AE85-68294DD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E8C3-814D-4C27-8E61-4A5C51F7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209-6097-4692-9E5F-701BB53B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A867-FF7E-450C-8B3E-52E8C86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F944-6A00-4154-AF8C-0971BCD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EE03-55D3-47BE-946E-1008265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B2BC-0F9E-42ED-80AE-16768E8A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6C35-01BD-47F5-A47E-5A8F9CB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9278-DC67-4E3B-863F-49A1C8B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1EB7-FAC7-4A6A-BE3E-F0334CE7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E439-BFBA-417D-BB1A-391B788E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DE0A-A501-4678-8D20-9B824E01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19FC-1C4D-41C9-831D-75761003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39-05A7-46C2-8FEE-BCAE5EEE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A946-A0A1-458F-947B-95F2F0C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D0F2-1C06-4057-9F9A-825D6FBD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05B8-C0A9-4F69-BC99-9184B91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218D0-97EC-4CD9-95C1-B2D2C453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B9A3-1665-4770-9334-7FD5640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0694-F15E-46AF-B831-5F4DD1B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9431-0B8C-405F-BE5C-A8C69DC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C29B-FD02-40F1-BDAB-D4A2C4D4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B3A2-EAA2-4383-81DA-B102874A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D08B-BF03-40CF-B65F-241E8464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AFB-188D-4D89-BA7B-EB041FC0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5099-E4DA-469B-A7AF-75CE0E2F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8B7C-A9FA-42EA-A4F9-CB3F051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DEF7-E68D-4548-BC6B-9DC0F991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6AD34-A0C4-4CAA-A505-AD2CE8BF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5210-3411-4ADA-A2C9-83F5EF4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E9F2-B77F-42C3-9FB6-2446B4B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50A0-D030-4A39-9E2F-CD1AD10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FD28-572B-492A-9BF5-798A6B8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E2DC-5EEA-4BCE-94EC-54E0159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70B0-1D74-4F62-A1A2-DCD19CD8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54E-F416-4BD9-A910-9AB1C0A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369A-2FDF-4DD5-B2CB-44DEC46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960D-CB28-490B-B1DE-AFDA673A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D334-5156-42DB-8D4D-27F0A3CE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CC3-8C80-4040-9374-63CEFF93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24C-B269-4E2F-BDC2-6D7112A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530-7942-45D2-8D1A-EE2B3B5F523D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164-ED9E-4322-9F4E-6A574B4C648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3D7-7DCC-475D-9F7E-21345B57E8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B6E2-52C3-4384-9ADD-7299A4365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A43-468C-4993-B2AD-56EA5D3C5ED8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E89-8C76-4957-A9E5-4B0EC52E2C0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F5C-2838-4982-BA4B-DC22DF975BAC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EF5-E82D-492D-83FE-4BCAD00C9D7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A5E-4E9F-45EE-B3AD-FB994EDA69CD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1EF-0146-406F-A40D-630FD4DC962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7C13-4D15-424E-9AC8-B77D87A5FC98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A13-FAD8-41F9-B636-43BFC462C52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7255080" cy="108396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90840"/>
            <a:ext cx="7255080" cy="488304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8"/>
          <p:cNvSpPr/>
          <p:nvPr/>
        </p:nvSpPr>
        <p:spPr>
          <a:xfrm>
            <a:off x="6251400" y="6500880"/>
            <a:ext cx="749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44.bmp"/>
          <p:cNvPicPr/>
          <p:nvPr/>
        </p:nvPicPr>
        <p:blipFill>
          <a:blip r:embed="rId2"/>
          <a:stretch/>
        </p:blipFill>
        <p:spPr>
          <a:xfrm>
            <a:off x="433440" y="1427040"/>
            <a:ext cx="7289640" cy="4973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5425200" y="2643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4988520" y="20718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y=kx+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2643120" y="578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k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4071960" y="43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3854520" y="2643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2x+3.bmp"/>
          <p:cNvPicPr/>
          <p:nvPr/>
        </p:nvPicPr>
        <p:blipFill>
          <a:blip r:embed="rId2"/>
          <a:stretch/>
        </p:blipFill>
        <p:spPr>
          <a:xfrm>
            <a:off x="433440" y="1700280"/>
            <a:ext cx="7289640" cy="4700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4429080" y="25002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rebuchet MS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14800" y="257184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rebuchet MS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210920" y="3000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4139280" y="3571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Номер слайда 1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3359160" y="55440"/>
            <a:ext cx="5394240" cy="809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Рисунок 3" descr="лінії.bmp"/>
          <p:cNvPicPr/>
          <p:nvPr/>
        </p:nvPicPr>
        <p:blipFill>
          <a:blip r:embed="rId3"/>
          <a:stretch/>
        </p:blipFill>
        <p:spPr>
          <a:xfrm>
            <a:off x="603360" y="981000"/>
            <a:ext cx="8083440" cy="54561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5667120" y="2500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4d1d"/>
                </a:solidFill>
                <a:latin typeface="Trebuchet MS"/>
              </a:rPr>
              <a:t>y=2x-3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29200" y="1785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2x+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519880" y="3357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2x-0,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Номер слайда 9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rebuchet MS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62080" y="225360"/>
            <a:ext cx="7808760" cy="1609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Администратор\Мои документы\Мои рисунки\расст.bmp"/>
          <p:cNvPicPr/>
          <p:nvPr/>
        </p:nvPicPr>
        <p:blipFill>
          <a:blip r:embed="rId2"/>
          <a:stretch/>
        </p:blipFill>
        <p:spPr>
          <a:xfrm>
            <a:off x="457200" y="1700280"/>
            <a:ext cx="7238880" cy="46656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2714760" y="1928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відстан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6715080" y="60008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(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5000760" y="22860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S=4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1:25:41Z</dcterms:created>
  <dc:creator>Admin</dc:creator>
  <dc:description/>
  <dc:language>en-US</dc:language>
  <cp:lastModifiedBy>Admin</cp:lastModifiedBy>
  <dcterms:modified xsi:type="dcterms:W3CDTF">2011-01-10T10:42:14Z</dcterms:modified>
  <cp:revision>50</cp:revision>
  <dc:subject/>
  <dc:title>Лінійна функція</dc:title>
</cp:coreProperties>
</file>