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37F-EF52-4569-81D9-61FE7AD1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201-05C7-453F-AE9D-AE314A7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096-DA03-4F9D-AC81-D37076B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DE6-FA0F-4CEC-A2FA-42438EF1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E64-9772-4BF7-AC08-642552F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A56-388C-41AA-9D41-C61E841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274-A32E-49CA-A1CF-4DC7461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750-F587-4736-8C11-21820C07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9D7-988E-49A8-9681-FF5BB402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D2C-37F2-472E-8644-2A7DEC7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208-70AB-406C-BC65-D193719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8BE-259A-46E0-802E-2F508312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90F2-85D3-4136-B048-8CCAD5DAAF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7D9-EDF2-42C6-9DB3-59D5E3CC5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y=ax²+bx+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  a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b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-числа (а≠0),х-незалежна змін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рафік-парабола,яка складається з двох віток,симетричних відносно прямої        у=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паралельно осі ордин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&gt;0,вітки параболи напрямлені вгору; а&lt;0-вни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очка(х₀;у₀)-вершина параболи. х₀=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у₀=у(х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ластивості фун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ласть визначення-множ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всіх дійсних чис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ласть значень-[у₀;∞),якщо а&gt;0; (-∞;у₀],якщо а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(0;с)-точка перетину з віссю ордин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=0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²+bx+c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=0,  х₁,х₂- нулі функції,  (х₁;0) і (х₂;0)-точки перетину з віссю абсци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gt;0 функція спадає на проміжку (-∞;х₀), зрост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lt;0  функція зростає на прміжку (-∞;х₀), спад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Администратор\Мои документы\Мои рисунки\нова.bmp"/>
          <p:cNvPicPr/>
          <p:nvPr/>
        </p:nvPicPr>
        <p:blipFill>
          <a:blip r:embed="rId1"/>
          <a:stretch/>
        </p:blipFill>
        <p:spPr>
          <a:xfrm>
            <a:off x="6072120" y="4786200"/>
            <a:ext cx="2786040" cy="18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7929720" y="5214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a&g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504120" y="6143760"/>
            <a:ext cx="12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7"/>
          <p:cNvSpPr/>
          <p:nvPr/>
        </p:nvSpPr>
        <p:spPr>
          <a:xfrm>
            <a:off x="1643040" y="635652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4224240" cy="542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Администратор\Мои документы\Мои рисунки\49.bmp"/>
          <p:cNvPicPr/>
          <p:nvPr/>
        </p:nvPicPr>
        <p:blipFill>
          <a:blip r:embed="rId2"/>
          <a:stretch/>
        </p:blipFill>
        <p:spPr>
          <a:xfrm>
            <a:off x="428760" y="1143000"/>
            <a:ext cx="4000320" cy="442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863080" y="2286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У=4,9х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6"/>
          <p:cNvSpPr/>
          <p:nvPr/>
        </p:nvSpPr>
        <p:spPr>
          <a:xfrm>
            <a:off x="1357200" y="6356520"/>
            <a:ext cx="307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47:37Z</dcterms:created>
  <dc:creator>Admin</dc:creator>
  <dc:description/>
  <dc:language>en-US</dc:language>
  <cp:lastModifiedBy>Admin</cp:lastModifiedBy>
  <dcterms:modified xsi:type="dcterms:W3CDTF">2011-01-10T10:42:47Z</dcterms:modified>
  <cp:revision>29</cp:revision>
  <dc:subject/>
  <dc:title>Квадратична функція</dc:title>
</cp:coreProperties>
</file>