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139-C88D-4444-AF68-7B33DC31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158-A0CE-4715-AFB3-E54FC446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863A-6F6B-4776-9A40-6135B09C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BEF-875D-47E3-8EE9-C3786351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DAE1-E6FC-451A-B365-A5E501A9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0359-E57C-4FD8-BAF3-61E94F14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CCC8-DEF0-4A2B-A93C-2959062C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E45B-3B21-42FC-8AE4-51C16250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4566-1A42-4C4F-951B-854BAE05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2611-A3A5-4CB3-8A7F-448B13AC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56A8-3F6D-4FC8-94EB-2012FCBC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6D03-A490-47BB-9140-760FED04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35C7-6E99-462B-AC0A-D2310B94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21EC-B6F9-46F9-9189-FB0EBF51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4931-21DC-4407-9C68-153079D3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3927-EABD-46DC-8BCB-7AB12F0A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D40C-3FE0-47BD-844A-C7494E77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5D4CE-3702-49FB-A017-72B83AC9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F2ED3-2DB9-47BC-A598-7E3FE58C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0B45A-28C7-49BF-948A-A4BDEB02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6E099-84CD-4840-BE92-E2719AFB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1245F-5D29-4B0A-A4A2-FB19DAB9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1406-9D0D-45DC-8A87-59A9B1B9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78943-42F8-4163-BBCA-DC43C4BA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0DAA9-D624-433E-AE3E-7AA4ECB6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A339F-D091-46D7-B7FB-BA30BEB7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CB060-EDDA-47EB-9B25-79D09F3D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76D17-C597-4A67-A60D-6CC58F3A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5DD82-443D-4E33-8652-16ECADF5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9B9DF-BF8D-4F7A-91C1-3235B006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BF559-B802-43CD-94D0-B1D03C99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3D3DF-F7EF-4E65-91BA-0F1B5F82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26981-F3DF-4A44-AA60-3FD1DE78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074-5508-421C-BC26-C3ED2057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12F67-2D0E-4908-8B22-CAFA7788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1FC48-3BF2-4D2C-A16E-9D64FCFC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2FC73-AB53-42B3-B9EE-032D85C9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9BCC0-7E2F-467B-A884-4C6AEBB8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DE721-1537-4752-A5EB-4BA36619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0617E-B27F-4007-8196-9ABB8F1C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C1707-05E3-4403-B75A-0C7DAD7D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40B37-979A-4C8D-8D7C-C9F90D34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D8770-4C77-4CA3-9923-9A4FAE9A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0CC9F-9D14-46E8-A100-B67B2394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575-DAD3-4BA7-BFCA-8D69A1BC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3F912-9729-4DFD-B06F-1DEE27A0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B3FD1-04C4-4646-92B6-66FCBFEA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A3CB6-11C7-46A0-9FC5-4F190EC4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93637-34DF-4527-8857-CB40D577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9BF40-845D-4994-A29F-B01C025C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D13C9-61B4-421D-A25F-FC0579FE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69689-D1BD-4B5F-A71C-2117378C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4F2B1-1CED-4742-A251-F4B875D4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F413E-31CE-42D2-B139-EA8F5C46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1FAE9-5426-4E55-85F8-9A2B9CD9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184A-032A-4100-8D66-579D9BCD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FC415-A88D-4E7D-93DF-3D9DB0F0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790B0-0BF1-4885-9F56-75D74430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78217-2FF2-4D18-A957-76A34ECD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91A85-FE1F-4FE8-B9D2-8F621941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8CE22-8B0D-48F6-AE53-33F0EC2E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5F394-2CA5-41D1-BE03-BC7CE9CB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98799-0E75-4F81-BBC6-D50A056B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E7D5A-CCFF-481B-B2F9-A2034F9A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0D12B-A951-4031-849B-45D03D81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EA8C2-2ED9-44B6-B92D-EAF33842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DB6B-46A5-48B9-8CD3-50BFDD47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E5504-067D-4481-9F26-7086DCC9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15E0D-9AAB-4CD6-BBE5-892FF550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6C5AE-0061-4701-B463-138E8D22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E3715-8EE9-4380-928F-A4C389C1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1C565-B13E-4322-BDF9-1E7DFD64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4E058-F375-42B1-8889-2514D6AB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ECDD8-B4A8-477B-97B5-866B713C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F4EC9-F602-4C56-BCB4-A665576F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5F487-49C0-4F40-84A8-844EA8DE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CDFBE-8DA1-42AE-9DB2-2BAF0D3F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2FD-0C62-47A2-8A6E-E965C23B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AC55A-9F77-458C-A463-8EBF9C2A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DA9F8-B4F9-4AB7-BF47-3A622B94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EE1AD-FAD8-4B55-91B0-FC4B9B67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669A7-AD4F-4353-B8A9-B38F17B0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A31C6-F9EC-416C-9E91-CC5CB467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30262-9E1A-4FE5-A3F2-5A6C44D6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B0235-871E-4C2D-AB4A-B79141E9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BBBBB-8ABC-40A6-A679-B2BFC895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EB821-27C9-4811-80E8-EDD8C123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E280A-79BC-435E-AD6B-740263A0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E9CF-229C-4C1C-A617-1516FC06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12C98-CF51-45AE-93B2-DCE1B9FE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0FC73-CA35-4855-85F2-607DCC42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741BE-D24B-4EFD-BDB5-F89815E7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087C3-1E3A-44D0-AA6A-19CCA4CC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96982-6CEA-46FF-9BCD-77DAF646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371C0-D565-4F63-80D0-657728EE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B5CC4-F88F-48E2-A81F-9D3B679F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C891-8E48-4BC6-8588-78339193D9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9F7B-B230-4E64-9DC6-74DAD02BD7E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BCCE-1AA6-4803-A2CB-C0E139E0795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9770-14EA-4A7A-9D34-E9E1576F61F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BA88-22B4-4CDD-97B0-8641A53AEE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EDCA-5F64-4B0D-8F9A-42158A603B8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BBB3-8584-4E4F-93C7-47B858077E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7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8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9994-83F8-46D0-879E-850BC3EF2A5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2359080" y="152280"/>
            <a:ext cx="6029280" cy="1090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371600" y="1642680"/>
            <a:ext cx="6400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2" descr="C:\Documents and Settings\Администратор\Мои документы\Мои рисунки\мод.bmp"/>
          <p:cNvPicPr/>
          <p:nvPr/>
        </p:nvPicPr>
        <p:blipFill>
          <a:blip r:embed="rId2"/>
          <a:stretch/>
        </p:blipFill>
        <p:spPr>
          <a:xfrm>
            <a:off x="500040" y="1285920"/>
            <a:ext cx="7500960" cy="492912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"/>
          <p:cNvSpPr/>
          <p:nvPr/>
        </p:nvSpPr>
        <p:spPr>
          <a:xfrm>
            <a:off x="6000840" y="3000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y=</a:t>
            </a:r>
            <a:r>
              <a:rPr b="0" lang="uk-UA" sz="1800" spc="-1" strike="noStrike">
                <a:solidFill>
                  <a:srgbClr val="ff0000"/>
                </a:solidFill>
                <a:latin typeface="Lucida Sans Unicode"/>
              </a:rPr>
              <a:t>І</a:t>
            </a: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x</a:t>
            </a:r>
            <a:r>
              <a:rPr b="0" lang="uk-UA" sz="1800" spc="-1" strike="noStrike">
                <a:solidFill>
                  <a:srgbClr val="ff0000"/>
                </a:solidFill>
                <a:latin typeface="Lucida Sans Unicode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TextBox 5"/>
          <p:cNvSpPr/>
          <p:nvPr/>
        </p:nvSpPr>
        <p:spPr>
          <a:xfrm>
            <a:off x="5236560" y="200016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Lucida Sans Unicode"/>
              </a:rPr>
              <a:t>у=І3хІ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Номер слайда 6"/>
          <p:cNvSpPr/>
          <p:nvPr/>
        </p:nvSpPr>
        <p:spPr>
          <a:xfrm>
            <a:off x="8358120" y="6408720"/>
            <a:ext cx="655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Lucida Sans Unicode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Documents and Settings\Администратор\Мои документы\Мои рисунки\моду.bmp"/>
          <p:cNvPicPr/>
          <p:nvPr/>
        </p:nvPicPr>
        <p:blipFill>
          <a:blip r:embed="rId1"/>
          <a:stretch/>
        </p:blipFill>
        <p:spPr>
          <a:xfrm>
            <a:off x="1060560" y="1481040"/>
            <a:ext cx="7022880" cy="4525920"/>
          </a:xfrm>
          <a:prstGeom prst="rect">
            <a:avLst/>
          </a:prstGeom>
          <a:ln w="0">
            <a:noFill/>
          </a:ln>
        </p:spPr>
      </p:pic>
      <p:pic>
        <p:nvPicPr>
          <p:cNvPr id="377" name="Заголовок 1" descr=""/>
          <p:cNvPicPr/>
          <p:nvPr/>
        </p:nvPicPr>
        <p:blipFill>
          <a:blip r:embed="rId2"/>
          <a:stretch/>
        </p:blipFill>
        <p:spPr>
          <a:xfrm>
            <a:off x="390600" y="244440"/>
            <a:ext cx="8362800" cy="1279440"/>
          </a:xfrm>
          <a:prstGeom prst="rect">
            <a:avLst/>
          </a:prstGeom>
          <a:ln w="0">
            <a:noFill/>
          </a:ln>
        </p:spPr>
      </p:pic>
      <p:sp>
        <p:nvSpPr>
          <p:cNvPr id="378" name="TextBox 7"/>
          <p:cNvSpPr/>
          <p:nvPr/>
        </p:nvSpPr>
        <p:spPr>
          <a:xfrm>
            <a:off x="6143760" y="31431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Lucida Sans Unicode"/>
              </a:rPr>
              <a:t>у=І- х</a:t>
            </a:r>
            <a:r>
              <a:rPr b="1" lang="uk-UA" sz="1800" spc="-1" strike="noStrike" baseline="30000">
                <a:solidFill>
                  <a:srgbClr val="0070c0"/>
                </a:solidFill>
                <a:latin typeface="Lucida Sans Unicode"/>
              </a:rPr>
              <a:t>2</a:t>
            </a:r>
            <a:r>
              <a:rPr b="1" lang="uk-UA" sz="1800" spc="-1" strike="noStrike">
                <a:solidFill>
                  <a:srgbClr val="0070c0"/>
                </a:solidFill>
                <a:latin typeface="Lucida Sans Unicode"/>
              </a:rPr>
              <a:t>+6х-8І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8215200" y="642924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3" descr="C:\Documents and Settings\Администратор\Мои документы\Мои рисунки\модпар.bmp"/>
          <p:cNvPicPr/>
          <p:nvPr/>
        </p:nvPicPr>
        <p:blipFill>
          <a:blip r:embed="rId1"/>
          <a:stretch/>
        </p:blipFill>
        <p:spPr>
          <a:xfrm>
            <a:off x="1060560" y="1481040"/>
            <a:ext cx="7022880" cy="4525920"/>
          </a:xfrm>
          <a:prstGeom prst="rect">
            <a:avLst/>
          </a:prstGeom>
          <a:ln w="0">
            <a:noFill/>
          </a:ln>
        </p:spPr>
      </p:pic>
      <p:pic>
        <p:nvPicPr>
          <p:cNvPr id="381" name="Заголовок 1" descr=""/>
          <p:cNvPicPr/>
          <p:nvPr/>
        </p:nvPicPr>
        <p:blipFill>
          <a:blip r:embed="rId2"/>
          <a:stretch/>
        </p:blipFill>
        <p:spPr>
          <a:xfrm>
            <a:off x="390600" y="244440"/>
            <a:ext cx="8362800" cy="1279440"/>
          </a:xfrm>
          <a:prstGeom prst="rect">
            <a:avLst/>
          </a:prstGeom>
          <a:ln w="0">
            <a:noFill/>
          </a:ln>
        </p:spPr>
      </p:pic>
      <p:sp>
        <p:nvSpPr>
          <p:cNvPr id="382" name="TextBox 4"/>
          <p:cNvSpPr/>
          <p:nvPr/>
        </p:nvSpPr>
        <p:spPr>
          <a:xfrm>
            <a:off x="6131880" y="421488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Lucida Sans Unicode"/>
              </a:rPr>
              <a:t>у= - х</a:t>
            </a:r>
            <a:r>
              <a:rPr b="0" lang="uk-UA" sz="1800" spc="-1" strike="noStrike" baseline="30000">
                <a:solidFill>
                  <a:srgbClr val="ff0000"/>
                </a:solidFill>
                <a:latin typeface="Lucida Sans Unicode"/>
              </a:rPr>
              <a:t>2</a:t>
            </a:r>
            <a:r>
              <a:rPr b="0" lang="uk-UA" sz="1800" spc="-1" strike="noStrike">
                <a:solidFill>
                  <a:srgbClr val="ff0000"/>
                </a:solidFill>
                <a:latin typeface="Lucida Sans Unicode"/>
              </a:rPr>
              <a:t>+6ІхІ-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8160480" y="62150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C:\Documents and Settings\Администратор\Мои документы\Мои рисунки\м.bmp"/>
          <p:cNvPicPr/>
          <p:nvPr/>
        </p:nvPicPr>
        <p:blipFill>
          <a:blip r:embed="rId1"/>
          <a:stretch/>
        </p:blipFill>
        <p:spPr>
          <a:xfrm>
            <a:off x="1060560" y="1481040"/>
            <a:ext cx="7022880" cy="4525920"/>
          </a:xfrm>
          <a:prstGeom prst="rect">
            <a:avLst/>
          </a:prstGeom>
          <a:ln w="0">
            <a:noFill/>
          </a:ln>
        </p:spPr>
      </p:pic>
      <p:pic>
        <p:nvPicPr>
          <p:cNvPr id="385" name="Заголовок 1" descr=""/>
          <p:cNvPicPr/>
          <p:nvPr/>
        </p:nvPicPr>
        <p:blipFill>
          <a:blip r:embed="rId2"/>
          <a:stretch/>
        </p:blipFill>
        <p:spPr>
          <a:xfrm>
            <a:off x="237960" y="219240"/>
            <a:ext cx="8820360" cy="1023840"/>
          </a:xfrm>
          <a:prstGeom prst="rect">
            <a:avLst/>
          </a:prstGeom>
          <a:ln w="0">
            <a:noFill/>
          </a:ln>
        </p:spPr>
      </p:pic>
      <p:sp>
        <p:nvSpPr>
          <p:cNvPr id="386" name="TextBox 4"/>
          <p:cNvSpPr/>
          <p:nvPr/>
        </p:nvSpPr>
        <p:spPr>
          <a:xfrm>
            <a:off x="5087880" y="3000240"/>
            <a:ext cx="8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Lucida Sans Unicode"/>
              </a:rPr>
              <a:t>у=Іх</a:t>
            </a:r>
            <a:r>
              <a:rPr b="1" lang="uk-UA" sz="1800" spc="-1" strike="noStrike" baseline="30000">
                <a:solidFill>
                  <a:srgbClr val="00b050"/>
                </a:solidFill>
                <a:latin typeface="Lucida Sans Unicode"/>
              </a:rPr>
              <a:t>3</a:t>
            </a:r>
            <a:r>
              <a:rPr b="1" lang="uk-UA" sz="1800" spc="-1" strike="noStrike">
                <a:solidFill>
                  <a:srgbClr val="00b050"/>
                </a:solidFill>
                <a:latin typeface="Lucida Sans Unicode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8143920" y="635796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7:54:04Z</dcterms:created>
  <dc:creator>Admin</dc:creator>
  <dc:description/>
  <dc:language>en-US</dc:language>
  <cp:lastModifiedBy>Admin</cp:lastModifiedBy>
  <dcterms:modified xsi:type="dcterms:W3CDTF">2011-01-10T10:43:01Z</dcterms:modified>
  <cp:revision>7</cp:revision>
  <dc:subject/>
  <dc:title> МОДУЛЬ</dc:title>
</cp:coreProperties>
</file>