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F96-062B-4F9C-B4A1-1B4F0B17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583-4725-4717-8CD6-3B57EBE7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482BB-688E-440E-9C45-4C9C75A9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71E22-7D0D-4325-A601-A8083A9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6B5B3-CB41-45C8-B94A-3F5562C0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59ABE-A8C8-4C2F-A9BD-A762534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C18B-9804-425A-A8BC-025C401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B7B33-14DB-4605-8129-9E3D1860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97B3E-2659-4610-84B7-22F4778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14083-65D6-40B4-931F-53E4AB1C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79526-859A-4B28-8013-6E9E8DC9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3E4-B49A-4B52-A3BC-1D70E3E2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84A-1039-4E94-A277-6B990CD6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DB71-E19F-44CB-962A-E3AAFBD0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D80D-405C-4277-BC8B-DC7993E1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CB42-1D7C-4911-94B4-675FE155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0DD-AD42-47E7-B298-B2AA629E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78E0-5013-49D6-9D85-3ACEC8C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4976-89F8-4BD6-B74E-A61907F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40A4-8ED8-4E66-8322-5DB5A733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71D-10F7-4C18-89B5-BDF4AE69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50D-A84A-42AD-BDBB-44B5672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C25-D960-41E6-B384-2FE43B0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79CF-EDCD-4E07-AB6E-30D2CDB2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122B-7372-4CA5-BFE2-026F2878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D3CB-0B99-4A50-A501-97AC2DD6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8929-57B6-49C4-892C-C32E85F5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C44D-D5BA-4F7A-AFA4-80712083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AAA8-F19A-44BF-A306-88D71A0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7619-4E4F-44B4-A709-CDC2F773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FE04-0166-41FC-AE09-D47AF784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841-3966-42FE-8A4F-18E5E47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7C43-653D-4A8D-83D5-8F81051F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768D-D7F7-4088-BD3A-FD8EF7C2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4804-0A85-4FEE-987C-22EC07D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F8A9-38AE-4721-BF9C-907B75C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3A9F-D0F0-41D0-98EE-DDE3EB38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AC14-8F83-4AC7-A5CE-211D0CCF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50C5-EF7F-4850-8FE5-D710B271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1148-E6B3-4508-B8FE-50B87C32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28ED-CF2F-41F0-925B-BA1A7A65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F0FE-0AD0-402B-89B3-43EBC429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B5C-A080-473D-AE37-87DF80FA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BFE0-6876-469A-BA47-49FA3D22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7031-D9B3-455A-B045-805EF1B2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6B91-F195-49B3-9928-5EF8E74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B28F-61A8-44B6-BC8A-B1EE268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12A8-884E-4C69-B267-4635DE76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535E-8983-419B-A307-7EA049F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A7E5-F068-44C1-B6C9-CD07FEF5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BA29-285C-417B-A1DF-9F6ED7DB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7BAE-1B8C-43E8-8D32-851F19C8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A423-39DC-4AD7-B171-7318C2DD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7CC-3F8B-4BD3-81B7-2789726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023CD-15F8-4BCD-AB26-A29EC23F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57A1-AAE9-42A4-80F3-DF17304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06869-1942-4479-A3FF-BB6F268A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3B47-70CD-4D0D-8598-47E9BDE0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B76D-E3DB-4C1E-9DAE-4ABFD679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DDEE5-BC4F-4586-B337-34C82CF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7C1B-7D2E-4370-9684-2E513D1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4D05-D14F-4CD0-AEFF-B20F78F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35D8-442C-407A-BC91-5FC889E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4B55-A9F7-4CED-B7C2-3EDA5023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414-BBD9-4C68-AE80-99FE8DB6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4BE3-FCB7-4765-913B-10789953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F22DD-1E81-40DB-B6F7-E3EBCEA4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E267-EAF0-4611-8AEA-27488E4D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7CF7-4375-4C18-8125-BBA941F0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489A1-6605-4444-BDDD-6D0A4892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07F3-2284-44D5-B1D6-6665CC0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5CAF0-667E-4F3B-90E9-26C467B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D830-F830-4C2A-9962-FD83083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CC2E-0B30-4B13-BC26-3E5A6BE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B60CC-7F48-4E35-A41B-E11EEC4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3F1-E82F-4228-8241-C3A491E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3BE85-0C57-461A-A9CB-0A1F207E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8B95A-213E-44D5-A054-D9000CD3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672E5-2CE5-4FC2-A258-280EDB6F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D837-DAF4-45B7-83FB-AF8271AE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79042-3732-43A2-B08E-4001C10F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B3184-05DD-4168-A6B4-BAA5BA0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8DB8-F0BC-4CBC-ADBD-B603C3A4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7825-81B6-4DF4-82C4-A4CE36E8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98318-3CC2-4DDF-8EBE-28FEB1E1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8086-3780-4657-BD52-028D9C59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CA8-885A-40E6-839D-CC36E98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8FE0-28A0-47AA-B6C1-0A24BC2F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FB89E-CD9C-4B58-A744-8B5C1A3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D1CDD-CC5D-4365-8C64-3291333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EEA9D-BFE2-411E-AD62-B68768DF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B73D-ABCE-4B09-B205-5AA139E8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4F3F-BE3D-43E5-AE42-75978E57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48B28-7128-412D-9E05-34C2F12D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88F5-750F-4991-AE17-2925AD38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5B0D4-5B7C-47BE-A7D9-E4C677B4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756C-EC07-4EAB-B79B-284E33B2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930-8713-4EA9-A614-48A8B02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6B4C-C43D-42F5-B10D-776FDAE0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24693-7227-4255-8A85-59AB39C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C2A2-2E4E-499D-8861-C6D2633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031AA-1E8C-43B3-B650-9D98F3CD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A68CA-ECEC-43BF-BB35-83752E1A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1B95A-C0F5-4CCF-8C25-6AD503DA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6E296-7E97-49BF-A36E-06983272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3FA61-97EC-4924-A855-DFBDDE09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6755F-DB0B-434F-8B96-C7BDCA8D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E429-667F-4984-821B-A46C2E7E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CDF8-EA8B-40DA-9B17-202EDE2B15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B1C-CBB7-43C3-9BA1-3CFA6AE913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6F3-15F0-460A-9782-3AD26B910E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850-03AE-403D-BB74-CCDC76DD4F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E382-28ED-4CA3-819E-F14F726669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DFF-7B82-45CA-9267-B2820F90DA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B4E-8C0C-427F-9CD4-444F07A1DF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2FD3-41F6-4176-BDCF-36A6F02C57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8B5-F637-4ABA-9545-866AE621A1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01600" y="407880"/>
            <a:ext cx="8886960" cy="1328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ю, яку можна задати формулою у=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/x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, де k-число відмінне від нуля,а х- незалежна змінна називатимемо </a:t>
            </a:r>
            <a:r>
              <a:rPr b="1" lang="uk-UA" sz="2000" spc="-1" strike="noStrike">
                <a:solidFill>
                  <a:srgbClr val="7c4b3b"/>
                </a:solidFill>
                <a:latin typeface="Franklin Gothic Book"/>
              </a:rPr>
              <a:t>оберненою</a:t>
            </a:r>
            <a:r>
              <a:rPr b="1" lang="en-US" sz="2000" spc="-1" strike="noStrike">
                <a:solidFill>
                  <a:srgbClr val="7c4b3b"/>
                </a:solidFill>
                <a:latin typeface="Franklin Gothic Book"/>
              </a:rPr>
              <a:t>  </a:t>
            </a:r>
            <a:r>
              <a:rPr b="1" lang="uk-UA" sz="2000" spc="-1" strike="noStrike">
                <a:solidFill>
                  <a:srgbClr val="7c4b3b"/>
                </a:solidFill>
                <a:latin typeface="Franklin Gothic Book"/>
              </a:rPr>
              <a:t>пропорційніст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Графіком є крива, яка називається </a:t>
            </a:r>
            <a:r>
              <a:rPr b="1" i="1" lang="uk-UA" sz="2000" spc="-1" strike="noStrike">
                <a:solidFill>
                  <a:srgbClr val="7c4b3b"/>
                </a:solidFill>
                <a:latin typeface="Franklin Gothic Book"/>
              </a:rPr>
              <a:t>гіпербол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Гіпербола складається з двох віт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k&gt;0,то графік розташований у І і ІІІ координатних чвертях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&lt;0- у ІІ і ІV чверт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ернена функція має свої неабиякі властивості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ласть визначення-всі дійсні числа,крім 0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Область значень-всі дійсні числа ,крім  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я непарна,отже графік симетричний відносно початку координат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Функція не має нулів.Графік не перетинає осі координа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 &lt;0 функція зростає на всій області визначенн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якщо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uk-UA" sz="2000" spc="-1" strike="noStrike">
                <a:solidFill>
                  <a:srgbClr val="4e3b30"/>
                </a:solidFill>
                <a:latin typeface="Franklin Gothic Book"/>
              </a:rPr>
              <a:t>  &gt;0 –спадає на всій області визначенн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858080" y="64292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517680" y="139680"/>
            <a:ext cx="794988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21556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4" name="Содержимое 3" descr="обернена.bmp"/>
          <p:cNvPicPr/>
          <p:nvPr/>
        </p:nvPicPr>
        <p:blipFill>
          <a:blip r:embed="rId3"/>
          <a:stretch/>
        </p:blipFill>
        <p:spPr>
          <a:xfrm>
            <a:off x="-23760" y="1268280"/>
            <a:ext cx="7289640" cy="51325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4618800" y="29289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Franklin Gothic Book"/>
              </a:rPr>
              <a:t>К&gt;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571840" y="3071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c4b3b"/>
                </a:solidFill>
                <a:latin typeface="Franklin Gothic Book"/>
              </a:rPr>
              <a:t>К&lt;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8358120" y="6357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1:27:15Z</dcterms:created>
  <dc:creator>Admin</dc:creator>
  <dc:description/>
  <dc:language>en-US</dc:language>
  <cp:lastModifiedBy>Admin</cp:lastModifiedBy>
  <dcterms:modified xsi:type="dcterms:W3CDTF">2011-01-10T10:43:17Z</dcterms:modified>
  <cp:revision>24</cp:revision>
  <dc:subject/>
  <dc:title>Обернена пропорційність</dc:title>
</cp:coreProperties>
</file>