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096-D94D-4CD5-8DC1-0E4D1C93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B3D-108B-4FC5-B2BD-34EECA79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9E7-FABD-46A3-AAC7-5D81C74E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B7C-3485-48F5-83E7-E8C1CEE1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4DE-4B5C-4A36-8517-376D798E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E4D5-8725-49B7-99B5-49C5678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C5D9-E959-4A76-8C50-F1D5D0F9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B73A-3E0C-4F46-99FE-88EF8EFA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C6F8-50A0-4F85-ADC6-C200703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E85F-B869-488D-99C9-9CE3AC8B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4EB4-0995-455E-8D1C-C5D1B13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E15-E837-483B-9307-AD5D1BEF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ACAC-5D0B-4C1E-AB1E-B54D53E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E756-E1DA-46FA-AB40-7C5A3EC9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73E7-1679-4F29-AFC6-548EB5DC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228C-5583-42AD-BFED-EDF81B81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1D72-5DDD-4FB8-825B-10458C11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1935-1769-44A0-870D-E600AEFA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6DFF-6D3B-410B-9BF2-B81F9DC1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866E-8F8E-43D2-91E5-F3026A64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1CA4-A1C8-4689-B493-46484531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636A-9AED-4059-8139-2F675ED5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44E-8CFE-4C3A-9607-06453F8E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CC27-610D-4D27-852C-27079C66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F516-74E3-4569-8DE1-F937E5C7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02CB-4AC8-468C-A6B3-8CEF3A9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E117-21DC-4DA8-9F7D-DD930EFB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FA2F-1B11-4444-A33B-F9079437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5AE6-4254-470A-A168-879881E9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79D02-06D7-4508-85F7-B13235FE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915D-6037-4DE5-B09C-49084F98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98D0A-6C29-4271-A672-DE38C779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B1091-6FC3-458E-8168-E8C74007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E81-D189-4198-A33B-1B502D83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5A87-B7B3-4B56-BA48-CE52E6A5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8430-65E0-47AE-975F-4CC29260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79E4-1645-4FBC-B4B3-10D6DD3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D8A38-CB22-4F8B-AAF1-F2EA86E9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EFBD-7CA3-4B9D-82E7-1E457C2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E8650-E882-43C6-A069-A6893E4B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71170-BEC9-493D-8101-ABCF513B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F1A2B-20C6-4D5F-9728-347B1805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42196-1DAB-4DDB-9873-55B928E2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56A38-CC5C-4449-AA5B-F4B9E3AF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73B-4E26-4624-AAE0-179A115C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9871E-D726-4B06-8FD3-28D61CE1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DEB73-84C7-40FD-9236-87BFA55C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400A4-1E53-42DA-A1C7-5D790680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BF5BD-9074-498C-A8EE-2E07AC66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C5146-C904-424C-8F18-43228AC2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208A-8488-49F2-9DA9-DA10A56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E75B9-7B5F-4F5E-91A7-0BD42B7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F65A-0479-4622-BA00-8D51C753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649C-16E1-4DD9-9E79-47C91FC7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2C7A-7999-48C4-ADFB-D2C5FE02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8DB-CBB2-43BE-8239-E603C4D7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EDB7-BBBE-40C8-B517-6121FDE8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28206-06E1-4F90-8CA1-AEE62D93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E6F2D-D072-4626-BB3F-D410C03E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0E69B-C068-4E6B-BFE4-2E9244E9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8A3E2-3DEB-4DFE-8ABB-A80F9FF2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1C6D-3E1A-4274-BCC0-874BAF09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F61B8-6414-46AD-8F37-292A60BE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FBB6A-2CAE-402C-944B-424C777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E4D0-BEB3-41AF-8AD7-7BC59BFC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3F06-8A30-41AE-AD1D-CC49F1C6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246-E36F-49D2-A2B8-906DFEDF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CB3C0-BC71-4600-B89A-2DF29422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6CB8F-1474-4AEF-AA5E-4679B860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8F859-AC3B-4B75-AED8-F09D3602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1FE-2482-47FC-82A0-11E757A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F8E-ABD9-4E7E-9FC1-B2F686B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3366-E31A-476A-B8F6-A40641DC9EED}" type="datetime">
              <a:rPr b="0" lang="ru-RU" sz="1000" spc="-1" strike="noStrike">
                <a:solidFill>
                  <a:srgbClr val="b13f9a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BC27-0F58-41A3-B14B-9147623EDFE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9B63-DE39-48E6-B9EB-1E2DF03DF2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58CD-91F9-405D-A0CF-2D6298948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8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88F-A07A-429B-A47C-6B57A22F21FB}" type="datetime">
              <a:rPr b="0" lang="ru-RU" sz="1000" spc="-1" strike="noStrike">
                <a:solidFill>
                  <a:srgbClr val="ffffff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39AF-FB20-4095-BBCD-C9A22F5B5F0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E501-92F9-4145-BA65-63FB6C7E2CCB}" type="datetime">
              <a:rPr b="0" lang="ru-RU" sz="1000" spc="-1" strike="noStrike">
                <a:solidFill>
                  <a:srgbClr val="b13f9a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4ABF-CC62-4517-8EF6-13C91CEB188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E492-5CC3-4585-A66A-28F16D0E8E6F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FCC7-CA6B-4E18-AA11-45170DA3D9C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B37E-C7BB-4E62-9A1A-A530A3866114}" type="datetime">
              <a:rPr b="0" lang="ru-RU" sz="1000" spc="-1" strike="noStrike">
                <a:solidFill>
                  <a:srgbClr val="b13f9a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4AEF-B499-4AE5-B7AE-9A0377A7577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7255080" cy="1083960"/>
          </a:xfrm>
          <a:prstGeom prst="rect">
            <a:avLst/>
          </a:prstGeom>
          <a:ln w="0">
            <a:noFill/>
          </a:ln>
        </p:spPr>
      </p:pic>
      <p:pic>
        <p:nvPicPr>
          <p:cNvPr id="262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90840"/>
            <a:ext cx="7255080" cy="4883040"/>
          </a:xfrm>
          <a:prstGeom prst="rect">
            <a:avLst/>
          </a:prstGeom>
          <a:ln w="0">
            <a:noFill/>
          </a:ln>
        </p:spPr>
      </p:pic>
      <p:sp>
        <p:nvSpPr>
          <p:cNvPr id="263" name="Номер слайда 8"/>
          <p:cNvSpPr/>
          <p:nvPr/>
        </p:nvSpPr>
        <p:spPr>
          <a:xfrm>
            <a:off x="6251400" y="6500880"/>
            <a:ext cx="749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Администратор\Мои документы\44.bmp"/>
          <p:cNvPicPr/>
          <p:nvPr/>
        </p:nvPicPr>
        <p:blipFill>
          <a:blip r:embed="rId2"/>
          <a:stretch/>
        </p:blipFill>
        <p:spPr>
          <a:xfrm>
            <a:off x="433440" y="1427040"/>
            <a:ext cx="7289640" cy="49737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5425200" y="26431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y=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4988520" y="20718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rebuchet MS"/>
              </a:rPr>
              <a:t>y=kx+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2643120" y="5786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y=kx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4071960" y="4357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3854520" y="2643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Номер слайда 10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2x+3.bmp"/>
          <p:cNvPicPr/>
          <p:nvPr/>
        </p:nvPicPr>
        <p:blipFill>
          <a:blip r:embed="rId2"/>
          <a:stretch/>
        </p:blipFill>
        <p:spPr>
          <a:xfrm>
            <a:off x="433440" y="1700280"/>
            <a:ext cx="7289640" cy="4700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6"/>
          <p:cNvSpPr/>
          <p:nvPr/>
        </p:nvSpPr>
        <p:spPr>
          <a:xfrm>
            <a:off x="4429080" y="25002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Trebuchet MS"/>
              </a:rPr>
              <a:t>К&gt;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14800" y="257184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rebuchet MS"/>
              </a:rPr>
              <a:t>К&lt;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210920" y="3000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4139280" y="3571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Номер слайда 1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3359160" y="55440"/>
            <a:ext cx="5394240" cy="8096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Рисунок 3" descr="лінії.bmp"/>
          <p:cNvPicPr/>
          <p:nvPr/>
        </p:nvPicPr>
        <p:blipFill>
          <a:blip r:embed="rId3"/>
          <a:stretch/>
        </p:blipFill>
        <p:spPr>
          <a:xfrm>
            <a:off x="603360" y="981000"/>
            <a:ext cx="8083440" cy="54561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5667120" y="2500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4d1d"/>
                </a:solidFill>
                <a:latin typeface="Trebuchet MS"/>
              </a:rPr>
              <a:t>y=2x-3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929200" y="1785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y=2x+3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5519880" y="3357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y=2x-0,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Номер слайда 9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rebuchet MS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262080" y="225360"/>
            <a:ext cx="7808760" cy="1609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Администратор\Мои документы\Мои рисунки\расст.bmp"/>
          <p:cNvPicPr/>
          <p:nvPr/>
        </p:nvPicPr>
        <p:blipFill>
          <a:blip r:embed="rId2"/>
          <a:stretch/>
        </p:blipFill>
        <p:spPr>
          <a:xfrm>
            <a:off x="457200" y="1700280"/>
            <a:ext cx="7238880" cy="46656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2714760" y="19288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(відстань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Box 8"/>
          <p:cNvSpPr/>
          <p:nvPr/>
        </p:nvSpPr>
        <p:spPr>
          <a:xfrm>
            <a:off x="6715080" y="60008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(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час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Box 9"/>
          <p:cNvSpPr/>
          <p:nvPr/>
        </p:nvSpPr>
        <p:spPr>
          <a:xfrm>
            <a:off x="5000760" y="228600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S=4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Номер слайда 10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1:25:41Z</dcterms:created>
  <dc:creator>Admin</dc:creator>
  <dc:description/>
  <dc:language>en-US</dc:language>
  <cp:lastModifiedBy>Admin</cp:lastModifiedBy>
  <dcterms:modified xsi:type="dcterms:W3CDTF">2011-01-10T10:42:14Z</dcterms:modified>
  <cp:revision>50</cp:revision>
  <dc:subject/>
  <dc:title>Лінійна функція</dc:title>
</cp:coreProperties>
</file>