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4AB-0A22-4090-96EA-798B192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4A3-AC45-43D2-9543-423D1DE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60586-1EEE-4683-B477-D67C2D6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66A9-F779-403A-84F7-46BBC6F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7854-E538-46FE-9344-84F6465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5F654-7194-401A-9177-F678377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789DD-768A-4FD0-A6D0-9898C15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58BB8-530C-4FA1-99DA-CF9E02B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646A3-4C01-42E8-A1B7-3FDF795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BE7C6-1627-4765-9EE5-1FE51DCD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356FE-C261-4387-9437-A2AC206B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567-C31F-48A5-998A-9D52C0CF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712-6659-48BD-88DD-E8E2A15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1F78-0A47-4CDA-B632-189E60E1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9E6-2B70-4B59-95A0-C7D8921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421-68CA-4ECA-BA23-06565F9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48B-50F8-4C72-A111-871AD6E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542E-6A37-468E-B563-18F2C57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1294-B5BD-4840-9641-71DEEDD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939-EC9F-4F09-967B-84E60201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512-7D00-4E97-957C-189196B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FD6-6CC7-4684-A94B-D8A8309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671-97BB-49A7-9FC4-EDAC059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AE2-F511-477A-ADDB-912A8BA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EDE-141A-4678-945A-DA80FD80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1AB-BCE9-4CC5-8B63-239BB8CA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641A-175D-470D-98D6-552DE89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DBF1-71E5-4216-BCCF-5B5B3985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376D-6076-4F92-B1C2-D24F1CFD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6E73-78FA-493F-83E5-E54B450E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2C79-B18E-4D70-8CC9-99A01945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17E-6425-4825-A989-2466A96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5F2D-F98F-4F94-90C0-E60DB9FE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9DF-A32B-4069-B51D-6BCDB32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E2A2-8F07-4FB8-9C48-21846F5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C89B-FBE1-462F-829E-E211579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30F5-272A-40F6-A490-BEBE9CD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2710-23C0-4B5C-9026-CFBA6DB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E9F9-BEFF-4B28-90CB-17D1902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BB17-1880-4913-9A39-9423F6B6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E468-A242-436A-98A5-164819F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13D6-F55B-44A8-BBA8-3CF1D67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A28-B1A9-44C1-BCD0-DC826CAD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0762-F532-445C-A860-FF155F0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B2A1-D613-491A-B14C-AD14D297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6302-B7F0-4E9C-94A7-41D5559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9B5F-23A9-44B1-8FE3-2F6C2AE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8EB9-AC0C-4423-90F8-771265A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E1BF-8056-4289-A75C-FA4FBBC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4C5C-94A0-4744-B8A3-CEA19FB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C29D-1C60-4A73-BE08-5073BADE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D46C-2847-4A34-B596-9690F504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46FF-F7D9-4352-9485-98499414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6D1-D4B3-4B7F-BC99-440F9A8B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A864-551C-4AE2-82C6-8996CDE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5EC6-1D76-4717-9E4D-2FFE5357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197E-000D-415D-B5E9-A283F3B5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BAE9-F52B-4544-97D0-74C0541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6085-61CB-49A6-AFB6-7709CA6C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0B5CB-404A-4EB5-948A-9FFB4E2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E0F9-A826-4CDA-9EDA-BEEE8DC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ECC1-E1AA-490F-BD25-2A8FDED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096A-586A-4D1B-B016-B304AEA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8F94-4882-45DC-A400-637E851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AAC-393A-4366-9935-A0E8815B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2544-5FAF-44E0-A7F2-F6FFE6E7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F7DE-BC45-4208-B396-1B62C4C6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92C5-DD4D-465C-8E40-B42F642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625F-7FC8-44B6-B37E-BA217BC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CA9F-3C05-4970-8ED6-6736557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367C-68FE-42EF-BA67-3C24FCA1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8F43-8B8F-4CBD-BFD6-9BA09BD5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86E3-C3AC-4CD3-B28F-BE4C45A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0EE9-24F2-43FF-937E-4E4B42B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CBC5-7D6A-4C15-B26B-8A263D2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47A-6927-41D7-A76D-4055641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EB0B-1128-4AE1-9A29-BEADD93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3E93-7C1E-4A24-A35B-3E4CBC0C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044D-B800-4592-9BDD-C8423F47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E151-4B50-4CB6-BFD5-310BFCC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05E0-0637-4FC6-9E83-51B2E4C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A0BF-AE1B-4A80-9404-37FC1BD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9507-998C-44A7-A76D-68D2AECD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1D36-887E-4B57-9056-65595BDB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11818-3D27-4EED-8C5F-3865E68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E4FF-D3E5-4D37-8658-35D5072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DC2-2E28-47B0-98BB-A6B1C9E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4C06-36CA-4A54-9600-82E32BC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85FD-D5E2-44AF-AF99-7FE3915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1C0C-90E0-4B9C-834D-6CEA156A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CF7A-884E-4E2B-ACF1-F67909FC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4CAA-9CA8-4A15-BFBC-4681A5B5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A1CF1-48CE-4509-9FDE-33908A75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E931-B502-4183-AE8B-AD401A1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84E5-BEFC-43AB-B5B0-1656A44E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FCC7-89EF-489B-8455-B3B73BB7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98CA-9DD8-41F0-BCFE-456A821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E80-53DA-434E-AC0E-DA38418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60B6-903A-498D-978B-023F31E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097C-EEFA-43F2-84FA-EAB6C4F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541A-DB12-490E-8006-9B5A1A8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52685-EEB3-45A9-94FF-5742C46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6514-BD88-4637-8C70-C6B37D7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ADED4-1DC2-4200-84B7-4D23809A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11D0-9D44-4A1A-A810-AEBCA841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541EC-2345-4410-BD16-538632ED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5D734-93ED-4291-A2C7-FDCD17F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E0B31-5201-453A-A2AC-3E683B6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5C9F-CD4C-4B6B-975A-613CB375F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7BB-E079-446C-A246-4768BA8955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EFC-21F8-4DF7-B527-C8CC1B3DEB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3A0-9E50-4292-B024-5B94141AFD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360-4CE2-4840-8E77-D18B407FF8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4CC-B7A2-422C-9DDE-02E79D8D54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D415-CAF1-417D-B956-E86E1F0900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38F-84AC-4D11-A2DC-DBDE61F02B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2D74-EB3E-41C1-B2E2-2B199E4117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01600" y="407880"/>
            <a:ext cx="8886960" cy="1328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ю, яку можна задати формулою у=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/x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, де k-число відмінне від нуля,а х- незалежна змінна називатимемо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оберненою</a:t>
            </a:r>
            <a:r>
              <a:rPr b="1" lang="en-US" sz="2000" spc="-1" strike="noStrike">
                <a:solidFill>
                  <a:srgbClr val="7c4b3b"/>
                </a:solidFill>
                <a:latin typeface="Franklin Gothic Book"/>
              </a:rPr>
              <a:t> 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пропорційніст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рафіком є крива, яка називається </a:t>
            </a:r>
            <a:r>
              <a:rPr b="1" i="1" lang="uk-UA" sz="2000" spc="-1" strike="noStrike">
                <a:solidFill>
                  <a:srgbClr val="7c4b3b"/>
                </a:solidFill>
                <a:latin typeface="Franklin Gothic Book"/>
              </a:rPr>
              <a:t>гіпербол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іпербола складається з двох віт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k&gt;0,то графік розташований у І і ІІІ координатних чвертя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&lt;0- у ІІ і ІV чверт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ернена функція має свої неабиякі властивості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визначення-всі дійсні числа,крім 0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значень-всі дійсні числа ,крім  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парна,отже графік симетричний відносно початку координат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 має нулів.Графік не перетинає осі координа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&lt;0 функція зростає на всій області визначенн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 &gt;0 –спадає на всій області визначенн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858080" y="64292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517680" y="139680"/>
            <a:ext cx="794988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4" name="Содержимое 3" descr="обернена.bmp"/>
          <p:cNvPicPr/>
          <p:nvPr/>
        </p:nvPicPr>
        <p:blipFill>
          <a:blip r:embed="rId3"/>
          <a:stretch/>
        </p:blipFill>
        <p:spPr>
          <a:xfrm>
            <a:off x="-23760" y="1268280"/>
            <a:ext cx="7289640" cy="51325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4618800" y="29289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Franklin Gothic Book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571840" y="3071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c4b3b"/>
                </a:solidFill>
                <a:latin typeface="Franklin Gothic Book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8358120" y="6357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27:15Z</dcterms:created>
  <dc:creator>Admin</dc:creator>
  <dc:description/>
  <dc:language>en-US</dc:language>
  <cp:lastModifiedBy>Admin</cp:lastModifiedBy>
  <dcterms:modified xsi:type="dcterms:W3CDTF">2011-01-10T10:43:17Z</dcterms:modified>
  <cp:revision>24</cp:revision>
  <dc:subject/>
  <dc:title>Обернена пропорційність</dc:title>
</cp:coreProperties>
</file>