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37A-30D8-4927-AC78-567F19D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AF1-8144-4CEE-9343-246072A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99C-5EE7-4C0A-9862-B43B6A17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6B9-7602-4DA1-86FE-86088A02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38A1-2E51-4F63-B6A5-C3C069FA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88E-5A81-4511-BA5E-8316095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6859-16B7-4A36-9B51-79623959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DB39-E7BE-445B-B46A-07D1BDED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CCB4-EAD5-4078-BBFB-667A5DC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F5DC-1A08-498A-A0E9-6723E0EF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1D59-BDF3-48D4-BF2A-7F5ECBF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414-59C0-4273-889A-9443A3E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E25-1405-4AD4-BAA9-79BFB73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AD31-7D47-4D3E-A12E-7A89E17B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5D4-DE38-43AC-ACFA-2468ED9D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A59E-412B-4166-AE61-9515E8C9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3130-14FA-4D6A-8E56-0102CF9F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76CC-9948-4EF2-9A42-D8AC4681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3645-A0BB-4929-9D74-283F2AE5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9AD4-3CB9-401F-A67F-61626644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C70B-D28B-4BA3-B367-AA472B4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1BBB-EDC4-4639-9F59-43AA2B8F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691-BC3F-4F26-BE40-97A3631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F71A-436F-4C8F-8F23-BCE5F2CA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1EF8-7FCF-46E8-B051-FD2B39B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9DD2-806D-4C1B-9051-9E07D79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ED75-2010-4CC6-B030-A856331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A310-6FD8-4DE8-BF3A-9C2B499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B212-84A0-4DE0-B455-70591FEC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E08C-D41A-4C19-BF66-4569DB73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C466E-384D-44FE-AEE3-DF1BCF2D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3915-31E3-43EF-B8CB-F686609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8376-2F90-43C9-8D14-ADFB4BC5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A6D-7549-4869-BD2A-BD665EA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A28A-BC24-4D33-B91B-64A0FDE0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59C3-2C11-4441-AF3A-514B3028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7565-AE74-4A21-B1AA-076F301B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A1E4-A756-4FAE-8487-55E60E32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2E60-30E4-446E-9949-78BABBD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F89F-DEFD-4213-816E-AE0F5D5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5B93-5607-49BD-B7AF-59EE071A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37CF-33E0-442C-8E1E-295BD2EF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B4B3-A80F-4425-814B-F041B2AF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8D0E-60BF-4E17-A9A7-2159C986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1CF-35A8-4A67-9218-2E132966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20FD-AAF3-4283-99E2-BE935F80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B53B-6719-4AB7-B768-ABF623D7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941E-FF3B-44C8-9DC9-AFDEF40A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BECC-D9C6-483B-8FF5-E60C93AF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8BB1-D875-4C02-AA8A-3711862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C755-52CB-4DA0-B9CA-553EF48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65B9-677E-4FEA-8A43-6F47D61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1B59-09EE-442C-B12D-8A1AEF27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6705-D875-42CA-8241-5CDCE91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6A8E-9109-4CC3-AF10-06B645C5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53B-2ED6-4AAE-964A-7C99BE30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08C0-B207-45F4-8667-ED793493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86BF9-8341-4C49-9824-0970DB22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F2294-AAD4-4178-8128-EF15BC2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C015-D6F8-47AD-8213-F80D33E9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FEAC-30E3-4481-8181-5F6CEFCD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7584-3E17-488E-B531-CDECEEF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9DC7E-A3AB-448C-B65A-D9FD3CBE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FDAF1-83C7-4DD3-906A-08717D5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96BDC-9592-40B3-ACE0-7092D6F8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67282-EC7C-4580-AC0D-B4C2BF3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BD5-3B80-421F-BCEC-4DC237D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1A07-8713-4631-9E93-11E3FD5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A8CB-5188-4167-BED5-DD9CD586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D3EF-6858-4C5D-BA9F-1206D1CB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3F9-9E99-4B04-A76C-E5D7947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7AB-38A8-4C47-94B3-D09874A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604-3E1E-4B69-BD9D-8ADCC03EE1A8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3EA-A7A0-40D3-95BF-A771449EA08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CCD4-0EE0-4B8D-8AD5-5B17D085E4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F88-6513-47C9-93F1-F8DFF5C66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8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C3F-EA06-4AE2-9E6E-B490062D72B7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252-A3BA-4150-A5D1-BBAA3E4E7CD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9C9-9315-46A0-B79B-3FDF7263DE3B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737-366A-4D10-A738-DACFA335299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25D-3D21-4BBA-988A-6259D180468C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734-4ED8-4143-BD40-3CA2C515987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4D64-2C44-4E6C-8989-326C375ED1B5}" type="datetime">
              <a:rPr b="0" lang="ru-RU" sz="1000" spc="-1" strike="noStrike">
                <a:solidFill>
                  <a:srgbClr val="b13f9a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252A-0627-433F-9D90-AE9ABC495F7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7255080" cy="108396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90840"/>
            <a:ext cx="7255080" cy="4883040"/>
          </a:xfrm>
          <a:prstGeom prst="rect">
            <a:avLst/>
          </a:prstGeom>
          <a:ln w="0">
            <a:noFill/>
          </a:ln>
        </p:spPr>
      </p:pic>
      <p:sp>
        <p:nvSpPr>
          <p:cNvPr id="263" name="Номер слайда 8"/>
          <p:cNvSpPr/>
          <p:nvPr/>
        </p:nvSpPr>
        <p:spPr>
          <a:xfrm>
            <a:off x="6251400" y="6500880"/>
            <a:ext cx="7495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Мои документы\44.bmp"/>
          <p:cNvPicPr/>
          <p:nvPr/>
        </p:nvPicPr>
        <p:blipFill>
          <a:blip r:embed="rId2"/>
          <a:stretch/>
        </p:blipFill>
        <p:spPr>
          <a:xfrm>
            <a:off x="433440" y="1427040"/>
            <a:ext cx="7289640" cy="4973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5425200" y="2643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y=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4988520" y="20718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y=kx+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2643120" y="578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y=kx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4071960" y="435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3854520" y="2643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Номер слайда 10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2x+3.bmp"/>
          <p:cNvPicPr/>
          <p:nvPr/>
        </p:nvPicPr>
        <p:blipFill>
          <a:blip r:embed="rId2"/>
          <a:stretch/>
        </p:blipFill>
        <p:spPr>
          <a:xfrm>
            <a:off x="433440" y="1700280"/>
            <a:ext cx="7289640" cy="4700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4429080" y="25002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rebuchet MS"/>
              </a:rPr>
              <a:t>К&gt;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214800" y="257184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rebuchet MS"/>
              </a:rPr>
              <a:t>К&lt;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210920" y="3000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4139280" y="3571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Номер слайда 1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3359160" y="55440"/>
            <a:ext cx="5394240" cy="809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Рисунок 3" descr="лінії.bmp"/>
          <p:cNvPicPr/>
          <p:nvPr/>
        </p:nvPicPr>
        <p:blipFill>
          <a:blip r:embed="rId3"/>
          <a:stretch/>
        </p:blipFill>
        <p:spPr>
          <a:xfrm>
            <a:off x="603360" y="981000"/>
            <a:ext cx="8083440" cy="54561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5667120" y="2500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4d1d"/>
                </a:solidFill>
                <a:latin typeface="Trebuchet MS"/>
              </a:rPr>
              <a:t>y=2x-3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929200" y="1785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y=2x+3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519880" y="3357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y=2x-0,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Номер слайда 9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rebuchet MS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262080" y="225360"/>
            <a:ext cx="7808760" cy="1609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Администратор\Мои документы\Мои рисунки\расст.bmp"/>
          <p:cNvPicPr/>
          <p:nvPr/>
        </p:nvPicPr>
        <p:blipFill>
          <a:blip r:embed="rId2"/>
          <a:stretch/>
        </p:blipFill>
        <p:spPr>
          <a:xfrm>
            <a:off x="457200" y="1700280"/>
            <a:ext cx="7238880" cy="46656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2714760" y="1928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відстань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6715080" y="60008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(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час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5000760" y="228600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S=4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Номер слайда 10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b13f9a"/>
                </a:solidFill>
                <a:latin typeface="Trebuchet MS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1:25:41Z</dcterms:created>
  <dc:creator>Admin</dc:creator>
  <dc:description/>
  <dc:language>en-US</dc:language>
  <cp:lastModifiedBy>Admin</cp:lastModifiedBy>
  <dcterms:modified xsi:type="dcterms:W3CDTF">2011-01-10T10:42:14Z</dcterms:modified>
  <cp:revision>50</cp:revision>
  <dc:subject/>
  <dc:title>Лінійна функція</dc:title>
</cp:coreProperties>
</file>