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CB99-CDB7-4226-A087-18E7A4B0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74C7-C754-4182-9081-757D5A7E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594C-1188-4C01-82D7-95BACCD7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B953-8B95-413F-8A34-9C7B9B46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D73-29A5-47C0-A921-9917DBA8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CAAD-8242-4901-B278-375508A6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0DA3-9F4A-46A8-922A-458F80C2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3940-4F55-4454-AB6F-4E358294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4888-007A-4CBF-AF1D-774B6BDD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106C-D7AE-4BE2-919C-49D878F0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2459-9E1D-4A17-A818-01571C1A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1B34-1009-4FCE-9190-E9CF4BE0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41F2-0BEE-4C99-A807-3348A416886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7B5F-F1E9-4E57-ADC3-A6F27A31E6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50004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libri"/>
              </a:rPr>
              <a:t>Квадратична функ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760" y="857160"/>
            <a:ext cx="82152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Calibri"/>
              </a:rPr>
              <a:t>y=ax²+bx+c</a:t>
            </a:r>
            <a:r>
              <a:rPr b="1" lang="uk-UA" sz="1800" spc="-1" strike="noStrike">
                <a:solidFill>
                  <a:srgbClr val="e46c0a"/>
                </a:solidFill>
                <a:latin typeface="Calibri"/>
              </a:rPr>
              <a:t>,</a:t>
            </a:r>
            <a:r>
              <a:rPr b="1" lang="en-US" sz="1800" spc="-1" strike="noStrike">
                <a:solidFill>
                  <a:srgbClr val="e46c0a"/>
                </a:solidFill>
                <a:latin typeface="Calibri"/>
              </a:rPr>
              <a:t>  a</a:t>
            </a:r>
            <a:r>
              <a:rPr b="1" lang="uk-UA" sz="1800" spc="-1" strike="noStrike">
                <a:solidFill>
                  <a:srgbClr val="e46c0a"/>
                </a:solidFill>
                <a:latin typeface="Calibri"/>
              </a:rPr>
              <a:t>,</a:t>
            </a:r>
            <a:r>
              <a:rPr b="1" lang="en-US" sz="1800" spc="-1" strike="noStrike">
                <a:solidFill>
                  <a:srgbClr val="e46c0a"/>
                </a:solidFill>
                <a:latin typeface="Calibri"/>
              </a:rPr>
              <a:t>b</a:t>
            </a:r>
            <a:r>
              <a:rPr b="1" lang="uk-UA" sz="1800" spc="-1" strike="noStrike">
                <a:solidFill>
                  <a:srgbClr val="e46c0a"/>
                </a:solidFill>
                <a:latin typeface="Calibri"/>
              </a:rPr>
              <a:t>,</a:t>
            </a:r>
            <a:r>
              <a:rPr b="1" lang="en-US" sz="1800" spc="-1" strike="noStrike">
                <a:solidFill>
                  <a:srgbClr val="e46c0a"/>
                </a:solidFill>
                <a:latin typeface="Calibri"/>
              </a:rPr>
              <a:t>c</a:t>
            </a:r>
            <a:r>
              <a:rPr b="1" lang="uk-UA" sz="1800" spc="-1" strike="noStrike">
                <a:solidFill>
                  <a:srgbClr val="e46c0a"/>
                </a:solidFill>
                <a:latin typeface="Calibri"/>
              </a:rPr>
              <a:t>-числа (а≠0),х-незалежна змін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Графік-парабола,яка складається з двох віток,симетричних відносно прямої        у=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⁄2a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паралельно осі ордина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&gt;0,вітки параболи напрямлені вгору; а&lt;0-вниз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Точка(х₀;у₀)-вершина параболи. х₀=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⁄2a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,у₀=у(х₀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Calibri"/>
              </a:rPr>
              <a:t>Властивості функц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ласть визначення-множин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всіх дійсних чисе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ласть значень-[у₀;∞),якщо а&gt;0; (-∞;у₀],якщо а&lt;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(0;с)-точка перетину з віссю ордина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=0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x²+bx+c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=0,  х₁,х₂- нулі функції,  (х₁;0) і (х₂;0)-точки перетину з віссю абсци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и а&gt;0 функція спадає на проміжку (-∞;х₀), зростає на проміжку (х₀;∞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и а&lt;0  функція зростає на прміжку (-∞;х₀), спадає на проміжку (х₀;∞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C:\Documents and Settings\Администратор\Мои документы\Мои рисунки\нова.bmp"/>
          <p:cNvPicPr/>
          <p:nvPr/>
        </p:nvPicPr>
        <p:blipFill>
          <a:blip r:embed="rId1"/>
          <a:stretch/>
        </p:blipFill>
        <p:spPr>
          <a:xfrm>
            <a:off x="6072120" y="4786200"/>
            <a:ext cx="2786040" cy="18576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7929720" y="5214960"/>
            <a:ext cx="14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</a:rPr>
              <a:t>y=ax²+bx+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</a:rPr>
              <a:t>a&gt;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6504120" y="6143760"/>
            <a:ext cx="125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y=ax²+bx+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&lt;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омер слайда 7"/>
          <p:cNvSpPr/>
          <p:nvPr/>
        </p:nvSpPr>
        <p:spPr>
          <a:xfrm>
            <a:off x="1643040" y="6356520"/>
            <a:ext cx="4143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98989"/>
                </a:solidFill>
                <a:latin typeface="Calibri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libri"/>
              </a:rPr>
              <a:t>Квадратична функ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714920" y="1071720"/>
            <a:ext cx="4224240" cy="5429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Администратор\Мои документы\Мои рисунки\49.bmp"/>
          <p:cNvPicPr/>
          <p:nvPr/>
        </p:nvPicPr>
        <p:blipFill>
          <a:blip r:embed="rId2"/>
          <a:stretch/>
        </p:blipFill>
        <p:spPr>
          <a:xfrm>
            <a:off x="428760" y="1143000"/>
            <a:ext cx="4000320" cy="4429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2863080" y="22860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Calibri"/>
              </a:rPr>
              <a:t>У=4,9х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Номер слайда 6"/>
          <p:cNvSpPr/>
          <p:nvPr/>
        </p:nvSpPr>
        <p:spPr>
          <a:xfrm>
            <a:off x="1357200" y="6356520"/>
            <a:ext cx="307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898989"/>
                </a:solidFill>
                <a:latin typeface="Calibri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1:47:37Z</dcterms:created>
  <dc:creator>Admin</dc:creator>
  <dc:description/>
  <dc:language>en-US</dc:language>
  <cp:lastModifiedBy>Admin</cp:lastModifiedBy>
  <dcterms:modified xsi:type="dcterms:W3CDTF">2011-01-10T10:42:47Z</dcterms:modified>
  <cp:revision>29</cp:revision>
  <dc:subject/>
  <dc:title>Квадратична функція</dc:title>
</cp:coreProperties>
</file>