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9F90-C4F3-470A-8AC9-9CFA490A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75FA-27A7-4D25-A3A1-EC11B27B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D29F-C2E6-4E6E-9E1C-5AE5F845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5161-0A31-4E3B-85A8-58F4FCA4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81C4-3C88-4DA6-9E7D-0FAD7AD9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DD7F-231F-48B9-A399-AAE49ECB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CF38-F4C6-4887-9922-EDD2E2ED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F5BF-5095-4287-880B-6E73C179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48DE-1AD5-47A8-A27E-5841EFA2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EB4C-BEDC-4232-94D3-6ACB9E4A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A362-CD8C-43C9-A028-FB5C78F4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1328-D345-4DB2-AC91-80190B4D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D637-BF48-433B-B803-11CBB86D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8E24-2AD8-452A-A720-812B3B92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CB61-CF72-48D3-A7CD-9BF12D41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3D3E-0070-4800-974C-BC44F035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2E60-BCF2-45D2-9E8B-C92A5FA9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08F59-ECAF-4095-9469-E4F255C7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43DF8-7D56-41E8-AE96-F1884450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CF287-271F-4CFE-BF21-2C6A4538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39F7C-866D-4F6D-9BAE-9F59752F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6611E-33AB-4587-8588-C0231A23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C01B-D6A5-4ACC-8DE8-FDDF4877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8ABB6-D227-4E03-98D7-F1FB9A2F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4B28A-7392-411B-A868-962615A7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AD7EF-5D8A-43BF-BE66-664301B7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6DC8E-0412-4A10-A395-F3A9FF35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11014-E16B-458C-B907-85921A78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1AD2F-C303-4395-B574-5EB7E4AA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47DA1-AA3A-4546-9D6E-4F111E30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808CF-0722-4C07-90CC-A3F3E2DB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D776D-5F59-42EB-A037-328FC539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D7828-2035-4ED3-98A2-6AD2198D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D48D-FE5A-4681-ADC0-82ACA8BA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BB17C-7F55-4F2F-9A33-453DBCE7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8EC61-DDE1-40FC-BC38-3D1E64A1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ABC27-60FE-4100-8F0B-F0AD2A5B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902F6-94FC-4CB8-86DE-3868F47F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381CB-39AB-4900-B5D2-FA060271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F2957-E79E-484A-9C90-CF5E7E21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6C237-66AB-44E0-8690-EAF0B882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F5334-D5AF-4A5E-AA6D-9C569053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1E020-A854-4FA6-B9B4-62085A42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F580E-1B97-45F8-BB68-A65F0669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862A-CC73-42D6-B76E-76BEABBE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79EA7-D4DA-43C3-9B28-B2E83004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F8B93-87AE-43C9-B9F8-0CE698A9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A9897-87F4-48E9-8149-B89F47B8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DFF17-CC1F-480E-8F90-7402A1BE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26826-020E-4A93-8A89-826C78FD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0A999-2E7A-4D90-BB58-AA728BE5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466F8-2EBF-4B01-BA9A-497E0407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8B7F4-0E59-4134-A619-B3496BDB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4EF43-59C2-4524-B4AC-36E58F61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D7A59-962E-427B-B066-E488F3DA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FFC3-A632-4248-9D5D-45B064F1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6C0C1-D060-49B5-BA34-4BAFBE12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B2E3A-4A3C-4692-99E3-FBB7C234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8A92A-2004-4CD5-963C-3A785299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F8FD7-9EB5-41ED-8565-8EDA3636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DC219-4104-4462-A897-59793F1B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AF496-EF60-4CCE-93AB-DE0298DC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ECC65-9023-4ACA-B3ED-EF7A958D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A0F8B-E825-42D8-A789-45282CCE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F57E3-6D25-4C1B-A6CC-82E16013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2FF94-6616-480A-B519-14B8A02C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A03D-0533-4092-B0F7-58D78CCF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30967-F5AA-47E1-B354-E05377BD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53E67-4F14-41ED-98ED-FFF1313B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5FB59-B323-4388-A230-65511687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4FBA5-BC62-412F-BB9E-4E1C434A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287E6-385D-40FA-B8DE-BD74C3D4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BA55A-4BB7-441F-8428-37742AAE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19866-3C8B-4771-A9AE-462AF770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B48E5-4DEB-4928-9A15-7393A170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6B610-0BA0-4358-8E46-626DB04D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7D10D-9CCC-4AEC-A402-F3DA4169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D90F-614D-453C-974B-F9CD2794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DCAD7-6F7C-453D-B685-B8D21EC8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497DB-44D5-4528-B761-D95331AB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07E14-FBC1-49F1-94FA-5D4AA357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097C3-018B-448D-B548-076CA8BC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F216A-94C7-4414-8444-BF80D456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64A0F-D1BA-4621-BDE8-307CA5A4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23131-3E26-4C5B-99B6-AC90BA87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3EFB0-A788-4687-9EE9-6373C061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73A58-88DF-43D1-A6C9-FF67A06F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6DC78-1E7C-4467-9D25-A972DAB3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E6AF-A3BD-4B0C-816D-210FEDD9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40065-5BA7-4093-A325-38B5DBD1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26B25-F91F-4FC7-9243-6D4A0EE9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47159-6548-40CA-AD34-1A1942D2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3D57C-95F9-4B78-85D2-BAD86B0B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52ABA-8A28-467A-9040-29577047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71869-467B-43DF-9A03-180D7A36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7B602-23FB-434E-B8A1-A4972409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C0CF-4788-491B-9889-8A9F93561FE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7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BEDA-ABDB-414D-A02C-D37DFB102D7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2BA5-3342-4BCB-84F9-1C9A32A1278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0EE8-3BD6-4B70-A346-3E1342529A9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BE57-771B-4977-847B-10D0C583DE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173E-2D04-41DF-B423-1A6A01801AE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AF06-D0BD-4667-B36B-D6C02AF0A48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7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8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5B54-F627-4477-9381-4F36BCC7A6F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2359080" y="152280"/>
            <a:ext cx="6029280" cy="1090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371600" y="1642680"/>
            <a:ext cx="6400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2" name="Picture 2" descr="C:\Documents and Settings\Администратор\Мои документы\Мои рисунки\мод.bmp"/>
          <p:cNvPicPr/>
          <p:nvPr/>
        </p:nvPicPr>
        <p:blipFill>
          <a:blip r:embed="rId2"/>
          <a:stretch/>
        </p:blipFill>
        <p:spPr>
          <a:xfrm>
            <a:off x="500040" y="1285920"/>
            <a:ext cx="7500960" cy="4929120"/>
          </a:xfrm>
          <a:prstGeom prst="rect">
            <a:avLst/>
          </a:prstGeom>
          <a:ln w="0">
            <a:noFill/>
          </a:ln>
        </p:spPr>
      </p:pic>
      <p:sp>
        <p:nvSpPr>
          <p:cNvPr id="373" name="TextBox 4"/>
          <p:cNvSpPr/>
          <p:nvPr/>
        </p:nvSpPr>
        <p:spPr>
          <a:xfrm>
            <a:off x="6000840" y="3000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y=</a:t>
            </a:r>
            <a:r>
              <a:rPr b="0" lang="uk-UA" sz="1800" spc="-1" strike="noStrike">
                <a:solidFill>
                  <a:srgbClr val="ff0000"/>
                </a:solidFill>
                <a:latin typeface="Lucida Sans Unicode"/>
              </a:rPr>
              <a:t>І</a:t>
            </a: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x</a:t>
            </a:r>
            <a:r>
              <a:rPr b="0" lang="uk-UA" sz="1800" spc="-1" strike="noStrike">
                <a:solidFill>
                  <a:srgbClr val="ff0000"/>
                </a:solidFill>
                <a:latin typeface="Lucida Sans Unicode"/>
              </a:rPr>
              <a:t>І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TextBox 5"/>
          <p:cNvSpPr/>
          <p:nvPr/>
        </p:nvSpPr>
        <p:spPr>
          <a:xfrm>
            <a:off x="5236560" y="2000160"/>
            <a:ext cx="83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Lucida Sans Unicode"/>
              </a:rPr>
              <a:t>у=І3хІ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Номер слайда 6"/>
          <p:cNvSpPr/>
          <p:nvPr/>
        </p:nvSpPr>
        <p:spPr>
          <a:xfrm>
            <a:off x="8358120" y="6408720"/>
            <a:ext cx="655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Lucida Sans Unicode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C:\Documents and Settings\Администратор\Мои документы\Мои рисунки\моду.bmp"/>
          <p:cNvPicPr/>
          <p:nvPr/>
        </p:nvPicPr>
        <p:blipFill>
          <a:blip r:embed="rId1"/>
          <a:stretch/>
        </p:blipFill>
        <p:spPr>
          <a:xfrm>
            <a:off x="1060560" y="1481040"/>
            <a:ext cx="7022880" cy="4525920"/>
          </a:xfrm>
          <a:prstGeom prst="rect">
            <a:avLst/>
          </a:prstGeom>
          <a:ln w="0">
            <a:noFill/>
          </a:ln>
        </p:spPr>
      </p:pic>
      <p:pic>
        <p:nvPicPr>
          <p:cNvPr id="377" name="Заголовок 1" descr=""/>
          <p:cNvPicPr/>
          <p:nvPr/>
        </p:nvPicPr>
        <p:blipFill>
          <a:blip r:embed="rId2"/>
          <a:stretch/>
        </p:blipFill>
        <p:spPr>
          <a:xfrm>
            <a:off x="390600" y="244440"/>
            <a:ext cx="8362800" cy="1279440"/>
          </a:xfrm>
          <a:prstGeom prst="rect">
            <a:avLst/>
          </a:prstGeom>
          <a:ln w="0">
            <a:noFill/>
          </a:ln>
        </p:spPr>
      </p:pic>
      <p:sp>
        <p:nvSpPr>
          <p:cNvPr id="378" name="TextBox 7"/>
          <p:cNvSpPr/>
          <p:nvPr/>
        </p:nvSpPr>
        <p:spPr>
          <a:xfrm>
            <a:off x="6143760" y="31431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Lucida Sans Unicode"/>
              </a:rPr>
              <a:t>у=І- х</a:t>
            </a:r>
            <a:r>
              <a:rPr b="1" lang="uk-UA" sz="1800" spc="-1" strike="noStrike" baseline="30000">
                <a:solidFill>
                  <a:srgbClr val="0070c0"/>
                </a:solidFill>
                <a:latin typeface="Lucida Sans Unicode"/>
              </a:rPr>
              <a:t>2</a:t>
            </a:r>
            <a:r>
              <a:rPr b="1" lang="uk-UA" sz="1800" spc="-1" strike="noStrike">
                <a:solidFill>
                  <a:srgbClr val="0070c0"/>
                </a:solidFill>
                <a:latin typeface="Lucida Sans Unicode"/>
              </a:rPr>
              <a:t>+6х-8І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TextBox 4"/>
          <p:cNvSpPr/>
          <p:nvPr/>
        </p:nvSpPr>
        <p:spPr>
          <a:xfrm>
            <a:off x="8215200" y="642924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3" descr="C:\Documents and Settings\Администратор\Мои документы\Мои рисунки\модпар.bmp"/>
          <p:cNvPicPr/>
          <p:nvPr/>
        </p:nvPicPr>
        <p:blipFill>
          <a:blip r:embed="rId1"/>
          <a:stretch/>
        </p:blipFill>
        <p:spPr>
          <a:xfrm>
            <a:off x="1060560" y="1481040"/>
            <a:ext cx="7022880" cy="4525920"/>
          </a:xfrm>
          <a:prstGeom prst="rect">
            <a:avLst/>
          </a:prstGeom>
          <a:ln w="0">
            <a:noFill/>
          </a:ln>
        </p:spPr>
      </p:pic>
      <p:pic>
        <p:nvPicPr>
          <p:cNvPr id="381" name="Заголовок 1" descr=""/>
          <p:cNvPicPr/>
          <p:nvPr/>
        </p:nvPicPr>
        <p:blipFill>
          <a:blip r:embed="rId2"/>
          <a:stretch/>
        </p:blipFill>
        <p:spPr>
          <a:xfrm>
            <a:off x="390600" y="244440"/>
            <a:ext cx="8362800" cy="1279440"/>
          </a:xfrm>
          <a:prstGeom prst="rect">
            <a:avLst/>
          </a:prstGeom>
          <a:ln w="0">
            <a:noFill/>
          </a:ln>
        </p:spPr>
      </p:pic>
      <p:sp>
        <p:nvSpPr>
          <p:cNvPr id="382" name="TextBox 4"/>
          <p:cNvSpPr/>
          <p:nvPr/>
        </p:nvSpPr>
        <p:spPr>
          <a:xfrm>
            <a:off x="6131880" y="421488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Lucida Sans Unicode"/>
              </a:rPr>
              <a:t>у= - х</a:t>
            </a:r>
            <a:r>
              <a:rPr b="0" lang="uk-UA" sz="1800" spc="-1" strike="noStrike" baseline="30000">
                <a:solidFill>
                  <a:srgbClr val="ff0000"/>
                </a:solidFill>
                <a:latin typeface="Lucida Sans Unicode"/>
              </a:rPr>
              <a:t>2</a:t>
            </a:r>
            <a:r>
              <a:rPr b="0" lang="uk-UA" sz="1800" spc="-1" strike="noStrike">
                <a:solidFill>
                  <a:srgbClr val="ff0000"/>
                </a:solidFill>
                <a:latin typeface="Lucida Sans Unicode"/>
              </a:rPr>
              <a:t>+6ІхІ-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TextBox 5"/>
          <p:cNvSpPr/>
          <p:nvPr/>
        </p:nvSpPr>
        <p:spPr>
          <a:xfrm>
            <a:off x="8160480" y="62150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C:\Documents and Settings\Администратор\Мои документы\Мои рисунки\м.bmp"/>
          <p:cNvPicPr/>
          <p:nvPr/>
        </p:nvPicPr>
        <p:blipFill>
          <a:blip r:embed="rId1"/>
          <a:stretch/>
        </p:blipFill>
        <p:spPr>
          <a:xfrm>
            <a:off x="1060560" y="1481040"/>
            <a:ext cx="7022880" cy="4525920"/>
          </a:xfrm>
          <a:prstGeom prst="rect">
            <a:avLst/>
          </a:prstGeom>
          <a:ln w="0">
            <a:noFill/>
          </a:ln>
        </p:spPr>
      </p:pic>
      <p:pic>
        <p:nvPicPr>
          <p:cNvPr id="385" name="Заголовок 1" descr=""/>
          <p:cNvPicPr/>
          <p:nvPr/>
        </p:nvPicPr>
        <p:blipFill>
          <a:blip r:embed="rId2"/>
          <a:stretch/>
        </p:blipFill>
        <p:spPr>
          <a:xfrm>
            <a:off x="237960" y="219240"/>
            <a:ext cx="8820360" cy="1023840"/>
          </a:xfrm>
          <a:prstGeom prst="rect">
            <a:avLst/>
          </a:prstGeom>
          <a:ln w="0">
            <a:noFill/>
          </a:ln>
        </p:spPr>
      </p:pic>
      <p:sp>
        <p:nvSpPr>
          <p:cNvPr id="386" name="TextBox 4"/>
          <p:cNvSpPr/>
          <p:nvPr/>
        </p:nvSpPr>
        <p:spPr>
          <a:xfrm>
            <a:off x="5087880" y="3000240"/>
            <a:ext cx="8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b050"/>
                </a:solidFill>
                <a:latin typeface="Lucida Sans Unicode"/>
              </a:rPr>
              <a:t>у=Іх</a:t>
            </a:r>
            <a:r>
              <a:rPr b="1" lang="uk-UA" sz="1800" spc="-1" strike="noStrike" baseline="30000">
                <a:solidFill>
                  <a:srgbClr val="00b050"/>
                </a:solidFill>
                <a:latin typeface="Lucida Sans Unicode"/>
              </a:rPr>
              <a:t>3</a:t>
            </a:r>
            <a:r>
              <a:rPr b="1" lang="uk-UA" sz="1800" spc="-1" strike="noStrike">
                <a:solidFill>
                  <a:srgbClr val="00b050"/>
                </a:solidFill>
                <a:latin typeface="Lucida Sans Unicode"/>
              </a:rPr>
              <a:t>І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TextBox 5"/>
          <p:cNvSpPr/>
          <p:nvPr/>
        </p:nvSpPr>
        <p:spPr>
          <a:xfrm>
            <a:off x="8143920" y="635796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7:54:04Z</dcterms:created>
  <dc:creator>Admin</dc:creator>
  <dc:description/>
  <dc:language>en-US</dc:language>
  <cp:lastModifiedBy>Admin</cp:lastModifiedBy>
  <dcterms:modified xsi:type="dcterms:W3CDTF">2011-01-10T10:43:01Z</dcterms:modified>
  <cp:revision>7</cp:revision>
  <dc:subject/>
  <dc:title> МОДУЛЬ</dc:title>
</cp:coreProperties>
</file>