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5.png" ContentType="image/png"/>
  <Override PartName="/ppt/media/image43.wmf" ContentType="image/x-wmf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A69-AF41-427E-8B0B-B4B7122D1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298-2E34-4714-A486-29F34E8E6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E18-1D36-4AED-B707-71CAF770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79B-7CEB-420B-AC29-A6BB580A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521-FB92-4955-9240-6BFD993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FD6-B855-499C-A5BD-D1072C40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E81-6916-4468-A688-3BC0557D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A4ED-9889-4BC5-9510-708D8258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94CB-3B85-4A83-A29E-5555A7A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9AB6-B981-4040-802E-8DAEC357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8F2-80F9-40F2-BCDB-53A66D7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074C-3DDC-4A6D-B39A-B8C461A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1A2-1594-4331-B4A1-C0771F6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0FD-B71E-4A76-964C-0DB679AC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C7B-B4CF-48FA-BF39-52FEA040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5F41-A5C8-4819-AB9B-0DD059BF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DF25-CEEC-43EE-BD84-835368D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31A-4D68-4AFE-B707-CAA63F82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BE9B-12BF-4C7B-8C83-6EF8DDBC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56DB-8B8E-47EB-8E8A-083935A8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F11E-C629-4A17-B0F5-0F3DC31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4167-768E-4ADE-BEF2-215E56F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B31D-7832-4015-BACB-C0CA0815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A8FC-F1AB-4043-B150-EADD694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A87-6328-404B-984D-831660D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9ABC-F967-4113-BEBF-83EBF40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DE29-E609-498E-87EE-FCB737C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FCB7-E178-4241-A566-D4F39B3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8208-6BA6-4E9B-A9FF-6FCF05AD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6277-92DB-4342-A8A7-B7BF05C3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B0F0-497D-4132-B35B-B59EECA4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BABC-C836-4BAD-BB51-81F91E1F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6A614-A790-4918-B478-14764515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5F748-F4CE-4B91-8D68-8E6E5ABC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F66A3-840D-474E-893C-79245075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C30-3A75-40F7-9604-D455A62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14FC1-890A-4E29-B85F-655154F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8476A-453F-4066-9CF6-DDC0638E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66B38-9404-4412-84FC-E6A2548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59B17-86DB-42B4-A224-DB736C3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B809C-29C4-45EC-8667-A76882E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559A7-76C4-4488-B40F-0AC9C2D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654E3-C258-4F37-857D-AB67F0C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ADF8D-9E13-4020-9E32-43269282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9F0B1-727E-47F7-967D-0DC0049D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D51E-524B-43F1-82F8-4FDBECA1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DED-1C5C-454D-A633-C6DAE3B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30F2-128A-4943-8473-9673A3A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207D-80EF-4AB4-A8AA-70803429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5371-C617-4E44-A4DC-A1FB666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0A0B-F27C-4F42-B886-787BB8A1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861E-8BBE-47F0-8CFC-3FA4AC8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9525-377A-4EF2-9CE2-7B4489D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8F31-B12C-4AE3-AF13-13FE05C0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75AD-5DFB-4000-A33F-A41E774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F86A-B5BB-4F22-B37B-9CA8FF3A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F5BE-12B0-4E21-B723-8EA8DACF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EB8-F2F3-4EE5-BED4-C138545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61A0-3D69-4345-B3A1-E10F833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20610-C0B5-4917-BF0D-4A42FECC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22D70-B297-426D-97D2-0127C7D3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2C44D-8E4A-4197-AA25-E962C75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8F975-0C58-4E6F-810C-32F7994D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DBF75-C0D4-4215-A735-B86E3D3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CA4C6-5788-44B7-B211-6ECB118B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9FEF2-845A-4DAA-99DF-67644C0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ACF46-E7E6-4C32-92AE-9CEDD48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59E27-DAB4-4797-BC6C-B3C702E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606-673F-4B01-8D21-7AB071C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87522-B18C-4F5F-929F-4A18D39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4B9FE-F613-4564-B7A1-0A6E439D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0E916-8A65-4B15-A2BC-361B9A4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5365-AF57-483A-B9E7-5AFB9B11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1CF4-6050-4016-A840-E89C113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1DB5-6318-4400-B982-DB76213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E5B7-CE8F-4832-9BC9-19170E92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593D6-67A9-4A04-9995-B0D8ED2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EBF2-92F2-432A-86FD-F413461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550C-4FAF-45E5-9666-4501FEE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763-6F6D-4E21-B2E0-C48085C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B0B4-9ED1-484D-A3CB-A33AB36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75E3-A906-44BE-AB63-AAA8F20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D436-710F-457A-A633-8A6478A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1528-65FC-4B4C-BE9D-CD6BBA57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83B5-381C-4018-A8DD-0B28899C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16C-3A97-4318-93EB-53C9BA4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E3B2-3335-428A-8740-5B042F18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BB70-5FD5-49DA-BF8E-76CBFFCF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841-50B9-4AF4-B984-39D371AD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A7E-3048-405D-B749-63A8DC11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08C-FCE9-4EEF-858B-2502D55B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EF21-2351-48AC-9BC9-40087C6E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FFE-1628-4470-ABC5-F339FCB06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загруженное"/>
          <p:cNvPicPr/>
          <p:nvPr/>
        </p:nvPicPr>
        <p:blipFill>
          <a:blip r:embed="rId1"/>
          <a:stretch/>
        </p:blipFill>
        <p:spPr>
          <a:xfrm>
            <a:off x="-36360" y="27000"/>
            <a:ext cx="9685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6" descr="Kobzar_1911.jpg"/>
          <p:cNvPicPr/>
          <p:nvPr/>
        </p:nvPicPr>
        <p:blipFill>
          <a:blip r:embed="rId1"/>
          <a:srcRect l="0" t="0" r="0" b="-94"/>
          <a:stretch/>
        </p:blipFill>
        <p:spPr>
          <a:xfrm>
            <a:off x="250920" y="333360"/>
            <a:ext cx="5472000" cy="60483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357960" y="499680"/>
            <a:ext cx="2357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дного разу, на канікулах, перебираючи старі книжки у батьковій скрині, Борис натрапив на Шевченкового “Кобзаря”. Він одним духом прочитав книжку і на все життя полюбив Шевченков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285840" y="0"/>
            <a:ext cx="82152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Однак доля розпорядилася так, що навчальний за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Б. Грінченкові не випало закінчити: за читання забороненої літератури його було виключено зі школи й ув'язне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'ятнадцятирічному юнакові довелося пережити допити, знущання, холод і голод. Коли поліція зрозуміла, що нічого не доб'ється від хлопця, його було звільнено на поруки батька і відправлено на хутір. Умов для продовження навчання більше не було: підірване здоров'я, матеріальні нест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Б. Грінченкові вдало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ідготувати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і скласти екза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 звання народного в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ри Харківському університе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ід здобуває посаду в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й одночасно почина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активно займа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літературною діяльн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ttp://xxivek.com.ua/res/img/uploads/96a5ad4c84004ea8afcf9caa5dcd4a11.jpg"/>
          <p:cNvPicPr/>
          <p:nvPr/>
        </p:nvPicPr>
        <p:blipFill>
          <a:blip r:embed="rId1"/>
          <a:stretch/>
        </p:blipFill>
        <p:spPr>
          <a:xfrm>
            <a:off x="4643280" y="257184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285840" y="56437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У 1881 році в журналі “Світ”  Іван Франко вперше друкує вірші по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286320" y="-360"/>
            <a:ext cx="285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883 р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курсах вчите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Зміє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найоми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 молодою вчительк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C:\Users\Asya\Desktop\H_005.jpg"/>
          <p:cNvPicPr/>
          <p:nvPr/>
        </p:nvPicPr>
        <p:blipFill>
          <a:blip r:embed="rId1"/>
          <a:stretch/>
        </p:blipFill>
        <p:spPr>
          <a:xfrm>
            <a:off x="654120" y="274680"/>
            <a:ext cx="49402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фон"/>
          <p:cNvPicPr/>
          <p:nvPr/>
        </p:nvPicPr>
        <p:blipFill>
          <a:blip r:embed="rId1"/>
          <a:stretch/>
        </p:blipFill>
        <p:spPr>
          <a:xfrm>
            <a:off x="-10800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текст1"/>
          <p:cNvPicPr/>
          <p:nvPr/>
        </p:nvPicPr>
        <p:blipFill>
          <a:blip r:embed="rId2"/>
          <a:stretch/>
        </p:blipFill>
        <p:spPr>
          <a:xfrm>
            <a:off x="0" y="0"/>
            <a:ext cx="9144000" cy="1406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текст2"/>
          <p:cNvPicPr/>
          <p:nvPr/>
        </p:nvPicPr>
        <p:blipFill>
          <a:blip r:embed="rId3"/>
          <a:stretch/>
        </p:blipFill>
        <p:spPr>
          <a:xfrm>
            <a:off x="0" y="1125360"/>
            <a:ext cx="9360000" cy="1751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фото"/>
          <p:cNvPicPr/>
          <p:nvPr/>
        </p:nvPicPr>
        <p:blipFill>
          <a:blip r:embed="rId4"/>
          <a:stretch/>
        </p:blipFill>
        <p:spPr>
          <a:xfrm>
            <a:off x="2357280" y="1928880"/>
            <a:ext cx="6677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214680" y="0"/>
            <a:ext cx="2714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887 року молоде подружжя Грінченків приїздить до села Олексіїв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лавяносербськог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ві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в школу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пікуєтьс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яко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Христин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лчевська, вже тоді  відома своїми новаторськими ідеями в осві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C:\Users\Asya\Desktop\1273097820_grinchenko3.jpg"/>
          <p:cNvPicPr/>
          <p:nvPr/>
        </p:nvPicPr>
        <p:blipFill>
          <a:blip r:embed="rId1"/>
          <a:stretch/>
        </p:blipFill>
        <p:spPr>
          <a:xfrm>
            <a:off x="500040" y="357120"/>
            <a:ext cx="526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286680" y="-360"/>
            <a:ext cx="2428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і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їзді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інченк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кінчи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стусин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итан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, яка служил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вчанн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ласно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нечки й сільських дітей.  Наступного року  була підготовле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країнсь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амат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ом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 учнями Борис Дмитрович видає рукописний журнал «Дум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Содержимое 4" descr="Grinchenko2.png"/>
          <p:cNvPicPr/>
          <p:nvPr/>
        </p:nvPicPr>
        <p:blipFill>
          <a:blip r:embed="rId1"/>
          <a:stretch/>
        </p:blipFill>
        <p:spPr>
          <a:xfrm>
            <a:off x="142920" y="1143000"/>
            <a:ext cx="6000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фон"/>
          <p:cNvPicPr/>
          <p:nvPr/>
        </p:nvPicPr>
        <p:blipFill>
          <a:blip r:embed="rId1"/>
          <a:stretch/>
        </p:blipFill>
        <p:spPr>
          <a:xfrm>
            <a:off x="-10800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текст"/>
          <p:cNvPicPr/>
          <p:nvPr/>
        </p:nvPicPr>
        <p:blipFill>
          <a:blip r:embed="rId2"/>
          <a:stretch/>
        </p:blipFill>
        <p:spPr>
          <a:xfrm>
            <a:off x="-2500200" y="-571680"/>
            <a:ext cx="1350144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фон"/>
          <p:cNvPicPr/>
          <p:nvPr/>
        </p:nvPicPr>
        <p:blipFill>
          <a:blip r:embed="rId1"/>
          <a:stretch/>
        </p:blipFill>
        <p:spPr>
          <a:xfrm>
            <a:off x="-74520" y="0"/>
            <a:ext cx="9326520" cy="6880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1" descr="текст1"/>
          <p:cNvPicPr/>
          <p:nvPr/>
        </p:nvPicPr>
        <p:blipFill>
          <a:blip r:embed="rId2"/>
          <a:stretch/>
        </p:blipFill>
        <p:spPr>
          <a:xfrm>
            <a:off x="-142920" y="-214200"/>
            <a:ext cx="9462960" cy="3143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фото1"/>
          <p:cNvPicPr/>
          <p:nvPr/>
        </p:nvPicPr>
        <p:blipFill>
          <a:blip r:embed="rId3"/>
          <a:stretch/>
        </p:blipFill>
        <p:spPr>
          <a:xfrm>
            <a:off x="142920" y="2286000"/>
            <a:ext cx="5357880" cy="4305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текст2"/>
          <p:cNvPicPr/>
          <p:nvPr/>
        </p:nvPicPr>
        <p:blipFill>
          <a:blip r:embed="rId4"/>
          <a:stretch/>
        </p:blipFill>
        <p:spPr>
          <a:xfrm>
            <a:off x="-1000080" y="5214960"/>
            <a:ext cx="10787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285640" y="5214600"/>
            <a:ext cx="61722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         </a:t>
            </a:r>
            <a:r>
              <a:rPr b="0" i="1" lang="uk-UA" sz="1900" spc="-1" strike="noStrike">
                <a:solidFill>
                  <a:srgbClr val="0d0d0d"/>
                </a:solidFill>
                <a:latin typeface="Arial"/>
              </a:rPr>
              <a:t>Донька Грінченків, Настя, на початку 1906 року захворіла на  туберкульоз. Невдовзі Настя Грінченко померла, а вслід за нею і її крихітний син, єдиний внук письменни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https://encrypted-tbn1.gstatic.com/images?q=tbn:ANd9GcS6XMOxUrzd6gqM0E9Vg0SKWLylSrXA3nNVxJQTUl_d-ieBgW-O"/>
          <p:cNvPicPr/>
          <p:nvPr/>
        </p:nvPicPr>
        <p:blipFill>
          <a:blip r:embed="rId1"/>
          <a:stretch/>
        </p:blipFill>
        <p:spPr>
          <a:xfrm>
            <a:off x="2195640" y="0"/>
            <a:ext cx="3714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фон"/>
          <p:cNvPicPr/>
          <p:nvPr/>
        </p:nvPicPr>
        <p:blipFill>
          <a:blip r:embed="rId1"/>
          <a:stretch/>
        </p:blipFill>
        <p:spPr>
          <a:xfrm>
            <a:off x="0" y="0"/>
            <a:ext cx="9396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езакінчене речення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Я бажаю…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фон4_2"/>
          <p:cNvPicPr/>
          <p:nvPr/>
        </p:nvPicPr>
        <p:blipFill>
          <a:blip r:embed="rId1"/>
          <a:stretch/>
        </p:blipFill>
        <p:spPr>
          <a:xfrm>
            <a:off x="0" y="0"/>
            <a:ext cx="9396360" cy="6932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текст4_2"/>
          <p:cNvPicPr/>
          <p:nvPr/>
        </p:nvPicPr>
        <p:blipFill>
          <a:blip r:embed="rId2"/>
          <a:stretch/>
        </p:blipFill>
        <p:spPr>
          <a:xfrm>
            <a:off x="0" y="0"/>
            <a:ext cx="9429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286680" y="-360"/>
            <a:ext cx="271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інченко - автор близ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0 оповіда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Чудова дівчина», 188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Сама, зовсім сама», 188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Олеся»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89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Украла», 189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Дзвоник», 18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а і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274320"/>
            <a:ext cx="63579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Оповідання"/>
          <p:cNvPicPr/>
          <p:nvPr/>
        </p:nvPicPr>
        <p:blipFill>
          <a:blip r:embed="rId1"/>
          <a:stretch/>
        </p:blipFill>
        <p:spPr>
          <a:xfrm>
            <a:off x="857160" y="357120"/>
            <a:ext cx="478656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357600" y="-360"/>
            <a:ext cx="2500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і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ориса Грінч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Сонячний промінь», 18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На розпутті», 189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Серед темної ночі», 19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 Під тихими вербами», 1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Содержимое 3" descr="kavuny.gif"/>
          <p:cNvPicPr/>
          <p:nvPr/>
        </p:nvPicPr>
        <p:blipFill>
          <a:blip r:embed="rId1"/>
          <a:stretch/>
        </p:blipFill>
        <p:spPr>
          <a:xfrm>
            <a:off x="0" y="357120"/>
            <a:ext cx="1809720" cy="2238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http://chytanka.com.ua/ebooks/files/obkl1/kazky25-05-09.gif"/>
          <p:cNvPicPr/>
          <p:nvPr/>
        </p:nvPicPr>
        <p:blipFill>
          <a:blip r:embed="rId2"/>
          <a:stretch/>
        </p:blipFill>
        <p:spPr>
          <a:xfrm>
            <a:off x="2071800" y="0"/>
            <a:ext cx="2279520" cy="2819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Penek\Рабочий стол\ksenja-130409.jpg"/>
          <p:cNvPicPr/>
          <p:nvPr/>
        </p:nvPicPr>
        <p:blipFill>
          <a:blip r:embed="rId3"/>
          <a:stretch/>
        </p:blipFill>
        <p:spPr>
          <a:xfrm>
            <a:off x="0" y="2714760"/>
            <a:ext cx="2254320" cy="2786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C:\Documents and Settings\Penek\Рабочий стол\les-preslavnyj-hajdamaka.jpg"/>
          <p:cNvPicPr/>
          <p:nvPr/>
        </p:nvPicPr>
        <p:blipFill>
          <a:blip r:embed="rId4"/>
          <a:stretch/>
        </p:blipFill>
        <p:spPr>
          <a:xfrm>
            <a:off x="4000680" y="3000240"/>
            <a:ext cx="2197080" cy="2714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C:\Documents and Settings\Penek\Рабочий стол\ukrala20062011.jpg"/>
          <p:cNvPicPr/>
          <p:nvPr/>
        </p:nvPicPr>
        <p:blipFill>
          <a:blip r:embed="rId5"/>
          <a:stretch/>
        </p:blipFill>
        <p:spPr>
          <a:xfrm>
            <a:off x="2071800" y="3929040"/>
            <a:ext cx="2079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Содержимое 6" descr="gj.jpg"/>
          <p:cNvPicPr/>
          <p:nvPr/>
        </p:nvPicPr>
        <p:blipFill>
          <a:blip r:embed="rId1"/>
          <a:stretch/>
        </p:blipFill>
        <p:spPr>
          <a:xfrm>
            <a:off x="642960" y="500040"/>
            <a:ext cx="4786200" cy="59292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215040" y="-360"/>
            <a:ext cx="2928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бірки поез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сні Василя Чайченка», 188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д сільською стріхою», 188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Під хмарним небом», 1893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000000"/>
                </a:solidFill>
                <a:latin typeface="Monotype Corsiva"/>
              </a:rPr>
              <a:t>Вшанування</a:t>
            </a:r>
            <a:br>
              <a:rPr sz="7200"/>
            </a:br>
            <a:br>
              <a:rPr sz="49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715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i="1" lang="uk-UA" sz="9600" spc="-1" strike="noStrike">
                <a:solidFill>
                  <a:srgbClr val="000000"/>
                </a:solidFill>
                <a:latin typeface="Monotype Corsiva"/>
              </a:rPr>
              <a:t>пам'ят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Содержимое 4" descr="Grinchenko.png"/>
          <p:cNvPicPr/>
          <p:nvPr/>
        </p:nvPicPr>
        <p:blipFill>
          <a:blip r:embed="rId1"/>
          <a:stretch/>
        </p:blipFill>
        <p:spPr>
          <a:xfrm>
            <a:off x="0" y="1714680"/>
            <a:ext cx="6143760" cy="400032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6286680" y="2857680"/>
            <a:ext cx="2428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родний меморіально-літературний музей Бориса Гр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ч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с. Олексіївка на Луганщи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Penek\Рабочий стол\Pam_GR3.jpg"/>
          <p:cNvPicPr/>
          <p:nvPr/>
        </p:nvPicPr>
        <p:blipFill>
          <a:blip r:embed="rId1"/>
          <a:stretch/>
        </p:blipFill>
        <p:spPr>
          <a:xfrm>
            <a:off x="142884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4"/>
          <p:cNvSpPr/>
          <p:nvPr/>
        </p:nvSpPr>
        <p:spPr>
          <a:xfrm>
            <a:off x="6215040" y="0"/>
            <a:ext cx="2714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22 серпня 2011 року у сквері поряд із адміністративним корпусом Київського університету імені Бориса Грінченка по вул. Воровського 18/2 відбулося урочисте відкриття пам’ятника Грінченку (скульп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Обезюк М. Н., архіт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М.О. Бос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5" descr="1311.jpg"/>
          <p:cNvPicPr/>
          <p:nvPr/>
        </p:nvPicPr>
        <p:blipFill>
          <a:blip r:embed="rId1"/>
          <a:srcRect l="0" t="0" r="85" b="0"/>
          <a:stretch/>
        </p:blipFill>
        <p:spPr>
          <a:xfrm>
            <a:off x="1042920" y="4762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6357960" y="571680"/>
            <a:ext cx="2357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Споруда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історичного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Києва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дім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о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улиці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Гоголівській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, 8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фасаді якого встановлено меморіальну дошку з темно-сірого граніту у вигляді розкритого тому, з горельєфним бронзовим портретом Грінченка (скульптор А.Г.Чемерис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4" descr="IMG_7620.jpg"/>
          <p:cNvPicPr/>
          <p:nvPr/>
        </p:nvPicPr>
        <p:blipFill>
          <a:blip r:embed="rId1"/>
          <a:srcRect l="0" t="0" r="15" b="0"/>
          <a:stretch/>
        </p:blipFill>
        <p:spPr>
          <a:xfrm>
            <a:off x="395280" y="5493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5"/>
          <p:cNvSpPr/>
          <p:nvPr/>
        </p:nvSpPr>
        <p:spPr>
          <a:xfrm>
            <a:off x="6215040" y="428760"/>
            <a:ext cx="250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2008 р. –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рік 145-ї річниці з дня народження Б. Грінченка – було проведено Роком Бориса Грінченка в Університеті. До річниці розроблено нагрудний знак </a:t>
            </a:r>
            <a:r>
              <a:rPr b="1" i="1" lang="uk-UA" sz="2000" spc="-1" strike="noStrike">
                <a:solidFill>
                  <a:srgbClr val="000000"/>
                </a:solidFill>
                <a:latin typeface="Century Schoolbook"/>
              </a:rPr>
              <a:t>«За особистий внесок у розв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entury Schoolbook"/>
              </a:rPr>
              <a:t>Університе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та запроваджено іменну стипендію найкращим студен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:\Users\Asya\Desktop\800px-Фото_Могила_Б.Д._Грінченка.jpg"/>
          <p:cNvPicPr/>
          <p:nvPr/>
        </p:nvPicPr>
        <p:blipFill>
          <a:blip r:embed="rId1"/>
          <a:stretch/>
        </p:blipFill>
        <p:spPr>
          <a:xfrm>
            <a:off x="304920" y="156060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3"/>
          <p:cNvSpPr/>
          <p:nvPr/>
        </p:nvSpPr>
        <p:spPr>
          <a:xfrm>
            <a:off x="6215040" y="3929040"/>
            <a:ext cx="25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Мог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Б.Д. Грінч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На Байковому кладовищі у Киє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загруженн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Епіграф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95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Хто згубить честь,той        уже не віднай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Народна мудрі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соціативний кущ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итинст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Line 4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2987640" y="2565360"/>
            <a:ext cx="1154160" cy="12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714920" y="2492280"/>
            <a:ext cx="73080" cy="1657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5508720" y="2492280"/>
            <a:ext cx="576000" cy="151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6084720" y="2349360"/>
            <a:ext cx="1151280" cy="1150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123640" y="2349360"/>
            <a:ext cx="1297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діжка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це злочин, який карається законом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таття 10 Кримінального кодексу України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говорить: “ Таємне викрадення індивідуального майна громадян карається позбавленням волі на строк до трьох років або виправними роботами строком до двох років ”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33" name="Picture 5" descr="d_015"/>
          <p:cNvPicPr/>
          <p:nvPr/>
        </p:nvPicPr>
        <p:blipFill>
          <a:blip r:embed="rId1"/>
          <a:stretch/>
        </p:blipFill>
        <p:spPr>
          <a:xfrm>
            <a:off x="6764400" y="4365720"/>
            <a:ext cx="2060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с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 вважаю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ому що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приклад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же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113158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3240" y="4680"/>
            <a:ext cx="912024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“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Драматизаці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виразне читання твору за ролями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Олександра, Пріська, вчит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Олександра і ді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а – учитель і ді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Робота в груп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класти простий план оповіда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ти відповіді на запитання(картк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писати художні засоби. Яка їх рол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Літературознавчий сло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49952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Антитез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від грецького слова - протилежний )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 зіставлення протилежних явищ, думок,почуттів, рис характе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Object 6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86407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Ридати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- голосно плакати,схлипуючи і захлинаючись сльозам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-324360" y="2133720"/>
            <a:ext cx="92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Плакат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лити сльози від горя, бо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en-US" sz="2800" spc="-1" strike="noStrike">
                <a:solidFill>
                  <a:srgbClr val="00ff00"/>
                </a:solidFill>
                <a:latin typeface="Garamond"/>
              </a:rPr>
              <a:t>Чому Б.Грінченко неодноразово вживає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Garamond"/>
              </a:rPr>
              <a:t>оповіданні слово “ ридати ”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Риси характер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лександ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5928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ісь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1258560" y="2637000"/>
            <a:ext cx="360360" cy="115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2124000" y="2565360"/>
            <a:ext cx="576360" cy="1224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2700360" y="2565360"/>
            <a:ext cx="79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468000" y="2565360"/>
            <a:ext cx="647640" cy="100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4500360" y="2637000"/>
            <a:ext cx="647640" cy="1079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5292360" y="2637000"/>
            <a:ext cx="360360" cy="1295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6588000" y="2565360"/>
            <a:ext cx="1008360" cy="79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"/>
          <p:cNvSpPr/>
          <p:nvPr/>
        </p:nvSpPr>
        <p:spPr>
          <a:xfrm>
            <a:off x="6084720" y="2637000"/>
            <a:ext cx="719280" cy="1152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aramond"/>
              </a:rPr>
              <a:t>Сенкан</a:t>
            </a: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e5e5ff"/>
                </a:solidFill>
                <a:latin typeface="Garamond"/>
              </a:rPr>
              <a:t>– це білий вірш, в якому синтезована інформація в стислому вислові з п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e5e5ff"/>
                </a:solidFill>
                <a:latin typeface="Garamond"/>
              </a:rPr>
              <a:t>яти рядків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Garamond"/>
              </a:rPr>
              <a:t>Алгоритм складання сенкан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Тема(іменни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Опис(прикметни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Дія(дієслово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Ставлення(фраза), почуття з приводу обговорюван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Перефразування сутності(синонім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Тема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итина, злочин і філософія прощення ”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за оповіданням Бориса Грінченка “ Украла 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Коло думок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Як ви ставитеся до вчинку Олександри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“ </a:t>
            </a: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Вона мовчала і сиділа непорушно, як кам</a:t>
            </a:r>
            <a:r>
              <a:rPr b="0" i="1" lang="en-US" sz="3200" spc="-1" strike="noStrike">
                <a:solidFill>
                  <a:srgbClr val="008000"/>
                </a:solidFill>
                <a:latin typeface="Garamond"/>
              </a:rPr>
              <a:t>’</a:t>
            </a:r>
            <a:r>
              <a:rPr b="0" i="1" lang="uk-UA" sz="3200" spc="-1" strike="noStrike">
                <a:solidFill>
                  <a:srgbClr val="008000"/>
                </a:solidFill>
                <a:latin typeface="Garamond"/>
              </a:rPr>
              <a:t>яна ”, “…голосне гірке ридання розітнулося у школі ” ,“…вона нічого не хотіла їсти і все плакала 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Яке ставлення передає автор цими рядками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Garamond"/>
              </a:rPr>
              <a:t>А як ставились до вчинку школярі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Стратити…не можна…помилува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618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3780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3851280" y="342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Garamond"/>
              </a:rPr>
              <a:t>Стратити, не можна помилувати.</a:t>
            </a: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8000"/>
                </a:solidFill>
                <a:latin typeface="Garamond"/>
              </a:rPr>
              <a:t>Стратити не можна, помилувати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актори, які сприяли злочин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лоч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Line 4"/>
          <p:cNvSpPr/>
          <p:nvPr/>
        </p:nvSpPr>
        <p:spPr>
          <a:xfrm flipH="1">
            <a:off x="3276360" y="3789360"/>
            <a:ext cx="6476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4356000" y="3860640"/>
            <a:ext cx="287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5076720" y="3860640"/>
            <a:ext cx="1008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"/>
          <p:cNvSpPr/>
          <p:nvPr/>
        </p:nvSpPr>
        <p:spPr>
          <a:xfrm flipH="1">
            <a:off x="2123640" y="3789360"/>
            <a:ext cx="1079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 flipH="1" flipV="1">
            <a:off x="2050920" y="2708280"/>
            <a:ext cx="1152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 flipH="1" flipV="1">
            <a:off x="3276360" y="1989000"/>
            <a:ext cx="431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 flipV="1">
            <a:off x="4211640" y="1773000"/>
            <a:ext cx="730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 flipV="1">
            <a:off x="4716360" y="191592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5435640" y="2997000"/>
            <a:ext cx="115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- Що ж допомогло однокласникам простити Олександру її “ гріхи ”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ощенн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Line 4"/>
          <p:cNvSpPr/>
          <p:nvPr/>
        </p:nvSpPr>
        <p:spPr>
          <a:xfrm flipH="1">
            <a:off x="2442960" y="387972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"/>
          <p:cNvSpPr/>
          <p:nvPr/>
        </p:nvSpPr>
        <p:spPr>
          <a:xfrm>
            <a:off x="4861080" y="3887640"/>
            <a:ext cx="100800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"/>
          <p:cNvSpPr/>
          <p:nvPr/>
        </p:nvSpPr>
        <p:spPr>
          <a:xfrm flipH="1" flipV="1">
            <a:off x="2842920" y="2060640"/>
            <a:ext cx="865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 flipV="1">
            <a:off x="5005440" y="2060640"/>
            <a:ext cx="7189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блемне пит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 чим спонукає замислитись твір Б.Грінченка “ Украла 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7" name="Picture 5" descr="images"/>
          <p:cNvPicPr/>
          <p:nvPr/>
        </p:nvPicPr>
        <p:blipFill>
          <a:blip r:embed="rId1"/>
          <a:stretch/>
        </p:blipFill>
        <p:spPr>
          <a:xfrm>
            <a:off x="3995640" y="321156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images"/>
          <p:cNvPicPr/>
          <p:nvPr/>
        </p:nvPicPr>
        <p:blipFill>
          <a:blip r:embed="rId2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images"/>
          <p:cNvPicPr/>
          <p:nvPr/>
        </p:nvPicPr>
        <p:blipFill>
          <a:blip r:embed="rId3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images"/>
          <p:cNvPicPr/>
          <p:nvPr/>
        </p:nvPicPr>
        <p:blipFill>
          <a:blip r:embed="rId4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images"/>
          <p:cNvPicPr/>
          <p:nvPr/>
        </p:nvPicPr>
        <p:blipFill>
          <a:blip r:embed="rId5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загруженн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Епіграф уроку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95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Хто згубить честь,той        уже не віднай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Garamond"/>
              </a:rPr>
              <a:t>Народна мудрі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езакінчене речення 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зрозуміла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зрозумі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перекона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авчи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отрима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дізнав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</a:rPr>
              <a:t>Біблія – Книга Кни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79280" y="40428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99" name="Picture 2" descr="0001-001-Biblija-kniga-knig"/>
          <p:cNvPicPr/>
          <p:nvPr/>
        </p:nvPicPr>
        <p:blipFill>
          <a:blip r:embed="rId1"/>
          <a:srcRect l="0" t="0" r="27" b="-61"/>
          <a:stretch/>
        </p:blipFill>
        <p:spPr>
          <a:xfrm>
            <a:off x="250920" y="476280"/>
            <a:ext cx="820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Божі заповід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1.Господь,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Бог твій, і нехай не буде тобі інших Богів переді мно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роби собі подоби Бо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призивай Імення Господа, Бога твого на дарем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Пам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ятай день суботній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недільний), щоб святити йо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5.Шануй свого батька та матір сво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вбива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чини перелюбу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крад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свідкуй неправдиво на свого ближньо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 заздри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блемне пит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 чим спонукає замислитись твір Б.Грінченка “ Украла 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1" name="Picture 5" descr="images"/>
          <p:cNvPicPr/>
          <p:nvPr/>
        </p:nvPicPr>
        <p:blipFill>
          <a:blip r:embed="rId1"/>
          <a:stretch/>
        </p:blipFill>
        <p:spPr>
          <a:xfrm>
            <a:off x="3995640" y="321156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images"/>
          <p:cNvPicPr/>
          <p:nvPr/>
        </p:nvPicPr>
        <p:blipFill>
          <a:blip r:embed="rId2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images"/>
          <p:cNvPicPr/>
          <p:nvPr/>
        </p:nvPicPr>
        <p:blipFill>
          <a:blip r:embed="rId3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images"/>
          <p:cNvPicPr/>
          <p:nvPr/>
        </p:nvPicPr>
        <p:blipFill>
          <a:blip r:embed="rId4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images"/>
          <p:cNvPicPr/>
          <p:nvPr/>
        </p:nvPicPr>
        <p:blipFill>
          <a:blip r:embed="rId5"/>
          <a:stretch/>
        </p:blipFill>
        <p:spPr>
          <a:xfrm>
            <a:off x="3995640" y="3213000"/>
            <a:ext cx="3961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Домашнє завданн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аписати твір-роздум на те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хочу, щоб усі діти були щасливими. Але як це зробити? 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Вивчити напа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ть Божі запові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4" name="Picture 4" descr="images (5)"/>
          <p:cNvPicPr/>
          <p:nvPr/>
        </p:nvPicPr>
        <p:blipFill>
          <a:blip r:embed="rId1"/>
          <a:stretch/>
        </p:blipFill>
        <p:spPr>
          <a:xfrm>
            <a:off x="3203640" y="4365720"/>
            <a:ext cx="338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400068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00"/>
                </a:solidFill>
                <a:latin typeface="Arial"/>
              </a:rPr>
              <a:t>БОРИС ГРІНЧЕНКО</a:t>
            </a:r>
            <a:br>
              <a:rPr sz="4500"/>
            </a:br>
            <a:r>
              <a:rPr b="1" lang="uk-UA" sz="4500" spc="-1" strike="noStrike">
                <a:solidFill>
                  <a:srgbClr val="000000"/>
                </a:solidFill>
                <a:latin typeface="Arial"/>
              </a:rPr>
              <a:t>(1863-1910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" descr="C:\Documents and Settings\Penek\Рабочий стол\200px-Boris20121123.jpg"/>
          <p:cNvPicPr/>
          <p:nvPr/>
        </p:nvPicPr>
        <p:blipFill>
          <a:blip r:embed="rId1"/>
          <a:stretch/>
        </p:blipFill>
        <p:spPr>
          <a:xfrm>
            <a:off x="4514760" y="0"/>
            <a:ext cx="46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родився 9 грудня 1863 року у дворянській родині на хуторі Вільховий Яр Харківського по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атько (відставний штабс-капітан) був сухою, суворою людиною. Усе в домі він намагався поставити на “панську” ногу, не раз карав сина за те, що він товаришував з “селюхам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 все життя запам'ятав Борис Дмитрович Грінченко ніжні руки матері, її тихий голос. Вона – росіянка, дочка полковника, - понад усе любила свого первістка і ,як могла, оберігала від холодних батькових о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епло і ласку знаходив хлопець у діда Андрія, старого пасічника, та його сліпої дружини баби Гальки. Від них перейняв рідну мову, народну пісню і проніс любов до рідного слова через усе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фон мейн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932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батько мати картинка"/>
          <p:cNvPicPr/>
          <p:nvPr/>
        </p:nvPicPr>
        <p:blipFill>
          <a:blip r:embed="rId2"/>
          <a:stretch/>
        </p:blipFill>
        <p:spPr>
          <a:xfrm>
            <a:off x="0" y="0"/>
            <a:ext cx="8820000" cy="6508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батько мати текст"/>
          <p:cNvPicPr/>
          <p:nvPr/>
        </p:nvPicPr>
        <p:blipFill>
          <a:blip r:embed="rId3"/>
          <a:stretch/>
        </p:blipFill>
        <p:spPr>
          <a:xfrm>
            <a:off x="-252360" y="0"/>
            <a:ext cx="9396360" cy="69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285840" y="142920"/>
            <a:ext cx="82152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У п'ять років  навчився читати і майже одночасно почав писати. Шестирічним хлопчиком складав вірші і “видавав” на своєму хуторі кілька “журналів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З одинадцятирічного віку  Бориса віддали в середню школу в Харкові.  Тут він продовжує свою “літературну” діяльність: “видає”, крім російського, і український журнал, глибше знайомиться з літературою, народною творч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фото1"/>
          <p:cNvPicPr/>
          <p:nvPr/>
        </p:nvPicPr>
        <p:blipFill>
          <a:blip r:embed="rId1"/>
          <a:stretch/>
        </p:blipFill>
        <p:spPr>
          <a:xfrm>
            <a:off x="539640" y="2060640"/>
            <a:ext cx="54723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4:21:58Z</dcterms:created>
  <dc:creator>usr</dc:creator>
  <dc:description/>
  <dc:language>en-US</dc:language>
  <cp:lastModifiedBy>usr</cp:lastModifiedBy>
  <dcterms:modified xsi:type="dcterms:W3CDTF">2015-02-22T10:37:37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33000000000001024140</vt:lpwstr>
  </property>
</Properties>
</file>