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5.png" ContentType="image/png"/>
  <Override PartName="/ppt/media/image43.wmf" ContentType="image/x-wmf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8299-9523-4B18-B976-88A32028C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B40-75E1-4889-8D8B-B6EC641CD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780-A279-4307-8965-04C6AB24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76B-655F-495C-8BFE-7A58303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AAA-125F-4309-8CF2-BF7BCEB4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628-2718-4FA6-8E14-9D439309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0D9F-7736-4C0A-B73B-E03EE7DE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8535-82D9-45F4-BE28-206E2F05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5BC4-FBEF-4F1F-AB31-3B84BC62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9D30-1B63-460E-8D2B-D1145023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4B75-864B-4911-AD3E-CD750105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9456-841C-4CFA-97A0-34058BF6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EB8C-980E-4278-ADA2-DB6A63C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0B2-5972-4BF9-A509-F00BFF46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7F74-53AB-4367-8098-E3D1914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3456-E5DA-4290-B23E-05D749B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ED03-EE5C-4486-9263-FB900218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A1DB-3201-49D0-BFF7-0EA72991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19C5-43F8-49EB-9589-F3610C90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8320-9AA9-40C2-9CB4-34DB5E23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5A0F-B009-48C9-960E-BAB976B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BCBE-46E5-4E7E-AB1B-B574BF93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B18D-7B21-4A1E-B356-975248DD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74D9-E384-4EB9-BD30-63956B05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930-175F-44BC-870E-4F614781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ABD0-95B5-458B-8F62-2411FE12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9342-E6EB-4921-B491-1E6BBAD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A8FC-A0BC-42CF-92AA-5319C50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89FF-778B-48BB-85F9-A5BB329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627C-BC9E-4FCF-9FC1-8B712786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EBB0-868F-4E84-9D97-C64EBD23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E088-2943-4BFE-A783-B1C83A94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AC395-3BEB-4EF2-9A1F-0A5899CF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31B1F-DFB8-4FB7-A938-806E6A80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13315-95D6-4A58-B09A-5D96B19D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2A8-C01E-4D5D-AA8F-030E0D0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BD894-78F1-4ACB-AC38-A55B218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B4544-6020-41FC-9CB6-01FC317C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2C206-E845-412E-8260-9ABA5A30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1538B-F61C-4299-94D9-16D862A6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D7D53-2FE1-4F03-9948-DA8741E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BD894-0E5F-4033-8059-A5DAD84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6348B-7E7E-46F2-B440-D6F9EEBB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75D60-FE26-4401-B3F9-2D7C22C2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7BB39-52A6-4A9A-BF60-07CEAC7E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B6E7C-BEE0-40E9-AD6A-D608E47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59A-2583-47F2-B1D6-0314E02C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571F-5EC6-4724-8807-5DCBF44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172C0-05B6-41A8-B606-F3D87F0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7DBC8-5099-492D-917B-2B4E4E04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2F2D-D272-4228-9991-50337F9E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6B1E-5724-4CE3-9767-86363735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FB8DF-980A-4439-BF61-9A19C143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BCB0-2AA7-47CC-BDDA-7E7A9AD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1AB9-F26E-489D-AF0E-A910B0EF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BE73-3B15-479F-BCF1-400390DC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E1A2-725C-477E-8F50-C8F0B9F0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608-0472-423A-9966-10CBA804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B23F-CDAF-44CC-BDA1-A01BC364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DF147-753D-4B31-B5E5-B0558965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E8EA0-6881-4589-AAC0-FFE454EA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5BF30-987F-4BFE-972E-C1E6AF8E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54BA7-06D6-4EDD-BB95-FD65DE7A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66C29-0CDF-4F11-8D88-CDD9D6D1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35697-D605-4D60-B466-8E69CC6C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31064-068E-4EB2-AE75-5CBEB1A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67417-28BA-4ACA-98F8-F59B3F4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68374-92FC-40BF-A82F-2BA3EA3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F8A-FEDF-4434-B87D-6E59FF0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DA717-194A-4D49-81C0-45A3D52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26D02-59BD-4040-B9B6-A805A139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A3421-1F06-4141-A6CB-62A07BF4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FE8F-CCEE-4A88-B63A-416CC5FC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1326-9BF5-4ED3-B239-3E311C11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4C150-FC58-4CAC-992B-0FAFD68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3FF36-F8D2-4150-A3E1-7D7D8DAE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7607-4AE9-4CFA-AA34-BD31D7F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7F758-1087-4088-BBB7-FA14B47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AC6A8-2148-4CA5-8790-21BBB27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984-39EA-44D0-85F5-885A66DA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8B7D-7F07-4483-BA84-24A077C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CA8A7-4C71-4ABE-A95B-10C434B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093C2-AA7C-47DD-8562-2A6AF245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DFAC-AEA3-4445-A87F-74DF4D31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670BF-85A6-4F3A-8438-645D5E9D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829-B166-4DDC-B4BC-F8BAFC55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9394-AE36-4E25-B969-2F6B2013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59FC-2767-4B3A-A40A-8CF1DA04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1B98-5CB2-474D-869A-9F7509623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BE7A-AA95-47A2-B7BC-E428B1EE4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59CE-6CC4-4F23-913B-D02DD6234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F49-2D95-47F5-985A-09883709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6A44-1D3A-416D-B615-B86E11948C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загруженное"/>
          <p:cNvPicPr/>
          <p:nvPr/>
        </p:nvPicPr>
        <p:blipFill>
          <a:blip r:embed="rId1"/>
          <a:stretch/>
        </p:blipFill>
        <p:spPr>
          <a:xfrm>
            <a:off x="-36360" y="27000"/>
            <a:ext cx="9685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6" descr="Kobzar_1911.jpg"/>
          <p:cNvPicPr/>
          <p:nvPr/>
        </p:nvPicPr>
        <p:blipFill>
          <a:blip r:embed="rId1"/>
          <a:srcRect l="0" t="0" r="0" b="-94"/>
          <a:stretch/>
        </p:blipFill>
        <p:spPr>
          <a:xfrm>
            <a:off x="250920" y="333360"/>
            <a:ext cx="5472000" cy="60483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357960" y="499680"/>
            <a:ext cx="2357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Одного разу, на канікулах, перебираючи старі книжки у батьковій скрині, Борис натрапив на Шевченкового “Кобзаря”. Він одним духом прочитав книжку і на все життя полюбив Шевченков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2"/>
          <p:cNvSpPr/>
          <p:nvPr/>
        </p:nvSpPr>
        <p:spPr>
          <a:xfrm>
            <a:off x="285840" y="0"/>
            <a:ext cx="82152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Однак доля розпорядилася так, що навчальний за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Б. Грінченкові не випало закінчити: за читання забороненої літератури його було виключено зі школи й ув'язне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'ятнадцятирічному юнакові довелося пережити допити, знущання, холод і голод. Коли поліція зрозуміла, що нічого не доб'ється від хлопця, його було звільнено на поруки батька і відправлено на хутір. Умов для продовження навчання більше не було: підірване здоров'я, матеріальні неста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Б. Грінченкові вдало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ідготувати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і скласти екза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а звання народного в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ри Харківському університе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ід здобуває посаду в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й одночасно почина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активно займа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літературною діяльн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http://xxivek.com.ua/res/img/uploads/96a5ad4c84004ea8afcf9caa5dcd4a11.jpg"/>
          <p:cNvPicPr/>
          <p:nvPr/>
        </p:nvPicPr>
        <p:blipFill>
          <a:blip r:embed="rId1"/>
          <a:stretch/>
        </p:blipFill>
        <p:spPr>
          <a:xfrm>
            <a:off x="4643280" y="257184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285840" y="564372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У 1881 році в журналі “Світ”  Іван Франко вперше друкує вірші по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286320" y="-360"/>
            <a:ext cx="285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883 ро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курсах вчите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Зміє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знайомив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 молодою вчительк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іє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C:\Users\Asya\Desktop\H_005.jpg"/>
          <p:cNvPicPr/>
          <p:nvPr/>
        </p:nvPicPr>
        <p:blipFill>
          <a:blip r:embed="rId1"/>
          <a:stretch/>
        </p:blipFill>
        <p:spPr>
          <a:xfrm>
            <a:off x="654120" y="274680"/>
            <a:ext cx="49402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8" descr="фон"/>
          <p:cNvPicPr/>
          <p:nvPr/>
        </p:nvPicPr>
        <p:blipFill>
          <a:blip r:embed="rId1"/>
          <a:stretch/>
        </p:blipFill>
        <p:spPr>
          <a:xfrm>
            <a:off x="-108000" y="0"/>
            <a:ext cx="9326520" cy="6880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текст1"/>
          <p:cNvPicPr/>
          <p:nvPr/>
        </p:nvPicPr>
        <p:blipFill>
          <a:blip r:embed="rId2"/>
          <a:stretch/>
        </p:blipFill>
        <p:spPr>
          <a:xfrm>
            <a:off x="0" y="0"/>
            <a:ext cx="9144000" cy="1406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текст2"/>
          <p:cNvPicPr/>
          <p:nvPr/>
        </p:nvPicPr>
        <p:blipFill>
          <a:blip r:embed="rId3"/>
          <a:stretch/>
        </p:blipFill>
        <p:spPr>
          <a:xfrm>
            <a:off x="0" y="1125360"/>
            <a:ext cx="9360000" cy="1751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фото"/>
          <p:cNvPicPr/>
          <p:nvPr/>
        </p:nvPicPr>
        <p:blipFill>
          <a:blip r:embed="rId4"/>
          <a:stretch/>
        </p:blipFill>
        <p:spPr>
          <a:xfrm>
            <a:off x="2357280" y="1928880"/>
            <a:ext cx="6677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214680" y="0"/>
            <a:ext cx="2714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887 року молоде подружжя Грінченків приїздить до села Олексіїв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лавяносербськог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віт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в школу,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опікуєтьс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яко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Христин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лчевська, вже тоді  відома своїми новаторськими ідеями в осві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C:\Users\Asya\Desktop\1273097820_grinchenko3.jpg"/>
          <p:cNvPicPr/>
          <p:nvPr/>
        </p:nvPicPr>
        <p:blipFill>
          <a:blip r:embed="rId1"/>
          <a:stretch/>
        </p:blipFill>
        <p:spPr>
          <a:xfrm>
            <a:off x="500040" y="357120"/>
            <a:ext cx="526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286680" y="-360"/>
            <a:ext cx="2428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рі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їзді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інченк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кінчи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стусин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итан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», яка служил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вчанн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ласної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онечки й сільських дітей.  Наступного року  була підготовле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країнсь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амат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ом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 учнями Борис Дмитрович видає рукописний журнал «Дум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Содержимое 4" descr="Grinchenko2.png"/>
          <p:cNvPicPr/>
          <p:nvPr/>
        </p:nvPicPr>
        <p:blipFill>
          <a:blip r:embed="rId1"/>
          <a:stretch/>
        </p:blipFill>
        <p:spPr>
          <a:xfrm>
            <a:off x="142920" y="1143000"/>
            <a:ext cx="6000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фон"/>
          <p:cNvPicPr/>
          <p:nvPr/>
        </p:nvPicPr>
        <p:blipFill>
          <a:blip r:embed="rId1"/>
          <a:stretch/>
        </p:blipFill>
        <p:spPr>
          <a:xfrm>
            <a:off x="-108000" y="0"/>
            <a:ext cx="9326520" cy="688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текст"/>
          <p:cNvPicPr/>
          <p:nvPr/>
        </p:nvPicPr>
        <p:blipFill>
          <a:blip r:embed="rId2"/>
          <a:stretch/>
        </p:blipFill>
        <p:spPr>
          <a:xfrm>
            <a:off x="-2500200" y="-571680"/>
            <a:ext cx="13501440" cy="79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фон"/>
          <p:cNvPicPr/>
          <p:nvPr/>
        </p:nvPicPr>
        <p:blipFill>
          <a:blip r:embed="rId1"/>
          <a:stretch/>
        </p:blipFill>
        <p:spPr>
          <a:xfrm>
            <a:off x="-74520" y="0"/>
            <a:ext cx="9326520" cy="6880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1" descr="текст1"/>
          <p:cNvPicPr/>
          <p:nvPr/>
        </p:nvPicPr>
        <p:blipFill>
          <a:blip r:embed="rId2"/>
          <a:stretch/>
        </p:blipFill>
        <p:spPr>
          <a:xfrm>
            <a:off x="-142920" y="-214200"/>
            <a:ext cx="9462960" cy="3143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фото1"/>
          <p:cNvPicPr/>
          <p:nvPr/>
        </p:nvPicPr>
        <p:blipFill>
          <a:blip r:embed="rId3"/>
          <a:stretch/>
        </p:blipFill>
        <p:spPr>
          <a:xfrm>
            <a:off x="142920" y="2286000"/>
            <a:ext cx="5357880" cy="4305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текст2"/>
          <p:cNvPicPr/>
          <p:nvPr/>
        </p:nvPicPr>
        <p:blipFill>
          <a:blip r:embed="rId4"/>
          <a:stretch/>
        </p:blipFill>
        <p:spPr>
          <a:xfrm>
            <a:off x="-1000080" y="5214960"/>
            <a:ext cx="10787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285640" y="5214600"/>
            <a:ext cx="617220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Arial"/>
              </a:rPr>
              <a:t>         </a:t>
            </a:r>
            <a:r>
              <a:rPr b="0" i="1" lang="uk-UA" sz="1900" spc="-1" strike="noStrike">
                <a:solidFill>
                  <a:srgbClr val="0d0d0d"/>
                </a:solidFill>
                <a:latin typeface="Arial"/>
              </a:rPr>
              <a:t>Донька Грінченків, Настя, на початку 1906 року захворіла на  туберкульоз. Невдовзі Настя Грінченко померла, а вслід за нею і її крихітний син, єдиний внук письменни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https://encrypted-tbn1.gstatic.com/images?q=tbn:ANd9GcS6XMOxUrzd6gqM0E9Vg0SKWLylSrXA3nNVxJQTUl_d-ieBgW-O"/>
          <p:cNvPicPr/>
          <p:nvPr/>
        </p:nvPicPr>
        <p:blipFill>
          <a:blip r:embed="rId1"/>
          <a:stretch/>
        </p:blipFill>
        <p:spPr>
          <a:xfrm>
            <a:off x="2195640" y="0"/>
            <a:ext cx="3714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8" descr="фон"/>
          <p:cNvPicPr/>
          <p:nvPr/>
        </p:nvPicPr>
        <p:blipFill>
          <a:blip r:embed="rId1"/>
          <a:stretch/>
        </p:blipFill>
        <p:spPr>
          <a:xfrm>
            <a:off x="0" y="0"/>
            <a:ext cx="93963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езакінчене речення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Я бажаю…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фон4_2"/>
          <p:cNvPicPr/>
          <p:nvPr/>
        </p:nvPicPr>
        <p:blipFill>
          <a:blip r:embed="rId1"/>
          <a:stretch/>
        </p:blipFill>
        <p:spPr>
          <a:xfrm>
            <a:off x="0" y="0"/>
            <a:ext cx="9396360" cy="69325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текст4_2"/>
          <p:cNvPicPr/>
          <p:nvPr/>
        </p:nvPicPr>
        <p:blipFill>
          <a:blip r:embed="rId2"/>
          <a:stretch/>
        </p:blipFill>
        <p:spPr>
          <a:xfrm>
            <a:off x="0" y="0"/>
            <a:ext cx="9429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286680" y="-360"/>
            <a:ext cx="2714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інченко - автор близ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50 оповіда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Чудова дівчина», 188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Сама, зовсім сама», 188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Олеся»,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89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Украла», 189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Дзвоник», 18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а і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274320"/>
            <a:ext cx="635796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Оповідання"/>
          <p:cNvPicPr/>
          <p:nvPr/>
        </p:nvPicPr>
        <p:blipFill>
          <a:blip r:embed="rId1"/>
          <a:stretch/>
        </p:blipFill>
        <p:spPr>
          <a:xfrm>
            <a:off x="857160" y="357120"/>
            <a:ext cx="478656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357600" y="-360"/>
            <a:ext cx="2500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ві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ориса Грінч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Сонячний промінь», 189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На розпутті», 189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Серед темної ночі», 190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 Під тихими вербами», 1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Содержимое 3" descr="kavuny.gif"/>
          <p:cNvPicPr/>
          <p:nvPr/>
        </p:nvPicPr>
        <p:blipFill>
          <a:blip r:embed="rId1"/>
          <a:stretch/>
        </p:blipFill>
        <p:spPr>
          <a:xfrm>
            <a:off x="0" y="357120"/>
            <a:ext cx="1809720" cy="2238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http://chytanka.com.ua/ebooks/files/obkl1/kazky25-05-09.gif"/>
          <p:cNvPicPr/>
          <p:nvPr/>
        </p:nvPicPr>
        <p:blipFill>
          <a:blip r:embed="rId2"/>
          <a:stretch/>
        </p:blipFill>
        <p:spPr>
          <a:xfrm>
            <a:off x="2071800" y="0"/>
            <a:ext cx="2279520" cy="2819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Penek\Рабочий стол\ksenja-130409.jpg"/>
          <p:cNvPicPr/>
          <p:nvPr/>
        </p:nvPicPr>
        <p:blipFill>
          <a:blip r:embed="rId3"/>
          <a:stretch/>
        </p:blipFill>
        <p:spPr>
          <a:xfrm>
            <a:off x="0" y="2714760"/>
            <a:ext cx="2254320" cy="2786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C:\Documents and Settings\Penek\Рабочий стол\les-preslavnyj-hajdamaka.jpg"/>
          <p:cNvPicPr/>
          <p:nvPr/>
        </p:nvPicPr>
        <p:blipFill>
          <a:blip r:embed="rId4"/>
          <a:stretch/>
        </p:blipFill>
        <p:spPr>
          <a:xfrm>
            <a:off x="4000680" y="3000240"/>
            <a:ext cx="2197080" cy="2714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C:\Documents and Settings\Penek\Рабочий стол\ukrala20062011.jpg"/>
          <p:cNvPicPr/>
          <p:nvPr/>
        </p:nvPicPr>
        <p:blipFill>
          <a:blip r:embed="rId5"/>
          <a:stretch/>
        </p:blipFill>
        <p:spPr>
          <a:xfrm>
            <a:off x="2071800" y="3929040"/>
            <a:ext cx="2079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Содержимое 6" descr="gj.jpg"/>
          <p:cNvPicPr/>
          <p:nvPr/>
        </p:nvPicPr>
        <p:blipFill>
          <a:blip r:embed="rId1"/>
          <a:stretch/>
        </p:blipFill>
        <p:spPr>
          <a:xfrm>
            <a:off x="642960" y="500040"/>
            <a:ext cx="4786200" cy="59292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215040" y="-360"/>
            <a:ext cx="2928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бірки поезі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Пісні Василя Чайченка», 188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Під сільською стріхою», 188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Під хмарним небом», 1893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000000"/>
                </a:solidFill>
                <a:latin typeface="Monotype Corsiva"/>
              </a:rPr>
              <a:t>Вшанування</a:t>
            </a:r>
            <a:br>
              <a:rPr sz="7200"/>
            </a:br>
            <a:br>
              <a:rPr sz="49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715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9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i="1" lang="uk-UA" sz="9600" spc="-1" strike="noStrike">
                <a:solidFill>
                  <a:srgbClr val="000000"/>
                </a:solidFill>
                <a:latin typeface="Monotype Corsiva"/>
              </a:rPr>
              <a:t>пам'ят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Содержимое 4" descr="Grinchenko.png"/>
          <p:cNvPicPr/>
          <p:nvPr/>
        </p:nvPicPr>
        <p:blipFill>
          <a:blip r:embed="rId1"/>
          <a:stretch/>
        </p:blipFill>
        <p:spPr>
          <a:xfrm>
            <a:off x="0" y="1714680"/>
            <a:ext cx="6143760" cy="400032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3"/>
          <p:cNvSpPr/>
          <p:nvPr/>
        </p:nvSpPr>
        <p:spPr>
          <a:xfrm>
            <a:off x="6286680" y="2857680"/>
            <a:ext cx="2428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ародний меморіально-літературний музей Бориса Гр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ч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с. Олексіївка на Луганщин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Penek\Рабочий стол\Pam_GR3.jpg"/>
          <p:cNvPicPr/>
          <p:nvPr/>
        </p:nvPicPr>
        <p:blipFill>
          <a:blip r:embed="rId1"/>
          <a:stretch/>
        </p:blipFill>
        <p:spPr>
          <a:xfrm>
            <a:off x="142884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4"/>
          <p:cNvSpPr/>
          <p:nvPr/>
        </p:nvSpPr>
        <p:spPr>
          <a:xfrm>
            <a:off x="6215040" y="0"/>
            <a:ext cx="2714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22 серпня 2011 року у сквері поряд із адміністративним корпусом Київського університету імені Бориса Грінченка по вул. Воровського 18/2 відбулося урочисте відкриття пам’ятника Грінченку (скульп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Обезюк М. Н., архіт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М.О. Бос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5" descr="1311.jpg"/>
          <p:cNvPicPr/>
          <p:nvPr/>
        </p:nvPicPr>
        <p:blipFill>
          <a:blip r:embed="rId1"/>
          <a:srcRect l="0" t="0" r="85" b="0"/>
          <a:stretch/>
        </p:blipFill>
        <p:spPr>
          <a:xfrm>
            <a:off x="1042920" y="4762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6357960" y="571680"/>
            <a:ext cx="2357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Споруда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історичного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Києва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дім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по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улиці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Гоголівській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, 8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на </a:t>
            </a: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фасаді якого встановлено меморіальну дошку з темно-сірого граніту у вигляді розкритого тому, з горельєфним бронзовим портретом Грінченка (скульптор А.Г.Чемерис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4" descr="IMG_7620.jpg"/>
          <p:cNvPicPr/>
          <p:nvPr/>
        </p:nvPicPr>
        <p:blipFill>
          <a:blip r:embed="rId1"/>
          <a:srcRect l="0" t="0" r="15" b="0"/>
          <a:stretch/>
        </p:blipFill>
        <p:spPr>
          <a:xfrm>
            <a:off x="395280" y="54936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5"/>
          <p:cNvSpPr/>
          <p:nvPr/>
        </p:nvSpPr>
        <p:spPr>
          <a:xfrm>
            <a:off x="6215040" y="428760"/>
            <a:ext cx="2500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2008 р. –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рік 145-ї річниці з дня народження Б. Грінченка – було проведено Роком Бориса Грінченка в Університеті. До річниці розроблено нагрудний знак </a:t>
            </a:r>
            <a:r>
              <a:rPr b="1" i="1" lang="uk-UA" sz="2000" spc="-1" strike="noStrike">
                <a:solidFill>
                  <a:srgbClr val="000000"/>
                </a:solidFill>
                <a:latin typeface="Century Schoolbook"/>
              </a:rPr>
              <a:t>«За особистий внесок у розви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entury Schoolbook"/>
              </a:rPr>
              <a:t>Університет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та запроваджено іменну стипендію найкращим студен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C:\Users\Asya\Desktop\800px-Фото_Могила_Б.Д._Грінченка.jpg"/>
          <p:cNvPicPr/>
          <p:nvPr/>
        </p:nvPicPr>
        <p:blipFill>
          <a:blip r:embed="rId1"/>
          <a:stretch/>
        </p:blipFill>
        <p:spPr>
          <a:xfrm>
            <a:off x="304920" y="1560600"/>
            <a:ext cx="5638680" cy="37558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3"/>
          <p:cNvSpPr/>
          <p:nvPr/>
        </p:nvSpPr>
        <p:spPr>
          <a:xfrm>
            <a:off x="6215040" y="3929040"/>
            <a:ext cx="25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Мог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Б.Д. Грінч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а Байковому кладовищі у Киє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загруженно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Епіграф уроку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95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Хто згубить честь,той        уже не віднай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Народна мудрі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соціативний кущ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Дитинств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Line 4"/>
          <p:cNvSpPr/>
          <p:nvPr/>
        </p:nvSpPr>
        <p:spPr>
          <a:xfrm flipH="1">
            <a:off x="2123640" y="2349360"/>
            <a:ext cx="12970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 flipH="1">
            <a:off x="2987640" y="2565360"/>
            <a:ext cx="1154160" cy="12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714920" y="2492280"/>
            <a:ext cx="73080" cy="1657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5508720" y="2492280"/>
            <a:ext cx="576000" cy="151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6084720" y="2349360"/>
            <a:ext cx="1151280" cy="1150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9"/>
          <p:cNvSpPr/>
          <p:nvPr/>
        </p:nvSpPr>
        <p:spPr>
          <a:xfrm flipH="1">
            <a:off x="2123640" y="2349360"/>
            <a:ext cx="12970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2123640" y="2349360"/>
            <a:ext cx="12970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діжка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-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це злочин, який карається законом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таття 10 Кримінального кодексу України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говорить: “ Таємне викрадення індивідуального майна громадян карається позбавленням волі на строк до трьох років або виправними роботами строком до двох років ”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33" name="Picture 5" descr="d_015"/>
          <p:cNvPicPr/>
          <p:nvPr/>
        </p:nvPicPr>
        <p:blipFill>
          <a:blip r:embed="rId1"/>
          <a:stretch/>
        </p:blipFill>
        <p:spPr>
          <a:xfrm>
            <a:off x="6764400" y="4365720"/>
            <a:ext cx="20606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ес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Я вважаю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ому що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приклад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же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1131588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3240" y="4680"/>
            <a:ext cx="912024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“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Драматизаці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”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виразне читання твору за ролями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а – Олександра, Пріська, вчите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а – Олександра і ді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а – учитель і ді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Робота в груп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класти простий план оповіда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ти відповіді на запитання(картка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иписати художні засоби. Яка їх рол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Літературознавчий слов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49952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Антитез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від грецького слова - протилежний )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 зіставлення протилежних явищ, думок,почуттів, рис характе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5" name="Object 6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86407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Ридати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- голосно плакати,схлипуючи і захлинаючись сльозам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-324360" y="2133720"/>
            <a:ext cx="92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Плакат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лити сльози від горя, бо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i="1" lang="en-US" sz="2800" spc="-1" strike="noStrike">
                <a:solidFill>
                  <a:srgbClr val="00ff00"/>
                </a:solidFill>
                <a:latin typeface="Garamond"/>
              </a:rPr>
              <a:t>Чому Б.Грінченко неодноразово вживає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Garamond"/>
              </a:rPr>
              <a:t>оповіданні слово “ ридати ”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Риси характер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лександ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5928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ісь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Line 8"/>
          <p:cNvSpPr/>
          <p:nvPr/>
        </p:nvSpPr>
        <p:spPr>
          <a:xfrm flipH="1">
            <a:off x="1258560" y="2637000"/>
            <a:ext cx="360360" cy="1152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2124000" y="2565360"/>
            <a:ext cx="576360" cy="1224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2700360" y="2565360"/>
            <a:ext cx="792000" cy="1008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468000" y="2565360"/>
            <a:ext cx="647640" cy="1008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4500360" y="2637000"/>
            <a:ext cx="647640" cy="1079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5292360" y="2637000"/>
            <a:ext cx="360360" cy="1295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4"/>
          <p:cNvSpPr/>
          <p:nvPr/>
        </p:nvSpPr>
        <p:spPr>
          <a:xfrm>
            <a:off x="6588000" y="2565360"/>
            <a:ext cx="1008360" cy="792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"/>
          <p:cNvSpPr/>
          <p:nvPr/>
        </p:nvSpPr>
        <p:spPr>
          <a:xfrm>
            <a:off x="6084720" y="2637000"/>
            <a:ext cx="719280" cy="1152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aramond"/>
              </a:rPr>
              <a:t>Сенкан</a:t>
            </a: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e5e5ff"/>
                </a:solidFill>
                <a:latin typeface="Garamond"/>
              </a:rPr>
              <a:t>– це білий вірш, в якому синтезована інформація в стислому вислові з п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’</a:t>
            </a:r>
            <a:r>
              <a:rPr b="0" lang="uk-UA" sz="3200" spc="-1" strike="noStrike">
                <a:solidFill>
                  <a:srgbClr val="e5e5ff"/>
                </a:solidFill>
                <a:latin typeface="Garamond"/>
              </a:rPr>
              <a:t>яти рядків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Garamond"/>
              </a:rPr>
              <a:t>Алгоритм складання сенкан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Тема(іменник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Опис(прикметник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Дія(дієслово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Ставлення(фраза), почуття з приводу обговорювано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Перефразування сутності(синонім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Garamond"/>
              </a:rPr>
              <a:t>Тема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итина, злочин і філософія прощення ”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за оповіданням Бориса Грінченка “ Украла 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Коло думок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Garamond"/>
              </a:rPr>
              <a:t>Як ви ставитеся до вчинку Олександри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8000"/>
                </a:solidFill>
                <a:latin typeface="Garamond"/>
              </a:rPr>
              <a:t>“ </a:t>
            </a:r>
            <a:r>
              <a:rPr b="0" i="1" lang="uk-UA" sz="3200" spc="-1" strike="noStrike">
                <a:solidFill>
                  <a:srgbClr val="008000"/>
                </a:solidFill>
                <a:latin typeface="Garamond"/>
              </a:rPr>
              <a:t>Вона мовчала і сиділа непорушно, як кам</a:t>
            </a:r>
            <a:r>
              <a:rPr b="0" i="1" lang="en-US" sz="3200" spc="-1" strike="noStrike">
                <a:solidFill>
                  <a:srgbClr val="008000"/>
                </a:solidFill>
                <a:latin typeface="Garamond"/>
              </a:rPr>
              <a:t>’</a:t>
            </a:r>
            <a:r>
              <a:rPr b="0" i="1" lang="uk-UA" sz="3200" spc="-1" strike="noStrike">
                <a:solidFill>
                  <a:srgbClr val="008000"/>
                </a:solidFill>
                <a:latin typeface="Garamond"/>
              </a:rPr>
              <a:t>яна ”, “…голосне гірке ридання розітнулося у школі ” ,“…вона нічого не хотіла їсти і все плакала 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Garamond"/>
              </a:rPr>
              <a:t>Яке ставлення передає автор цими рядками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Garamond"/>
              </a:rPr>
              <a:t>А як ставились до вчинку школярі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Стратити…не можна…помилува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3618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378000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3851280" y="342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Garamond"/>
              </a:rPr>
              <a:t>Стратити, не можна помилувати.</a:t>
            </a: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008000"/>
                </a:solidFill>
                <a:latin typeface="Garamond"/>
              </a:rPr>
              <a:t>Стратити не можна, помилувати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актори, які сприяли злочин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Злоч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Line 4"/>
          <p:cNvSpPr/>
          <p:nvPr/>
        </p:nvSpPr>
        <p:spPr>
          <a:xfrm flipH="1">
            <a:off x="3276360" y="3789360"/>
            <a:ext cx="6476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4356000" y="3860640"/>
            <a:ext cx="287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5076720" y="3860640"/>
            <a:ext cx="1008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7"/>
          <p:cNvSpPr/>
          <p:nvPr/>
        </p:nvSpPr>
        <p:spPr>
          <a:xfrm flipH="1">
            <a:off x="2123640" y="3789360"/>
            <a:ext cx="1079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 flipH="1" flipV="1">
            <a:off x="2050920" y="2708280"/>
            <a:ext cx="1152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"/>
          <p:cNvSpPr/>
          <p:nvPr/>
        </p:nvSpPr>
        <p:spPr>
          <a:xfrm flipH="1" flipV="1">
            <a:off x="3276360" y="1989000"/>
            <a:ext cx="431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0"/>
          <p:cNvSpPr/>
          <p:nvPr/>
        </p:nvSpPr>
        <p:spPr>
          <a:xfrm flipV="1">
            <a:off x="4211640" y="1773000"/>
            <a:ext cx="7308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"/>
          <p:cNvSpPr/>
          <p:nvPr/>
        </p:nvSpPr>
        <p:spPr>
          <a:xfrm flipV="1">
            <a:off x="4716360" y="1915920"/>
            <a:ext cx="647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 flipV="1">
            <a:off x="5435640" y="2997000"/>
            <a:ext cx="115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- Що ж допомогло однокласникам простити Олександру її “ гріхи ”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Прощенн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Line 4"/>
          <p:cNvSpPr/>
          <p:nvPr/>
        </p:nvSpPr>
        <p:spPr>
          <a:xfrm flipH="1">
            <a:off x="2442960" y="387972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"/>
          <p:cNvSpPr/>
          <p:nvPr/>
        </p:nvSpPr>
        <p:spPr>
          <a:xfrm>
            <a:off x="4861080" y="3887640"/>
            <a:ext cx="100800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8"/>
          <p:cNvSpPr/>
          <p:nvPr/>
        </p:nvSpPr>
        <p:spPr>
          <a:xfrm flipH="1" flipV="1">
            <a:off x="2842920" y="2060640"/>
            <a:ext cx="865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"/>
          <p:cNvSpPr/>
          <p:nvPr/>
        </p:nvSpPr>
        <p:spPr>
          <a:xfrm flipV="1">
            <a:off x="5005440" y="2060640"/>
            <a:ext cx="7189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блемне питанн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д чим спонукає замислитись твір Б.Грінченка “ Украла 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7" name="Picture 5" descr="images"/>
          <p:cNvPicPr/>
          <p:nvPr/>
        </p:nvPicPr>
        <p:blipFill>
          <a:blip r:embed="rId1"/>
          <a:stretch/>
        </p:blipFill>
        <p:spPr>
          <a:xfrm>
            <a:off x="3995640" y="321156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images"/>
          <p:cNvPicPr/>
          <p:nvPr/>
        </p:nvPicPr>
        <p:blipFill>
          <a:blip r:embed="rId2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images"/>
          <p:cNvPicPr/>
          <p:nvPr/>
        </p:nvPicPr>
        <p:blipFill>
          <a:blip r:embed="rId3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images"/>
          <p:cNvPicPr/>
          <p:nvPr/>
        </p:nvPicPr>
        <p:blipFill>
          <a:blip r:embed="rId4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images"/>
          <p:cNvPicPr/>
          <p:nvPr/>
        </p:nvPicPr>
        <p:blipFill>
          <a:blip r:embed="rId5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загруженно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Епіграф уроку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95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</a:rPr>
              <a:t>           </a:t>
            </a: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Хто згубить честь,той        уже не віднай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ff00"/>
                </a:solidFill>
                <a:latin typeface="Garamond"/>
              </a:rPr>
              <a:t>Народна мудрі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езакінчене речення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зрозуміла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зрозумі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переконав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навчив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отрима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дізнав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Arial"/>
              </a:rPr>
              <a:t>Біблія – Книга Кни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79280" y="40428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99" name="Picture 2" descr="0001-001-Biblija-kniga-knig"/>
          <p:cNvPicPr/>
          <p:nvPr/>
        </p:nvPicPr>
        <p:blipFill>
          <a:blip r:embed="rId1"/>
          <a:srcRect l="0" t="0" r="27" b="-61"/>
          <a:stretch/>
        </p:blipFill>
        <p:spPr>
          <a:xfrm>
            <a:off x="250920" y="476280"/>
            <a:ext cx="8208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Божі заповіді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1.Господь,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Бог твій, і нехай не буде тобі інших Богів переді мно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роби собі подоби Бо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призивай Імення Господа, Бога твого на дарем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Пам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ятай день суботній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(недільний), щоб святити йо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5.Шануй свого батька та матір сво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вбива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чини перелюбу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крад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свідкуй неправдиво на свого ближньо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10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заздри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блемне питанн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д чим спонукає замислитись твір Б.Грінченка “ Украла 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1" name="Picture 5" descr="images"/>
          <p:cNvPicPr/>
          <p:nvPr/>
        </p:nvPicPr>
        <p:blipFill>
          <a:blip r:embed="rId1"/>
          <a:stretch/>
        </p:blipFill>
        <p:spPr>
          <a:xfrm>
            <a:off x="3995640" y="321156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images"/>
          <p:cNvPicPr/>
          <p:nvPr/>
        </p:nvPicPr>
        <p:blipFill>
          <a:blip r:embed="rId2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images"/>
          <p:cNvPicPr/>
          <p:nvPr/>
        </p:nvPicPr>
        <p:blipFill>
          <a:blip r:embed="rId3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images"/>
          <p:cNvPicPr/>
          <p:nvPr/>
        </p:nvPicPr>
        <p:blipFill>
          <a:blip r:embed="rId4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images"/>
          <p:cNvPicPr/>
          <p:nvPr/>
        </p:nvPicPr>
        <p:blipFill>
          <a:blip r:embed="rId5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Домашнє завданн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Написати твір-роздум на тем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хочу, щоб усі діти були щасливими. Але як це зробити? 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Вивчити напа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ть Божі запові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4" name="Picture 4" descr="images (5)"/>
          <p:cNvPicPr/>
          <p:nvPr/>
        </p:nvPicPr>
        <p:blipFill>
          <a:blip r:embed="rId1"/>
          <a:stretch/>
        </p:blipFill>
        <p:spPr>
          <a:xfrm>
            <a:off x="3203640" y="4365720"/>
            <a:ext cx="338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400068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00000"/>
                </a:solidFill>
                <a:latin typeface="Arial"/>
              </a:rPr>
              <a:t>БОРИС ГРІНЧЕНКО</a:t>
            </a:r>
            <a:br>
              <a:rPr sz="4500"/>
            </a:br>
            <a:r>
              <a:rPr b="1" lang="uk-UA" sz="4500" spc="-1" strike="noStrike">
                <a:solidFill>
                  <a:srgbClr val="000000"/>
                </a:solidFill>
                <a:latin typeface="Arial"/>
              </a:rPr>
              <a:t>(1863-1910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" descr="C:\Documents and Settings\Penek\Рабочий стол\200px-Boris20121123.jpg"/>
          <p:cNvPicPr/>
          <p:nvPr/>
        </p:nvPicPr>
        <p:blipFill>
          <a:blip r:embed="rId1"/>
          <a:stretch/>
        </p:blipFill>
        <p:spPr>
          <a:xfrm>
            <a:off x="4514760" y="0"/>
            <a:ext cx="462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родився 9 грудня 1863 року у дворянській родині на хуторі Вільховий Яр Харківського пові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атько (відставний штабс-капітан) був сухою, суворою людиною. Усе в домі він намагався поставити на “панську” ногу, не раз карав сина за те, що він товаришував з “селюхам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 все життя запам'ятав Борис Дмитрович Грінченко ніжні руки матері, її тихий голос. Вона – росіянка, дочка полковника, - понад усе любила свого первістка і ,як могла, оберігала від холодних батькових о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епло і ласку знаходив хлопець у діда Андрія, старого пасічника, та його сліпої дружини баби Гальки. Від них перейняв рідну мову, народну пісню і проніс любов до рідного слова через усе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фон мейн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932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батько мати картинка"/>
          <p:cNvPicPr/>
          <p:nvPr/>
        </p:nvPicPr>
        <p:blipFill>
          <a:blip r:embed="rId2"/>
          <a:stretch/>
        </p:blipFill>
        <p:spPr>
          <a:xfrm>
            <a:off x="0" y="0"/>
            <a:ext cx="8820000" cy="6508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батько мати текст"/>
          <p:cNvPicPr/>
          <p:nvPr/>
        </p:nvPicPr>
        <p:blipFill>
          <a:blip r:embed="rId3"/>
          <a:stretch/>
        </p:blipFill>
        <p:spPr>
          <a:xfrm>
            <a:off x="-252360" y="0"/>
            <a:ext cx="9396360" cy="69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285840" y="142920"/>
            <a:ext cx="82152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У п'ять років  навчився читати і майже одночасно почав писати. Шестирічним хлопчиком складав вірші і “видавав” на своєму хуторі кілька “журналів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З одинадцятирічного віку  Бориса віддали в середню школу в Харкові.  Тут він продовжує свою “літературну” діяльність: “видає”, крім російського, і український журнал, глибше знайомиться з літературою, народною творч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фото1"/>
          <p:cNvPicPr/>
          <p:nvPr/>
        </p:nvPicPr>
        <p:blipFill>
          <a:blip r:embed="rId1"/>
          <a:stretch/>
        </p:blipFill>
        <p:spPr>
          <a:xfrm>
            <a:off x="539640" y="2060640"/>
            <a:ext cx="54723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4:21:58Z</dcterms:created>
  <dc:creator>usr</dc:creator>
  <dc:description/>
  <dc:language>en-US</dc:language>
  <cp:lastModifiedBy>usr</cp:lastModifiedBy>
  <dcterms:modified xsi:type="dcterms:W3CDTF">2015-02-22T10:37:37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33000000000001024140</vt:lpwstr>
  </property>
</Properties>
</file>