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E69-5C29-4D77-ADEB-6726CAA6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400-D351-4756-9483-B51C7019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D72-8EA0-42EB-B214-BD8AFA8F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C0F-3067-402F-BC7F-2D1C31D7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4758-48E2-4820-AD07-CEE50E3E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E46-B586-4EA9-91DE-7B5D7F30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B480-099E-4D70-9729-2F273FF7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62E3-FDD0-4A24-9A3B-D4B7FDF9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C32-18FA-4996-9EA0-E7F6E569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65C6-F02E-4664-A048-04A1BFFA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744-526A-45F3-A60A-0E1A45B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DAE-6764-455B-A549-BF5EDBA9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99D0-15E1-4704-A5A4-109FFCF9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8C9D-BAF6-423E-906A-6AB9489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199B-8617-47B1-936B-50F6586C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217E-B973-4AE6-B7D0-16501312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DA19-E1D1-426C-BAEA-B705AAD8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28B-A3D5-4331-B09F-04418BAF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2E2-55D2-4C2D-9743-EED74D5E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E9A-66C7-4C94-A034-B64060B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B29-CB0F-455C-970C-A61A7DBB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BF7-5144-4785-AE38-9A64CF36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935-00EC-47C0-AD66-E9BCD6B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E4E-3C42-47AE-94F4-B15D4222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EDFE-78BE-4B5C-96FE-B93512B33F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5608-3113-47C5-B4BD-DD876B0C70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00"/>
                </a:solidFill>
                <a:latin typeface="Arial"/>
              </a:rPr>
              <a:t>Улас Самчук</a:t>
            </a:r>
            <a:br>
              <a:rPr sz="4800"/>
            </a:br>
            <a:r>
              <a:rPr b="0" lang="ru-RU" sz="4800" spc="-1" strike="noStrike">
                <a:solidFill>
                  <a:srgbClr val="cccc00"/>
                </a:solidFill>
                <a:latin typeface="Arial"/>
              </a:rPr>
              <a:t>Роман – хрон</a:t>
            </a:r>
            <a:r>
              <a:rPr b="0" lang="uk-UA" sz="4800" spc="-1" strike="noStrike">
                <a:solidFill>
                  <a:srgbClr val="cccc00"/>
                </a:solidFill>
                <a:latin typeface="Arial"/>
              </a:rPr>
              <a:t>і</a:t>
            </a:r>
            <a:r>
              <a:rPr b="0" lang="ru-RU" sz="4800" spc="-1" strike="noStrike">
                <a:solidFill>
                  <a:srgbClr val="cccc00"/>
                </a:solidFill>
                <a:latin typeface="Arial"/>
              </a:rPr>
              <a:t>ка «Марія»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2349360"/>
            <a:ext cx="7593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ерший роман про голодомор в Україні у 1932 – 1933р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Матерям, що загинули голодною смертю на Україні , присвячується</a:t>
            </a:r>
            <a:r>
              <a:rPr b="0" lang="uk-UA" sz="2000" spc="-1" strike="noStrike">
                <a:solidFill>
                  <a:srgbClr val="ff0066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cc00"/>
                </a:solidFill>
                <a:latin typeface="Tahoma"/>
              </a:rPr>
              <a:t>Виконала вчитель українськ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cc00"/>
                </a:solidFill>
                <a:latin typeface="Tahoma"/>
              </a:rPr>
              <a:t>мови та літерату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ccc00"/>
                </a:solidFill>
                <a:latin typeface="Tahoma"/>
              </a:rPr>
              <a:t>НВК № 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cc00"/>
                </a:solidFill>
                <a:latin typeface="Tahoma"/>
              </a:rPr>
              <a:t>Малоіван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cc00"/>
                </a:solidFill>
                <a:latin typeface="Tahoma"/>
              </a:rPr>
              <a:t>Юлія Геннадії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Образ Марії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360" y="1341360"/>
            <a:ext cx="4392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Марія – головна героїня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однойменного роману Уласа Самчу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Весна у житті Марії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– це її народження, дитинство, дівочі роки. Хай були вони і нелегкими, але, по – своєму, прекрасни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На зміну весні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надходить літо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, а на зміну дитячим рокам Марії надійшли юність, кохання, заміжжя, народження ді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кінчилася Маріїна юність, надійшла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пора осені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у її житті. Як восени  міняється погода: то сонце, то дощ, то знову сонце, так мінялося і Маріїне життя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Зима Марії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припала на страшну годину Великого голоду.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Голгофа голодної смерті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чекала на Марію і її родину, як на багатьох  мільйонів українців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0920" y="1490760"/>
            <a:ext cx="4057560" cy="42433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Роман “Марія”- агіографічна хроніка життя жінки - селян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49200" y="1701720"/>
            <a:ext cx="3170160" cy="3959280"/>
            <a:chOff x="349200" y="1701720"/>
            <a:chExt cx="3170160" cy="395928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rcRect l="0" t="0" r="-21" b="-17"/>
            <a:stretch/>
          </p:blipFill>
          <p:spPr>
            <a:xfrm>
              <a:off x="349200" y="1701720"/>
              <a:ext cx="3170160" cy="3959280"/>
            </a:xfrm>
            <a:prstGeom prst="rect">
              <a:avLst/>
            </a:prstGeom>
            <a:ln w="76320">
              <a:solidFill>
                <a:srgbClr val="cccc00"/>
              </a:solidFill>
              <a:miter/>
            </a:ln>
          </p:spPr>
        </p:pic>
        <p:sp>
          <p:nvSpPr>
            <p:cNvPr id="228" name=""/>
            <p:cNvSpPr txBox="1"/>
            <p:nvPr/>
          </p:nvSpPr>
          <p:spPr>
            <a:xfrm>
              <a:off x="349200" y="1701720"/>
              <a:ext cx="3170160" cy="39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24360" y="1483920"/>
            <a:ext cx="4757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Агіографія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– наука, яка досліджує опис життя святих. Невипадково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образ Божої Матері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проходить у романі наскрізним мотив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Пресвята  Діва Марія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- особлива постать в історії людства. Мабуть, закономірно, що свою героїню У. Самчук назвав Марією.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Марія – суто церковне ім”я.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Із давньосемітської мови воно перекладається як ”вищість, піднесеність, перевага” , а з давньоєврейської це слово означає “гірка”. Так, і насправді: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доля Марії – гірка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, але, незважаючи ні на що, Марія стоїть вище за всіх і все, навіть помирає вона гордо, з посмішкою, і піднімається до Вічності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Образ Марії є уособленням материнства, основи життя на земл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- Аве, Маріє, світла!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Ненародженим</a:t>
            </a:r>
            <a:br>
              <a:rPr sz="4000"/>
            </a:b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 у тридцять третьому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1600200"/>
            <a:ext cx="3465360" cy="4349880"/>
            <a:chOff x="457200" y="1600200"/>
            <a:chExt cx="3465360" cy="434988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465360" cy="4349880"/>
            </a:xfrm>
            <a:prstGeom prst="rect">
              <a:avLst/>
            </a:prstGeom>
            <a:ln w="76320">
              <a:solidFill>
                <a:srgbClr val="cccc00"/>
              </a:solidFill>
              <a:miter/>
            </a:ln>
          </p:spPr>
        </p:pic>
        <p:sp>
          <p:nvSpPr>
            <p:cNvPr id="233" name=""/>
            <p:cNvSpPr txBox="1"/>
            <p:nvPr/>
          </p:nvSpPr>
          <p:spPr>
            <a:xfrm>
              <a:off x="457200" y="1600200"/>
              <a:ext cx="3465360" cy="434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ля європейської свідомості цей роман був як </a:t>
            </a:r>
            <a:r>
              <a:rPr b="0" lang="uk-UA" sz="2000" spc="-1" strike="noStrike">
                <a:solidFill>
                  <a:srgbClr val="ff0066"/>
                </a:solidFill>
                <a:latin typeface="Tahoma"/>
              </a:rPr>
              <a:t>роман – спалах, роман – сенсація.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Він заторкнув незнані в історії людства пласти життя – запланований Сталіним і компартією етноцид і геноцид українського народу, відтворив трагедію Украї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66"/>
                </a:solidFill>
                <a:latin typeface="Tahoma"/>
              </a:rPr>
              <a:t>Голодомор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(зумисне, насильницьке морення людей голодом) жахає уже самою своєю можливістю. В Україні ж 1932 – 1933 років сталося щось абсолютно безпрецендентне… До цього історія й справді не знала чогось подібного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3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cc00"/>
                </a:solidFill>
                <a:latin typeface="Arial"/>
              </a:rPr>
              <a:t>Земля, опалена болем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Tahoma"/>
              </a:rPr>
              <a:t>Найбільш постраждалі від голодомору області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Дніпропетров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Полтав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Запоріз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Харків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Миколаїв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Кіровоградсь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319640" cy="37926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Скорботний</a:t>
            </a: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33 – й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03440" cy="33829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2405160" cy="34560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79640" y="177300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Голод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, який поширювався протягом 1932 р.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набув страшної сили на початку 1933 р..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Залишившись без хліба, селяни їли котів, собак, щурів, кору, листя, навіть пили помиї з добре забезпечених кухонь членів партії. Мали місце численні випадки канібалізму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вну картину голодомору, який спіткав народ України, навряд чи вдасться колись узнати.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Скорботна статистика жертв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, за наявними даними, </a:t>
            </a:r>
            <a:r>
              <a:rPr b="0" lang="uk-UA" sz="1800" spc="-1" strike="noStrike">
                <a:solidFill>
                  <a:srgbClr val="ff0066"/>
                </a:solidFill>
                <a:latin typeface="Tahoma"/>
              </a:rPr>
              <a:t>коливається від 7 до 9 млн. людей.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68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6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и закриваємо книгу і думаємо… Висловити всі почуття, що викликає цей роман, нам несила. Це міг зробити тільки автор за допомогою живих образів. Все ж таки ми думаємо, що “ніч вічності” – це для тих , хто не витримав і впав. Але для тих, хто пережив, хто щойно народився, - є життя. Вони житимуть, боротимуться і продовжуватимуть вічне буття українського народу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506760" cy="374328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Улас Самчу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-71"/>
          <a:stretch/>
        </p:blipFill>
        <p:spPr>
          <a:xfrm>
            <a:off x="826920" y="1657440"/>
            <a:ext cx="3600720" cy="3827520"/>
          </a:xfrm>
          <a:prstGeom prst="rect">
            <a:avLst/>
          </a:prstGeom>
          <a:ln w="88920">
            <a:solidFill>
              <a:srgbClr val="cccc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ahoma"/>
              </a:rPr>
              <a:t>Улас Самчук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– український письменник, який першим в історії української літератури порушив тему голодомору в Україні в 1932 – 1933рр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Біографічні відомості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1341360"/>
            <a:ext cx="4103640" cy="129564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Народився Улас Самчук 20 лют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1905 р. в с. Дермань на Волин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в селянській сім”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3429000"/>
            <a:ext cx="4824720" cy="1224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Навчався у сільській школі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Кременецькій гімназії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закінчив український університет у Праз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229360"/>
            <a:ext cx="4897440" cy="1224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Був жовніром польської армії, самовіль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кинув військову част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170000" cy="1463760"/>
          </a:xfrm>
          <a:prstGeom prst="rect">
            <a:avLst/>
          </a:prstGeom>
          <a:ln w="88920">
            <a:solidFill>
              <a:srgbClr val="ffcc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78040" y="2276640"/>
            <a:ext cx="1433520" cy="1873080"/>
          </a:xfrm>
          <a:prstGeom prst="rect">
            <a:avLst/>
          </a:prstGeom>
          <a:ln w="73080">
            <a:solidFill>
              <a:srgbClr val="ffcc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843280" y="1341360"/>
            <a:ext cx="1365120" cy="1800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Письменницька діяльніст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68360" y="2133720"/>
            <a:ext cx="2890800" cy="2950920"/>
            <a:chOff x="468360" y="2133720"/>
            <a:chExt cx="2890800" cy="295092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2890800" cy="2950920"/>
            </a:xfrm>
            <a:prstGeom prst="rect">
              <a:avLst/>
            </a:prstGeom>
            <a:ln w="57240">
              <a:solidFill>
                <a:srgbClr val="ffcc00"/>
              </a:solidFill>
              <a:miter/>
            </a:ln>
          </p:spPr>
        </p:pic>
        <p:sp>
          <p:nvSpPr>
            <p:cNvPr id="168" name=""/>
            <p:cNvSpPr txBox="1"/>
            <p:nvPr/>
          </p:nvSpPr>
          <p:spPr>
            <a:xfrm>
              <a:off x="468360" y="2133720"/>
              <a:ext cx="2890800" cy="29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cc66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51280" y="1916280"/>
            <a:ext cx="4897440" cy="1081080"/>
          </a:xfrm>
          <a:prstGeom prst="rect">
            <a:avLst/>
          </a:prstGeom>
          <a:solidFill>
            <a:srgbClr val="f8a500"/>
          </a:solidFill>
          <a:ln w="57240">
            <a:solidFill>
              <a:srgbClr val="cccc00"/>
            </a:solidFill>
            <a:miter/>
          </a:ln>
          <a:effectLst>
            <a:outerShdw dist="107932" dir="189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1929 р. – працює у журналах ”Наша бесіда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“</a:t>
            </a: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Дзвін”, “Самостійна думка”, “Розбудова нації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1934 р. – пише роман “Марія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3789360"/>
            <a:ext cx="4897440" cy="1944720"/>
          </a:xfrm>
          <a:prstGeom prst="rect">
            <a:avLst/>
          </a:prstGeom>
          <a:solidFill>
            <a:srgbClr val="f8a500"/>
          </a:solidFill>
          <a:ln w="76320">
            <a:solidFill>
              <a:srgbClr val="cccc00"/>
            </a:solidFill>
            <a:miter/>
          </a:ln>
          <a:effectLst>
            <a:outerShdw dist="107932" dir="189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Протягом 1938 – 1943рр. веде активн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політичну діяльність.  липня 1987 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у м. Торонто ( Канад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1988 р.– у Торонто відкрито муз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993300"/>
                </a:solidFill>
                <a:latin typeface="Tahoma"/>
              </a:rPr>
              <a:t>архів Уласа Самчу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Роман </a:t>
            </a:r>
            <a:br>
              <a:rPr sz="4000"/>
            </a:b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 Роман - хроні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075200" y="4941720"/>
            <a:ext cx="1557360" cy="1656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924280"/>
            <a:ext cx="88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cc00"/>
                </a:solidFill>
                <a:latin typeface="Tahoma"/>
              </a:rPr>
              <a:t>Роман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– великий за обсягом епічний твір, який відображає події із життя певної особи чи кількох осіб протягом довготривалого періоду, часом – усього житт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cc00"/>
                </a:solidFill>
                <a:latin typeface="Tahoma"/>
              </a:rPr>
              <a:t>Роман – хроніка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відображає події, змальовані у творі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у хронологічній послідовності, від народження до останніх днів житт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cc00"/>
                </a:solidFill>
                <a:latin typeface="Arial"/>
              </a:rPr>
              <a:t>Тема роману – хроніки “ Марія”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ман “ Марія” – це твір про знищення духовності, людських цін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нищення  роду українського через насильницьку колективізацію та штучний голодом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-9" b="-46"/>
          <a:stretch/>
        </p:blipFill>
        <p:spPr>
          <a:xfrm>
            <a:off x="4932360" y="1628640"/>
            <a:ext cx="3571920" cy="44244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Побудова роман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Роман складається з трьох частин, кожна з яких має свою назву: “Книга про народження Марії”, “Книга днів Марії”, “Книга про хліб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У романі простежується кільцеве обрамлення: перед тим, як розпочати розповідь про народження Марії, автор розповідає у декількох рядках про кінець її життєвого шляху і закінчує твір розповіддю про смерть жін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30000" y="1195560"/>
            <a:ext cx="3663000" cy="2707920"/>
            <a:chOff x="630000" y="1195560"/>
            <a:chExt cx="3663000" cy="2707920"/>
          </a:xfrm>
        </p:grpSpPr>
        <p:sp>
          <p:nvSpPr>
            <p:cNvPr id="181" name="_s45070"/>
            <p:cNvSpPr/>
            <p:nvPr/>
          </p:nvSpPr>
          <p:spPr>
            <a:xfrm>
              <a:off x="1968120" y="1675800"/>
              <a:ext cx="990720" cy="1375560"/>
            </a:xfrm>
            <a:prstGeom prst="ellipse">
              <a:avLst/>
            </a:prstGeom>
            <a:solidFill>
              <a:srgbClr val="808000">
                <a:alpha val="50000"/>
              </a:srgbClr>
            </a:solidFill>
            <a:ln w="46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45071"/>
            <p:cNvSpPr/>
            <p:nvPr/>
          </p:nvSpPr>
          <p:spPr>
            <a:xfrm>
              <a:off x="1968120" y="1195560"/>
              <a:ext cx="990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2 – га частина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Книга днів Марії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45072"/>
            <p:cNvSpPr/>
            <p:nvPr/>
          </p:nvSpPr>
          <p:spPr>
            <a:xfrm>
              <a:off x="2293920" y="2460600"/>
              <a:ext cx="990720" cy="137556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46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45073"/>
            <p:cNvSpPr/>
            <p:nvPr/>
          </p:nvSpPr>
          <p:spPr>
            <a:xfrm>
              <a:off x="3302280" y="3561120"/>
              <a:ext cx="990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3 – тя частина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Книга про хліб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45074"/>
            <p:cNvSpPr/>
            <p:nvPr/>
          </p:nvSpPr>
          <p:spPr>
            <a:xfrm>
              <a:off x="1640160" y="2458080"/>
              <a:ext cx="991080" cy="1375560"/>
            </a:xfrm>
            <a:prstGeom prst="ellipse">
              <a:avLst/>
            </a:prstGeom>
            <a:solidFill>
              <a:srgbClr val="cca500">
                <a:alpha val="50000"/>
              </a:srgbClr>
            </a:solidFill>
            <a:ln w="4680">
              <a:solidFill>
                <a:srgbClr val="cc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45075"/>
            <p:cNvSpPr/>
            <p:nvPr/>
          </p:nvSpPr>
          <p:spPr>
            <a:xfrm>
              <a:off x="630000" y="3558600"/>
              <a:ext cx="9907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1 - ша частина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Книга про народженн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Марії”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454000" y="1373400"/>
            <a:ext cx="2854080" cy="3009600"/>
            <a:chOff x="5454000" y="1373400"/>
            <a:chExt cx="2854080" cy="3009600"/>
          </a:xfrm>
        </p:grpSpPr>
        <p:sp>
          <p:nvSpPr>
            <p:cNvPr id="188" name="_s45080"/>
            <p:cNvSpPr/>
            <p:nvPr/>
          </p:nvSpPr>
          <p:spPr>
            <a:xfrm>
              <a:off x="6095880" y="1373400"/>
              <a:ext cx="1570320" cy="214092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140920"/>
                <a:gd name="textAreaBottom" fmla="*/ 214128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45081"/>
            <p:cNvSpPr/>
            <p:nvPr/>
          </p:nvSpPr>
          <p:spPr>
            <a:xfrm rot="7200000">
              <a:off x="6022440" y="2162160"/>
              <a:ext cx="2140560" cy="1570320"/>
            </a:xfrm>
            <a:custGeom>
              <a:avLst/>
              <a:gdLst>
                <a:gd name="textAreaLeft" fmla="*/ 0 w 2140560"/>
                <a:gd name="textAreaRight" fmla="*/ 2140920 w 2140560"/>
                <a:gd name="textAreaTop" fmla="*/ 0 h 1570320"/>
                <a:gd name="textAreaBottom" fmla="*/ 157068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45083"/>
            <p:cNvSpPr/>
            <p:nvPr/>
          </p:nvSpPr>
          <p:spPr>
            <a:xfrm rot="14400000">
              <a:off x="5598720" y="2161800"/>
              <a:ext cx="2140560" cy="1570320"/>
            </a:xfrm>
            <a:custGeom>
              <a:avLst/>
              <a:gdLst>
                <a:gd name="textAreaLeft" fmla="*/ 0 w 2140560"/>
                <a:gd name="textAreaRight" fmla="*/ 2140920 w 2140560"/>
                <a:gd name="textAreaTop" fmla="*/ 0 h 1570320"/>
                <a:gd name="textAreaBottom" fmla="*/ 1570680 h 157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45078"/>
            <p:cNvSpPr/>
            <p:nvPr/>
          </p:nvSpPr>
          <p:spPr>
            <a:xfrm>
              <a:off x="7309800" y="1762920"/>
              <a:ext cx="628920" cy="85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Життя Марії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45079"/>
            <p:cNvSpPr/>
            <p:nvPr/>
          </p:nvSpPr>
          <p:spPr>
            <a:xfrm>
              <a:off x="6568200" y="3524040"/>
              <a:ext cx="6292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Кінець твору –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розповід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про смерть жінк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5082"/>
            <p:cNvSpPr/>
            <p:nvPr/>
          </p:nvSpPr>
          <p:spPr>
            <a:xfrm>
              <a:off x="5821200" y="1765080"/>
              <a:ext cx="62928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Початок твору – кінец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життєвого шляху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ffffff"/>
                  </a:solidFill>
                  <a:latin typeface="Tahoma"/>
                </a:rPr>
                <a:t>Марії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Проблематика роману “Марія”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34960" y="1263240"/>
            <a:ext cx="5054040" cy="5178600"/>
            <a:chOff x="1434960" y="1263240"/>
            <a:chExt cx="5054040" cy="5178600"/>
          </a:xfrm>
        </p:grpSpPr>
        <p:sp>
          <p:nvSpPr>
            <p:cNvPr id="196" name="_s18493"/>
            <p:cNvSpPr/>
            <p:nvPr/>
          </p:nvSpPr>
          <p:spPr>
            <a:xfrm flipH="1" flipV="1">
              <a:off x="3076920" y="2477520"/>
              <a:ext cx="635400" cy="1020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8492"/>
            <p:cNvSpPr/>
            <p:nvPr/>
          </p:nvSpPr>
          <p:spPr>
            <a:xfrm>
              <a:off x="2371680" y="160632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смерт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18489"/>
            <p:cNvSpPr/>
            <p:nvPr/>
          </p:nvSpPr>
          <p:spPr>
            <a:xfrm flipH="1" flipV="1">
              <a:off x="2476440" y="3195000"/>
              <a:ext cx="106848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8488"/>
            <p:cNvSpPr/>
            <p:nvPr/>
          </p:nvSpPr>
          <p:spPr>
            <a:xfrm>
              <a:off x="1600560" y="2526840"/>
              <a:ext cx="917640" cy="94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материнсь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щастя 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долі діте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18487"/>
            <p:cNvSpPr/>
            <p:nvPr/>
          </p:nvSpPr>
          <p:spPr>
            <a:xfrm flipH="1">
              <a:off x="2346480" y="3962160"/>
              <a:ext cx="1162080" cy="17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18486"/>
            <p:cNvSpPr/>
            <p:nvPr/>
          </p:nvSpPr>
          <p:spPr>
            <a:xfrm>
              <a:off x="1434960" y="373140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Національ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18485"/>
            <p:cNvSpPr/>
            <p:nvPr/>
          </p:nvSpPr>
          <p:spPr>
            <a:xfrm flipH="1">
              <a:off x="2728080" y="4204440"/>
              <a:ext cx="887040" cy="79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_s18484"/>
            <p:cNvSpPr/>
            <p:nvPr/>
          </p:nvSpPr>
          <p:spPr>
            <a:xfrm>
              <a:off x="1925280" y="483768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жіночої дол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18483"/>
            <p:cNvSpPr/>
            <p:nvPr/>
          </p:nvSpPr>
          <p:spPr>
            <a:xfrm flipH="1">
              <a:off x="3500640" y="4348440"/>
              <a:ext cx="332280" cy="116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_s18482"/>
            <p:cNvSpPr/>
            <p:nvPr/>
          </p:nvSpPr>
          <p:spPr>
            <a:xfrm>
              <a:off x="2915280" y="5493960"/>
              <a:ext cx="91800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сирітств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18491"/>
            <p:cNvSpPr/>
            <p:nvPr/>
          </p:nvSpPr>
          <p:spPr>
            <a:xfrm>
              <a:off x="4090680" y="4346640"/>
              <a:ext cx="330120" cy="116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_s18490"/>
            <p:cNvSpPr/>
            <p:nvPr/>
          </p:nvSpPr>
          <p:spPr>
            <a:xfrm>
              <a:off x="4092480" y="549396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вбивства си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батьк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18481"/>
            <p:cNvSpPr/>
            <p:nvPr/>
          </p:nvSpPr>
          <p:spPr>
            <a:xfrm>
              <a:off x="4305960" y="4202640"/>
              <a:ext cx="887040" cy="79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_s18480"/>
            <p:cNvSpPr/>
            <p:nvPr/>
          </p:nvSpPr>
          <p:spPr>
            <a:xfrm>
              <a:off x="5082840" y="483516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духовност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та вір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18479"/>
            <p:cNvSpPr/>
            <p:nvPr/>
          </p:nvSpPr>
          <p:spPr>
            <a:xfrm>
              <a:off x="4411440" y="3960000"/>
              <a:ext cx="1163520" cy="17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18478"/>
            <p:cNvSpPr/>
            <p:nvPr/>
          </p:nvSpPr>
          <p:spPr>
            <a:xfrm>
              <a:off x="5571360" y="372744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аці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18477"/>
            <p:cNvSpPr/>
            <p:nvPr/>
          </p:nvSpPr>
          <p:spPr>
            <a:xfrm flipV="1">
              <a:off x="4372920" y="3193200"/>
              <a:ext cx="107028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_s18476"/>
            <p:cNvSpPr/>
            <p:nvPr/>
          </p:nvSpPr>
          <p:spPr>
            <a:xfrm>
              <a:off x="5403240" y="252324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солдатчин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18475"/>
            <p:cNvSpPr/>
            <p:nvPr/>
          </p:nvSpPr>
          <p:spPr>
            <a:xfrm flipV="1">
              <a:off x="4204800" y="2475360"/>
              <a:ext cx="635400" cy="1022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_s18474"/>
            <p:cNvSpPr/>
            <p:nvPr/>
          </p:nvSpPr>
          <p:spPr>
            <a:xfrm>
              <a:off x="4630680" y="160452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насильницько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колективізаці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18473"/>
            <p:cNvSpPr/>
            <p:nvPr/>
          </p:nvSpPr>
          <p:spPr>
            <a:xfrm flipV="1">
              <a:off x="3959280" y="2209320"/>
              <a:ext cx="0" cy="121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18472"/>
            <p:cNvSpPr/>
            <p:nvPr/>
          </p:nvSpPr>
          <p:spPr>
            <a:xfrm>
              <a:off x="3501000" y="126324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м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коханн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18471"/>
            <p:cNvSpPr/>
            <p:nvPr/>
          </p:nvSpPr>
          <p:spPr>
            <a:xfrm>
              <a:off x="3501000" y="3423960"/>
              <a:ext cx="917640" cy="94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Пробле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мати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r>
                <a:rPr b="1" lang="uk-UA" sz="1400" spc="-1" strike="noStrike">
                  <a:solidFill>
                    <a:srgbClr val="993300"/>
                  </a:solidFill>
                  <a:latin typeface="Tahoma"/>
                </a:rPr>
                <a:t>твору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cc00"/>
                </a:solidFill>
                <a:latin typeface="Arial"/>
              </a:rPr>
              <a:t>Розкриття теми твор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2819520" cy="39895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ідбувається через образ героїні роману – Марії. Її життя – це життя багатьох тисяч українських жінок на початк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20 – го столітт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6:44:24Z</dcterms:created>
  <dc:creator>Юля</dc:creator>
  <dc:description/>
  <dc:language>en-US</dc:language>
  <cp:lastModifiedBy>JULIA</cp:lastModifiedBy>
  <dcterms:modified xsi:type="dcterms:W3CDTF">2008-03-23T16:05:09Z</dcterms:modified>
  <cp:revision>21</cp:revision>
  <dc:subject/>
  <dc:title>Улас Самчук.  Роман – хроніка «Марі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1b000000000001024140</vt:lpwstr>
  </property>
</Properties>
</file>