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chimes.wav" ContentType="audio/x-wav"/>
  <Override PartName="/ppt/media/image6.jpeg" ContentType="image/jpeg"/>
  <Override PartName="/ppt/media/image1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29D69-FE26-479D-9BCA-2886C2374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797F-41EB-472C-9AC4-EDF3AD85A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14D19-8785-4A94-AFD1-B4C81F1F4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B12D9B-BDF7-4530-BFE3-B065606FB0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720F8-1779-4C2F-88FD-1685162E8C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3296A-463D-4DE3-83A8-88FECE92F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31069-FE07-40CD-B510-250A0BD54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D9A5C-615F-45B1-BC1D-028A74E95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94330-E70C-4D28-8A9D-173CBEED9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EA7714-65D5-4EBB-BD5E-74F132BA1E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B51758-370A-402C-8572-DC211E374A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4388B0-F774-4027-9D1D-AB6BD0D81C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A23E-5DBA-4C86-8743-A962DFB0D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1B711A-97DE-48F4-8CAD-7C3AB66C46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207BD3-3329-4ADA-B1F1-13D1AF9298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CC3778-0040-4DE9-9409-AFF6B24679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2A5A9F-503D-402F-B045-7437126E8C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949561-2A59-43E0-A431-A3D91795ED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BEDAC-49E4-45C8-A37E-6FAD7FB018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5B5537-92B5-45CC-AE30-33D3F2E2CD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36225A-E45C-4F3C-97C6-5815DED73E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E2018B-278A-46C2-B0C6-596BC1F47C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709695-E64C-4E71-959A-BC2229C63E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A40B7-3040-42D7-8B67-CB2FD7CA9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52CC88-6F9A-49D0-93FA-E3EEFA7A93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511999-05D6-4F10-BCED-BF278422B5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7DF0A8-29AA-4AE8-B7ED-D5463E8502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4F3A6C-A648-4681-B96C-0BAC1DAB86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23DE97-CD71-4DB2-9C78-F6162F31FD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84F29C-0F80-4BD2-9882-038D3A54ED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10C811-121B-4BD5-B867-986FCEF756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9D244-E873-4133-B16C-4F8D6FE4A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AF714A-3914-4DF3-90DE-82BA00EC94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35D315-DEDB-4200-96CA-A0BCD47272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A4C5B-625D-4E8B-BE85-A7A64CB97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E3298F-7A7D-4A7D-89C3-487D15AB99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AFA1FB-508D-4A0D-97D7-435143DAD2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627C0A-B35C-4DD1-B4A8-E2E918C4DF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8B105E-386C-415E-BFA3-1ED41D23CE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C3AFA3-AAB0-4C34-8437-31C71E26A7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D0C8D5-D73E-494C-8D97-2C418C3F4D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957854-D894-4FB5-803B-F8331CEB65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8CE453-89F3-4631-BD16-6D885FFCCF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A3EEC5-D2AE-4D4D-8182-9DF0B3A8D0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A6162B-BA86-48D1-81A3-BBE993B82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A2D2E-CE43-41BA-A143-DEFC123D8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4AC592-7BDD-4CD3-8A34-FD83CF8C60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185283-5700-4E52-88F5-6FEED886C5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572ED6-82A6-426D-9C57-832471D17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B36D83-CD4C-42E0-BF62-277BB153F4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562682-D6D6-47C1-961E-2526447FA9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7C251-40CD-4543-ACED-8DE70A914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3AF62-E6DA-48A3-B398-5821AD63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791BD-E975-4146-9F80-461A29C26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F0DA6-F2D5-45AA-83E8-886AFFCBF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BC9CA-46BE-4FFD-B3FC-ECBACA8D1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7DEC0-028E-4142-962B-853C7BC1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5FBB-B6F2-4B6E-8A78-F5B25DD15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996A7-B1D7-4190-B054-4FA9D8424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65BF1-07D6-4AE3-BB8C-7FC6B080D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4AC04-13A1-4C83-950B-262441BBB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82915-1ACE-4AD9-A710-28ADC0336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8C33D2-1FD1-405C-A256-8D6683B9BF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051FC-18F0-4F26-8DAD-154F7EBBB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752BD-FCAD-4120-B819-506F2748D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C7B3C-64FB-46A8-B392-ABD07FB85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BF4C8-7571-49ED-918D-CFE991566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295D-D246-44E4-BA8E-7EA01274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84D86-09BF-4BF2-B1BD-618F6CFE8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D0531-4450-44D6-AB5A-8CAC005A4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EFB6D-25B5-4C16-83B3-A551244DC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5BE76-4033-44EE-8411-F867B2FA6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8BF32-1D2B-4960-8953-B098B319E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06CF4-0E3C-4FD3-8D56-0FD9663CC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03AE4-2823-47B4-8E96-B73F3FEFE3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D20529-4865-4183-8830-A4F498EE3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DF4F0-FFCA-4EB2-A0F5-F8A09A298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D08C5-A3AE-40B0-A53B-A1F781CDD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0DAB-A6B4-4C6B-B62B-3DA266F9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07190-4261-4CA9-B06E-7A4CF2170F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7918D-2CC4-4AAF-8A2F-1A0912402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0BA9A-F4E3-4C4C-9C2E-5DB371241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D6AFE-5CB1-4415-9070-E4F1B9EFD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F9EC6-0621-42FB-A3C6-046F22B4E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442BB-0D8D-4636-B52B-8C17971DE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E0E70-282C-46BA-A4B0-825BF2736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FB9388-11B6-4BBF-BE5D-63CC70A8C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A889C2-29AE-4242-B517-A63EC0681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3408E-D438-4DAE-B8C4-85DFA58DF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43CA-5091-4034-A240-3D278480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89913-E3BF-4934-B47D-58FF74491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2ABFE-B856-41CB-B039-51BC27465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D1C49-61E1-499D-96C6-B634BE8ED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B5C29-F647-4D30-9D06-427732BFA5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2ACEA-82CC-448F-8875-8AEF8AE9E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DAC32-42E4-4017-B51A-9ED6DB0FD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49A62-09C1-4B79-8C26-B40B2FDCB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28029-09CA-45A3-94EA-1527BC026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641DA-B02B-4AB1-BBDF-BD18A20B3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3B7009-D26C-4892-BD70-09A87D57A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A0727-D16E-442D-96ED-00A28B2C3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CC9363-D5FA-40FC-B266-6D7295E66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359C88-6111-4C5D-A761-ED5E97865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1404B-5591-43CF-94EB-D96B0D5E7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E362F-B17D-4F1A-BFA9-ACDAB0374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0781E-FDBC-4416-ACFE-FF8281CD7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4799A8-9806-4D03-931E-25AB27589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03886-B07C-48FF-9BDE-55DBA0749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044D3-83A9-430E-B84C-EAB563024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482C5-C54C-40BA-9847-F605593D6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0DC19-2033-4667-950A-EB895611B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2336-6D11-4A57-A996-6ADFB63A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A832B-73A9-4914-833F-A108B943A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15FB6-6AD0-4AF0-B51D-20C2D1C02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DD11C4-5D13-49DE-AEA5-529389C1B7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CDDDD-B937-47F1-BA0E-DCA5B948E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21E96-E598-4265-BC6B-B9550A983A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6E7323-702D-4C7E-88F4-E42F5BAFF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82EF8-5EEF-407A-96B2-0D909DBDA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22E7D-996C-41B7-A244-2834A0642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E6364-F6AD-4884-9BEB-4A60C467E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5DA56-4907-4AE7-9DC6-D94453500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D6D7-9E53-4C30-84C5-ABC11BEBA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83DD8-1D57-484D-81A7-BF2BFE0B1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EC29D-F36B-4865-A510-52CDEC67B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D1BF6D-120E-4EC9-B1BC-FF427FBFF3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8BEA94-47D1-4980-A19A-87B943DD8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C30EED-22FF-4B5A-9EF1-70887D3A2B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A946AB-5BFD-415B-B25E-BAC6304BB1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6F9DF-4611-41DF-B4A9-EEF64DADF0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CC30FA-534C-49D3-938A-76A77D799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CE003-3105-4A1A-A9A4-53E97BB08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A1E62-B2B9-4237-8D02-5FC8730492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484C-CDC1-45AB-89B1-D903F285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07B95-764D-4087-AB61-5E021DCC8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AB007-16FF-4FE1-96F0-4533B19FAD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23E37-0346-410F-B423-FFCF31F53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6427C-4173-4980-954A-55C98DCF5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ABF47-23AD-42D4-96F1-579424CB0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328063-146B-4B14-9D11-BF3EEA66B8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089CC2-29EB-4D72-8532-534B420DCB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6468E1-AFA6-4EC1-B17C-27BD7B7B9A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DDEB7-2A8C-4C9A-AE65-3D1CCF1C9A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9E8FF-135C-4B50-8615-C32108A65F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0F21-F0E9-4B1D-9C57-76A0E3836D5F}"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FD9E-0BEE-4380-8188-554B2CBCF341}"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EF1E-9FC7-40BB-BD32-CF36A12E9F15}"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F3EA-A495-441A-BB0A-2ED8AD99F60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FB2A-F422-403B-965B-6D8DC16AE6D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97C5-DDD8-4178-9EFB-D2F01A1B0003}"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F07C-0CA3-41B5-A6D7-2948D4CF37CC}"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E25B-7FE0-41E2-A7D0-2B9F13ED7094}"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903-7E1B-4B02-BA20-F9B98D03352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EAE0-8EDE-4BFD-A034-1B6237C3E2D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3B56-472C-4326-BFBE-9428CFE12CCE}"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ECE1-4570-4FA3-AA43-A1FD76A07240}"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42960" y="7142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есілля в Карпатах</a:t>
            </a:r>
            <a:br>
              <a:rPr sz="4400"/>
            </a:br>
            <a:r>
              <a:rPr b="0" lang="ru-RU" sz="4400" spc="-1" strike="noStrike">
                <a:solidFill>
                  <a:srgbClr val="000000"/>
                </a:solidFill>
                <a:latin typeface="Calibri"/>
              </a:rPr>
              <a:t>(Гуцульське весілля)</a:t>
            </a:r>
            <a:endParaRPr b="0" lang="en-US" sz="4400" spc="-1" strike="noStrike">
              <a:solidFill>
                <a:srgbClr val="000000"/>
              </a:solidFill>
              <a:latin typeface="Calibri"/>
            </a:endParaRPr>
          </a:p>
        </p:txBody>
      </p:sp>
      <p:pic>
        <p:nvPicPr>
          <p:cNvPr id="493" name="Рисунок 3" descr="guzulskaja-svdba-6.jpg"/>
          <p:cNvPicPr/>
          <p:nvPr/>
        </p:nvPicPr>
        <p:blipFill>
          <a:blip r:embed="rId1"/>
          <a:stretch/>
        </p:blipFill>
        <p:spPr>
          <a:xfrm>
            <a:off x="1643040" y="2357280"/>
            <a:ext cx="5870520" cy="3678480"/>
          </a:xfrm>
          <a:prstGeom prst="rect">
            <a:avLst/>
          </a:prstGeom>
          <a:ln w="0">
            <a:noFill/>
          </a:ln>
        </p:spPr>
      </p:pic>
    </p:spTree>
  </p:cSld>
  <p:transition spd="slow">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457200" y="285480"/>
            <a:ext cx="8229600" cy="584028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1- й день  </a:t>
            </a:r>
            <a:r>
              <a:rPr b="0" lang="uk-UA" sz="1600" spc="-1" strike="noStrike">
                <a:solidFill>
                  <a:srgbClr val="000000"/>
                </a:solidFill>
                <a:latin typeface="Calibri"/>
              </a:rPr>
              <a:t>У перший день виконуються обряди одягання нареченої , прикраси сімейного деревця і висновок молодих до вінчання. Особливу роль на святі грає ритуал «вінчання» - церковний шлюб . Молодій парі підводять прикрашених коней , на яких вони відправляються до церкви. Місцеві жителі вважають , що кінь на весіллі приносить удачу і пророкує багату і щасливу життя молодій парі . По завершенню ритуалу «вінчання» молоді повертаються на «Хутір Тихий » , де їх зустрічають весільним маршем , з калачами і рушником , а всіх присутніх пригощають медом . Починаються справжні гуцульські « набутки » ( гуляння ) з танцями і народними піснями. Весільні столи ломляться від найрізноманітніших частувань та найсмачніших гуцульських страв , обов'язковими серед яких є голубці , книші , бануш , гуслянка , гуцульські печені ковбаски , гриби , бринза.</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2- й день </a:t>
            </a:r>
            <a:r>
              <a:rPr b="0" lang="uk-UA" sz="1600" spc="-1" strike="noStrike">
                <a:solidFill>
                  <a:srgbClr val="000000"/>
                </a:solidFill>
                <a:latin typeface="Calibri"/>
              </a:rPr>
              <a:t>На другий день весілля проводиться « обдаровування » молодої сім'ї . Все дійство супроводжується яскравими музичними виступами і , звичайно ж , на адресу молодих звучать привітання , теплі слова і возвеличення.</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3-й день </a:t>
            </a:r>
            <a:r>
              <a:rPr b="0" lang="uk-UA" sz="1600" spc="-1" strike="noStrike">
                <a:solidFill>
                  <a:srgbClr val="000000"/>
                </a:solidFill>
                <a:latin typeface="Calibri"/>
              </a:rPr>
              <a:t>Третій день сповнений пустощів і навіть дрібного хуліганства . Саме в цей день відбувається викуп нареченої і свідків , і це дійство супроводжується численними жартами , танцями , піснями. Музика стає свого роду центром магічного кола сили і позитивної енергії.  Виконується обряд « завивання молодої» , після якого наречена повноправно стає молодою дружиною , господинею , берегинею сімейного вогнища. Чи не повною буде весілля , якщо головний атрибут сімейного щастя не відвоювати . Протягом усього весілля свідки старанно охороняють деревце , яке може бути викрадено гостями. І тільки тоді , коли сімейне деревце буде в повній безпеці , молода сімейна пара вперше спільно запрошує всіх гостей до останнього весільного столу , завершуючи весільне торжество !</a:t>
            </a:r>
            <a:endParaRPr b="0" lang="en-US" sz="1600" spc="-1" strike="noStrike">
              <a:solidFill>
                <a:srgbClr val="000000"/>
              </a:solidFill>
              <a:latin typeface="Calibri"/>
            </a:endParaRPr>
          </a:p>
        </p:txBody>
      </p:sp>
    </p:spTree>
  </p:cSld>
  <p:transition spd="slow">
    <p:random/>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3296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адиц</a:t>
            </a:r>
            <a:r>
              <a:rPr b="0" lang="uk-UA" sz="2800" spc="-1" strike="noStrike">
                <a:solidFill>
                  <a:srgbClr val="000000"/>
                </a:solidFill>
                <a:latin typeface="Calibri"/>
              </a:rPr>
              <a:t>і</a:t>
            </a:r>
            <a:r>
              <a:rPr b="0" lang="ru-RU" sz="2800" spc="-1" strike="noStrike">
                <a:solidFill>
                  <a:srgbClr val="000000"/>
                </a:solidFill>
                <a:latin typeface="Calibri"/>
              </a:rPr>
              <a:t>йні страви</a:t>
            </a:r>
            <a:endParaRPr b="0" lang="en-US" sz="2800" spc="-1" strike="noStrike">
              <a:solidFill>
                <a:srgbClr val="000000"/>
              </a:solidFill>
              <a:latin typeface="Calibri"/>
            </a:endParaRPr>
          </a:p>
        </p:txBody>
      </p:sp>
      <p:sp>
        <p:nvSpPr>
          <p:cNvPr id="513"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alibri"/>
              </a:rPr>
              <a:t>Кулеша</a:t>
            </a:r>
            <a:r>
              <a:rPr b="0" lang="uk-UA" sz="1800" spc="-1" strike="noStrike">
                <a:solidFill>
                  <a:srgbClr val="000000"/>
                </a:solidFill>
                <a:latin typeface="Calibri"/>
              </a:rPr>
              <a:t> - її ще називають мамалига , вона дуже прийнята у нас на Гуцульщині . Кулешу варять вдома , у полонині та колибах . Кулеша розділяється на три види . Кулеша - ріп'янка ( картоплянка). Горнець для кулеші повинен бути чавунним полив'яним. Накладаємо в цей горнець на третину вареної картоплі, заливаємо на її рівні водою , солимо , засипаємо кукурудзяного борошна і засуваємо в піч . Коли закипить , беремо колішір і мішаємо , але куліширом цю картоплю тремо до криси горшка , щоб розтерти разом з мукою . Так мішаємо пару раз , і горнець прокручуємо на грані , щоб кулеша не пригоріла . Коли вже зварилася , то беремо цей горнець , добре потрясемо ним і кулешу висипаємо на дерев'яний кружок .Цю кулешу переважно вмокають у сметану , топлене масло , топлену солонину , але ще в сало кидають бриндзю . Кулешу без картоплі готують так само . Цю кулешу їдять з молоком солодким , квасним , сметаною . Крім цього є ще один вид кулеші - зварена на сметані . Її їдять без мачінк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alibri"/>
              </a:rPr>
              <a:t>Мачінка</a:t>
            </a:r>
            <a:endParaRPr b="0" lang="en-US" sz="18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r>
              <a:rPr b="0" lang="uk-UA" sz="1800" spc="-1" strike="noStrike">
                <a:solidFill>
                  <a:srgbClr val="000000"/>
                </a:solidFill>
                <a:latin typeface="Calibri"/>
              </a:rPr>
              <a:t>Варимо мачінку на сметані , тільки з кукурудзяної муки . Можна додавати різну заправку . Рекомендується накришити зеленої цибулі . В цю мачінку можна мокати кулешу , вареники , картоплю .</a:t>
            </a:r>
            <a:br>
              <a:rPr sz="1000"/>
            </a:br>
            <a:br>
              <a:rPr sz="1000"/>
            </a:br>
            <a:br>
              <a:rPr sz="1000"/>
            </a:br>
            <a:br>
              <a:rPr sz="1000"/>
            </a:br>
            <a:endParaRPr b="0" lang="en-US" sz="1800" spc="-1" strike="noStrike">
              <a:solidFill>
                <a:srgbClr val="000000"/>
              </a:solidFill>
              <a:latin typeface="Calibri"/>
            </a:endParaRPr>
          </a:p>
        </p:txBody>
      </p:sp>
    </p:spTree>
  </p:cSld>
  <p:transition spd="slow">
    <p:random/>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txBox="1"/>
          <p:nvPr/>
        </p:nvSpPr>
        <p:spPr>
          <a:xfrm>
            <a:off x="428400" y="428760"/>
            <a:ext cx="8372520" cy="56973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Calibri"/>
              </a:rPr>
              <a:t>Страви з капусти</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Капуста на Гуцульщині дуже поширена . Свіжу , або солодку обварюють, воду після обварки виливають, а в капусту додають сметани, кришать трошки зеленої цибулі, солять до смаку і переварюють . Страва готова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А  також, на Гуцульщині полюбляють голубці, як з свіжої, так і з квашеної капусти. Капусту квасять по різному . У нас на Гуцульщині її січуть на шатківниці, перетирають з сіллю, додають тертої моркви, тменю, ще можна дати трохи цибулі і накладати в бочку та добре набивати, щоб вийшов сік . Потім навалюємо каменем і залишаємо на два тижні. Коли вже викисла, то можна перебрати в другу посудину або зберігати в цій самій бочці.</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Можна квасити по - закарпатському. Капусту січуть, солять, додають небагато соку з квашених червоних буряків, щоб вона мала рожевий колір. Разом перетирають і накладають в бочку. Замість лаврового листа дають дубове листя, котре тримає кріпість капусти . Додають тмін. Головки капусти ми переважно квасимо окремо. Обчищені головки складаємо в бочку, заливаємо літньої температури соленою водою майже до рівня бочки, ставимо наверх кружки на кружки камінь - і нехай собі кисне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random/>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000000"/>
                </a:solidFill>
                <a:uFillTx/>
                <a:latin typeface="Calibri"/>
              </a:rPr>
              <a:t>Гуцульські голубці</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Вони там прийняті, як повсякденна, так і ритуальна страва. Подають на урочисті свята, весіллях, празниках. Їх можна варити на піст пісні, а на загальницю скоромні. Голубці можна варити з листя, квашеної та свіжої капусти, ще можна варити з листя червоного буряка. У давні часи в голубці додавали кукурудзяний фарш. Це запарена кукурудзяна мука разом з невеликим додатком вареної товченої картоплі або трошки сирої потертої на терці, щоб тісто не розсипалося. Ложкою накладають на листок і закручують з двох кінців. Сирі голубці накладаємо в каструлю, заливаємо водою. Коли трошки обварилися, то вибираємо у другу посуду, додаємо масла і кладемо в піч - щоб добре упарилися. Голубці можна варити по - різному, їсти з сметаною, олією, солониною та саламахою, про яку згадаємо далі.</a:t>
            </a:r>
            <a:endParaRPr b="0" lang="en-US" sz="2500" spc="-1" strike="noStrike">
              <a:solidFill>
                <a:srgbClr val="000000"/>
              </a:solidFill>
              <a:latin typeface="Calibri"/>
            </a:endParaRPr>
          </a:p>
        </p:txBody>
      </p:sp>
    </p:spTree>
  </p:cSld>
  <p:transition spd="slow">
    <p:random/>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Calibri"/>
              </a:rPr>
              <a:t>Росільниця</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Calibri"/>
              </a:rPr>
              <a:t>      </a:t>
            </a:r>
            <a:r>
              <a:rPr b="0" lang="uk-UA" sz="2100" spc="-1" strike="noStrike">
                <a:solidFill>
                  <a:srgbClr val="000000"/>
                </a:solidFill>
                <a:latin typeface="Calibri"/>
              </a:rPr>
              <a:t>Кидаємо в горнець жменю квашеної капусти наливаємо води до верха, солимо до смаку, переварюємо, тоді засипаємо трошки кукурудзяної муки і варимо. Коли вже беремось до їди, то додаємо сметани чи топленої солонини, а в пісні дні олії. Цю росільницю їдять з вареною картоплею.</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Calibri"/>
              </a:rPr>
              <a:t>      </a:t>
            </a:r>
            <a:r>
              <a:rPr b="1" lang="uk-UA" sz="2100" spc="-1" strike="noStrike" u="sng">
                <a:solidFill>
                  <a:srgbClr val="000000"/>
                </a:solidFill>
                <a:uFillTx/>
                <a:latin typeface="Calibri"/>
              </a:rPr>
              <a:t>Саламаха з сметаною</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Очищаємо часник, додаємо солі і товчемо у дерев'яній посудині, яку називають саламашницею, розмішуємо з сметаною. На пісні дні саламаху розводять з олією та водою. А знаєте для чого ще потрібна саламаха розведена водою? Перед будженням свіже м'ясо натираємо цією саламахою і ставимо у посудину на три дні, щоб воно її увібрало. Після трьох днів несемо до буджарні. Зразу потрібно добре припекти, а пізніше лиш тримати димок і протягом 5 - 6 годин м'ясо чи сало вибираємо і ще гаряче злегка змащуємо тією ж саламахою. М'ясо стає духм'яне. Буджарню треба дуже добре топити вільховими дровами.</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В народі говорять, що часник брат цибульки, бо вони дуже придаються до заправки страв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random/>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txBox="1"/>
          <p:nvPr/>
        </p:nvSpPr>
        <p:spPr>
          <a:xfrm>
            <a:off x="456840" y="571320"/>
            <a:ext cx="8258040" cy="3571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Calibri"/>
              </a:rPr>
              <a:t>Юшку</a:t>
            </a:r>
            <a:r>
              <a:rPr b="0" lang="uk-UA" sz="2200" spc="-1" strike="noStrike">
                <a:solidFill>
                  <a:srgbClr val="000000"/>
                </a:solidFill>
                <a:latin typeface="Calibri"/>
              </a:rPr>
              <a:t>  теж варять по - різному. Беруть кусок м'яса кладуть у горнець, додають трохи кришеної картоплі і варять. Пізніше кладуть трохи капусти, переважно квашеної і продовжують варити, але вже додають заправку. Це три - чотири стебельця чебрецю, але не городнього, а дикого, котрий росте по купинах та понад дорогами. Цю юшку можна підбілити за смаком сметаною. Ще варять таку юшку без чебрецю і сметани. А ще не забувайте про нашу гуцульську сербавку ( зупу), бо сербавку можна варити з усяких продуктів, які лише є на господарці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     </a:t>
            </a:r>
            <a:r>
              <a:rPr b="0" lang="uk-UA" sz="2200" spc="-1" strike="noStrike">
                <a:solidFill>
                  <a:srgbClr val="000000"/>
                </a:solidFill>
                <a:latin typeface="Calibri"/>
              </a:rPr>
              <a:t>Отак колись в давнину харчувалися старі люди. І повірте, що були більш здоровіші чим сучасна молодь. І сьогодні ці страви актуальні в кожній гуцульській хаті.</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18" name="Рисунок 3" descr="80.jpg"/>
          <p:cNvPicPr/>
          <p:nvPr/>
        </p:nvPicPr>
        <p:blipFill>
          <a:blip r:embed="rId1"/>
          <a:stretch/>
        </p:blipFill>
        <p:spPr>
          <a:xfrm>
            <a:off x="928800" y="4143240"/>
            <a:ext cx="3286080" cy="2176560"/>
          </a:xfrm>
          <a:prstGeom prst="rect">
            <a:avLst/>
          </a:prstGeom>
          <a:ln w="0">
            <a:noFill/>
          </a:ln>
        </p:spPr>
      </p:pic>
      <p:pic>
        <p:nvPicPr>
          <p:cNvPr id="519" name="Рисунок 4" descr="f5b3e663ec18d9a6367c182e87308507.jpg"/>
          <p:cNvPicPr/>
          <p:nvPr/>
        </p:nvPicPr>
        <p:blipFill>
          <a:blip r:embed="rId2"/>
          <a:stretch/>
        </p:blipFill>
        <p:spPr>
          <a:xfrm>
            <a:off x="5357880" y="3714840"/>
            <a:ext cx="3149640" cy="2928960"/>
          </a:xfrm>
          <a:prstGeom prst="rect">
            <a:avLst/>
          </a:prstGeom>
          <a:ln w="0">
            <a:noFill/>
          </a:ln>
        </p:spPr>
      </p:pic>
    </p:spTree>
  </p:cSld>
  <p:transition spd="slow">
    <p:newsflash/>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txBox="1"/>
          <p:nvPr/>
        </p:nvSpPr>
        <p:spPr>
          <a:xfrm>
            <a:off x="457200" y="2714760"/>
            <a:ext cx="8229600" cy="1428480"/>
          </a:xfrm>
          <a:prstGeom prst="rect">
            <a:avLst/>
          </a:prstGeom>
          <a:noFill/>
          <a:ln w="0">
            <a:noFill/>
          </a:ln>
        </p:spPr>
        <p:txBody>
          <a:bodyPr anchor="t">
            <a:normAutofit fontScale="81000"/>
          </a:bodyPr>
          <a:p>
            <a:pPr marL="277560" indent="-2775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000000"/>
                </a:solidFill>
                <a:latin typeface="Calibri"/>
              </a:rPr>
              <a:t>Ось таке цікаве весілля на Гуцульщині</a:t>
            </a:r>
            <a:endParaRPr b="0" lang="en-US" sz="5400" spc="-1" strike="noStrike">
              <a:solidFill>
                <a:srgbClr val="000000"/>
              </a:solidFill>
              <a:latin typeface="Calibri"/>
            </a:endParaRPr>
          </a:p>
        </p:txBody>
      </p:sp>
    </p:spTree>
  </p:cSld>
  <p:transition spd="slow">
    <p:random/>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457200" y="428760"/>
            <a:ext cx="8229600" cy="59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У гірських селах українських Карпат весілля - як казка ! Навіть у наші дні гуцули дотримуються таких весільних традицій , яким слідували їх батьки і діди - прадіди . І сьогодні вони одягаються в національний одяг , прикрашають свої оселі , коней і навіть дерева . Потрібно відзначити , що на вінчання до церкви молоді їдуть на святково прикрашених конях.</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У день весілля наречену і нареченого супроводжують одягнені у святкові вбрання бояри , дружки , свати , старости ... У всіх одяг прикрашена маленькими святковими букетиками . Весільні пісні , веселі й сумні - це обов'язковий атрибут гуцульського весілля . Ну і ясна річ , якщо є пісні , то не обійтися без танців , запалювальних і іскрометних . А які ігри та конкурси на гуцульському весіллі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Жодне весілля в Карпатах не обходиться без гарних калачів на вишитих рушниках . Потрібно відзначити , що і калачі , та рушники - це просто витвір мистецтва. За давніми звичаями найкращі калачі дарують на вишитих рушниках з побажанням багатою і щасливого житт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Заручин і сватання зазвичай відбуваються навесні , а саме весілля намагаються зіграти до початку Великого Посту. Люди тут віруючі і під час посту ніяких святкувань не проводять.</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random/>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456840" y="285480"/>
            <a:ext cx="8472600" cy="250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За тутешніх звичаїв, коли приходять свати і наречена дає вишиті рушники - це означає, що потрібно готуватися до весілля. Символом вступу до шлюбу є момент, коли молоді «встають на рушник». Кожна дівчина вишиває собі рушники сама. Тому в українських Карпатах майстринь-вишивальниць безліч. Унікальною ручною вишивкою прикрашені та сорочки чоловіків, і одяг дітей. А намист, браслетів та інших аксесуарам, що прикрашають як зовсім молоденьких гуцулочек, так і старших - позаздрили б самі вишукані столичні модниці.</a:t>
            </a:r>
            <a:endParaRPr b="0" lang="en-US" sz="2000" spc="-1" strike="noStrike">
              <a:solidFill>
                <a:srgbClr val="000000"/>
              </a:solidFill>
              <a:latin typeface="Calibri"/>
            </a:endParaRPr>
          </a:p>
        </p:txBody>
      </p:sp>
      <p:pic>
        <p:nvPicPr>
          <p:cNvPr id="496" name="Рисунок 3" descr="guzulskaja-svdba-1.jpg"/>
          <p:cNvPicPr/>
          <p:nvPr/>
        </p:nvPicPr>
        <p:blipFill>
          <a:blip r:embed="rId1"/>
          <a:stretch/>
        </p:blipFill>
        <p:spPr>
          <a:xfrm>
            <a:off x="214200" y="2928960"/>
            <a:ext cx="4500720" cy="3714840"/>
          </a:xfrm>
          <a:prstGeom prst="rect">
            <a:avLst/>
          </a:prstGeom>
          <a:ln w="0">
            <a:noFill/>
          </a:ln>
        </p:spPr>
      </p:pic>
      <p:pic>
        <p:nvPicPr>
          <p:cNvPr id="497" name="Рисунок 4" descr="guzulskaja-svdba-3.jpg"/>
          <p:cNvPicPr/>
          <p:nvPr/>
        </p:nvPicPr>
        <p:blipFill>
          <a:blip r:embed="rId2"/>
          <a:stretch/>
        </p:blipFill>
        <p:spPr>
          <a:xfrm>
            <a:off x="4714920" y="2928960"/>
            <a:ext cx="4214880" cy="3691080"/>
          </a:xfrm>
          <a:prstGeom prst="rect">
            <a:avLst/>
          </a:prstGeom>
          <a:ln w="0">
            <a:noFill/>
          </a:ln>
        </p:spPr>
      </p:pic>
    </p:spTree>
  </p:cSld>
  <p:transition spd="slow">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456840" y="500040"/>
            <a:ext cx="5257800" cy="59292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сілля - подія довгоочікувана, хвилююча і радісна для молодят, і хочеться їм, щоб вона запам’яталась на все подружнє життя. Зрозуміло, наречені та їхні батьки, які найчастіше організовують весілля, прагнуть, щоб воно було не лише гучним, веселим, красивим, а й особливим, як для “винуватців” урочистої події, так і для гостей. Тому останнім часом в Україні все частіше відмовляються від весіль європейського типу, а надають перевагу, наприклад, тематичним, які ввійшли в моду. Багато молодих пар зупиняють свій вибір на українських традиційних весіллях, які почали відроджуватись, бо саме такі весілля дозволяють наблизитися до народних звичаїв, які споконвіку «програмували» щасливу сім'ю та її благополуччя. На щастя, багато з українських стародавніх обрядів збереглися до сьогодні.</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 </a:t>
            </a:r>
            <a:r>
              <a:rPr b="0" lang="uk-UA" sz="1400" spc="-1" strike="noStrike">
                <a:solidFill>
                  <a:srgbClr val="000000"/>
                </a:solidFill>
                <a:latin typeface="Calibri"/>
              </a:rPr>
              <a:t>Щоб весілля вдалося на славу, все дійство повинно містити в собі елементи українського національного стилю: гості – обов’язково у вишиванках чи етнічному одязі, кухня – тільки українська, традиційна для регіону, де проводять весілля. А українські пісні лунатимуть у виконанні троїстих музик. Чудовим зразком для тих, хто хоче поєднатись у шлюбі, так як це робили наші пращури на Гуцульщині, є весілля Катрусі та Ігора Мельничуків. Молодята відразу відмовились від традиційної церемонії розпису у РАЦСі, проігнорували офіційний бенкетний зал та білу сукню нареченої. А було вінчання у невеликій церкві у гірському селі Криворівня, столи з наїдками під розлогою яблунею та гості в гуцульському одязі. Весілля гуляли не один, а три дні, як прийнято в горах із давніх-давен.</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9" name="Рисунок 3" descr="ves2.jpg"/>
          <p:cNvPicPr/>
          <p:nvPr/>
        </p:nvPicPr>
        <p:blipFill>
          <a:blip r:embed="rId1"/>
          <a:stretch/>
        </p:blipFill>
        <p:spPr>
          <a:xfrm>
            <a:off x="5786280" y="1071720"/>
            <a:ext cx="2928960" cy="4417920"/>
          </a:xfrm>
          <a:prstGeom prst="rect">
            <a:avLst/>
          </a:prstGeom>
          <a:ln w="0">
            <a:noFill/>
          </a:ln>
        </p:spPr>
      </p:pic>
    </p:spTree>
  </p:cSld>
  <p:transition spd="slow">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txBox="1"/>
          <p:nvPr/>
        </p:nvSpPr>
        <p:spPr>
          <a:xfrm>
            <a:off x="456840" y="428760"/>
            <a:ext cx="5257800" cy="569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День напередодні вінчання - «вінки», оскільки в цей день створюються унікальні весільні обереги («гільце» і самі «вінки»), характерні  тільки для Гощульщини та ще деяких регіонів. Гільце – дві молоді сосни, зв’язані докупи та прикрашені різнобарвними стрічками, квітами та «шишками». Таке деревце, яке супроводжувало всю весільну церемонію наших молодят, - не лише символ  єднання нової пари, але й вшанування всього роду та пантеону предків. «Вінки» - це вже індивідуальний оберіг, виготовлення яких – процес доволі складний,  який є таємницею і передається тільки обраним майстриням. Плетуть вінки обов’язково молоді вправні господині, що мають здорових діток. Створюючи обереги, вони ніби передають свою позитивну енергетику молодій парі, щоб і її сімейне життя було вдалим.</a:t>
            </a:r>
            <a:endParaRPr b="0" lang="en-US" sz="2000" spc="-1" strike="noStrike">
              <a:solidFill>
                <a:srgbClr val="000000"/>
              </a:solidFill>
              <a:latin typeface="Calibri"/>
            </a:endParaRPr>
          </a:p>
        </p:txBody>
      </p:sp>
      <p:pic>
        <p:nvPicPr>
          <p:cNvPr id="501" name="Рисунок 3" descr="ves3.bmp"/>
          <p:cNvPicPr/>
          <p:nvPr/>
        </p:nvPicPr>
        <p:blipFill>
          <a:blip r:embed="rId1"/>
          <a:stretch/>
        </p:blipFill>
        <p:spPr>
          <a:xfrm>
            <a:off x="5786280" y="1214280"/>
            <a:ext cx="3000600" cy="4443480"/>
          </a:xfrm>
          <a:prstGeom prst="rect">
            <a:avLst/>
          </a:prstGeom>
          <a:ln w="0">
            <a:noFill/>
          </a:ln>
        </p:spPr>
      </p:pic>
    </p:spTree>
  </p:cSld>
  <p:transition spd="slow">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456840" y="571320"/>
            <a:ext cx="8186760" cy="35002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alibri"/>
              </a:rPr>
              <a:t>Саме ж весілля почалося ще вдосвіта. Ранок нареченої-гуцулки разюче відрізняється від ранку звичайної нареченої! Хоч їй не потрібні ані манікюр, ні весільний макіяж, ні послуги перукарів з салону, проте одягання тривало не одну годину. Катруся в цей день носила  весільну «вбирю» - так одним словом називають увесь одяг та прикраси. Ритуал одягання супроводжується «ладканням» - сумними весільними піснями, бо ж дівчина прощається з безтурботним дівоцтвом і стає господинею. Крім вишиванки на наречену одягли попружку (широкий тканий пояс), що тримає дві запаски. А ще нав’язали на пояс аж п’ять хусток, одягли кептар та перемітку-рушник, на ногах – традиційне гуцульське взуття з м’якої шкіри.</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alibri"/>
              </a:rPr>
              <a:t> </a:t>
            </a:r>
            <a:r>
              <a:rPr b="0" lang="uk-UA" sz="1500" spc="-1" strike="noStrike">
                <a:solidFill>
                  <a:srgbClr val="000000"/>
                </a:solidFill>
                <a:latin typeface="Calibri"/>
              </a:rPr>
              <a:t>Весільну зачіску робили аж три години! Майстриня виплела коси, обв’язала їх «поплітками» (пасмами кольорової вовни), склала зачіску-кошик. Безліч прикрас просто нашивалися на волосся, без жодного вузлика, щоб і сімейне життя було рівним, без «вузлів».  Зачіску прикрили головною прикрасою — «чільцем» (невеличка корона, зібрана з тисяч окремих бляшок), яке замінило звичну фату. Багатий одяг нареченої, декорований чудернацькими візерунками, - своєрідне свідчення багатства її родини, що для гуцулів дуже важливо.  Поки Катрусю одягали та робили їй зачіску, наречений перетворився з сучасного хлопця у справжнього гуцула: вишукана сорочка-вишиванка, пояс-черес, кептар, штани-портяниці, чоботи, на голові – капелюх-крисаня, в руках – топірець.</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03" name="Рисунок 3" descr="ves.jpg"/>
          <p:cNvPicPr/>
          <p:nvPr/>
        </p:nvPicPr>
        <p:blipFill>
          <a:blip r:embed="rId1"/>
          <a:stretch/>
        </p:blipFill>
        <p:spPr>
          <a:xfrm>
            <a:off x="857160" y="4143240"/>
            <a:ext cx="3357720" cy="2354400"/>
          </a:xfrm>
          <a:prstGeom prst="rect">
            <a:avLst/>
          </a:prstGeom>
          <a:ln w="0">
            <a:noFill/>
          </a:ln>
        </p:spPr>
      </p:pic>
      <p:pic>
        <p:nvPicPr>
          <p:cNvPr id="504" name="Рисунок 4" descr="ves6.JPG"/>
          <p:cNvPicPr/>
          <p:nvPr/>
        </p:nvPicPr>
        <p:blipFill>
          <a:blip r:embed="rId2"/>
          <a:stretch/>
        </p:blipFill>
        <p:spPr>
          <a:xfrm>
            <a:off x="5715000" y="3929040"/>
            <a:ext cx="1755720" cy="2643120"/>
          </a:xfrm>
          <a:prstGeom prst="rect">
            <a:avLst/>
          </a:prstGeom>
          <a:ln w="0">
            <a:noFill/>
          </a:ln>
        </p:spPr>
      </p:pic>
    </p:spTree>
  </p:cSld>
  <p:transition spd="slow">
    <p:random/>
    <p:sndAc>
      <p:stSnd>
        <p:snd r:embed="rId3"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457200" y="571320"/>
            <a:ext cx="8229600" cy="3786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ш ніж  вийти з дому, молода пара стала на коліна перед батьками, просячи пробачити їм, якщо чимось завинили, і благословити на щасливе подружнє життя. Не попросити у найрідніших дозволу на шлюб – великий гріх, гуцули вірять, що без батьківського благословення щастя у молодій сім’ї не буде.  Батьки тричі хрестять молодих обрядовими калачами, а наречені цілують їм руки на знак вдячності, що виростили-вигодувал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аїнство вінчання в маленькій дерев’яній сільській церкві не  можна порівняти навіть з величчю найбільших соборів України. У благословенній тиші, яку порушували лише слова священика, народжувалась нова сім’я... Воскові свічечки, ладан і миро – тиха й прекрасна урочистість. На голову Катрусі поклали хустку, й тепер вона, за церковним законом, – дружин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ийшовши з церкви, молодята взялися розривати два калачі: перший — на подружні права, другий — на обов’язки, причому і Катруся, і Ігор намагались відірвати якомога більший шматок. Але перед цим нишком глянули в дірочку калача на гостей, бо є повір’я, що скільки нарахують людей, стільки будуть мати дітей. Зійшлись на трьох та й попрямували додому за святкові столи, де очікувало на всіх смачне частування. Весілля гомоніло,  за гуцульськими звичаєм, до третіх півнів.</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6" name="Рисунок 3" descr="ves5.jpg"/>
          <p:cNvPicPr/>
          <p:nvPr/>
        </p:nvPicPr>
        <p:blipFill>
          <a:blip r:embed="rId1"/>
          <a:stretch/>
        </p:blipFill>
        <p:spPr>
          <a:xfrm>
            <a:off x="1643040" y="4500720"/>
            <a:ext cx="5929200" cy="2095200"/>
          </a:xfrm>
          <a:prstGeom prst="rect">
            <a:avLst/>
          </a:prstGeom>
          <a:ln w="0">
            <a:noFill/>
          </a:ln>
        </p:spPr>
      </p:pic>
    </p:spTree>
  </p:cSld>
  <p:transition spd="slow">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457200" y="642600"/>
            <a:ext cx="8229600" cy="548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Кульмінацією урочистого дійства стало розплітання коси нареченої та зав’язування хустки. Як тільки до чола Катрусі Ігор приклав хустку, вона рішучим рухом скинула її – горді гуцулки собі ціну знають. Аж за третім разом чоловік її «вмовив» стати молодицею. На цьому офіційне весілля закінчилось, і гості почали потрохи розходитись. Проте не всі обряди, що неодмінно супроводжують гуцульське весілля, на цьому закінчились, попереду був ще один день веселощів і частування. Обрядів цих ще дуже багато, і всі вони різняться, тому самі гуцули жартують, що навіть на різних кінцях одного села весілля справляють по-різном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Стихли музики, притомилися гості, спорожніли весільні столи...Та й щасливих Ігора й Катрусі вже не видно. Скільки добрих, щирих побажань почули вони сьогодні на свою адресу, тож сподіваюсь - будуть гарною сім’єю.</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сілля у гуцулів починається з шиття весільного вінка молодим і прикраси «весільного деревця» - яке здавна вважається деревом сімейного життя. Протягом трьох днів свято супроводжується веселими піснями, танцями, забавами та жартами. Життя перетворюється на карнавал ... </a:t>
            </a:r>
            <a:br>
              <a:rPr sz="4000"/>
            </a:br>
            <a:endParaRPr b="0" lang="en-US" sz="1800" spc="-1" strike="noStrike">
              <a:solidFill>
                <a:srgbClr val="000000"/>
              </a:solidFill>
              <a:latin typeface="Calibri"/>
            </a:endParaRPr>
          </a:p>
        </p:txBody>
      </p:sp>
      <p:pic>
        <p:nvPicPr>
          <p:cNvPr id="509" name="Содержимое 4" descr="guzulskaja-svdba-2.jpg"/>
          <p:cNvPicPr/>
          <p:nvPr/>
        </p:nvPicPr>
        <p:blipFill>
          <a:blip r:embed="rId1"/>
          <a:stretch/>
        </p:blipFill>
        <p:spPr>
          <a:xfrm>
            <a:off x="0" y="2428920"/>
            <a:ext cx="4535640" cy="3510000"/>
          </a:xfrm>
          <a:prstGeom prst="rect">
            <a:avLst/>
          </a:prstGeom>
          <a:ln w="0">
            <a:noFill/>
          </a:ln>
        </p:spPr>
      </p:pic>
      <p:pic>
        <p:nvPicPr>
          <p:cNvPr id="510" name="Содержимое 5" descr="guzulskaja-svdba-5.jpg"/>
          <p:cNvPicPr/>
          <p:nvPr/>
        </p:nvPicPr>
        <p:blipFill>
          <a:blip r:embed="rId2"/>
          <a:stretch/>
        </p:blipFill>
        <p:spPr>
          <a:xfrm>
            <a:off x="4476600" y="2428920"/>
            <a:ext cx="4667400" cy="3500280"/>
          </a:xfrm>
          <a:prstGeom prst="rect">
            <a:avLst/>
          </a:prstGeom>
          <a:ln w="0">
            <a:noFill/>
          </a:ln>
        </p:spPr>
      </p:pic>
    </p:spTree>
  </p:cSld>
  <p:transition spd="slow">
    <p:random/>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4:14:08Z</dcterms:created>
  <dc:creator>Семья</dc:creator>
  <dc:description/>
  <dc:language>en-US</dc:language>
  <cp:lastModifiedBy>Admin</cp:lastModifiedBy>
  <dcterms:modified xsi:type="dcterms:W3CDTF">2014-12-30T08:39:09Z</dcterms:modified>
  <cp:revision>14</cp:revision>
  <dc:subject/>
  <dc:title>Свадьба в Карпатах (Гуцульская свадьб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e16000000000001024140</vt:lpwstr>
  </property>
</Properties>
</file>