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8B3-342F-4299-ACF0-AAA850E2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F1C-A313-4977-B628-8FBE49E0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F20-79F4-46E9-9173-CE7A65C0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3D3-FF86-43AC-85B2-53EA6DCB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BDA6-A6E0-4CEF-B84B-A831793A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6C8D-048D-4938-8E04-1CF94FD6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A657-2204-4E59-949E-DE46A71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64E6-FDC7-42E4-9D3A-A02E926E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1A21-5A6E-4A1E-8D38-E5575C5F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CECF-2F15-4F74-AD88-D989BB6C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E5F3-A7B9-4C14-8D3B-B12C0A4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656-F730-4000-B032-B1D4FA8D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89AF-FD9C-4C66-891F-DF6EF99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642B-E727-423D-B6DB-ACD63EEF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050B-B51C-47F8-B9E3-B5B92C73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3F9E-C2A2-4E14-8836-C5B74DD9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92C9-EE30-439D-9EDA-28B239DA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53E-923C-4915-8308-BF8E1F27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A5A-A2F6-4537-9AE1-8C577B46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B1F-9134-416D-8B76-6C9DA86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C14-4B66-4818-8D52-978B3EB1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460-9E05-4E7B-A8F4-03FCE36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C03-6ABB-4A64-97FD-43779FC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7E8-9B2A-426C-839A-53F30334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BFD4-BC56-4D47-923F-0D5448E8ED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0098-0296-4B7D-AA90-86F4229C93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Література рідного кра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Руслан Данилов ВКонтакте"/>
          <p:cNvPicPr/>
          <p:nvPr/>
        </p:nvPicPr>
        <p:blipFill>
          <a:blip r:embed="rId1"/>
          <a:stretch/>
        </p:blipFill>
        <p:spPr>
          <a:xfrm>
            <a:off x="2195640" y="1989000"/>
            <a:ext cx="4537080" cy="3314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Сайт міста Миколаїв - Портал міста Миколаїв онлайн"/>
          <p:cNvPicPr/>
          <p:nvPr/>
        </p:nvPicPr>
        <p:blipFill>
          <a:blip r:embed="rId2"/>
          <a:stretch/>
        </p:blipFill>
        <p:spPr>
          <a:xfrm>
            <a:off x="7236000" y="40464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Цього разу письменники почули від президента &quot;сам йди геть&quot;,…"/>
          <p:cNvPicPr/>
          <p:nvPr/>
        </p:nvPicPr>
        <p:blipFill>
          <a:blip r:embed="rId3"/>
          <a:stretch/>
        </p:blipFill>
        <p:spPr>
          <a:xfrm>
            <a:off x="2916360" y="1197000"/>
            <a:ext cx="1873080" cy="150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Біографія Вінграновського Миколи : Вінграновський Микола - життєвий та творчий шлях - Бібліотека школяра"/>
          <p:cNvPicPr/>
          <p:nvPr/>
        </p:nvPicPr>
        <p:blipFill>
          <a:blip r:embed="rId4"/>
          <a:stretch/>
        </p:blipFill>
        <p:spPr>
          <a:xfrm>
            <a:off x="6300720" y="1916280"/>
            <a:ext cx="137160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Життя і творчість Миколи Садовського - реферат безплатно скачать з предмету Література України. Українська література"/>
          <p:cNvPicPr/>
          <p:nvPr/>
        </p:nvPicPr>
        <p:blipFill>
          <a:blip r:embed="rId5"/>
          <a:stretch/>
        </p:blipFill>
        <p:spPr>
          <a:xfrm>
            <a:off x="1476360" y="1268280"/>
            <a:ext cx="115092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Фотоархив - Категория: Валерий Бойченко - Файл: boichenko"/>
          <p:cNvPicPr/>
          <p:nvPr/>
        </p:nvPicPr>
        <p:blipFill>
          <a:blip r:embed="rId6"/>
          <a:stretch/>
        </p:blipFill>
        <p:spPr>
          <a:xfrm>
            <a:off x="1187280" y="3933720"/>
            <a:ext cx="1271880" cy="1751040"/>
          </a:xfrm>
          <a:prstGeom prst="rect">
            <a:avLst/>
          </a:prstGeom>
          <a:ln w="0">
            <a:noFill/>
          </a:ln>
        </p:spPr>
      </p:pic>
      <p:pic>
        <p:nvPicPr>
          <p:cNvPr id="104" name="168big" descr="Фоторепортажи - Центральная библиотека им. М. Л. Кропивницко…"/>
          <p:cNvPicPr/>
          <p:nvPr/>
        </p:nvPicPr>
        <p:blipFill>
          <a:blip r:embed="rId7"/>
          <a:srcRect l="0" t="0" r="0" b="222"/>
          <a:stretch/>
        </p:blipFill>
        <p:spPr>
          <a:xfrm>
            <a:off x="2700360" y="4653000"/>
            <a:ext cx="1600200" cy="194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Николаев Украина Новости Афиша"/>
          <p:cNvPicPr/>
          <p:nvPr/>
        </p:nvPicPr>
        <p:blipFill>
          <a:blip r:embed="rId8"/>
          <a:stretch/>
        </p:blipFill>
        <p:spPr>
          <a:xfrm>
            <a:off x="5940360" y="4005360"/>
            <a:ext cx="1362240" cy="190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Діловецька сільська бібліотека: &quot;Сміху іскорки ясні."/>
          <p:cNvPicPr/>
          <p:nvPr/>
        </p:nvPicPr>
        <p:blipFill>
          <a:blip r:embed="rId9"/>
          <a:stretch/>
        </p:blipFill>
        <p:spPr>
          <a:xfrm>
            <a:off x="4500720" y="4508640"/>
            <a:ext cx="1244520" cy="165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Биография Черкасенко Спиридона: Черкасенко Спиридон - жизнен…"/>
          <p:cNvPicPr/>
          <p:nvPr/>
        </p:nvPicPr>
        <p:blipFill>
          <a:blip r:embed="rId10"/>
          <a:stretch/>
        </p:blipFill>
        <p:spPr>
          <a:xfrm>
            <a:off x="324000" y="2276640"/>
            <a:ext cx="1137960" cy="1562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отоархив - Категория: Дніпрова Чайка (Людмила Олексіївна Василевська) - Файл: Дніпрова Чайка (Людмила Олексіївна Василевська)"/>
          <p:cNvPicPr/>
          <p:nvPr/>
        </p:nvPicPr>
        <p:blipFill>
          <a:blip r:embed="rId11"/>
          <a:stretch/>
        </p:blipFill>
        <p:spPr>
          <a:xfrm>
            <a:off x="5148360" y="1197000"/>
            <a:ext cx="1011240" cy="151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От русского адмирала - монархиста до украинского националист…"/>
          <p:cNvPicPr/>
          <p:nvPr/>
        </p:nvPicPr>
        <p:blipFill>
          <a:blip r:embed="rId12"/>
          <a:stretch/>
        </p:blipFill>
        <p:spPr>
          <a:xfrm>
            <a:off x="7451640" y="3357720"/>
            <a:ext cx="1373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4530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Акваріум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" descr="Аквариум круглый с рыбками фото"/>
          <p:cNvPicPr/>
          <p:nvPr/>
        </p:nvPicPr>
        <p:blipFill>
          <a:blip r:embed="rId1"/>
          <a:stretch/>
        </p:blipFill>
        <p:spPr>
          <a:xfrm>
            <a:off x="1476360" y="14558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2920" y="4076640"/>
            <a:ext cx="6842160" cy="1295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и присутня позиція автора у тексті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так – прокоментуйте її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ні – то чо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Робота у група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робуйте  визначити коло основних проблем у твор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актуальні вони сьогодні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Gallery.ru / Александр Курзанов &quot;Одиночество бабы Анюты&quot; 1978 - Не забывайте матерей... - ojajushki"/>
          <p:cNvPicPr/>
          <p:nvPr/>
        </p:nvPicPr>
        <p:blipFill>
          <a:blip r:embed="rId1"/>
          <a:stretch/>
        </p:blipFill>
        <p:spPr>
          <a:xfrm>
            <a:off x="5364000" y="3213000"/>
            <a:ext cx="240516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Зацвел багульник"/>
          <p:cNvPicPr/>
          <p:nvPr/>
        </p:nvPicPr>
        <p:blipFill>
          <a:blip r:embed="rId2"/>
          <a:stretch/>
        </p:blipFill>
        <p:spPr>
          <a:xfrm>
            <a:off x="1619280" y="3213000"/>
            <a:ext cx="264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2893680" cy="3861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4365360"/>
            <a:ext cx="7786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Авторка постійно акцентує не стільки увагу на самому дереві, як на  кетягах.  Як ви думаєте, чому? Що вони символізують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Роздуми над епіграфом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 до батьків — основа всіх чеснот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е так буває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авди ніде д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Хоч де любов така 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иста є?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Що згадують тоді п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тір ді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ли їм важко у жит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ає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Третья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В соответствии с Указом Президента Республики Казахстан от 1…"/>
          <p:cNvPicPr/>
          <p:nvPr/>
        </p:nvPicPr>
        <p:blipFill>
          <a:blip r:embed="rId1"/>
          <a:stretch/>
        </p:blipFill>
        <p:spPr>
          <a:xfrm>
            <a:off x="324000" y="4292640"/>
            <a:ext cx="35528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708280"/>
            <a:ext cx="69087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0033"/>
                </a:solidFill>
                <a:latin typeface="Times New Roman"/>
              </a:rPr>
              <a:t>Рефлексія</a:t>
            </a:r>
            <a:br>
              <a:rPr sz="2800"/>
            </a:br>
            <a:r>
              <a:rPr b="0" lang="uk-UA" sz="2800" spc="-1" strike="noStrike">
                <a:solidFill>
                  <a:srgbClr val="330033"/>
                </a:solidFill>
                <a:latin typeface="Times New Roman"/>
              </a:rPr>
              <a:t>Це оповідання допомогло мені усвідомити…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От сердца к сердцу ВКонтакте"/>
          <p:cNvPicPr/>
          <p:nvPr/>
        </p:nvPicPr>
        <p:blipFill>
          <a:blip r:embed="rId1"/>
          <a:stretch/>
        </p:blipFill>
        <p:spPr>
          <a:xfrm>
            <a:off x="324000" y="3860640"/>
            <a:ext cx="2232000" cy="1670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За каждого ребенка - минус год"/>
          <p:cNvPicPr/>
          <p:nvPr/>
        </p:nvPicPr>
        <p:blipFill>
          <a:blip r:embed="rId2"/>
          <a:stretch/>
        </p:blipFill>
        <p:spPr>
          <a:xfrm>
            <a:off x="395280" y="1125360"/>
            <a:ext cx="2592360" cy="1802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Родителям на заметку - центр формирования и развития личности А. Капоровского"/>
          <p:cNvPicPr/>
          <p:nvPr/>
        </p:nvPicPr>
        <p:blipFill>
          <a:blip r:embed="rId3"/>
          <a:stretch/>
        </p:blipFill>
        <p:spPr>
          <a:xfrm>
            <a:off x="7020000" y="2781360"/>
            <a:ext cx="1795320" cy="2154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Отзывы на стихи, современная литература"/>
          <p:cNvPicPr/>
          <p:nvPr/>
        </p:nvPicPr>
        <p:blipFill>
          <a:blip r:embed="rId4"/>
          <a:stretch/>
        </p:blipFill>
        <p:spPr>
          <a:xfrm>
            <a:off x="3995640" y="728640"/>
            <a:ext cx="2592360" cy="1865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трогательные картинки о любви"/>
          <p:cNvPicPr/>
          <p:nvPr/>
        </p:nvPicPr>
        <p:blipFill>
          <a:blip r:embed="rId5"/>
          <a:stretch/>
        </p:blipFill>
        <p:spPr>
          <a:xfrm>
            <a:off x="3492360" y="4433760"/>
            <a:ext cx="25923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Домашнє завдан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писати твір-мініатюр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 до батьків — основа всіх чесно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» за оповіданням Ольги Славно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Горобини кетяги незрілі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пикник Stock Photos Images, Royalty Free пикник Images And Pictures"/>
          <p:cNvPicPr/>
          <p:nvPr/>
        </p:nvPicPr>
        <p:blipFill>
          <a:blip r:embed="rId1"/>
          <a:stretch/>
        </p:blipFill>
        <p:spPr>
          <a:xfrm>
            <a:off x="2484360" y="3716280"/>
            <a:ext cx="4105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 круглим стол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іть відомих письменників Миколаївщи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м вони вам запам’ятали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і проблеми порушують письменники Миколаївщини? До чого спонукають своїх читачі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06920" cy="3720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0" y="105264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0033"/>
                </a:solidFill>
                <a:latin typeface="Times New Roman"/>
              </a:rPr>
              <a:t>Ольга Славна</a:t>
            </a:r>
            <a:br>
              <a:rPr sz="4400"/>
            </a:br>
            <a:r>
              <a:rPr b="1" lang="uk-UA" sz="4400" spc="-1" strike="noStrike">
                <a:solidFill>
                  <a:srgbClr val="330033"/>
                </a:solidFill>
                <a:latin typeface="Times New Roman"/>
              </a:rPr>
              <a:t>«Горобини кетяги незрілі»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ітература рідного к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84720" y="429264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24000" y="2852280"/>
            <a:ext cx="482436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Ольга Слав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>
            <a:lum contrast="6000"/>
          </a:blip>
          <a:srcRect l="0" t="0" r="0" b="-78"/>
          <a:stretch/>
        </p:blipFill>
        <p:spPr>
          <a:xfrm>
            <a:off x="1763640" y="549360"/>
            <a:ext cx="2651040" cy="3484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30783" r="0" b="19077"/>
          <a:stretch/>
        </p:blipFill>
        <p:spPr>
          <a:xfrm>
            <a:off x="468360" y="3933720"/>
            <a:ext cx="8424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оло пробле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у діти не шанують своїх батькі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Хто винен, що дитина, виростаючи, забуває про свій синівський обов’яз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варто втручатися у особисте життя подруги,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завжди добрі наміри матимуть позитивний результат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 потрібно виховувати своїх дітей, щоб вони тебе не забу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День проблем &quot; WEACOM - Единая городская компьютерная сеть"/>
          <p:cNvPicPr/>
          <p:nvPr/>
        </p:nvPicPr>
        <p:blipFill>
          <a:blip r:embed="rId1"/>
          <a:stretch/>
        </p:blipFill>
        <p:spPr>
          <a:xfrm>
            <a:off x="6156360" y="189000"/>
            <a:ext cx="2592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динокие старики (Регишка Штаб) / Стихи.ру - национальный сервер современной поэзии"/>
          <p:cNvPicPr/>
          <p:nvPr/>
        </p:nvPicPr>
        <p:blipFill>
          <a:blip r:embed="rId1"/>
          <a:stretch/>
        </p:blipFill>
        <p:spPr>
          <a:xfrm>
            <a:off x="684360" y="692280"/>
            <a:ext cx="4105080" cy="2733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84368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330033"/>
                </a:solidFill>
                <a:latin typeface="Times New Roman"/>
              </a:rPr>
              <a:t>Поділіться своїми враженнями від прочитаного. </a:t>
            </a:r>
            <a:br>
              <a:rPr sz="3200"/>
            </a:br>
            <a:r>
              <a:rPr b="0" lang="uk-UA" sz="3200" spc="-1" strike="noStrike">
                <a:solidFill>
                  <a:srgbClr val="330033"/>
                </a:solidFill>
                <a:latin typeface="Times New Roman"/>
              </a:rPr>
              <a:t>Який настрій викликав у вас цей твір? </a:t>
            </a:r>
            <a:br>
              <a:rPr sz="3200"/>
            </a:br>
            <a:r>
              <a:rPr b="0" lang="uk-UA" sz="3200" spc="-1" strike="noStrike">
                <a:solidFill>
                  <a:srgbClr val="330033"/>
                </a:solidFill>
                <a:latin typeface="Times New Roman"/>
              </a:rPr>
              <a:t>Над чим змусив замислитись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03640" y="657360"/>
            <a:ext cx="36738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Бесіда з елементами дослідження художньої тканини тексту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6800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Художня дета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а характерна риса чи подробиця , яка має відносно самостійне значення й використовується для емоційного й глибшого змалювання картини чи образів, для підкреслення їхньої індивідуальної особлив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330033"/>
                </a:solidFill>
                <a:latin typeface="Times New Roman"/>
              </a:rPr>
              <a:t>Проблемне питанн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 чи «завинила»  маті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836640"/>
            <a:ext cx="1727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08:10:30Z</dcterms:created>
  <dc:creator>UserXP</dc:creator>
  <dc:description/>
  <dc:language>en-US</dc:language>
  <cp:lastModifiedBy>UserXP</cp:lastModifiedBy>
  <dcterms:modified xsi:type="dcterms:W3CDTF">2014-10-10T06:43:50Z</dcterms:modified>
  <cp:revision>4</cp:revision>
  <dc:subject/>
  <dc:title>Ольга Славна «Горобини кетяги незрілі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8000000000001024140</vt:lpwstr>
  </property>
</Properties>
</file>