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gif" ContentType="image/gif"/>
  <Override PartName="/ppt/media/image13.jpeg" ContentType="image/jpeg"/>
  <Override PartName="/ppt/media/image8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5D1-3AB6-4BAA-9076-C3A7CA6C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B75-6947-4279-8880-148221A4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EAF-03E4-49D4-8A71-21AF65F1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B51F-F280-4098-85F4-E02C38F9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0872-150E-4590-B3C4-BCA623B4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B86-E2CB-4EC4-A03F-2179475F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5F2-F7B8-49E5-90B5-BEBAA4CE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F95-B10E-49BA-9096-91479ACD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5A8-B899-432D-9C59-F4DB157F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8D8-267C-4C1D-89DF-A0B8762C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77C-99F4-442C-ABD8-2A5DDE71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BAF-6A3D-4E49-8552-ADC53BCC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F5F6-ECC2-4E8E-9004-C45B1EB71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Georgia"/>
              </a:rPr>
              <a:t>Добро і зло в повісті Бориса Харчука “Планетник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57600" y="3048120"/>
            <a:ext cx="525780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Кожна людина, людський рід – з кореня добра і з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                                           </a:t>
            </a: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Борис Харч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342900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4a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uk-UA" sz="3600" spc="-1" strike="noStrike">
                <a:solidFill>
                  <a:srgbClr val="1620f2"/>
                </a:solidFill>
                <a:latin typeface="Georgia"/>
              </a:rPr>
              <a:t>Візок дитинства не котився згори, а під гору: його треба було пхати, як біду, щоб біда не пхала додо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274284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Прогнаний дітьми, нагриманий маті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ю, він посмутнів, став журно задумуватис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Сам і сам – завжди са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Гнаний, кривджений і безпритульний, – все шука, до кого  б прихилитися й пригорнутис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76312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00"/>
                </a:solidFill>
                <a:latin typeface="Georgia"/>
              </a:rPr>
              <a:t>На зло – відповідай добр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оже, ти скажеш, що любиш людей! Їхні діти обзивають тебе, кидають на тебе камінцями, а ти їх любиш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Люблю… я ніколи їх не покину, дідусю, хоч я серед них і останній чередник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19f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3300"/>
                </a:solidFill>
                <a:latin typeface="Georgia"/>
              </a:rPr>
              <a:t>Домашнє завдан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Написати  твір-мініатюру “Моя “перша квітка” в житті” (вчинок в і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 добра, крас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07080" y="1600200"/>
            <a:ext cx="3879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6858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3300"/>
                </a:solidFill>
                <a:latin typeface="Georgia"/>
              </a:rPr>
              <a:t>Дякую за роботу на уроц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80880"/>
            <a:ext cx="8609400" cy="6247800"/>
            <a:chOff x="228600" y="380880"/>
            <a:chExt cx="8609400" cy="6247800"/>
          </a:xfrm>
        </p:grpSpPr>
        <p:cxnSp>
          <p:nvCxnSpPr>
            <p:cNvPr id="45" name="_s8240"/>
            <p:cNvCxnSpPr>
              <a:stCxn id="46" idx="1"/>
              <a:endCxn id="47" idx="2"/>
            </p:cNvCxnSpPr>
            <p:nvPr/>
          </p:nvCxnSpPr>
          <p:spPr>
            <a:xfrm rot="10800000">
              <a:off x="4532760" y="1114920"/>
              <a:ext cx="615600" cy="5149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8238"/>
            <p:cNvCxnSpPr>
              <a:stCxn id="49" idx="3"/>
              <a:endCxn id="47" idx="2"/>
            </p:cNvCxnSpPr>
            <p:nvPr/>
          </p:nvCxnSpPr>
          <p:spPr>
            <a:xfrm flipV="1">
              <a:off x="3918240" y="1114920"/>
              <a:ext cx="615600" cy="5149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8236"/>
            <p:cNvCxnSpPr>
              <a:stCxn id="51" idx="1"/>
              <a:endCxn id="47" idx="2"/>
            </p:cNvCxnSpPr>
            <p:nvPr/>
          </p:nvCxnSpPr>
          <p:spPr>
            <a:xfrm rot="10800000">
              <a:off x="4532760" y="1114920"/>
              <a:ext cx="615600" cy="40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8234"/>
            <p:cNvCxnSpPr>
              <a:stCxn id="53" idx="3"/>
              <a:endCxn id="47" idx="2"/>
            </p:cNvCxnSpPr>
            <p:nvPr/>
          </p:nvCxnSpPr>
          <p:spPr>
            <a:xfrm flipV="1">
              <a:off x="3918240" y="1115280"/>
              <a:ext cx="615600" cy="40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8232"/>
            <p:cNvCxnSpPr>
              <a:stCxn id="55" idx="1"/>
              <a:endCxn id="47" idx="2"/>
            </p:cNvCxnSpPr>
            <p:nvPr/>
          </p:nvCxnSpPr>
          <p:spPr>
            <a:xfrm rot="10800000">
              <a:off x="4532760" y="1114920"/>
              <a:ext cx="615600" cy="2940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8230"/>
            <p:cNvCxnSpPr>
              <a:stCxn id="57" idx="3"/>
              <a:endCxn id="47" idx="2"/>
            </p:cNvCxnSpPr>
            <p:nvPr/>
          </p:nvCxnSpPr>
          <p:spPr>
            <a:xfrm flipV="1">
              <a:off x="3918240" y="1115280"/>
              <a:ext cx="615600" cy="2940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8228"/>
            <p:cNvCxnSpPr>
              <a:stCxn id="59" idx="1"/>
              <a:endCxn id="47" idx="2"/>
            </p:cNvCxnSpPr>
            <p:nvPr/>
          </p:nvCxnSpPr>
          <p:spPr>
            <a:xfrm rot="10800000">
              <a:off x="4532760" y="1114920"/>
              <a:ext cx="615600" cy="183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8224"/>
            <p:cNvCxnSpPr>
              <a:stCxn id="61" idx="3"/>
              <a:endCxn id="47" idx="2"/>
            </p:cNvCxnSpPr>
            <p:nvPr/>
          </p:nvCxnSpPr>
          <p:spPr>
            <a:xfrm flipV="1">
              <a:off x="3918240" y="1115280"/>
              <a:ext cx="615600" cy="183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8223"/>
            <p:cNvCxnSpPr>
              <a:stCxn id="63" idx="1"/>
              <a:endCxn id="47" idx="2"/>
            </p:cNvCxnSpPr>
            <p:nvPr/>
          </p:nvCxnSpPr>
          <p:spPr>
            <a:xfrm rot="10800000">
              <a:off x="4532760" y="1114920"/>
              <a:ext cx="615600" cy="73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8222"/>
            <p:cNvCxnSpPr>
              <a:stCxn id="65" idx="3"/>
              <a:endCxn id="47" idx="2"/>
            </p:cNvCxnSpPr>
            <p:nvPr/>
          </p:nvCxnSpPr>
          <p:spPr>
            <a:xfrm flipV="1">
              <a:off x="3918240" y="1115280"/>
              <a:ext cx="615600" cy="73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8218"/>
            <p:cNvSpPr/>
            <p:nvPr/>
          </p:nvSpPr>
          <p:spPr>
            <a:xfrm>
              <a:off x="2688480" y="380880"/>
              <a:ext cx="3689640" cy="734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ff0000"/>
                  </a:solidFill>
                  <a:latin typeface="Georgia"/>
                </a:rPr>
                <a:t>ДОБР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8219"/>
            <p:cNvSpPr/>
            <p:nvPr/>
          </p:nvSpPr>
          <p:spPr>
            <a:xfrm>
              <a:off x="228600" y="1483200"/>
              <a:ext cx="3689640" cy="7347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Олена Булига прийняла агро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нома на квартиру безкоштовно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8220"/>
            <p:cNvSpPr/>
            <p:nvPr/>
          </p:nvSpPr>
          <p:spPr>
            <a:xfrm>
              <a:off x="5148360" y="1483200"/>
              <a:ext cx="3689640" cy="7347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Допомога хлопця матері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по господарств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8221"/>
            <p:cNvSpPr/>
            <p:nvPr/>
          </p:nvSpPr>
          <p:spPr>
            <a:xfrm>
              <a:off x="228600" y="2585880"/>
              <a:ext cx="3689640" cy="7347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Любов матері до сина, землі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прац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8227"/>
            <p:cNvSpPr/>
            <p:nvPr/>
          </p:nvSpPr>
          <p:spPr>
            <a:xfrm>
              <a:off x="5148360" y="2585880"/>
              <a:ext cx="3689640" cy="7347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Намагання хлопця викликат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хмару з дощем, щоб врятуват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врожа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8229"/>
            <p:cNvSpPr/>
            <p:nvPr/>
          </p:nvSpPr>
          <p:spPr>
            <a:xfrm>
              <a:off x="228600" y="3688560"/>
              <a:ext cx="3689640" cy="7347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Стосунки хлопця з нарцисом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свійським птаство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8231"/>
            <p:cNvSpPr/>
            <p:nvPr/>
          </p:nvSpPr>
          <p:spPr>
            <a:xfrm>
              <a:off x="5148360" y="3688560"/>
              <a:ext cx="3689640" cy="7347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Допомога Планетника людям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у вирішенні їх пробле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8233"/>
            <p:cNvSpPr/>
            <p:nvPr/>
          </p:nvSpPr>
          <p:spPr>
            <a:xfrm>
              <a:off x="228600" y="4791240"/>
              <a:ext cx="3689640" cy="7347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Вдячність людей хлопцю за його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вміння випасати худоб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8235"/>
            <p:cNvSpPr/>
            <p:nvPr/>
          </p:nvSpPr>
          <p:spPr>
            <a:xfrm>
              <a:off x="5148360" y="4791240"/>
              <a:ext cx="3689640" cy="7347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Зневажливе ставлення героя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до “могорича”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8237"/>
            <p:cNvSpPr/>
            <p:nvPr/>
          </p:nvSpPr>
          <p:spPr>
            <a:xfrm>
              <a:off x="228600" y="5893920"/>
              <a:ext cx="3689640" cy="7347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Порозуміння героя з дідом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Капуше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8239"/>
            <p:cNvSpPr/>
            <p:nvPr/>
          </p:nvSpPr>
          <p:spPr>
            <a:xfrm>
              <a:off x="5148360" y="5893920"/>
              <a:ext cx="3689640" cy="7347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Звільнення матір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ю сина з неволі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Arial"/>
                </a:rPr>
                <a:t>за допомогою квітки нарцис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af6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Мати, не розгинаючись, розпушувала холодну землю, лазила на колінах, розминаючи кожну грудочку, дихала, хукала на неї, віддаючи їй своє тепло і свій дух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початку цвіли нарциси й тюльпани. Тоді засвічувались, як ліхтарі, мальви. За ними – калина, а вже потім повні півонії, ще повніші й пухнастіші жоржини… А ще втесувався серед них самостійний соняшник, як сторож у житньому брилі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8280" y="5095800"/>
            <a:ext cx="2590920" cy="171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66880" y="32767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52280" y="3352680"/>
            <a:ext cx="2175120" cy="3353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105520" y="3276720"/>
            <a:ext cx="1542960" cy="1290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705720" y="3276720"/>
            <a:ext cx="228744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5181480" y="4648320"/>
            <a:ext cx="136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dde5"/>
            </a:gs>
            <a:gs pos="100000">
              <a:srgbClr val="eaf6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0000"/>
                </a:solidFill>
                <a:latin typeface="Georgia"/>
              </a:rPr>
              <a:t>Мати називала його робітник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Він мусив кришити їм варені яйця, сипати крупи, годуючи їх, напувати з черепка, щоб згодом, коли підростуть, берегти курчат і каченят від шуліки, сивої ворони й сороки, а гусенят гонити пастися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Малеча любила дзьобати з його рук, і йому це подобалося. Квочка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качка і гуска н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поривалися йог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бити і не відганял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від своїх виводків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Навпаки, задоволен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сокотали й ґелґота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67080" y="3581280"/>
            <a:ext cx="46483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8e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ін ніколи не зривав листя, не ламав гілля, старався не толочити постолами трави — усе живе, усе для чогось призначене. Навіщо ж його мучити й нівечит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2171520" cy="2895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553080" y="3733920"/>
            <a:ext cx="2229120" cy="2971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743200" y="4038480"/>
            <a:ext cx="35622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4a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Georgia"/>
              </a:rPr>
              <a:t>Земля – найпривітніша людська домі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ідо Капуш розповідав про зіл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вчаючи, яке допомагає людині, яке твари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 яке – отру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 збудувався і держиться на дво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илах – на потузі любов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й на потузі терпінн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бо й земля – 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брі й не зл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они – доскона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52880" y="36576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Georgia"/>
              </a:rPr>
              <a:t>Природа – наша мати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Georgia"/>
              </a:rPr>
              <a:t>ЇЇ треба любити й тоді, ко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Georgia"/>
              </a:rPr>
              <a:t>вона жорсток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114800" y="2819520"/>
            <a:ext cx="4762440" cy="381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381024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d17"/>
            </a:gs>
            <a:gs pos="100000">
              <a:srgbClr val="71fc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іколи не мав вільної хвилини… Восени садив дерева…А з теплом щеплював дички. Хто просив, нікому не відмовля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ліборобство – його святе ремесло. Плекаючи працю, шукаючи в праці згоди з    морозом і сонцем, зі зливами і суховіями,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хиляв своє серце до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72200" y="4114800"/>
            <a:ext cx="2610000" cy="2548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743200" y="4168800"/>
            <a:ext cx="2981160" cy="2546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80880" y="3505320"/>
            <a:ext cx="1832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47eb"/>
            </a:gs>
            <a:gs pos="100000">
              <a:srgbClr val="a819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04920" y="152280"/>
            <a:ext cx="8609400" cy="6476400"/>
            <a:chOff x="304920" y="152280"/>
            <a:chExt cx="8609400" cy="6476400"/>
          </a:xfrm>
        </p:grpSpPr>
        <p:cxnSp>
          <p:nvCxnSpPr>
            <p:cNvPr id="91" name="_s12310"/>
            <p:cNvCxnSpPr>
              <a:stCxn id="92" idx="1"/>
              <a:endCxn id="93" idx="2"/>
            </p:cNvCxnSpPr>
            <p:nvPr/>
          </p:nvCxnSpPr>
          <p:spPr>
            <a:xfrm rot="10800000">
              <a:off x="4609080" y="1076760"/>
              <a:ext cx="615600" cy="508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12308"/>
            <p:cNvCxnSpPr>
              <a:stCxn id="95" idx="3"/>
              <a:endCxn id="93" idx="2"/>
            </p:cNvCxnSpPr>
            <p:nvPr/>
          </p:nvCxnSpPr>
          <p:spPr>
            <a:xfrm flipV="1">
              <a:off x="3994560" y="1076760"/>
              <a:ext cx="615600" cy="5092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12306"/>
            <p:cNvCxnSpPr>
              <a:stCxn id="97" idx="1"/>
              <a:endCxn id="93" idx="2"/>
            </p:cNvCxnSpPr>
            <p:nvPr/>
          </p:nvCxnSpPr>
          <p:spPr>
            <a:xfrm rot="10800000">
              <a:off x="4609080" y="1076760"/>
              <a:ext cx="615600" cy="370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2304"/>
            <p:cNvCxnSpPr>
              <a:stCxn id="99" idx="3"/>
              <a:endCxn id="93" idx="2"/>
            </p:cNvCxnSpPr>
            <p:nvPr/>
          </p:nvCxnSpPr>
          <p:spPr>
            <a:xfrm flipV="1">
              <a:off x="3994560" y="1077120"/>
              <a:ext cx="615600" cy="370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2302"/>
            <p:cNvCxnSpPr>
              <a:stCxn id="101" idx="1"/>
              <a:endCxn id="93" idx="2"/>
            </p:cNvCxnSpPr>
            <p:nvPr/>
          </p:nvCxnSpPr>
          <p:spPr>
            <a:xfrm rot="10800000">
              <a:off x="4609080" y="1076760"/>
              <a:ext cx="615600" cy="231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2300"/>
            <p:cNvCxnSpPr>
              <a:stCxn id="103" idx="3"/>
              <a:endCxn id="93" idx="2"/>
            </p:cNvCxnSpPr>
            <p:nvPr/>
          </p:nvCxnSpPr>
          <p:spPr>
            <a:xfrm flipV="1">
              <a:off x="3994560" y="1076760"/>
              <a:ext cx="615600" cy="231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2299"/>
            <p:cNvCxnSpPr>
              <a:stCxn id="105" idx="1"/>
              <a:endCxn id="93" idx="2"/>
            </p:cNvCxnSpPr>
            <p:nvPr/>
          </p:nvCxnSpPr>
          <p:spPr>
            <a:xfrm rot="10800000">
              <a:off x="4609080" y="1076760"/>
              <a:ext cx="615600" cy="925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2298"/>
            <p:cNvCxnSpPr>
              <a:stCxn id="107" idx="3"/>
              <a:endCxn id="93" idx="2"/>
            </p:cNvCxnSpPr>
            <p:nvPr/>
          </p:nvCxnSpPr>
          <p:spPr>
            <a:xfrm flipV="1">
              <a:off x="3994560" y="1077120"/>
              <a:ext cx="615600" cy="925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_s12294"/>
            <p:cNvSpPr/>
            <p:nvPr/>
          </p:nvSpPr>
          <p:spPr>
            <a:xfrm>
              <a:off x="2764800" y="152280"/>
              <a:ext cx="3689640" cy="925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e89f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000000"/>
                  </a:solidFill>
                  <a:latin typeface="Georgia"/>
                </a:rPr>
                <a:t>Зл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2295"/>
            <p:cNvSpPr/>
            <p:nvPr/>
          </p:nvSpPr>
          <p:spPr>
            <a:xfrm>
              <a:off x="304920" y="1540080"/>
              <a:ext cx="3689640" cy="925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e89f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Кріпац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2296"/>
            <p:cNvSpPr/>
            <p:nvPr/>
          </p:nvSpPr>
          <p:spPr>
            <a:xfrm>
              <a:off x="5224680" y="1540080"/>
              <a:ext cx="3689640" cy="925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e89f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Заздрість люд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до хлопц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2297"/>
            <p:cNvSpPr/>
            <p:nvPr/>
          </p:nvSpPr>
          <p:spPr>
            <a:xfrm>
              <a:off x="304920" y="2927880"/>
              <a:ext cx="3689640" cy="925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e89f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Град, який завдає шкод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нарцису,городині,посів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2301"/>
            <p:cNvSpPr/>
            <p:nvPr/>
          </p:nvSpPr>
          <p:spPr>
            <a:xfrm>
              <a:off x="5224680" y="2927880"/>
              <a:ext cx="3689640" cy="925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e89f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Шкода і збитки від злив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наступного раз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2303"/>
            <p:cNvSpPr/>
            <p:nvPr/>
          </p:nvSpPr>
          <p:spPr>
            <a:xfrm>
              <a:off x="304920" y="4315680"/>
              <a:ext cx="3689640" cy="925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e89f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Хвороба геро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2305"/>
            <p:cNvSpPr/>
            <p:nvPr/>
          </p:nvSpPr>
          <p:spPr>
            <a:xfrm>
              <a:off x="5224680" y="4315680"/>
              <a:ext cx="3689640" cy="925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e89f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Неврожайний рік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злива, а потім спе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2307"/>
            <p:cNvSpPr/>
            <p:nvPr/>
          </p:nvSpPr>
          <p:spPr>
            <a:xfrm>
              <a:off x="304920" y="5703480"/>
              <a:ext cx="3689640" cy="925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e89f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Сільські хлопці обража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Планет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2309"/>
            <p:cNvSpPr/>
            <p:nvPr/>
          </p:nvSpPr>
          <p:spPr>
            <a:xfrm>
              <a:off x="5224680" y="5703480"/>
              <a:ext cx="3689640" cy="92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e89f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Ув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знення Планетник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ішення</a:t>
              </a: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 його спали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r</cp:lastModifiedBy>
  <dcterms:modified xsi:type="dcterms:W3CDTF">2012-02-02T17:49:2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15000000000001024140</vt:lpwstr>
  </property>
  <property fmtid="{D5CDD505-2E9C-101B-9397-08002B2CF9AE}" pid="3" name="Version">
    <vt:r8>1</vt:r8>
  </property>
</Properties>
</file>