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934-DAAE-4B63-B7B6-61CCCCD3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5F3-448B-4539-B55D-BDC7ECB5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9ED-B0D7-4602-82F6-91B2FA0B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015-4AEF-4114-9EA2-43BF352D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4593-CDFA-4AB8-A83B-25B93C48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5DD-EF78-45DA-9916-75EDCEDF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711F-F508-4B3F-8B0B-7A72D03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114-B96F-4B9B-9C39-DCF08918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92D6-62E2-43C2-ABE7-E20CBFB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546-D24C-4823-A7D0-83A466F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CFD9-2404-41F3-9C57-F45BBE0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5A4-3472-4106-80BA-F100A022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6D96-FBB6-478D-A55E-71AFFF2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B6B-A244-4A27-AB8B-7D989E1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1B8A-B9A8-4E7E-AE44-7772CCE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5CC-626C-4660-A92B-3F72ACE3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2F1-A524-4F8B-AB9A-4C074A28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C48-DC4A-469B-949D-EE53F93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8C4-7599-419B-82B0-B6D89A7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739-6624-4FBD-9520-9BD2462D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753-C57A-4659-B975-A9BBB22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24A-FD9A-4007-98C8-E1F3F94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41D-2D65-4697-9E92-FDA9516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510-CA42-4738-B85E-D3174A9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A6F-03E6-4A0F-9E66-29C37577CA29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800" y="65160"/>
              <a:ext cx="2076840" cy="6591600"/>
              <a:chOff x="6967800" y="65160"/>
              <a:chExt cx="2076840" cy="659160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800" y="66600"/>
                <a:ext cx="1975680" cy="6590160"/>
                <a:chOff x="6967800" y="66600"/>
                <a:chExt cx="1975680" cy="659016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640" y="66600"/>
                  <a:ext cx="699840" cy="804600"/>
                  <a:chOff x="717264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64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960" y="153000"/>
                    <a:ext cx="50688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7480" y="2261520"/>
                  <a:ext cx="1017720" cy="1116720"/>
                  <a:chOff x="7557480" y="2261520"/>
                  <a:chExt cx="1017720" cy="111672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3320" y="2300040"/>
                    <a:ext cx="9892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720" y="2366640"/>
                    <a:ext cx="68652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0200" y="923760"/>
                  <a:ext cx="863280" cy="897840"/>
                  <a:chOff x="808020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124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4400" y="107028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600" y="3950280"/>
                  <a:ext cx="1004400" cy="1212840"/>
                  <a:chOff x="7329600" y="3950280"/>
                  <a:chExt cx="100440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600" y="3950280"/>
                    <a:ext cx="10044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840" y="4061520"/>
                    <a:ext cx="75852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720" y="5126400"/>
                  <a:ext cx="1333440" cy="1530360"/>
                  <a:chOff x="7470720" y="512640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960" y="516348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4240" y="524592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800" y="1839240"/>
                  <a:ext cx="863280" cy="897840"/>
                  <a:chOff x="696780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524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2000" y="19868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5600" y="92160"/>
                <a:ext cx="1409040" cy="5095440"/>
                <a:chOff x="7635600" y="92160"/>
                <a:chExt cx="1409040" cy="50954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760" y="4005000"/>
                  <a:ext cx="971640" cy="1182600"/>
                  <a:chOff x="7853760" y="4005000"/>
                  <a:chExt cx="971640" cy="118260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5720" y="4012560"/>
                    <a:ext cx="928440" cy="11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5160" y="4084920"/>
                    <a:ext cx="708120" cy="10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5600" y="1022400"/>
                  <a:ext cx="1075680" cy="1130760"/>
                  <a:chOff x="7635600" y="1022400"/>
                  <a:chExt cx="1075680" cy="113076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1200" y="1025280"/>
                    <a:ext cx="92412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3040" y="1121040"/>
                    <a:ext cx="640440" cy="93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7840" y="92160"/>
                  <a:ext cx="856800" cy="961200"/>
                  <a:chOff x="8187840" y="92160"/>
                  <a:chExt cx="856800" cy="961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480" y="121320"/>
                    <a:ext cx="76860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2280" y="173880"/>
                    <a:ext cx="54792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6800" y="3223440"/>
                  <a:ext cx="369000" cy="537120"/>
                </a:xfrm>
                <a:custGeom>
                  <a:avLst/>
                  <a:gdLst>
                    <a:gd name="textAreaLeft" fmla="*/ 0 w 369000"/>
                    <a:gd name="textAreaRight" fmla="*/ 369360 w 369000"/>
                    <a:gd name="textAreaTop" fmla="*/ 0 h 537120"/>
                    <a:gd name="textAreaBottom" fmla="*/ 537480 h 537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8760" y="907200"/>
                  <a:ext cx="288360" cy="420120"/>
                </a:xfrm>
                <a:custGeom>
                  <a:avLst/>
                  <a:gdLst>
                    <a:gd name="textAreaLeft" fmla="*/ 0 w 288360"/>
                    <a:gd name="textAreaRight" fmla="*/ 288360 w 288360"/>
                    <a:gd name="textAreaTop" fmla="*/ 0 h 420120"/>
                    <a:gd name="textAreaBottom" fmla="*/ 420480 h 420120"/>
                  </a:gdLst>
                  <a:ahLst/>
                  <a:rect l="textAreaLeft" t="textAreaTop" r="textAreaRight" b="textAreaBottom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5400" y="65160"/>
                <a:ext cx="1542600" cy="5990760"/>
                <a:chOff x="7475400" y="65160"/>
                <a:chExt cx="1542600" cy="599076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4160" y="4835160"/>
                  <a:ext cx="948240" cy="1161000"/>
                </a:xfrm>
                <a:custGeom>
                  <a:avLst/>
                  <a:gdLst>
                    <a:gd name="textAreaLeft" fmla="*/ 0 w 948240"/>
                    <a:gd name="textAreaRight" fmla="*/ 948600 w 948240"/>
                    <a:gd name="textAreaTop" fmla="*/ 0 h 1161000"/>
                    <a:gd name="textAreaBottom" fmla="*/ 1161360 h 1161000"/>
                  </a:gdLst>
                  <a:ahLst/>
                  <a:rect l="textAreaLeft" t="textAreaTop" r="textAreaRight" b="textAreaBottom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760" y="153360"/>
                  <a:ext cx="663840" cy="810360"/>
                </a:xfrm>
                <a:custGeom>
                  <a:avLst/>
                  <a:gdLst>
                    <a:gd name="textAreaLeft" fmla="*/ 0 w 663840"/>
                    <a:gd name="textAreaRight" fmla="*/ 664200 w 663840"/>
                    <a:gd name="textAreaTop" fmla="*/ 0 h 810360"/>
                    <a:gd name="textAreaBottom" fmla="*/ 810720 h 810360"/>
                  </a:gdLst>
                  <a:ahLst/>
                  <a:rect l="textAreaLeft" t="textAreaTop" r="textAreaRight" b="textAreaBottom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2120" y="3763800"/>
                  <a:ext cx="587160" cy="716400"/>
                </a:xfrm>
                <a:custGeom>
                  <a:avLst/>
                  <a:gdLst>
                    <a:gd name="textAreaLeft" fmla="*/ 0 w 587160"/>
                    <a:gd name="textAreaRight" fmla="*/ 587520 w 587160"/>
                    <a:gd name="textAreaTop" fmla="*/ 0 h 716400"/>
                    <a:gd name="textAreaBottom" fmla="*/ 716760 h 716400"/>
                  </a:gdLst>
                  <a:ahLst/>
                  <a:rect l="textAreaLeft" t="textAreaTop" r="textAreaRight" b="textAreaBottom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920" y="1768320"/>
                  <a:ext cx="703800" cy="853560"/>
                </a:xfrm>
                <a:custGeom>
                  <a:avLst/>
                  <a:gdLst>
                    <a:gd name="textAreaLeft" fmla="*/ 0 w 703800"/>
                    <a:gd name="textAreaRight" fmla="*/ 704160 w 703800"/>
                    <a:gd name="textAreaTop" fmla="*/ 0 h 853560"/>
                    <a:gd name="textAreaBottom" fmla="*/ 853920 h 853560"/>
                  </a:gdLst>
                  <a:ahLst/>
                  <a:rect l="textAreaLeft" t="textAreaTop" r="textAreaRight" b="textAreaBottom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680"/>
              <a:ext cx="996120" cy="1370880"/>
              <a:chOff x="8136720" y="269568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68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960" y="280620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3320"/>
              <a:ext cx="1405080" cy="1089360"/>
              <a:chOff x="6558120" y="5773320"/>
              <a:chExt cx="1405080" cy="108936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3320"/>
                <a:ext cx="1405080" cy="10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9000" y="5890680"/>
                <a:ext cx="11836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9360" y="6196320"/>
              <a:ext cx="896400" cy="540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9BA-92E8-4E09-BA3C-9F1609E494E2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1068480" y="5743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6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kardjska_Tercya-Tiha_nch_svyata_nch (mp3cut.ru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3206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5184720" cy="53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«Тиха ніч, свята ніч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Гей утри сльози з віч, 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Бо Син Божий йде до нас,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Цілий світ любов’ю спас,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Вітай нам, святе Дитя!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                                  Й. Мо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Рисунок 5" descr=""/>
          <p:cNvPicPr/>
          <p:nvPr/>
        </p:nvPicPr>
        <p:blipFill>
          <a:blip r:embed="rId1"/>
          <a:stretch/>
        </p:blipFill>
        <p:spPr>
          <a:xfrm>
            <a:off x="5486400" y="396720"/>
            <a:ext cx="3286080" cy="12142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378360" y="4046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Georgia"/>
              </a:rPr>
              <a:t>Епіграф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ема уроку:</a:t>
            </a:r>
            <a:r>
              <a:rPr b="1" lang="uk-UA" sz="2400" spc="-1" strike="noStrike">
                <a:solidFill>
                  <a:srgbClr val="175c88"/>
                </a:solidFill>
                <a:latin typeface="Georgia"/>
              </a:rPr>
              <a:t>  </a:t>
            </a: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ПЧ  С.Лагерлеф «Свята ніч».     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«Потрібно мати очі, щоб бачити </a:t>
            </a:r>
            <a:br>
              <a:rPr sz="2400"/>
            </a:br>
            <a:r>
              <a:rPr b="1" lang="uk-UA" sz="2400" spc="-1" strike="noStrike">
                <a:solidFill>
                  <a:srgbClr val="02376f"/>
                </a:solidFill>
                <a:latin typeface="Georgia"/>
              </a:rPr>
              <a:t>                             Всевишнього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276720" y="184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ета уроку</a:t>
            </a:r>
            <a:r>
              <a:rPr b="0" lang="uk-UA" sz="2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Схема 4" descr=""/>
          <p:cNvPicPr/>
          <p:nvPr/>
        </p:nvPicPr>
        <p:blipFill>
          <a:blip r:embed="rId1"/>
          <a:stretch/>
        </p:blipFill>
        <p:spPr>
          <a:xfrm>
            <a:off x="384120" y="2414520"/>
            <a:ext cx="84549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7"/>
          <p:cNvSpPr/>
          <p:nvPr/>
        </p:nvSpPr>
        <p:spPr>
          <a:xfrm>
            <a:off x="3351960" y="306864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eorgia"/>
              </a:rPr>
              <a:t>Швеці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Рисунок 11" descr=""/>
          <p:cNvPicPr/>
          <p:nvPr/>
        </p:nvPicPr>
        <p:blipFill>
          <a:blip r:embed="rId1"/>
          <a:stretch/>
        </p:blipFill>
        <p:spPr>
          <a:xfrm>
            <a:off x="176040" y="281160"/>
            <a:ext cx="364680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2" descr=""/>
          <p:cNvPicPr/>
          <p:nvPr/>
        </p:nvPicPr>
        <p:blipFill>
          <a:blip r:embed="rId2"/>
          <a:stretch/>
        </p:blipFill>
        <p:spPr>
          <a:xfrm>
            <a:off x="4668840" y="281160"/>
            <a:ext cx="4194000" cy="2670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3" descr=""/>
          <p:cNvPicPr/>
          <p:nvPr/>
        </p:nvPicPr>
        <p:blipFill>
          <a:blip r:embed="rId3"/>
          <a:stretch/>
        </p:blipFill>
        <p:spPr>
          <a:xfrm>
            <a:off x="176040" y="4054320"/>
            <a:ext cx="3762720" cy="2602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4" descr=""/>
          <p:cNvPicPr/>
          <p:nvPr/>
        </p:nvPicPr>
        <p:blipFill>
          <a:blip r:embed="rId4"/>
          <a:stretch/>
        </p:blipFill>
        <p:spPr>
          <a:xfrm>
            <a:off x="4668840" y="3981600"/>
            <a:ext cx="4194000" cy="2674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5"/>
          <p:cNvSpPr/>
          <p:nvPr/>
        </p:nvSpPr>
        <p:spPr>
          <a:xfrm>
            <a:off x="995400" y="226836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Далар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5885640" y="226836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Вармлан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927000" y="58532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Лапланді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4865400" y="603576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Лапланд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3564000" y="386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.Сельма Лагерлеф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1858, Морбакк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Вармлан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2528280" y="345276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2.Стокгольм, Учительська семінарі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2430000" y="29797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3.1890р.Конкурс новел, газета «Іден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3084120" y="2389320"/>
            <a:ext cx="31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4.Найзнаменитіший тві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«Саґа про Єсту Берлінг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630600" y="1844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5. «Чудесна  ман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дрівка Нільса Гольгерсона  </a:t>
            </a: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з дикими гусьми по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Швец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4017240" y="1467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6. 1909 р.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Лауреат Нобелівської пр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4353840" y="915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eorgia"/>
              </a:rPr>
              <a:t>7.     </a:t>
            </a:r>
            <a:r>
              <a:rPr b="0" lang="uk-UA" sz="1800" spc="-1" strike="noStrike">
                <a:solidFill>
                  <a:srgbClr val="7030a0"/>
                </a:solidFill>
                <a:latin typeface="Georgia"/>
              </a:rPr>
              <a:t>Член Шведської акаде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2"/>
          <a:stretch/>
        </p:blipFill>
        <p:spPr>
          <a:xfrm>
            <a:off x="639720" y="12600"/>
            <a:ext cx="1903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1964160" y="407664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1902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«Легенд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ро Христа»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5864400" y="2266920"/>
            <a:ext cx="3035160" cy="4498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3"/>
          <a:stretch/>
        </p:blipFill>
        <p:spPr>
          <a:xfrm>
            <a:off x="468360" y="287280"/>
            <a:ext cx="2663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8120" y="189000"/>
            <a:ext cx="33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9900"/>
                </a:solidFill>
                <a:latin typeface="Georgia"/>
              </a:rPr>
              <a:t>«Свята ніч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Схема 2" descr=""/>
          <p:cNvPicPr/>
          <p:nvPr/>
        </p:nvPicPr>
        <p:blipFill>
          <a:blip r:embed="rId1"/>
          <a:stretch/>
        </p:blipFill>
        <p:spPr>
          <a:xfrm>
            <a:off x="536400" y="974880"/>
            <a:ext cx="80773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3095280" y="51444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Georgia"/>
              </a:rPr>
              <a:t>Легенд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Стрелка вниз 2"/>
          <p:cNvSpPr/>
          <p:nvPr/>
        </p:nvSpPr>
        <p:spPr>
          <a:xfrm>
            <a:off x="3984480" y="1341360"/>
            <a:ext cx="4842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435400" y="172404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фантастична оповід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Стрелка вниз 4"/>
          <p:cNvSpPr/>
          <p:nvPr/>
        </p:nvSpPr>
        <p:spPr>
          <a:xfrm>
            <a:off x="3981600" y="2359080"/>
            <a:ext cx="4856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650880" y="2687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міфологічний,історичний,релігійний змі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Стрелка вниз 6"/>
          <p:cNvSpPr/>
          <p:nvPr/>
        </p:nvSpPr>
        <p:spPr>
          <a:xfrm>
            <a:off x="4002120" y="337824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2602800" y="37926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000"/>
                </a:solidFill>
                <a:latin typeface="Georgia"/>
              </a:rPr>
              <a:t>вірогідність под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Стрелка вниз 8"/>
          <p:cNvSpPr/>
          <p:nvPr/>
        </p:nvSpPr>
        <p:spPr>
          <a:xfrm>
            <a:off x="4002120" y="4581360"/>
            <a:ext cx="484200" cy="41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67480" y="5141880"/>
            <a:ext cx="47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своєрідність</a:t>
            </a: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800" spc="-1" strike="noStrike">
                <a:solidFill>
                  <a:srgbClr val="008000"/>
                </a:solidFill>
                <a:latin typeface="Georgia"/>
              </a:rPr>
              <a:t>композ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3284640" y="28260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Пасту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7" name="Прямая со стрелкой 7"/>
          <p:cNvCxnSpPr/>
          <p:nvPr/>
        </p:nvCxnSpPr>
        <p:spPr>
          <a:xfrm flipH="1">
            <a:off x="2194920" y="1052280"/>
            <a:ext cx="1081800" cy="337320"/>
          </a:xfrm>
          <a:prstGeom prst="straightConnector1">
            <a:avLst/>
          </a:prstGeom>
          <a:ln cap="rnd"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TextBox 11"/>
          <p:cNvSpPr/>
          <p:nvPr/>
        </p:nvSpPr>
        <p:spPr>
          <a:xfrm>
            <a:off x="1062000" y="1557360"/>
            <a:ext cx="21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охму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Стрелка вниз 12"/>
          <p:cNvSpPr/>
          <p:nvPr/>
        </p:nvSpPr>
        <p:spPr>
          <a:xfrm>
            <a:off x="1886040" y="2174760"/>
            <a:ext cx="63972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1378080" y="249552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груб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Стрелка вниз 14"/>
          <p:cNvSpPr/>
          <p:nvPr/>
        </p:nvSpPr>
        <p:spPr>
          <a:xfrm>
            <a:off x="1844640" y="3149640"/>
            <a:ext cx="639720" cy="37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755640" y="3586320"/>
            <a:ext cx="27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непривіт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Стрелка вниз 16"/>
          <p:cNvSpPr/>
          <p:nvPr/>
        </p:nvSpPr>
        <p:spPr>
          <a:xfrm>
            <a:off x="1827360" y="4062240"/>
            <a:ext cx="63792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236600" y="440388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зл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Стрелка вниз 18"/>
          <p:cNvSpPr/>
          <p:nvPr/>
        </p:nvSpPr>
        <p:spPr>
          <a:xfrm>
            <a:off x="1844640" y="5006880"/>
            <a:ext cx="639720" cy="36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112068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серди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7" name="Прямая со стрелкой 29"/>
          <p:cNvCxnSpPr/>
          <p:nvPr/>
        </p:nvCxnSpPr>
        <p:spPr>
          <a:xfrm>
            <a:off x="2060640" y="5957640"/>
            <a:ext cx="1351080" cy="6840"/>
          </a:xfrm>
          <a:prstGeom prst="straightConnector1">
            <a:avLst/>
          </a:prstGeom>
          <a:ln cap="rnd"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8" name="TextBox 32"/>
          <p:cNvSpPr/>
          <p:nvPr/>
        </p:nvSpPr>
        <p:spPr>
          <a:xfrm>
            <a:off x="3586320" y="6121440"/>
            <a:ext cx="26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eorgia"/>
              </a:rPr>
              <a:t>Ісус-немов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Стрелка вверх 33"/>
          <p:cNvSpPr/>
          <p:nvPr/>
        </p:nvSpPr>
        <p:spPr>
          <a:xfrm>
            <a:off x="6554880" y="5688000"/>
            <a:ext cx="484200" cy="48888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6035760" y="4941720"/>
            <a:ext cx="15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доб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Стрелка вверх 35"/>
          <p:cNvSpPr/>
          <p:nvPr/>
        </p:nvSpPr>
        <p:spPr>
          <a:xfrm>
            <a:off x="6531120" y="4419720"/>
            <a:ext cx="485640" cy="492120"/>
          </a:xfrm>
          <a:prstGeom prst="upArrow">
            <a:avLst>
              <a:gd name="adj1" fmla="val 50000"/>
              <a:gd name="adj2" fmla="val 4989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6028200" y="38955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щедр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Стрелка вверх 37"/>
          <p:cNvSpPr/>
          <p:nvPr/>
        </p:nvSpPr>
        <p:spPr>
          <a:xfrm>
            <a:off x="6508800" y="3335400"/>
            <a:ext cx="484200" cy="531720"/>
          </a:xfrm>
          <a:prstGeom prst="upArrow">
            <a:avLst>
              <a:gd name="adj1" fmla="val 50000"/>
              <a:gd name="adj2" fmla="val 50153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5355360" y="28494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Georgia"/>
              </a:rPr>
              <a:t>милосерд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Стрелка вверх 39"/>
          <p:cNvSpPr/>
          <p:nvPr/>
        </p:nvSpPr>
        <p:spPr>
          <a:xfrm>
            <a:off x="6461280" y="2516040"/>
            <a:ext cx="595080" cy="368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2bdc1"/>
          </a:solidFill>
          <a:ln cap="rnd" w="19080">
            <a:solidFill>
              <a:srgbClr val="828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40"/>
          <p:cNvSpPr/>
          <p:nvPr/>
        </p:nvSpPr>
        <p:spPr>
          <a:xfrm>
            <a:off x="4438800" y="168912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«Потрібно мати очі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7030a0"/>
                </a:solidFill>
                <a:latin typeface="Georgia"/>
              </a:rPr>
              <a:t>щоб бачити Всевишнього</a:t>
            </a:r>
            <a:r>
              <a:rPr b="0" lang="uk-UA" sz="1800" spc="-1" strike="noStrike">
                <a:solidFill>
                  <a:srgbClr val="7030a0"/>
                </a:solidFill>
                <a:latin typeface="Verdan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7" name="Прямая со стрелкой 42"/>
          <p:cNvCxnSpPr/>
          <p:nvPr/>
        </p:nvCxnSpPr>
        <p:spPr>
          <a:xfrm flipH="1" flipV="1">
            <a:off x="5517720" y="1015560"/>
            <a:ext cx="984960" cy="504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28:16Z</dcterms:created>
  <dc:creator>Master</dc:creator>
  <dc:description/>
  <dc:language>en-US</dc:language>
  <cp:lastModifiedBy>Admin</cp:lastModifiedBy>
  <dcterms:modified xsi:type="dcterms:W3CDTF">2014-06-23T07:25:30Z</dcterms:modified>
  <cp:revision>4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8000000000001024140</vt:lpwstr>
  </property>
</Properties>
</file>