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699-CD9B-4D19-BE3C-E828A4FD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999-92AE-4B2B-B8B5-06E210A3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615-E659-4410-A9C0-3CB76882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12F-81B7-43BF-869F-598D1DAB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AF7-1315-4014-9643-811B2173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798-F7A9-4D40-AA4A-AB614C9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06F4-4115-43E5-851B-5242B180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4B0-457B-4D5F-ADA3-970849F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F729-11F1-4987-84DA-C9176BEE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4CF-904C-47F9-A264-48A1E9D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5ED9-181B-4815-ACDF-7D6E6486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244-7868-44D4-BAE3-BACF2927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432F-8A1B-4145-874C-7DE7F67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AC48-55CB-4815-AB11-5CAF893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06B-9932-4BA3-9EF3-9D34AF90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DB3-2B61-4AE2-8736-279BB946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C9F-CC87-4782-8A47-9AA855C9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2CC-0815-4FF6-A616-3BA7530B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6B5-61E0-4954-81F5-5AF0B13C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C4F-279B-4695-8CE0-F24B8C3E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1FE-46D4-429F-8B25-FFF69E5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A9E-C6AF-4785-9861-8AA8A23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415-EE62-4202-A484-10E8F69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D49-34EC-4D41-B2EB-B67E85F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1DC-247C-48A2-A601-E978FB2C17A6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795F-B301-4A9F-9743-7B7289A64789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1068480" y="5743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6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3206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5184720" cy="53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«Тиха ніч, свята ніч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Гей утри сльози з віч,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Бо Син Божий йде до нас,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Цілий світ любов’ю спас,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Вітай нам, святе Дитя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                                  Й. Мо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Рисунок 5" descr=""/>
          <p:cNvPicPr/>
          <p:nvPr/>
        </p:nvPicPr>
        <p:blipFill>
          <a:blip r:embed="rId1"/>
          <a:stretch/>
        </p:blipFill>
        <p:spPr>
          <a:xfrm>
            <a:off x="5486400" y="396720"/>
            <a:ext cx="3286080" cy="12142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378360" y="4046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Georgia"/>
              </a:rPr>
              <a:t>Епіграф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ема уроку:</a:t>
            </a:r>
            <a:r>
              <a:rPr b="1" lang="uk-UA" sz="2400" spc="-1" strike="noStrike">
                <a:solidFill>
                  <a:srgbClr val="175c88"/>
                </a:solidFill>
                <a:latin typeface="Georgia"/>
              </a:rPr>
              <a:t>  </a:t>
            </a: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ПЧ  С.Лагерлеф «Свята ніч».     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«Потрібно мати очі, щоб бачити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  Всевишнього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276720" y="184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ета уроку</a:t>
            </a: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Схема 4" descr=""/>
          <p:cNvPicPr/>
          <p:nvPr/>
        </p:nvPicPr>
        <p:blipFill>
          <a:blip r:embed="rId1"/>
          <a:stretch/>
        </p:blipFill>
        <p:spPr>
          <a:xfrm>
            <a:off x="384120" y="2414520"/>
            <a:ext cx="84549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7"/>
          <p:cNvSpPr/>
          <p:nvPr/>
        </p:nvSpPr>
        <p:spPr>
          <a:xfrm>
            <a:off x="3351960" y="306864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eorgia"/>
              </a:rPr>
              <a:t>Швеці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Рисунок 11" descr=""/>
          <p:cNvPicPr/>
          <p:nvPr/>
        </p:nvPicPr>
        <p:blipFill>
          <a:blip r:embed="rId1"/>
          <a:stretch/>
        </p:blipFill>
        <p:spPr>
          <a:xfrm>
            <a:off x="176040" y="281160"/>
            <a:ext cx="364680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2" descr=""/>
          <p:cNvPicPr/>
          <p:nvPr/>
        </p:nvPicPr>
        <p:blipFill>
          <a:blip r:embed="rId2"/>
          <a:stretch/>
        </p:blipFill>
        <p:spPr>
          <a:xfrm>
            <a:off x="4668840" y="281160"/>
            <a:ext cx="4194000" cy="2670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3" descr=""/>
          <p:cNvPicPr/>
          <p:nvPr/>
        </p:nvPicPr>
        <p:blipFill>
          <a:blip r:embed="rId3"/>
          <a:stretch/>
        </p:blipFill>
        <p:spPr>
          <a:xfrm>
            <a:off x="176040" y="4054320"/>
            <a:ext cx="3762720" cy="2602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4" descr=""/>
          <p:cNvPicPr/>
          <p:nvPr/>
        </p:nvPicPr>
        <p:blipFill>
          <a:blip r:embed="rId4"/>
          <a:stretch/>
        </p:blipFill>
        <p:spPr>
          <a:xfrm>
            <a:off x="4668840" y="3981600"/>
            <a:ext cx="4194000" cy="2674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5"/>
          <p:cNvSpPr/>
          <p:nvPr/>
        </p:nvSpPr>
        <p:spPr>
          <a:xfrm>
            <a:off x="995400" y="226836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Далар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885640" y="226836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Вармлан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927000" y="58532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Лапланд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4865400" y="60357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Лапланд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3564000" y="386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.Сельма Лагерлеф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858, Морбакк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Вармлан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528280" y="345276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2.Стокгольм, Учительська семінарі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430000" y="29797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3.1890р.Конкурс новел, газета «Іден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3084120" y="2389320"/>
            <a:ext cx="31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4.Найзнаменитіший тві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«Саґа про Єсту Берлінг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630600" y="1844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5. «Чудесна  ман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дрівка Нільса Гольгерсона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з дикими гусьми по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Швец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4017240" y="1467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6. 1909 р.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Лауреат Нобелівської пр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4353840" y="915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7.   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Член Шведської акад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2"/>
          <a:stretch/>
        </p:blipFill>
        <p:spPr>
          <a:xfrm>
            <a:off x="639720" y="12600"/>
            <a:ext cx="1903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1964160" y="407664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1902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«Легенд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ро Христа»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5864400" y="2266920"/>
            <a:ext cx="3035160" cy="4498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3"/>
          <a:stretch/>
        </p:blipFill>
        <p:spPr>
          <a:xfrm>
            <a:off x="468360" y="287280"/>
            <a:ext cx="2663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8120" y="18900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Georgia"/>
              </a:rPr>
              <a:t>«Свята ніч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Схема 2" descr=""/>
          <p:cNvPicPr/>
          <p:nvPr/>
        </p:nvPicPr>
        <p:blipFill>
          <a:blip r:embed="rId1"/>
          <a:stretch/>
        </p:blipFill>
        <p:spPr>
          <a:xfrm>
            <a:off x="536400" y="974880"/>
            <a:ext cx="80773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3095280" y="51444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Georgia"/>
              </a:rPr>
              <a:t>Легенд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Стрелка вниз 2"/>
          <p:cNvSpPr/>
          <p:nvPr/>
        </p:nvSpPr>
        <p:spPr>
          <a:xfrm>
            <a:off x="3984480" y="1341360"/>
            <a:ext cx="4842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435400" y="172404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фантастична оповід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Стрелка вниз 4"/>
          <p:cNvSpPr/>
          <p:nvPr/>
        </p:nvSpPr>
        <p:spPr>
          <a:xfrm>
            <a:off x="3981600" y="2359080"/>
            <a:ext cx="4856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50880" y="2687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міфологічний,історичний,релігійний змі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Стрелка вниз 6"/>
          <p:cNvSpPr/>
          <p:nvPr/>
        </p:nvSpPr>
        <p:spPr>
          <a:xfrm>
            <a:off x="4002120" y="33782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2602800" y="37926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Georgia"/>
              </a:rPr>
              <a:t>вірогідність под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Стрелка вниз 8"/>
          <p:cNvSpPr/>
          <p:nvPr/>
        </p:nvSpPr>
        <p:spPr>
          <a:xfrm>
            <a:off x="4002120" y="4581360"/>
            <a:ext cx="484200" cy="41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67480" y="5141880"/>
            <a:ext cx="47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своєрідність</a:t>
            </a: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композ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3284640" y="282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Пасту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7" name="Прямая со стрелкой 7"/>
          <p:cNvCxnSpPr/>
          <p:nvPr/>
        </p:nvCxnSpPr>
        <p:spPr>
          <a:xfrm flipH="1">
            <a:off x="2194920" y="1052280"/>
            <a:ext cx="1081800" cy="3373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11"/>
          <p:cNvSpPr/>
          <p:nvPr/>
        </p:nvSpPr>
        <p:spPr>
          <a:xfrm>
            <a:off x="1062000" y="1557360"/>
            <a:ext cx="21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охму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Стрелка вниз 12"/>
          <p:cNvSpPr/>
          <p:nvPr/>
        </p:nvSpPr>
        <p:spPr>
          <a:xfrm>
            <a:off x="1886040" y="2174760"/>
            <a:ext cx="63972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1378080" y="249552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груб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Стрелка вниз 14"/>
          <p:cNvSpPr/>
          <p:nvPr/>
        </p:nvSpPr>
        <p:spPr>
          <a:xfrm>
            <a:off x="1844640" y="3149640"/>
            <a:ext cx="639720" cy="37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755640" y="358632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непривіт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Стрелка вниз 16"/>
          <p:cNvSpPr/>
          <p:nvPr/>
        </p:nvSpPr>
        <p:spPr>
          <a:xfrm>
            <a:off x="1827360" y="4062240"/>
            <a:ext cx="63792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236600" y="440388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зл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Стрелка вниз 18"/>
          <p:cNvSpPr/>
          <p:nvPr/>
        </p:nvSpPr>
        <p:spPr>
          <a:xfrm>
            <a:off x="1844640" y="5006880"/>
            <a:ext cx="639720" cy="36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112068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серди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7" name="Прямая со стрелкой 29"/>
          <p:cNvCxnSpPr/>
          <p:nvPr/>
        </p:nvCxnSpPr>
        <p:spPr>
          <a:xfrm>
            <a:off x="2060640" y="5957640"/>
            <a:ext cx="1351080" cy="684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8" name="TextBox 32"/>
          <p:cNvSpPr/>
          <p:nvPr/>
        </p:nvSpPr>
        <p:spPr>
          <a:xfrm>
            <a:off x="3586320" y="612144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Ісус-немов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Стрелка вверх 33"/>
          <p:cNvSpPr/>
          <p:nvPr/>
        </p:nvSpPr>
        <p:spPr>
          <a:xfrm>
            <a:off x="6554880" y="5688000"/>
            <a:ext cx="484200" cy="48888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6035760" y="494172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доб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Стрелка вверх 35"/>
          <p:cNvSpPr/>
          <p:nvPr/>
        </p:nvSpPr>
        <p:spPr>
          <a:xfrm>
            <a:off x="6531120" y="4419720"/>
            <a:ext cx="485640" cy="492120"/>
          </a:xfrm>
          <a:prstGeom prst="upArrow">
            <a:avLst>
              <a:gd name="adj1" fmla="val 50000"/>
              <a:gd name="adj2" fmla="val 4989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028200" y="38955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щед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Стрелка вверх 37"/>
          <p:cNvSpPr/>
          <p:nvPr/>
        </p:nvSpPr>
        <p:spPr>
          <a:xfrm>
            <a:off x="6508800" y="3335400"/>
            <a:ext cx="484200" cy="531720"/>
          </a:xfrm>
          <a:prstGeom prst="upArrow">
            <a:avLst>
              <a:gd name="adj1" fmla="val 50000"/>
              <a:gd name="adj2" fmla="val 5015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5355360" y="28494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милосерд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Стрелка вверх 39"/>
          <p:cNvSpPr/>
          <p:nvPr/>
        </p:nvSpPr>
        <p:spPr>
          <a:xfrm>
            <a:off x="6461280" y="2516040"/>
            <a:ext cx="595080" cy="368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40"/>
          <p:cNvSpPr/>
          <p:nvPr/>
        </p:nvSpPr>
        <p:spPr>
          <a:xfrm>
            <a:off x="4438800" y="168912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«Потрібно мати очі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щоб бачити Всевишнього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7" name="Прямая со стрелкой 42"/>
          <p:cNvCxnSpPr/>
          <p:nvPr/>
        </p:nvCxnSpPr>
        <p:spPr>
          <a:xfrm flipH="1" flipV="1">
            <a:off x="5517720" y="1015560"/>
            <a:ext cx="984960" cy="504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28:16Z</dcterms:created>
  <dc:creator>Master</dc:creator>
  <dc:description/>
  <dc:language>en-US</dc:language>
  <cp:lastModifiedBy>Admin</cp:lastModifiedBy>
  <dcterms:modified xsi:type="dcterms:W3CDTF">2014-06-23T07:25:30Z</dcterms:modified>
  <cp:revision>4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8000000000001024140</vt:lpwstr>
  </property>
</Properties>
</file>