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B25-DBF2-4E20-9560-514C8B94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931-EDC5-489E-8D46-1891D574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44D-C9FB-46D2-93C6-CE993DAC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738-B18A-47B9-AEA8-659E796B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A167-F615-4CC9-912B-400004EA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F5CB-0BE1-4238-AABC-29ED98E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F248-9E5C-4260-897A-A5F3385D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23AC-7166-4872-BCE1-015E8C4F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5F4C-E46F-4B70-A043-7A0CB3EB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2D13-A281-4558-AFBE-6DC9CD52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F769-F346-4812-9EB2-C59FAB5C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429-5439-46DB-858E-65C1A4DD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CD00-A30A-4698-BD6D-464CD6C7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F112-3ED9-41B7-9164-0003B989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9FD6-3B44-45AD-B905-66EABDA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BBB9-AB05-427E-8378-6CD29CCA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D47D-FEE6-463B-8CA1-354B7D9A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60D-2FD6-4050-812F-041E5F4A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E1B-0378-4706-A7F7-444320B3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47D-80FB-4469-9F7F-283E265E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155-662E-4499-A490-7B562A88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889-9635-4BF9-92DB-BDC6D50B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860-7C31-4E8E-A7B8-5A4B3B47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469-384E-4A78-9146-9760B2CC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1A63-2D0E-49B0-8522-6A7EF8F5C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5D17-7037-4428-A05C-81F37535D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Аналіз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6400800" cy="175248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щоденника  “ Чиб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ю.1934”</a:t>
            </a:r>
            <a:endParaRPr b="0" lang="en-US" sz="44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95040"/>
            <a:ext cx="8229600" cy="764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4040280" cy="69840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836640"/>
            <a:ext cx="4041720" cy="69840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508360" y="981000"/>
            <a:ext cx="3384360" cy="51451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99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«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Щоденник Остапа Вишні є чи не єдиним документом, що творився в той трагічний період, коли серед тундри і тайги, проходили "перековку" і комуністи та безпартійні, люди найрізноманітніших професій - учителі, письменники, народні комісари».</a:t>
            </a: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</p:txBody>
      </p:sp>
      <p:pic>
        <p:nvPicPr>
          <p:cNvPr id="106" name="Объект 6" descr=""/>
          <p:cNvPicPr/>
          <p:nvPr/>
        </p:nvPicPr>
        <p:blipFill>
          <a:blip r:embed="rId1">
            <a:alphaModFix amt="15000"/>
          </a:blip>
          <a:stretch/>
        </p:blipFill>
        <p:spPr>
          <a:xfrm>
            <a:off x="387360" y="1052640"/>
            <a:ext cx="476100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Щоденник Остапа Вишні справді творився в страшний період, але документом страшного періоду таки не ста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632523"/>
                </a:solidFill>
                <a:latin typeface="Calibri"/>
              </a:rPr>
              <a:t>З літа 1934 по лютий 1935 року письменник творив власну «захалявну книжку» — табірний щоденник «Чиб’ю — 1934», який М.Євтушенко передала у відділ рукописів Інституту літератури ім. Шевченка. «Чиб’ю» вперше у 1989 році опублікував журнал «Київ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З печорських архівів ми можемо багато дізнатися про табірне життя Остапа Вишні, зокрема про 1000-кілометровий етап у лютому 1935 року з «перспективою» замерзнути в тундрі, померти з голоду, бути розтерзаним дикими звірами або людоїдами. Там же, в архівах, можна дізнатися що через табори «Ухтпечлагу» пройшло, страшно уявити, — 20 мільйонів зеків! А ще ж були Сибір і Казахстан, Колима й Магадан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764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4720" y="1341000"/>
            <a:ext cx="4041720" cy="478476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Щоденникові записи ОстапаВишня вів майже усе життя. Іноді навіть важко розрізнити, де звичайні записи, а де вже літературний твір. Він занотовував усе: кумедні і прикрі моменти життя, почуті від інших історії та випадки, замальовки, на кшталт етюдів з натури, природи</a:t>
            </a: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</p:txBody>
      </p:sp>
      <p:pic>
        <p:nvPicPr>
          <p:cNvPr id="114" name="Объект 6" descr=""/>
          <p:cNvPicPr/>
          <p:nvPr/>
        </p:nvPicPr>
        <p:blipFill>
          <a:blip r:embed="rId1">
            <a:alphaModFix amt="15000"/>
          </a:blip>
          <a:srcRect l="0" t="0" r="-1345" b="0"/>
          <a:stretch/>
        </p:blipFill>
        <p:spPr>
          <a:xfrm>
            <a:off x="501480" y="2174760"/>
            <a:ext cx="3951360" cy="395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9626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4f6228"/>
                </a:solidFill>
                <a:latin typeface="Calibri"/>
              </a:rPr>
              <a:t>Літературний критик Юрій Лавренко, підсумовуючи пережите О.Вишнею, напише «Хоч спіткала його доля гумориста-мученика, але й після десятилітньої каторги на печорі, немов той Мамай чи Байда, не перестав він «усміхатися» аж до смерті». Був безпартійним – у вік партійної всемогучості й тиранії,гумористом – у вік жахів,кепкуном – у часи сліпого фанатизму, гуманістом – у вік масових організованих злочинів і людоїдств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ит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1.У якому році Остап Вишня був заарештований?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2. Де  відбував покарання  Остап Вишня?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3. Як називається селище, де мали розстріляти О. Вишню?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4. Що потрібно мати в душі,  щоб пережити все, не втратити любові до життя і продовжувати творити?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Теорія літерату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2d050"/>
                </a:solidFill>
                <a:latin typeface="Calibri"/>
              </a:rPr>
              <a:t>Остап Вишня -«король   українського тиражу». 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2d050"/>
                </a:solidFill>
                <a:latin typeface="Calibri"/>
              </a:rPr>
              <a:t>За життя гумориста побачили світ понад 100 збірок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2d050"/>
                </a:solidFill>
                <a:latin typeface="Calibri"/>
              </a:rPr>
              <a:t>Різноманітні жанри малої прози, але скрізь присутній іронічно усміхнений автор у ролі мудрого, дотепного оповідача.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Остап Вишня ввів в ураїнську літературу й утвердив у ній новий різновид гумористичного оповідання - усмішку. Лаконізм, влучність, дотепність  , обов</a:t>
            </a:r>
            <a:r>
              <a:rPr b="0" lang="en-US" sz="3200" spc="-1" strike="noStrike">
                <a:solidFill>
                  <a:srgbClr val="ffcc99"/>
                </a:solidFill>
                <a:latin typeface="Calibri"/>
              </a:rPr>
              <a:t>’</a:t>
            </a:r>
            <a:r>
              <a:rPr b="0" lang="ru-RU" sz="3200" spc="-1" strike="noStrike">
                <a:solidFill>
                  <a:srgbClr val="ffcc99"/>
                </a:solidFill>
                <a:latin typeface="Calibri"/>
              </a:rPr>
              <a:t>язкова</a:t>
            </a: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 присутність автора створюють загальну викривальну тональність такого твору.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zvyshnya"/>
          <p:cNvPicPr/>
          <p:nvPr/>
        </p:nvPicPr>
        <p:blipFill>
          <a:blip r:embed="rId1"/>
          <a:stretch/>
        </p:blipFill>
        <p:spPr>
          <a:xfrm>
            <a:off x="2268360" y="11160"/>
            <a:ext cx="4372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Тематичний цикл  усміш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Сільські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Calibri"/>
              </a:rPr>
              <a:t>Кримські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Calibri"/>
              </a:rPr>
              <a:t>Закордонні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Calibri"/>
              </a:rPr>
              <a:t>Реконструктивні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Calibri"/>
              </a:rPr>
              <a:t>Київські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Calibri"/>
              </a:rPr>
              <a:t>Мисливські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Новаторство  Остапа Вишні в розвитоку української літератури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alphaModFix amt="1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2060"/>
                </a:solidFill>
                <a:latin typeface="Calibri"/>
              </a:rPr>
              <a:t>Комічне 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uk-UA" sz="4000" spc="-1" strike="noStrike">
                <a:solidFill>
                  <a:srgbClr val="92d050"/>
                </a:solidFill>
                <a:latin typeface="Calibri"/>
              </a:rPr>
              <a:t>результат контрасту, розладу, протистояння прекрасного – потворному, внутрішньої пустоти – зовнішньому вигляду, що претендує на значущість.</a:t>
            </a:r>
            <a:endParaRPr b="0" lang="en-US" sz="40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Calibri"/>
              </a:rPr>
              <a:t>Форми комічного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alibri"/>
              </a:rPr>
              <a:t>Гумор</a:t>
            </a:r>
            <a:endParaRPr b="0" lang="en-US" sz="54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alibri"/>
              </a:rPr>
              <a:t>Сатира </a:t>
            </a:r>
            <a:endParaRPr b="0" lang="en-US" sz="54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alibri"/>
              </a:rPr>
              <a:t>Іронія</a:t>
            </a:r>
            <a:endParaRPr b="0" lang="en-US" sz="54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c000"/>
                </a:solidFill>
                <a:latin typeface="Calibri"/>
              </a:rPr>
              <a:t>Сарказм</a:t>
            </a:r>
            <a:endParaRPr b="0" lang="en-US" sz="54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402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70c0"/>
                </a:solidFill>
                <a:latin typeface="Calibri"/>
              </a:rPr>
              <a:t>Фейлето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Фейлетон</a:t>
            </a:r>
            <a:r>
              <a:rPr b="0" lang="uk-UA" sz="4000" spc="-1" strike="noStrike">
                <a:solidFill>
                  <a:srgbClr val="ffff00"/>
                </a:solidFill>
                <a:latin typeface="Calibri"/>
              </a:rPr>
              <a:t> –це художньо- публіцистичний жанр, у якому комічна сутність розкривається шляхом інверсійної, асоціативної розробки теми з використанням авторських та фольклорних комічно-сатиричних образів</a:t>
            </a:r>
            <a:endParaRPr b="0" lang="en-US" sz="40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70c0"/>
                </a:solidFill>
                <a:latin typeface="Calibri"/>
              </a:rPr>
              <a:t>Гуморес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Гумореска</a:t>
            </a: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 – невеликий віршований ,прозовий чи драматичний твір з комічним сюжетом, відмінний від сатиричного твору легкою , жартівливою  тональністю. Тут сміх постає у вигляді доброзичливої, емоційно забарвленої естетичної критики в дотепній, парадоксальній , подеколи оксюморонній формі, в аспекті морально-етичних критеріїв, що унеможливлюють цинізм</a:t>
            </a:r>
            <a:r>
              <a:rPr b="0" lang="uk-UA" sz="3200" spc="-1" strike="noStrike">
                <a:solidFill>
                  <a:srgbClr val="632523"/>
                </a:solidFill>
                <a:latin typeface="Calibri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600" spc="-1" strike="noStrike">
                <a:solidFill>
                  <a:srgbClr val="ff0000"/>
                </a:solidFill>
                <a:latin typeface="Calibri"/>
              </a:rPr>
              <a:t>Усміш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Усмішка</a:t>
            </a:r>
            <a:r>
              <a:rPr b="0" lang="uk-UA" sz="4000" spc="-1" strike="noStrike">
                <a:solidFill>
                  <a:srgbClr val="92d050"/>
                </a:solidFill>
                <a:latin typeface="Calibri"/>
              </a:rPr>
              <a:t>-різновид фейлетону та гуморески, уведений в українську літературу Остапом Вишнею. Своєрдність жанру усмішки – у поєднанні побутових замальовок із частими авторськими відступами, у лаконізмі  й дотепності</a:t>
            </a:r>
            <a:endParaRPr b="0" lang="en-US" sz="40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53735"/>
                </a:solidFill>
                <a:latin typeface="Calibri"/>
              </a:rPr>
              <a:t>Арешт Остапа Вишн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АРЕШТУВАЛИ ОСТАПА ВИШНЮ 26 ГРУДНЯ 1933Р. 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0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ІДЧИЙ БОРДОН ПРЕД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ВИВ ЙОМУ ЗВИНУВАЧЕННЯ У ПРИЧЕТНОСТІ ДО КОНТРЕВОЛЮЦІЙНОЇ ОРГАНІЗАЦІЇ І ПІДГОТОВЦІ ЗАМАХУ НА СЕКРЕТАРЯ ЦК КПСС ПОСТИШЕВА. 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260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ff0000"/>
                </a:solidFill>
                <a:latin typeface="Calibri"/>
              </a:rPr>
              <a:t>Автобіографічне оповідання </a:t>
            </a:r>
            <a:r>
              <a:rPr b="0" i="1" lang="uk-UA" sz="5400" spc="-1" strike="noStrike">
                <a:solidFill>
                  <a:srgbClr val="000000"/>
                </a:solidFill>
                <a:latin typeface="Calibri"/>
              </a:rPr>
              <a:t>– опис власного життєвого шлях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030a0"/>
                </a:solidFill>
                <a:latin typeface="Calibri"/>
              </a:rPr>
              <a:t>Установіть відповідність між терміном і визначенн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1. Гумор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2. Сарказм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3. Усмішка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4.Фейлетон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2d050"/>
                </a:solidFill>
                <a:latin typeface="Calibri"/>
              </a:rPr>
              <a:t>А</a:t>
            </a:r>
            <a:r>
              <a:rPr b="0" lang="uk-UA" sz="2400" spc="-1" strike="noStrike">
                <a:solidFill>
                  <a:srgbClr val="ffcc99"/>
                </a:solidFill>
                <a:latin typeface="Calibri"/>
              </a:rPr>
              <a:t>. Різновид  гуморески, у якому поєднано жанрові особливості анекдоту, фейлетону</a:t>
            </a: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2d050"/>
                </a:solidFill>
                <a:latin typeface="Calibri"/>
              </a:rPr>
              <a:t>Б</a:t>
            </a:r>
            <a:r>
              <a:rPr b="0" lang="uk-UA" sz="2400" spc="-1" strike="noStrike">
                <a:solidFill>
                  <a:srgbClr val="ffcc99"/>
                </a:solidFill>
                <a:latin typeface="Calibri"/>
              </a:rPr>
              <a:t>.Різновид комічного, відображення смішного.</a:t>
            </a: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2d050"/>
                </a:solidFill>
                <a:latin typeface="Calibri"/>
              </a:rPr>
              <a:t>В</a:t>
            </a:r>
            <a:r>
              <a:rPr b="0" lang="uk-UA" sz="2400" spc="-1" strike="noStrike">
                <a:solidFill>
                  <a:srgbClr val="ffcc99"/>
                </a:solidFill>
                <a:latin typeface="Calibri"/>
              </a:rPr>
              <a:t>. Невеликий літературно – публіцистичний  твір сатиричного жанру</a:t>
            </a: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2d050"/>
                </a:solidFill>
                <a:latin typeface="Calibri"/>
              </a:rPr>
              <a:t>Г.</a:t>
            </a:r>
            <a:r>
              <a:rPr b="0" lang="uk-UA" sz="2400" spc="-1" strike="noStrike">
                <a:solidFill>
                  <a:srgbClr val="ffcc99"/>
                </a:solidFill>
                <a:latin typeface="Calibri"/>
              </a:rPr>
              <a:t> Їдка, викривальна нсмішка</a:t>
            </a: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амопереві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1- Б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2- Г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3-А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4- В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Calibri"/>
              </a:rPr>
              <a:t>Режисер Ярослав Ланч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cc99"/>
                </a:solidFill>
                <a:latin typeface="Calibri"/>
              </a:rPr>
              <a:t>Кінофільм </a:t>
            </a:r>
            <a:r>
              <a:rPr b="0" lang="ru-RU" sz="6600" spc="-1" strike="noStrike">
                <a:solidFill>
                  <a:srgbClr val="ffcc99"/>
                </a:solidFill>
                <a:latin typeface="Calibri"/>
              </a:rPr>
              <a:t>«Із житія Остапа Вишні»</a:t>
            </a:r>
            <a:endParaRPr b="0" lang="en-US" sz="66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cc99"/>
                </a:solidFill>
                <a:latin typeface="Calibri"/>
              </a:rPr>
              <a:t>1991 рік</a:t>
            </a:r>
            <a:endParaRPr b="0" lang="en-US" sz="66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0000"/>
                </a:solidFill>
                <a:latin typeface="Calibri"/>
              </a:rPr>
              <a:t>Спадщина Остапа Вишні  в оцінці видатних діячів мистецтва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. Рильськ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“</a:t>
            </a: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Остап Вишня – справжній мисливець, і при тому поет полювання”.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про гумореску Остапа Вишні “Моя автобіографія”: “Тут — увесь Вишня: любов до життя, любов до людини, іронія до отого “щасливого” дитинства…”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</p:txBody>
      </p:sp>
      <p:pic>
        <p:nvPicPr>
          <p:cNvPr id="152" name="Picture 9" descr="Rylskiy"/>
          <p:cNvPicPr/>
          <p:nvPr/>
        </p:nvPicPr>
        <p:blipFill>
          <a:blip r:embed="rId1">
            <a:alphaModFix amt="15000"/>
          </a:blip>
          <a:stretch/>
        </p:blipFill>
        <p:spPr>
          <a:xfrm>
            <a:off x="5619600" y="2465280"/>
            <a:ext cx="20955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. Рильсь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99"/>
                </a:solidFill>
                <a:latin typeface="Calibri"/>
              </a:rPr>
              <a:t>     </a:t>
            </a:r>
            <a:r>
              <a:rPr b="0" lang="uk-UA" sz="4800" spc="-1" strike="noStrike">
                <a:solidFill>
                  <a:srgbClr val="ffcc99"/>
                </a:solidFill>
                <a:latin typeface="Calibri"/>
              </a:rPr>
              <a:t>“</a:t>
            </a:r>
            <a:r>
              <a:rPr b="0" lang="uk-UA" sz="4800" spc="-1" strike="noStrike">
                <a:solidFill>
                  <a:srgbClr val="ffcc99"/>
                </a:solidFill>
                <a:latin typeface="Calibri"/>
              </a:rPr>
              <a:t>Друг природи , друг людини й праці .Грізний ворог нечисті і зла…” </a:t>
            </a:r>
            <a:endParaRPr b="0" lang="en-US" sz="48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Юрій Вухна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92d050"/>
                </a:solidFill>
                <a:latin typeface="Calibri"/>
              </a:rPr>
              <a:t>“</a:t>
            </a:r>
            <a:r>
              <a:rPr b="0" lang="uk-UA" sz="3200" spc="-1" strike="noStrike">
                <a:solidFill>
                  <a:srgbClr val="92d050"/>
                </a:solidFill>
                <a:latin typeface="Calibri"/>
              </a:rPr>
              <a:t>Усі ми вийшли з вишневого кореня”.Його називали “королем українського тиражу”, бо своїми творами захоплював широке коло читачів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  <p:pic>
        <p:nvPicPr>
          <p:cNvPr id="157" name="Picture 9" descr="завантаження"/>
          <p:cNvPicPr/>
          <p:nvPr/>
        </p:nvPicPr>
        <p:blipFill>
          <a:blip r:embed="rId1">
            <a:alphaModFix amt="15000"/>
          </a:blip>
          <a:stretch/>
        </p:blipFill>
        <p:spPr>
          <a:xfrm>
            <a:off x="5072040" y="1571760"/>
            <a:ext cx="3286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Йосип Гірня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alphaModFix amt="15000"/>
          </a:blip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a24c78a2a85c1806b47f594518bdb5c7977ce19"/>
          <p:cNvPicPr/>
          <p:nvPr/>
        </p:nvPicPr>
        <p:blipFill>
          <a:blip r:embed="rId2">
            <a:alphaModFix amt="15000"/>
          </a:blip>
          <a:stretch/>
        </p:blipFill>
        <p:spPr>
          <a:xfrm>
            <a:off x="428760" y="1714680"/>
            <a:ext cx="3286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митро Дон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99"/>
                </a:solidFill>
                <a:latin typeface="Calibri"/>
              </a:rPr>
              <a:t>“ …</a:t>
            </a:r>
            <a:r>
              <a:rPr b="0" lang="uk-UA" sz="4000" spc="-1" strike="noStrike">
                <a:solidFill>
                  <a:srgbClr val="ffcc99"/>
                </a:solidFill>
                <a:latin typeface="Calibri"/>
              </a:rPr>
              <a:t>знаходимо... Остапа Вишню, дотепного, талановитого…”</a:t>
            </a:r>
            <a:endParaRPr b="0" lang="en-US" sz="4000" spc="-1" strike="noStrike">
              <a:solidFill>
                <a:srgbClr val="ffcc99"/>
              </a:solidFill>
              <a:latin typeface="Calibri"/>
            </a:endParaRPr>
          </a:p>
        </p:txBody>
      </p:sp>
      <p:pic>
        <p:nvPicPr>
          <p:cNvPr id="163" name="Picture 7" descr="завантаження (1)"/>
          <p:cNvPicPr/>
          <p:nvPr/>
        </p:nvPicPr>
        <p:blipFill>
          <a:blip r:embed="rId1">
            <a:alphaModFix amt="15000"/>
          </a:blip>
          <a:stretch/>
        </p:blipFill>
        <p:spPr>
          <a:xfrm>
            <a:off x="500040" y="1785960"/>
            <a:ext cx="3714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30320"/>
            <a:ext cx="8229600" cy="764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b0f0"/>
                </a:solidFill>
                <a:latin typeface="Calibri"/>
              </a:rPr>
              <a:t>Після відповідних психічних і фізичних насильств письменник узяв на себе тяжку провину-організатора терористичного замаху на партійного керівника. Остапа Вишню засудили на 10 років ув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00b0f0"/>
                </a:solidFill>
                <a:latin typeface="Calibri"/>
              </a:rPr>
              <a:t>язнення в канцтаборі.</a:t>
            </a:r>
            <a:endParaRPr b="0" lang="en-US" sz="40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Іван Зуб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   “</a:t>
            </a:r>
            <a:r>
              <a:rPr b="0" lang="uk-UA" sz="3200" spc="-1" strike="noStrike">
                <a:solidFill>
                  <a:srgbClr val="ffcc99"/>
                </a:solidFill>
                <a:latin typeface="Calibri"/>
              </a:rPr>
              <a:t>Визначальні риси гумору Осапа Вишні багатство відтінків і барв комічного , по-народному соковита мова, своєрідно діалізований виклад дій, мудрий, іронічно-усміхнений погляд оповідача на порушені проблеми. Дотепні діалоги – основний засіб характеристики персонажів . Діалогам притаманні неоднозначність, життєво змістова наповненість, колоритність.”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икола Хвильов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2d050"/>
                </a:solidFill>
                <a:latin typeface="Calibri"/>
              </a:rPr>
              <a:t>"Усмішки" Остапа Вишні я полюбив. Полюбив їх за те, що вони запашні, за те, що вони ніжні, за те, що вони жорстокі, за те, що вони смішні і водночас глибоко трагічні..."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</p:txBody>
      </p:sp>
      <p:pic>
        <p:nvPicPr>
          <p:cNvPr id="168" name="Picture 7" descr="200px-MykolaHvylovyukraine"/>
          <p:cNvPicPr/>
          <p:nvPr/>
        </p:nvPicPr>
        <p:blipFill>
          <a:blip r:embed="rId1">
            <a:alphaModFix amt="15000"/>
          </a:blip>
          <a:stretch/>
        </p:blipFill>
        <p:spPr>
          <a:xfrm>
            <a:off x="500040" y="1785960"/>
            <a:ext cx="3714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Олесь Гончар 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0" lang="uk-UA" sz="24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uk-UA" sz="2400" spc="-1" strike="noStrike">
                <a:solidFill>
                  <a:srgbClr val="ffff00"/>
                </a:solidFill>
                <a:latin typeface="Calibri"/>
              </a:rPr>
              <a:t>Розум він мав вольтерівської гостроти, викривач він був незрівнянний та визначальним було саме це : ніжність, душевність, поетичність. Ніякі найстуденніші вітри тяжких часів не могли остудити в його душі жар любові до народу, Вітчизни, до краси життя і мистецтва.” </a:t>
            </a: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Calibri"/>
            </a:endParaRPr>
          </a:p>
        </p:txBody>
      </p:sp>
      <p:pic>
        <p:nvPicPr>
          <p:cNvPr id="171" name="Picture 7" descr="Gonchar_O"/>
          <p:cNvPicPr/>
          <p:nvPr/>
        </p:nvPicPr>
        <p:blipFill>
          <a:blip r:embed="rId1">
            <a:alphaModFix amt="15000"/>
          </a:blip>
          <a:stretch/>
        </p:blipFill>
        <p:spPr>
          <a:xfrm>
            <a:off x="4929120" y="1571760"/>
            <a:ext cx="3786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d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cd5b5"/>
                </a:solidFill>
                <a:latin typeface="Calibri"/>
              </a:rPr>
              <a:t>Прочитати підручник ст 121- 130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d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cd5b5"/>
                </a:solidFill>
                <a:latin typeface="Calibri"/>
              </a:rPr>
              <a:t>2. Проаналізувати оповідання «Моя автобіографія», « Чухраїнці»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d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cd5b5"/>
                </a:solidFill>
                <a:latin typeface="Calibri"/>
              </a:rPr>
              <a:t>3.  </a:t>
            </a:r>
            <a:r>
              <a:rPr b="1" lang="uk-UA" sz="3200" spc="-1" strike="noStrike">
                <a:solidFill>
                  <a:srgbClr val="fcd5b5"/>
                </a:solidFill>
                <a:latin typeface="Calibri"/>
              </a:rPr>
              <a:t>Високий рівень</a:t>
            </a:r>
            <a:r>
              <a:rPr b="0" lang="uk-UA" sz="3200" spc="-1" strike="noStrike">
                <a:solidFill>
                  <a:srgbClr val="fcd5b5"/>
                </a:solidFill>
                <a:latin typeface="Calibri"/>
              </a:rPr>
              <a:t> Скласти тестові завдання до теми «Життєвий і творчий шлях</a:t>
            </a:r>
            <a:r>
              <a:rPr b="0" lang="ru-RU" sz="3200" spc="-1" strike="noStrike">
                <a:solidFill>
                  <a:srgbClr val="fcd5b5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cd5b5"/>
                </a:solidFill>
                <a:latin typeface="Calibri"/>
              </a:rPr>
              <a:t>Остапа Вишні».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d5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cd5b5"/>
                </a:solidFill>
                <a:latin typeface="Calibri"/>
              </a:rPr>
              <a:t>Твір – мініатюра “ Чим приваблює  мене постать Остапа Вишні?”</a:t>
            </a: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дгуки літераторів про арешт О.Вишн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b050"/>
                </a:solidFill>
                <a:latin typeface="Calibri"/>
              </a:rPr>
              <a:t>На сторінках  преси з</a:t>
            </a: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00b050"/>
                </a:solidFill>
                <a:latin typeface="Calibri"/>
              </a:rPr>
              <a:t>явилися відгуки заповзятливих літераторів-пристосуванців про творчість засудженого Остапа Вишню. </a:t>
            </a:r>
            <a:endParaRPr b="0" lang="en-US" sz="40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«Каз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2d050"/>
                </a:solidFill>
                <a:latin typeface="Calibri"/>
              </a:rPr>
              <a:t>Олена Жуковська: «Одного разу я захворіла, і мене відправили в табірну лікарню. Повернувшись, я знайшла в ліжку лист. Конверт підписаний почерком батька, а сам лист – чужою рукою. Це  Остап Вишня вклав туди написану ним «Казку» . Ця казка стала на каторзі  символом життя Олени Жуковської. 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2d050"/>
                </a:solidFill>
                <a:latin typeface="Calibri"/>
              </a:rPr>
              <a:t>Це був єдиний  твір, написаний Остапом Вишнею в таборі під впливом великого співчуття до людського страждання.</a:t>
            </a: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1520"/>
            <a:ext cx="8229600" cy="764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006560"/>
            <a:ext cx="4040280" cy="4608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836280"/>
            <a:ext cx="4041720" cy="14436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cc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35280" y="1500120"/>
            <a:ext cx="3251160" cy="462600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Calibri"/>
              </a:rPr>
              <a:t>Зберігся також табірний щоденник письменника, який він вів лише в 1934 році</a:t>
            </a:r>
            <a:endParaRPr b="0" lang="en-US" sz="3600" spc="-1" strike="noStrike">
              <a:solidFill>
                <a:srgbClr val="ffcc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Calibri"/>
            </a:endParaRPr>
          </a:p>
        </p:txBody>
      </p:sp>
      <p:pic>
        <p:nvPicPr>
          <p:cNvPr id="97" name="Объект 6" descr=""/>
          <p:cNvPicPr/>
          <p:nvPr/>
        </p:nvPicPr>
        <p:blipFill>
          <a:blip r:embed="rId1">
            <a:alphaModFix amt="15000"/>
          </a:blip>
          <a:srcRect l="-2541" t="0" r="-8" b="0"/>
          <a:stretch/>
        </p:blipFill>
        <p:spPr>
          <a:xfrm>
            <a:off x="501480" y="981000"/>
            <a:ext cx="428652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Щоденник «Чиб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’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ю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6400800" cy="175248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00"/>
                </a:solidFill>
                <a:latin typeface="Calibri"/>
              </a:rPr>
              <a:t>1934 рік</a:t>
            </a:r>
            <a:endParaRPr b="0" lang="en-US" sz="54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18320"/>
            <a:ext cx="8229600" cy="764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solidFill>
            <a:srgbClr val="cc6600">
              <a:alpha val="1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Calibri"/>
              </a:rPr>
              <a:t>Перший запис у табірному щоденнику Остапа Вишні "Чиб'ю. 1934" з'явився 30 липня 1934 року, за вісім місяців після арешту, а останнім був перелік сорока одного населеного пункту, які довелося пройти етапом від Чиб'ю до рудника "Єджид-Кирта". Записи обриваються в лютому 1935 року.</a:t>
            </a:r>
            <a:endParaRPr b="0" lang="en-US" sz="3600" spc="-1" strike="noStrike">
              <a:solidFill>
                <a:srgbClr val="ffcc99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IBM</cp:lastModifiedBy>
  <dcterms:modified xsi:type="dcterms:W3CDTF">2013-11-19T18:26:3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5000000000001024140</vt:lpwstr>
  </property>
  <property fmtid="{D5CDD505-2E9C-101B-9397-08002B2CF9AE}" pid="3" name="_TemplateID">
    <vt:lpwstr>TC019087019991</vt:lpwstr>
  </property>
</Properties>
</file>